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0EE-906D-4B24-88CA-486F9850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3F0-5B65-4513-A2E3-A1D975E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58A0-76AC-4B86-A4CA-FC99E5A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E3D-ACFA-4BC0-AF5C-CEB375747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B8E5-DC05-4340-B77F-5AE9419F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E991-7B38-42A3-958A-CD1E29DF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019F-ABE5-4B88-AAD4-482CCD4E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9852-2078-4705-99A9-24BEB92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7774-8D12-4D25-950B-D5B1801F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88E9-569E-4120-8912-07AFD6F5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EC13-7D30-451B-B110-7BC8ED23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865-D6DA-409F-B131-8685AD4D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36A7-92DA-42FC-A50E-954AFEB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B354-368B-4419-85EB-35C95C3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554-6A17-4362-8147-77593DA9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AF9D-E23A-44DE-A192-EA545DB4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C463-E71E-4073-8FF7-2B9D2797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8690-A3EB-4AC3-9212-8A9FA347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313F6-B8BD-44A5-AE5A-28E7D0C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A92E-A0F2-408F-BE7A-227C362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F3687-CBBA-483F-846A-05479523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6EC3F-C3A7-4174-A8F1-D972DBBC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AB4-C880-4051-BBA5-A58C080B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770F-7B89-49F5-B668-B0D6354E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E48C-3832-4CDC-B5B9-AC19A42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B1A8B-B53D-4359-8581-48C5F75F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EDAB-7F5C-4FF0-A1E8-EE88A630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C4939-EB20-44B8-9C98-A5DBCBB9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7454-E42F-48D3-A60C-752D0348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A9A2-3ECD-40B6-B4C0-F97AF847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0D62D-848F-48B5-9331-1665383E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09DC-BCB4-49B9-9A45-98C41B2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6DC44-6B17-4F5D-A158-A0D281A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413-05C2-4444-8497-460632CD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1906-DA29-4082-92D9-3F1DAC2D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F8C5F-17A5-4510-AA9F-23768434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E2AFC-E662-4ADC-91C2-8EAED7F3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3050B-7352-41E7-8242-B331FD3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63EA5-B1E7-4B17-A7A7-929224B3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B890D-9334-46B1-8A35-0570030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43391-BD2B-4980-88F2-CDF9D2A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9CC8-C801-4FAF-8D60-C7B91651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6399-B155-429E-8E7E-6355DB0E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30D2-45D9-410D-BE5A-5769D4DD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75C-50CE-4AA2-BE3F-1FB72D66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52C1-49FF-41F0-A623-44DE4197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374-8A44-4FD6-87F5-A737F4B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ADF-39F2-4F57-B878-7E669F4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C339-7496-413E-9429-609E7E2145C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92FF-E2E0-456D-8BAE-A2004CDB162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A62B-B710-4CF2-AB05-8A87AEAB45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0AD7-6897-42D9-A2B0-C63C4BB7223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1163520" y="1395360"/>
            <a:ext cx="7785360" cy="11588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590400" y="1035000"/>
            <a:ext cx="7975800" cy="5308560"/>
          </a:xfrm>
          <a:prstGeom prst="rect">
            <a:avLst/>
          </a:prstGeom>
          <a:solidFill>
            <a:srgbClr val="99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990720" y="469800"/>
            <a:ext cx="74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</a:rPr>
              <a:t>What Should a Business Plan Contai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16"/>
          <p:cNvSpPr/>
          <p:nvPr/>
        </p:nvSpPr>
        <p:spPr>
          <a:xfrm>
            <a:off x="711360" y="1206360"/>
            <a:ext cx="788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ter of Transmitt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 Title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 Table of Cont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 Executive Summary and Fact She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 Body of the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any and Indus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/Service O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rketing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velopment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duction/Operations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nagement T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Schedule and Risks Associated with the Ven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nancial P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 Append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5784480" y="6581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8"/>
          <p:cNvSpPr/>
          <p:nvPr/>
        </p:nvSpPr>
        <p:spPr>
          <a:xfrm>
            <a:off x="3354480" y="92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9" descr="C:\Program Files\Microsoft Office\Clipart\Popular\wearhat.wmf"/>
          <p:cNvPicPr/>
          <p:nvPr/>
        </p:nvPicPr>
        <p:blipFill>
          <a:blip r:embed="rId1"/>
          <a:stretch/>
        </p:blipFill>
        <p:spPr>
          <a:xfrm>
            <a:off x="5029200" y="1143000"/>
            <a:ext cx="3306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7" dur="1" fill="hold"/>
                                  <p:tgtEl>
                                    <p:spTgt spid="232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05080" y="439560"/>
            <a:ext cx="4380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585720" y="1103400"/>
            <a:ext cx="7586640" cy="5176800"/>
            <a:chOff x="585720" y="1103400"/>
            <a:chExt cx="7586640" cy="5176800"/>
          </a:xfrm>
        </p:grpSpPr>
        <p:sp>
          <p:nvSpPr>
            <p:cNvPr id="238" name="AutoShape 4"/>
            <p:cNvSpPr/>
            <p:nvPr/>
          </p:nvSpPr>
          <p:spPr>
            <a:xfrm>
              <a:off x="3841920" y="4844880"/>
              <a:ext cx="4330440" cy="14353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AutoShape 5"/>
            <p:cNvSpPr/>
            <p:nvPr/>
          </p:nvSpPr>
          <p:spPr>
            <a:xfrm>
              <a:off x="3841920" y="3981600"/>
              <a:ext cx="4330440" cy="622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AutoShape 6"/>
            <p:cNvSpPr/>
            <p:nvPr/>
          </p:nvSpPr>
          <p:spPr>
            <a:xfrm>
              <a:off x="3841920" y="2622600"/>
              <a:ext cx="433044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AutoShape 7"/>
            <p:cNvSpPr/>
            <p:nvPr/>
          </p:nvSpPr>
          <p:spPr>
            <a:xfrm>
              <a:off x="3841920" y="1536840"/>
              <a:ext cx="4330440" cy="8125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" name="Group 8"/>
            <p:cNvGrpSpPr/>
            <p:nvPr/>
          </p:nvGrpSpPr>
          <p:grpSpPr>
            <a:xfrm>
              <a:off x="687240" y="1504800"/>
              <a:ext cx="2298960" cy="876600"/>
              <a:chOff x="687240" y="1504800"/>
              <a:chExt cx="2298960" cy="876600"/>
            </a:xfrm>
          </p:grpSpPr>
          <p:sp>
            <p:nvSpPr>
              <p:cNvPr id="243" name="Oval 9"/>
              <p:cNvSpPr/>
              <p:nvPr/>
            </p:nvSpPr>
            <p:spPr>
              <a:xfrm>
                <a:off x="687240" y="150480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10"/>
              <p:cNvSpPr/>
              <p:nvPr/>
            </p:nvSpPr>
            <p:spPr>
              <a:xfrm>
                <a:off x="765720" y="1652760"/>
                <a:ext cx="21420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tter of Transmitta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5" name="Group 11"/>
            <p:cNvGrpSpPr/>
            <p:nvPr/>
          </p:nvGrpSpPr>
          <p:grpSpPr>
            <a:xfrm>
              <a:off x="687240" y="2666880"/>
              <a:ext cx="2298960" cy="876600"/>
              <a:chOff x="687240" y="2666880"/>
              <a:chExt cx="2298960" cy="876600"/>
            </a:xfrm>
          </p:grpSpPr>
          <p:sp>
            <p:nvSpPr>
              <p:cNvPr id="246" name="Oval 12"/>
              <p:cNvSpPr/>
              <p:nvPr/>
            </p:nvSpPr>
            <p:spPr>
              <a:xfrm>
                <a:off x="687240" y="2666880"/>
                <a:ext cx="2298960" cy="87660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13"/>
              <p:cNvSpPr/>
              <p:nvPr/>
            </p:nvSpPr>
            <p:spPr>
              <a:xfrm>
                <a:off x="1264680" y="2814480"/>
                <a:ext cx="11422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itle Page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8" name="Group 14"/>
            <p:cNvGrpSpPr/>
            <p:nvPr/>
          </p:nvGrpSpPr>
          <p:grpSpPr>
            <a:xfrm>
              <a:off x="687240" y="3854520"/>
              <a:ext cx="2298960" cy="876240"/>
              <a:chOff x="687240" y="3854520"/>
              <a:chExt cx="2298960" cy="876240"/>
            </a:xfrm>
          </p:grpSpPr>
          <p:sp>
            <p:nvSpPr>
              <p:cNvPr id="249" name="Oval 15"/>
              <p:cNvSpPr/>
              <p:nvPr/>
            </p:nvSpPr>
            <p:spPr>
              <a:xfrm>
                <a:off x="687240" y="38545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16"/>
              <p:cNvSpPr/>
              <p:nvPr/>
            </p:nvSpPr>
            <p:spPr>
              <a:xfrm>
                <a:off x="890640" y="4002120"/>
                <a:ext cx="189360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ble of Contents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Group 17"/>
            <p:cNvGrpSpPr/>
            <p:nvPr/>
          </p:nvGrpSpPr>
          <p:grpSpPr>
            <a:xfrm>
              <a:off x="687240" y="5118120"/>
              <a:ext cx="2298960" cy="876240"/>
              <a:chOff x="687240" y="5118120"/>
              <a:chExt cx="2298960" cy="876240"/>
            </a:xfrm>
          </p:grpSpPr>
          <p:sp>
            <p:nvSpPr>
              <p:cNvPr id="252" name="Oval 18"/>
              <p:cNvSpPr/>
              <p:nvPr/>
            </p:nvSpPr>
            <p:spPr>
              <a:xfrm>
                <a:off x="687240" y="5118120"/>
                <a:ext cx="2298960" cy="8762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19"/>
              <p:cNvSpPr/>
              <p:nvPr/>
            </p:nvSpPr>
            <p:spPr>
              <a:xfrm>
                <a:off x="780840" y="5143680"/>
                <a:ext cx="2111400" cy="82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ecutive Summary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nd Fact Sheet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" name="Rectangle 20"/>
            <p:cNvSpPr/>
            <p:nvPr/>
          </p:nvSpPr>
          <p:spPr>
            <a:xfrm>
              <a:off x="3835440" y="1684440"/>
              <a:ext cx="41655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roduce your business plan to the read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major features that may be of inter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3835440" y="2722680"/>
              <a:ext cx="4232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identifying information about you and your proposed business. Name, address and contact numbers for the business as well as key company contac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3835440" y="4033800"/>
              <a:ext cx="39765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list of the major headings and sub-headings contained in your plan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3835440" y="4871880"/>
              <a:ext cx="40021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1-2 page summary of the most important points in your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y be the most important part of your business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Fact Sheet summarizes the basic information that relates to the ventu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585720" y="1103400"/>
              <a:ext cx="2503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siness Plan Content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25"/>
            <p:cNvSpPr/>
            <p:nvPr/>
          </p:nvSpPr>
          <p:spPr>
            <a:xfrm>
              <a:off x="3048120" y="1943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Line 26"/>
            <p:cNvSpPr/>
            <p:nvPr/>
          </p:nvSpPr>
          <p:spPr>
            <a:xfrm>
              <a:off x="3048120" y="5556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Line 27"/>
            <p:cNvSpPr/>
            <p:nvPr/>
          </p:nvSpPr>
          <p:spPr>
            <a:xfrm>
              <a:off x="3048120" y="4292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>
              <a:off x="3048120" y="3105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" name="Rectangle 29"/>
          <p:cNvSpPr/>
          <p:nvPr/>
        </p:nvSpPr>
        <p:spPr>
          <a:xfrm>
            <a:off x="7818120" y="62816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3244680" y="98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315080" y="53352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716040" y="1536840"/>
            <a:ext cx="2298600" cy="876240"/>
            <a:chOff x="716040" y="1536840"/>
            <a:chExt cx="2298600" cy="876240"/>
          </a:xfrm>
        </p:grpSpPr>
        <p:sp>
          <p:nvSpPr>
            <p:cNvPr id="267" name="Oval 4"/>
            <p:cNvSpPr/>
            <p:nvPr/>
          </p:nvSpPr>
          <p:spPr>
            <a:xfrm>
              <a:off x="716040" y="153684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5"/>
            <p:cNvSpPr/>
            <p:nvPr/>
          </p:nvSpPr>
          <p:spPr>
            <a:xfrm>
              <a:off x="982080" y="1684440"/>
              <a:ext cx="1782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6"/>
          <p:cNvGrpSpPr/>
          <p:nvPr/>
        </p:nvGrpSpPr>
        <p:grpSpPr>
          <a:xfrm>
            <a:off x="3886200" y="2209680"/>
            <a:ext cx="4336560" cy="1050840"/>
            <a:chOff x="3886200" y="2209680"/>
            <a:chExt cx="4336560" cy="1050840"/>
          </a:xfrm>
        </p:grpSpPr>
        <p:sp>
          <p:nvSpPr>
            <p:cNvPr id="270" name="AutoShape 7"/>
            <p:cNvSpPr/>
            <p:nvPr/>
          </p:nvSpPr>
          <p:spPr>
            <a:xfrm>
              <a:off x="3892320" y="2209680"/>
              <a:ext cx="4330440" cy="10508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3886200" y="2304360"/>
              <a:ext cx="4231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story and current situation of your compan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oals and objectives for the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cipal characteristics and trends in the indust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2" name="Group 9"/>
          <p:cNvGrpSpPr/>
          <p:nvPr/>
        </p:nvGrpSpPr>
        <p:grpSpPr>
          <a:xfrm>
            <a:off x="3848040" y="3416400"/>
            <a:ext cx="4337280" cy="753840"/>
            <a:chOff x="3848040" y="3416400"/>
            <a:chExt cx="4337280" cy="753840"/>
          </a:xfrm>
        </p:grpSpPr>
        <p:sp>
          <p:nvSpPr>
            <p:cNvPr id="273" name="AutoShape 10"/>
            <p:cNvSpPr/>
            <p:nvPr/>
          </p:nvSpPr>
          <p:spPr>
            <a:xfrm>
              <a:off x="3854520" y="3416400"/>
              <a:ext cx="4330800" cy="7444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Rectangle 11"/>
            <p:cNvSpPr/>
            <p:nvPr/>
          </p:nvSpPr>
          <p:spPr>
            <a:xfrm>
              <a:off x="3848040" y="3438360"/>
              <a:ext cx="42926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description of your product or servi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stage of development and proprietary pos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" name="Group 12"/>
          <p:cNvGrpSpPr/>
          <p:nvPr/>
        </p:nvGrpSpPr>
        <p:grpSpPr>
          <a:xfrm>
            <a:off x="3848040" y="4508640"/>
            <a:ext cx="4337280" cy="1454040"/>
            <a:chOff x="3848040" y="4508640"/>
            <a:chExt cx="4337280" cy="1454040"/>
          </a:xfrm>
        </p:grpSpPr>
        <p:sp>
          <p:nvSpPr>
            <p:cNvPr id="276" name="AutoShape 13"/>
            <p:cNvSpPr/>
            <p:nvPr/>
          </p:nvSpPr>
          <p:spPr>
            <a:xfrm>
              <a:off x="3854520" y="4508640"/>
              <a:ext cx="4330800" cy="14540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3848040" y="4522680"/>
              <a:ext cx="433080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the profile of your principal target custom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current market size, trends, and seasonal patter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ss the nature of your competi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timate your expected sales and market shar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" name="Rectangle 15"/>
          <p:cNvSpPr/>
          <p:nvPr/>
        </p:nvSpPr>
        <p:spPr>
          <a:xfrm>
            <a:off x="649440" y="2631960"/>
            <a:ext cx="243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any and the Indust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16"/>
          <p:cNvSpPr/>
          <p:nvPr/>
        </p:nvSpPr>
        <p:spPr>
          <a:xfrm>
            <a:off x="717480" y="3637080"/>
            <a:ext cx="2295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-Service Off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094040" y="5083200"/>
            <a:ext cx="154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Analys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18"/>
          <p:cNvSpPr/>
          <p:nvPr/>
        </p:nvSpPr>
        <p:spPr>
          <a:xfrm>
            <a:off x="2971800" y="278460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2971800" y="378936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2971800" y="5235480"/>
            <a:ext cx="73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21"/>
          <p:cNvSpPr/>
          <p:nvPr/>
        </p:nvSpPr>
        <p:spPr>
          <a:xfrm>
            <a:off x="7484760" y="62434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22"/>
          <p:cNvSpPr/>
          <p:nvPr/>
        </p:nvSpPr>
        <p:spPr>
          <a:xfrm>
            <a:off x="5805000" y="655488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23"/>
          <p:cNvSpPr/>
          <p:nvPr/>
        </p:nvSpPr>
        <p:spPr>
          <a:xfrm>
            <a:off x="3276720" y="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1513440" y="534960"/>
            <a:ext cx="6517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779400" y="1816200"/>
            <a:ext cx="7378920" cy="4190760"/>
            <a:chOff x="779400" y="1816200"/>
            <a:chExt cx="7378920" cy="4190760"/>
          </a:xfrm>
        </p:grpSpPr>
        <p:sp>
          <p:nvSpPr>
            <p:cNvPr id="289" name="AutoShape 4"/>
            <p:cNvSpPr/>
            <p:nvPr/>
          </p:nvSpPr>
          <p:spPr>
            <a:xfrm>
              <a:off x="3827520" y="1816200"/>
              <a:ext cx="4330800" cy="10922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5"/>
            <p:cNvSpPr/>
            <p:nvPr/>
          </p:nvSpPr>
          <p:spPr>
            <a:xfrm>
              <a:off x="3821040" y="189072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 the marketing strategy you plan to u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marketing plan insofar as your sales strategy, advertising and promotion plans, pricing policy, and channels of distribu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917280" y="2209680"/>
              <a:ext cx="190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rketing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>
              <a:off x="2932200" y="23623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3827520" y="336564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9"/>
            <p:cNvSpPr/>
            <p:nvPr/>
          </p:nvSpPr>
          <p:spPr>
            <a:xfrm>
              <a:off x="3821040" y="339084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of the development status of your product and what is still required to get it to a market-ready stat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e there regulatory, testing or other requirements that still have to be met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Rectangle 10"/>
            <p:cNvSpPr/>
            <p:nvPr/>
          </p:nvSpPr>
          <p:spPr>
            <a:xfrm>
              <a:off x="779400" y="3816360"/>
              <a:ext cx="2184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Development 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>
              <a:off x="2932200" y="396864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3827520" y="4991040"/>
              <a:ext cx="4330800" cy="10159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3821040" y="5027760"/>
              <a:ext cx="433080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the operating sid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be your location, kind of facilities, space requirements, capital equipment needs, and labour requir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813600" y="5133960"/>
              <a:ext cx="21142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ion/Oper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>
              <a:off x="2932200" y="549900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1" name="Rectangle 16"/>
          <p:cNvSpPr/>
          <p:nvPr/>
        </p:nvSpPr>
        <p:spPr>
          <a:xfrm>
            <a:off x="7243560" y="593892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3214800" y="14940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779800" y="65419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4" name="Group 19"/>
          <p:cNvGrpSpPr/>
          <p:nvPr/>
        </p:nvGrpSpPr>
        <p:grpSpPr>
          <a:xfrm>
            <a:off x="519120" y="1219320"/>
            <a:ext cx="2298600" cy="876240"/>
            <a:chOff x="519120" y="1219320"/>
            <a:chExt cx="2298600" cy="876240"/>
          </a:xfrm>
        </p:grpSpPr>
        <p:sp>
          <p:nvSpPr>
            <p:cNvPr id="305" name="Oval 20"/>
            <p:cNvSpPr/>
            <p:nvPr/>
          </p:nvSpPr>
          <p:spPr>
            <a:xfrm>
              <a:off x="519120" y="1219320"/>
              <a:ext cx="229860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1"/>
            <p:cNvSpPr/>
            <p:nvPr/>
          </p:nvSpPr>
          <p:spPr>
            <a:xfrm>
              <a:off x="778680" y="124452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447920" y="609480"/>
            <a:ext cx="6933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103880" y="528624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756040" y="65311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3222720" y="250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968040" y="2298600"/>
            <a:ext cx="7268040" cy="2870280"/>
            <a:chOff x="968040" y="2298600"/>
            <a:chExt cx="7268040" cy="2870280"/>
          </a:xfrm>
        </p:grpSpPr>
        <p:sp>
          <p:nvSpPr>
            <p:cNvPr id="312" name="AutoShape 7"/>
            <p:cNvSpPr/>
            <p:nvPr/>
          </p:nvSpPr>
          <p:spPr>
            <a:xfrm>
              <a:off x="3905280" y="3962520"/>
              <a:ext cx="4330800" cy="120636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8800" y="398772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ent an overall schedule indicating what needs to be done to launch your business and the timing required to bring it ab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cuss the major problems and risks that you will have to deal with as we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968040" y="4307040"/>
              <a:ext cx="2007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Implementa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chedul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003480" y="456552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AutoShape 11"/>
            <p:cNvSpPr/>
            <p:nvPr/>
          </p:nvSpPr>
          <p:spPr>
            <a:xfrm>
              <a:off x="3905280" y="2298600"/>
              <a:ext cx="4330800" cy="120672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898800" y="2324160"/>
              <a:ext cx="433080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dentify your key management people, their responsibilities and their qualification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principal shareholders of the business, your principal advisors and the members of your Board of Directo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1106640" y="2643120"/>
              <a:ext cx="17272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r Manage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3003480" y="2901960"/>
              <a:ext cx="73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0" name="Group 15"/>
          <p:cNvGrpSpPr/>
          <p:nvPr/>
        </p:nvGrpSpPr>
        <p:grpSpPr>
          <a:xfrm>
            <a:off x="776160" y="1460520"/>
            <a:ext cx="2298960" cy="876240"/>
            <a:chOff x="776160" y="1460520"/>
            <a:chExt cx="2298960" cy="876240"/>
          </a:xfrm>
        </p:grpSpPr>
        <p:sp>
          <p:nvSpPr>
            <p:cNvPr id="321" name="Oval 16"/>
            <p:cNvSpPr/>
            <p:nvPr/>
          </p:nvSpPr>
          <p:spPr>
            <a:xfrm>
              <a:off x="776160" y="146052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1036080" y="148608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1600200" y="45720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4" name="Group 3"/>
          <p:cNvGrpSpPr/>
          <p:nvPr/>
        </p:nvGrpSpPr>
        <p:grpSpPr>
          <a:xfrm>
            <a:off x="3903840" y="2347920"/>
            <a:ext cx="4330440" cy="2933640"/>
            <a:chOff x="3903840" y="2347920"/>
            <a:chExt cx="4330440" cy="2933640"/>
          </a:xfrm>
        </p:grpSpPr>
        <p:sp>
          <p:nvSpPr>
            <p:cNvPr id="325" name="AutoShape 4"/>
            <p:cNvSpPr/>
            <p:nvPr/>
          </p:nvSpPr>
          <p:spPr>
            <a:xfrm>
              <a:off x="3903840" y="2347920"/>
              <a:ext cx="4330440" cy="293364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>
              <a:off x="3948120" y="2409840"/>
              <a:ext cx="4232160" cy="28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icate the type and amount of financing you are looking for and how the funds will be us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line your proposed terms of investment, the potential return to the investor, and what benefit is being provided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vide an overview of the current financial structure of your busines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pare realistic financial projections that reflect the effect of financing. Include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sh flow forecas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profit and loss state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 forma balance shee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eakeven analysi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" name="Line 6"/>
          <p:cNvSpPr/>
          <p:nvPr/>
        </p:nvSpPr>
        <p:spPr>
          <a:xfrm>
            <a:off x="3103560" y="3770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753120" y="3571920"/>
            <a:ext cx="2065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Financial Pla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5866920" y="657216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5091120" y="42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6874560" y="5372280"/>
            <a:ext cx="883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" name="Group 11"/>
          <p:cNvGrpSpPr/>
          <p:nvPr/>
        </p:nvGrpSpPr>
        <p:grpSpPr>
          <a:xfrm>
            <a:off x="534960" y="1927080"/>
            <a:ext cx="2298600" cy="876600"/>
            <a:chOff x="534960" y="1927080"/>
            <a:chExt cx="2298600" cy="876600"/>
          </a:xfrm>
        </p:grpSpPr>
        <p:sp>
          <p:nvSpPr>
            <p:cNvPr id="333" name="Oval 12"/>
            <p:cNvSpPr/>
            <p:nvPr/>
          </p:nvSpPr>
          <p:spPr>
            <a:xfrm>
              <a:off x="534960" y="1927080"/>
              <a:ext cx="2298600" cy="8766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13"/>
            <p:cNvSpPr/>
            <p:nvPr/>
          </p:nvSpPr>
          <p:spPr>
            <a:xfrm>
              <a:off x="794520" y="1952640"/>
              <a:ext cx="1782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ody of the Pla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Continued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725400" y="3173400"/>
            <a:ext cx="2298960" cy="876240"/>
            <a:chOff x="725400" y="3173400"/>
            <a:chExt cx="2298960" cy="876240"/>
          </a:xfrm>
        </p:grpSpPr>
        <p:sp>
          <p:nvSpPr>
            <p:cNvPr id="336" name="Oval 3"/>
            <p:cNvSpPr/>
            <p:nvPr/>
          </p:nvSpPr>
          <p:spPr>
            <a:xfrm>
              <a:off x="725400" y="3173400"/>
              <a:ext cx="2298960" cy="8762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1209960" y="3321000"/>
              <a:ext cx="1332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endic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8" name="Group 5"/>
          <p:cNvGrpSpPr/>
          <p:nvPr/>
        </p:nvGrpSpPr>
        <p:grpSpPr>
          <a:xfrm>
            <a:off x="3886200" y="2438280"/>
            <a:ext cx="4330800" cy="2386080"/>
            <a:chOff x="3886200" y="2438280"/>
            <a:chExt cx="4330800" cy="2386080"/>
          </a:xfrm>
        </p:grpSpPr>
        <p:sp>
          <p:nvSpPr>
            <p:cNvPr id="339" name="AutoShape 6"/>
            <p:cNvSpPr/>
            <p:nvPr/>
          </p:nvSpPr>
          <p:spPr>
            <a:xfrm>
              <a:off x="3886200" y="2438280"/>
              <a:ext cx="4330800" cy="2386080"/>
            </a:xfrm>
            <a:prstGeom prst="roundRect">
              <a:avLst>
                <a:gd name="adj" fmla="val 12495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3905280" y="2498760"/>
              <a:ext cx="4002120" cy="20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pporting material for your plan including: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ailed resumes of the management te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 literature and photograph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mes of possible customers and supplier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lting reports and market survey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pies of legal document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ity materia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tters of referenc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" name="Line 8"/>
          <p:cNvSpPr/>
          <p:nvPr/>
        </p:nvSpPr>
        <p:spPr>
          <a:xfrm>
            <a:off x="3067200" y="3611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1523880" y="747720"/>
            <a:ext cx="716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ical Business Pl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3451320" y="123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5805000" y="6529320"/>
            <a:ext cx="223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7360" y="380880"/>
            <a:ext cx="8486640" cy="601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Tips for Developing Your Business Plan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usiness planning involves a lot of work. Be prepared to spend weeks developing your pla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ork on sections at a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brief but comple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Focus on your intended read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Use layman’s term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e realisti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Discuss the risks associated with the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back up your statements</a:t>
            </a: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AU" sz="2400" spc="-1" strike="noStrike">
                <a:solidFill>
                  <a:srgbClr val="000000"/>
                </a:solidFill>
                <a:latin typeface="Constantia"/>
              </a:rPr>
              <a:t>with background data and market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Object 1024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2181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</a:rPr>
              <a:t>The Components of Successful Entrepreneurial Ven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304920" y="1752480"/>
            <a:ext cx="8838720" cy="4228920"/>
            <a:chOff x="304920" y="1752480"/>
            <a:chExt cx="8838720" cy="4228920"/>
          </a:xfrm>
        </p:grpSpPr>
        <p:sp>
          <p:nvSpPr>
            <p:cNvPr id="199" name="Rectangle 4"/>
            <p:cNvSpPr/>
            <p:nvPr/>
          </p:nvSpPr>
          <p:spPr>
            <a:xfrm>
              <a:off x="3905280" y="5410080"/>
              <a:ext cx="1561680" cy="571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7410240" y="3429000"/>
              <a:ext cx="1561680" cy="571320"/>
            </a:xfrm>
            <a:prstGeom prst="rect">
              <a:avLst/>
            </a:prstGeom>
            <a:solidFill>
              <a:srgbClr val="00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6191280" y="1752480"/>
              <a:ext cx="1790280" cy="571320"/>
            </a:xfrm>
            <a:prstGeom prst="rect">
              <a:avLst/>
            </a:prstGeom>
            <a:solidFill>
              <a:srgbClr val="ffcc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99960" y="3504960"/>
              <a:ext cx="1790280" cy="57168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1009440" y="1828800"/>
              <a:ext cx="2400120" cy="571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824200" y="2881080"/>
              <a:ext cx="3647520" cy="1590840"/>
            </a:xfrm>
            <a:prstGeom prst="rect">
              <a:avLst/>
            </a:prstGeom>
            <a:solidFill>
              <a:srgbClr val="99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usiness Plan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066680" y="1885680"/>
              <a:ext cx="243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Entrepreneu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11"/>
            <p:cNvSpPr/>
            <p:nvPr/>
          </p:nvSpPr>
          <p:spPr>
            <a:xfrm>
              <a:off x="5715000" y="1809720"/>
              <a:ext cx="2895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pportunit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7238880" y="3485880"/>
              <a:ext cx="1904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304920" y="3562200"/>
              <a:ext cx="198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ganiz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Rectangle 14"/>
            <p:cNvSpPr/>
            <p:nvPr/>
          </p:nvSpPr>
          <p:spPr>
            <a:xfrm>
              <a:off x="3504960" y="5467320"/>
              <a:ext cx="228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514600" y="2419200"/>
              <a:ext cx="7614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5715000" y="2342880"/>
              <a:ext cx="6854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 flipH="1">
              <a:off x="6476400" y="3714480"/>
              <a:ext cx="914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 flipV="1">
              <a:off x="4647960" y="4476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Line 19"/>
            <p:cNvSpPr/>
            <p:nvPr/>
          </p:nvSpPr>
          <p:spPr>
            <a:xfrm>
              <a:off x="2209680" y="379080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371600" y="5335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371600" y="1905120"/>
            <a:ext cx="739620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Business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s a “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Selling Doc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hat conveys the excitement and promise of your business to any potential backers and stakeholder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2895480" y="4114800"/>
          <a:ext cx="345456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114800"/>
                    <a:ext cx="345456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WPWIN\Busplan\sherm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Reasons for Writing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319040" y="1886040"/>
            <a:ext cx="7317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ll yourself on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bank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vestment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strategic allia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obtain initial contr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ttract key employ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otivate and focus your management t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523880" y="457200"/>
            <a:ext cx="67057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1960" y="2133720"/>
            <a:ext cx="7169040" cy="39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Summary Business Plan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 Loan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styl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auge initial investor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295280" y="5335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836640" y="2209680"/>
            <a:ext cx="73976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Full Business Plan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4ff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-40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king a substantial amount of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for a Strategic Part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774720" y="568440"/>
            <a:ext cx="8369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Types of Business Pl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662760" y="1981080"/>
            <a:ext cx="738252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114ffb"/>
                </a:solidFill>
                <a:latin typeface="Times New Roman"/>
              </a:rPr>
              <a:t>The Operational Pl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+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, rapidly growing compan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an annual planning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1066680" y="465120"/>
            <a:ext cx="80773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Times New Roman"/>
              </a:rPr>
              <a:t>Key Elements of a Business Pla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374840" y="2362320"/>
            <a:ext cx="7235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onomically viable product or service with attractive marke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stablished attack plan that can be replica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17b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asoned management team that has demonstrated it can carry out the attack 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2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5dfd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5:58:27Z</dcterms:created>
  <dc:creator>Walter S. Good</dc:creator>
  <dc:description/>
  <dc:language>en-US</dc:language>
  <cp:lastModifiedBy>paul.tilley</cp:lastModifiedBy>
  <cp:lastPrinted>2002-03-05T04:42:41Z</cp:lastPrinted>
  <dcterms:modified xsi:type="dcterms:W3CDTF">2011-04-25T17:54:04Z</dcterms:modified>
  <cp:revision>14</cp:revision>
  <dc:subject/>
  <dc:title>Entrepreneurship and Business Planning</dc:title>
</cp:coreProperties>
</file>