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8.jpeg" ContentType="image/jpe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1675-8EE0-4157-8EC2-5D5D2B01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DE30-0E13-4E09-A40D-8982D95C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8ACF-2331-40F0-960C-CF0FB036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F59A-C7B4-42CE-A9B2-4D0C6ED8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CA45-3AEB-4808-AAB3-1A2598F3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D3F8-4001-4E44-B16B-3336F911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92E2-345E-4D56-B589-16CA31B6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D443-23F1-4C56-8510-CF91219A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33F1-E28A-458B-8179-2C7B8785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CB2A-1522-46CC-BFB5-D400BCF9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BF0C-5FDE-4CDF-8462-D2B81F37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0C6F-FE6C-4BD2-9DE4-45FDD651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6E38-79A4-40B9-B67D-DE70CC0C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33C6-7BCE-4DC5-8A87-872FDED5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DD8E-7B3A-432D-86B1-725C01B4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B8C7-58E8-4EFA-A48D-BADB8BC3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F5EA-9A25-4C20-8E72-D7624545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831F3-CA0E-415C-89EF-1858A9C5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5FE88-119D-4DEA-96BE-EBC4F4A5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3806B-7FB7-4890-814E-2BBEFD80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3D121-B696-454D-99D6-CE1A2083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39E67-0615-430A-AE9D-468F2FAE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3650-0B66-4820-900C-E8D438DC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4D5E5-DD1E-40DA-9C8E-74A0CFB1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1A664-46CA-46A0-94DA-28F73DE5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5858C-5DE4-4232-919A-91CCA9FD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303DC-637E-4D6E-862B-67AEAE3B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D262E-58F5-42AD-8B6F-48159C1B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EB298-FABC-43B5-B02D-72864318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80077-181C-4393-A765-4D6F89AE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8613A-90E4-40CC-80FE-951DC437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4CB4F-A17E-460F-B744-84E1A313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D9F63-D017-4BD1-970D-6D307E82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290B-C85D-4BA3-B968-08E76077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4B917-96D2-4257-A3A1-444CBC23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3C75F-2FDF-4222-83B7-289CCC07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D7D62-E78A-4702-8B15-810F1101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C2BC9-A81D-4973-9476-E5F658CC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DB250-265D-4368-BA55-D1303814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4D801-6E88-4C6B-9A07-1F6EDA5E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DE67F-29B4-4AD3-8DB6-9AA97A72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5064E-9782-4D8F-84D0-75894D5E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0B465-17EB-4AE3-A4BE-631AE0E9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6A6A-4811-4843-8848-60B284CC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5CE2-8CFB-412D-BDD8-E75F1789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DE5B-2340-4BFA-B26B-E1788D1C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8287-6EFB-46F2-B32C-6F76D927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4423-D547-419C-BD5D-53917F65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7B95-37EB-42EA-BA81-8ADBADD6BA8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27F0-80FF-4013-A006-9F3F52E4651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A4E8-72FB-4ADB-B654-022E41B33A8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9661-191F-401A-A641-C0E5B254281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1163520" y="1395360"/>
            <a:ext cx="7785360" cy="11588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4"/>
          <p:cNvSpPr/>
          <p:nvPr/>
        </p:nvSpPr>
        <p:spPr>
          <a:xfrm>
            <a:off x="590400" y="1035000"/>
            <a:ext cx="7975800" cy="5308560"/>
          </a:xfrm>
          <a:prstGeom prst="rect">
            <a:avLst/>
          </a:prstGeom>
          <a:solidFill>
            <a:srgbClr val="99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990720" y="469800"/>
            <a:ext cx="74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What Should a Business Plan Contai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711360" y="1206360"/>
            <a:ext cx="788652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tter of Transmitt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  Title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  Table of Cont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  Executive Summary and Fact She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.  Body of the Pl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pany and Indus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duct/Service Off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rketing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velopment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duction/Operations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nagement T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Schedule and Risks Associated with the Ven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nancial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.  Appendi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5784480" y="658188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18"/>
          <p:cNvSpPr/>
          <p:nvPr/>
        </p:nvSpPr>
        <p:spPr>
          <a:xfrm>
            <a:off x="3354480" y="92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19" descr="C:\Program Files\Microsoft Office\Clipart\Popular\wearhat.wmf"/>
          <p:cNvPicPr/>
          <p:nvPr/>
        </p:nvPicPr>
        <p:blipFill>
          <a:blip r:embed="rId1"/>
          <a:stretch/>
        </p:blipFill>
        <p:spPr>
          <a:xfrm>
            <a:off x="5029200" y="1143000"/>
            <a:ext cx="3306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7" dur="1" fill="hold"/>
                                  <p:tgtEl>
                                    <p:spTgt spid="232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305080" y="439560"/>
            <a:ext cx="4380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585720" y="1103400"/>
            <a:ext cx="7586640" cy="5176800"/>
            <a:chOff x="585720" y="1103400"/>
            <a:chExt cx="7586640" cy="5176800"/>
          </a:xfrm>
        </p:grpSpPr>
        <p:sp>
          <p:nvSpPr>
            <p:cNvPr id="238" name="AutoShape 4"/>
            <p:cNvSpPr/>
            <p:nvPr/>
          </p:nvSpPr>
          <p:spPr>
            <a:xfrm>
              <a:off x="3841920" y="4844880"/>
              <a:ext cx="4330440" cy="143532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AutoShape 5"/>
            <p:cNvSpPr/>
            <p:nvPr/>
          </p:nvSpPr>
          <p:spPr>
            <a:xfrm>
              <a:off x="3841920" y="3981600"/>
              <a:ext cx="4330440" cy="62208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AutoShape 6"/>
            <p:cNvSpPr/>
            <p:nvPr/>
          </p:nvSpPr>
          <p:spPr>
            <a:xfrm>
              <a:off x="3841920" y="2622600"/>
              <a:ext cx="4330440" cy="109224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AutoShape 7"/>
            <p:cNvSpPr/>
            <p:nvPr/>
          </p:nvSpPr>
          <p:spPr>
            <a:xfrm>
              <a:off x="3841920" y="1536840"/>
              <a:ext cx="4330440" cy="81252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2" name="Group 8"/>
            <p:cNvGrpSpPr/>
            <p:nvPr/>
          </p:nvGrpSpPr>
          <p:grpSpPr>
            <a:xfrm>
              <a:off x="687240" y="1504800"/>
              <a:ext cx="2298960" cy="876600"/>
              <a:chOff x="687240" y="1504800"/>
              <a:chExt cx="2298960" cy="876600"/>
            </a:xfrm>
          </p:grpSpPr>
          <p:sp>
            <p:nvSpPr>
              <p:cNvPr id="243" name="Oval 9"/>
              <p:cNvSpPr/>
              <p:nvPr/>
            </p:nvSpPr>
            <p:spPr>
              <a:xfrm>
                <a:off x="687240" y="1504800"/>
                <a:ext cx="2298960" cy="87660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10"/>
              <p:cNvSpPr/>
              <p:nvPr/>
            </p:nvSpPr>
            <p:spPr>
              <a:xfrm>
                <a:off x="765720" y="1652760"/>
                <a:ext cx="21420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.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etter of Transmittal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45" name="Group 11"/>
            <p:cNvGrpSpPr/>
            <p:nvPr/>
          </p:nvGrpSpPr>
          <p:grpSpPr>
            <a:xfrm>
              <a:off x="687240" y="2666880"/>
              <a:ext cx="2298960" cy="876600"/>
              <a:chOff x="687240" y="2666880"/>
              <a:chExt cx="2298960" cy="876600"/>
            </a:xfrm>
          </p:grpSpPr>
          <p:sp>
            <p:nvSpPr>
              <p:cNvPr id="246" name="Oval 12"/>
              <p:cNvSpPr/>
              <p:nvPr/>
            </p:nvSpPr>
            <p:spPr>
              <a:xfrm>
                <a:off x="687240" y="2666880"/>
                <a:ext cx="2298960" cy="87660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13"/>
              <p:cNvSpPr/>
              <p:nvPr/>
            </p:nvSpPr>
            <p:spPr>
              <a:xfrm>
                <a:off x="1264680" y="2814480"/>
                <a:ext cx="11422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.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itle Page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48" name="Group 14"/>
            <p:cNvGrpSpPr/>
            <p:nvPr/>
          </p:nvGrpSpPr>
          <p:grpSpPr>
            <a:xfrm>
              <a:off x="687240" y="3854520"/>
              <a:ext cx="2298960" cy="876240"/>
              <a:chOff x="687240" y="3854520"/>
              <a:chExt cx="2298960" cy="876240"/>
            </a:xfrm>
          </p:grpSpPr>
          <p:sp>
            <p:nvSpPr>
              <p:cNvPr id="249" name="Oval 15"/>
              <p:cNvSpPr/>
              <p:nvPr/>
            </p:nvSpPr>
            <p:spPr>
              <a:xfrm>
                <a:off x="687240" y="3854520"/>
                <a:ext cx="2298960" cy="87624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16"/>
              <p:cNvSpPr/>
              <p:nvPr/>
            </p:nvSpPr>
            <p:spPr>
              <a:xfrm>
                <a:off x="890640" y="4002120"/>
                <a:ext cx="18936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ble of Contents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51" name="Group 17"/>
            <p:cNvGrpSpPr/>
            <p:nvPr/>
          </p:nvGrpSpPr>
          <p:grpSpPr>
            <a:xfrm>
              <a:off x="687240" y="5118120"/>
              <a:ext cx="2298960" cy="876240"/>
              <a:chOff x="687240" y="5118120"/>
              <a:chExt cx="2298960" cy="876240"/>
            </a:xfrm>
          </p:grpSpPr>
          <p:sp>
            <p:nvSpPr>
              <p:cNvPr id="252" name="Oval 18"/>
              <p:cNvSpPr/>
              <p:nvPr/>
            </p:nvSpPr>
            <p:spPr>
              <a:xfrm>
                <a:off x="687240" y="5118120"/>
                <a:ext cx="2298960" cy="87624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19"/>
              <p:cNvSpPr/>
              <p:nvPr/>
            </p:nvSpPr>
            <p:spPr>
              <a:xfrm>
                <a:off x="780840" y="5143680"/>
                <a:ext cx="2111400" cy="82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.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xecutive Summary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nd Fact Sheet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4" name="Rectangle 20"/>
            <p:cNvSpPr/>
            <p:nvPr/>
          </p:nvSpPr>
          <p:spPr>
            <a:xfrm>
              <a:off x="3835440" y="1684440"/>
              <a:ext cx="41655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roduce your business plan to the read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line the major features that may be of interes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21"/>
            <p:cNvSpPr/>
            <p:nvPr/>
          </p:nvSpPr>
          <p:spPr>
            <a:xfrm>
              <a:off x="3835440" y="2722680"/>
              <a:ext cx="423216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vide identifying information about you and your proposed business. Name, address and contact numbers for the business as well as key company contac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22"/>
            <p:cNvSpPr/>
            <p:nvPr/>
          </p:nvSpPr>
          <p:spPr>
            <a:xfrm>
              <a:off x="3835440" y="4033800"/>
              <a:ext cx="39765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list of the major headings and sub-headings contained in your plan.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23"/>
            <p:cNvSpPr/>
            <p:nvPr/>
          </p:nvSpPr>
          <p:spPr>
            <a:xfrm>
              <a:off x="3835440" y="4871880"/>
              <a:ext cx="4002120" cy="13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1-2 page summary of the most important points in your pl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y be the most important part of your business pl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Fact Sheet summarizes the basic information that relates to the ventur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24"/>
            <p:cNvSpPr/>
            <p:nvPr/>
          </p:nvSpPr>
          <p:spPr>
            <a:xfrm>
              <a:off x="585720" y="1103400"/>
              <a:ext cx="2503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siness Plan Content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Line 25"/>
            <p:cNvSpPr/>
            <p:nvPr/>
          </p:nvSpPr>
          <p:spPr>
            <a:xfrm>
              <a:off x="3048120" y="19432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Line 26"/>
            <p:cNvSpPr/>
            <p:nvPr/>
          </p:nvSpPr>
          <p:spPr>
            <a:xfrm>
              <a:off x="3048120" y="55562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Line 27"/>
            <p:cNvSpPr/>
            <p:nvPr/>
          </p:nvSpPr>
          <p:spPr>
            <a:xfrm>
              <a:off x="3048120" y="4292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Line 28"/>
            <p:cNvSpPr/>
            <p:nvPr/>
          </p:nvSpPr>
          <p:spPr>
            <a:xfrm>
              <a:off x="3048120" y="31050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3" name="Rectangle 29"/>
          <p:cNvSpPr/>
          <p:nvPr/>
        </p:nvSpPr>
        <p:spPr>
          <a:xfrm>
            <a:off x="7818120" y="6281640"/>
            <a:ext cx="883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Rectangle 30"/>
          <p:cNvSpPr/>
          <p:nvPr/>
        </p:nvSpPr>
        <p:spPr>
          <a:xfrm>
            <a:off x="3244680" y="982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1315080" y="533520"/>
            <a:ext cx="6517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716040" y="1536840"/>
            <a:ext cx="2298600" cy="876240"/>
            <a:chOff x="716040" y="1536840"/>
            <a:chExt cx="2298600" cy="876240"/>
          </a:xfrm>
        </p:grpSpPr>
        <p:sp>
          <p:nvSpPr>
            <p:cNvPr id="267" name="Oval 4"/>
            <p:cNvSpPr/>
            <p:nvPr/>
          </p:nvSpPr>
          <p:spPr>
            <a:xfrm>
              <a:off x="716040" y="1536840"/>
              <a:ext cx="2298600" cy="87624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Rectangle 5"/>
            <p:cNvSpPr/>
            <p:nvPr/>
          </p:nvSpPr>
          <p:spPr>
            <a:xfrm>
              <a:off x="982080" y="1684440"/>
              <a:ext cx="17823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ody of the Pla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" name="Group 6"/>
          <p:cNvGrpSpPr/>
          <p:nvPr/>
        </p:nvGrpSpPr>
        <p:grpSpPr>
          <a:xfrm>
            <a:off x="3886200" y="2209680"/>
            <a:ext cx="4336560" cy="1050840"/>
            <a:chOff x="3886200" y="2209680"/>
            <a:chExt cx="4336560" cy="1050840"/>
          </a:xfrm>
        </p:grpSpPr>
        <p:sp>
          <p:nvSpPr>
            <p:cNvPr id="270" name="AutoShape 7"/>
            <p:cNvSpPr/>
            <p:nvPr/>
          </p:nvSpPr>
          <p:spPr>
            <a:xfrm>
              <a:off x="3892320" y="2209680"/>
              <a:ext cx="4330440" cy="105084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3886200" y="2304360"/>
              <a:ext cx="423180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story and current situation of your compan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oals and objectives for the busines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ncipal characteristics and trends in the industr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2" name="Group 9"/>
          <p:cNvGrpSpPr/>
          <p:nvPr/>
        </p:nvGrpSpPr>
        <p:grpSpPr>
          <a:xfrm>
            <a:off x="3848040" y="3416400"/>
            <a:ext cx="4337280" cy="753840"/>
            <a:chOff x="3848040" y="3416400"/>
            <a:chExt cx="4337280" cy="753840"/>
          </a:xfrm>
        </p:grpSpPr>
        <p:sp>
          <p:nvSpPr>
            <p:cNvPr id="273" name="AutoShape 10"/>
            <p:cNvSpPr/>
            <p:nvPr/>
          </p:nvSpPr>
          <p:spPr>
            <a:xfrm>
              <a:off x="3854520" y="3416400"/>
              <a:ext cx="4330800" cy="74448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Rectangle 11"/>
            <p:cNvSpPr/>
            <p:nvPr/>
          </p:nvSpPr>
          <p:spPr>
            <a:xfrm>
              <a:off x="3848040" y="3438360"/>
              <a:ext cx="42926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ailed description of your product or servic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line stage of development and proprietary posi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5" name="Group 12"/>
          <p:cNvGrpSpPr/>
          <p:nvPr/>
        </p:nvGrpSpPr>
        <p:grpSpPr>
          <a:xfrm>
            <a:off x="3848040" y="4508640"/>
            <a:ext cx="4337280" cy="1454040"/>
            <a:chOff x="3848040" y="4508640"/>
            <a:chExt cx="4337280" cy="1454040"/>
          </a:xfrm>
        </p:grpSpPr>
        <p:sp>
          <p:nvSpPr>
            <p:cNvPr id="276" name="AutoShape 13"/>
            <p:cNvSpPr/>
            <p:nvPr/>
          </p:nvSpPr>
          <p:spPr>
            <a:xfrm>
              <a:off x="3854520" y="4508640"/>
              <a:ext cx="4330800" cy="145404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Rectangle 14"/>
            <p:cNvSpPr/>
            <p:nvPr/>
          </p:nvSpPr>
          <p:spPr>
            <a:xfrm>
              <a:off x="3848040" y="4522680"/>
              <a:ext cx="4330800" cy="13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ribe the profile of your principal target customer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icate current market size, trends, and seasonal pattern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ss the nature of your competi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timate your expected sales and market shar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8" name="Rectangle 15"/>
          <p:cNvSpPr/>
          <p:nvPr/>
        </p:nvSpPr>
        <p:spPr>
          <a:xfrm>
            <a:off x="649440" y="2631960"/>
            <a:ext cx="2430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any and the Indust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16"/>
          <p:cNvSpPr/>
          <p:nvPr/>
        </p:nvSpPr>
        <p:spPr>
          <a:xfrm>
            <a:off x="717480" y="3637080"/>
            <a:ext cx="229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-Service Offer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17"/>
          <p:cNvSpPr/>
          <p:nvPr/>
        </p:nvSpPr>
        <p:spPr>
          <a:xfrm>
            <a:off x="1094040" y="5083200"/>
            <a:ext cx="1542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 Analys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Line 18"/>
          <p:cNvSpPr/>
          <p:nvPr/>
        </p:nvSpPr>
        <p:spPr>
          <a:xfrm>
            <a:off x="2971800" y="278460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2971800" y="378936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2971800" y="523548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21"/>
          <p:cNvSpPr/>
          <p:nvPr/>
        </p:nvSpPr>
        <p:spPr>
          <a:xfrm>
            <a:off x="7484760" y="6243480"/>
            <a:ext cx="883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Rectangle 22"/>
          <p:cNvSpPr/>
          <p:nvPr/>
        </p:nvSpPr>
        <p:spPr>
          <a:xfrm>
            <a:off x="5805000" y="655488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23"/>
          <p:cNvSpPr/>
          <p:nvPr/>
        </p:nvSpPr>
        <p:spPr>
          <a:xfrm>
            <a:off x="3276720" y="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1513440" y="534960"/>
            <a:ext cx="6517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779400" y="1816200"/>
            <a:ext cx="7378920" cy="4190760"/>
            <a:chOff x="779400" y="1816200"/>
            <a:chExt cx="7378920" cy="4190760"/>
          </a:xfrm>
        </p:grpSpPr>
        <p:sp>
          <p:nvSpPr>
            <p:cNvPr id="289" name="AutoShape 4"/>
            <p:cNvSpPr/>
            <p:nvPr/>
          </p:nvSpPr>
          <p:spPr>
            <a:xfrm>
              <a:off x="3827520" y="1816200"/>
              <a:ext cx="4330800" cy="109224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5"/>
            <p:cNvSpPr/>
            <p:nvPr/>
          </p:nvSpPr>
          <p:spPr>
            <a:xfrm>
              <a:off x="3821040" y="1890720"/>
              <a:ext cx="433080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ail the marketing strategy you plan to us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ribe your marketing plan insofar as your sales strategy, advertising and promotion plans, pricing policy, and channels of distribu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6"/>
            <p:cNvSpPr/>
            <p:nvPr/>
          </p:nvSpPr>
          <p:spPr>
            <a:xfrm>
              <a:off x="917280" y="2209680"/>
              <a:ext cx="190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Marketing Pl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Line 7"/>
            <p:cNvSpPr/>
            <p:nvPr/>
          </p:nvSpPr>
          <p:spPr>
            <a:xfrm>
              <a:off x="2932200" y="2362320"/>
              <a:ext cx="73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AutoShape 8"/>
            <p:cNvSpPr/>
            <p:nvPr/>
          </p:nvSpPr>
          <p:spPr>
            <a:xfrm>
              <a:off x="3827520" y="3365640"/>
              <a:ext cx="4330800" cy="120636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9"/>
            <p:cNvSpPr/>
            <p:nvPr/>
          </p:nvSpPr>
          <p:spPr>
            <a:xfrm>
              <a:off x="3821040" y="3390840"/>
              <a:ext cx="433080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line of the development status of your product and what is still required to get it to a market-ready stat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e there regulatory, testing or other requirements that still have to be met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Rectangle 10"/>
            <p:cNvSpPr/>
            <p:nvPr/>
          </p:nvSpPr>
          <p:spPr>
            <a:xfrm>
              <a:off x="779400" y="3816360"/>
              <a:ext cx="2184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Development Pl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Line 11"/>
            <p:cNvSpPr/>
            <p:nvPr/>
          </p:nvSpPr>
          <p:spPr>
            <a:xfrm>
              <a:off x="2932200" y="3968640"/>
              <a:ext cx="73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AutoShape 12"/>
            <p:cNvSpPr/>
            <p:nvPr/>
          </p:nvSpPr>
          <p:spPr>
            <a:xfrm>
              <a:off x="3827520" y="4991040"/>
              <a:ext cx="4330800" cy="101592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Rectangle 13"/>
            <p:cNvSpPr/>
            <p:nvPr/>
          </p:nvSpPr>
          <p:spPr>
            <a:xfrm>
              <a:off x="3821040" y="5027760"/>
              <a:ext cx="433080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line the operating side of your busines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ribe your location, kind of facilities, space requirements, capital equipment needs, and labour require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Rectangle 14"/>
            <p:cNvSpPr/>
            <p:nvPr/>
          </p:nvSpPr>
          <p:spPr>
            <a:xfrm>
              <a:off x="813600" y="5133960"/>
              <a:ext cx="21142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ion/Operation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Line 15"/>
            <p:cNvSpPr/>
            <p:nvPr/>
          </p:nvSpPr>
          <p:spPr>
            <a:xfrm>
              <a:off x="2932200" y="5499000"/>
              <a:ext cx="73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1" name="Rectangle 16"/>
          <p:cNvSpPr/>
          <p:nvPr/>
        </p:nvSpPr>
        <p:spPr>
          <a:xfrm>
            <a:off x="7243560" y="5938920"/>
            <a:ext cx="883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3214800" y="14940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5779800" y="654192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4" name="Group 19"/>
          <p:cNvGrpSpPr/>
          <p:nvPr/>
        </p:nvGrpSpPr>
        <p:grpSpPr>
          <a:xfrm>
            <a:off x="519120" y="1219320"/>
            <a:ext cx="2298600" cy="876240"/>
            <a:chOff x="519120" y="1219320"/>
            <a:chExt cx="2298600" cy="876240"/>
          </a:xfrm>
        </p:grpSpPr>
        <p:sp>
          <p:nvSpPr>
            <p:cNvPr id="305" name="Oval 20"/>
            <p:cNvSpPr/>
            <p:nvPr/>
          </p:nvSpPr>
          <p:spPr>
            <a:xfrm>
              <a:off x="519120" y="1219320"/>
              <a:ext cx="2298600" cy="87624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1"/>
            <p:cNvSpPr/>
            <p:nvPr/>
          </p:nvSpPr>
          <p:spPr>
            <a:xfrm>
              <a:off x="778680" y="1244520"/>
              <a:ext cx="17823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ody of the Pla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(Continued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1447920" y="609480"/>
            <a:ext cx="6933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7103880" y="5286240"/>
            <a:ext cx="883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5756040" y="653112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3222720" y="2509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1" name="Group 6"/>
          <p:cNvGrpSpPr/>
          <p:nvPr/>
        </p:nvGrpSpPr>
        <p:grpSpPr>
          <a:xfrm>
            <a:off x="968040" y="2298600"/>
            <a:ext cx="7268040" cy="2870280"/>
            <a:chOff x="968040" y="2298600"/>
            <a:chExt cx="7268040" cy="2870280"/>
          </a:xfrm>
        </p:grpSpPr>
        <p:sp>
          <p:nvSpPr>
            <p:cNvPr id="312" name="AutoShape 7"/>
            <p:cNvSpPr/>
            <p:nvPr/>
          </p:nvSpPr>
          <p:spPr>
            <a:xfrm>
              <a:off x="3905280" y="3962520"/>
              <a:ext cx="4330800" cy="120636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8"/>
            <p:cNvSpPr/>
            <p:nvPr/>
          </p:nvSpPr>
          <p:spPr>
            <a:xfrm>
              <a:off x="3898800" y="3987720"/>
              <a:ext cx="433080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esent an overall schedule indicating what needs to be done to launch your business and the timing required to bring it ab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cuss the major problems and risks that you will have to deal with as wel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9"/>
            <p:cNvSpPr/>
            <p:nvPr/>
          </p:nvSpPr>
          <p:spPr>
            <a:xfrm>
              <a:off x="968040" y="4307040"/>
              <a:ext cx="2007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Implementation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hedul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Line 10"/>
            <p:cNvSpPr/>
            <p:nvPr/>
          </p:nvSpPr>
          <p:spPr>
            <a:xfrm>
              <a:off x="3003480" y="4565520"/>
              <a:ext cx="73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AutoShape 11"/>
            <p:cNvSpPr/>
            <p:nvPr/>
          </p:nvSpPr>
          <p:spPr>
            <a:xfrm>
              <a:off x="3905280" y="2298600"/>
              <a:ext cx="4330800" cy="120672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12"/>
            <p:cNvSpPr/>
            <p:nvPr/>
          </p:nvSpPr>
          <p:spPr>
            <a:xfrm>
              <a:off x="3898800" y="2324160"/>
              <a:ext cx="433080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dentify your key management people, their responsibilities and their qualification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icate the principal shareholders of the business, your principal advisors and the members of your Board of Director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13"/>
            <p:cNvSpPr/>
            <p:nvPr/>
          </p:nvSpPr>
          <p:spPr>
            <a:xfrm>
              <a:off x="1106640" y="2643120"/>
              <a:ext cx="17272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Managemen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Line 14"/>
            <p:cNvSpPr/>
            <p:nvPr/>
          </p:nvSpPr>
          <p:spPr>
            <a:xfrm>
              <a:off x="3003480" y="2901960"/>
              <a:ext cx="73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0" name="Group 15"/>
          <p:cNvGrpSpPr/>
          <p:nvPr/>
        </p:nvGrpSpPr>
        <p:grpSpPr>
          <a:xfrm>
            <a:off x="776160" y="1460520"/>
            <a:ext cx="2298960" cy="876240"/>
            <a:chOff x="776160" y="1460520"/>
            <a:chExt cx="2298960" cy="876240"/>
          </a:xfrm>
        </p:grpSpPr>
        <p:sp>
          <p:nvSpPr>
            <p:cNvPr id="321" name="Oval 16"/>
            <p:cNvSpPr/>
            <p:nvPr/>
          </p:nvSpPr>
          <p:spPr>
            <a:xfrm>
              <a:off x="776160" y="1460520"/>
              <a:ext cx="2298960" cy="87624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Rectangle 17"/>
            <p:cNvSpPr/>
            <p:nvPr/>
          </p:nvSpPr>
          <p:spPr>
            <a:xfrm>
              <a:off x="1036080" y="1486080"/>
              <a:ext cx="17823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ody of the Pla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(Continued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1600200" y="457200"/>
            <a:ext cx="685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4" name="Group 3"/>
          <p:cNvGrpSpPr/>
          <p:nvPr/>
        </p:nvGrpSpPr>
        <p:grpSpPr>
          <a:xfrm>
            <a:off x="3903840" y="2347920"/>
            <a:ext cx="4330440" cy="2933640"/>
            <a:chOff x="3903840" y="2347920"/>
            <a:chExt cx="4330440" cy="2933640"/>
          </a:xfrm>
        </p:grpSpPr>
        <p:sp>
          <p:nvSpPr>
            <p:cNvPr id="325" name="AutoShape 4"/>
            <p:cNvSpPr/>
            <p:nvPr/>
          </p:nvSpPr>
          <p:spPr>
            <a:xfrm>
              <a:off x="3903840" y="2347920"/>
              <a:ext cx="4330440" cy="293364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5"/>
            <p:cNvSpPr/>
            <p:nvPr/>
          </p:nvSpPr>
          <p:spPr>
            <a:xfrm>
              <a:off x="3948120" y="2409840"/>
              <a:ext cx="4232160" cy="28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icate the type and amount of financing you are looking for and how the funds will be used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line your proposed terms of investment, the potential return to the investor, and what benefit is being provided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vide an overview of the current financial structure of your busines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epare realistic financial projections that reflect the effect of financing. Include: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sh flow forecas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 forma profit and loss state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 forma balance shee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eakeven analysi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7" name="Line 6"/>
          <p:cNvSpPr/>
          <p:nvPr/>
        </p:nvSpPr>
        <p:spPr>
          <a:xfrm>
            <a:off x="3103560" y="3770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753120" y="3571920"/>
            <a:ext cx="2065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Financial Pl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866920" y="657216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5091120" y="42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6874560" y="5372280"/>
            <a:ext cx="883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2" name="Group 11"/>
          <p:cNvGrpSpPr/>
          <p:nvPr/>
        </p:nvGrpSpPr>
        <p:grpSpPr>
          <a:xfrm>
            <a:off x="534960" y="1927080"/>
            <a:ext cx="2298600" cy="876600"/>
            <a:chOff x="534960" y="1927080"/>
            <a:chExt cx="2298600" cy="876600"/>
          </a:xfrm>
        </p:grpSpPr>
        <p:sp>
          <p:nvSpPr>
            <p:cNvPr id="333" name="Oval 12"/>
            <p:cNvSpPr/>
            <p:nvPr/>
          </p:nvSpPr>
          <p:spPr>
            <a:xfrm>
              <a:off x="534960" y="1927080"/>
              <a:ext cx="2298600" cy="8766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13"/>
            <p:cNvSpPr/>
            <p:nvPr/>
          </p:nvSpPr>
          <p:spPr>
            <a:xfrm>
              <a:off x="794520" y="1952640"/>
              <a:ext cx="17823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ody of the Pla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(Continued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725400" y="3173400"/>
            <a:ext cx="2298960" cy="876240"/>
            <a:chOff x="725400" y="3173400"/>
            <a:chExt cx="2298960" cy="876240"/>
          </a:xfrm>
        </p:grpSpPr>
        <p:sp>
          <p:nvSpPr>
            <p:cNvPr id="336" name="Oval 3"/>
            <p:cNvSpPr/>
            <p:nvPr/>
          </p:nvSpPr>
          <p:spPr>
            <a:xfrm>
              <a:off x="725400" y="3173400"/>
              <a:ext cx="2298960" cy="87624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Rectangle 4"/>
            <p:cNvSpPr/>
            <p:nvPr/>
          </p:nvSpPr>
          <p:spPr>
            <a:xfrm>
              <a:off x="1209960" y="3321000"/>
              <a:ext cx="1332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ppendic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8" name="Group 5"/>
          <p:cNvGrpSpPr/>
          <p:nvPr/>
        </p:nvGrpSpPr>
        <p:grpSpPr>
          <a:xfrm>
            <a:off x="3886200" y="2438280"/>
            <a:ext cx="4330800" cy="2386080"/>
            <a:chOff x="3886200" y="2438280"/>
            <a:chExt cx="4330800" cy="2386080"/>
          </a:xfrm>
        </p:grpSpPr>
        <p:sp>
          <p:nvSpPr>
            <p:cNvPr id="339" name="AutoShape 6"/>
            <p:cNvSpPr/>
            <p:nvPr/>
          </p:nvSpPr>
          <p:spPr>
            <a:xfrm>
              <a:off x="3886200" y="2438280"/>
              <a:ext cx="4330800" cy="238608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3905280" y="2498760"/>
              <a:ext cx="4002120" cy="20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pporting material for your plan including: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ailed resumes of the management te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 literature and photograph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mes of possible customers and supplier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sulting reports and market survey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pies of legal docu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blicity materia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tters of referenc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1" name="Line 8"/>
          <p:cNvSpPr/>
          <p:nvPr/>
        </p:nvSpPr>
        <p:spPr>
          <a:xfrm>
            <a:off x="3067200" y="3611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1523880" y="747720"/>
            <a:ext cx="716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Rectangle 10"/>
          <p:cNvSpPr/>
          <p:nvPr/>
        </p:nvSpPr>
        <p:spPr>
          <a:xfrm>
            <a:off x="3451320" y="123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5805000" y="652932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7360" y="380880"/>
            <a:ext cx="848664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4617b"/>
                </a:solidFill>
                <a:latin typeface="Calibri"/>
              </a:rPr>
              <a:t>Tips for Developing Your Business Pla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Business planning involves a lot of work. Be prepared to spend weeks developing your pla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Work on sections at a ti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Be brief but comple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Focus on your intended read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Use layman’s ter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Be realisti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Discuss the risks associated with the busin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back up your statements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with background data and market inform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7" name="Object 1024" descr=""/>
          <p:cNvPicPr/>
          <p:nvPr/>
        </p:nvPicPr>
        <p:blipFill>
          <a:blip r:embed="rId1"/>
          <a:stretch/>
        </p:blipFill>
        <p:spPr>
          <a:xfrm>
            <a:off x="6553080" y="2971800"/>
            <a:ext cx="2181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imes New Roman"/>
              </a:rPr>
              <a:t>The Components of Successful Entrepreneurial Ven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304920" y="1752480"/>
            <a:ext cx="8838720" cy="4228920"/>
            <a:chOff x="304920" y="1752480"/>
            <a:chExt cx="8838720" cy="4228920"/>
          </a:xfrm>
        </p:grpSpPr>
        <p:sp>
          <p:nvSpPr>
            <p:cNvPr id="199" name="Rectangle 4"/>
            <p:cNvSpPr/>
            <p:nvPr/>
          </p:nvSpPr>
          <p:spPr>
            <a:xfrm>
              <a:off x="3905280" y="5410080"/>
              <a:ext cx="1561680" cy="5713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Rectangle 5"/>
            <p:cNvSpPr/>
            <p:nvPr/>
          </p:nvSpPr>
          <p:spPr>
            <a:xfrm>
              <a:off x="7410240" y="3429000"/>
              <a:ext cx="1561680" cy="57132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Rectangle 6"/>
            <p:cNvSpPr/>
            <p:nvPr/>
          </p:nvSpPr>
          <p:spPr>
            <a:xfrm>
              <a:off x="6191280" y="1752480"/>
              <a:ext cx="1790280" cy="571320"/>
            </a:xfrm>
            <a:prstGeom prst="rect">
              <a:avLst/>
            </a:prstGeom>
            <a:solidFill>
              <a:srgbClr val="ffcc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399960" y="3504960"/>
              <a:ext cx="1790280" cy="57168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Rectangle 8"/>
            <p:cNvSpPr/>
            <p:nvPr/>
          </p:nvSpPr>
          <p:spPr>
            <a:xfrm>
              <a:off x="1009440" y="1828800"/>
              <a:ext cx="2400120" cy="5713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Rectangle 9"/>
            <p:cNvSpPr/>
            <p:nvPr/>
          </p:nvSpPr>
          <p:spPr>
            <a:xfrm>
              <a:off x="2824200" y="2881080"/>
              <a:ext cx="3647520" cy="1590840"/>
            </a:xfrm>
            <a:prstGeom prst="rect">
              <a:avLst/>
            </a:prstGeom>
            <a:solidFill>
              <a:srgbClr val="99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usiness Plan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1066680" y="1885680"/>
              <a:ext cx="2437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Entrepreneu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Rectangle 11"/>
            <p:cNvSpPr/>
            <p:nvPr/>
          </p:nvSpPr>
          <p:spPr>
            <a:xfrm>
              <a:off x="5715000" y="1809720"/>
              <a:ext cx="2895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pportunit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Rectangle 12"/>
            <p:cNvSpPr/>
            <p:nvPr/>
          </p:nvSpPr>
          <p:spPr>
            <a:xfrm>
              <a:off x="7238880" y="3485880"/>
              <a:ext cx="1904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ourc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304920" y="3562200"/>
              <a:ext cx="198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ganizati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Rectangle 14"/>
            <p:cNvSpPr/>
            <p:nvPr/>
          </p:nvSpPr>
          <p:spPr>
            <a:xfrm>
              <a:off x="3504960" y="5467320"/>
              <a:ext cx="2285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rateg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Line 15"/>
            <p:cNvSpPr/>
            <p:nvPr/>
          </p:nvSpPr>
          <p:spPr>
            <a:xfrm>
              <a:off x="2514600" y="2419200"/>
              <a:ext cx="7614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 flipH="1">
              <a:off x="5715000" y="2342880"/>
              <a:ext cx="685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Line 17"/>
            <p:cNvSpPr/>
            <p:nvPr/>
          </p:nvSpPr>
          <p:spPr>
            <a:xfrm flipH="1">
              <a:off x="6476400" y="3714480"/>
              <a:ext cx="91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Line 18"/>
            <p:cNvSpPr/>
            <p:nvPr/>
          </p:nvSpPr>
          <p:spPr>
            <a:xfrm flipV="1">
              <a:off x="4647960" y="447660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Line 19"/>
            <p:cNvSpPr/>
            <p:nvPr/>
          </p:nvSpPr>
          <p:spPr>
            <a:xfrm>
              <a:off x="2209680" y="379080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1371600" y="533520"/>
            <a:ext cx="7543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Business Pla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1371600" y="1905120"/>
            <a:ext cx="739620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“</a:t>
            </a: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Business P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s a “</a:t>
            </a: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Selling Docu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that conveys the excitement and promise of your business to any potential backers and stakeholders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7" name="Object 4"/>
          <p:cNvGraphicFramePr/>
          <p:nvPr/>
        </p:nvGraphicFramePr>
        <p:xfrm>
          <a:off x="2895480" y="4114800"/>
          <a:ext cx="3454560" cy="24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4114800"/>
                    <a:ext cx="345456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WPWIN\Busplan\sherm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1295280" y="2286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Reasons for Writing a Business Pla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319040" y="1886040"/>
            <a:ext cx="731700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ell yourself on the busi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btain bank fin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btain investment f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stablish strategic allia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btain initial contr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ttract key employ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otivate and focus your management t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22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1523880" y="457200"/>
            <a:ext cx="67057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Types of Business Pla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831960" y="2133720"/>
            <a:ext cx="716904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The Summary Business Plan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 Loan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estyle busi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auge initial investor inter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1295280" y="53352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Types of Business Pla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836640" y="2209680"/>
            <a:ext cx="739764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The Full Business Plan</a:t>
            </a:r>
            <a:r>
              <a:rPr b="0" lang="en-US" sz="3200" spc="-1" strike="noStrike">
                <a:solidFill>
                  <a:srgbClr val="114ffb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114f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4ff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-40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ing a substantial amount of fin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ing for a Strategic Part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774720" y="568440"/>
            <a:ext cx="8369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Types of Business Pla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662760" y="1981080"/>
            <a:ext cx="738252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The Operational Pla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+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, rapidly growing compan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an annual planning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1066680" y="465120"/>
            <a:ext cx="80773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Key Elements of a Business Pla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1374840" y="2362320"/>
            <a:ext cx="7235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conomically viable product or service with attractive marke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stablished attack plan that can be replic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asoned management team that has demonstrated it can carry out the attack pl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" dur="1" fill="hold"/>
                                  <p:tgtEl>
                                    <p:spTgt spid="2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5:58:27Z</dcterms:created>
  <dc:creator>Walter S. Good</dc:creator>
  <dc:description/>
  <dc:language>en-US</dc:language>
  <cp:lastModifiedBy>paul.tilley</cp:lastModifiedBy>
  <cp:lastPrinted>2002-03-05T04:42:41Z</cp:lastPrinted>
  <dcterms:modified xsi:type="dcterms:W3CDTF">2011-04-25T17:54:04Z</dcterms:modified>
  <cp:revision>14</cp:revision>
  <dc:subject/>
  <dc:title>Entrepreneurship and Business Planning</dc:title>
</cp:coreProperties>
</file>