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A7F6-E43A-48FF-BDF9-37DF0009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2EF-800C-45CE-9C82-67579173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3E55-9453-4E5C-A201-7C8A860D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9C01-37BA-4860-9E70-8C529453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5044-15DB-4968-B188-E901B867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FE1F-F30F-458E-9129-5B2FC0D3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9029-9788-4D87-983D-3F0310F3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24D1-0ECD-4926-A7E0-37A5EAAD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2260-461A-487C-B557-B42CD408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F221-563D-409B-A2C7-9E20CA6E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15A5-5D4B-442A-A743-981D944E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2AF8-8AC3-4F66-AFE9-8F20E1C0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012593FC-5D28-49D1-9970-664A22CBC647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ommunityaccounts.ca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cbc.ca/newsblogs/yourcommunity/2013/09/911-anniversary-advertising-fails-provoke-outrage.html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R150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127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ith Paul Tilley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ek 1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5943600" y="40384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Note: These slides contain my own material and Pearson Education Canada mate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ciocultur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ersonal Influ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Opinion leaders affect your decision as does word-of-mouth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Reference Group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You look to these people as a measure of your relative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Family Influ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Where the family is in their lifecycle affects their purchase decisio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ocial Cla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The division of society that you feel you fall int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Culture and Subcul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The accepted set of values and beliefs and attitudes that exist amongst a single group in society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5486400" y="5029200"/>
            <a:ext cx="358128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See </a:t>
            </a:r>
            <a:r>
              <a:rPr b="0" lang="en-CA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ommunityaccounts.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rketing Mix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re is a great deal of influence on the CPDP by th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roduct it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 Price of the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 way the product is Promot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 Place where the product is sold or how it is delivere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Marketing Ethics and Public Poli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Business Eth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Eth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Are we being manipulate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Promises vs real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Consumeris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Dark side of our consumer cul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s’ Impac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derstanding consumer behaviour is good busin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derstanding people/organizations to satisfy consumers’ nee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nowledge and data about customers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p to define the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dentify threats/opportunities to a bra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2FA922FE-347F-4E5A-9A9F-F201D9173D3F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gmenting Consum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 Segment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milar consum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ample: “Heavy Users”</a:t>
            </a: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f fast-food industry or similar ethnic backgroun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4" name="Picture 13" descr="pho01-03"/>
          <p:cNvPicPr/>
          <p:nvPr/>
        </p:nvPicPr>
        <p:blipFill>
          <a:blip r:embed="rId1"/>
          <a:stretch/>
        </p:blipFill>
        <p:spPr>
          <a:xfrm>
            <a:off x="914400" y="3581280"/>
            <a:ext cx="73533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B1E1FEF6-A18A-44A0-902A-10410B435944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egmenting Consumers: Demographic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nd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mily Structure and Marital Stat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cial Class and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thnic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ograph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egmenting Consumers: Lifestyl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sychograph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way we feel about ourse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things we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things we do in our spare ti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lationship Marke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ccess = building lifetime relationships between brands and custom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gular interaction with custom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atabase Marke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’s Impact on Consum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ers significantly influence the world and the information we learn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vertisements, stores, and products communicate and persua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Mean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f Consump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often buy products not for what they do, but for what they me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rands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vey image/persona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fine our place in modern socie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p us to form bonds with others who share similar prefer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Definition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study of the processes involv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the actions that a person or group takes in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Purchasing,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Using and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Disposing of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ducts and servic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the mental and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ocial processes th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ceed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follow these action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 satisfy needs and desire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rand Relationship Typ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f-Concept Attach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stalgic Attach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depend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Global Consum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lobal Consumer Cul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united by common devotion to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rand name consumer goo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vie st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elebr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isure activ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essure to understand similarities and differences of customers in various count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rtual Consump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ct of the Web on consumer behaviou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4/7 shopping without leaving ho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stantaneous access to new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ndheld devices and wireless commun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2C e-commer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irtual brand communiti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chat roo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A5C49296-6B1A-44A2-9B63-9D9BFBFCB6BE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rtual Consumption (Cont’d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red” Canadians spend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ss time with friends/famil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ss time shopping in sto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re time working at home after hou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t, many report that e-mail strengthens family t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8B5A2B5E-E88A-491F-9BBD-136347796B79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rketing and Real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lurred boundaries” between marketing efforts and “the real world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pular culture shaped by market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 Ethics and Public Polic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148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siness Ethics: rules of conduct that guide actions in the marketpl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is “Right vs. Wrong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s among people, organizations, and cultu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238560" cy="32385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"/>
          <p:cNvSpPr/>
          <p:nvPr/>
        </p:nvSpPr>
        <p:spPr>
          <a:xfrm>
            <a:off x="5105520" y="4762440"/>
            <a:ext cx="3238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Verdana"/>
              </a:rPr>
              <a:t>MISSTEPS See:  </a:t>
            </a:r>
            <a:r>
              <a:rPr b="0" lang="en-CA" sz="12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9/11 anniversary 'advertising fails' provoke out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 Ethic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nd Public Policy (cont’d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s think better of products made by firms they feel behave ethical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24F8D4DB-793B-4D7B-B2A9-70DDD871EDC4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nipulating Needs and Wa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ers tell people what they should wa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rketerspace vs. Consumerspa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Response: Marketers recommend ways to satisfy basic biological nee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A3C21157-1996-453C-874C-1FA7BCDEB879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rketers foster material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Response: Products are designed to meet existing nee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conomics of Information Perspectiv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Discussion: do marketers have the ability to control our desires or the power to create needs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s this situation changing as the Internet creates new ways to interact with companies?  If so, how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re Advertising an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 Necessary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ADC48543-836B-4E75-9624-A08D2B2D462D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o Marketers Promise Miracle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vertising promises “magical” produ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Response: Advertisers simply do not know enough about people to manipulate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ilure rate for new products = 40% to 80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sumer Behaviour is a “Process”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2120" y="61722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79c8"/>
                </a:solidFill>
                <a:latin typeface="Verdana"/>
              </a:rPr>
              <a:t>Figure 1.1 (Abridge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371600"/>
          <a:ext cx="8229600" cy="3805200"/>
        </p:xfrm>
        <a:graphic>
          <a:graphicData uri="http://schemas.openxmlformats.org/drawingml/2006/table">
            <a:tbl>
              <a:tblPr/>
              <a:tblGrid>
                <a:gridCol w="2362320"/>
                <a:gridCol w="2743200"/>
                <a:gridCol w="380880"/>
                <a:gridCol w="2743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ER’S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ERSP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ER’S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ERSP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URCHASE 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es a consumer decide about needing a produc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are consumer attitudes formed/change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CHASE 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product acquisition a stressful or pleasant experienc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situational factors affect purchase decisio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PURCHASE 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 product provide pleasure or perform function? How is product disposed of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determines customer satisfaction and repurchase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Line 78"/>
          <p:cNvSpPr/>
          <p:nvPr/>
        </p:nvSpPr>
        <p:spPr>
          <a:xfrm>
            <a:off x="7342200" y="36576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Line 79"/>
          <p:cNvSpPr/>
          <p:nvPr/>
        </p:nvSpPr>
        <p:spPr>
          <a:xfrm>
            <a:off x="4114800" y="367020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Line 80"/>
          <p:cNvSpPr/>
          <p:nvPr/>
        </p:nvSpPr>
        <p:spPr>
          <a:xfrm>
            <a:off x="7315200" y="2590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Line 81"/>
          <p:cNvSpPr/>
          <p:nvPr/>
        </p:nvSpPr>
        <p:spPr>
          <a:xfrm>
            <a:off x="4114800" y="26607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Line 83"/>
          <p:cNvSpPr/>
          <p:nvPr/>
        </p:nvSpPr>
        <p:spPr>
          <a:xfrm>
            <a:off x="5562720" y="2362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Line 84"/>
          <p:cNvSpPr/>
          <p:nvPr/>
        </p:nvSpPr>
        <p:spPr>
          <a:xfrm>
            <a:off x="5410080" y="3409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85"/>
          <p:cNvSpPr/>
          <p:nvPr/>
        </p:nvSpPr>
        <p:spPr>
          <a:xfrm>
            <a:off x="5410080" y="44197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ublic Policy and Consumer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welfare is protected at the Federal, Provincial and Municipal leve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in area of focu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tection from unfair business pract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tect broad interest of socie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s depend on their government to regulate and police standar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pervision may depend on political climate in a count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E51CE349-525C-4A24-8508-FAE7A1E360FA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 Activ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bus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n-Profit advocates “for the new social activist movement of the information age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y Nothing Day and TV Turnoff Wee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lture Jamm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ims to disrupt corporate efforts to dominate our cultural landscap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nsumer “Dark Side”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ddictive Consump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mpulsive Consump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nsumed Consumer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llegal Activiti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ti-consump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Picture 9" descr="pho01-07"/>
          <p:cNvPicPr/>
          <p:nvPr/>
        </p:nvPicPr>
        <p:blipFill>
          <a:blip r:embed="rId1"/>
          <a:stretch/>
        </p:blipFill>
        <p:spPr>
          <a:xfrm>
            <a:off x="5029200" y="1828800"/>
            <a:ext cx="38862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udy of 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disciplinary Influen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y different perspectives/fiel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 Behaviour Employ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iversities, manufacturers, museums, advertising agencies, and govern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erspectives on Consumer Researc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sitiv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ress the function of objects/produ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elebrate technology, scie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orld as an objective, rational, ordered pla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pretiv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ress importance of sympolis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 each construct our own meanin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umption of products = diverse experi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tors in 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: A person who identifies a need or desire, makes a purchase, and then disposes of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urchaser vs. user vs. influenc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rganization/group as consum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Consumer Purchase Decision Process (CPDP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erceive a need: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roblem Recognitio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ek information on how to fill the need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Information Search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. (Internal sources &amp; External Sources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ssessing the information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Alternative Evaluatio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.  (Form an Evoked Set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lect and Alternative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urchase Decis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fter Purchase feeling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ost-purchase Behaviou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Cognitive Dissonance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fluences on the CPD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tuational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luences that come from the buying situation (physical and mental) that you find yourself in during the CPDP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sychological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inly internal, your mindset affects the CPD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ciocultural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luence that come from society and our social surrounding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rketing Mix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effect of the sellers efforts in manipulating the price, place, product and promotion on the consumers CPD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tuation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hese are influences on the CPDP that are related to the situation that the buyer finds him/herself in when making the buying decision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ituational Influences includ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urchase Task - Amount of effort require to buy a produc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ocial Surroundings - The people around you when you buy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hysical Surrounding - The building/place you are in to buy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emporal Effects - Time related effect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Antecedent State - Mood of the buyer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Key Mess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Consumers impact a business’ marketing strateg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sychologic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Motivation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See Maslow’s Hierarchy of needs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Personality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Perception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Note the perception process - Selective perception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Note the importance of risk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Learning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Behavioural Learning - learned through experienc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Cognitive Learning - learned through mental processes such as thinking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Brand Loyalty -  learned through experience or others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Values, Beliefs &amp; Attitude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Attitude formation &amp; changing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Lifestyl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Mode of living - Self defined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5T09:49:08Z</dcterms:created>
  <dc:creator>Paul/Evelyn Tilley</dc:creator>
  <dc:description/>
  <dc:language>en-US</dc:language>
  <cp:lastModifiedBy>Tilley, Paul (C'ville)</cp:lastModifiedBy>
  <dcterms:modified xsi:type="dcterms:W3CDTF">2013-09-16T13:51:23Z</dcterms:modified>
  <cp:revision>12</cp:revision>
  <dc:subject/>
  <dc:title>Consumer Behaviou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