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A66-EC80-4777-95CB-05B34737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49F4-D972-4244-BE58-41A97C53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2ADC-CC6C-4453-9B21-A7C345FB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0804-6A41-4241-84E7-D944B90E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155C-6A02-4C18-B7F6-7A37355F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4524-7710-4B32-BE73-C34C6A51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B9B8-36A9-490E-8D7A-F4EB0836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9299-76F3-4A4F-B6E2-D03A6305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28E0-4E18-4170-A8B7-D879565D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469A-67E7-40EE-BEFF-A2D5FB74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8483-D594-48A7-BC67-A49A59ED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B84E-CCA0-4346-AA70-93A99CBC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bottomWaves_white.png"/>
          <p:cNvPicPr/>
          <p:nvPr/>
        </p:nvPicPr>
        <p:blipFill>
          <a:blip r:embed="rId2"/>
          <a:stretch/>
        </p:blipFill>
        <p:spPr>
          <a:xfrm>
            <a:off x="0" y="5662440"/>
            <a:ext cx="9144000" cy="1195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" name="Picture 12" descr="NA logo horziontal cmyk.png"/>
          <p:cNvPicPr/>
          <p:nvPr/>
        </p:nvPicPr>
        <p:blipFill>
          <a:blip r:embed="rId3"/>
          <a:stretch/>
        </p:blipFill>
        <p:spPr>
          <a:xfrm>
            <a:off x="457200" y="6248520"/>
            <a:ext cx="266688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3" descr="bottomWaves_white.png"/>
          <p:cNvPicPr/>
          <p:nvPr/>
        </p:nvPicPr>
        <p:blipFill>
          <a:blip r:embed="rId2"/>
          <a:stretch/>
        </p:blipFill>
        <p:spPr>
          <a:xfrm>
            <a:off x="0" y="5662440"/>
            <a:ext cx="9144000" cy="11955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2" descr="NA logo horziontal cmyk.png"/>
          <p:cNvPicPr/>
          <p:nvPr/>
        </p:nvPicPr>
        <p:blipFill>
          <a:blip r:embed="rId3"/>
          <a:stretch/>
        </p:blipFill>
        <p:spPr>
          <a:xfrm>
            <a:off x="457200" y="6248520"/>
            <a:ext cx="2666880" cy="352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3EE34136-DE70-4551-AFB9-9F0E1C4E8675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ommunityaccounts.ca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cbc.ca/newsblogs/yourcommunity/2013/09/911-anniversary-advertising-fails-provoke-outrage.html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R150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roduction t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127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ith Paul Tilley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Week 1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5943600" y="403848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Note: These slides contain my own material and Pearson Education Canada mate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ciocultural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ersonal Influe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Opinion leaders affect your decision as does word-of-mouth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Reference Group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You look to these people as a measure of your relative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Family Influe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Where the family is in their lifecycle affects their purchase decisio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ocial Cla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The division of society that you feel you fall into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Culture and Subcultu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The accepted set of values and beliefs and attitudes that exist amongst a single group in society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TextBox 1"/>
          <p:cNvSpPr/>
          <p:nvPr/>
        </p:nvSpPr>
        <p:spPr>
          <a:xfrm>
            <a:off x="5486400" y="5029200"/>
            <a:ext cx="358128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Verdana"/>
              </a:rPr>
              <a:t>See </a:t>
            </a:r>
            <a:r>
              <a:rPr b="0" lang="en-CA" sz="1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ommunityaccounts.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rketing Mix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re is a great deal of influence on the CPDP by th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Product itsel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e Price of the pro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e way the product is Promot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e Place where the product is sold or how it is delivered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Marketing Ethics and Public Poli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Business Eth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Eth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Are we being manipulated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Promises vs real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Consumeris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Dark side of our consumer cul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s’ Impac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derstanding consumer behaviour is good busine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derstanding people/organizations to satisfy consumers’ nee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Knowledge and data about customers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lp to define the marke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dentify threats/opportunities to a bran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955F1599-83B6-49A5-83BE-0DE763A4F333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gmenting Consum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 Segment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milar consum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ample: “Heavy Users”</a:t>
            </a: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f fast-food industry or similar ethnic backgroun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4" name="Picture 13" descr="pho01-03"/>
          <p:cNvPicPr/>
          <p:nvPr/>
        </p:nvPicPr>
        <p:blipFill>
          <a:blip r:embed="rId1"/>
          <a:stretch/>
        </p:blipFill>
        <p:spPr>
          <a:xfrm>
            <a:off x="914400" y="3581280"/>
            <a:ext cx="73533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5C99A408-FB99-4023-8693-A747B9BE988C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egmenting Consumers: Demographic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nd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mily Structure and Marital Stat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cial Class and Inco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thnic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eograph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egmenting Consumers: Lifestyl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sychograph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way we feel about ourse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things we valu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things we do in our spare ti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lationship Marke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ccess = building lifetime relationships between brands and custom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gular interaction with custom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atabase Market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ing’s Impact on Consume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ers significantly influence the world and the information we learn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vertisements, stores, and products communicate and persuad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Meani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of Consump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ople often buy products not for what they do, but for what they me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rands…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vey image/personali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fine our place in modern socie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lp us to form bonds with others who share similar prefer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Definition: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 study of the processes involv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d the actions that a person or group takes in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Purchasing,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Using and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Disposing of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ducts and servic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d the mental and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ocial processes th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ceed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d follow these action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o satisfy needs and desire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rand Relationship Typ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lf-Concept Attach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stalgic Attach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depende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Global Consum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lobal Consumer Cul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eople united by common devotion to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rand name consumer goo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ovie sta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elebr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isure activit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essure to understand similarities and differences of customers in various countr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irtual Consump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act of the Web on consumer behaviou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4/7 shopping without leaving hom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stantaneous access to new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ndheld devices and wireless communic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2C e-commer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Virtual brand communitie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chat room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7E9C3472-871E-460E-A84C-2388BC343556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irtual Consumption (Cont’d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red” Canadians spend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ss time with friends/famil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ess time shopping in stor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re time working at home after hou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t, many report that e-mail strengthens family t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8DC567C2-C334-486B-A19C-0BBFB0EFD57C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rketing and Real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lurred boundaries” between marketing efforts and “the real world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pular culture shaped by market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ing Ethics and Public Polic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1148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siness Ethics: rules of conduct that guide actions in the marketpl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at is “Right vs. Wrong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ffers among people, organizations, and cultu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238560" cy="32385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"/>
          <p:cNvSpPr/>
          <p:nvPr/>
        </p:nvSpPr>
        <p:spPr>
          <a:xfrm>
            <a:off x="5105520" y="4762440"/>
            <a:ext cx="32385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Verdana"/>
              </a:rPr>
              <a:t>MISSTEPS See:  </a:t>
            </a:r>
            <a:r>
              <a:rPr b="0" lang="en-CA" sz="12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9/11 anniversary 'advertising fails' provoke out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ing Ethic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nd Public Policy (cont’d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s think better of products made by firms they feel behave ethical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AD3DA7C9-2084-433D-A8D9-56800D4ED89C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nipulating Needs and Wa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rketers tell people what they should wa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rketerspace vs. Consumerspa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Response: Marketers recommend ways to satisfy basic biological nee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A7C648E9-1C2F-43F5-B64F-95AA5B84BABE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rketers foster material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Response: Products are designed to meet existing nee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conomics of Information Perspectiv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Discussion: do marketers have the ability to control our desires or the power to create needs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Is this situation changing as the Internet creates new ways to interact with companies?  If so, how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Are Advertising and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arketing Necessary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1C460943-823F-443B-92B5-5C93355E30AC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o Marketers Promise Miracle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vertising promises “magical” produc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Response: Advertisers simply do not know enough about people to manipulate 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ilure rate for new products = 40% to 80%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onsumer Behaviour is a “Process”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62120" y="61722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79c8"/>
                </a:solidFill>
                <a:latin typeface="Verdana"/>
              </a:rPr>
              <a:t>Figure 1.1 (Abridge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371600"/>
          <a:ext cx="8229600" cy="3805200"/>
        </p:xfrm>
        <a:graphic>
          <a:graphicData uri="http://schemas.openxmlformats.org/drawingml/2006/table">
            <a:tbl>
              <a:tblPr/>
              <a:tblGrid>
                <a:gridCol w="2362320"/>
                <a:gridCol w="2743200"/>
                <a:gridCol w="380880"/>
                <a:gridCol w="2743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ER’S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ERSP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ER’S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ERSP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URCHASE 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es a consumer decide about needing a produc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are consumer attitudes formed/changed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7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CHASE 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product acquisition a stressful or pleasant experienc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do situational factors affect purchase decisio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PURCHASE ISS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es product provide pleasure or perform function? How is product disposed of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 determines customer satisfaction and repurchase?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Line 78"/>
          <p:cNvSpPr/>
          <p:nvPr/>
        </p:nvSpPr>
        <p:spPr>
          <a:xfrm>
            <a:off x="7342200" y="36576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Line 79"/>
          <p:cNvSpPr/>
          <p:nvPr/>
        </p:nvSpPr>
        <p:spPr>
          <a:xfrm>
            <a:off x="4114800" y="3670200"/>
            <a:ext cx="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Line 80"/>
          <p:cNvSpPr/>
          <p:nvPr/>
        </p:nvSpPr>
        <p:spPr>
          <a:xfrm>
            <a:off x="7315200" y="2590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Line 81"/>
          <p:cNvSpPr/>
          <p:nvPr/>
        </p:nvSpPr>
        <p:spPr>
          <a:xfrm>
            <a:off x="4114800" y="266076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Line 83"/>
          <p:cNvSpPr/>
          <p:nvPr/>
        </p:nvSpPr>
        <p:spPr>
          <a:xfrm>
            <a:off x="5562720" y="23623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Line 84"/>
          <p:cNvSpPr/>
          <p:nvPr/>
        </p:nvSpPr>
        <p:spPr>
          <a:xfrm>
            <a:off x="5410080" y="3409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Line 85"/>
          <p:cNvSpPr/>
          <p:nvPr/>
        </p:nvSpPr>
        <p:spPr>
          <a:xfrm>
            <a:off x="5410080" y="44197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ublic Policy and Consumer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 welfare is protected at the Federal, Provincial and Municipal leve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in area of focu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tection from unfair business practi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tect broad interest of societ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mers depend on their government to regulate and police standar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pervision may depend on political climate in a countr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yright 2008 Pearson Education Ca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-</a:t>
            </a:r>
            <a:fld id="{1CEC5169-4997-402B-B471-D31CD08F3F21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sumer Activ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bus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on-Profit advocates “for the new social activist movement of the information age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y Nothing Day and TV Turnoff Wee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ulture Jamm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ims to disrupt corporate efforts to dominate our cultural landscap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Consumer “Dark Side”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ddictive Consump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mpulsive Consump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onsumed Consumer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llegal Activiti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f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ti-consumpti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Picture 9" descr="pho01-07"/>
          <p:cNvPicPr/>
          <p:nvPr/>
        </p:nvPicPr>
        <p:blipFill>
          <a:blip r:embed="rId1"/>
          <a:stretch/>
        </p:blipFill>
        <p:spPr>
          <a:xfrm>
            <a:off x="5029200" y="1828800"/>
            <a:ext cx="388620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tudy of 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disciplinary Influen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y different perspectives/fiel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 Behaviour Employ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iversities, manufacturers, museums, advertising agencies, and governm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erspectives on Consumer Research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sitiv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ress the function of objects/produc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elebrate technology, scie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orld as an objective, rational, ordered pla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pretiv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ress importance of sympolis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e each construct our own meaning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sumption of products = diverse experie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tors in Consumer Behaviou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umer: A person who identifies a need or desire, makes a purchase, and then disposes of the pro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urchaser vs. user vs. influenc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rganization/group as consum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Consumer Purchase Decision Process (CPDP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erceive a need: 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Problem Recognitio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ek information on how to fill the need: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Information Search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. (Internal sources &amp; External Sources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ssessing the information: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Alternative Evaluatio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.  (Form an Evoked Set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lect and Alternative: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Purchase Decis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fter Purchase feeling: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Post-purchase Behaviou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(Cognitive Dissonance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fluences on the CPD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tuational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luences that come from the buying situation (physical and mental) that you find yourself in during the CPDP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sychological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inly internal, your mindset affects the CPD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ociocultural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luence that come from society and our social surrounding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rketing Mix Influ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effect of the sellers efforts in manipulating the price, place, product and promotion on the consumers CPDP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tuational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hese are influences on the CPDP that are related to the situation that the buyer finds him/herself in when making the buying decision.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Situational Influences include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urchase Task - Amount of effort require to buy a produc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Social Surroundings - The people around you when you buy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Physical Surrounding - The building/place you are in to buy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Temporal Effects - Time related effect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Antecedent State - Mood of the buyer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Calibri"/>
              </a:rPr>
              <a:t>Key Mess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Consumers impact a business’ marketing strateg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sychological Influenc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Motivation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See Maslow’s Hierarchy of needs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Personality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Perception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Note the perception process - Selective perception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Note the importance of risk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Learning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Behavioural Learning - learned through experienc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Cognitive Learning - learned through mental processes such as thinking.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Brand Loyalty -  learned through experience or others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Values, Beliefs &amp; Attitude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Attitude formation &amp; changing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alibri"/>
              </a:rPr>
              <a:t>Lifestyle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alibri"/>
              </a:rPr>
              <a:t>Mode of living - Self defined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5T09:49:08Z</dcterms:created>
  <dc:creator>Paul/Evelyn Tilley</dc:creator>
  <dc:description/>
  <dc:language>en-US</dc:language>
  <cp:lastModifiedBy>Tilley, Paul (C'ville)</cp:lastModifiedBy>
  <dcterms:modified xsi:type="dcterms:W3CDTF">2013-09-16T13:51:23Z</dcterms:modified>
  <cp:revision>12</cp:revision>
  <dc:subject/>
  <dc:title>Consumer Behaviou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ville.northatlantic.nf.ca/~ptilley</vt:lpwstr>
  </property>
  <property fmtid="{D5CDD505-2E9C-101B-9397-08002B2CF9AE}" pid="9" name="LinkColor">
    <vt:r8>16711782</vt:r8>
  </property>
  <property fmtid="{D5CDD505-2E9C-101B-9397-08002B2CF9AE}" pid="10" name="MailAddress">
    <vt:lpwstr>ptilley@cville.northatlantic.nf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Homepage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