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96F-7935-48CD-8220-F07D871B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2B4-C734-49ED-B151-B0355EC4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D46-98B9-4665-B9E0-3AB15A19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4B1-30F7-4C83-9D7E-8E39AE55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4FE-F3FC-4E13-8B45-95F81F3E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5F9-688C-4E9B-9D95-0321DC6B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4B6-294C-4C79-A936-ADF7C29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157-D6F5-4DC5-A4E1-C995D823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941-65E0-4D3C-89D9-CE446DB2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51D-DA09-4FC2-A79D-652AFF2B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4D1-7745-4846-9794-5E8BB8A3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F1B-A568-4429-B959-A2B53B681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769002F7-3CF3-44BB-B662-7D6A301FFA6F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mmunityaccounts.c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bc.ca/newsblogs/yourcommunity/2013/09/911-anniversary-advertising-fails-provoke-outrage.html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R15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ith Paul Tille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94360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ote: These slides contain my own material and Pearson Education Canada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inion leaders affect your decision as does word-of-mouth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ferenc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You look to these people as a measure of your relative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y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division of society that you feel you fall i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ulture and Subcul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486400" y="5029200"/>
            <a:ext cx="3581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CA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ommunityaccounts.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is a great deal of influence on the CPDP by th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duct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ri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way the product is Promo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lace where the product is sold or how it is delive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re we being manipul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romises vs re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ark side of our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s’ Imp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ing consumer behaviour is good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derstanding people/organizations to satisfy consumers’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nowledge and data about customer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to define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threats/opportunities to a br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67BC9C64-4158-4FB5-A20B-64A0FEF3BC4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ing Consum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Segm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ilar consu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: “Heavy Users”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fast-food industry or similar ethnic backgr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13" descr="pho01-03"/>
          <p:cNvPicPr/>
          <p:nvPr/>
        </p:nvPicPr>
        <p:blipFill>
          <a:blip r:embed="rId1"/>
          <a:stretch/>
        </p:blipFill>
        <p:spPr>
          <a:xfrm>
            <a:off x="914400" y="3581280"/>
            <a:ext cx="7353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20D12FBA-8571-4254-8E89-63692E0DDDB2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Demograph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y Structure and Marital Sta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Class and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n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Lifesty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grap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y we feel about 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do in our spar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= building lifetime relationships between brands and cus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r interaction with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bas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’s Impact on Consum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significantly influence the world and the information we lear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ertisements, stores, and products communicate and persu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a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f Consump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often buy products not for what they do, but for what they me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 image/person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e our place in modern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us to form bonds with others who share similar prefer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study of the processes invol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actions that a person or group takes i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urchasing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Using and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Disposing of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and servi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mental an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processes th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e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follow these ac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satisfy needs and desir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and Relationship Ty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Concept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stalgic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epend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lobal Consum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united by common devotion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and name consumer g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ie st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isure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sure to understand similarities and differences of customers in various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ct of the Web on consumer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4/7 shopping without leaving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antaneous access to ne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ndheld devices and wireless commun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2C e-comme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tual brand comm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chat ro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8A64F05A-4417-41BF-B2B1-6E5E55E9E7C7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 (Cont’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red” Canadians spend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with friends/fami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shopping in sto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time working at home after h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, many report that e-mail strengthens family 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034CA099-504C-4A50-8504-72FBD0C2C1E6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and Re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rred boundaries” between marketing efforts and “the real world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ar culture shaped by marke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Ethics: rules of conduct that guide actions in the marketpl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“Right vs. Wrong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s among people, organizations, and cul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5105520" y="4762440"/>
            <a:ext cx="3238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MISSTEPS See:  </a:t>
            </a:r>
            <a:r>
              <a:rPr b="0" lang="en-CA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9/11 anniversary 'advertising fails' provoke out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Public Policy (cont’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think better of products made by firms they feel behave eth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324EA403-21DA-4E2C-8BE3-600E1339D51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ipulating Needs and Wa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tell people what they should w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pace vs. Consumersp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Marketers recommend ways to satisfy basic biological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5AA43089-49AE-490D-A8C9-BB213B5578FB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 foster materi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sponse: Products are designed to meet existing n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conomics of Information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iscussion: do marketers have the ability to control our desires or the power to create need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s this situation changing as the Internet creates new ways to interact with companies?  If so, how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e Advertising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Necessa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A8FF67F6-C634-4E29-A2EF-95B023E11250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Marketers Promise Miracle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ertising promises “magical”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Advertisers simply do not know enough about people to manipulate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 rate for new products = 40% to 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umer Behaviour is a “Proces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61722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79c8"/>
                </a:solidFill>
                <a:latin typeface="Verdana"/>
              </a:rPr>
              <a:t>Figure 1.1 (Abridg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380520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8088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es a consumer decide about needing a produ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are consumer attitudes formed/chan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roduct acquisition a stressful or pleasant experien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ituational factors affect purchase decis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product provide pleasure or perform function? How is product disposed of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etermines customer satisfaction and repurchas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Line 78"/>
          <p:cNvSpPr/>
          <p:nvPr/>
        </p:nvSpPr>
        <p:spPr>
          <a:xfrm>
            <a:off x="7342200" y="3657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79"/>
          <p:cNvSpPr/>
          <p:nvPr/>
        </p:nvSpPr>
        <p:spPr>
          <a:xfrm>
            <a:off x="4114800" y="367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0"/>
          <p:cNvSpPr/>
          <p:nvPr/>
        </p:nvSpPr>
        <p:spPr>
          <a:xfrm>
            <a:off x="73152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1"/>
          <p:cNvSpPr/>
          <p:nvPr/>
        </p:nvSpPr>
        <p:spPr>
          <a:xfrm>
            <a:off x="4114800" y="26607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3"/>
          <p:cNvSpPr/>
          <p:nvPr/>
        </p:nvSpPr>
        <p:spPr>
          <a:xfrm>
            <a:off x="55627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84"/>
          <p:cNvSpPr/>
          <p:nvPr/>
        </p:nvSpPr>
        <p:spPr>
          <a:xfrm>
            <a:off x="5410080" y="340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85"/>
          <p:cNvSpPr/>
          <p:nvPr/>
        </p:nvSpPr>
        <p:spPr>
          <a:xfrm>
            <a:off x="5410080" y="4419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Policy and Consume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welfare is protected at the Federal, Provincial and Municipal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 area of focu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 from unfair business pract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 broad interest of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s depend on their government to regulate and polic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ervision may depend on political climate in a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1B68413E-76F8-4222-B894-4016E9D9E58D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Activ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bus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-Profit advocates “for the new social activist movement of the information ag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y Nothing Day and TV Turnoff Wee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Jam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ms to disrupt corporate efforts to dominate our cultural landscap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umer “Dark Side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dict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uls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Consum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egal Activit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consump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9" descr="pho01-07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y of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Influ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different perspectives/fiel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Behaviour Employ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ies, manufacturers, museums, advertising agencies, and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spectives on Consumer Resea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the function of objects/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ate technology, sci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as an objective, rational, ordered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pre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importance of sympol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each construct our own mean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ption of products = diverse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ors in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: A person who identifies a need or desire, makes a purchase, and then disposes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r vs. user vs. influenc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/group as consum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nsumer Purchase Decision Process (CPD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ceive a need: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oblem Recogni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 information on how to fill the need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nformation Searc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(Internal sources &amp; External Sourc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essing the information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lternative Evalua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 (Form an Evoked Set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lect and Alternative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urchase Deci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fter Purchase feeling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ost-purchase Behaviou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Cognitive Dissonance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ces o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inly internal, your mindset affects the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 that come from society and our social surrounding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ituational Influ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 Task - Amount of effort require to buy a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Surroundings - The people around you when you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hysical Surrounding - The building/place you are in to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emporal Effects - Time related effe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tecedent State - Mood of the buy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s impact a business’ marketing strate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Motiva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See Maslow’s Hierarchy of needs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sona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cep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perception process - Selective percepti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importance of risk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ehavioural Learning - learned through experienc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Cognitive Learning - learned through mental processes such as thinking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rand Loyalty -  learned through experience or other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Values, Beliefs &amp;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Attitude formation &amp; changing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Mode of living - Self defined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Tilley, Paul (C'ville)</cp:lastModifiedBy>
  <dcterms:modified xsi:type="dcterms:W3CDTF">2013-09-16T13:51:23Z</dcterms:modified>
  <cp:revision>12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