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82C-43E5-4D24-86CA-8F424682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6F9-3F69-4375-9B1C-37843CD0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0A747-0066-4FA7-A0D8-6C5C2645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71C6F-77D5-4574-88EB-56540F62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FB9A5-E4C6-401B-BE6B-3C8FAF3E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D8C6B-583E-4B44-A9E5-C214D3C2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23F9F-0CD9-407D-8810-A83D3976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3185B-EAF6-4CBA-8B8A-457148EA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CA470-4E37-4041-ABC6-4FDB0C91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425C3-0AFD-4DF4-B487-AB84F644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72079-5E6D-4BB0-9EA1-F29EBB3D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EEE-4739-4AC8-BE91-04B0F6AE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DE30-5CAC-41D9-B4E1-4911C9A2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20AA-C115-4AD2-9B97-8F685922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E8E6-BD6F-47A9-9539-09C4DBE1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8F56-4F27-4F91-9EFB-CE3E1206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B60B-F2C8-4E86-88C2-4BB193D3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BBD9-4954-4C5C-9FF6-6B0E99E0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BFB4-273C-4D57-8E67-969E9FB5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CA98-4104-4807-8161-C7D7436F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9B3-68F5-4B46-B23A-55F5FEF4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CB76-227A-42B9-B545-DC5E84A6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972C-AF6C-406B-A50B-6091B7E9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FAC3-ECC7-49C6-8029-C63CA996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0A4C-AF62-4BD1-99AD-C94DBCDA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6AB9-1D85-47F2-95BC-501139AB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60871-DB12-4EF3-BB89-07EA9012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1B267-122B-437E-BD7D-92C0AADF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AF096-F7E3-4AC6-9077-C3E310AE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77DB2-4254-4143-BEC3-1227CD03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CC4AB-F049-45E4-A941-BFA9B859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786-07C4-4378-B8D8-C4247E6D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D9F94-9A6F-4D83-AFE7-D14A853B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E4AED-CFD5-4693-8192-BB38F93F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E950-E088-4B80-9AEA-FEEA8333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9E2D1-DE6E-4AB7-A68B-9590CF4A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56DF4-7D6B-4BAB-85B9-752B6030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B37B8-870C-4449-8ED3-40248C47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432CE-2FB2-46EE-9BB3-20802E1E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CC058-86C0-4EC9-A976-68D30A10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15CA9-C47F-4EFA-B999-1ABF15C2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74F7-C3AE-4261-ACBA-B489AD9A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58D-7FE7-41DD-9599-B85BEFC9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D7917-A973-4A1D-839E-503BB466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2966B-04FF-45F4-A4AE-73889475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E28A3-F55C-41E2-A474-053DAE02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2AC49-CEA9-46E8-BE42-DE86527A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9265F-27AE-4CD0-9FF0-00DC8EAD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FBA5B-4981-42AC-8E7C-A47492C6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FF7CA-E030-47A6-8232-A067C472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E10FD-2145-4764-894E-97AD8E80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7AF31-05B4-4ED8-8D2A-4D149F2C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6377B-B984-4566-8180-775C30D8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A9A-B375-43E4-A038-D488C4CA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B9CEB-E5AD-4F51-A958-F9A66273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86FB6-DE93-4E17-8C2B-46F06413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BA1BF-6FF9-4139-972D-BA462FC5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DCE14-A70E-4D38-9C39-311000F1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5F34F-FFFF-4CF5-B3D4-90BFF95D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AA420-2441-4FC6-A086-88B7F7B0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065F2-6019-4A6F-8BDE-52494622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774D6-CF47-4E81-82A6-AFF346C5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39D6F-1717-4D14-A36D-CF23E1E4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E9174-D4CB-4698-95F3-EFD27909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2FA-EC15-4CD2-AA6B-722818DC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4DB84-C596-4D5F-9DF9-1DECA075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D60CC-87DD-4DAE-82A9-D9C1DDC4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AB233-7283-4BAD-91F9-F03D4E68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D73CA-5BAA-46FC-B069-9485BF1B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9A046-B75E-44BA-924F-81B762ED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8DF23-615E-454E-B81C-7663D485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8BA6A-D26E-4EC7-9B33-17FC50A7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5283E-B267-473D-A483-7574F36D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75835-60B3-47DB-96FF-137BBA04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E0B1D-A4A8-48B8-9C6D-F4DD3C89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09A-4824-4BED-BA66-E6D4F5A3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2E251-9DEC-4C12-A866-FCA3BC5B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B23DF-A422-4E79-AF1D-2A4ADBDC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AD65A-DFDF-42EC-BE40-5002D53D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C6562-C86E-41EE-9FFD-EAB1A429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E0387-87E0-4866-954A-A58CE044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791B5-7394-43AC-AB3C-6013577A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41368-6F1F-4206-9CCB-358B9FFD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5775E-15F8-4CC4-A807-0B1B494B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81088-5A6E-4627-A95E-888B2B0A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B7104-50E9-4E76-B19B-FD87563D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BAA-0E28-4EE7-BB9A-32433E26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663D6-02CC-4D53-9873-ED4E63F1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545AA-DF6B-4118-8E29-6BE61E89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38CE9-4145-46CC-A91B-99109378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BCDE7-D5FC-422D-BD86-D9C0FF92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47662-C42C-4403-B573-B1F131D5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74E54-6D69-4653-BC32-5DDCB6EE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B9550-5CFB-4397-8ABE-6A6D644C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C97CD-E910-4A90-B5FE-BB1ECD81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1C17C-8681-4B1D-AC2B-05FE4595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45F74-C898-4E7E-A8E8-961DD131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396-9119-42A0-AF4C-53468185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630C8-BA14-4281-B017-6D8CDEFE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60784-DA82-486D-9D65-F82D3A81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A9B40-A9F0-427B-9D2F-D7B8FDF6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FABB0-65F6-4C2C-854E-84E6AFBB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7D20D-88DF-4AC4-B7DA-A6761BD4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13E10-D521-4150-9244-75D1F17F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C7C4C-0ED3-4C9A-9D56-0B78BBB3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128F8-AE43-44AC-BC9A-58AFEB6F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344CC-9C3A-4A64-A3C5-3D5A0E34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F5AC2-FCD3-46CC-8E92-E4719F56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6905783-E02F-4C7A-8452-0F1318BB6E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B454C17-AD52-4FA4-B4DF-A4CC1C25C8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D277DA2A-937F-419A-BA8F-514CC65516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97B925A8-7401-4C63-966D-4E98A3607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2D91B11D-B71B-4437-9AE9-F966DBA0E8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AFC46FA9-3FC4-44E4-B28C-59297125A9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8D14D3CB-F7DD-4A76-8551-B691203B77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5280" y="342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Demand and Supply: </a:t>
            </a:r>
            <a:br>
              <a:rPr sz="4800"/>
            </a:b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an Elaboratio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2976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3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eiling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 when present market price for a particular product is considered too high for many buy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oduct is felt to be a necess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rent contro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B0C5818D-EBBF-4FD9-B519-0022E9C9D2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eiling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ceilings cause shortage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AD9E3452-F441-45B2-AD03-569D70AF2E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11" descr="Fig3_6.bmp"/>
          <p:cNvPicPr/>
          <p:nvPr/>
        </p:nvPicPr>
        <p:blipFill>
          <a:blip r:embed="rId1"/>
          <a:stretch/>
        </p:blipFill>
        <p:spPr>
          <a:xfrm>
            <a:off x="0" y="2003400"/>
            <a:ext cx="9144000" cy="434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llocating Shortag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arket (supply and demand)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 come, first serve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ers’ preferenc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tioning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73A3FAA-170B-4558-82E0-22B8FF0855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25388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e government introduces a price ceiling that is 20 cents different from the present equilibrium price. Would the result be a surplus or a shortage? Of what quantit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f an illegal market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ere to develop,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would b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maximum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llegal marke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pric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E6C6944B-BCE0-4D05-BE5A-281EDD8EC3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7" descr="SelfTest_milkGraph.bmp"/>
          <p:cNvPicPr/>
          <p:nvPr/>
        </p:nvPicPr>
        <p:blipFill>
          <a:blip r:embed="rId1"/>
          <a:stretch/>
        </p:blipFill>
        <p:spPr>
          <a:xfrm>
            <a:off x="3774960" y="2544840"/>
            <a:ext cx="4869000" cy="367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25388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e government introduces a price ceiling that is 20 cents different from the present equilibrium price. Would the result be a surplus or a shortage? Of what quantity?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f an illegal market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ere to develop,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would b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maximum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llegal marke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pric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932040" y="272556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Price = 0.90;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Shortage of 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F4C108AB-18B6-47B3-83F4-BCD4FF5E6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7" descr="SelfTest_milkGraph.bmp"/>
          <p:cNvPicPr/>
          <p:nvPr/>
        </p:nvPicPr>
        <p:blipFill>
          <a:blip r:embed="rId1"/>
          <a:stretch/>
        </p:blipFill>
        <p:spPr>
          <a:xfrm>
            <a:off x="3774960" y="2544840"/>
            <a:ext cx="4869000" cy="3674880"/>
          </a:xfrm>
          <a:prstGeom prst="rect">
            <a:avLst/>
          </a:prstGeom>
          <a:ln w="0">
            <a:noFill/>
          </a:ln>
        </p:spPr>
      </p:pic>
      <p:sp>
        <p:nvSpPr>
          <p:cNvPr id="489" name="Straight Connector 12"/>
          <p:cNvSpPr/>
          <p:nvPr/>
        </p:nvSpPr>
        <p:spPr>
          <a:xfrm>
            <a:off x="4295880" y="4827600"/>
            <a:ext cx="3944880" cy="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51"/>
          <p:cNvSpPr/>
          <p:nvPr/>
        </p:nvSpPr>
        <p:spPr>
          <a:xfrm>
            <a:off x="2052720" y="540864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$1.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15"/>
          <p:cNvSpPr/>
          <p:nvPr/>
        </p:nvSpPr>
        <p:spPr>
          <a:xfrm flipH="1" flipV="1">
            <a:off x="6113520" y="3498840"/>
            <a:ext cx="14400" cy="224640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eft-Right Arrow 19"/>
          <p:cNvSpPr/>
          <p:nvPr/>
        </p:nvSpPr>
        <p:spPr>
          <a:xfrm>
            <a:off x="6156360" y="4943520"/>
            <a:ext cx="1774800" cy="372960"/>
          </a:xfrm>
          <a:prstGeom prst="leftRightArrow">
            <a:avLst>
              <a:gd name="adj1" fmla="val 50000"/>
              <a:gd name="adj2" fmla="val 498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 when present market price for a particular product is considered too low for produc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ten used in agricultural market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7BF265D6-BF73-46DC-9AA3-30432B5EC9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floors cause surpluse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45C07FBD-E853-4304-B94B-AA13FF9B9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13" descr="Fig3_8.bmp"/>
          <p:cNvPicPr/>
          <p:nvPr/>
        </p:nvPicPr>
        <p:blipFill>
          <a:blip r:embed="rId1"/>
          <a:stretch/>
        </p:blipFill>
        <p:spPr>
          <a:xfrm>
            <a:off x="0" y="1951200"/>
            <a:ext cx="9144000" cy="431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nimum wage laws can cause unemployment 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67725A67-8C69-4486-872C-5B8FCA4D20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12" descr="Fig3_10.bmp"/>
          <p:cNvPicPr/>
          <p:nvPr/>
        </p:nvPicPr>
        <p:blipFill>
          <a:blip r:embed="rId1"/>
          <a:stretch/>
        </p:blipFill>
        <p:spPr>
          <a:xfrm>
            <a:off x="0" y="195912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aling with Surplus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ore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vert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l it abroad at a reduced price (dump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ate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stroy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617B73A2-F7A2-4B7A-836D-43E182682A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Quota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12400" y="1233000"/>
            <a:ext cx="8474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quota, or restricting output, can raise price without causing a surplu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8F4E088B-3272-4715-A480-1213C7E10C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12" descr="Fig3_9.bmp"/>
          <p:cNvPicPr/>
          <p:nvPr/>
        </p:nvPicPr>
        <p:blipFill>
          <a:blip r:embed="rId1"/>
          <a:stretch/>
        </p:blipFill>
        <p:spPr>
          <a:xfrm>
            <a:off x="0" y="2160720"/>
            <a:ext cx="9144000" cy="42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Elabora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2647440"/>
            <a:ext cx="8381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effects on equilibrium price and quantity of simultaneous changes in supply and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why markets do not always work well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price ceilings cause shortag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AB3D0846-AEC7-41D7-9EA4-BD0AFB543A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254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n equilibrium, what is the total revenue received by producer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b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at government imposes a price floor of $4 per kilo. What quantity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ill be demanded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farmers produce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government bu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How much will i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ost to buy th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rplu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8E6F0FB6-63F1-486D-9206-72BC7BC71E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2"/>
          <p:cNvSpPr/>
          <p:nvPr/>
        </p:nvSpPr>
        <p:spPr>
          <a:xfrm>
            <a:off x="63360" y="-136440"/>
            <a:ext cx="827748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16" descr="SelfTest_CornGraph.bmp"/>
          <p:cNvPicPr/>
          <p:nvPr/>
        </p:nvPicPr>
        <p:blipFill>
          <a:blip r:embed="rId1"/>
          <a:stretch/>
        </p:blipFill>
        <p:spPr>
          <a:xfrm>
            <a:off x="4241880" y="2508120"/>
            <a:ext cx="4363920" cy="375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57200" y="1254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n equilibrium, what is the total revenue received by producer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b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at government imposes a price floor of $4 per kilo. What quantity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ill be demanded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farmers produce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government bu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How much will i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ost to buy th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rplu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31DC0E20-EE23-4125-A175-3368F5F3E3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2"/>
          <p:cNvSpPr/>
          <p:nvPr/>
        </p:nvSpPr>
        <p:spPr>
          <a:xfrm>
            <a:off x="63360" y="-136440"/>
            <a:ext cx="827748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16" descr="SelfTest_CornGraph.bmp"/>
          <p:cNvPicPr/>
          <p:nvPr/>
        </p:nvPicPr>
        <p:blipFill>
          <a:blip r:embed="rId1"/>
          <a:stretch/>
        </p:blipFill>
        <p:spPr>
          <a:xfrm>
            <a:off x="4241880" y="2508120"/>
            <a:ext cx="4363920" cy="37544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1"/>
          <p:cNvSpPr/>
          <p:nvPr/>
        </p:nvSpPr>
        <p:spPr>
          <a:xfrm>
            <a:off x="2760840" y="1609560"/>
            <a:ext cx="46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TR = Q x P = 5 x 3.50 = $17.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1"/>
          <p:cNvSpPr/>
          <p:nvPr/>
        </p:nvSpPr>
        <p:spPr>
          <a:xfrm>
            <a:off x="903240" y="46641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Qd=4, Qs=6, bu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traight Connector 12"/>
          <p:cNvSpPr/>
          <p:nvPr/>
        </p:nvSpPr>
        <p:spPr>
          <a:xfrm>
            <a:off x="4730760" y="3274920"/>
            <a:ext cx="2849400" cy="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1"/>
          <p:cNvSpPr/>
          <p:nvPr/>
        </p:nvSpPr>
        <p:spPr>
          <a:xfrm>
            <a:off x="2322360" y="580536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2 x $4 = $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Vertical 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vertical demand curve suggests that price does not matter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me quantity is demanded no matter what the pri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me goods seen as necessities (eg, insulin) may have a perfectly inelastic (vertical) rang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ually, quantity demanded decreases as income is insufficient to pay for the good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3BC4D61B-9B96-4C0F-A242-DD14349346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Upward Sloping Demand Curve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12400" y="1265400"/>
            <a:ext cx="84740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ward sloping demand curves may be true for some individuals over a limited range of pric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F8026FFE-4BF7-47C7-87DD-EB3262FBA8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12" descr="Fig3_12.bmp"/>
          <p:cNvPicPr/>
          <p:nvPr/>
        </p:nvPicPr>
        <p:blipFill>
          <a:blip r:embed="rId1"/>
          <a:stretch/>
        </p:blipFill>
        <p:spPr>
          <a:xfrm>
            <a:off x="0" y="2155680"/>
            <a:ext cx="9144000" cy="42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Demand for Water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12400" y="1265400"/>
            <a:ext cx="84740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effect of a change in supply depends very much on the shape of the demand curv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8B75E1C4-DE10-4FB1-869F-3055519FB1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1" descr="Fig3_14.bmp"/>
          <p:cNvPicPr/>
          <p:nvPr/>
        </p:nvPicPr>
        <p:blipFill>
          <a:blip r:embed="rId1"/>
          <a:stretch/>
        </p:blipFill>
        <p:spPr>
          <a:xfrm>
            <a:off x="0" y="211932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Key Concepts to Remember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2519280"/>
            <a:ext cx="8381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effects on equilibrium price and quantity of simultaneous changes in supply and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markets don’t always work well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price ceilings create shortag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price floors create surplu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demand curves might be vertical or upward slop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SUMMARY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78EE7606-9427-47E9-848D-EB8AE6382B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Elabora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2647440"/>
            <a:ext cx="8381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price floors cause surplu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Ask some interesting “what if ” questions concerning the shape of demand and supply curv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924E7644-DF09-4A00-B72D-C0A8EAA6C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Determinants of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upply and Demand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8697DA33-6AB2-409C-9967-29F8263E0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15960" y="2297160"/>
          <a:ext cx="7688160" cy="3238560"/>
        </p:xfrm>
        <a:graphic>
          <a:graphicData uri="http://schemas.openxmlformats.org/drawingml/2006/table">
            <a:tbl>
              <a:tblPr/>
              <a:tblGrid>
                <a:gridCol w="3498840"/>
                <a:gridCol w="509760"/>
                <a:gridCol w="36795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ants of 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ants of Su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</a:tr>
              <a:tr h="40464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er pre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productive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er inc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ta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50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related 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ctations of future prices, incomes, or avail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substitutes in p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: its size, income distribution, and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ture expectations of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21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imultaneous Changes in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upply and Demand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rease in both demand and supply leads to an increase in equilibrium quantity; price may rise or fa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B16ED693-0B13-48C5-B2E4-57EF2685C6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1" descr="C:\Users\aholowinsky\Documents\McGrawHill\Sayre Micro Image Bank\Fig3_3.bmp"/>
          <p:cNvPicPr/>
          <p:nvPr/>
        </p:nvPicPr>
        <p:blipFill>
          <a:blip r:embed="rId1"/>
          <a:stretch/>
        </p:blipFill>
        <p:spPr>
          <a:xfrm>
            <a:off x="0" y="2719440"/>
            <a:ext cx="9144000" cy="35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35108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Kalinga"/>
              </a:rPr>
              <a:t>Explain what effect the changes will have on equilibrium price and quantity in the following markets: 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E3C918AC-D732-49E6-BD24-0A59B50D96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68360" y="2039760"/>
          <a:ext cx="8175600" cy="4480200"/>
        </p:xfrm>
        <a:graphic>
          <a:graphicData uri="http://schemas.openxmlformats.org/drawingml/2006/table">
            <a:tbl>
              <a:tblPr/>
              <a:tblGrid>
                <a:gridCol w="1816200"/>
                <a:gridCol w="6359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-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mothers with small children are returning to the labour force; at the same time, government decides to introduce subsidies for day-care operato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i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vernment severely increases the penalties for both buying and selling marijua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pact dis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ew processing method significantly reduces the costs of producing CDs; at the same time, more consumers download music directly onto their compute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getarianism increases as a result of medical reports extolling its health benefits; at the same time, tighter regulations on the definition of organically grown products are introduc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f8a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477720" y="2295360"/>
          <a:ext cx="8177400" cy="3338640"/>
        </p:xfrm>
        <a:graphic>
          <a:graphicData uri="http://schemas.openxmlformats.org/drawingml/2006/table">
            <a:tbl>
              <a:tblPr/>
              <a:tblGrid>
                <a:gridCol w="1817640"/>
                <a:gridCol w="635976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-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i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pact dis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477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Kalinga"/>
              </a:rPr>
              <a:t>Explain what effect the changes will have on equilibrium price and quantity in the following markets: 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2622600" y="2682720"/>
            <a:ext cx="61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oth demand and supply increase so quantity traded increases but price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AA9AAAF8-1582-4B32-8851-E119A1453E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1"/>
          <p:cNvSpPr/>
          <p:nvPr/>
        </p:nvSpPr>
        <p:spPr>
          <a:xfrm>
            <a:off x="2658960" y="3378240"/>
            <a:ext cx="613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oth demand and supply decrease so price is indeterminate while quantity traded decr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1"/>
          <p:cNvSpPr/>
          <p:nvPr/>
        </p:nvSpPr>
        <p:spPr>
          <a:xfrm>
            <a:off x="2647800" y="4079880"/>
            <a:ext cx="620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upply increases while demand decreases so price decreases while quantity traded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51"/>
          <p:cNvSpPr/>
          <p:nvPr/>
        </p:nvSpPr>
        <p:spPr>
          <a:xfrm>
            <a:off x="2668680" y="4838760"/>
            <a:ext cx="621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Demand increases and supply decreases so that price increases while quantity traded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How Well Do Markets Work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2400" y="1733400"/>
            <a:ext cx="847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oblems with markets: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s do not always adjust as quickly as we would lik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s do not always produce equitable resul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ve markets may not exist for some goods or serv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55939B99-C078-43EB-975E-392DDCACD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ontrol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2400" y="1434600"/>
            <a:ext cx="847404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Control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ment regulations to set either a maximum or minimum price for a product 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Ceiling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overnment regulation stipulating the maximum price that can be charged for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93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Floor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overnment regulation stipulating the minimum price that can be charged for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779D98FD-F0BF-4923-94D0-FD7CFCA74E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5:56Z</dcterms:modified>
  <cp:revision>202</cp:revision>
  <dc:subject/>
  <dc:title>Slide 1</dc:title>
</cp:coreProperties>
</file>