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984-901B-42DF-94A1-F3A32E00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637-8F93-4B22-BB49-C489AF94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33B62-2F29-4A21-B695-FFA52390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9E6D6-5CBD-4F7E-8411-63E2E704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A7826-0108-4821-A727-0DDDEF4D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FFF76-367B-48BC-B794-486C1A99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083D7-314D-4E60-8D67-2AF030D0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3D718-5761-4722-86F8-ED6461B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9A37A-AD24-4F6A-9613-E3B0F3A5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78296-03CB-4B23-86C7-27D138AAB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46B49-9202-4C59-83AB-8BF4248B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F11-3A92-4404-95ED-3A0F32C0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9B8-0C1C-48A0-A024-A5F5CC4E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803E-AE4B-4214-A6F3-82DA8F78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527B-E75B-44AB-B50E-263492BC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AE2C-C58C-49DE-9E31-89939623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BF40-43F9-4578-8200-A55CFDE9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0AEA-1EE0-45CA-86CA-76ECE03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9ABA-7557-4641-B52A-0B57E50C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661B-D41E-4DA7-86EF-CBA834AF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CA7-554D-49B5-825B-0B440291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7FE3-C631-4169-8D39-1D6D2985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8783-E040-4580-92AF-49BF4049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4AE7-CDD8-4B55-A0A3-661401FB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54FB-8F02-49E9-952D-531EBCCF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FD21-C418-4EA0-AA19-6F5C58EC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3A28-E0F3-4703-B246-DC746805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D51E-F2E6-409C-83DD-E87B7C5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2C6C1-079F-4BFC-80A4-609BA3C6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27960-6145-411C-8D9B-47C5F145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F63B-EF2B-4E66-A486-7AEA0606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34A-358B-4C2F-B4BE-41D93D8D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ECB1B-C529-4FB8-8BFA-5E5BB504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40A0D-E586-4F06-B916-ABBCC5D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0FA6-408E-4E3E-9480-1C85131C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5A4E0-A033-4A23-8712-453D3DC4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8994-1C9A-440D-BEB7-54E39EB7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506BA-090A-4EFD-9E2D-970F21A3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3916-D921-4C1F-8FAC-D5536E14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F70C6-B917-4BFE-9B26-1DB4CB00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8E85E-6642-41BD-A42D-D94047CC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D7B1D-26D1-4AF1-8D61-3FE8384E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1F7-0EFE-47E7-B04A-A57783C0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E2E79-FC59-48F5-9C60-2333D3D6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620A3-6E25-4BA7-8460-6CAC314F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198CE-ECF6-4495-9B81-752E9C5A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6E16-F2C8-4AD8-99BE-1AB59C0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6CD90-403E-4C69-A4D5-5982DCBA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EC7EE-FEC5-450B-B4AA-048A1587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3FA1C-FF69-4000-8548-1F6B19D1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2B017-1E1A-4AEA-A09E-BEE801D8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D8B8-B3DC-470B-A385-80C83CC2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AA27-7257-4553-BDD2-962F86B5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617-DFBE-458C-8E4B-42397C45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9A3B-34B7-451E-93AF-801AE920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8842-F26C-4FDD-BBE1-7C849F84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4C7E9-B605-4250-B0BD-7BCAC70F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6BFA9-CF9E-4A6D-9793-FEBE3CF6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BE3FC-6A53-465A-8C72-88D808AA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DCEAD-7956-47AD-BC62-5B41B5A3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25DED-90A6-48A5-A769-F35547C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AE12E-EF16-4C28-836A-A09D3593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BE568-8D8A-4A10-B1CA-6CF72B79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2D52F-0116-4ED0-9AF6-7CD084AC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DA8-76EC-453B-BC12-6148289D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A564C-A3EB-49D3-B620-4B3E0AE9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B12D3-AC6C-423B-9523-A37D41D9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24D22-AD01-4A8F-B899-579EEAB7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A4EB-7AFB-40F6-9B03-CB259D33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4CD4D-12E4-4609-B73E-11ED7D8A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0A7C-5EFE-4AC0-A575-CF2210C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7764E-7EC6-447C-985E-4A94319E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C5BD5-AA5E-48A9-B548-D462E53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9A7FE-9541-4A56-ABBE-B0A7539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5B7BC-29D6-436E-9EB9-82C24C1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C291-0146-4837-9804-3B00CD4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69F5-3EE1-4D6A-BE38-57626A7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50E62-BFB3-46CE-AF01-CE11364B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BEE04-6E51-452B-BDF0-BFABE53A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229E3-22F7-411E-9C1E-144DB4D7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24616-6AE4-4ED6-9C3C-20C01628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CAA08-0FF2-48CC-8306-80318DE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718DC-4E90-4B3C-8B74-E3D04BE0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FD6EE-E0E7-450D-BC48-8F2B0A6A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8E2C3-EBEF-4075-A850-6EC44C2C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4F4DF-2E55-4F32-B158-3EA082ED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090-5A0E-454F-8299-03719E82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0A5DD-E0A3-47AC-B34D-B370E4FC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11639-F05C-4E8C-B456-DED2D07D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35DC1-6093-4742-B336-91475D40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29C5-3569-413C-91F1-ECDED1BE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93C8-FFF3-4F24-8E20-D70D55F3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B8063-08A0-49B8-8654-27B3CF32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0609C-A45F-415B-AECB-C8862D4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E7017-AA46-4FF2-B69E-89CD1C25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0788E-CC55-4D55-85FF-4D745CEE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B4A75-77CA-481D-B463-0AFB114B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C1D2-A36D-49F2-97B0-B71C3240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24FA0-5467-4F19-B4D0-E728486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0BA96-A962-4FE8-9408-4160C6C8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61318-BE6C-4C5E-AF55-45E6D888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F7F98-6900-441C-9DC0-57DC007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AC16A-718A-4A30-95AC-7E06EB86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935B5-2CA2-46E1-9973-39910B21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3CE2A-8BED-49DD-9988-94CBBFE9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2B4BE-6201-4063-991B-A9785CE5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48020-2FD1-411A-ACA0-621927BE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85B32-D335-4FAA-AC59-1F9C307E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8202C6DC-0C6B-4F37-9B00-E29E7C784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32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</a:t>
            </a:r>
            <a:fld id="{D0EBFC74-4952-45C8-9390-A6CE4E2C8D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C3E90283-9792-4D3E-BFD8-60EB42241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8EB617C0-68C5-4C94-90D2-FA9CDA8B6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73AFDC45-2DCA-4F21-A615-68E666D0E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A167EE1D-D6B4-4FD1-B07A-DEC7F1CE5F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2- </a:t>
            </a:r>
            <a:fld id="{B35B23AD-C824-4237-B45B-7763209EA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3423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Demand and Supply: </a:t>
            </a:r>
            <a:br>
              <a:rPr sz="4800"/>
            </a:b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an Elaboratio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2976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high for many buy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oduct is felt to be a necessit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rent contro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47F5F5AD-74F7-4762-AEAB-25A5DAA1F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eiling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ceilings cause shortag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D468EBE1-3538-4D12-937A-4DC190C77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11" descr="Fig3_6.bmp"/>
          <p:cNvPicPr/>
          <p:nvPr/>
        </p:nvPicPr>
        <p:blipFill>
          <a:blip r:embed="rId1"/>
          <a:stretch/>
        </p:blipFill>
        <p:spPr>
          <a:xfrm>
            <a:off x="0" y="2003400"/>
            <a:ext cx="9144000" cy="434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llocating Shortag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arket (supply and demand)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rst come, first served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ducers’ preferenc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tion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84B3D5E-41BC-4C6D-8596-34F1534DAF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B855CE9-7ABD-4056-949C-7B3FA5433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57200" y="125388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e government introduces a price ceiling that is 20 cents different from the present equilibrium price. Would the result be a surplus or a shortage? Of what quantity?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f an illegal market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ere to develop,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would b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the maximum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llegal marke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price? 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932040" y="27255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Price = 0.90; 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Shortage of 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A8C04F7E-D9C1-414D-A238-B260AC3A19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Picture 7" descr="SelfTest_milkGraph.bmp"/>
          <p:cNvPicPr/>
          <p:nvPr/>
        </p:nvPicPr>
        <p:blipFill>
          <a:blip r:embed="rId1"/>
          <a:stretch/>
        </p:blipFill>
        <p:spPr>
          <a:xfrm>
            <a:off x="3774960" y="2544840"/>
            <a:ext cx="4869000" cy="3674880"/>
          </a:xfrm>
          <a:prstGeom prst="rect">
            <a:avLst/>
          </a:prstGeom>
          <a:ln w="0">
            <a:noFill/>
          </a:ln>
        </p:spPr>
      </p:pic>
      <p:sp>
        <p:nvSpPr>
          <p:cNvPr id="489" name="Straight Connector 12"/>
          <p:cNvSpPr/>
          <p:nvPr/>
        </p:nvSpPr>
        <p:spPr>
          <a:xfrm>
            <a:off x="4295880" y="4827600"/>
            <a:ext cx="394488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1"/>
          <p:cNvSpPr/>
          <p:nvPr/>
        </p:nvSpPr>
        <p:spPr>
          <a:xfrm>
            <a:off x="2052720" y="540864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$1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traight Connector 15"/>
          <p:cNvSpPr/>
          <p:nvPr/>
        </p:nvSpPr>
        <p:spPr>
          <a:xfrm flipH="1" flipV="1">
            <a:off x="6113520" y="3498840"/>
            <a:ext cx="14400" cy="224640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eft-Right Arrow 19"/>
          <p:cNvSpPr/>
          <p:nvPr/>
        </p:nvSpPr>
        <p:spPr>
          <a:xfrm>
            <a:off x="6156360" y="4943520"/>
            <a:ext cx="1774800" cy="372960"/>
          </a:xfrm>
          <a:prstGeom prst="leftRightArrow">
            <a:avLst>
              <a:gd name="adj1" fmla="val 50000"/>
              <a:gd name="adj2" fmla="val 498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ed when present market price for a particular product is considered too low for produc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ten used in agricultural market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BA11F6C-21FB-41DE-A356-0A0B178C8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ce floors cause surpluse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B62584D1-A9D3-4837-9935-8AD776F21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13" descr="Fig3_8.bmp"/>
          <p:cNvPicPr/>
          <p:nvPr/>
        </p:nvPicPr>
        <p:blipFill>
          <a:blip r:embed="rId1"/>
          <a:stretch/>
        </p:blipFill>
        <p:spPr>
          <a:xfrm>
            <a:off x="0" y="1951200"/>
            <a:ext cx="9144000" cy="431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Floor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212400" y="1339560"/>
            <a:ext cx="84740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nimum wage laws can cause unemployment 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09D4D4A-2A55-4D7D-B5F9-D3C924829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12" descr="Fig3_10.bmp"/>
          <p:cNvPicPr/>
          <p:nvPr/>
        </p:nvPicPr>
        <p:blipFill>
          <a:blip r:embed="rId1"/>
          <a:stretch/>
        </p:blipFill>
        <p:spPr>
          <a:xfrm>
            <a:off x="0" y="195912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aling with Surplus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or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vert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ll it abroad at a reduced price (dump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ate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stroy i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151B2ECB-205E-48BB-9FDF-A5402F3A6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Quota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12400" y="1233000"/>
            <a:ext cx="8474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quota, or restricting output, can raise price without causing a surplu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137251E6-37B2-471D-9C33-322496931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63360" y="-136440"/>
            <a:ext cx="1501164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12" descr="Fig3_9.bmp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42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xplain why markets do not always work well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ceilings caus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8D114AD5-A68A-40CD-8EE6-F227EE46C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6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7E2BCAF-A9D9-4635-870A-12D95F9647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457200" y="1254240"/>
            <a:ext cx="822960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a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In equilibrium, what is the total revenue received by producer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b)</a:t>
            </a:r>
            <a:r>
              <a:rPr b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ppose that government imposes a price floor of $4 per kilo. What quantity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ill be demanded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farmers produce?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What quantity will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government buy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Kaling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How much will it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cost to buy the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Kalinga"/>
              </a:rPr>
              <a:t>surplus?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CADBFEF0-39E0-4735-AA8B-552172EBA8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"/>
          <p:cNvSpPr/>
          <p:nvPr/>
        </p:nvSpPr>
        <p:spPr>
          <a:xfrm>
            <a:off x="63360" y="-136440"/>
            <a:ext cx="827748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16" descr="SelfTest_CornGraph.bmp"/>
          <p:cNvPicPr/>
          <p:nvPr/>
        </p:nvPicPr>
        <p:blipFill>
          <a:blip r:embed="rId1"/>
          <a:stretch/>
        </p:blipFill>
        <p:spPr>
          <a:xfrm>
            <a:off x="4241880" y="2508120"/>
            <a:ext cx="4363920" cy="3754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51"/>
          <p:cNvSpPr/>
          <p:nvPr/>
        </p:nvSpPr>
        <p:spPr>
          <a:xfrm>
            <a:off x="2760840" y="1609560"/>
            <a:ext cx="46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TR = Q x P = 5 x 3.50 = $17.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51"/>
          <p:cNvSpPr/>
          <p:nvPr/>
        </p:nvSpPr>
        <p:spPr>
          <a:xfrm>
            <a:off x="903240" y="46641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Qd=4, Qs=6, buy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traight Connector 12"/>
          <p:cNvSpPr/>
          <p:nvPr/>
        </p:nvSpPr>
        <p:spPr>
          <a:xfrm>
            <a:off x="4730760" y="3274920"/>
            <a:ext cx="2849400" cy="0"/>
          </a:xfrm>
          <a:prstGeom prst="line">
            <a:avLst/>
          </a:prstGeom>
          <a:ln w="4752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1"/>
          <p:cNvSpPr/>
          <p:nvPr/>
        </p:nvSpPr>
        <p:spPr>
          <a:xfrm>
            <a:off x="2322360" y="580536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Kalinga"/>
              </a:rPr>
              <a:t>2 x $4 = $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Vertical Demand Curv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12400" y="1722600"/>
            <a:ext cx="84740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vertical demand curve suggests that price does not matter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me quantity is demanded no matter what the pric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ome goods seen as necessities (eg, insulin) may have a perfectly inelastic (vertical) range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ntually, quantity demanded decreases as income is insufficient to pay for the good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9746DF1-5623-4899-A950-5767AEFB3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Upward Sloping Demand Curve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pward sloping demand curves may be true for some individuals over a limited range of prices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E64A94A2-69C1-47F9-B61C-945B700307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12" descr="Fig3_12.bmp"/>
          <p:cNvPicPr/>
          <p:nvPr/>
        </p:nvPicPr>
        <p:blipFill>
          <a:blip r:embed="rId1"/>
          <a:stretch/>
        </p:blipFill>
        <p:spPr>
          <a:xfrm>
            <a:off x="0" y="2155680"/>
            <a:ext cx="9144000" cy="42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Demand for Wate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12400" y="1265400"/>
            <a:ext cx="84740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effect of a change in supply depends very much on the shape of the demand curv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266C5A9F-1A31-4D3A-85F1-5E815E7C41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1" descr="Fig3_14.bmp"/>
          <p:cNvPicPr/>
          <p:nvPr/>
        </p:nvPicPr>
        <p:blipFill>
          <a:blip r:embed="rId1"/>
          <a:stretch/>
        </p:blipFill>
        <p:spPr>
          <a:xfrm>
            <a:off x="0" y="211932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Key Concepts to Remember: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2519280"/>
            <a:ext cx="838188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effects on equilibrium price and quantity of simultaneous changes in supply and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markets don’t always work well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ceilings create shortag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price floors creat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Why demand curves might be vertical or upward slop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SUMMARY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333B9AEB-6662-463E-8803-14827E31F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Demand and Supply: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an Elaboration 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2647440"/>
            <a:ext cx="83818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62626"/>
                </a:solidFill>
                <a:latin typeface="Times New Roman"/>
              </a:rPr>
              <a:t>Learning Objectives: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Understand why price floors cause surplu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Ask some interesting “what if ” questions concerning the shape of demand and supply curve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3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84CE44D-35CD-45E7-9FC7-CAF0A2747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09698029-5A3F-4F6D-BDFE-4CE5F84EC7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15960" y="2297160"/>
          <a:ext cx="7688160" cy="3238560"/>
        </p:xfrm>
        <a:graphic>
          <a:graphicData uri="http://schemas.openxmlformats.org/drawingml/2006/table">
            <a:tbl>
              <a:tblPr/>
              <a:tblGrid>
                <a:gridCol w="3498840"/>
                <a:gridCol w="509760"/>
                <a:gridCol w="3679560"/>
              </a:tblGrid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Dem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rminants of Supp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ae812">
                        <a:alpha val="58000"/>
                      </a:srgbClr>
                    </a:solidFill>
                  </a:tcPr>
                </a:tc>
              </a:tr>
              <a:tr h="40464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pre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productive re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umer in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siness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related produ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ctations of future prices, incomes, or avail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s of substitutes in produ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: its size, income distribution, 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ture expectations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  <a:tr h="4021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trib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p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28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imultaneous Changes i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Supply and Demand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rease in both demand and supply leads to an increase in equilibrium quantity; price may rise or fal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C1C8C501-6755-4078-9AFE-7E1C9C946A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Picture 1" descr="C:\Users\aholowinsky\Documents\McGrawHill\Sayre Micro Image Bank\Fig3_3.bmp"/>
          <p:cNvPicPr/>
          <p:nvPr/>
        </p:nvPicPr>
        <p:blipFill>
          <a:blip r:embed="rId1"/>
          <a:stretch/>
        </p:blipFill>
        <p:spPr>
          <a:xfrm>
            <a:off x="0" y="2719440"/>
            <a:ext cx="9144000" cy="35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35108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C3AC3AA6-A6E3-43E9-9C59-63F92053C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68360" y="2039760"/>
          <a:ext cx="8175600" cy="4480200"/>
        </p:xfrm>
        <a:graphic>
          <a:graphicData uri="http://schemas.openxmlformats.org/drawingml/2006/table">
            <a:tbl>
              <a:tblPr/>
              <a:tblGrid>
                <a:gridCol w="1816200"/>
                <a:gridCol w="6359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mothers with small children are returning to the labour force; at the same time, government decides to introduce subsidies for day-care operato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 severely increases the penalties for both buying and selling marijuan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new processing method significantly reduces the costs of producing CDs; at the same time, more consumers download music directly onto their comput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8a6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getarianism increases as a result of medical reports extolling its health benefits; at the same time, tighter regulations on the definition of organically grown products are introduce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6f8a6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77720" y="2295360"/>
          <a:ext cx="8177400" cy="3338640"/>
        </p:xfrm>
        <a:graphic>
          <a:graphicData uri="http://schemas.openxmlformats.org/drawingml/2006/table">
            <a:tbl>
              <a:tblPr/>
              <a:tblGrid>
                <a:gridCol w="1817640"/>
                <a:gridCol w="635976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k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8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y-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vi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3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iju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mpact dis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64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ic vege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477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Kalinga"/>
              </a:rPr>
              <a:t>Explain what effect the changes will have on equilibrium price and quantity in the following markets: 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622600" y="2682720"/>
            <a:ext cx="61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increase so quantity traded increases but price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5102106B-6C8A-4049-883B-B8164AB3B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13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2658960" y="3378240"/>
            <a:ext cx="613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oth demand and supply decrease so price is indeterminate while quantity traded decr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1"/>
          <p:cNvSpPr/>
          <p:nvPr/>
        </p:nvSpPr>
        <p:spPr>
          <a:xfrm>
            <a:off x="2647800" y="4079880"/>
            <a:ext cx="62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pply increases while demand decreases so price de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51"/>
          <p:cNvSpPr/>
          <p:nvPr/>
        </p:nvSpPr>
        <p:spPr>
          <a:xfrm>
            <a:off x="2668680" y="4838760"/>
            <a:ext cx="621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Demand increases and supply decreases so that price increases while quantity traded is indetermi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How Well Do Markets Work?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12400" y="1733400"/>
            <a:ext cx="84740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oblems with markets: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adjust as quickly as we would lik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kets do not always produce equitable resul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ve markets may not exist for some goods or serv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94FB8CB6-5C15-4DFB-8750-DECC39F10B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Control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12400" y="1434600"/>
            <a:ext cx="8474040" cy="48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ontr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regulations to set either a maximum or minimum price for a product 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Ceiling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ax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7680" indent="-49356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Price Floor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877680" indent="-493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overnment regulation stipulating the minimum price that can be charged for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3-</a:t>
            </a:r>
            <a:fld id="{7A949544-0850-4BE9-A9A6-0E715966FA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AutoShape 2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63360" y="-136440"/>
            <a:ext cx="15621120" cy="60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63360" y="-136440"/>
            <a:ext cx="15154560" cy="71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5:56Z</dcterms:modified>
  <cp:revision>202</cp:revision>
  <dc:subject/>
  <dc:title>Slide 1</dc:title>
</cp:coreProperties>
</file>