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EEDA-B2E5-403E-BAB0-4AD0CC494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013A-CB66-4CC4-BFEA-BAA72472C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240-E9CA-4434-B8F3-85DF7E91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D1B-2408-4353-80D0-1FC45A25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EB941-6895-40F1-813D-3AC5C46E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D6C3DF-BBD9-44FD-BBBD-B5FCE6EF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E0ED7-3DB3-49B6-93FF-55021FBB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4236C-6B83-47E0-913F-E89A7DF7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967C7-3FBA-492C-B308-87B5ECDF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FEF37-1352-44E2-9F65-8553AA3A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706DB-8BDE-4E3B-852A-FB41D274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C4AF0-15FA-4266-90EF-78579593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F2FFB1-61BA-4E19-9932-07B5553F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989742-6352-468F-A6A8-D5454D6D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643-BF16-453A-9AFD-AD8FF2CE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AD00D5-957D-4665-AE84-F08AC4EB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742BBC-226E-4E2C-BEB1-D2E130B0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3B582F-2E91-44BA-8DD3-9B557216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257252-A57C-4483-9281-10756686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7887EC-A316-4119-8ECC-96259A11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FB1718-A67A-4D90-90FA-D35B098F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08661-CCD9-4B5E-B66E-388122CD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CA353-EF12-437E-9136-A4489424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1B73A5-6662-434D-BCD5-287D4D25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1D37A2-64A1-48BE-ACF5-28540022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7C58-67B6-4390-8C47-8D162EE4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F71B9A-B29B-4A3A-854A-09ACC39B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D310A6-D10F-4747-A051-0DA56AD1CC1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3898A4-02B1-4A7C-8F34-44F82133721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8BB99C-6541-4C80-8FC9-EE0547224F0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1604A7-1513-400B-817A-0860329C95B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AE1338-A588-4152-8E7A-F6C380D308B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919E7C-57E7-4935-BE50-42B81E0319A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75ECAA-BB73-4C2B-8E68-ECAD3A3C184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7DDBCD-1A36-474E-8E1D-908AAB7ACD6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684F60-1290-4449-9FD6-38C022E0B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9219-F5C0-4AC7-AEE9-E7D86E72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1A8F36-E48B-4BFC-84D3-743F5FA4729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875475-D776-47C9-979E-F2C443C223F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633661-2F4E-4B43-AFB2-47430750CDC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2BD21-00B6-412F-ADC8-6CF85768A90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D81AA-9852-43C1-929D-DDF34620C50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6D497-A442-4E09-8100-67F79E35E8D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5E979-1B36-4FFD-833E-257178D5E5F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541EC-83DD-4E18-AD30-3AA665C8A48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0A7E0-1558-44BE-B33E-73DF5B978F8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0F82A-BEE2-4C7A-82EC-3518CD3A01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BB9A-1584-4225-BDEB-0842045E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F9B31-F1A7-4C36-A5C4-7BCFFF545F9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E674F-1B08-4780-9AC9-EADB13B7274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36059-F797-4CE6-B518-2342EC6BDDC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8F730-31CB-41AA-908A-EEB8B26F4A4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2F5CE-8F02-4DC4-9E84-0DEF7980468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A4017C-72D1-4A18-9DED-F4030A413C5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848766-4AC5-4217-8D76-618A536F6A3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80D0E7-2886-4504-9E67-5F1CFB2452F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6B03C0-6AC3-4589-B01C-1A1A4FF1288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242EAC-FD42-4996-9E19-979B3A0680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6E1C-D3C9-4D60-8755-65845936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1DB5E8-705B-40E4-978E-48333090FCA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A88EC9-C8E6-4CBD-A3A4-30BD480CEEA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9C936B-6E65-42D8-BFE8-B4C9A42E3CA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E1CF7E-5F1B-45C7-825D-78312D71019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CAFEFA-A348-4696-86EA-F19CAE094C3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085C1D-55FE-492F-ABF2-12F5AA4AB87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973FDF-0E72-40AE-9A82-E628B79819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E2F0-36CB-4E6B-A3B1-6859699A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EEEB-82F1-40FE-982E-3707379D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0CC0-B24F-4225-B1F1-99CB11DF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A060-B122-4738-9DF8-6E8637A6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89A9-4A52-4683-9CB9-806A4A18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A070-8AAE-40ED-B566-1152AE42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6EE7-AAB9-409A-AE8C-79CA385F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059B-AFA5-467F-B3E9-400959F6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DAC1-52D0-49D3-A8DD-68DF6BBA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7FAB-8D0E-4099-AD2E-03371046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F1E3B-7A9E-49B0-B50A-30757803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7E6B4-7578-4D28-82B4-9347F5FE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9F47D-557A-4648-AA55-EBD9FA53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6CBEC-060C-45D2-9107-6C213783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21A94-993D-4576-AA49-2967DB39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301C-7177-447A-B33E-CDB81BD9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D613E-EA2B-4BE4-98C2-8135AD04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0B1BC-FF42-4BBF-B7AA-A683E177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5B3F2-E160-49C7-BE4B-A0E6676F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0C136-23F1-4EEE-A436-4DDAE3BA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49B1F-5A35-449B-A196-A28FBF95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B90C4-9F97-4168-8C1A-7FE82A3A4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2D7C3-FB23-4809-9C4B-27E41E8F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07AF4-1B8F-4B9A-B4D0-48308B35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20FB3-CDFD-4190-880E-CAEC18B0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4DBC4-7ABE-4B38-BB21-6E4D77AB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2A3D-CD4E-448C-9C24-9ED4D31A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9AFA2-4459-4BCA-A349-811DEDB8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E87B8-EC30-4DC4-8BAC-462C9A35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0DD55-A9ED-4504-B658-ABEE8954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4B8C2-5216-425A-AA6B-8E3C4D4E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899FC-3713-48FC-8DF6-ACF0F6F9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9F5E7-BE10-41EF-A74F-B0FE7D81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95D88-9021-4382-B7F0-CFEFF9FA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DA80D-F4BA-457D-808F-4BFF2099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6153A-94FE-40FA-9A57-CC3C576F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22A87-036E-4FBE-8955-DAD794B1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A570-3D58-4E41-B374-087ACB95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C01D6-1C47-453C-8CA5-2D404FCF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E288A-304C-4795-9AE7-CC16690A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2D7AD-7E58-4E95-8DA8-D4260AC3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6BFA2-9568-4549-B588-9A68AAE6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1E6ED-E6EE-4746-A826-207FBA93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6BDB5-D94D-413D-B358-0CED41FE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A8642-13BE-48D4-9A78-4BEFB1CB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194BA-BA48-45D1-AAF0-95A9EFB6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80217-F684-444D-A2D1-2CB5D450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8DBC2-76D5-4505-B2A6-59BBE747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5A6-54FB-4343-84DA-5F525B07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9AC97-A884-4F7D-BD7D-37DBABC7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7527D5-4578-44CC-A415-4FB09ABFD5D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55E947-6DD0-4BA1-AA76-C2436172F1E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23C562-86B2-414D-A635-526C85AC676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DBA6C6-C67E-4F3E-81EE-54A17457AF4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5077A-CF43-4656-92A0-C658F101154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6461F-E53D-42A8-8C89-3F13AA4E709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0FC27A-38F8-4A86-8C9D-4FD006642E3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D787BB-8E55-4E37-9AEC-34B71356089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B45193-E31D-4886-AB25-C1E57F785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921-BB07-42C5-AE7A-D5F5C120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99B670-8D58-477C-BA09-9CCD22A8E7E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BAC99D-3A8B-42D1-BBB7-D18B54C46BA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6CB464-0CEA-4C37-84B6-1D25C8C354A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E1D113-DEE1-4669-A132-AD01A125AB8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4AFF37-A2B0-4D51-B096-A34A75BDB71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645A32-F58A-4DF5-9B8A-99220AD2332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A38688-292F-4DA3-996F-302DB247DA3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F5F959-2714-40EA-AF1C-92EA6DBFCBC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CA93E9-A0A6-4A79-91BE-DE83F6C4C71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90A51D-D9A7-4C41-847B-ABA9C3102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F7C-CDCD-4949-AC1C-A8D0963E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404E22-3A92-40EA-96F1-002BA5773D5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A0E48B-E865-4963-992B-E680EE7AA3A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0205D9-4909-4DDB-8773-3BFB2765563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FB7B22-031C-4D83-999F-6065E3B6027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408B4A-8CDF-4487-8B16-AA1A6F78057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12C893-37DC-4135-8FDF-43B2C133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4ABF4C-12A2-4A6D-B1CA-7FC8CBC7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C51441-8136-4AD9-85BA-3AA05F03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1882CA-B55A-4AF3-8778-B8F04F45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E1334C-9F51-48E8-9D2E-E8A45D62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77D6-85E2-49D4-9899-96CD1743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92B97D-E232-48AA-9E62-926F49A7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C11765-3535-4B61-B790-B986F2C1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877229-7E0B-4ED6-91E6-0AB53C1A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B414BC-C3EF-4096-9C6F-4F0A8DD2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B2862E-F4DD-4DD3-B639-C04C64DA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5D3627-F8A8-4AFB-8F4F-D755CD831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0B6376-01BD-4B91-BDCB-F059B323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2FBCE8-E3B0-46CC-8D87-0226B82E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24431-F4C6-49FB-ADAC-D3379B74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7F68FA-25B3-4CA8-BA14-68D281C3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C909969-54A0-4A77-A32A-EEF4146223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39ABF51-99D9-4259-9A0F-3C5928F8DF40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7FB8805-1739-48A7-80A2-56913F5CD09F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4079D80-B8C6-46E0-BC76-26F58FFC4FD4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3B7082B-77A2-494E-950D-88550BC3E6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D9D3566-CCC4-4977-82A9-419FDF5E1E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35715A4-0063-4CE3-8F0C-0EBB03A21B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FFDE856-9CCB-4FED-8555-C71A5A763A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F3F86D3-BE41-418A-8E0F-011C47F27F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2B3E151-CBAB-43B5-B6F5-EE37EC46FF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E5DAEAA-4CD8-452A-AD46-6305A350C0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The Economic Problem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1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croeconomic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w the major components of an economy intera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employment, inflation, interest rat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icroeconomic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comes of decisions by people and fir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ply and demand, costs of production, market structur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212DC35-C54E-4975-B47A-E8BAFFC03B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53CBC9D-E54E-4BA8-81A2-01614FE0AB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entify which of the following topics would likely appear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a microeconomics course and which in a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croeconomics course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iPo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Unemployment r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esence of monopol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rate of economic grow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C404696-7869-4BF3-B0CE-C7E8B6C097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entify which of the following topics would likely appear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a microeconomics course and which in a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croeconomics course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iPo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Unemployment r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esence of monopol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rate of economic grow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Box 8"/>
          <p:cNvSpPr/>
          <p:nvPr/>
        </p:nvSpPr>
        <p:spPr>
          <a:xfrm>
            <a:off x="4393800" y="263700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9"/>
          <p:cNvSpPr/>
          <p:nvPr/>
        </p:nvSpPr>
        <p:spPr>
          <a:xfrm>
            <a:off x="4982760" y="312912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Box 10"/>
          <p:cNvSpPr/>
          <p:nvPr/>
        </p:nvSpPr>
        <p:spPr>
          <a:xfrm>
            <a:off x="6141600" y="363996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i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11"/>
          <p:cNvSpPr/>
          <p:nvPr/>
        </p:nvSpPr>
        <p:spPr>
          <a:xfrm>
            <a:off x="6407640" y="416088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carcity and Choic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Resources are Scarce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ources, or “factors of production”, are anything used to produce goods and serv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 not have enough resources to produce everything everybody wan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have some way to ration scarce resour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B04CCA6-4740-4C0F-AC75-D656646F89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902880" y="1752120"/>
            <a:ext cx="77835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Labour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uman mental and physical effor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Land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Any natural resource used to produce goods or services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Capital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Tools, equipment, factories, and buildings used in production proces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Enterprise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– The human resource that innovates and takes risk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5520278-930C-4719-B459-2B31D361E3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6FDB307-D592-44C4-9ADE-EE197E8481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1535040" y="1566720"/>
          <a:ext cx="6096240" cy="4213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4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caf47"/>
                          </a:solidFill>
                          <a:latin typeface="Kalinga"/>
                        </a:rPr>
                        <a:t>RESOURC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caf47"/>
                          </a:solidFill>
                          <a:latin typeface="Kalinga"/>
                        </a:rPr>
                        <a:t>EARN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Labou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Lan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Capi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Intere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Enterpri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rof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DF4B80A-023D-4DC7-8AD9-72427B953B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icate whether the resource in question i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bour (L), capital (K), land (N), or enterprise (E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bar-code scanner in a supermar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Fresh drinking wat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Copper deposits in a m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work of a systems anal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irst application of e- technology to an economics text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n office buil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1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8781136-A4D0-4CA5-BCA6-AE37304F78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icate whether the resource in question i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bour (L), capital (K), land (N), or enterprise (E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bar-code scanner in a supermar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Fresh drinking water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Copper deposits in a m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work of a systems analy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irst application of e- technology to an economics text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n office buil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7583760" y="2286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Box 9"/>
          <p:cNvSpPr/>
          <p:nvPr/>
        </p:nvSpPr>
        <p:spPr>
          <a:xfrm>
            <a:off x="4887000" y="2789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10"/>
          <p:cNvSpPr/>
          <p:nvPr/>
        </p:nvSpPr>
        <p:spPr>
          <a:xfrm>
            <a:off x="5823720" y="3300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Box 11"/>
          <p:cNvSpPr/>
          <p:nvPr/>
        </p:nvSpPr>
        <p:spPr>
          <a:xfrm>
            <a:off x="6471000" y="38210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Box 12"/>
          <p:cNvSpPr/>
          <p:nvPr/>
        </p:nvSpPr>
        <p:spPr>
          <a:xfrm>
            <a:off x="4731120" y="47498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13"/>
          <p:cNvSpPr/>
          <p:nvPr/>
        </p:nvSpPr>
        <p:spPr>
          <a:xfrm>
            <a:off x="4277160" y="5273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Box 1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c Resourc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902880" y="1690200"/>
            <a:ext cx="7783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Technology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thod of productio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y in which resources are combined to produce goods and servic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Opportunity Cost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value of the next-best alternative that is given up as a result of making a particular choic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B54D7AF-AAB7-4074-AFAA-DE763ECDA2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fficienc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902880" y="1690200"/>
            <a:ext cx="7783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Productive Efficiency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of an output at the lowest possible average cos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Kalinga"/>
              </a:rPr>
              <a:t>Allocative Efficiency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of that combination of outputs that best satisfies consumers’ demand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02B76A6-135C-49AF-9BEE-ED0A88A0FE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1:  Understand the relevance of economic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2:  Define economics, microeconomics, and macroeconomics and understand the importance of the scientific metho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3:  Realize that scarcity, choice, and opportunity cost are at the heart of economics and that efficiency is a cornerston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94B19F8-A41B-4567-97A6-E335C603D7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902880" y="1871640"/>
            <a:ext cx="77835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oluntary trade benefits both part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re trade, the greater the benefit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lies to individuals as well as to nation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3E1D952-17FF-4E4F-8995-39D13008CF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A39F5F7-CFA3-4B3B-866C-B7BAF8173C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1201680" y="1444680"/>
          <a:ext cx="6740640" cy="1828800"/>
        </p:xfrm>
        <a:graphic>
          <a:graphicData uri="http://schemas.openxmlformats.org/drawingml/2006/table">
            <a:tbl>
              <a:tblPr/>
              <a:tblGrid>
                <a:gridCol w="2573280"/>
                <a:gridCol w="1690920"/>
                <a:gridCol w="871560"/>
                <a:gridCol w="16048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Maximum Outpu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5" name=""/>
          <p:cNvGraphicFramePr/>
          <p:nvPr/>
        </p:nvGraphicFramePr>
        <p:xfrm>
          <a:off x="1216080" y="3670200"/>
          <a:ext cx="6740640" cy="2286000"/>
        </p:xfrm>
        <a:graphic>
          <a:graphicData uri="http://schemas.openxmlformats.org/drawingml/2006/table">
            <a:tbl>
              <a:tblPr/>
              <a:tblGrid>
                <a:gridCol w="2573280"/>
                <a:gridCol w="1569960"/>
                <a:gridCol w="992160"/>
                <a:gridCol w="160524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ithout Trad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Total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de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Tra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166E318-94FC-4046-A382-10238DB38C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1201680" y="1444680"/>
          <a:ext cx="6740640" cy="1828800"/>
        </p:xfrm>
        <a:graphic>
          <a:graphicData uri="http://schemas.openxmlformats.org/drawingml/2006/table">
            <a:tbl>
              <a:tblPr/>
              <a:tblGrid>
                <a:gridCol w="2573280"/>
                <a:gridCol w="1690920"/>
                <a:gridCol w="871560"/>
                <a:gridCol w="160488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Maximum Outpu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1" name=""/>
          <p:cNvGraphicFramePr/>
          <p:nvPr/>
        </p:nvGraphicFramePr>
        <p:xfrm>
          <a:off x="1216080" y="3670200"/>
          <a:ext cx="6740640" cy="2286000"/>
        </p:xfrm>
        <a:graphic>
          <a:graphicData uri="http://schemas.openxmlformats.org/drawingml/2006/table">
            <a:tbl>
              <a:tblPr/>
              <a:tblGrid>
                <a:gridCol w="2573280"/>
                <a:gridCol w="1569960"/>
                <a:gridCol w="992160"/>
                <a:gridCol w="160524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With Trad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P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the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Spar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Total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Kaling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6dd55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Three Fundamental Question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o produ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to produ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r wh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FD2F2C36-FC4A-4C6B-AEF5-3F51B5CFDF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Four Types of Economie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operation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stom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and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etition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88C225E-D507-4073-9640-D15450EEF6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roduction Possibilities Curve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al representation of the various combinations of maximum output that can be produced from the available resources and technology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sumption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ll employment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 of the best technology availabl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ductive efficienc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65CF005-3CA9-4A06-AAAC-2A9B70E4D6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E6726FD-9EBD-4BC7-A208-56334A7658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Picture 2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3497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" descr=""/>
          <p:cNvPicPr/>
          <p:nvPr/>
        </p:nvPicPr>
        <p:blipFill>
          <a:blip r:embed="rId2"/>
          <a:srcRect l="5483" t="39876" r="10200" b="34772"/>
          <a:stretch/>
        </p:blipFill>
        <p:spPr>
          <a:xfrm>
            <a:off x="0" y="4730760"/>
            <a:ext cx="9144000" cy="171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5"/>
          <p:cNvSpPr/>
          <p:nvPr/>
        </p:nvSpPr>
        <p:spPr>
          <a:xfrm>
            <a:off x="7391520" y="5334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4133880" y="2057400"/>
            <a:ext cx="15523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attai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42670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9"/>
          <p:cNvSpPr/>
          <p:nvPr/>
        </p:nvSpPr>
        <p:spPr>
          <a:xfrm>
            <a:off x="1449360" y="2011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0"/>
          <p:cNvSpPr/>
          <p:nvPr/>
        </p:nvSpPr>
        <p:spPr>
          <a:xfrm>
            <a:off x="2819520" y="2209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1"/>
          <p:cNvSpPr/>
          <p:nvPr/>
        </p:nvSpPr>
        <p:spPr>
          <a:xfrm>
            <a:off x="42670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2"/>
          <p:cNvSpPr/>
          <p:nvPr/>
        </p:nvSpPr>
        <p:spPr>
          <a:xfrm>
            <a:off x="5257800" y="3809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3"/>
          <p:cNvSpPr/>
          <p:nvPr/>
        </p:nvSpPr>
        <p:spPr>
          <a:xfrm>
            <a:off x="5715000" y="4648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Group 51"/>
          <p:cNvGrpSpPr/>
          <p:nvPr/>
        </p:nvGrpSpPr>
        <p:grpSpPr>
          <a:xfrm>
            <a:off x="496800" y="1752480"/>
            <a:ext cx="6438960" cy="4711680"/>
            <a:chOff x="496800" y="1752480"/>
            <a:chExt cx="6438960" cy="4711680"/>
          </a:xfrm>
        </p:grpSpPr>
        <p:sp>
          <p:nvSpPr>
            <p:cNvPr id="703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Text Box 5"/>
            <p:cNvSpPr/>
            <p:nvPr/>
          </p:nvSpPr>
          <p:spPr>
            <a:xfrm>
              <a:off x="496800" y="17524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Text Box 6"/>
            <p:cNvSpPr/>
            <p:nvPr/>
          </p:nvSpPr>
          <p:spPr>
            <a:xfrm>
              <a:off x="6203520" y="60958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Arc 7"/>
            <p:cNvSpPr/>
            <p:nvPr/>
          </p:nvSpPr>
          <p:spPr>
            <a:xfrm>
              <a:off x="1523880" y="2514600"/>
              <a:ext cx="4343400" cy="3581280"/>
            </a:xfrm>
            <a:custGeom>
              <a:avLst/>
              <a:gdLst>
                <a:gd name="textAreaLeft" fmla="*/ 0 w 4343400"/>
                <a:gd name="textAreaRight" fmla="*/ 4343400 w 4343400"/>
                <a:gd name="textAreaTop" fmla="*/ 0 h 3581280"/>
                <a:gd name="textAreaBottom" fmla="*/ 3581640 h 358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cc"/>
            </a:solidFill>
            <a:ln cap="sq"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Oval 16"/>
          <p:cNvSpPr/>
          <p:nvPr/>
        </p:nvSpPr>
        <p:spPr>
          <a:xfrm>
            <a:off x="2895480" y="25909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9"/>
          <p:cNvSpPr/>
          <p:nvPr/>
        </p:nvSpPr>
        <p:spPr>
          <a:xfrm flipH="1">
            <a:off x="1447920" y="26668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0"/>
          <p:cNvSpPr/>
          <p:nvPr/>
        </p:nvSpPr>
        <p:spPr>
          <a:xfrm>
            <a:off x="2973240" y="277344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24"/>
          <p:cNvSpPr/>
          <p:nvPr/>
        </p:nvSpPr>
        <p:spPr>
          <a:xfrm>
            <a:off x="5791320" y="6019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13"/>
          <p:cNvSpPr/>
          <p:nvPr/>
        </p:nvSpPr>
        <p:spPr>
          <a:xfrm>
            <a:off x="4114800" y="2590920"/>
            <a:ext cx="152280" cy="152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22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27"/>
          <p:cNvSpPr/>
          <p:nvPr/>
        </p:nvSpPr>
        <p:spPr>
          <a:xfrm>
            <a:off x="4191120" y="266688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21"/>
          <p:cNvSpPr/>
          <p:nvPr/>
        </p:nvSpPr>
        <p:spPr>
          <a:xfrm flipH="1">
            <a:off x="1447920" y="495288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26"/>
          <p:cNvSpPr/>
          <p:nvPr/>
        </p:nvSpPr>
        <p:spPr>
          <a:xfrm>
            <a:off x="4114800" y="32004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10"/>
          <p:cNvSpPr/>
          <p:nvPr/>
        </p:nvSpPr>
        <p:spPr>
          <a:xfrm flipH="1">
            <a:off x="4419000" y="3809880"/>
            <a:ext cx="15228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2958480" y="36576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i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36"/>
          <p:cNvSpPr/>
          <p:nvPr/>
        </p:nvSpPr>
        <p:spPr>
          <a:xfrm flipH="1">
            <a:off x="1447920" y="32767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37"/>
          <p:cNvSpPr/>
          <p:nvPr/>
        </p:nvSpPr>
        <p:spPr>
          <a:xfrm>
            <a:off x="9144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38"/>
          <p:cNvSpPr/>
          <p:nvPr/>
        </p:nvSpPr>
        <p:spPr>
          <a:xfrm>
            <a:off x="91440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39"/>
          <p:cNvSpPr/>
          <p:nvPr/>
        </p:nvSpPr>
        <p:spPr>
          <a:xfrm>
            <a:off x="9144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Oval 42"/>
          <p:cNvSpPr/>
          <p:nvPr/>
        </p:nvSpPr>
        <p:spPr>
          <a:xfrm>
            <a:off x="5562720" y="4876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43"/>
          <p:cNvSpPr/>
          <p:nvPr/>
        </p:nvSpPr>
        <p:spPr>
          <a:xfrm flipH="1">
            <a:off x="1447560" y="411480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Oval 9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44"/>
          <p:cNvSpPr/>
          <p:nvPr/>
        </p:nvSpPr>
        <p:spPr>
          <a:xfrm>
            <a:off x="5943600" y="5638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45"/>
          <p:cNvSpPr/>
          <p:nvPr/>
        </p:nvSpPr>
        <p:spPr>
          <a:xfrm>
            <a:off x="5181480" y="41911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46"/>
          <p:cNvSpPr/>
          <p:nvPr/>
        </p:nvSpPr>
        <p:spPr>
          <a:xfrm>
            <a:off x="26668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47"/>
          <p:cNvSpPr/>
          <p:nvPr/>
        </p:nvSpPr>
        <p:spPr>
          <a:xfrm>
            <a:off x="48006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48"/>
          <p:cNvSpPr/>
          <p:nvPr/>
        </p:nvSpPr>
        <p:spPr>
          <a:xfrm>
            <a:off x="38862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49"/>
          <p:cNvSpPr/>
          <p:nvPr/>
        </p:nvSpPr>
        <p:spPr>
          <a:xfrm>
            <a:off x="5562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50"/>
          <p:cNvSpPr/>
          <p:nvPr/>
        </p:nvSpPr>
        <p:spPr>
          <a:xfrm>
            <a:off x="52578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2" descr=""/>
          <p:cNvPicPr/>
          <p:nvPr/>
        </p:nvPicPr>
        <p:blipFill>
          <a:blip r:embed="rId1"/>
          <a:srcRect l="5483" t="39876" r="10200" b="34772"/>
          <a:stretch/>
        </p:blipFill>
        <p:spPr>
          <a:xfrm>
            <a:off x="0" y="0"/>
            <a:ext cx="9144000" cy="17193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4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3DBF416-D274-459A-8BC9-2537438DA925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Rounded Rectangle 51"/>
          <p:cNvGrpSpPr/>
          <p:nvPr/>
        </p:nvGrpSpPr>
        <p:grpSpPr>
          <a:xfrm>
            <a:off x="5827680" y="2494080"/>
            <a:ext cx="3054240" cy="1919160"/>
            <a:chOff x="5827680" y="2494080"/>
            <a:chExt cx="3054240" cy="1919160"/>
          </a:xfrm>
        </p:grpSpPr>
        <p:pic>
          <p:nvPicPr>
            <p:cNvPr id="740" name="Rounded Rectangle 51" descr=""/>
            <p:cNvPicPr/>
            <p:nvPr/>
          </p:nvPicPr>
          <p:blipFill>
            <a:blip r:embed="rId2"/>
            <a:stretch/>
          </p:blipFill>
          <p:spPr>
            <a:xfrm>
              <a:off x="5827680" y="2494080"/>
              <a:ext cx="3054240" cy="19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5978520" y="2619360"/>
              <a:ext cx="269388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oints on the curve represent maximum output possible with available resourc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Oval 52"/>
          <p:cNvSpPr/>
          <p:nvPr/>
        </p:nvSpPr>
        <p:spPr>
          <a:xfrm>
            <a:off x="1849320" y="531720"/>
            <a:ext cx="51120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3" name="Straight Arrow Connector 54"/>
          <p:cNvCxnSpPr>
            <a:endCxn id="697" idx="2"/>
          </p:cNvCxnSpPr>
          <p:nvPr/>
        </p:nvCxnSpPr>
        <p:spPr>
          <a:xfrm flipH="1">
            <a:off x="1639440" y="1722240"/>
            <a:ext cx="339120" cy="68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4" name="Oval 56"/>
          <p:cNvSpPr/>
          <p:nvPr/>
        </p:nvSpPr>
        <p:spPr>
          <a:xfrm>
            <a:off x="3129120" y="523800"/>
            <a:ext cx="51084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Straight Arrow Connector 58"/>
          <p:cNvCxnSpPr/>
          <p:nvPr/>
        </p:nvCxnSpPr>
        <p:spPr>
          <a:xfrm flipH="1">
            <a:off x="3093480" y="1779120"/>
            <a:ext cx="270360" cy="740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6" name="Oval 60"/>
          <p:cNvSpPr/>
          <p:nvPr/>
        </p:nvSpPr>
        <p:spPr>
          <a:xfrm>
            <a:off x="5727600" y="517680"/>
            <a:ext cx="509760" cy="1201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Straight Arrow Connector 61"/>
          <p:cNvCxnSpPr/>
          <p:nvPr/>
        </p:nvCxnSpPr>
        <p:spPr>
          <a:xfrm flipH="1">
            <a:off x="5327280" y="1782360"/>
            <a:ext cx="645120" cy="2120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roduction Possibilities Model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457200" y="158436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carcity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points outside the curv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ho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points on the curve (efficient) and points within the curve (inefficient)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Opportunity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resented by the downward slope of the curv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230E285-DBF2-484C-A08C-C39F657505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8236"/>
                </a:solidFill>
                <a:latin typeface="Kalinga"/>
              </a:rPr>
              <a:t>Law of Increasing Opportunity Costs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58436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actors of production are not equally suitabl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s output increases, the per unit costs of additional units increases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ives the production possibilities curve its bowed out shap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04775F0-FA9A-4234-AA28-1638312810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52804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4:  Understand why trade results in economies being more producti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5:  Explain the three fundamental questions and the four ways economies can be organiz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6:  Use the production possibilities model to explain choice, opportunity cost, efficiency, and unemploymen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F03ACC5-6489-4F72-9278-3B165FFCCB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5"/>
          <p:cNvSpPr/>
          <p:nvPr/>
        </p:nvSpPr>
        <p:spPr>
          <a:xfrm>
            <a:off x="7391520" y="5334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29"/>
          <p:cNvSpPr/>
          <p:nvPr/>
        </p:nvSpPr>
        <p:spPr>
          <a:xfrm>
            <a:off x="1449360" y="2011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Group 51"/>
          <p:cNvGrpSpPr/>
          <p:nvPr/>
        </p:nvGrpSpPr>
        <p:grpSpPr>
          <a:xfrm>
            <a:off x="496800" y="1752480"/>
            <a:ext cx="6438960" cy="4711680"/>
            <a:chOff x="496800" y="1752480"/>
            <a:chExt cx="6438960" cy="4711680"/>
          </a:xfrm>
        </p:grpSpPr>
        <p:sp>
          <p:nvSpPr>
            <p:cNvPr id="762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Text Box 5"/>
            <p:cNvSpPr/>
            <p:nvPr/>
          </p:nvSpPr>
          <p:spPr>
            <a:xfrm>
              <a:off x="496800" y="17524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e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Text Box 6"/>
            <p:cNvSpPr/>
            <p:nvPr/>
          </p:nvSpPr>
          <p:spPr>
            <a:xfrm>
              <a:off x="6203520" y="609588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Arc 7"/>
            <p:cNvSpPr/>
            <p:nvPr/>
          </p:nvSpPr>
          <p:spPr>
            <a:xfrm>
              <a:off x="1523880" y="2514600"/>
              <a:ext cx="4343400" cy="3581280"/>
            </a:xfrm>
            <a:custGeom>
              <a:avLst/>
              <a:gdLst>
                <a:gd name="textAreaLeft" fmla="*/ 0 w 4343400"/>
                <a:gd name="textAreaRight" fmla="*/ 4343400 w 4343400"/>
                <a:gd name="textAreaTop" fmla="*/ 0 h 3581280"/>
                <a:gd name="textAreaBottom" fmla="*/ 3581640 h 358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fffcc"/>
            </a:solidFill>
            <a:ln cap="sq"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Oval 16"/>
          <p:cNvSpPr/>
          <p:nvPr/>
        </p:nvSpPr>
        <p:spPr>
          <a:xfrm>
            <a:off x="2895480" y="25909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19"/>
          <p:cNvSpPr/>
          <p:nvPr/>
        </p:nvSpPr>
        <p:spPr>
          <a:xfrm flipH="1" flipV="1">
            <a:off x="1472760" y="2666880"/>
            <a:ext cx="1435320" cy="46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0"/>
          <p:cNvSpPr/>
          <p:nvPr/>
        </p:nvSpPr>
        <p:spPr>
          <a:xfrm>
            <a:off x="2973240" y="2773440"/>
            <a:ext cx="0" cy="3352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24"/>
          <p:cNvSpPr/>
          <p:nvPr/>
        </p:nvSpPr>
        <p:spPr>
          <a:xfrm>
            <a:off x="5791320" y="6019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2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 flipH="1">
            <a:off x="4191120" y="3352680"/>
            <a:ext cx="46080" cy="2781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1"/>
          <p:cNvSpPr/>
          <p:nvPr/>
        </p:nvSpPr>
        <p:spPr>
          <a:xfrm flipH="1">
            <a:off x="1447920" y="4952880"/>
            <a:ext cx="4114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26"/>
          <p:cNvSpPr/>
          <p:nvPr/>
        </p:nvSpPr>
        <p:spPr>
          <a:xfrm>
            <a:off x="4114800" y="32004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36"/>
          <p:cNvSpPr/>
          <p:nvPr/>
        </p:nvSpPr>
        <p:spPr>
          <a:xfrm flipH="1" flipV="1">
            <a:off x="1523880" y="3246480"/>
            <a:ext cx="2603520" cy="46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37"/>
          <p:cNvSpPr/>
          <p:nvPr/>
        </p:nvSpPr>
        <p:spPr>
          <a:xfrm>
            <a:off x="9144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38"/>
          <p:cNvSpPr/>
          <p:nvPr/>
        </p:nvSpPr>
        <p:spPr>
          <a:xfrm>
            <a:off x="91440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39"/>
          <p:cNvSpPr/>
          <p:nvPr/>
        </p:nvSpPr>
        <p:spPr>
          <a:xfrm>
            <a:off x="914400" y="4800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42"/>
          <p:cNvSpPr/>
          <p:nvPr/>
        </p:nvSpPr>
        <p:spPr>
          <a:xfrm>
            <a:off x="5562720" y="487692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43"/>
          <p:cNvSpPr/>
          <p:nvPr/>
        </p:nvSpPr>
        <p:spPr>
          <a:xfrm flipH="1">
            <a:off x="1447560" y="4114800"/>
            <a:ext cx="37335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9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44"/>
          <p:cNvSpPr/>
          <p:nvPr/>
        </p:nvSpPr>
        <p:spPr>
          <a:xfrm>
            <a:off x="5943600" y="5638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45"/>
          <p:cNvSpPr/>
          <p:nvPr/>
        </p:nvSpPr>
        <p:spPr>
          <a:xfrm>
            <a:off x="5181480" y="4191120"/>
            <a:ext cx="0" cy="1904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46"/>
          <p:cNvSpPr/>
          <p:nvPr/>
        </p:nvSpPr>
        <p:spPr>
          <a:xfrm>
            <a:off x="26668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 Box 47"/>
          <p:cNvSpPr/>
          <p:nvPr/>
        </p:nvSpPr>
        <p:spPr>
          <a:xfrm>
            <a:off x="48006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48"/>
          <p:cNvSpPr/>
          <p:nvPr/>
        </p:nvSpPr>
        <p:spPr>
          <a:xfrm>
            <a:off x="38862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Text Box 49"/>
          <p:cNvSpPr/>
          <p:nvPr/>
        </p:nvSpPr>
        <p:spPr>
          <a:xfrm>
            <a:off x="5562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50"/>
          <p:cNvSpPr/>
          <p:nvPr/>
        </p:nvSpPr>
        <p:spPr>
          <a:xfrm>
            <a:off x="52578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Group 69"/>
          <p:cNvGrpSpPr/>
          <p:nvPr/>
        </p:nvGrpSpPr>
        <p:grpSpPr>
          <a:xfrm>
            <a:off x="2972520" y="2449440"/>
            <a:ext cx="1751760" cy="789120"/>
            <a:chOff x="2972520" y="2449440"/>
            <a:chExt cx="1751760" cy="789120"/>
          </a:xfrm>
        </p:grpSpPr>
        <p:grpSp>
          <p:nvGrpSpPr>
            <p:cNvPr id="792" name="Group 53"/>
            <p:cNvGrpSpPr/>
            <p:nvPr/>
          </p:nvGrpSpPr>
          <p:grpSpPr>
            <a:xfrm>
              <a:off x="2972520" y="2742120"/>
              <a:ext cx="1230480" cy="496440"/>
              <a:chOff x="2972520" y="2742120"/>
              <a:chExt cx="1230480" cy="496440"/>
            </a:xfrm>
          </p:grpSpPr>
          <p:sp>
            <p:nvSpPr>
              <p:cNvPr id="793" name="Straight Connector 47"/>
              <p:cNvSpPr/>
              <p:nvPr/>
            </p:nvSpPr>
            <p:spPr>
              <a:xfrm>
                <a:off x="2972520" y="2742120"/>
                <a:ext cx="1218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Straight Connector 49"/>
              <p:cNvSpPr/>
              <p:nvPr/>
            </p:nvSpPr>
            <p:spPr>
              <a:xfrm>
                <a:off x="4190400" y="2742840"/>
                <a:ext cx="12600" cy="49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TextBox 63"/>
            <p:cNvSpPr/>
            <p:nvPr/>
          </p:nvSpPr>
          <p:spPr>
            <a:xfrm>
              <a:off x="3657600" y="24494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Box 64"/>
            <p:cNvSpPr/>
            <p:nvPr/>
          </p:nvSpPr>
          <p:spPr>
            <a:xfrm>
              <a:off x="4191120" y="27432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Text Box 30"/>
          <p:cNvSpPr/>
          <p:nvPr/>
        </p:nvSpPr>
        <p:spPr>
          <a:xfrm>
            <a:off x="2666880" y="27273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Text Box 31"/>
          <p:cNvSpPr/>
          <p:nvPr/>
        </p:nvSpPr>
        <p:spPr>
          <a:xfrm>
            <a:off x="38862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32"/>
          <p:cNvSpPr/>
          <p:nvPr/>
        </p:nvSpPr>
        <p:spPr>
          <a:xfrm>
            <a:off x="4800600" y="40989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33"/>
          <p:cNvSpPr/>
          <p:nvPr/>
        </p:nvSpPr>
        <p:spPr>
          <a:xfrm>
            <a:off x="5334120" y="4876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Group 72"/>
          <p:cNvGrpSpPr/>
          <p:nvPr/>
        </p:nvGrpSpPr>
        <p:grpSpPr>
          <a:xfrm>
            <a:off x="4267080" y="2971800"/>
            <a:ext cx="1524240" cy="1104840"/>
            <a:chOff x="4267080" y="2971800"/>
            <a:chExt cx="1524240" cy="1104840"/>
          </a:xfrm>
        </p:grpSpPr>
        <p:sp>
          <p:nvSpPr>
            <p:cNvPr id="802" name="Straight Connector 55"/>
            <p:cNvSpPr/>
            <p:nvPr/>
          </p:nvSpPr>
          <p:spPr>
            <a:xfrm>
              <a:off x="4267080" y="3276360"/>
              <a:ext cx="914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70"/>
            <p:cNvGrpSpPr/>
            <p:nvPr/>
          </p:nvGrpSpPr>
          <p:grpSpPr>
            <a:xfrm>
              <a:off x="4647960" y="2971800"/>
              <a:ext cx="1143360" cy="1104840"/>
              <a:chOff x="4647960" y="2971800"/>
              <a:chExt cx="1143360" cy="1104840"/>
            </a:xfrm>
          </p:grpSpPr>
          <p:sp>
            <p:nvSpPr>
              <p:cNvPr id="804" name="Straight Connector 56"/>
              <p:cNvSpPr/>
              <p:nvPr/>
            </p:nvSpPr>
            <p:spPr>
              <a:xfrm>
                <a:off x="5180760" y="3276360"/>
                <a:ext cx="12600" cy="8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Box 65"/>
              <p:cNvSpPr/>
              <p:nvPr/>
            </p:nvSpPr>
            <p:spPr>
              <a:xfrm>
                <a:off x="4647960" y="297180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+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TextBox 66"/>
              <p:cNvSpPr/>
              <p:nvPr/>
            </p:nvSpPr>
            <p:spPr>
              <a:xfrm>
                <a:off x="5181480" y="3276360"/>
                <a:ext cx="609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7" name="Group 73"/>
          <p:cNvGrpSpPr/>
          <p:nvPr/>
        </p:nvGrpSpPr>
        <p:grpSpPr>
          <a:xfrm>
            <a:off x="5182560" y="3733920"/>
            <a:ext cx="1065960" cy="1144440"/>
            <a:chOff x="5182560" y="3733920"/>
            <a:chExt cx="1065960" cy="1144440"/>
          </a:xfrm>
        </p:grpSpPr>
        <p:sp>
          <p:nvSpPr>
            <p:cNvPr id="808" name="Straight Connector 60"/>
            <p:cNvSpPr/>
            <p:nvPr/>
          </p:nvSpPr>
          <p:spPr>
            <a:xfrm flipV="1">
              <a:off x="5182560" y="4113360"/>
              <a:ext cx="456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Straight Connector 62"/>
            <p:cNvSpPr/>
            <p:nvPr/>
          </p:nvSpPr>
          <p:spPr>
            <a:xfrm flipV="1">
              <a:off x="5638680" y="4115880"/>
              <a:ext cx="1440" cy="76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Box 67"/>
            <p:cNvSpPr/>
            <p:nvPr/>
          </p:nvSpPr>
          <p:spPr>
            <a:xfrm>
              <a:off x="5257800" y="37339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TextBox 68"/>
            <p:cNvSpPr/>
            <p:nvPr/>
          </p:nvSpPr>
          <p:spPr>
            <a:xfrm>
              <a:off x="5639040" y="42800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Law of Increasing Opportunity Costs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3" name="TextBox 6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BF4E26F-65D6-496A-A3CB-F1EF910487BB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Rounded Rectangle 69"/>
          <p:cNvGrpSpPr/>
          <p:nvPr/>
        </p:nvGrpSpPr>
        <p:grpSpPr>
          <a:xfrm>
            <a:off x="4479840" y="1292400"/>
            <a:ext cx="4200480" cy="1469880"/>
            <a:chOff x="4479840" y="1292400"/>
            <a:chExt cx="4200480" cy="1469880"/>
          </a:xfrm>
        </p:grpSpPr>
        <p:pic>
          <p:nvPicPr>
            <p:cNvPr id="817" name="Rounded Rectangle 69" descr=""/>
            <p:cNvPicPr/>
            <p:nvPr/>
          </p:nvPicPr>
          <p:blipFill>
            <a:blip r:embed="rId1"/>
            <a:stretch/>
          </p:blipFill>
          <p:spPr>
            <a:xfrm>
              <a:off x="4479840" y="1292400"/>
              <a:ext cx="4200480" cy="14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4627440" y="1395360"/>
              <a:ext cx="392904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more cars are produced, an increasing amount of wheat must be given u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5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228600" y="104148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produces 1000 units of butter, how many guns can it produce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is at “b” on the PPC, what is the cost of 1000 more units of butter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2" name="Text Box 9"/>
          <p:cNvSpPr/>
          <p:nvPr/>
        </p:nvSpPr>
        <p:spPr>
          <a:xfrm rot="10800000">
            <a:off x="3809520" y="2675880"/>
            <a:ext cx="45468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Quantity of guns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10"/>
          <p:cNvSpPr/>
          <p:nvPr/>
        </p:nvSpPr>
        <p:spPr>
          <a:xfrm>
            <a:off x="4889520" y="594360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 of butter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Line 7"/>
          <p:cNvSpPr/>
          <p:nvPr/>
        </p:nvSpPr>
        <p:spPr>
          <a:xfrm>
            <a:off x="4800600" y="2590920"/>
            <a:ext cx="0" cy="31240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8"/>
          <p:cNvSpPr/>
          <p:nvPr/>
        </p:nvSpPr>
        <p:spPr>
          <a:xfrm>
            <a:off x="4800600" y="5715000"/>
            <a:ext cx="4191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rc 11"/>
          <p:cNvSpPr/>
          <p:nvPr/>
        </p:nvSpPr>
        <p:spPr>
          <a:xfrm>
            <a:off x="4800600" y="2895480"/>
            <a:ext cx="4038480" cy="281952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13"/>
          <p:cNvSpPr/>
          <p:nvPr/>
        </p:nvSpPr>
        <p:spPr>
          <a:xfrm>
            <a:off x="403848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14"/>
          <p:cNvSpPr/>
          <p:nvPr/>
        </p:nvSpPr>
        <p:spPr>
          <a:xfrm>
            <a:off x="3962520" y="34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15"/>
          <p:cNvSpPr/>
          <p:nvPr/>
        </p:nvSpPr>
        <p:spPr>
          <a:xfrm>
            <a:off x="403848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16"/>
          <p:cNvSpPr/>
          <p:nvPr/>
        </p:nvSpPr>
        <p:spPr>
          <a:xfrm>
            <a:off x="5486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17"/>
          <p:cNvSpPr/>
          <p:nvPr/>
        </p:nvSpPr>
        <p:spPr>
          <a:xfrm>
            <a:off x="6629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18"/>
          <p:cNvSpPr/>
          <p:nvPr/>
        </p:nvSpPr>
        <p:spPr>
          <a:xfrm>
            <a:off x="792468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19"/>
          <p:cNvSpPr/>
          <p:nvPr/>
        </p:nvSpPr>
        <p:spPr>
          <a:xfrm>
            <a:off x="6095880" y="30481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20"/>
          <p:cNvSpPr/>
          <p:nvPr/>
        </p:nvSpPr>
        <p:spPr>
          <a:xfrm>
            <a:off x="7315200" y="35812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21"/>
          <p:cNvSpPr/>
          <p:nvPr/>
        </p:nvSpPr>
        <p:spPr>
          <a:xfrm>
            <a:off x="85345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22"/>
          <p:cNvSpPr/>
          <p:nvPr/>
        </p:nvSpPr>
        <p:spPr>
          <a:xfrm flipH="1">
            <a:off x="4800240" y="3581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23"/>
          <p:cNvSpPr/>
          <p:nvPr/>
        </p:nvSpPr>
        <p:spPr>
          <a:xfrm flipH="1">
            <a:off x="4800600" y="4648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24"/>
          <p:cNvSpPr/>
          <p:nvPr/>
        </p:nvSpPr>
        <p:spPr>
          <a:xfrm flipH="1">
            <a:off x="4800240" y="3048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25"/>
          <p:cNvSpPr/>
          <p:nvPr/>
        </p:nvSpPr>
        <p:spPr>
          <a:xfrm>
            <a:off x="8458200" y="45720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26"/>
          <p:cNvSpPr/>
          <p:nvPr/>
        </p:nvSpPr>
        <p:spPr>
          <a:xfrm>
            <a:off x="7238880" y="342900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27"/>
          <p:cNvSpPr/>
          <p:nvPr/>
        </p:nvSpPr>
        <p:spPr>
          <a:xfrm>
            <a:off x="6019920" y="29718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28"/>
          <p:cNvSpPr/>
          <p:nvPr/>
        </p:nvSpPr>
        <p:spPr>
          <a:xfrm>
            <a:off x="6095880" y="2666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29"/>
          <p:cNvSpPr/>
          <p:nvPr/>
        </p:nvSpPr>
        <p:spPr>
          <a:xfrm>
            <a:off x="731520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30"/>
          <p:cNvSpPr/>
          <p:nvPr/>
        </p:nvSpPr>
        <p:spPr>
          <a:xfrm>
            <a:off x="85345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32"/>
          <p:cNvSpPr/>
          <p:nvPr/>
        </p:nvSpPr>
        <p:spPr>
          <a:xfrm>
            <a:off x="228600" y="2590920"/>
            <a:ext cx="3276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pportunity cost greater for move from “c” to “d” compared to a move from “b” to “c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774B602-1FE5-4A2A-9811-5E3894BAD188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TextBox 3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5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228600" y="104148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produces 1000 units of butter, how many guns can it produce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society is at “b” on the PPC, what is the cost of 1000 more units of butter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2" name="Text Box 9"/>
          <p:cNvSpPr/>
          <p:nvPr/>
        </p:nvSpPr>
        <p:spPr>
          <a:xfrm rot="10800000">
            <a:off x="3809520" y="2675880"/>
            <a:ext cx="45468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Quantity of guns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10"/>
          <p:cNvSpPr/>
          <p:nvPr/>
        </p:nvSpPr>
        <p:spPr>
          <a:xfrm>
            <a:off x="4889520" y="5943600"/>
            <a:ext cx="42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 of butter per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7"/>
          <p:cNvSpPr/>
          <p:nvPr/>
        </p:nvSpPr>
        <p:spPr>
          <a:xfrm>
            <a:off x="4800600" y="2590920"/>
            <a:ext cx="0" cy="31240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8"/>
          <p:cNvSpPr/>
          <p:nvPr/>
        </p:nvSpPr>
        <p:spPr>
          <a:xfrm>
            <a:off x="4800600" y="5715000"/>
            <a:ext cx="4191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rc 11"/>
          <p:cNvSpPr/>
          <p:nvPr/>
        </p:nvSpPr>
        <p:spPr>
          <a:xfrm>
            <a:off x="4800600" y="2895480"/>
            <a:ext cx="4038480" cy="281952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13"/>
          <p:cNvSpPr/>
          <p:nvPr/>
        </p:nvSpPr>
        <p:spPr>
          <a:xfrm>
            <a:off x="4038480" y="2895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Text Box 14"/>
          <p:cNvSpPr/>
          <p:nvPr/>
        </p:nvSpPr>
        <p:spPr>
          <a:xfrm>
            <a:off x="3962520" y="3429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15"/>
          <p:cNvSpPr/>
          <p:nvPr/>
        </p:nvSpPr>
        <p:spPr>
          <a:xfrm>
            <a:off x="4038480" y="449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6"/>
          <p:cNvSpPr/>
          <p:nvPr/>
        </p:nvSpPr>
        <p:spPr>
          <a:xfrm>
            <a:off x="5486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7"/>
          <p:cNvSpPr/>
          <p:nvPr/>
        </p:nvSpPr>
        <p:spPr>
          <a:xfrm>
            <a:off x="662940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8"/>
          <p:cNvSpPr/>
          <p:nvPr/>
        </p:nvSpPr>
        <p:spPr>
          <a:xfrm>
            <a:off x="792468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19"/>
          <p:cNvSpPr/>
          <p:nvPr/>
        </p:nvSpPr>
        <p:spPr>
          <a:xfrm>
            <a:off x="6095880" y="3048120"/>
            <a:ext cx="0" cy="2666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20"/>
          <p:cNvSpPr/>
          <p:nvPr/>
        </p:nvSpPr>
        <p:spPr>
          <a:xfrm>
            <a:off x="7315200" y="35812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21"/>
          <p:cNvSpPr/>
          <p:nvPr/>
        </p:nvSpPr>
        <p:spPr>
          <a:xfrm>
            <a:off x="8534520" y="46483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22"/>
          <p:cNvSpPr/>
          <p:nvPr/>
        </p:nvSpPr>
        <p:spPr>
          <a:xfrm flipH="1">
            <a:off x="4800240" y="3581280"/>
            <a:ext cx="2514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23"/>
          <p:cNvSpPr/>
          <p:nvPr/>
        </p:nvSpPr>
        <p:spPr>
          <a:xfrm flipH="1">
            <a:off x="4800600" y="46483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24"/>
          <p:cNvSpPr/>
          <p:nvPr/>
        </p:nvSpPr>
        <p:spPr>
          <a:xfrm flipH="1">
            <a:off x="4800240" y="3048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25"/>
          <p:cNvSpPr/>
          <p:nvPr/>
        </p:nvSpPr>
        <p:spPr>
          <a:xfrm>
            <a:off x="8458200" y="45720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Oval 26"/>
          <p:cNvSpPr/>
          <p:nvPr/>
        </p:nvSpPr>
        <p:spPr>
          <a:xfrm>
            <a:off x="7238880" y="342900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27"/>
          <p:cNvSpPr/>
          <p:nvPr/>
        </p:nvSpPr>
        <p:spPr>
          <a:xfrm>
            <a:off x="6019920" y="2971800"/>
            <a:ext cx="15228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8"/>
          <p:cNvSpPr/>
          <p:nvPr/>
        </p:nvSpPr>
        <p:spPr>
          <a:xfrm>
            <a:off x="6095880" y="2666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9"/>
          <p:cNvSpPr/>
          <p:nvPr/>
        </p:nvSpPr>
        <p:spPr>
          <a:xfrm>
            <a:off x="731520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30"/>
          <p:cNvSpPr/>
          <p:nvPr/>
        </p:nvSpPr>
        <p:spPr>
          <a:xfrm>
            <a:off x="85345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2"/>
          <p:cNvSpPr/>
          <p:nvPr/>
        </p:nvSpPr>
        <p:spPr>
          <a:xfrm>
            <a:off x="228600" y="2590920"/>
            <a:ext cx="3276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pportunity cost greater for move from “c” to “d” compared to a move from “b” to “c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31"/>
          <p:cNvSpPr/>
          <p:nvPr/>
        </p:nvSpPr>
        <p:spPr>
          <a:xfrm>
            <a:off x="3149640" y="143820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00 units of gu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Box 32"/>
          <p:cNvSpPr/>
          <p:nvPr/>
        </p:nvSpPr>
        <p:spPr>
          <a:xfrm>
            <a:off x="3774960" y="2219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00 units of gu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Box 33"/>
          <p:cNvSpPr/>
          <p:nvPr/>
        </p:nvSpPr>
        <p:spPr>
          <a:xfrm>
            <a:off x="849240" y="55040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c to d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– 150 guns per 1000 units of bu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Box 34"/>
          <p:cNvSpPr/>
          <p:nvPr/>
        </p:nvSpPr>
        <p:spPr>
          <a:xfrm>
            <a:off x="838080" y="48578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b to c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– 100 guns per 1000 units of bu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7361E80-4840-4FA1-9173-15294948843F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Box 3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PC and Economic Growth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63937F6-AA9A-41DD-95BD-9FE8F3EFE8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Chart 8" descr=""/>
          <p:cNvPicPr/>
          <p:nvPr/>
        </p:nvPicPr>
        <p:blipFill>
          <a:blip r:embed="rId1"/>
          <a:stretch/>
        </p:blipFill>
        <p:spPr>
          <a:xfrm>
            <a:off x="225360" y="1566720"/>
            <a:ext cx="6108840" cy="4700880"/>
          </a:xfrm>
          <a:prstGeom prst="rect">
            <a:avLst/>
          </a:prstGeom>
          <a:ln w="0">
            <a:noFill/>
          </a:ln>
        </p:spPr>
      </p:pic>
      <p:grpSp>
        <p:nvGrpSpPr>
          <p:cNvPr id="888" name="Rounded Rectangle 9"/>
          <p:cNvGrpSpPr/>
          <p:nvPr/>
        </p:nvGrpSpPr>
        <p:grpSpPr>
          <a:xfrm>
            <a:off x="6242040" y="1773360"/>
            <a:ext cx="2541600" cy="2487600"/>
            <a:chOff x="6242040" y="1773360"/>
            <a:chExt cx="2541600" cy="2487600"/>
          </a:xfrm>
        </p:grpSpPr>
        <p:pic>
          <p:nvPicPr>
            <p:cNvPr id="889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6242040" y="1773360"/>
              <a:ext cx="254160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6421320" y="1924200"/>
              <a:ext cx="2192400" cy="21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Growth means the economy is able to produce more of every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PC and Technological Change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5476957-E03F-49F8-830C-3A22A86A34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Rounded Rectangle 9"/>
          <p:cNvGrpSpPr/>
          <p:nvPr/>
        </p:nvGrpSpPr>
        <p:grpSpPr>
          <a:xfrm>
            <a:off x="6242040" y="1773360"/>
            <a:ext cx="2670120" cy="3268440"/>
            <a:chOff x="6242040" y="1773360"/>
            <a:chExt cx="2670120" cy="3268440"/>
          </a:xfrm>
        </p:grpSpPr>
        <p:pic>
          <p:nvPicPr>
            <p:cNvPr id="896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6242040" y="1773360"/>
              <a:ext cx="2670120" cy="32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6429240" y="1932120"/>
              <a:ext cx="2292480" cy="29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mprovement in technology shifts curve to P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can produce more of either good, or more of both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8" name="Chart 10" descr=""/>
          <p:cNvPicPr/>
          <p:nvPr/>
        </p:nvPicPr>
        <p:blipFill>
          <a:blip r:embed="rId2"/>
          <a:stretch/>
        </p:blipFill>
        <p:spPr>
          <a:xfrm>
            <a:off x="-6480" y="1384200"/>
            <a:ext cx="6351840" cy="524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6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533520" y="914400"/>
          <a:ext cx="7924680" cy="170640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ies per Ye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2" name="Rectangle 32"/>
          <p:cNvSpPr/>
          <p:nvPr/>
        </p:nvSpPr>
        <p:spPr>
          <a:xfrm>
            <a:off x="382680" y="2895480"/>
            <a:ext cx="83804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a P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ools on the horizontal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assume new technology that can be used only in the tool industry is developed, which increases tool output by 5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Draw a new P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reflects this new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If Finhorn produced 12 units of tools per year, how many units of grain could be produced after the introduction of the new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29A1C5D-CA72-4979-8DD3-94E4FDB62629}" type="slidenum"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12"/>
          <p:cNvSpPr/>
          <p:nvPr/>
        </p:nvSpPr>
        <p:spPr>
          <a:xfrm>
            <a:off x="0" y="838080"/>
            <a:ext cx="9144000" cy="556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Self-Test 6 Solu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0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56500E3-ABCE-477A-B3D5-10B3A454F8A4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23"/>
          <p:cNvSpPr/>
          <p:nvPr/>
        </p:nvSpPr>
        <p:spPr>
          <a:xfrm>
            <a:off x="1373040" y="2468520"/>
            <a:ext cx="152640" cy="15228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29"/>
          <p:cNvSpPr/>
          <p:nvPr/>
        </p:nvSpPr>
        <p:spPr>
          <a:xfrm>
            <a:off x="1449360" y="21938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Group 51"/>
          <p:cNvGrpSpPr/>
          <p:nvPr/>
        </p:nvGrpSpPr>
        <p:grpSpPr>
          <a:xfrm>
            <a:off x="494280" y="1752480"/>
            <a:ext cx="7705080" cy="4635720"/>
            <a:chOff x="494280" y="1752480"/>
            <a:chExt cx="7705080" cy="4635720"/>
          </a:xfrm>
        </p:grpSpPr>
        <p:sp>
          <p:nvSpPr>
            <p:cNvPr id="912" name="Line 3"/>
            <p:cNvSpPr/>
            <p:nvPr/>
          </p:nvSpPr>
          <p:spPr>
            <a:xfrm>
              <a:off x="1449360" y="1782720"/>
              <a:ext cx="0" cy="43434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4"/>
            <p:cNvSpPr/>
            <p:nvPr/>
          </p:nvSpPr>
          <p:spPr>
            <a:xfrm>
              <a:off x="1449360" y="6126120"/>
              <a:ext cx="5486400" cy="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Text Box 5"/>
            <p:cNvSpPr/>
            <p:nvPr/>
          </p:nvSpPr>
          <p:spPr>
            <a:xfrm>
              <a:off x="494280" y="175248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Text Box 6"/>
            <p:cNvSpPr/>
            <p:nvPr/>
          </p:nvSpPr>
          <p:spPr>
            <a:xfrm>
              <a:off x="7407360" y="60199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Text Box 37"/>
          <p:cNvSpPr/>
          <p:nvPr/>
        </p:nvSpPr>
        <p:spPr>
          <a:xfrm>
            <a:off x="914400" y="23367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40"/>
          <p:cNvSpPr/>
          <p:nvPr/>
        </p:nvSpPr>
        <p:spPr>
          <a:xfrm>
            <a:off x="914400" y="3048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41"/>
          <p:cNvSpPr/>
          <p:nvPr/>
        </p:nvSpPr>
        <p:spPr>
          <a:xfrm>
            <a:off x="914400" y="4114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Group 81"/>
          <p:cNvGrpSpPr/>
          <p:nvPr/>
        </p:nvGrpSpPr>
        <p:grpSpPr>
          <a:xfrm>
            <a:off x="4800600" y="5775480"/>
            <a:ext cx="457200" cy="396720"/>
            <a:chOff x="4800600" y="5775480"/>
            <a:chExt cx="457200" cy="396720"/>
          </a:xfrm>
        </p:grpSpPr>
        <p:sp>
          <p:nvSpPr>
            <p:cNvPr id="920" name="Oval 24"/>
            <p:cNvSpPr/>
            <p:nvPr/>
          </p:nvSpPr>
          <p:spPr>
            <a:xfrm>
              <a:off x="4800600" y="601992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44"/>
            <p:cNvSpPr/>
            <p:nvPr/>
          </p:nvSpPr>
          <p:spPr>
            <a:xfrm>
              <a:off x="4952880" y="5775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Text Box 46"/>
          <p:cNvSpPr/>
          <p:nvPr/>
        </p:nvSpPr>
        <p:spPr>
          <a:xfrm>
            <a:off x="228600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48"/>
          <p:cNvSpPr/>
          <p:nvPr/>
        </p:nvSpPr>
        <p:spPr>
          <a:xfrm>
            <a:off x="350532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49"/>
          <p:cNvSpPr/>
          <p:nvPr/>
        </p:nvSpPr>
        <p:spPr>
          <a:xfrm>
            <a:off x="45720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Group 79"/>
          <p:cNvGrpSpPr/>
          <p:nvPr/>
        </p:nvGrpSpPr>
        <p:grpSpPr>
          <a:xfrm>
            <a:off x="2438280" y="3032280"/>
            <a:ext cx="457200" cy="368280"/>
            <a:chOff x="2438280" y="3032280"/>
            <a:chExt cx="457200" cy="368280"/>
          </a:xfrm>
        </p:grpSpPr>
        <p:sp>
          <p:nvSpPr>
            <p:cNvPr id="926" name="Oval 16"/>
            <p:cNvSpPr/>
            <p:nvPr/>
          </p:nvSpPr>
          <p:spPr>
            <a:xfrm>
              <a:off x="2438280" y="320040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30"/>
            <p:cNvSpPr/>
            <p:nvPr/>
          </p:nvSpPr>
          <p:spPr>
            <a:xfrm>
              <a:off x="2514240" y="30322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Text Box 49"/>
          <p:cNvSpPr/>
          <p:nvPr/>
        </p:nvSpPr>
        <p:spPr>
          <a:xfrm>
            <a:off x="563868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49"/>
          <p:cNvSpPr/>
          <p:nvPr/>
        </p:nvSpPr>
        <p:spPr>
          <a:xfrm>
            <a:off x="67057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80"/>
          <p:cNvGrpSpPr/>
          <p:nvPr/>
        </p:nvGrpSpPr>
        <p:grpSpPr>
          <a:xfrm>
            <a:off x="3657600" y="4022640"/>
            <a:ext cx="380880" cy="397080"/>
            <a:chOff x="3657600" y="4022640"/>
            <a:chExt cx="380880" cy="397080"/>
          </a:xfrm>
        </p:grpSpPr>
        <p:sp>
          <p:nvSpPr>
            <p:cNvPr id="931" name="Text Box 31"/>
            <p:cNvSpPr/>
            <p:nvPr/>
          </p:nvSpPr>
          <p:spPr>
            <a:xfrm>
              <a:off x="3733560" y="4022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Oval 26"/>
            <p:cNvSpPr/>
            <p:nvPr/>
          </p:nvSpPr>
          <p:spPr>
            <a:xfrm>
              <a:off x="3657600" y="426744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Group 82"/>
          <p:cNvGrpSpPr/>
          <p:nvPr/>
        </p:nvGrpSpPr>
        <p:grpSpPr>
          <a:xfrm>
            <a:off x="3035160" y="2984400"/>
            <a:ext cx="622440" cy="397080"/>
            <a:chOff x="3035160" y="2984400"/>
            <a:chExt cx="622440" cy="397080"/>
          </a:xfrm>
        </p:grpSpPr>
        <p:sp>
          <p:nvSpPr>
            <p:cNvPr id="934" name="Oval 16"/>
            <p:cNvSpPr/>
            <p:nvPr/>
          </p:nvSpPr>
          <p:spPr>
            <a:xfrm>
              <a:off x="3035160" y="322920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Text Box 30"/>
            <p:cNvSpPr/>
            <p:nvPr/>
          </p:nvSpPr>
          <p:spPr>
            <a:xfrm>
              <a:off x="3111120" y="298440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Group 83"/>
          <p:cNvGrpSpPr/>
          <p:nvPr/>
        </p:nvGrpSpPr>
        <p:grpSpPr>
          <a:xfrm>
            <a:off x="4800600" y="4038480"/>
            <a:ext cx="685800" cy="380880"/>
            <a:chOff x="4800600" y="4038480"/>
            <a:chExt cx="685800" cy="380880"/>
          </a:xfrm>
        </p:grpSpPr>
        <p:sp>
          <p:nvSpPr>
            <p:cNvPr id="937" name="Oval 26"/>
            <p:cNvSpPr/>
            <p:nvPr/>
          </p:nvSpPr>
          <p:spPr>
            <a:xfrm>
              <a:off x="4800600" y="426708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31"/>
            <p:cNvSpPr/>
            <p:nvPr/>
          </p:nvSpPr>
          <p:spPr>
            <a:xfrm>
              <a:off x="4952880" y="40384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Group 84"/>
          <p:cNvGrpSpPr/>
          <p:nvPr/>
        </p:nvGrpSpPr>
        <p:grpSpPr>
          <a:xfrm>
            <a:off x="6858000" y="5778360"/>
            <a:ext cx="685800" cy="393840"/>
            <a:chOff x="6858000" y="5778360"/>
            <a:chExt cx="685800" cy="393840"/>
          </a:xfrm>
        </p:grpSpPr>
        <p:sp>
          <p:nvSpPr>
            <p:cNvPr id="940" name="Oval 26"/>
            <p:cNvSpPr/>
            <p:nvPr/>
          </p:nvSpPr>
          <p:spPr>
            <a:xfrm>
              <a:off x="6858000" y="6019920"/>
              <a:ext cx="152280" cy="152280"/>
            </a:xfrm>
            <a:prstGeom prst="ellipse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Text Box 44"/>
            <p:cNvSpPr/>
            <p:nvPr/>
          </p:nvSpPr>
          <p:spPr>
            <a:xfrm>
              <a:off x="6933960" y="57783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Group 85"/>
          <p:cNvGrpSpPr/>
          <p:nvPr/>
        </p:nvGrpSpPr>
        <p:grpSpPr>
          <a:xfrm>
            <a:off x="1486080" y="2540160"/>
            <a:ext cx="5460840" cy="3555720"/>
            <a:chOff x="1486080" y="2540160"/>
            <a:chExt cx="5460840" cy="3555720"/>
          </a:xfrm>
        </p:grpSpPr>
        <p:sp>
          <p:nvSpPr>
            <p:cNvPr id="943" name="Freeform 77"/>
            <p:cNvSpPr/>
            <p:nvPr/>
          </p:nvSpPr>
          <p:spPr>
            <a:xfrm>
              <a:off x="1486080" y="2540160"/>
              <a:ext cx="5460840" cy="3555720"/>
            </a:xfrm>
            <a:custGeom>
              <a:avLst/>
              <a:gdLst>
                <a:gd name="textAreaLeft" fmla="*/ 0 w 5460840"/>
                <a:gd name="textAreaRight" fmla="*/ 5460840 w 5460840"/>
                <a:gd name="textAreaTop" fmla="*/ 0 h 3555720"/>
                <a:gd name="textAreaBottom" fmla="*/ 3556080 h 3555720"/>
              </a:gdLst>
              <a:ahLst/>
              <a:rect l="textAreaLeft" t="textAreaTop" r="textAreaRight" b="textAreaBottom"/>
              <a:pathLst>
                <a:path w="5461000" h="3556000">
                  <a:moveTo>
                    <a:pt x="0" y="0"/>
                  </a:moveTo>
                  <a:cubicBezTo>
                    <a:pt x="536575" y="236008"/>
                    <a:pt x="1073150" y="472017"/>
                    <a:pt x="1638300" y="774700"/>
                  </a:cubicBezTo>
                  <a:cubicBezTo>
                    <a:pt x="2203450" y="1077383"/>
                    <a:pt x="2753783" y="1352550"/>
                    <a:pt x="3390900" y="1816100"/>
                  </a:cubicBezTo>
                  <a:cubicBezTo>
                    <a:pt x="4028017" y="2279650"/>
                    <a:pt x="4744508" y="2917825"/>
                    <a:pt x="5461000" y="3556000"/>
                  </a:cubicBezTo>
                </a:path>
              </a:pathLst>
            </a:custGeom>
            <a:noFill/>
            <a:ln w="507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Text Box 44"/>
            <p:cNvSpPr/>
            <p:nvPr/>
          </p:nvSpPr>
          <p:spPr>
            <a:xfrm>
              <a:off x="5791320" y="47242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79646"/>
                  </a:solidFill>
                  <a:latin typeface="Arial"/>
                </a:rPr>
                <a:t>PP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Freeform 70"/>
          <p:cNvSpPr/>
          <p:nvPr/>
        </p:nvSpPr>
        <p:spPr>
          <a:xfrm>
            <a:off x="1486080" y="2540160"/>
            <a:ext cx="3403440" cy="3581280"/>
          </a:xfrm>
          <a:custGeom>
            <a:avLst/>
            <a:gdLst/>
            <a:ahLst/>
            <a:rect l="l" t="t" r="r" b="b"/>
            <a:pathLst>
              <a:path w="3403600" h="3581400">
                <a:moveTo>
                  <a:pt x="0" y="0"/>
                </a:moveTo>
                <a:cubicBezTo>
                  <a:pt x="333375" y="218016"/>
                  <a:pt x="666750" y="436033"/>
                  <a:pt x="1041400" y="736600"/>
                </a:cubicBezTo>
                <a:cubicBezTo>
                  <a:pt x="1416050" y="1037167"/>
                  <a:pt x="1854200" y="1329267"/>
                  <a:pt x="2247900" y="1803400"/>
                </a:cubicBezTo>
                <a:cubicBezTo>
                  <a:pt x="2641600" y="2277533"/>
                  <a:pt x="3022600" y="2929466"/>
                  <a:pt x="3403600" y="3581400"/>
                </a:cubicBezTo>
              </a:path>
            </a:pathLst>
          </a:custGeom>
          <a:noFill/>
          <a:ln w="507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Box 86"/>
          <p:cNvSpPr/>
          <p:nvPr/>
        </p:nvSpPr>
        <p:spPr>
          <a:xfrm>
            <a:off x="925560" y="1193760"/>
            <a:ext cx="76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echnology allows 50% increase in tool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Group 94"/>
          <p:cNvGrpSpPr/>
          <p:nvPr/>
        </p:nvGrpSpPr>
        <p:grpSpPr>
          <a:xfrm>
            <a:off x="1523880" y="4343040"/>
            <a:ext cx="3354480" cy="1676880"/>
            <a:chOff x="1523880" y="4343040"/>
            <a:chExt cx="3354480" cy="1676880"/>
          </a:xfrm>
        </p:grpSpPr>
        <p:sp>
          <p:nvSpPr>
            <p:cNvPr id="948" name="Straight Connector 88"/>
            <p:cNvSpPr/>
            <p:nvPr/>
          </p:nvSpPr>
          <p:spPr>
            <a:xfrm>
              <a:off x="4876920" y="4356000"/>
              <a:ext cx="1440" cy="1663920"/>
            </a:xfrm>
            <a:prstGeom prst="line">
              <a:avLst/>
            </a:prstGeom>
            <a:ln w="284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Straight Connector 93"/>
            <p:cNvSpPr/>
            <p:nvPr/>
          </p:nvSpPr>
          <p:spPr>
            <a:xfrm flipH="1" flipV="1">
              <a:off x="1523880" y="4343040"/>
              <a:ext cx="3353040" cy="12600"/>
            </a:xfrm>
            <a:prstGeom prst="line">
              <a:avLst/>
            </a:prstGeom>
            <a:ln w="2844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Box 4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Macroeconomic Goals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574560" y="1711080"/>
            <a:ext cx="811224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mproved standard of living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conomic growth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ll employm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ble pric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iable balance of international trad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quitable distribution of incom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nageable government debt &amp; defici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828800" indent="-514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6DBDAF4-043F-4332-8FD3-20842EB5AC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95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1EBCEA5-2D7E-4B42-93AC-D313595D2E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nderstand why economics is such a relevant discipline in our society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earn a definition of economics and distinction between micro and macro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ppreciate that groups of people can have differing underlying value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ealize that scarcity, choice and opportunity cost are at the heart of economic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Understand why greater trade results in economies being more productive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96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EB5BED3-60F9-4797-A354-DCA910E8A3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lain the three fundamental questions that all societies must addres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derstand the four different ways that economies can be organized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Use the production possibilities model to illustrate opportunity cost, efficiency, and unemploy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List the economic goals of society and understand why they are often difficult to achieve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The Economic Problem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2935440"/>
            <a:ext cx="8528040" cy="33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LO7:  List the economic goals of society and explain why they are often difficult to achie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A3D0396-D02D-4159-9823-15B0C513AD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Relevance of Economic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ontroversies: </a:t>
            </a:r>
            <a:br>
              <a:rPr sz="3200"/>
            </a:b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c growth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ome redistribu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ad pricing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lob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vision of health car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rbon trading syste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16BCC36-6D00-434C-9428-891A335786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ositive Statemen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verified with empirical data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Normative Statem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d on a person’s beliefs or value system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not be verified with data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73ACDA0-5373-42A2-91A5-72F38E516A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74F6EDC-C7F8-4795-86BE-A0525D60C0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each of the following statements as either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itive (P) or normative (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ederal government’s budget this year is the largest in hi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ational debt is at a manageable level and therefore is nothing to worry abou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gasoline is higher than it needs to 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Rising Canadian exports are creating many new jobs in the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056ED84-1DF1-47F8-AFCC-2A97F96C8F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457200" y="1297080"/>
            <a:ext cx="8458200" cy="51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each of the following statements as either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itive (P) or normative (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federal government’s budget this year is the largest in hi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ational debt is at a manageable level and therefore is nothing to worry abou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price of gasoline is higher than it needs to 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Rising Canadian exports are creating many new jobs in the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8"/>
          <p:cNvSpPr/>
          <p:nvPr/>
        </p:nvSpPr>
        <p:spPr>
          <a:xfrm>
            <a:off x="4724280" y="2817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Box 9"/>
          <p:cNvSpPr/>
          <p:nvPr/>
        </p:nvSpPr>
        <p:spPr>
          <a:xfrm>
            <a:off x="7885800" y="3767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Box 10"/>
          <p:cNvSpPr/>
          <p:nvPr/>
        </p:nvSpPr>
        <p:spPr>
          <a:xfrm>
            <a:off x="2186640" y="4672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11"/>
          <p:cNvSpPr/>
          <p:nvPr/>
        </p:nvSpPr>
        <p:spPr>
          <a:xfrm>
            <a:off x="5280480" y="56275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What is Economics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c Theor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oks at how positive statements are rela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s the </a:t>
            </a:r>
            <a:r>
              <a:rPr b="1" i="1" lang="en-US" sz="2800" spc="-1" strike="noStrike">
                <a:solidFill>
                  <a:srgbClr val="595959"/>
                </a:solidFill>
                <a:latin typeface="Times New Roman"/>
              </a:rPr>
              <a:t>scientific metho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 up a hypothe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ine terms, state assumption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ather data to test hypothesi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ept, reject, or modify theor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03CB849-8BA7-4B9D-B679-1AA11C9BD9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4:50Z</dcterms:modified>
  <cp:revision>225</cp:revision>
  <dc:subject/>
  <dc:title>Slide 1</dc:title>
</cp:coreProperties>
</file>