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3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7.png" ContentType="image/png"/>
  <Override PartName="/ppt/media/image1.jpeg" ContentType="image/jpeg"/>
  <Override PartName="/ppt/media/image6.wmf" ContentType="image/x-wmf"/>
  <Override PartName="/ppt/media/image11.png" ContentType="image/png"/>
  <Override PartName="/ppt/media/image22.png" ContentType="image/png"/>
  <Override PartName="/ppt/media/image4.wmf" ContentType="image/x-wmf"/>
  <Override PartName="/ppt/media/image5.wmf" ContentType="image/x-wmf"/>
  <Override PartName="/ppt/media/image10.png" ContentType="image/png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dt" idx="2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ftr" idx="3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 type="sldNum" idx="3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8756-05A0-438E-B2CF-7F34902CFA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F136-47BD-4C9F-AFC4-418E3BB1C5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702E-E3D8-4621-927D-F1041FEA21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0776-BD92-4ACD-9D4E-1185160A8A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40E6-844D-496B-BED8-479DEFDC07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75A9-2B22-4FEA-9EB6-22E33D1810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75B6-F708-4049-9E72-A4B89A293B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25F5-FB2F-4E72-9071-96A9253632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1935-1CF6-4FFE-9901-D559236334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CB83-2ED2-41C4-B40A-365CD24AEE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7ABF-5525-494B-9DC6-8BBF49CE78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9450-8604-4CBD-A58F-50E351D88C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0697-6A3D-4C84-8723-B0C9241C86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C06F-5538-4B7C-B9A0-53CE5110CD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08FA-2498-4BFF-B684-87C672D2B3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C2E7-C17B-4C3C-A2BD-C2C161D57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B374-EBD5-4D9E-8D1C-566FE26C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CFA838-6055-4001-ACB6-17CA551A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AB2FFE-86E5-42D2-85BC-7812D9AC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54C0B0-D04A-4F09-8060-5B44DB91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BFB095-B919-483E-B263-9C49E827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08F73A-B4AD-41A4-B808-898EFE8E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A842F1-AF0E-48C6-ABB8-A4CC5546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28456B-49BD-4E04-89D0-E305514C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0F1603-9A5D-41C2-BCB8-6BEE8AFED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77BC64-149F-4E92-81F8-3518D5C27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8794FC-FCD3-48CE-A5F3-C88B5CBF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3071-04F6-4B9D-A6B3-79CF22AD7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BA81C2-23BB-4A56-8029-14DA5689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D81318-B271-4FD8-82EB-618BD904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6A6A7A-D214-4395-9037-4A6DF462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211E70-4D19-45F2-AED7-D8F7101D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12307B-E30D-4279-9826-ADB4423A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35FC13-B774-443D-8459-F21AC09D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D623EA-7E26-46C7-BC28-CB40913A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0A36F4-270D-471F-BCDA-57E9D341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69ACDA-C4BC-43DE-A6E7-9196E816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415A0A-DBA1-485A-93A5-05C0FBC69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6D01-4DF4-468A-8313-6D730AF8D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331883-F73C-4227-A2F7-2C39C240D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25A26-51E3-4700-85CC-1285ED587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67D6-DD8C-4140-8BCD-345B1738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3DEF-F60B-40DC-91AB-253E646D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466F-8A41-4FA5-B3FD-63E00A5A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C5BD-0618-4E89-A92C-FDCF3642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A660-772E-4E51-AADC-19EF9A9C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D5B2-A004-47F9-90D6-D3065370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243B-DC66-41F3-B91A-5F527AFF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9285-5E7A-45F9-80D4-E36B4924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9AAC-77DB-4B03-86E3-E0322DBD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9039-D35F-460D-8650-A696779B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2B99-BF18-4CB8-B2A7-346A9DF95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73F0-700F-42D4-917B-2C708AC07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0E7DE-91A8-4C1C-A0AA-19127C280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E0520-3D55-47A7-B2EE-7A9142A1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09B9A-2FAD-4ABA-B73F-9335CF26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6D33B-CB43-4F03-87AB-81D64D5C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14D6B-E7AB-4F93-AE30-614AD38F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3EA5-0396-4F50-AF05-5342AC9E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F1CA3-A3AF-41F8-9B94-66CA4855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39771-EFA8-47AE-826F-0EF013F8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6A934-1ADC-4EA8-B4D1-157CD3A3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1315D-A677-4EFB-85C3-01C431D5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00A7E-7CF5-47A0-9F7E-9B60A092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7477B-8496-4454-B929-77B5213FC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08375-7817-41D7-8E78-D14D46DE7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FB8F0-5B8D-45B3-AB1A-2CCC71D76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81060-4459-4E5B-A0A8-77E46015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50863-D233-4F47-ABE4-DEC326BD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5C3C-C04F-4A5F-8B13-FD0C8B9C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82C9A-1935-40BF-A029-28688907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7506E-4750-4694-AC57-EFA82965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FAAA8-9127-499E-82AF-180A4C99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F3877-688C-4C8C-82EB-417D73CE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2F354-6F1B-40F5-85B4-4C9BB036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79E8A-5DE5-47F2-BF8A-282C7B38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18F4D-AC4C-45DF-A8D5-1D5C385E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EBA72-D24E-4C77-B053-279CEF94F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2C9C3-BA48-45E1-BBF6-3A9C4E10B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F62C3-0435-47F3-A430-4CEE3CE61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1C8B-8944-4E9E-AAD3-B1A5D926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0293A-EF8F-4F6E-A159-C032C9E1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D75B8-31E6-482E-B727-43F29000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E17CE-9B02-4EC6-87CF-5E4080A3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E68B2-F3F5-4B2F-93CC-39CC1017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751F0-0354-47F5-B770-0864F57A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A3657-6143-4389-8B4A-8EDC86F0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D39DF-7896-4A5C-BD24-041BF1EA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1F316-CB20-40C6-93C5-6355017B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35C79-2600-4588-B8C5-C6FBECD7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FAAE6-24D2-451A-BC58-559DA37C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3430-9BA7-493E-A94C-96A0D622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6B118-F9B2-4F8F-A1DB-2EFDD238C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FCA613-373E-4A69-9759-932D5D20A62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C959BE-721B-4267-AAEB-6031DAA82CB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C4F88E-9F4C-405C-BA4F-0C183AECA91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6D3729-8D25-4258-8023-607C9D46159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5EA3C0-030A-48DD-98BA-952FF0B90F1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C48D33-BF36-4A4C-B9EC-56813731ABD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753A9B-C153-49A0-8A30-C30821C7BB8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D8C1EF-7650-4160-AB50-AF378EFE6C8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5BEC99-3BDF-4C81-88C6-58B4D40C5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A575-CDC0-4DEB-A0DB-06251D02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E14BB3-EB5B-4CD2-B61E-6EAB54764BC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4CF3E5-70D6-4DF9-BD15-E3DF3DD1EAE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6D2C0B-0ACE-4F10-8B1C-437580F9F88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DAF647-560E-4414-B787-F239A88397D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78D627-2B90-4380-B1F9-77B3C53AE72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68F3B3-A6DF-4F36-B12A-DEF69193EC5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E4FBB3-C642-4E4A-937B-8BDADB84980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C4C3E5-EC3A-4ABB-97FB-8FE004B8B27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5754B1-D164-48BD-8194-CEED9CB5527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EE9ED0-B861-4ECE-A6B5-81B3CC9E4C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CC79-07BE-4422-9D37-0444937B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FADEF3-3BA2-42A3-9E4D-26D8AB6040E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BB0231-68E8-4DF5-ABEF-1E1B697F11B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8C687C-A1EF-4B75-9096-62EA452B02B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CEF8EA-024A-4938-A8C4-10CBD8F9D2C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4243B1-F39E-411A-9C50-310996DACB4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A18A14-5B0F-4029-89C1-CE3965A8C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9189E0-2898-4719-962E-6238B80D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0C496D-E93D-4277-A913-732A5BD2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D5CD29-FF4F-40DF-A0A5-DC07AD03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F5911E-CF75-4EEF-8BDE-D7E7961C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EE04-D307-4955-B47B-B88E711D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9B193B-8F37-43F2-860A-CA1638C1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AB8F3A-5161-460C-BE9A-5C5964FE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8FAC4C-5D42-4134-A7C7-7F741CD2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4E82AD-171C-4F36-8C15-A489A0DA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9196CA-6E26-4104-A166-7B1207E5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136A4E-8A85-480F-BA32-EA141C14A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E3E6A3-3F87-4142-B0B5-27A9DB0F6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4EE904-7B89-43B6-A8AD-1B5FACCB5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CB816B-9EA4-4921-AE2A-174FDAF7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F7F651-5DC7-48F9-BF7C-CFC1D078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52F68EE8-D26B-4989-8ADD-2FBFF2BA8C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468360" y="239220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arning Objec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2C8D1627-6CDE-4423-B11E-E023D4FE85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5F10BB3D-55F1-4BC4-AB21-18F7883DD5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77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67F827F9-131A-4276-96A2-46906F9779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66C5C96-576B-4B01-9F1D-486AB1A88A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6A88748B-B382-489E-BBA2-BD2135ECC9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E55136FB-1C7B-4CB0-A60F-6E9C41B62D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A0ABED02-E121-44DE-A287-DA881162E7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Elasticity </a:t>
            </a:r>
            <a:endParaRPr b="0" lang="en-US" sz="4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4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AF5C18E3-DB93-4D5F-AA2B-D5779122B6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elasticity coefficients for each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1517760" y="1300320"/>
          <a:ext cx="6168960" cy="1523880"/>
        </p:xfrm>
        <a:graphic>
          <a:graphicData uri="http://schemas.openxmlformats.org/drawingml/2006/table">
            <a:tbl>
              <a:tblPr/>
              <a:tblGrid>
                <a:gridCol w="2195280"/>
                <a:gridCol w="1898640"/>
                <a:gridCol w="2075040"/>
              </a:tblGrid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7" name="TextBox 14"/>
          <p:cNvSpPr/>
          <p:nvPr/>
        </p:nvSpPr>
        <p:spPr>
          <a:xfrm>
            <a:off x="822960" y="3625920"/>
            <a:ext cx="806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Set I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5.67.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ε =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(2–1) x10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(9 – 8) x 100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=  66.66%/11.7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1.5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              8.5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Box 8"/>
          <p:cNvSpPr/>
          <p:nvPr/>
        </p:nvSpPr>
        <p:spPr>
          <a:xfrm>
            <a:off x="816120" y="4500720"/>
            <a:ext cx="806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Set II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18.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ε =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(9–8) x10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(2 – 1) x 100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=  11.76%/66.6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8.5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          1.5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2E07BD3E-56CF-446B-B320-A05F15AEA5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ach set the change in price is $1 and the change in quantity is 1 unit. Why aren’t the coefficients the sam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1517760" y="1300320"/>
          <a:ext cx="6168960" cy="1523880"/>
        </p:xfrm>
        <a:graphic>
          <a:graphicData uri="http://schemas.openxmlformats.org/drawingml/2006/table">
            <a:tbl>
              <a:tblPr/>
              <a:tblGrid>
                <a:gridCol w="2195280"/>
                <a:gridCol w="1898640"/>
                <a:gridCol w="2075040"/>
              </a:tblGrid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5" name="TextBox 8"/>
          <p:cNvSpPr/>
          <p:nvPr/>
        </p:nvSpPr>
        <p:spPr>
          <a:xfrm>
            <a:off x="795240" y="3884760"/>
            <a:ext cx="801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hey are not the same because the $1 change in price is a small % change in Set 1, but a big % change in Set 2.  Similarly, 1 unit is a big % change in Set 1, but a small % change in Set 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lasticity and Total Revenu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B5AF3E76-C8A5-41C8-BA38-C0A2796C80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423800"/>
            <a:ext cx="822960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demand is elastic, an increase in price will decrease revenu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 demand is inelastic, an increase in price will increase revenue 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649440" y="3430440"/>
          <a:ext cx="7867440" cy="2230560"/>
        </p:xfrm>
        <a:graphic>
          <a:graphicData uri="http://schemas.openxmlformats.org/drawingml/2006/table">
            <a:tbl>
              <a:tblPr/>
              <a:tblGrid>
                <a:gridCol w="1106280"/>
                <a:gridCol w="1125720"/>
                <a:gridCol w="1701720"/>
                <a:gridCol w="982440"/>
                <a:gridCol w="1106640"/>
                <a:gridCol w="1844640"/>
              </a:tblGrid>
              <a:tr h="546120"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couver to Edmo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couver to Calg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Revenue: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a08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Revenue: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a08">
                        <a:alpha val="44000"/>
                      </a:srgbClr>
                    </a:solidFill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b0f0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b0f0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8ada08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8ada08">
                        <a:alpha val="44000"/>
                      </a:srgbClr>
                    </a:solidFill>
                  </a:tcPr>
                </a:tc>
              </a:tr>
              <a:tr h="560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a08">
                        <a:alpha val="44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2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a08">
                        <a:alpha val="44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12" name="Right Brace 12"/>
          <p:cNvSpPr/>
          <p:nvPr/>
        </p:nvSpPr>
        <p:spPr>
          <a:xfrm rot="5400000">
            <a:off x="2449800" y="3991680"/>
            <a:ext cx="351000" cy="3870360"/>
          </a:xfrm>
          <a:custGeom>
            <a:avLst/>
            <a:gdLst>
              <a:gd name="textAreaLeft" fmla="*/ 0 w 351000"/>
              <a:gd name="textAreaRight" fmla="*/ 126720 w 351000"/>
              <a:gd name="textAreaTop" fmla="*/ 9000 h 3870360"/>
              <a:gd name="textAreaBottom" fmla="*/ 3861360 h 387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2"/>
                  <a:pt x="10800" y="163"/>
                </a:cubicBezTo>
                <a:lnTo>
                  <a:pt x="10800" y="10637"/>
                </a:lnTo>
                <a:cubicBezTo>
                  <a:pt x="10800" y="10719"/>
                  <a:pt x="16200" y="10800"/>
                  <a:pt x="21600" y="10800"/>
                </a:cubicBezTo>
                <a:cubicBezTo>
                  <a:pt x="16200" y="10800"/>
                  <a:pt x="10800" y="10882"/>
                  <a:pt x="10800" y="10963"/>
                </a:cubicBezTo>
                <a:lnTo>
                  <a:pt x="10800" y="21437"/>
                </a:lnTo>
                <a:cubicBezTo>
                  <a:pt x="10800" y="21519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Box 13"/>
          <p:cNvSpPr/>
          <p:nvPr/>
        </p:nvSpPr>
        <p:spPr>
          <a:xfrm>
            <a:off x="1898640" y="6039000"/>
            <a:ext cx="140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ight Brace 14"/>
          <p:cNvSpPr/>
          <p:nvPr/>
        </p:nvSpPr>
        <p:spPr>
          <a:xfrm rot="5400000">
            <a:off x="6359760" y="3993120"/>
            <a:ext cx="350640" cy="3870360"/>
          </a:xfrm>
          <a:custGeom>
            <a:avLst/>
            <a:gdLst>
              <a:gd name="textAreaLeft" fmla="*/ 0 w 350640"/>
              <a:gd name="textAreaRight" fmla="*/ 126720 w 350640"/>
              <a:gd name="textAreaTop" fmla="*/ 9000 h 3870360"/>
              <a:gd name="textAreaBottom" fmla="*/ 3861360 h 387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2"/>
                  <a:pt x="10800" y="163"/>
                </a:cubicBezTo>
                <a:lnTo>
                  <a:pt x="10800" y="10637"/>
                </a:lnTo>
                <a:cubicBezTo>
                  <a:pt x="10800" y="10719"/>
                  <a:pt x="16200" y="10800"/>
                  <a:pt x="21600" y="10800"/>
                </a:cubicBezTo>
                <a:cubicBezTo>
                  <a:pt x="16200" y="10800"/>
                  <a:pt x="10800" y="10882"/>
                  <a:pt x="10800" y="10963"/>
                </a:cubicBezTo>
                <a:lnTo>
                  <a:pt x="10800" y="21437"/>
                </a:lnTo>
                <a:cubicBezTo>
                  <a:pt x="10800" y="21519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5"/>
          <p:cNvSpPr/>
          <p:nvPr/>
        </p:nvSpPr>
        <p:spPr>
          <a:xfrm>
            <a:off x="6005880" y="602136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lasticity and Total Revenu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563400" y="2019240"/>
          <a:ext cx="7974000" cy="3538440"/>
        </p:xfrm>
        <a:graphic>
          <a:graphicData uri="http://schemas.openxmlformats.org/drawingml/2006/table">
            <a:tbl>
              <a:tblPr/>
              <a:tblGrid>
                <a:gridCol w="2838600"/>
                <a:gridCol w="2328840"/>
                <a:gridCol w="2806560"/>
              </a:tblGrid>
              <a:tr h="73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 Demand 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d Price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en Total Revenue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46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elastic (&lt;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6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elastic (&lt;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66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astic (&gt;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6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astic (&gt;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6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ary elastic (=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ys the s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66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ary elastic (=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ys the s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5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F84F3436-BA79-43F8-9B2D-BA82927BCE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95CF543B-D121-473B-A30A-7751CE0483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ould happen to total revenue in each of the circumstances below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 and price fall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1 and price rises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1 and price fal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 and price rises 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and price ri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AD494A1A-384E-466C-BD48-D9C3125DE4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ould happen to total revenue in each of the circumstances below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 and price fall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1 and price rises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1 and price fal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 and price rises 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and price ri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Box 9"/>
          <p:cNvSpPr/>
          <p:nvPr/>
        </p:nvSpPr>
        <p:spPr>
          <a:xfrm>
            <a:off x="1185120" y="31892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R rises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Box 8"/>
          <p:cNvSpPr/>
          <p:nvPr/>
        </p:nvSpPr>
        <p:spPr>
          <a:xfrm>
            <a:off x="4718880" y="31719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R rises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Box 10"/>
          <p:cNvSpPr/>
          <p:nvPr/>
        </p:nvSpPr>
        <p:spPr>
          <a:xfrm>
            <a:off x="1181880" y="43340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R falls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Box 11"/>
          <p:cNvSpPr/>
          <p:nvPr/>
        </p:nvSpPr>
        <p:spPr>
          <a:xfrm>
            <a:off x="4736520" y="43387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R falls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Box 13"/>
          <p:cNvSpPr/>
          <p:nvPr/>
        </p:nvSpPr>
        <p:spPr>
          <a:xfrm>
            <a:off x="1196280" y="54547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No change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lasticity and Slop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F0D0256D-0D1E-4E4E-A721-CC9213001A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lop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ise over ru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lasticity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ercentage change in quantity over percentage change in price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5B215678-453B-4F2C-B6E3-88E4525486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Picture 3" descr="Fig4_1.bmp"/>
          <p:cNvPicPr/>
          <p:nvPr/>
        </p:nvPicPr>
        <p:blipFill>
          <a:blip r:embed="rId1"/>
          <a:stretch/>
        </p:blipFill>
        <p:spPr>
          <a:xfrm>
            <a:off x="0" y="0"/>
            <a:ext cx="744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2B810AA5-77C2-46F5-AA1C-811B6BB33E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Picture 4" descr="Fig4_2.bmp"/>
          <p:cNvPicPr/>
          <p:nvPr/>
        </p:nvPicPr>
        <p:blipFill>
          <a:blip r:embed="rId1"/>
          <a:stretch/>
        </p:blipFill>
        <p:spPr>
          <a:xfrm>
            <a:off x="0" y="0"/>
            <a:ext cx="877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35CC6206-2721-48CA-BB73-F6B0642549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457200" y="1457280"/>
            <a:ext cx="845820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a demand curve using the data from the demand schedule (make each square on both axes equal to 2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slope of this demand curv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ould you demonstrate that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asticity of demand was not the same 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lo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6078600" y="2338560"/>
          <a:ext cx="2576520" cy="3498840"/>
        </p:xfrm>
        <a:graphic>
          <a:graphicData uri="http://schemas.openxmlformats.org/drawingml/2006/table">
            <a:tbl>
              <a:tblPr/>
              <a:tblGrid>
                <a:gridCol w="1130400"/>
                <a:gridCol w="1446120"/>
              </a:tblGrid>
              <a:tr h="35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Elasticity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2944800"/>
            <a:ext cx="838188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1:  Understand the concept and calculate price elasticity of demand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2:  Understand the relationship between the slope of a demand curve and elasticity and how this affects the total revenue of the producer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3:  Understand the determinants of price elasticity of demand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4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5D069751-B3F2-4764-9C65-197DE853C8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371B4B0F-C8E9-4327-A23F-C4A2D194B0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457200" y="1457280"/>
            <a:ext cx="845820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a demand curve using the data from the demand schedule (make each square on both axes equal to 2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6078600" y="2338560"/>
          <a:ext cx="2576520" cy="3498840"/>
        </p:xfrm>
        <a:graphic>
          <a:graphicData uri="http://schemas.openxmlformats.org/drawingml/2006/table">
            <a:tbl>
              <a:tblPr/>
              <a:tblGrid>
                <a:gridCol w="1130400"/>
                <a:gridCol w="1446120"/>
              </a:tblGrid>
              <a:tr h="35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5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318960" y="2317680"/>
            <a:ext cx="5518440" cy="375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2859587B-3659-44C1-AF8C-96619E6B90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457200" y="1457280"/>
            <a:ext cx="845820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slope of this demand curve?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ould you demonstrate that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asticity of demand was not the same 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lo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9"/>
          <p:cNvSpPr/>
          <p:nvPr/>
        </p:nvSpPr>
        <p:spPr>
          <a:xfrm>
            <a:off x="901080" y="192420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/2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∆P/∆Q) = 1/–2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6078600" y="2338560"/>
          <a:ext cx="2576520" cy="3498840"/>
        </p:xfrm>
        <a:graphic>
          <a:graphicData uri="http://schemas.openxmlformats.org/drawingml/2006/table">
            <a:tbl>
              <a:tblPr/>
              <a:tblGrid>
                <a:gridCol w="1130400"/>
                <a:gridCol w="1446120"/>
              </a:tblGrid>
              <a:tr h="35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0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49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568" name="TextBox 8"/>
          <p:cNvSpPr/>
          <p:nvPr/>
        </p:nvSpPr>
        <p:spPr>
          <a:xfrm>
            <a:off x="520560" y="3789360"/>
            <a:ext cx="527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he elasticity coefficient for a price change from, say, 4 to 5 is 0.82 which is quite different from the slope of  – 1/2.  In fact, elasticity varies along any curve despite the fact that the slope is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terminants of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amples of elastic and inelastic demands: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FD5196C9-6002-4C23-B197-D2F483EAE5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744480" y="2243160"/>
          <a:ext cx="7836120" cy="3457440"/>
        </p:xfrm>
        <a:graphic>
          <a:graphicData uri="http://schemas.openxmlformats.org/drawingml/2006/table">
            <a:tbl>
              <a:tblPr/>
              <a:tblGrid>
                <a:gridCol w="3865680"/>
                <a:gridCol w="397044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odities That Have Elastic Dem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odities That Have Inelastic Dem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sh tomatoes (4.6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 electricity (0.1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vies (3.4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ggs (0.3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b (2.6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 repairs (0.3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taurant meals (1.6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od (0.5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na and tableware (1.5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usehold appliances (0.6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omobiles (1.1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bacco (0.8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600"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rce: H.S. Houthakker and Lester D. Taylor, Consumer Demand in the United States (Cambridge, MA: Harvard University Press, 1970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Determinants of Price Elasticity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74276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demand for a product is more elastic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loser and the greater are the number of available substitutes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larger the percentage of one’s income that is spent on the product; an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longer the time period involved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601"/>
              </a:spcBef>
              <a:buClr>
                <a:srgbClr val="000000"/>
              </a:buClr>
              <a:buFont typeface="Kaling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53F7909D-259A-4E39-ADEB-B08C6623F4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4B4E59CD-64CE-40C9-A9DC-B94A1C858F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ine that elasticity coefficients were recently measured in Canada over a period of one year for the following products. Indicate whether you think such a measurement would be elastic (&gt;1) or inelastic (&lt;1) demand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aurant meal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o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’s hat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 crui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6598DA58-B598-41E3-A1FC-4636557E04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ine that elasticity coefficients were recently measured in Canada over a period of one year for the following products. Indicate whether you think such a measurement would be elastic (&gt;1) or inelastic (&lt;1) demand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aurant meal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o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’s hat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 crui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Box 6"/>
          <p:cNvSpPr/>
          <p:nvPr/>
        </p:nvSpPr>
        <p:spPr>
          <a:xfrm>
            <a:off x="930240" y="37958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inelastic (&lt;1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Box 8"/>
          <p:cNvSpPr/>
          <p:nvPr/>
        </p:nvSpPr>
        <p:spPr>
          <a:xfrm>
            <a:off x="912960" y="45226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inelastic (&lt;1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Box 9"/>
          <p:cNvSpPr/>
          <p:nvPr/>
        </p:nvSpPr>
        <p:spPr>
          <a:xfrm>
            <a:off x="916200" y="52387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elastic (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1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Box 10"/>
          <p:cNvSpPr/>
          <p:nvPr/>
        </p:nvSpPr>
        <p:spPr>
          <a:xfrm>
            <a:off x="4587840" y="38163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elastic (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1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Box 11"/>
          <p:cNvSpPr/>
          <p:nvPr/>
        </p:nvSpPr>
        <p:spPr>
          <a:xfrm>
            <a:off x="4559400" y="45226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elastic (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1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Box 13"/>
          <p:cNvSpPr/>
          <p:nvPr/>
        </p:nvSpPr>
        <p:spPr>
          <a:xfrm>
            <a:off x="4562640" y="52387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inelastic (&lt;1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Applications of Price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572840"/>
            <a:ext cx="822960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xcise Tax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sales tax imposed on a particular produc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4B9C9181-BA6F-42C1-A82A-453C3581C6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Picture 11" descr="Fig4-6.bmp"/>
          <p:cNvPicPr/>
          <p:nvPr/>
        </p:nvPicPr>
        <p:blipFill>
          <a:blip r:embed="rId1"/>
          <a:stretch/>
        </p:blipFill>
        <p:spPr>
          <a:xfrm>
            <a:off x="0" y="2751120"/>
            <a:ext cx="9144000" cy="3673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Applications of Price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57200" y="131868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re inelastic the demand for a product, the larger is the percentage of a sales (or excise) tax the consumer will pa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7A2D0E0A-B8B4-4F05-BB86-1D61A4F5D0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Picture 12" descr="Fig4-7.bmp"/>
          <p:cNvPicPr/>
          <p:nvPr/>
        </p:nvPicPr>
        <p:blipFill>
          <a:blip r:embed="rId1"/>
          <a:stretch/>
        </p:blipFill>
        <p:spPr>
          <a:xfrm>
            <a:off x="0" y="2782800"/>
            <a:ext cx="9144000" cy="3652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lasticity of Supply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57200" y="1222200"/>
            <a:ext cx="82296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measure of how much quantity supplied changes as a result of a change in pri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be expanded to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F57F3A62-7351-470A-A25A-DA9986F31A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ounded Rectangle 7"/>
          <p:cNvSpPr/>
          <p:nvPr/>
        </p:nvSpPr>
        <p:spPr>
          <a:xfrm>
            <a:off x="2743200" y="2498760"/>
            <a:ext cx="3700440" cy="107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ounded Rectangle 12"/>
          <p:cNvSpPr/>
          <p:nvPr/>
        </p:nvSpPr>
        <p:spPr>
          <a:xfrm>
            <a:off x="2732040" y="4284720"/>
            <a:ext cx="3743280" cy="19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2795760" y="2625840"/>
            <a:ext cx="3543120" cy="89352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2"/>
          <a:stretch/>
        </p:blipFill>
        <p:spPr>
          <a:xfrm>
            <a:off x="3094200" y="4390920"/>
            <a:ext cx="3073320" cy="172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lasticity of Supply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57200" y="136044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ample: When price changes from $2 to $3, the quantity supplied rises from 400 to 500.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90FD197D-7349-4542-B7B2-9C6CF8DCA8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2637000" y="4678200"/>
            <a:ext cx="3859200" cy="14432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3147840" y="2751120"/>
            <a:ext cx="2859120" cy="160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Elasticity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2944800"/>
            <a:ext cx="838188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4:  Use real-world examples to demonstrate that the concept of elasticity is a powerful tool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5:  Understand the meaning and significance  of elasticity of supply, income elasticity, and cross-elasticity of demand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4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550B7D58-6C75-435B-95B3-97B6111B6C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96865619-27BC-44FB-B522-3F26AC259E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Picture 12" descr="Fig4_12.bmp"/>
          <p:cNvPicPr/>
          <p:nvPr/>
        </p:nvPicPr>
        <p:blipFill>
          <a:blip r:embed="rId1"/>
          <a:stretch/>
        </p:blipFill>
        <p:spPr>
          <a:xfrm>
            <a:off x="0" y="490680"/>
            <a:ext cx="9144000" cy="5846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erfectly Inelastic Supp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82A94053-2C35-47A0-B219-A9E4AD3B24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" name="Picture 13" descr="Fig4-13.bmp"/>
          <p:cNvPicPr/>
          <p:nvPr/>
        </p:nvPicPr>
        <p:blipFill>
          <a:blip r:embed="rId1"/>
          <a:stretch/>
        </p:blipFill>
        <p:spPr>
          <a:xfrm>
            <a:off x="0" y="1630440"/>
            <a:ext cx="8962920" cy="425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Income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57200" y="1222200"/>
            <a:ext cx="82296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responsiveness of quantity demanded to a change in incom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be expanded to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D2C084E2-DCB9-430C-8359-0AB0B001A1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ounded Rectangle 7"/>
          <p:cNvSpPr/>
          <p:nvPr/>
        </p:nvSpPr>
        <p:spPr>
          <a:xfrm>
            <a:off x="2084400" y="2498760"/>
            <a:ext cx="4932360" cy="107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ounded Rectangle 12"/>
          <p:cNvSpPr/>
          <p:nvPr/>
        </p:nvSpPr>
        <p:spPr>
          <a:xfrm>
            <a:off x="2732040" y="4284720"/>
            <a:ext cx="3743280" cy="19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2286000" y="2637000"/>
            <a:ext cx="4527720" cy="89352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2"/>
          <a:stretch/>
        </p:blipFill>
        <p:spPr>
          <a:xfrm>
            <a:off x="2955960" y="4402080"/>
            <a:ext cx="3306600" cy="1785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Income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A8E90C97-2595-4604-8A3F-341D632615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934920" y="1865160"/>
          <a:ext cx="7347240" cy="3568680"/>
        </p:xfrm>
        <a:graphic>
          <a:graphicData uri="http://schemas.openxmlformats.org/drawingml/2006/table">
            <a:tbl>
              <a:tblPr/>
              <a:tblGrid>
                <a:gridCol w="2449800"/>
                <a:gridCol w="2449440"/>
                <a:gridCol w="24480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If coefficient 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Type of Good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Demand is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91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ater than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mal –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uxury goo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ome elas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91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s than 1 but greater than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mal – </a:t>
                      </a:r>
                      <a:br>
                        <a:rPr sz="2400"/>
                      </a:b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cessit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ome inelas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s than 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erior 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gative income elasti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Income Elasticity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BLE 4.9 Differences in Spending between the Richest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d Poorest Groups in Canada, 1996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AF11A1C3-9A20-4767-A694-CB39A58351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552600" y="2487600"/>
          <a:ext cx="7995960" cy="3754440"/>
        </p:xfrm>
        <a:graphic>
          <a:graphicData uri="http://schemas.openxmlformats.org/drawingml/2006/table">
            <a:tbl>
              <a:tblPr/>
              <a:tblGrid>
                <a:gridCol w="1168200"/>
                <a:gridCol w="1282680"/>
                <a:gridCol w="1401840"/>
                <a:gridCol w="1244520"/>
                <a:gridCol w="1381320"/>
                <a:gridCol w="1517400"/>
              </a:tblGrid>
              <a:tr h="293760">
                <a:tc gridSpan="4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ome Inela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ome Ela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1560">
                <a:tc>
                  <a:txBody>
                    <a:bodyPr lIns="0" rIns="0" tIns="0" bIns="0" anchor="b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est income percent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est income percent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est income percent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est income percent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rni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el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o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v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useho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re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bacco 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coh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 gridSpan="6"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rce: Based on Statistics Canada, Family Expenditure in Canada, 1996, catalogue no. 62-555-XPB, released on July 28, 199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FF3BA525-84C6-4534-A528-A8F5F7FF1B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3"/>
          <p:cNvSpPr/>
          <p:nvPr/>
        </p:nvSpPr>
        <p:spPr>
          <a:xfrm>
            <a:off x="457200" y="1328760"/>
            <a:ext cx="84582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given the following data.  Assume that the prices of X and Y do not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income elasticity for products X and Y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products X and Y normal goo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1351080" y="2403360"/>
          <a:ext cx="6464160" cy="1225800"/>
        </p:xfrm>
        <a:graphic>
          <a:graphicData uri="http://schemas.openxmlformats.org/drawingml/2006/table">
            <a:tbl>
              <a:tblPr/>
              <a:tblGrid>
                <a:gridCol w="1631880"/>
                <a:gridCol w="2415960"/>
                <a:gridCol w="2416320"/>
              </a:tblGrid>
              <a:tr h="609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 Demanded of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 Demanded of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A5D7B016-AB7E-4225-B740-569CBB1552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3"/>
          <p:cNvSpPr/>
          <p:nvPr/>
        </p:nvSpPr>
        <p:spPr>
          <a:xfrm>
            <a:off x="457200" y="1328760"/>
            <a:ext cx="84582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given the following data.  Assume that the prices of X and Y do not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income elasticity for products X and Y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1351080" y="2403360"/>
          <a:ext cx="6464160" cy="1225800"/>
        </p:xfrm>
        <a:graphic>
          <a:graphicData uri="http://schemas.openxmlformats.org/drawingml/2006/table">
            <a:tbl>
              <a:tblPr/>
              <a:tblGrid>
                <a:gridCol w="1631880"/>
                <a:gridCol w="2415960"/>
                <a:gridCol w="2416320"/>
              </a:tblGrid>
              <a:tr h="609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 Demanded of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 Demanded of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6" name="TextBox 9"/>
          <p:cNvSpPr/>
          <p:nvPr/>
        </p:nvSpPr>
        <p:spPr>
          <a:xfrm>
            <a:off x="914400" y="4338720"/>
            <a:ext cx="73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X: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+ 1.36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ε = 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Times New Roman"/>
              </a:rPr>
              <a:t>(350–200) x100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Times New Roman"/>
              </a:rPr>
              <a:t>(15 000 – 10 000) x 100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+54.5%/+40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275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12 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Box 10"/>
          <p:cNvSpPr/>
          <p:nvPr/>
        </p:nvSpPr>
        <p:spPr>
          <a:xfrm>
            <a:off x="917640" y="5394240"/>
            <a:ext cx="73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Y = 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+ 0.19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ε = 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Times New Roman"/>
              </a:rPr>
              <a:t>(54–50) x100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Times New Roman"/>
              </a:rPr>
              <a:t>(15 000 – 10 000) x100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=  +7.6%/+40%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52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12 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2FB84954-E6BE-4006-94BF-5268CFE553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3"/>
          <p:cNvSpPr/>
          <p:nvPr/>
        </p:nvSpPr>
        <p:spPr>
          <a:xfrm>
            <a:off x="457200" y="1328760"/>
            <a:ext cx="84582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given the following data.  Assume that the prices of X and Y do not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products X and Y normal goo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3" name=""/>
          <p:cNvGraphicFramePr/>
          <p:nvPr/>
        </p:nvGraphicFramePr>
        <p:xfrm>
          <a:off x="1351080" y="2403360"/>
          <a:ext cx="6464160" cy="1225800"/>
        </p:xfrm>
        <a:graphic>
          <a:graphicData uri="http://schemas.openxmlformats.org/drawingml/2006/table">
            <a:tbl>
              <a:tblPr/>
              <a:tblGrid>
                <a:gridCol w="1631880"/>
                <a:gridCol w="2415960"/>
                <a:gridCol w="2416320"/>
              </a:tblGrid>
              <a:tr h="609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 Demanded of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 Demanded of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4" name="TextBox 9"/>
          <p:cNvSpPr/>
          <p:nvPr/>
        </p:nvSpPr>
        <p:spPr>
          <a:xfrm>
            <a:off x="787320" y="4551480"/>
            <a:ext cx="732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Yes.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Both products have a positive co-efficient; product X is a luxury with a co-efficient greater than 1, Y is a necessity with a co-efficient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ross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457200" y="1276200"/>
            <a:ext cx="822960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sponsiveness of the change in Qd of product A to a change in the price of product B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be expanded to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688EB711-09C7-43AD-8D1D-3272190368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ounded Rectangle 7"/>
          <p:cNvSpPr/>
          <p:nvPr/>
        </p:nvSpPr>
        <p:spPr>
          <a:xfrm>
            <a:off x="1328760" y="2498760"/>
            <a:ext cx="6570720" cy="107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ounded Rectangle 12"/>
          <p:cNvSpPr/>
          <p:nvPr/>
        </p:nvSpPr>
        <p:spPr>
          <a:xfrm>
            <a:off x="2732040" y="4284720"/>
            <a:ext cx="3743280" cy="19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1754280" y="2647800"/>
            <a:ext cx="5605200" cy="873360"/>
          </a:xfrm>
          <a:prstGeom prst="rect">
            <a:avLst/>
          </a:prstGeom>
          <a:ln w="0">
            <a:noFill/>
          </a:ln>
        </p:spPr>
      </p:pic>
      <p:sp>
        <p:nvSpPr>
          <p:cNvPr id="74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2"/>
          <a:stretch/>
        </p:blipFill>
        <p:spPr>
          <a:xfrm>
            <a:off x="3030480" y="4390920"/>
            <a:ext cx="3125880" cy="177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ross Elasticity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457200" y="108396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2A899749-1D81-4495-B2D0-C2F0229F40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712800" y="1522440"/>
          <a:ext cx="7709040" cy="1523880"/>
        </p:xfrm>
        <a:graphic>
          <a:graphicData uri="http://schemas.openxmlformats.org/drawingml/2006/table">
            <a:tbl>
              <a:tblPr/>
              <a:tblGrid>
                <a:gridCol w="1326960"/>
                <a:gridCol w="2632320"/>
                <a:gridCol w="1127160"/>
                <a:gridCol w="2622600"/>
              </a:tblGrid>
              <a:tr h="3052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ar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 Demanded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Week (lb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 Demanded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Week (lb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1"/>
          <a:stretch/>
        </p:blipFill>
        <p:spPr>
          <a:xfrm>
            <a:off x="2743200" y="4906800"/>
            <a:ext cx="3710160" cy="1262160"/>
          </a:xfrm>
          <a:prstGeom prst="rect">
            <a:avLst/>
          </a:prstGeom>
          <a:ln w="0">
            <a:noFill/>
          </a:ln>
        </p:spPr>
      </p:pic>
      <p:pic>
        <p:nvPicPr>
          <p:cNvPr id="755" name="" descr=""/>
          <p:cNvPicPr/>
          <p:nvPr/>
        </p:nvPicPr>
        <p:blipFill>
          <a:blip r:embed="rId2"/>
          <a:stretch/>
        </p:blipFill>
        <p:spPr>
          <a:xfrm>
            <a:off x="3189240" y="3189240"/>
            <a:ext cx="2779920" cy="157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Elasticity of Demand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222200"/>
            <a:ext cx="82296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measure of how much quantity demanded changes as a result of a change in pri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be expanded to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8EDF603E-3B8D-43AF-A0B4-B8F0C18EF5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ounded Rectangle 7"/>
          <p:cNvSpPr/>
          <p:nvPr/>
        </p:nvSpPr>
        <p:spPr>
          <a:xfrm>
            <a:off x="2743200" y="2498760"/>
            <a:ext cx="3700440" cy="107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2870280" y="2595600"/>
            <a:ext cx="3456000" cy="96660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ounded Rectangle 12"/>
          <p:cNvSpPr/>
          <p:nvPr/>
        </p:nvSpPr>
        <p:spPr>
          <a:xfrm>
            <a:off x="2732040" y="4284720"/>
            <a:ext cx="3743280" cy="19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3019320" y="4389480"/>
            <a:ext cx="3200400" cy="178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ross Elastic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3BA5973A-EDFB-4123-AB71-7850E75062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0" name=""/>
          <p:cNvGraphicFramePr/>
          <p:nvPr/>
        </p:nvGraphicFramePr>
        <p:xfrm>
          <a:off x="1670040" y="2247840"/>
          <a:ext cx="5869080" cy="2621160"/>
        </p:xfrm>
        <a:graphic>
          <a:graphicData uri="http://schemas.openxmlformats.org/drawingml/2006/table">
            <a:tbl>
              <a:tblPr/>
              <a:tblGrid>
                <a:gridCol w="2933640"/>
                <a:gridCol w="2935440"/>
              </a:tblGrid>
              <a:tr h="72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If coefficient 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Goods ar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94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titu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94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ga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CB76010F-383A-4097-97B2-69FA6E9CC2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4" name="Picture 10" descr="4ElasticitySummary.bmp"/>
          <p:cNvPicPr/>
          <p:nvPr/>
        </p:nvPicPr>
        <p:blipFill>
          <a:blip r:embed="rId1"/>
          <a:stretch/>
        </p:blipFill>
        <p:spPr>
          <a:xfrm>
            <a:off x="0" y="366840"/>
            <a:ext cx="9144000" cy="6081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766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4E28D42A-1FA0-4681-B47D-30D5BF5B0D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Definition, calculation, and determinants of price elasticity of demand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Difference between slope and elasticity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Relationship between elasticity and total revenue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Real world examples of elasticity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lasticity of supply, income elasticity, and cross-elasticity of deman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4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Elasticity of Demand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108396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ample: airline ticke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0207375E-011F-49DF-99D9-266AC20B4A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Box 5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627120" y="1852560"/>
          <a:ext cx="7889760" cy="1676520"/>
        </p:xfrm>
        <a:graphic>
          <a:graphicData uri="http://schemas.openxmlformats.org/drawingml/2006/table">
            <a:tbl>
              <a:tblPr/>
              <a:tblGrid>
                <a:gridCol w="1542960"/>
                <a:gridCol w="1062000"/>
                <a:gridCol w="1214640"/>
                <a:gridCol w="1003320"/>
                <a:gridCol w="1079280"/>
                <a:gridCol w="1987560"/>
              </a:tblGrid>
              <a:tr h="284040"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couver to Edmo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couver to Calg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55">
                        <a:alpha val="47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Tick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55">
                        <a:alpha val="47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Reve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Tick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Reve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6dd55">
                        <a:alpha val="47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6dd55">
                        <a:alpha val="47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5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55">
                        <a:alpha val="47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55">
                        <a:alpha val="47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7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2944800" y="3668760"/>
            <a:ext cx="3191040" cy="7444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2774880" y="4592520"/>
            <a:ext cx="3433680" cy="70164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3125880" y="5443560"/>
            <a:ext cx="2903400" cy="73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57200" y="165852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lasticity Coefficien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number that measures the responsiveness of quantity demanded to a change in price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3058539A-042A-4EEB-9809-D539ED0797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328760" y="3427560"/>
          <a:ext cx="6400800" cy="2527200"/>
        </p:xfrm>
        <a:graphic>
          <a:graphicData uri="http://schemas.openxmlformats.org/drawingml/2006/table">
            <a:tbl>
              <a:tblPr/>
              <a:tblGrid>
                <a:gridCol w="3200400"/>
                <a:gridCol w="3200400"/>
              </a:tblGrid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If coefficient 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Kalinga"/>
                        </a:rPr>
                        <a:t>Demand is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ater than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as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s than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elast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 to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Inelastic Demand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antity demanded that is not very responsive to a change in pric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lastic Demand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antity demanded that is quite responsive to a change in pric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16D924A1-28C6-4D1D-9FF6-825BF54780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Unitary Demand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point where the percentage change in quantity is exactly equal to the percentage change in pri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B17520C6-17DA-4302-A9CD-68D8C2B5BA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4-</a:t>
            </a:r>
            <a:fld id="{EA8FEA4C-A157-4FC7-AAA7-F4702EE6F2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3"/>
          <p:cNvSpPr/>
          <p:nvPr/>
        </p:nvSpPr>
        <p:spPr>
          <a:xfrm>
            <a:off x="457200" y="1190520"/>
            <a:ext cx="84582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 the elasticity coefficients for each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ach set the change in price is $1 and the change in quantity is 1 unit. Why aren’t the coefficients the sam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1517760" y="1300320"/>
          <a:ext cx="6168960" cy="1523880"/>
        </p:xfrm>
        <a:graphic>
          <a:graphicData uri="http://schemas.openxmlformats.org/drawingml/2006/table">
            <a:tbl>
              <a:tblPr/>
              <a:tblGrid>
                <a:gridCol w="2195280"/>
                <a:gridCol w="1898640"/>
                <a:gridCol w="2075040"/>
              </a:tblGrid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36:28Z</dcterms:modified>
  <cp:revision>253</cp:revision>
  <dc:subject/>
  <dc:title>Slide 1</dc:title>
</cp:coreProperties>
</file>