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3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3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3.wmf" ContentType="image/x-wmf"/>
  <Override PartName="/ppt/media/image9.wmf" ContentType="image/x-wmf"/>
  <Override PartName="/ppt/media/image12.wmf" ContentType="image/x-wmf"/>
  <Override PartName="/ppt/media/image8.png" ContentType="image/png"/>
  <Override PartName="/ppt/media/image7.png" ContentType="image/png"/>
  <Override PartName="/ppt/media/image1.jpeg" ContentType="image/jpeg"/>
  <Override PartName="/ppt/media/image6.wmf" ContentType="image/x-wmf"/>
  <Override PartName="/ppt/media/image11.png" ContentType="image/png"/>
  <Override PartName="/ppt/media/image22.png" ContentType="image/png"/>
  <Override PartName="/ppt/media/image4.wmf" ContentType="image/x-wmf"/>
  <Override PartName="/ppt/media/image5.wmf" ContentType="image/x-wmf"/>
  <Override PartName="/ppt/media/image10.png" ContentType="image/png"/>
  <Override PartName="/ppt/media/image21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png" ContentType="image/png"/>
  <Override PartName="/ppt/media/image15.png" ContentType="image/png"/>
  <Override PartName="/ppt/media/image14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  <p:sldId id="282" r:id="rId39"/>
    <p:sldId id="283" r:id="rId40"/>
    <p:sldId id="284" r:id="rId41"/>
    <p:sldId id="285" r:id="rId42"/>
    <p:sldId id="286" r:id="rId43"/>
    <p:sldId id="287" r:id="rId44"/>
    <p:sldId id="288" r:id="rId45"/>
    <p:sldId id="289" r:id="rId46"/>
    <p:sldId id="290" r:id="rId47"/>
    <p:sldId id="291" r:id="rId48"/>
    <p:sldId id="292" r:id="rId49"/>
    <p:sldId id="293" r:id="rId50"/>
    <p:sldId id="294" r:id="rId51"/>
    <p:sldId id="295" r:id="rId52"/>
    <p:sldId id="296" r:id="rId53"/>
    <p:sldId id="297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slide" Target="slides/slide27.xml"/><Relationship Id="rId40" Type="http://schemas.openxmlformats.org/officeDocument/2006/relationships/slide" Target="slides/slide28.xml"/><Relationship Id="rId41" Type="http://schemas.openxmlformats.org/officeDocument/2006/relationships/slide" Target="slides/slide29.xml"/><Relationship Id="rId42" Type="http://schemas.openxmlformats.org/officeDocument/2006/relationships/slide" Target="slides/slide30.xml"/><Relationship Id="rId43" Type="http://schemas.openxmlformats.org/officeDocument/2006/relationships/slide" Target="slides/slide31.xml"/><Relationship Id="rId44" Type="http://schemas.openxmlformats.org/officeDocument/2006/relationships/slide" Target="slides/slide32.xml"/><Relationship Id="rId45" Type="http://schemas.openxmlformats.org/officeDocument/2006/relationships/slide" Target="slides/slide33.xml"/><Relationship Id="rId46" Type="http://schemas.openxmlformats.org/officeDocument/2006/relationships/slide" Target="slides/slide34.xml"/><Relationship Id="rId47" Type="http://schemas.openxmlformats.org/officeDocument/2006/relationships/slide" Target="slides/slide35.xml"/><Relationship Id="rId48" Type="http://schemas.openxmlformats.org/officeDocument/2006/relationships/slide" Target="slides/slide36.xml"/><Relationship Id="rId49" Type="http://schemas.openxmlformats.org/officeDocument/2006/relationships/slide" Target="slides/slide37.xml"/><Relationship Id="rId50" Type="http://schemas.openxmlformats.org/officeDocument/2006/relationships/slide" Target="slides/slide38.xml"/><Relationship Id="rId51" Type="http://schemas.openxmlformats.org/officeDocument/2006/relationships/slide" Target="slides/slide39.xml"/><Relationship Id="rId52" Type="http://schemas.openxmlformats.org/officeDocument/2006/relationships/slide" Target="slides/slide40.xml"/><Relationship Id="rId53" Type="http://schemas.openxmlformats.org/officeDocument/2006/relationships/slide" Target="slides/slide41.xml"/><Relationship Id="rId54" Type="http://schemas.openxmlformats.org/officeDocument/2006/relationships/slide" Target="slides/slide42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dt" idx="2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ftr" idx="3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 type="sldNum" idx="3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80594-A317-4F71-AD40-80C58397F1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47063-3313-4B1C-9924-854662EBAE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5E7A9-3078-4B5D-BBE9-045A5F38C1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174C6-FA76-4FEC-B908-6357881036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1FDF7-C946-4B43-8D7B-FC27A8042A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B514B-B826-4FA1-BCC8-3048F3C2F6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1558C-7B7D-4ECF-9FCC-5DFABDFE6F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6A890-5389-41CE-B5EC-0D2A76CECF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CA3ED-D0A5-4BE5-9853-E4A4481504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41235-F43D-412A-A1C7-4F9C229FB0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C2270-E347-46FB-A07C-C82F7D8C7A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2938A-0564-4744-B5B6-C8802B0CBD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D6A26-04E2-4015-8A0B-B1764764BD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0BF43-1269-4D9E-9C0B-AFE1413D0F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7F6AD-B279-4A84-8D5C-695CD018F9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2B1E-5D4A-4426-A52B-43D232DA5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2853-F0AB-42E0-96C4-B5C6FF6EC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BE9EAF-0CAB-4CFC-AB81-100EC15B3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0F4653-0B2E-4BFB-A1CF-FF405C590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CAB5D2-E33A-4965-B76C-2145AA504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720A6A-7D2C-49D6-8DA2-DEA84D6FA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90F7FB-FD46-487E-99CF-78941A7C7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2B48BF-837D-4A54-B514-3761FA76C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02357F-CADE-4313-A291-167B793D4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315D56-F36B-4962-8BC7-D1AAF6D8F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D5A02F-D3AF-430C-B11D-7B3E7DF35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0C4332-91CA-4439-85BE-DB8E39609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A1EE-4267-4E25-8FBE-4B44F6FE1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9CB5BD-96E6-4052-B398-4D2407065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B5BB7A-C970-4C81-8841-604E79D69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545FAA-3E45-4C27-BFE2-0815FE34F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03CFF3-A62F-4797-A4E3-03F520501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497131-86EB-48D7-8225-483BBCAE3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FCDCCE-9515-4B83-95A7-949804800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895291-B587-4027-94F8-39C893165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74DCA5-517E-4B6A-9047-5C64BBEEA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23DFC3-FED6-4D8C-9B99-08863FE5E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6FF158-DD2D-4308-9333-93893B769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E7D5-855E-4D33-BD83-74CC1335D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1D440E-C7E7-43A7-8BA4-11C1B0F5C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6DD94-31C6-40A7-A1F4-D35EC8032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9BC91-1160-4C38-9786-280C81032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8689C-24A6-41BB-BCF7-27036700E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EF2D4-D115-46D9-9239-709786BFD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2ACE5-206F-4165-A123-F0227E67D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C84C2-CD58-45D7-8068-CB638EC58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517F6-C819-407E-9326-F234B700A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120A-A9E3-4D36-8A19-6884C60A1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17BAF-8112-4B9B-8E9E-EDBBD9530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8C0F3-C9D7-40D1-A411-158247115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CC98C-7AE5-4F18-9A6A-61FE7FBD5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D9F80-D04B-4227-B04C-8E4B1326A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7AF08-86C9-4044-B5AD-952A58D6A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B56150-10ED-4EAB-BE43-DBF63190C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669086-ABDB-4CD3-A5E6-DE2019C8D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11C917-8356-43F9-8813-26E4EEFF9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8C82C8-C714-462F-BC2A-792558467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32F258-9004-4314-9DFB-806333E8A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F348-9AA0-40D4-8FAC-49EB00AB1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E1963F-3ADA-40F8-8746-A0A792EAA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F9B93F-CEA1-4E0B-ACD3-A35CA6E0B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4C48EA-DEB0-41AE-B254-15F8FB105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F8A80A-38F0-420B-B1CA-EA4D78981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2632CB-128A-4274-9260-86DD9C14D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322B7B-C704-41AC-A1AD-4AB4EA26E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5BC7E3-6D56-4E4C-9C86-DB49CBCBF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B27342-02B1-49D0-985D-76B648B25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BAC300-75C2-4B48-96A1-FAD7E7CE8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A3A1A1-3CB6-45C7-B266-0524512C0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ED7E-63C8-458F-A4E2-ADB44BDAB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D71180-562A-4897-90CF-CF9E08778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2DD1F3-468B-4245-9B32-CDE722BCC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C82E82-D2B9-448E-9F4A-A98AF8872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208E11-B27E-4A72-8A56-73795BA9D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8CC915-CF8E-4AE9-AE47-0D3449E7B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790374-C762-49D7-9EE5-F986D5D5F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EF3DD2-094E-4B73-A2B3-D33C657E9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E79754-5524-4A13-A198-50E3348E6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BC7377-91F8-4695-9F7A-086F3F7BD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614856-CE6A-43FD-BC91-851A904E6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4300-9C93-46B0-B481-A1F020A52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581706-1091-4E80-97F3-8258F1DE7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4BC6C7-9CF1-47B9-B78E-1FB44F050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C10CC5-1C7D-4CAF-A032-030F41F20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C64070-DB45-40D0-AA88-056108B40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C76A9F-A210-40E6-9F62-1124DC12D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3BC2FA-CDDB-4E3D-A81F-DC8AB9143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4A2C77-E947-4F84-ABBE-CFB961423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11EAA3-52D1-4C35-A476-0513B9375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77A319-E061-4D7B-86ED-18E3F8396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388AC6-063D-4545-B081-7E3CD045E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0339-782A-4F76-8DC1-A607077C5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75262D-823D-4D70-9E6B-A8DC5B9D0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6CF6817-CFE5-4C17-BA4A-A712C1FEA06E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A64753D-49AC-41C6-A8A3-7E9991D98266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0DB8989-EDB8-4146-B307-B14B307D5755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F5DA9D-F785-463C-BFD6-F0169E8D1052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CD5D136-5F09-42F3-B0E0-9341F38D76A6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ED98530-3AAA-47B5-ABCB-EC9663893854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B023EAA-36C7-4B2D-A2DE-512B79A94DE1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E18DE8D-BA81-4E29-AB30-D0918BAD0231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05C1C6D-504B-4884-A64D-90054D7E44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F083-73F6-4D72-8089-CC14E81E6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BE6483E-C0A9-42F5-B435-3E66E6273D3F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CE0DE29-C50E-4233-A618-841D66B8AEFC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9B076C6-16A9-4352-9AF1-258CF106ABAF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44ADDE0-E456-4BE9-B553-9C90290DE310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2F3E238-7757-4A03-8E95-24CF84F93A8A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57760F2-A29F-4EBB-B89B-7C7C2CB86599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693B9EA-DB28-4FA9-B1A7-B0D44588042B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A78CC6E-588B-491B-9995-6327BFC1ABC5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D7FC99F-5381-4CC0-AF88-16A3504351F5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600857A-95EB-4D23-8BC5-C7AF118A64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7A42-79F2-4784-8EEA-9DC22C209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4EBB2F9-0BD5-4D61-BEC7-D443CAF2CC57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E90940D-110E-4AFB-91FB-3862822A51CC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FFA5073-D93A-4F99-86E8-0457D6501283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91B50BD-127E-4426-B7B5-2BEEC32D10C4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F9B1B0C-60C4-4874-AAF8-458E9C457504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ABA4F53-AD1B-4D94-8C37-BEBFA88B4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8BC79F2-FBBE-4688-B07C-6D53CFD42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DF80D4F-ACB4-4860-BE4D-82174D3B1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D4C434B-1456-44D7-9C5E-F38AD250A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62D1215-31E9-4BAD-9B10-EBC58F16D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A474-16AC-4B81-A08A-C8AE90B27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5D76A9B-2C2D-42A4-9138-528138A4E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2E5031F-2510-46A6-A118-DB0EF9130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A853570-02FB-452C-AE4E-2C1A52CC4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4802A3C-3AC4-4383-8A02-72050C5A2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44AC1A0-55BC-4683-A0B1-0A0D00904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9F35782-504F-488D-B30F-A790F3CE0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EEF894F-E724-43FA-9CBE-688145519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B3F892-38D4-4918-B55A-D32696ED2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A6AEEE-7978-44F8-876B-1C6EF5D3A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C9C7D4-1AEA-4357-B00E-68EA94B74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 #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dt" idx="26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ftr" idx="2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l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sldNum" idx="2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3D68D91D-5BE9-4743-B386-7DCC451CBF2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aholowinsky\Documents\McGrawHill\Sayre_MICRO_0070385467_72dpi.jpg"/>
          <p:cNvPicPr/>
          <p:nvPr/>
        </p:nvPicPr>
        <p:blipFill>
          <a:blip r:embed="rId2"/>
          <a:srcRect l="329" t="8890" r="0" b="76669"/>
          <a:stretch/>
        </p:blipFill>
        <p:spPr>
          <a:xfrm>
            <a:off x="3048120" y="838080"/>
            <a:ext cx="4038480" cy="6955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C:\Users\aholowinsky\Documents\McGrawHill\Sayre_MICRO_0070385467_72dpi.jpg"/>
          <p:cNvPicPr/>
          <p:nvPr/>
        </p:nvPicPr>
        <p:blipFill>
          <a:blip r:embed="rId3"/>
          <a:srcRect l="329" t="32673" r="0" b="12287"/>
          <a:stretch/>
        </p:blipFill>
        <p:spPr>
          <a:xfrm>
            <a:off x="0" y="533520"/>
            <a:ext cx="2590920" cy="1682640"/>
          </a:xfrm>
          <a:prstGeom prst="rect">
            <a:avLst/>
          </a:prstGeom>
          <a:ln w="0">
            <a:noFill/>
          </a:ln>
        </p:spPr>
      </p:pic>
      <p:sp>
        <p:nvSpPr>
          <p:cNvPr id="43" name="Straight Connector 9"/>
          <p:cNvSpPr/>
          <p:nvPr/>
        </p:nvSpPr>
        <p:spPr>
          <a:xfrm>
            <a:off x="0" y="539640"/>
            <a:ext cx="9144000" cy="0"/>
          </a:xfrm>
          <a:prstGeom prst="line">
            <a:avLst/>
          </a:prstGeom>
          <a:ln w="25560">
            <a:solidFill>
              <a:srgbClr val="fa4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Straight Connector 10"/>
          <p:cNvSpPr/>
          <p:nvPr/>
        </p:nvSpPr>
        <p:spPr>
          <a:xfrm>
            <a:off x="0" y="2209680"/>
            <a:ext cx="9144000" cy="6480"/>
          </a:xfrm>
          <a:prstGeom prst="line">
            <a:avLst/>
          </a:prstGeom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Box 11"/>
          <p:cNvSpPr/>
          <p:nvPr/>
        </p:nvSpPr>
        <p:spPr>
          <a:xfrm>
            <a:off x="5562720" y="1828800"/>
            <a:ext cx="2931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7933c"/>
                </a:solidFill>
                <a:latin typeface="Kalinga"/>
                <a:ea typeface="Kalinga"/>
              </a:rPr>
              <a:t>SAYRE  |  MORRIS      </a:t>
            </a:r>
            <a:r>
              <a:rPr b="1" lang="en-US" sz="1100" spc="-1" strike="noStrike">
                <a:solidFill>
                  <a:srgbClr val="fa4160"/>
                </a:solidFill>
                <a:latin typeface="Kalinga"/>
                <a:ea typeface="Kalinga"/>
              </a:rPr>
              <a:t>Seventh Edition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584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C:\Users\aholowinsky\Documents\McGrawHill\Sayre_MICRO_0070385467_72dpi.jpg"/>
          <p:cNvPicPr/>
          <p:nvPr/>
        </p:nvPicPr>
        <p:blipFill>
          <a:blip r:embed="rId2"/>
          <a:srcRect l="329" t="32673" r="0" b="12287"/>
          <a:stretch/>
        </p:blipFill>
        <p:spPr>
          <a:xfrm>
            <a:off x="0" y="533520"/>
            <a:ext cx="2590920" cy="1682640"/>
          </a:xfrm>
          <a:prstGeom prst="rect">
            <a:avLst/>
          </a:prstGeom>
          <a:ln w="0">
            <a:noFill/>
          </a:ln>
        </p:spPr>
      </p:pic>
      <p:sp>
        <p:nvSpPr>
          <p:cNvPr id="88" name="Straight Connector 6"/>
          <p:cNvSpPr/>
          <p:nvPr/>
        </p:nvSpPr>
        <p:spPr>
          <a:xfrm>
            <a:off x="0" y="539640"/>
            <a:ext cx="9144000" cy="0"/>
          </a:xfrm>
          <a:prstGeom prst="line">
            <a:avLst/>
          </a:prstGeom>
          <a:ln w="25560">
            <a:solidFill>
              <a:srgbClr val="fa4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Straight Connector 7"/>
          <p:cNvSpPr/>
          <p:nvPr/>
        </p:nvSpPr>
        <p:spPr>
          <a:xfrm>
            <a:off x="0" y="2209680"/>
            <a:ext cx="9144000" cy="6480"/>
          </a:xfrm>
          <a:prstGeom prst="line">
            <a:avLst/>
          </a:prstGeom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Box 17"/>
          <p:cNvSpPr/>
          <p:nvPr/>
        </p:nvSpPr>
        <p:spPr>
          <a:xfrm>
            <a:off x="468360" y="2392200"/>
            <a:ext cx="479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earning Objectiv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690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0F48C8FF-63D7-4C38-86F9-2390D43BF76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C:\Users\aholowinsky\Documents\McGrawHill\Sayre_MICRO_0070385467_72dpi.jpg"/>
          <p:cNvPicPr/>
          <p:nvPr/>
        </p:nvPicPr>
        <p:blipFill>
          <a:blip r:embed="rId2"/>
          <a:srcRect l="329" t="32673" r="0" b="12287"/>
          <a:stretch/>
        </p:blipFill>
        <p:spPr>
          <a:xfrm>
            <a:off x="0" y="533520"/>
            <a:ext cx="2590920" cy="1682640"/>
          </a:xfrm>
          <a:prstGeom prst="rect">
            <a:avLst/>
          </a:prstGeom>
          <a:ln w="0">
            <a:noFill/>
          </a:ln>
        </p:spPr>
      </p:pic>
      <p:sp>
        <p:nvSpPr>
          <p:cNvPr id="133" name="Straight Connector 6"/>
          <p:cNvSpPr/>
          <p:nvPr/>
        </p:nvSpPr>
        <p:spPr>
          <a:xfrm>
            <a:off x="0" y="539640"/>
            <a:ext cx="9144000" cy="0"/>
          </a:xfrm>
          <a:prstGeom prst="line">
            <a:avLst/>
          </a:prstGeom>
          <a:ln w="25560">
            <a:solidFill>
              <a:srgbClr val="fa4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Straight Connector 7"/>
          <p:cNvSpPr/>
          <p:nvPr/>
        </p:nvSpPr>
        <p:spPr>
          <a:xfrm>
            <a:off x="0" y="2209680"/>
            <a:ext cx="9144000" cy="6480"/>
          </a:xfrm>
          <a:prstGeom prst="line">
            <a:avLst/>
          </a:prstGeom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57200" y="6356520"/>
            <a:ext cx="2690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77D2939A-EA32-409B-99A2-34977D4A029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C:\Users\aholowinsky\Documents\McGrawHill\Sayre_MICRO_0070385467_72dpi.jpg"/>
          <p:cNvPicPr/>
          <p:nvPr/>
        </p:nvPicPr>
        <p:blipFill>
          <a:blip r:embed="rId2"/>
          <a:srcRect l="329" t="32673" r="0" b="12287"/>
          <a:stretch/>
        </p:blipFill>
        <p:spPr>
          <a:xfrm>
            <a:off x="0" y="1987560"/>
            <a:ext cx="3859200" cy="2595600"/>
          </a:xfrm>
          <a:prstGeom prst="rect">
            <a:avLst/>
          </a:prstGeom>
          <a:ln w="0">
            <a:noFill/>
          </a:ln>
        </p:spPr>
      </p:pic>
      <p:sp>
        <p:nvSpPr>
          <p:cNvPr id="177" name="Straight Connector 9"/>
          <p:cNvSpPr/>
          <p:nvPr/>
        </p:nvSpPr>
        <p:spPr>
          <a:xfrm>
            <a:off x="0" y="1986120"/>
            <a:ext cx="9144000" cy="0"/>
          </a:xfrm>
          <a:prstGeom prst="line">
            <a:avLst/>
          </a:prstGeom>
          <a:ln w="25560">
            <a:solidFill>
              <a:srgbClr val="fa4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Straight Connector 10"/>
          <p:cNvSpPr/>
          <p:nvPr/>
        </p:nvSpPr>
        <p:spPr>
          <a:xfrm>
            <a:off x="0" y="4591080"/>
            <a:ext cx="9144000" cy="7920"/>
          </a:xfrm>
          <a:prstGeom prst="line">
            <a:avLst/>
          </a:prstGeom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C7A5B186-F5C5-4806-8CAC-07C1569484D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ftr" idx="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251E8B19-D76D-4E71-960E-4E12EE3F633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sldNum" idx="1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D3EF662E-B58A-4D7D-A6C2-0181F33A5DC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dt" idx="20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ftr" idx="2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l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 type="sldNum" idx="2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666F032A-46C9-4397-92C3-FB731AF302C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dt" idx="23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ftr" idx="2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l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 type="sldNum" idx="2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A1412762-A5DE-4B7A-9C40-B695B83EF3E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6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3657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77933c"/>
                </a:solidFill>
                <a:latin typeface="Kalinga"/>
                <a:ea typeface="Kalinga"/>
              </a:rPr>
              <a:t>Elasticity </a:t>
            </a:r>
            <a:endParaRPr b="0" lang="en-US" sz="48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subTitle"/>
          </p:nvPr>
        </p:nvSpPr>
        <p:spPr>
          <a:xfrm>
            <a:off x="1371600" y="32004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6a6a6"/>
                </a:solidFill>
                <a:latin typeface="Kalinga"/>
                <a:ea typeface="Kalinga"/>
              </a:rPr>
              <a:t>CHAPTER 4</a:t>
            </a:r>
            <a:endParaRPr b="0" lang="en-US" sz="20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9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0F6ED9F6-69DD-493C-96DB-6E6632A5C4F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Rectangle 3"/>
          <p:cNvSpPr/>
          <p:nvPr/>
        </p:nvSpPr>
        <p:spPr>
          <a:xfrm>
            <a:off x="457200" y="1190520"/>
            <a:ext cx="8458200" cy="52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culate the elasticity coefficients for each s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6" name=""/>
          <p:cNvGraphicFramePr/>
          <p:nvPr/>
        </p:nvGraphicFramePr>
        <p:xfrm>
          <a:off x="1517760" y="1300320"/>
          <a:ext cx="6168960" cy="1523880"/>
        </p:xfrm>
        <a:graphic>
          <a:graphicData uri="http://schemas.openxmlformats.org/drawingml/2006/table">
            <a:tbl>
              <a:tblPr/>
              <a:tblGrid>
                <a:gridCol w="2195280"/>
                <a:gridCol w="1898640"/>
                <a:gridCol w="2075040"/>
              </a:tblGrid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ant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t 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t I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7" name="TextBox 14"/>
          <p:cNvSpPr/>
          <p:nvPr/>
        </p:nvSpPr>
        <p:spPr>
          <a:xfrm>
            <a:off x="822960" y="3625920"/>
            <a:ext cx="806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Set I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5.67.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ε = </a:t>
            </a:r>
            <a:r>
              <a:rPr b="0" lang="en-GB" sz="2400" spc="-1" strike="noStrike" u="sng">
                <a:solidFill>
                  <a:srgbClr val="ff0000"/>
                </a:solidFill>
                <a:uFillTx/>
                <a:latin typeface="Times New Roman"/>
              </a:rPr>
              <a:t>(2–1) x100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 / </a:t>
            </a:r>
            <a:r>
              <a:rPr b="0" lang="en-GB" sz="2400" spc="-1" strike="noStrike" u="sng">
                <a:solidFill>
                  <a:srgbClr val="ff0000"/>
                </a:solidFill>
                <a:uFillTx/>
                <a:latin typeface="Times New Roman"/>
              </a:rPr>
              <a:t>(9 – 8) x 100 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=  66.66%/11.76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1.5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               8.5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TextBox 8"/>
          <p:cNvSpPr/>
          <p:nvPr/>
        </p:nvSpPr>
        <p:spPr>
          <a:xfrm>
            <a:off x="816120" y="4500720"/>
            <a:ext cx="806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Set II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0.18.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ε = </a:t>
            </a:r>
            <a:r>
              <a:rPr b="0" lang="en-GB" sz="2400" spc="-1" strike="noStrike" u="sng">
                <a:solidFill>
                  <a:srgbClr val="ff0000"/>
                </a:solidFill>
                <a:uFillTx/>
                <a:latin typeface="Times New Roman"/>
              </a:rPr>
              <a:t>(9–8) x100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 / </a:t>
            </a:r>
            <a:r>
              <a:rPr b="0" lang="en-GB" sz="2400" spc="-1" strike="noStrike" u="sng">
                <a:solidFill>
                  <a:srgbClr val="ff0000"/>
                </a:solidFill>
                <a:uFillTx/>
                <a:latin typeface="Times New Roman"/>
              </a:rPr>
              <a:t>(2 – 1) x 100 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=  11.76%/66.66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8.5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           1.5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0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9949F651-EF0D-473B-BA95-043C52FB584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Rectangle 3"/>
          <p:cNvSpPr/>
          <p:nvPr/>
        </p:nvSpPr>
        <p:spPr>
          <a:xfrm>
            <a:off x="457200" y="1190520"/>
            <a:ext cx="8458200" cy="52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each set the change in price is $1 and the change in quantity is 1 unit. Why aren’t the coefficients the same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4" name=""/>
          <p:cNvGraphicFramePr/>
          <p:nvPr/>
        </p:nvGraphicFramePr>
        <p:xfrm>
          <a:off x="1517760" y="1300320"/>
          <a:ext cx="6168960" cy="1523880"/>
        </p:xfrm>
        <a:graphic>
          <a:graphicData uri="http://schemas.openxmlformats.org/drawingml/2006/table">
            <a:tbl>
              <a:tblPr/>
              <a:tblGrid>
                <a:gridCol w="2195280"/>
                <a:gridCol w="1898640"/>
                <a:gridCol w="2075040"/>
              </a:tblGrid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ant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t 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t I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5" name="TextBox 8"/>
          <p:cNvSpPr/>
          <p:nvPr/>
        </p:nvSpPr>
        <p:spPr>
          <a:xfrm>
            <a:off x="795240" y="3884760"/>
            <a:ext cx="8018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They are not the same because the $1 change in price is a small % change in Set 1, but a big % change in Set 2.  Similarly, 1 unit is a big % change in Set 1, but a small % change in Set 2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Elasticity and Total Revenue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0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2A42323A-DD95-49A3-A7D4-F0C8B3AD7EF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457200" y="1423800"/>
            <a:ext cx="8229600" cy="470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f demand is elastic, an increase in price will decrease revenue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f demand is inelastic, an increase in price will increase revenue 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1" name=""/>
          <p:cNvGraphicFramePr/>
          <p:nvPr/>
        </p:nvGraphicFramePr>
        <p:xfrm>
          <a:off x="649440" y="3430440"/>
          <a:ext cx="7867440" cy="2230560"/>
        </p:xfrm>
        <a:graphic>
          <a:graphicData uri="http://schemas.openxmlformats.org/drawingml/2006/table">
            <a:tbl>
              <a:tblPr/>
              <a:tblGrid>
                <a:gridCol w="1106280"/>
                <a:gridCol w="1125720"/>
                <a:gridCol w="1701720"/>
                <a:gridCol w="982440"/>
                <a:gridCol w="1106640"/>
                <a:gridCol w="1844640"/>
              </a:tblGrid>
              <a:tr h="546120">
                <a:tc gridSpan="3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ncouver to Edmont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ncouver to Calga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19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>
                        <a:alpha val="44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ant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Revenue: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>
                        <a:alpha val="44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ada08">
                        <a:alpha val="44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ant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Revenue: 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ada08">
                        <a:alpha val="44000"/>
                      </a:srgbClr>
                    </a:solidFill>
                  </a:tcPr>
                </a:tc>
              </a:tr>
              <a:tr h="5619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6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b0f0">
                        <a:alpha val="44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650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b0f0">
                        <a:alpha val="44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6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8ada08">
                        <a:alpha val="44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650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8ada08">
                        <a:alpha val="44000"/>
                      </a:srgbClr>
                    </a:solidFill>
                  </a:tcPr>
                </a:tc>
              </a:tr>
              <a:tr h="5605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>
                        <a:alpha val="44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5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>
                        <a:alpha val="44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ada08">
                        <a:alpha val="44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2 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ada08">
                        <a:alpha val="44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512" name="Right Brace 12"/>
          <p:cNvSpPr/>
          <p:nvPr/>
        </p:nvSpPr>
        <p:spPr>
          <a:xfrm rot="5400000">
            <a:off x="2449800" y="3991680"/>
            <a:ext cx="351000" cy="3870360"/>
          </a:xfrm>
          <a:custGeom>
            <a:avLst/>
            <a:gdLst>
              <a:gd name="textAreaLeft" fmla="*/ 0 w 351000"/>
              <a:gd name="textAreaRight" fmla="*/ 126720 w 351000"/>
              <a:gd name="textAreaTop" fmla="*/ 9000 h 3870360"/>
              <a:gd name="textAreaBottom" fmla="*/ 3861360 h 387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2"/>
                  <a:pt x="10800" y="163"/>
                </a:cubicBezTo>
                <a:lnTo>
                  <a:pt x="10800" y="10637"/>
                </a:lnTo>
                <a:cubicBezTo>
                  <a:pt x="10800" y="10719"/>
                  <a:pt x="16200" y="10800"/>
                  <a:pt x="21600" y="10800"/>
                </a:cubicBezTo>
                <a:cubicBezTo>
                  <a:pt x="16200" y="10800"/>
                  <a:pt x="10800" y="10882"/>
                  <a:pt x="10800" y="10963"/>
                </a:cubicBezTo>
                <a:lnTo>
                  <a:pt x="10800" y="21437"/>
                </a:lnTo>
                <a:cubicBezTo>
                  <a:pt x="10800" y="21519"/>
                  <a:pt x="5400" y="21600"/>
                  <a:pt x="0" y="21600"/>
                </a:cubicBezTo>
              </a:path>
            </a:pathLst>
          </a:custGeom>
          <a:noFill/>
          <a:ln w="4140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TextBox 13"/>
          <p:cNvSpPr/>
          <p:nvPr/>
        </p:nvSpPr>
        <p:spPr>
          <a:xfrm>
            <a:off x="1898640" y="6039000"/>
            <a:ext cx="140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Right Brace 14"/>
          <p:cNvSpPr/>
          <p:nvPr/>
        </p:nvSpPr>
        <p:spPr>
          <a:xfrm rot="5400000">
            <a:off x="6359760" y="3993120"/>
            <a:ext cx="350640" cy="3870360"/>
          </a:xfrm>
          <a:custGeom>
            <a:avLst/>
            <a:gdLst>
              <a:gd name="textAreaLeft" fmla="*/ 0 w 350640"/>
              <a:gd name="textAreaRight" fmla="*/ 126720 w 350640"/>
              <a:gd name="textAreaTop" fmla="*/ 9000 h 3870360"/>
              <a:gd name="textAreaBottom" fmla="*/ 3861360 h 387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2"/>
                  <a:pt x="10800" y="163"/>
                </a:cubicBezTo>
                <a:lnTo>
                  <a:pt x="10800" y="10637"/>
                </a:lnTo>
                <a:cubicBezTo>
                  <a:pt x="10800" y="10719"/>
                  <a:pt x="16200" y="10800"/>
                  <a:pt x="21600" y="10800"/>
                </a:cubicBezTo>
                <a:cubicBezTo>
                  <a:pt x="16200" y="10800"/>
                  <a:pt x="10800" y="10882"/>
                  <a:pt x="10800" y="10963"/>
                </a:cubicBezTo>
                <a:lnTo>
                  <a:pt x="10800" y="21437"/>
                </a:lnTo>
                <a:cubicBezTo>
                  <a:pt x="10800" y="21519"/>
                  <a:pt x="5400" y="21600"/>
                  <a:pt x="0" y="21600"/>
                </a:cubicBezTo>
              </a:path>
            </a:pathLst>
          </a:custGeom>
          <a:noFill/>
          <a:ln w="4140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5"/>
          <p:cNvSpPr/>
          <p:nvPr/>
        </p:nvSpPr>
        <p:spPr>
          <a:xfrm>
            <a:off x="6005880" y="6021360"/>
            <a:ext cx="110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Elasticity and Total Revenue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graphicFrame>
        <p:nvGraphicFramePr>
          <p:cNvPr id="517" name=""/>
          <p:cNvGraphicFramePr/>
          <p:nvPr/>
        </p:nvGraphicFramePr>
        <p:xfrm>
          <a:off x="563400" y="2019240"/>
          <a:ext cx="7974000" cy="3538440"/>
        </p:xfrm>
        <a:graphic>
          <a:graphicData uri="http://schemas.openxmlformats.org/drawingml/2006/table">
            <a:tbl>
              <a:tblPr/>
              <a:tblGrid>
                <a:gridCol w="2838600"/>
                <a:gridCol w="2328840"/>
                <a:gridCol w="2806560"/>
              </a:tblGrid>
              <a:tr h="7318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f Demand is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nd Price 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hen Total Revenue 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468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elastic (&lt;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l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l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468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elastic (&lt;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s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s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466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astic (&gt;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l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s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468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astic (&gt;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s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l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468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itary elastic (=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l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ys the sa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466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itary elastic (=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s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ys the sa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</a:tbl>
          </a:graphicData>
        </a:graphic>
      </p:graphicFrame>
      <p:sp>
        <p:nvSpPr>
          <p:cNvPr id="51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0CD28C3E-97EB-4A51-BBAA-66E4808461B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2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E4B7B724-4CF3-4727-BDF9-CCAC46531BA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Rectangle 3"/>
          <p:cNvSpPr/>
          <p:nvPr/>
        </p:nvSpPr>
        <p:spPr>
          <a:xfrm>
            <a:off x="457200" y="1190520"/>
            <a:ext cx="8458200" cy="52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would happen to total revenue in each of the circumstances below?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1 and price fall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1 and price rises 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1 and price fal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)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1 and price rises  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 and price ris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2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83A24CFE-0C63-42B6-84AE-A864B4DA53F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Rectangle 3"/>
          <p:cNvSpPr/>
          <p:nvPr/>
        </p:nvSpPr>
        <p:spPr>
          <a:xfrm>
            <a:off x="457200" y="1190520"/>
            <a:ext cx="8458200" cy="52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would happen to total revenue in each of the circumstances below?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1 and price fall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1 and price rises 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1 and price fal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)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1 and price rises  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 and price ris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TextBox 9"/>
          <p:cNvSpPr/>
          <p:nvPr/>
        </p:nvSpPr>
        <p:spPr>
          <a:xfrm>
            <a:off x="1185120" y="318924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TR rises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TextBox 8"/>
          <p:cNvSpPr/>
          <p:nvPr/>
        </p:nvSpPr>
        <p:spPr>
          <a:xfrm>
            <a:off x="4718880" y="317196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TR rises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TextBox 10"/>
          <p:cNvSpPr/>
          <p:nvPr/>
        </p:nvSpPr>
        <p:spPr>
          <a:xfrm>
            <a:off x="1181880" y="433404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TR falls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TextBox 11"/>
          <p:cNvSpPr/>
          <p:nvPr/>
        </p:nvSpPr>
        <p:spPr>
          <a:xfrm>
            <a:off x="4736520" y="433872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TR falls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Box 13"/>
          <p:cNvSpPr/>
          <p:nvPr/>
        </p:nvSpPr>
        <p:spPr>
          <a:xfrm>
            <a:off x="1196280" y="545472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No change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Elasticity and Slope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3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995535E3-A32C-4CA6-8BFC-F7D0BB6176B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457200" y="1860480"/>
            <a:ext cx="8229600" cy="448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Slope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ise over run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6a6a6"/>
                </a:solidFill>
                <a:latin typeface="Kalinga"/>
              </a:rPr>
              <a:t> </a:t>
            </a: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Elasticity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ercentage change in quantity over percentage change in price 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l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57774903-F772-4669-AD0B-7AD5029F3DD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3" name="Picture 3" descr="Fig4_1.bmp"/>
          <p:cNvPicPr/>
          <p:nvPr/>
        </p:nvPicPr>
        <p:blipFill>
          <a:blip r:embed="rId1"/>
          <a:stretch/>
        </p:blipFill>
        <p:spPr>
          <a:xfrm>
            <a:off x="0" y="0"/>
            <a:ext cx="7440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l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67B2B34C-C8F1-4351-8365-50706D8941C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6" name="Picture 4" descr="Fig4_2.bmp"/>
          <p:cNvPicPr/>
          <p:nvPr/>
        </p:nvPicPr>
        <p:blipFill>
          <a:blip r:embed="rId1"/>
          <a:stretch/>
        </p:blipFill>
        <p:spPr>
          <a:xfrm>
            <a:off x="0" y="0"/>
            <a:ext cx="877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4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76BCA24F-9B9B-4B74-A60B-E7EA7D13EA2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Rectangle 3"/>
          <p:cNvSpPr/>
          <p:nvPr/>
        </p:nvSpPr>
        <p:spPr>
          <a:xfrm>
            <a:off x="457200" y="1457280"/>
            <a:ext cx="845820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 a demand curve using the data from the demand schedule (make each square on both axes equal to 2)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slope of this demand curve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could you demonstrate that th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asticity of demand was not the same a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lop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2" name=""/>
          <p:cNvGraphicFramePr/>
          <p:nvPr/>
        </p:nvGraphicFramePr>
        <p:xfrm>
          <a:off x="6078600" y="2338560"/>
          <a:ext cx="2576520" cy="3498840"/>
        </p:xfrm>
        <a:graphic>
          <a:graphicData uri="http://schemas.openxmlformats.org/drawingml/2006/table">
            <a:tbl>
              <a:tblPr/>
              <a:tblGrid>
                <a:gridCol w="1130400"/>
                <a:gridCol w="1446120"/>
              </a:tblGrid>
              <a:tr h="3506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ant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49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510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49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49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510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49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49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506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495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743200" y="11430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Kalinga"/>
              </a:rPr>
              <a:t>Elasticity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6840" y="2944800"/>
            <a:ext cx="8381880" cy="34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262626"/>
                </a:solidFill>
                <a:latin typeface="Times New Roman"/>
              </a:rPr>
              <a:t>LO1:  Understand the concept and calculate price elasticity of demand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262626"/>
                </a:solidFill>
                <a:latin typeface="Times New Roman"/>
              </a:rPr>
              <a:t>LO2:  Understand the relationship between the slope of a demand curve and elasticity and how this affects the total revenue of the producer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262626"/>
                </a:solidFill>
                <a:latin typeface="Times New Roman"/>
              </a:rPr>
              <a:t>LO3:  Understand the determinants of price elasticity of demand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2819520" y="762120"/>
            <a:ext cx="35812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f7f7f"/>
                </a:solidFill>
                <a:latin typeface="Kalinga"/>
              </a:rPr>
              <a:t>CHAPTER 4 </a:t>
            </a:r>
            <a:endParaRPr b="0" lang="en-US" sz="17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7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C168463F-A4E3-4A46-9A16-89EFC27AEDB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5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32986A37-0CC3-4E02-B4BA-FFFC742A481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Rectangle 3"/>
          <p:cNvSpPr/>
          <p:nvPr/>
        </p:nvSpPr>
        <p:spPr>
          <a:xfrm>
            <a:off x="457200" y="1457280"/>
            <a:ext cx="845820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 a demand curve using the data from the demand schedule (make each square on both axes equal to 2)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8" name=""/>
          <p:cNvGraphicFramePr/>
          <p:nvPr/>
        </p:nvGraphicFramePr>
        <p:xfrm>
          <a:off x="6078600" y="2338560"/>
          <a:ext cx="2576520" cy="3498840"/>
        </p:xfrm>
        <a:graphic>
          <a:graphicData uri="http://schemas.openxmlformats.org/drawingml/2006/table">
            <a:tbl>
              <a:tblPr/>
              <a:tblGrid>
                <a:gridCol w="1130400"/>
                <a:gridCol w="1446120"/>
              </a:tblGrid>
              <a:tr h="3506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ant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49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510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49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49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510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49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49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506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495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</a:tbl>
          </a:graphicData>
        </a:graphic>
      </p:graphicFrame>
      <p:sp>
        <p:nvSpPr>
          <p:cNvPr id="55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0" name="" descr=""/>
          <p:cNvPicPr/>
          <p:nvPr/>
        </p:nvPicPr>
        <p:blipFill>
          <a:blip r:embed="rId1"/>
          <a:stretch/>
        </p:blipFill>
        <p:spPr>
          <a:xfrm>
            <a:off x="318960" y="2317680"/>
            <a:ext cx="5518440" cy="3753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6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58ECEA46-02A4-4F76-8235-D3D8D10CE96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Rectangle 3"/>
          <p:cNvSpPr/>
          <p:nvPr/>
        </p:nvSpPr>
        <p:spPr>
          <a:xfrm>
            <a:off x="457200" y="1457280"/>
            <a:ext cx="845820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slope of this demand curve?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could you demonstrate that th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asticity of demand was not the same a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lop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9"/>
          <p:cNvSpPr/>
          <p:nvPr/>
        </p:nvSpPr>
        <p:spPr>
          <a:xfrm>
            <a:off x="901080" y="192420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–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/2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∆P/∆Q) = 1/–2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7" name=""/>
          <p:cNvGraphicFramePr/>
          <p:nvPr/>
        </p:nvGraphicFramePr>
        <p:xfrm>
          <a:off x="6078600" y="2338560"/>
          <a:ext cx="2576520" cy="3498840"/>
        </p:xfrm>
        <a:graphic>
          <a:graphicData uri="http://schemas.openxmlformats.org/drawingml/2006/table">
            <a:tbl>
              <a:tblPr/>
              <a:tblGrid>
                <a:gridCol w="1130400"/>
                <a:gridCol w="1446120"/>
              </a:tblGrid>
              <a:tr h="3506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ant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49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510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49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49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510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49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49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506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495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</a:tbl>
          </a:graphicData>
        </a:graphic>
      </p:graphicFrame>
      <p:sp>
        <p:nvSpPr>
          <p:cNvPr id="568" name="TextBox 8"/>
          <p:cNvSpPr/>
          <p:nvPr/>
        </p:nvSpPr>
        <p:spPr>
          <a:xfrm>
            <a:off x="520560" y="3789360"/>
            <a:ext cx="5273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The elasticity coefficient for a price change from, say, 4 to 5 is 0.82 which is quite different from the slope of  – 1/2.  In fact, elasticity varies along any curve despite the fact that the slope is const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Determinants of Elasticity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6a6a6"/>
                </a:solidFill>
                <a:latin typeface="Kalinga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Kalinga"/>
            </a:endParaRPr>
          </a:p>
          <a:p>
            <a:pPr lvl="1" marL="971640" indent="-514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xamples of elastic and inelastic demands: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877CF07E-C909-4F22-AA06-0D3B8286450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9" name=""/>
          <p:cNvGraphicFramePr/>
          <p:nvPr/>
        </p:nvGraphicFramePr>
        <p:xfrm>
          <a:off x="744480" y="2243160"/>
          <a:ext cx="7836120" cy="3457440"/>
        </p:xfrm>
        <a:graphic>
          <a:graphicData uri="http://schemas.openxmlformats.org/drawingml/2006/table">
            <a:tbl>
              <a:tblPr/>
              <a:tblGrid>
                <a:gridCol w="3865680"/>
                <a:gridCol w="3970440"/>
              </a:tblGrid>
              <a:tr h="610200"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modities That Have Elastic Deman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modities That Have Inelastic Deman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sh tomatoes (4.6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usehold electricity (0.13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03200"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vies (3.4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ggs (0.3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mb (2.65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r repairs (0.36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3200"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taurant meals (1.63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ood (0.58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3200"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ina and tableware (1.54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usehold appliances (0.63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3200"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utomobiles (1.14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bacco (0.86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600">
                <a:tc gridSpan="2"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urce: H.S. Houthakker and Lester D. Taylor, Consumer Demand in the United States (Cambridge, MA: Harvard University Press, 1970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a8236"/>
                </a:solidFill>
                <a:latin typeface="Kalinga"/>
              </a:rPr>
              <a:t>Determinants of Price Elasticity</a:t>
            </a:r>
            <a:endParaRPr b="0" lang="en-US" sz="40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457200" y="1742760"/>
            <a:ext cx="8229600" cy="43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6a6a6"/>
                </a:solidFill>
                <a:latin typeface="Kalinga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Kalinga"/>
            </a:endParaRPr>
          </a:p>
          <a:p>
            <a:pPr lvl="1" marL="971640" indent="-514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demand for a product is more elastic: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loser and the greater are the number of available substitutes;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larger the percentage of one’s income that is spent on the product; and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longer the time period involved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601"/>
              </a:spcBef>
              <a:buClr>
                <a:srgbClr val="000000"/>
              </a:buClr>
              <a:buFont typeface="Kaling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7918AF3F-67C7-4DF8-9608-9EE7E34F1BA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9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0486FAF5-EAEC-4232-9A64-A95949C9021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57200" y="1190520"/>
            <a:ext cx="8458200" cy="52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agine that elasticity coefficients were recently measured in Canada over a period of one year for the following products. Indicate whether you think such a measurement would be elastic (&gt;1) or inelastic (&lt;1) demand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g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taurant meals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so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men’s hats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ean cruis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9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DDF4EF3A-3192-4CA3-8469-DF9D285E874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3"/>
          <p:cNvSpPr/>
          <p:nvPr/>
        </p:nvSpPr>
        <p:spPr>
          <a:xfrm>
            <a:off x="457200" y="1190520"/>
            <a:ext cx="8458200" cy="52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agine that elasticity coefficients were recently measured in Canada over a period of one year for the following products. Indicate whether you think such a measurement would be elastic (&gt;1) or inelastic (&lt;1) demand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g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taurant meals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so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men’s hats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ean cruis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TextBox 6"/>
          <p:cNvSpPr/>
          <p:nvPr/>
        </p:nvSpPr>
        <p:spPr>
          <a:xfrm>
            <a:off x="930240" y="379584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inelastic (&lt;1)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Box 8"/>
          <p:cNvSpPr/>
          <p:nvPr/>
        </p:nvSpPr>
        <p:spPr>
          <a:xfrm>
            <a:off x="912960" y="452268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inelastic (&lt;1)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TextBox 9"/>
          <p:cNvSpPr/>
          <p:nvPr/>
        </p:nvSpPr>
        <p:spPr>
          <a:xfrm>
            <a:off x="916200" y="523872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elastic (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&gt;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1)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Box 10"/>
          <p:cNvSpPr/>
          <p:nvPr/>
        </p:nvSpPr>
        <p:spPr>
          <a:xfrm>
            <a:off x="4587840" y="381636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elastic (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&gt;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1)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TextBox 11"/>
          <p:cNvSpPr/>
          <p:nvPr/>
        </p:nvSpPr>
        <p:spPr>
          <a:xfrm>
            <a:off x="4559400" y="452268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elastic (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&gt;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1)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TextBox 13"/>
          <p:cNvSpPr/>
          <p:nvPr/>
        </p:nvSpPr>
        <p:spPr>
          <a:xfrm>
            <a:off x="4562640" y="523872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inelastic (&lt;1)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Applications of Price Elasticity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457200" y="1572840"/>
            <a:ext cx="8229600" cy="455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 </a:t>
            </a: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Excise Tax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sales tax imposed on a particular product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5136D013-C89D-4711-84F5-4A8B0649E6C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6" name="Picture 11" descr="Fig4-6.bmp"/>
          <p:cNvPicPr/>
          <p:nvPr/>
        </p:nvPicPr>
        <p:blipFill>
          <a:blip r:embed="rId1"/>
          <a:stretch/>
        </p:blipFill>
        <p:spPr>
          <a:xfrm>
            <a:off x="0" y="2751120"/>
            <a:ext cx="9144000" cy="3673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Applications of Price Elasticity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457200" y="1318680"/>
            <a:ext cx="8229600" cy="480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more inelastic the demand for a product, the larger is the percentage of a sales (or excise) tax the consumer will pay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8A1498B0-E549-4821-8F95-EC1875339CD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7" name="Picture 12" descr="Fig4-7.bmp"/>
          <p:cNvPicPr/>
          <p:nvPr/>
        </p:nvPicPr>
        <p:blipFill>
          <a:blip r:embed="rId1"/>
          <a:stretch/>
        </p:blipFill>
        <p:spPr>
          <a:xfrm>
            <a:off x="0" y="2782800"/>
            <a:ext cx="9144000" cy="3652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Elasticity of Supply 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457200" y="1222200"/>
            <a:ext cx="822960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6a6a6"/>
                </a:solidFill>
                <a:latin typeface="Kalinga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Kalinga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measure of how much quantity supplied changes as a result of a change in price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an be expanded to: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51781C0D-5E39-4492-B261-69DBE92F142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Rounded Rectangle 7"/>
          <p:cNvSpPr/>
          <p:nvPr/>
        </p:nvSpPr>
        <p:spPr>
          <a:xfrm>
            <a:off x="2743200" y="2498760"/>
            <a:ext cx="3700440" cy="1073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Rounded Rectangle 12"/>
          <p:cNvSpPr/>
          <p:nvPr/>
        </p:nvSpPr>
        <p:spPr>
          <a:xfrm>
            <a:off x="2732040" y="4284720"/>
            <a:ext cx="3743280" cy="1935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8" name="" descr=""/>
          <p:cNvPicPr/>
          <p:nvPr/>
        </p:nvPicPr>
        <p:blipFill>
          <a:blip r:embed="rId1"/>
          <a:stretch/>
        </p:blipFill>
        <p:spPr>
          <a:xfrm>
            <a:off x="2795760" y="2625840"/>
            <a:ext cx="3543120" cy="893520"/>
          </a:xfrm>
          <a:prstGeom prst="rect">
            <a:avLst/>
          </a:prstGeom>
          <a:ln w="0">
            <a:noFill/>
          </a:ln>
        </p:spPr>
      </p:pic>
      <p:sp>
        <p:nvSpPr>
          <p:cNvPr id="639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0" name="" descr=""/>
          <p:cNvPicPr/>
          <p:nvPr/>
        </p:nvPicPr>
        <p:blipFill>
          <a:blip r:embed="rId2"/>
          <a:stretch/>
        </p:blipFill>
        <p:spPr>
          <a:xfrm>
            <a:off x="3094200" y="4390920"/>
            <a:ext cx="3073320" cy="1728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Elasticity of Supply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42" name=""/>
          <p:cNvSpPr txBox="1"/>
          <p:nvPr/>
        </p:nvSpPr>
        <p:spPr>
          <a:xfrm>
            <a:off x="457200" y="1360440"/>
            <a:ext cx="8229600" cy="47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6a6a6"/>
                </a:solidFill>
                <a:latin typeface="Kalinga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Kalinga"/>
            </a:endParaRPr>
          </a:p>
          <a:p>
            <a:pPr lvl="1" marL="971640" indent="-514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xample: When price changes from $2 to $3, the quantity supplied rises from 400 to 500.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744B4DC0-A43A-4C3D-ADBE-AD65A2BF16A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2" name="" descr=""/>
          <p:cNvPicPr/>
          <p:nvPr/>
        </p:nvPicPr>
        <p:blipFill>
          <a:blip r:embed="rId1"/>
          <a:stretch/>
        </p:blipFill>
        <p:spPr>
          <a:xfrm>
            <a:off x="2637000" y="4678200"/>
            <a:ext cx="3859200" cy="1443240"/>
          </a:xfrm>
          <a:prstGeom prst="rect">
            <a:avLst/>
          </a:prstGeom>
          <a:ln w="0">
            <a:noFill/>
          </a:ln>
        </p:spPr>
      </p:pic>
      <p:pic>
        <p:nvPicPr>
          <p:cNvPr id="653" name="" descr=""/>
          <p:cNvPicPr/>
          <p:nvPr/>
        </p:nvPicPr>
        <p:blipFill>
          <a:blip r:embed="rId2"/>
          <a:stretch/>
        </p:blipFill>
        <p:spPr>
          <a:xfrm>
            <a:off x="3147840" y="2751120"/>
            <a:ext cx="2859120" cy="1609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2743200" y="11430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Kalinga"/>
              </a:rPr>
              <a:t>Elasticity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6840" y="2944800"/>
            <a:ext cx="8381880" cy="34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262626"/>
                </a:solidFill>
                <a:latin typeface="Times New Roman"/>
              </a:rPr>
              <a:t>LO4:  Use real-world examples to demonstrate that the concept of elasticity is a powerful tool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262626"/>
                </a:solidFill>
                <a:latin typeface="Times New Roman"/>
              </a:rPr>
              <a:t>LO5:  Understand the meaning and significance  of elasticity of supply, income elasticity, and cross-elasticity of demand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2819520" y="762120"/>
            <a:ext cx="35812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f7f7f"/>
                </a:solidFill>
                <a:latin typeface="Kalinga"/>
              </a:rPr>
              <a:t>CHAPTER 4 </a:t>
            </a:r>
            <a:endParaRPr b="0" lang="en-US" sz="17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42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CDC6B5D1-D5FD-4DE3-97EB-D9863DEA31E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93B90284-BD3E-4FC8-AD31-AE00404E62B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2" name="Picture 12" descr="Fig4_12.bmp"/>
          <p:cNvPicPr/>
          <p:nvPr/>
        </p:nvPicPr>
        <p:blipFill>
          <a:blip r:embed="rId1"/>
          <a:stretch/>
        </p:blipFill>
        <p:spPr>
          <a:xfrm>
            <a:off x="0" y="490680"/>
            <a:ext cx="9144000" cy="5846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Perfectly Inelastic Supply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6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2248EAA2-631E-4E52-8A3B-6F7FE1C22F1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2" name="Picture 13" descr="Fig4-13.bmp"/>
          <p:cNvPicPr/>
          <p:nvPr/>
        </p:nvPicPr>
        <p:blipFill>
          <a:blip r:embed="rId1"/>
          <a:stretch/>
        </p:blipFill>
        <p:spPr>
          <a:xfrm>
            <a:off x="0" y="1630440"/>
            <a:ext cx="8962920" cy="4255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Income Elasticity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74" name=""/>
          <p:cNvSpPr txBox="1"/>
          <p:nvPr/>
        </p:nvSpPr>
        <p:spPr>
          <a:xfrm>
            <a:off x="457200" y="1222200"/>
            <a:ext cx="822960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6a6a6"/>
                </a:solidFill>
                <a:latin typeface="Kalinga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Kalinga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responsiveness of quantity demanded to a change in income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an be expanded to: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840C61A9-7A02-46B6-8855-AA5E90172D7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Rounded Rectangle 7"/>
          <p:cNvSpPr/>
          <p:nvPr/>
        </p:nvSpPr>
        <p:spPr>
          <a:xfrm>
            <a:off x="2084400" y="2498760"/>
            <a:ext cx="4932360" cy="1073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Rounded Rectangle 12"/>
          <p:cNvSpPr/>
          <p:nvPr/>
        </p:nvSpPr>
        <p:spPr>
          <a:xfrm>
            <a:off x="2732040" y="4284720"/>
            <a:ext cx="3743280" cy="1935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5" name="" descr=""/>
          <p:cNvPicPr/>
          <p:nvPr/>
        </p:nvPicPr>
        <p:blipFill>
          <a:blip r:embed="rId1"/>
          <a:stretch/>
        </p:blipFill>
        <p:spPr>
          <a:xfrm>
            <a:off x="2286000" y="2637000"/>
            <a:ext cx="4527720" cy="893520"/>
          </a:xfrm>
          <a:prstGeom prst="rect">
            <a:avLst/>
          </a:prstGeom>
          <a:ln w="0">
            <a:noFill/>
          </a:ln>
        </p:spPr>
      </p:pic>
      <p:sp>
        <p:nvSpPr>
          <p:cNvPr id="686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7" name="" descr=""/>
          <p:cNvPicPr/>
          <p:nvPr/>
        </p:nvPicPr>
        <p:blipFill>
          <a:blip r:embed="rId2"/>
          <a:stretch/>
        </p:blipFill>
        <p:spPr>
          <a:xfrm>
            <a:off x="2955960" y="4402080"/>
            <a:ext cx="3306600" cy="1785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Income Elasticity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8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C584AD42-0591-4B3E-A03D-95279850360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2" name=""/>
          <p:cNvGraphicFramePr/>
          <p:nvPr/>
        </p:nvGraphicFramePr>
        <p:xfrm>
          <a:off x="934920" y="1865160"/>
          <a:ext cx="7347240" cy="3568680"/>
        </p:xfrm>
        <a:graphic>
          <a:graphicData uri="http://schemas.openxmlformats.org/drawingml/2006/table">
            <a:tbl>
              <a:tblPr/>
              <a:tblGrid>
                <a:gridCol w="2449800"/>
                <a:gridCol w="2449440"/>
                <a:gridCol w="244800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Kalinga"/>
                        </a:rPr>
                        <a:t>If coefficient is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Kalinga"/>
                        </a:rPr>
                        <a:t>Type of Good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Kalinga"/>
                        </a:rPr>
                        <a:t>Demand is: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913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eater than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rmal –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uxury good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come elasti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915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ss than 1 but greater than 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rmal – </a:t>
                      </a:r>
                      <a:br>
                        <a:rPr sz="2400"/>
                      </a:b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cessity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come inelasti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ss than 0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ferior goo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gative income elastic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Income Elasticity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94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6a6a6"/>
                </a:solidFill>
                <a:latin typeface="Kalinga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BLE 4.9 Differences in Spending between the Richest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d Poorest Groups in Canada, 1996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CF36C517-4C21-4BFF-BA40-6624D76E013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3" name=""/>
          <p:cNvGraphicFramePr/>
          <p:nvPr/>
        </p:nvGraphicFramePr>
        <p:xfrm>
          <a:off x="552600" y="2487600"/>
          <a:ext cx="7995960" cy="3754440"/>
        </p:xfrm>
        <a:graphic>
          <a:graphicData uri="http://schemas.openxmlformats.org/drawingml/2006/table">
            <a:tbl>
              <a:tblPr/>
              <a:tblGrid>
                <a:gridCol w="1168200"/>
                <a:gridCol w="1282680"/>
                <a:gridCol w="1401840"/>
                <a:gridCol w="1244520"/>
                <a:gridCol w="1381320"/>
                <a:gridCol w="1517400"/>
              </a:tblGrid>
              <a:tr h="293760">
                <a:tc gridSpan="4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come Inelast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come Elast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71560">
                <a:tc>
                  <a:txBody>
                    <a:bodyPr lIns="0" rIns="0" tIns="0" bIns="0" anchor="b">
                      <a:noAutofit/>
                    </a:bodyPr>
                    <a:p>
                      <a:pPr marL="90360"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teg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west income percenti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ighest income percenti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90360"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teg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west income percenti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ighest income percenti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o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.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.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urnit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93760"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hel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oth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3760"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ubl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v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1960"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anspo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anspo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3760"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useho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cre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3760"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per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du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1960"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bacco &amp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3760"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coh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 gridSpan="6"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urce: Based on Statistics Canada, Family Expenditure in Canada, 1996, catalogue no. 62-555-XPB, released on July 28, 1998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0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AC14D48D-10D7-49BF-8135-EE88675B4FB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Rectangle 3"/>
          <p:cNvSpPr/>
          <p:nvPr/>
        </p:nvSpPr>
        <p:spPr>
          <a:xfrm>
            <a:off x="457200" y="1328760"/>
            <a:ext cx="8458200" cy="50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are given the following data.  Assume that the prices of X and Y do not ch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culate the income elasticity for products X and Y.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products X and Y normal good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9" name=""/>
          <p:cNvGraphicFramePr/>
          <p:nvPr/>
        </p:nvGraphicFramePr>
        <p:xfrm>
          <a:off x="1351080" y="2403360"/>
          <a:ext cx="6464160" cy="1225800"/>
        </p:xfrm>
        <a:graphic>
          <a:graphicData uri="http://schemas.openxmlformats.org/drawingml/2006/table">
            <a:tbl>
              <a:tblPr/>
              <a:tblGrid>
                <a:gridCol w="1631880"/>
                <a:gridCol w="2415960"/>
                <a:gridCol w="2416320"/>
              </a:tblGrid>
              <a:tr h="6098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co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antity Demanded of 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antity Demanded of 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3078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0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81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1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73C7121A-A650-438E-BB06-90A01A90B18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Rectangle 3"/>
          <p:cNvSpPr/>
          <p:nvPr/>
        </p:nvSpPr>
        <p:spPr>
          <a:xfrm>
            <a:off x="457200" y="1328760"/>
            <a:ext cx="8458200" cy="50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are given the following data.  Assume that the prices of X and Y do not ch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culate the income elasticity for products X and Y.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5" name=""/>
          <p:cNvGraphicFramePr/>
          <p:nvPr/>
        </p:nvGraphicFramePr>
        <p:xfrm>
          <a:off x="1351080" y="2403360"/>
          <a:ext cx="6464160" cy="1225800"/>
        </p:xfrm>
        <a:graphic>
          <a:graphicData uri="http://schemas.openxmlformats.org/drawingml/2006/table">
            <a:tbl>
              <a:tblPr/>
              <a:tblGrid>
                <a:gridCol w="1631880"/>
                <a:gridCol w="2415960"/>
                <a:gridCol w="2416320"/>
              </a:tblGrid>
              <a:tr h="6098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co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antity Demanded of 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antity Demanded of 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3078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0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81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6" name="TextBox 9"/>
          <p:cNvSpPr/>
          <p:nvPr/>
        </p:nvSpPr>
        <p:spPr>
          <a:xfrm>
            <a:off x="914400" y="4338720"/>
            <a:ext cx="732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X: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 + 1.36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;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ε = </a:t>
            </a:r>
            <a:r>
              <a:rPr b="0" lang="en-GB" sz="2000" spc="-1" strike="noStrike" u="sng">
                <a:solidFill>
                  <a:srgbClr val="ff0000"/>
                </a:solidFill>
                <a:uFillTx/>
                <a:latin typeface="Times New Roman"/>
              </a:rPr>
              <a:t>(350–200) x100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/</a:t>
            </a:r>
            <a:r>
              <a:rPr b="0" lang="en-GB" sz="2000" spc="-1" strike="noStrike" u="sng">
                <a:solidFill>
                  <a:srgbClr val="ff0000"/>
                </a:solidFill>
                <a:uFillTx/>
                <a:latin typeface="Times New Roman"/>
              </a:rPr>
              <a:t>(15 000 – 10 000) x 100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   +54.5%/+40%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275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12 5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TextBox 10"/>
          <p:cNvSpPr/>
          <p:nvPr/>
        </p:nvSpPr>
        <p:spPr>
          <a:xfrm>
            <a:off x="917640" y="5394240"/>
            <a:ext cx="732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Y = 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+ 0.19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. 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br>
              <a:rPr sz="2000"/>
            </a:b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ε = </a:t>
            </a:r>
            <a:r>
              <a:rPr b="0" lang="en-GB" sz="2000" spc="-1" strike="noStrike" u="sng">
                <a:solidFill>
                  <a:srgbClr val="ff0000"/>
                </a:solidFill>
                <a:uFillTx/>
                <a:latin typeface="Times New Roman"/>
              </a:rPr>
              <a:t>(54–50) x100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 / </a:t>
            </a:r>
            <a:r>
              <a:rPr b="0" lang="en-GB" sz="2000" spc="-1" strike="noStrike" u="sng">
                <a:solidFill>
                  <a:srgbClr val="ff0000"/>
                </a:solidFill>
                <a:uFillTx/>
                <a:latin typeface="Times New Roman"/>
              </a:rPr>
              <a:t>(15 000 – 10 000) x100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  =  +7.6%/+40%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52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12 5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1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EF9897FE-7C60-4AD3-9961-84C1F332CE5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Rectangle 3"/>
          <p:cNvSpPr/>
          <p:nvPr/>
        </p:nvSpPr>
        <p:spPr>
          <a:xfrm>
            <a:off x="457200" y="1328760"/>
            <a:ext cx="8458200" cy="50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are given the following data.  Assume that the prices of X and Y do not ch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products X and Y normal good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3" name=""/>
          <p:cNvGraphicFramePr/>
          <p:nvPr/>
        </p:nvGraphicFramePr>
        <p:xfrm>
          <a:off x="1351080" y="2403360"/>
          <a:ext cx="6464160" cy="1225800"/>
        </p:xfrm>
        <a:graphic>
          <a:graphicData uri="http://schemas.openxmlformats.org/drawingml/2006/table">
            <a:tbl>
              <a:tblPr/>
              <a:tblGrid>
                <a:gridCol w="1631880"/>
                <a:gridCol w="2415960"/>
                <a:gridCol w="2416320"/>
              </a:tblGrid>
              <a:tr h="6098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co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antity Demanded of 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antity Demanded of 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3078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0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81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4" name="TextBox 9"/>
          <p:cNvSpPr/>
          <p:nvPr/>
        </p:nvSpPr>
        <p:spPr>
          <a:xfrm>
            <a:off x="787320" y="4551480"/>
            <a:ext cx="732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0000"/>
                </a:solidFill>
                <a:latin typeface="Times New Roman"/>
              </a:rPr>
              <a:t>Yes. 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 Both products have a positive co-efficient; product X is a luxury with a co-efficient greater than 1, Y is a necessity with a co-efficient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Cross Elasticity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26" name=""/>
          <p:cNvSpPr txBox="1"/>
          <p:nvPr/>
        </p:nvSpPr>
        <p:spPr>
          <a:xfrm>
            <a:off x="457200" y="1276200"/>
            <a:ext cx="8229600" cy="484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6a6a6"/>
                </a:solidFill>
                <a:latin typeface="Kalinga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Kalinga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esponsiveness of the change in Qd of product A to a change in the price of product B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an be expanded to: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513CA254-D4A8-4B25-8EF7-276A3BC868F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Rounded Rectangle 7"/>
          <p:cNvSpPr/>
          <p:nvPr/>
        </p:nvSpPr>
        <p:spPr>
          <a:xfrm>
            <a:off x="1328760" y="2498760"/>
            <a:ext cx="6570720" cy="1073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Rounded Rectangle 12"/>
          <p:cNvSpPr/>
          <p:nvPr/>
        </p:nvSpPr>
        <p:spPr>
          <a:xfrm>
            <a:off x="2732040" y="4284720"/>
            <a:ext cx="3743280" cy="1935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9" name="" descr=""/>
          <p:cNvPicPr/>
          <p:nvPr/>
        </p:nvPicPr>
        <p:blipFill>
          <a:blip r:embed="rId1"/>
          <a:stretch/>
        </p:blipFill>
        <p:spPr>
          <a:xfrm>
            <a:off x="1754280" y="2647800"/>
            <a:ext cx="5605200" cy="873360"/>
          </a:xfrm>
          <a:prstGeom prst="rect">
            <a:avLst/>
          </a:prstGeom>
          <a:ln w="0">
            <a:noFill/>
          </a:ln>
        </p:spPr>
      </p:pic>
      <p:sp>
        <p:nvSpPr>
          <p:cNvPr id="740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1" name="" descr=""/>
          <p:cNvPicPr/>
          <p:nvPr/>
        </p:nvPicPr>
        <p:blipFill>
          <a:blip r:embed="rId2"/>
          <a:stretch/>
        </p:blipFill>
        <p:spPr>
          <a:xfrm>
            <a:off x="3030480" y="4390920"/>
            <a:ext cx="3125880" cy="1770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Cross Elasticity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43" name=""/>
          <p:cNvSpPr txBox="1"/>
          <p:nvPr/>
        </p:nvSpPr>
        <p:spPr>
          <a:xfrm>
            <a:off x="457200" y="1083960"/>
            <a:ext cx="8229600" cy="50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6a6a6"/>
                </a:solidFill>
                <a:latin typeface="Kalinga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4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FCFCC539-78E6-41DA-958C-25AFE4F90E4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2" name=""/>
          <p:cNvGraphicFramePr/>
          <p:nvPr/>
        </p:nvGraphicFramePr>
        <p:xfrm>
          <a:off x="712800" y="1522440"/>
          <a:ext cx="7709040" cy="1523880"/>
        </p:xfrm>
        <a:graphic>
          <a:graphicData uri="http://schemas.openxmlformats.org/drawingml/2006/table">
            <a:tbl>
              <a:tblPr/>
              <a:tblGrid>
                <a:gridCol w="1326960"/>
                <a:gridCol w="2632320"/>
                <a:gridCol w="1127160"/>
                <a:gridCol w="2622600"/>
              </a:tblGrid>
              <a:tr h="305280"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rgar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ut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2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antity Demanded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r Week (lb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antity Demanded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r Week (lb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1.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3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5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4" name="" descr=""/>
          <p:cNvPicPr/>
          <p:nvPr/>
        </p:nvPicPr>
        <p:blipFill>
          <a:blip r:embed="rId1"/>
          <a:stretch/>
        </p:blipFill>
        <p:spPr>
          <a:xfrm>
            <a:off x="2743200" y="4906800"/>
            <a:ext cx="3710160" cy="1262160"/>
          </a:xfrm>
          <a:prstGeom prst="rect">
            <a:avLst/>
          </a:prstGeom>
          <a:ln w="0">
            <a:noFill/>
          </a:ln>
        </p:spPr>
      </p:pic>
      <p:pic>
        <p:nvPicPr>
          <p:cNvPr id="755" name="" descr=""/>
          <p:cNvPicPr/>
          <p:nvPr/>
        </p:nvPicPr>
        <p:blipFill>
          <a:blip r:embed="rId2"/>
          <a:stretch/>
        </p:blipFill>
        <p:spPr>
          <a:xfrm>
            <a:off x="3189240" y="3189240"/>
            <a:ext cx="2779920" cy="1575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Price Elasticity of Demand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457200" y="1222200"/>
            <a:ext cx="822960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6a6a6"/>
                </a:solidFill>
                <a:latin typeface="Kalinga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Kalinga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measure of how much quantity demanded changes as a result of a change in price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an be expanded to: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5B842217-7578-464C-AC55-920A5C621F1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Rounded Rectangle 7"/>
          <p:cNvSpPr/>
          <p:nvPr/>
        </p:nvSpPr>
        <p:spPr>
          <a:xfrm>
            <a:off x="2743200" y="2498760"/>
            <a:ext cx="3700440" cy="1073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1" name="" descr=""/>
          <p:cNvPicPr/>
          <p:nvPr/>
        </p:nvPicPr>
        <p:blipFill>
          <a:blip r:embed="rId1"/>
          <a:stretch/>
        </p:blipFill>
        <p:spPr>
          <a:xfrm>
            <a:off x="2870280" y="2595600"/>
            <a:ext cx="3456000" cy="966600"/>
          </a:xfrm>
          <a:prstGeom prst="rect">
            <a:avLst/>
          </a:prstGeom>
          <a:ln w="0">
            <a:noFill/>
          </a:ln>
        </p:spPr>
      </p:pic>
      <p:sp>
        <p:nvSpPr>
          <p:cNvPr id="45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Rounded Rectangle 12"/>
          <p:cNvSpPr/>
          <p:nvPr/>
        </p:nvSpPr>
        <p:spPr>
          <a:xfrm>
            <a:off x="2732040" y="4284720"/>
            <a:ext cx="3743280" cy="1935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4" name="" descr=""/>
          <p:cNvPicPr/>
          <p:nvPr/>
        </p:nvPicPr>
        <p:blipFill>
          <a:blip r:embed="rId2"/>
          <a:stretch/>
        </p:blipFill>
        <p:spPr>
          <a:xfrm>
            <a:off x="3019320" y="4389480"/>
            <a:ext cx="3200400" cy="1787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Cross Elasticity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5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6112217D-5159-4A22-8798-2A979D60200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0" name=""/>
          <p:cNvGraphicFramePr/>
          <p:nvPr/>
        </p:nvGraphicFramePr>
        <p:xfrm>
          <a:off x="1670040" y="2247840"/>
          <a:ext cx="5869080" cy="2621160"/>
        </p:xfrm>
        <a:graphic>
          <a:graphicData uri="http://schemas.openxmlformats.org/drawingml/2006/table">
            <a:tbl>
              <a:tblPr/>
              <a:tblGrid>
                <a:gridCol w="2933640"/>
                <a:gridCol w="2935440"/>
              </a:tblGrid>
              <a:tr h="727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Kalinga"/>
                        </a:rPr>
                        <a:t>If coefficient is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Kalinga"/>
                        </a:rPr>
                        <a:t>Goods are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94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i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stitut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94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gativ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lemen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FEA1F35F-1082-4CBD-9CDB-91C4DEC3731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4" name="Picture 10" descr="4ElasticitySummary.bmp"/>
          <p:cNvPicPr/>
          <p:nvPr/>
        </p:nvPicPr>
        <p:blipFill>
          <a:blip r:embed="rId1"/>
          <a:stretch/>
        </p:blipFill>
        <p:spPr>
          <a:xfrm>
            <a:off x="0" y="366840"/>
            <a:ext cx="9144000" cy="6081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2743200" y="11430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Kalinga"/>
            </a:endParaRPr>
          </a:p>
        </p:txBody>
      </p:sp>
      <p:sp>
        <p:nvSpPr>
          <p:cNvPr id="766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14DB6994-6BBA-429F-828C-D16B4007FCB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6840" y="2509920"/>
            <a:ext cx="8381880" cy="369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Definition, calculation, and determinants of price elasticity of demand 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Difference between slope and elasticity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Relationship between elasticity and total revenue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Real world examples of elasticity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Elasticity of supply, income elasticity, and cross-elasticity of demand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2819520" y="762120"/>
            <a:ext cx="35812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f7f7f"/>
                </a:solidFill>
                <a:latin typeface="Kalinga"/>
              </a:rPr>
              <a:t>Chapter 4 Summary</a:t>
            </a:r>
            <a:endParaRPr b="0" lang="en-US" sz="1700" spc="-1" strike="noStrike">
              <a:solidFill>
                <a:srgbClr val="000000"/>
              </a:solidFill>
              <a:latin typeface="Kaling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Price Elasticity of Demand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457200" y="1083960"/>
            <a:ext cx="8229600" cy="50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6a6a6"/>
                </a:solidFill>
                <a:latin typeface="Kalinga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Kalinga"/>
            </a:endParaRPr>
          </a:p>
          <a:p>
            <a:pPr lvl="1" marL="971640" indent="-514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xample: airline tickets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8D9C2098-E710-411B-BFF4-49C927EBC19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2" name=""/>
          <p:cNvGraphicFramePr/>
          <p:nvPr/>
        </p:nvGraphicFramePr>
        <p:xfrm>
          <a:off x="627120" y="1852560"/>
          <a:ext cx="7889760" cy="1676520"/>
        </p:xfrm>
        <a:graphic>
          <a:graphicData uri="http://schemas.openxmlformats.org/drawingml/2006/table">
            <a:tbl>
              <a:tblPr/>
              <a:tblGrid>
                <a:gridCol w="1542960"/>
                <a:gridCol w="1062000"/>
                <a:gridCol w="1214640"/>
                <a:gridCol w="1003320"/>
                <a:gridCol w="1079280"/>
                <a:gridCol w="1987560"/>
              </a:tblGrid>
              <a:tr h="284040">
                <a:tc gridSpan="3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ncouver to Edmont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ncouver to Calga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55">
                        <a:alpha val="47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antity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f Ticke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55">
                        <a:alpha val="47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Reven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antity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f Ticke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Reven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6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6dd55">
                        <a:alpha val="47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6dd55">
                        <a:alpha val="47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650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6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650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844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55">
                        <a:alpha val="47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55">
                        <a:alpha val="47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5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7 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4" name="" descr=""/>
          <p:cNvPicPr/>
          <p:nvPr/>
        </p:nvPicPr>
        <p:blipFill>
          <a:blip r:embed="rId1"/>
          <a:stretch/>
        </p:blipFill>
        <p:spPr>
          <a:xfrm>
            <a:off x="2944800" y="3668760"/>
            <a:ext cx="3191040" cy="7444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6" name="" descr=""/>
          <p:cNvPicPr/>
          <p:nvPr/>
        </p:nvPicPr>
        <p:blipFill>
          <a:blip r:embed="rId2"/>
          <a:stretch/>
        </p:blipFill>
        <p:spPr>
          <a:xfrm>
            <a:off x="2774880" y="4592520"/>
            <a:ext cx="3433680" cy="701640"/>
          </a:xfrm>
          <a:prstGeom prst="rect">
            <a:avLst/>
          </a:prstGeom>
          <a:ln w="0">
            <a:noFill/>
          </a:ln>
        </p:spPr>
      </p:pic>
      <p:sp>
        <p:nvSpPr>
          <p:cNvPr id="467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8" name="" descr=""/>
          <p:cNvPicPr/>
          <p:nvPr/>
        </p:nvPicPr>
        <p:blipFill>
          <a:blip r:embed="rId3"/>
          <a:stretch/>
        </p:blipFill>
        <p:spPr>
          <a:xfrm>
            <a:off x="3125880" y="5443560"/>
            <a:ext cx="2903400" cy="731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Price Elasticity of Demand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457200" y="1658520"/>
            <a:ext cx="822960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Elasticity Coefficien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number that measures the responsiveness of quantity demanded to a change in price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04DBAF79-1066-43EF-9E7C-95D133EEC2D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4" name=""/>
          <p:cNvGraphicFramePr/>
          <p:nvPr/>
        </p:nvGraphicFramePr>
        <p:xfrm>
          <a:off x="1328760" y="3427560"/>
          <a:ext cx="6400800" cy="2527200"/>
        </p:xfrm>
        <a:graphic>
          <a:graphicData uri="http://schemas.openxmlformats.org/drawingml/2006/table">
            <a:tbl>
              <a:tblPr/>
              <a:tblGrid>
                <a:gridCol w="3200400"/>
                <a:gridCol w="3200400"/>
              </a:tblGrid>
              <a:tr h="631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Kalinga"/>
                        </a:rPr>
                        <a:t>If coefficient is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Kalinga"/>
                        </a:rPr>
                        <a:t>Demand is: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631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eater than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asti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631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ss than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elasti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631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qual to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ita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Price Elasticity of Demand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457200" y="1860480"/>
            <a:ext cx="8229600" cy="448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Inelastic Demand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uantity demanded that is not very responsive to a change in price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6a6a6"/>
                </a:solidFill>
                <a:latin typeface="Kalinga"/>
              </a:rPr>
              <a:t> </a:t>
            </a: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Elastic Demand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uantity demanded that is quite responsive to a change in price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A594B4EA-525A-47C2-8BC7-2DBBA5D7CC3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Price Elasticity of Demand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457200" y="1860480"/>
            <a:ext cx="8229600" cy="448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Unitary Demand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point where the percentage change in quantity is exactly equal to the percentage change in price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9A5277B9-B85F-4EE8-99D8-945FF964F0B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8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0124C6A0-36AB-4303-A313-B839BEF1502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Rectangle 3"/>
          <p:cNvSpPr/>
          <p:nvPr/>
        </p:nvSpPr>
        <p:spPr>
          <a:xfrm>
            <a:off x="457200" y="1190520"/>
            <a:ext cx="8458200" cy="52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culate the elasticity coefficients for each s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each set the change in price is $1 and the change in quantity is 1 unit. Why aren’t the coefficients the same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0" name=""/>
          <p:cNvGraphicFramePr/>
          <p:nvPr/>
        </p:nvGraphicFramePr>
        <p:xfrm>
          <a:off x="1517760" y="1300320"/>
          <a:ext cx="6168960" cy="1523880"/>
        </p:xfrm>
        <a:graphic>
          <a:graphicData uri="http://schemas.openxmlformats.org/drawingml/2006/table">
            <a:tbl>
              <a:tblPr/>
              <a:tblGrid>
                <a:gridCol w="2195280"/>
                <a:gridCol w="1898640"/>
                <a:gridCol w="2075040"/>
              </a:tblGrid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ant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t 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t I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6T00:16:49Z</dcterms:created>
  <dc:creator>aholowinsky</dc:creator>
  <dc:description/>
  <dc:language>en-US</dc:language>
  <cp:lastModifiedBy>mark_banit</cp:lastModifiedBy>
  <dcterms:modified xsi:type="dcterms:W3CDTF">2012-04-24T12:36:28Z</dcterms:modified>
  <cp:revision>253</cp:revision>
  <dc:subject/>
  <dc:title>Slide 1</dc:title>
</cp:coreProperties>
</file>