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BBBAC-2D2B-4EEB-8CD2-1DFDB30E8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08AE6-86AE-4E0A-B1B5-A17F648B7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36D4A8-16FD-479D-88A0-C65DD46AD0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E2E284-E330-42F8-81CE-6E4813B5DD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C30321-CA93-4D00-ACCD-EA7673B9F0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BA5211-4D7B-4600-A0CD-F952A17519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23EEBC-A939-4D9F-85FF-7130436B13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D53F10-2FD2-415A-B75D-B6C9A94503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08BC73-3915-4D69-8B30-6BB31A4BD8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C67F75-3363-4664-8297-87BA262D16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06DBA3-8720-4FC5-8E9B-F747BF4D96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CA0A5-3723-423E-AC34-B8800421F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CC957-4966-4AF2-8DE2-93C604129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573AB-E914-4464-BCA3-06EBB2570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5A3FA-F4D8-442F-9AD1-401D672A3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9E8AC-6D1A-4747-9D2B-DFB41A069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DB75B-00B6-4139-9DED-DCBA8F989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B3883-32B4-42C6-8E1B-5D7C6C7A1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427C4-833A-4A90-A963-EB708B895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9C8EE-941C-4AA6-AD38-BCFFAA662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EAA63-D531-4F2D-A61D-3E79346F0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25579-DD34-47B8-B5AA-0922F0B07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C2D3F-8C1A-4A89-83ED-764E27920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F476D-D878-40B2-9FA5-293A64816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90ED5-DFC1-4348-A787-5D64CA944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C5D7E-F47D-42B6-A991-00D50430F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9239D7-2B69-415B-B84E-F9CA49C3BB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A852D3-527E-4C1A-B623-E978C8323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EB7645-6EAA-488E-B7EF-8BE599E6AA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9BE0A9-D10E-4A48-9F01-FCBE94ECD6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BD2700-56DF-4200-8422-BAD430F7B9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CC924-E69D-43CB-9DF4-F63D88D7B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B41232-A357-4716-8261-40EE2B8ED3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BE66A-F061-4898-AE24-F87BA709B7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F3C60-CB00-406E-A613-B5C4D5235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A1ACB3-ED5C-4987-A820-E475319FB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02C5E9-81E6-4436-A2A5-826C0EEE5A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61CEDE-0C84-47D0-9BC3-675987115F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E512BE-F820-4B41-A0AF-76FF9F3C16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E8B7C9-16B1-4664-9152-184D513FA6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59B264-3C82-4B81-AD73-13F6D342F5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79898B-9D46-455B-AF67-404E18E8A7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BEE4B-0506-447A-9777-4365FA48D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7E1E4C-C54F-4013-A4A9-412D5F924B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F785BD-3F18-4993-8508-7557068011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C730F2-4641-4ACA-8CC5-39BE1B6286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82DB5-4CF2-4C84-B09D-741AF4B7E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93388-AF18-42B4-BC5E-AF2FDF189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DB91C2-CE08-4CBD-A453-37A47A8EC9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EC7198-0AD3-4211-B68C-E8C259FC60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017F0B-B6A7-44E8-9FB4-660CEA2D6A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9738E8-7B86-4A32-ADFE-FAC651B9F5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3F6079-03D4-4FE8-BC61-1C29E0025C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31094-AA65-449C-8AEE-08319A99D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6022E6-00C7-4EC9-AC80-7C4EDA1D9C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F0FE62-6211-4710-87E8-DF24591FFE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74F7C7-8A6E-405B-A8BD-EC7B683318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E6CF73-CAA4-48AE-A0AE-B36D290C74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ACFD39-9114-41CE-8A2D-1DC69589B7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D66B9A-DD3D-40A6-B1B8-9C3A7C112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CD6D96-C811-40D0-9D11-87598106E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983D6-E51B-45A2-B3AC-CB077B651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0DF7B2-D8DF-4AE3-989F-637FAA7C43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4A29CA-D76F-47C6-9E3D-E4A2976DC9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631A9-28EA-4CD7-8923-4C16EC080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D3E17E-B05F-4F03-8ED1-6916F27C58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9045C5-C034-404E-AFA7-0AFE229B6A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E938C3-41C3-4277-82BF-7A4C7E5044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A89EBB-8E72-4591-A258-D67FD98EF5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1D2ACF-214E-40FC-9756-D6641DF55D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25964E-0105-4878-B9A8-FA1F1F8B75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E74B7-9499-4DEA-9D60-08C8006E3C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2B0BC8-025F-4FE3-88E4-1D575C653C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8DCA07-386B-4D63-B943-03A0BCDE8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C43C16-8C58-4E48-87E3-9F2C23D3B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5158-7D23-4F28-AAD3-726DFF400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67A2FA-9EA9-4BC6-BAEF-FD441C9399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26D21F-3BF0-4838-B9CF-4D62677235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D8126A-EC4D-41EB-BCF5-6618611166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A5BCAB-1AFE-4C35-8DD4-DFAAB73E3E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1D18B4-F324-4B68-8B47-0155D5C163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16B417-FC2E-464E-8719-CA2508D581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E5D4D4-A987-4C6C-B28F-CE211C6DBE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CDF82E-AF7F-408A-BB3F-EBFBEEFE12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E51136-680D-44C1-B8CD-6C2527D658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192210-108B-4F87-A4E7-D5C6E8E89F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17146-C844-4827-9129-8BB364DED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F33884-E20D-4946-B175-D086393DCB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F05CDB-3A81-4A70-B19A-DCC46E6ABA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D17658-96B9-4C79-B33F-CC8132F9B4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7ADE36-EC24-4B30-A373-F77E19D86C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DD20E4-5736-4A68-B6F5-ED2B06496B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1F9F00-6D94-4A4B-B951-133C9F4DFB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9FF9D8-A74C-4468-8236-2CF0CB4836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689ED4-BF63-44C0-9752-16B11ADC41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37E93F-7E1C-4E0D-9699-90668B66FB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84BEAD-8DCA-467D-9FEC-2D8B10B8F4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44531-96A2-41E4-BE41-3C0549F3F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807715-1413-4CD0-840B-68E547C7B5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D1E6A5-57F7-423F-A88E-F7B8CA19E1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76AD0C-17F6-4238-BFA5-79384E991E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EE2DBC-F2D2-4B46-B867-8122BC106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B093D3-0B4F-4D01-836B-7664926B18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5CF3E5-3085-4365-A7B1-35CAE58241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B10FEF-0FC0-4AA1-B42A-28A294FA3A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571181-4F7C-4F46-BDF9-463C95885E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43F132-9A60-4414-99D3-E1D79A2CAC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315084-F9CE-488E-9831-8467E55D51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2"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035C8A6-66C0-4063-87D3-B00A55B002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32"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6" name="PlaceHolder 3"/>
          <p:cNvSpPr>
            <a:spLocks noGrp="1"/>
          </p:cNvSpPr>
          <p:nvPr>
            <p:ph type="dt" idx="1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05E1F5E-185C-4ACD-8202-FC1EF6AD12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77"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7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39FF7BC4-926A-40FF-BC69-6E8A084044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18" name="PlaceHolder 3"/>
          <p:cNvSpPr>
            <a:spLocks noGrp="1"/>
          </p:cNvSpPr>
          <p:nvPr>
            <p:ph type="dt" idx="1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02FB711C-D633-4ADB-9083-4B4628274E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59" name="PlaceHolder 3"/>
          <p:cNvSpPr>
            <a:spLocks noGrp="1"/>
          </p:cNvSpPr>
          <p:nvPr>
            <p:ph type="dt" idx="19"/>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6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56858A04-F3FF-4179-96F5-C68AA00F6D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0" name="PlaceHolder 3"/>
          <p:cNvSpPr>
            <a:spLocks noGrp="1"/>
          </p:cNvSpPr>
          <p:nvPr>
            <p:ph type="dt" idx="22"/>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0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4F7D40BA-E388-46D1-9D25-4880E0C47A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1" name="PlaceHolder 3"/>
          <p:cNvSpPr>
            <a:spLocks noGrp="1"/>
          </p:cNvSpPr>
          <p:nvPr>
            <p:ph type="dt" idx="25"/>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4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F68B9294-D66C-46B9-A313-5CC3795BAD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5280" y="3423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7933c"/>
                </a:solidFill>
                <a:latin typeface="Kalinga"/>
                <a:ea typeface="Kalinga"/>
              </a:rPr>
              <a:t>Imperfect Competition </a:t>
            </a:r>
            <a:endParaRPr b="0" lang="en-US" sz="4800" spc="-1" strike="noStrike">
              <a:solidFill>
                <a:srgbClr val="000000"/>
              </a:solidFill>
              <a:latin typeface="Kalinga"/>
            </a:endParaRPr>
          </a:p>
        </p:txBody>
      </p:sp>
      <p:sp>
        <p:nvSpPr>
          <p:cNvPr id="381" name="PlaceHolder 2"/>
          <p:cNvSpPr>
            <a:spLocks noGrp="1"/>
          </p:cNvSpPr>
          <p:nvPr>
            <p:ph type="subTitle"/>
          </p:nvPr>
        </p:nvSpPr>
        <p:spPr>
          <a:xfrm>
            <a:off x="1371600" y="297648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11</a:t>
            </a:r>
            <a:endParaRPr b="0" lang="en-US" sz="2000" spc="-1" strike="noStrike">
              <a:solidFill>
                <a:srgbClr val="000000"/>
              </a:solidFill>
              <a:latin typeface="Kalinga"/>
            </a:endParaRPr>
          </a:p>
        </p:txBody>
      </p:sp>
      <p:sp>
        <p:nvSpPr>
          <p:cNvPr id="3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
        <p:nvSpPr>
          <p:cNvPr id="3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84" name="Subtitle 2"/>
          <p:cNvSpPr/>
          <p:nvPr/>
        </p:nvSpPr>
        <p:spPr>
          <a:xfrm>
            <a:off x="1365120" y="5043600"/>
            <a:ext cx="6400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Alanna Holowinsky, Red River College</a:t>
            </a:r>
            <a:endParaRPr b="0" lang="en-US" sz="20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7"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r>
              <a:rPr b="0" lang="en-US" sz="2400" spc="-1" strike="noStrike">
                <a:solidFill>
                  <a:srgbClr val="262626"/>
                </a:solidFill>
                <a:latin typeface="Times New Roman"/>
              </a:rPr>
              <a:t> </a:t>
            </a:r>
            <a:endParaRPr b="0" lang="en-US" sz="2400" spc="-1" strike="noStrike">
              <a:solidFill>
                <a:srgbClr val="000000"/>
              </a:solidFill>
              <a:latin typeface="Kaling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8"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E495807-2760-4AF7-BFB1-0E04696628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9"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0"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1" name="TextBox 6"/>
          <p:cNvSpPr/>
          <p:nvPr/>
        </p:nvSpPr>
        <p:spPr>
          <a:xfrm>
            <a:off x="882720" y="3774960"/>
            <a:ext cx="74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Relative market share between the two firms probably would not change much from what it was initially.</a:t>
            </a:r>
            <a:endParaRPr b="0" lang="en-US" sz="2400" spc="-1" strike="noStrike">
              <a:solidFill>
                <a:srgbClr val="000000"/>
              </a:solidFill>
              <a:latin typeface="Times New Roman"/>
            </a:endParaRPr>
          </a:p>
        </p:txBody>
      </p:sp>
    </p:spTree>
  </p:cSld>
  <p:transition>
    <p:fad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33"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 </a:t>
            </a:r>
            <a:endParaRPr b="0" lang="en-US" sz="2400" spc="-1" strike="noStrike">
              <a:solidFill>
                <a:srgbClr val="000000"/>
              </a:solidFill>
              <a:latin typeface="Kalinga"/>
            </a:endParaRPr>
          </a:p>
        </p:txBody>
      </p:sp>
      <p:sp>
        <p:nvSpPr>
          <p:cNvPr id="434"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806084E-6999-440B-9D52-9E389946C6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5"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6"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7" name="TextBox 6"/>
          <p:cNvSpPr/>
          <p:nvPr/>
        </p:nvSpPr>
        <p:spPr>
          <a:xfrm>
            <a:off x="903240" y="3413160"/>
            <a:ext cx="74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two firms would be tempted to come to an (illegal) agreement avoiding expensive adverting campaigns in the future.</a:t>
            </a:r>
            <a:endParaRPr b="0" lang="en-US" sz="2400" spc="-1" strike="noStrike">
              <a:solidFill>
                <a:srgbClr val="000000"/>
              </a:solidFill>
              <a:latin typeface="Times New Roman"/>
            </a:endParaRPr>
          </a:p>
        </p:txBody>
      </p:sp>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Types of Imperfect Competition</a:t>
            </a:r>
            <a:endParaRPr b="0" lang="en-US" sz="3600" spc="-1" strike="noStrike">
              <a:solidFill>
                <a:srgbClr val="000000"/>
              </a:solidFill>
              <a:latin typeface="Kalinga"/>
            </a:endParaRPr>
          </a:p>
        </p:txBody>
      </p:sp>
      <p:sp>
        <p:nvSpPr>
          <p:cNvPr id="43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Monopolistic Competition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many firms sell a differentiated product and have some control over price </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Oligopoly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dominated by a few large firms </a:t>
            </a:r>
            <a:endParaRPr b="0" i="1" lang="en-US" sz="2800" spc="-1" strike="noStrike">
              <a:solidFill>
                <a:srgbClr val="000000"/>
              </a:solidFill>
              <a:latin typeface="Times New Roman"/>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B1F4ED1-49FC-4A9A-B5EC-49EED124E9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easuring Industry Concentration</a:t>
            </a:r>
            <a:endParaRPr b="0" lang="en-US" sz="3600" spc="-1" strike="noStrike">
              <a:solidFill>
                <a:srgbClr val="000000"/>
              </a:solidFill>
              <a:latin typeface="Kalinga"/>
            </a:endParaRPr>
          </a:p>
        </p:txBody>
      </p:sp>
      <p:sp>
        <p:nvSpPr>
          <p:cNvPr id="444"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Concentration Ratio    </a:t>
            </a:r>
            <a:endParaRPr b="0" lang="en-US" sz="2800" spc="-1" strike="noStrike">
              <a:solidFill>
                <a:srgbClr val="000000"/>
              </a:solidFill>
              <a:latin typeface="Kalinga"/>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percentage of an industry’s total sales that is controlled by the largest few firms</a:t>
            </a:r>
            <a:endParaRPr b="0" i="1" lang="en-US" sz="2800" spc="-1" strike="noStrike">
              <a:solidFill>
                <a:srgbClr val="000000"/>
              </a:solidFill>
              <a:latin typeface="Times New Roman"/>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4-firm concentration ratio: % of sales revenue by 4 largest firms in industry </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lt; 40% may be monopolistic competition</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gt; 40% likely oligopoly</a:t>
            </a: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2BF7DF0-7C1A-4363-B0F7-AF5024412E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4 Firm Concentration Ratios  </a:t>
            </a:r>
            <a:endParaRPr b="0" lang="en-US" sz="4000" spc="-1" strike="noStrike">
              <a:solidFill>
                <a:srgbClr val="000000"/>
              </a:solidFill>
              <a:latin typeface="Kalinga"/>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39F1212-23E9-4530-B450-9864A0841F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1"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52" name="Table 7" descr=""/>
          <p:cNvPicPr/>
          <p:nvPr/>
        </p:nvPicPr>
        <p:blipFill>
          <a:blip r:embed="rId1"/>
          <a:stretch/>
        </p:blipFill>
        <p:spPr>
          <a:xfrm>
            <a:off x="841320" y="1292400"/>
            <a:ext cx="7448760" cy="49687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54"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55"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5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28719D5-5BFC-4CBB-9139-3587C34033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59" name="TextBox 21"/>
          <p:cNvSpPr/>
          <p:nvPr/>
        </p:nvSpPr>
        <p:spPr>
          <a:xfrm>
            <a:off x="4795920" y="1946160"/>
            <a:ext cx="385920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62"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63"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B18F8A1-410B-4ADC-A40C-14BF710E7A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66" name="TextBox 21"/>
          <p:cNvSpPr/>
          <p:nvPr/>
        </p:nvSpPr>
        <p:spPr>
          <a:xfrm>
            <a:off x="4795920" y="1946160"/>
            <a:ext cx="38592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
        <p:nvSpPr>
          <p:cNvPr id="467" name="TextBox 8"/>
          <p:cNvSpPr/>
          <p:nvPr/>
        </p:nvSpPr>
        <p:spPr>
          <a:xfrm>
            <a:off x="5262480" y="320040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71.7%  ($66/$92)</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468" name="TextBox 9"/>
          <p:cNvSpPr/>
          <p:nvPr/>
        </p:nvSpPr>
        <p:spPr>
          <a:xfrm>
            <a:off x="5319720" y="4756320"/>
            <a:ext cx="332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Oligopoly (it is higher than the 40%)</a:t>
            </a:r>
            <a:endParaRPr b="0" lang="en-US" sz="2400" spc="-1" strike="noStrike">
              <a:solidFill>
                <a:srgbClr val="000000"/>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46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0"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a:t>
            </a: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firms acting independentl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eedom of entr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are differentiated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ome control over price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3D816D1-97D5-466A-9B88-FD75141E35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3"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5"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have economic profit in the short ru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the long run, the representative firm in a monopolistically competitive market makes only normal profi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91661B2-9B4B-41BC-BDC2-464BA16710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321442B-F6AE-4211-BEF3-BC29502998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3" name="Picture 2" descr="ftp://ftp.eppg.com/Sayre%20Micro%20images/Chapter%2011/SAYRE-MICRO-11-F11-1.jpg"/>
          <p:cNvPicPr/>
          <p:nvPr/>
        </p:nvPicPr>
        <p:blipFill>
          <a:blip r:embed="rId1"/>
          <a:stretch/>
        </p:blipFill>
        <p:spPr>
          <a:xfrm>
            <a:off x="0" y="1527120"/>
            <a:ext cx="9144000" cy="4629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86"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Understand the importance and effects of product differentiation, including advertising </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Understand the differences between the two types of imperfect competitio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Explain why monopolistically competitive firms tend to have excess capacity and are unlikely to earn long-run economic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87"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1690570-8F7B-4DA6-B907-A4134A0349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8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C8B7CA3-5877-4F6B-B1EE-EA7A642324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8" name="Picture 2" descr="ftp://ftp.eppg.com/Sayre%20Micro%20images/Chapter%2011/SAYRE-MICRO-11-F11-2.jpg"/>
          <p:cNvPicPr/>
          <p:nvPr/>
        </p:nvPicPr>
        <p:blipFill>
          <a:blip r:embed="rId1"/>
          <a:stretch/>
        </p:blipFill>
        <p:spPr>
          <a:xfrm>
            <a:off x="0" y="1528920"/>
            <a:ext cx="9144000" cy="41590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CC29E4E-F822-4491-902B-8386345651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5"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4E2941B-ADCC-49AD-B0AE-AF3ADFBED5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99" name="TextBox 8"/>
          <p:cNvSpPr/>
          <p:nvPr/>
        </p:nvSpPr>
        <p:spPr>
          <a:xfrm>
            <a:off x="819000" y="3338640"/>
            <a:ext cx="7655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imes New Roman"/>
              </a:rPr>
              <a:t>Some firms within the industry will go out of business (exit). Graphically, this would shift the demand curve faced by each of the remaining firms to the right so that it once again became tangent to the average cost curve. </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EC2AC3A-0A07-47AE-8EE6-9A17B9D710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503" name="Picture 2" descr="ftp://ftp.eppg.com/Sayre%20Micro%20images/Chapter%2011/SAYRE-MICRO-11-F11-3.jpg"/>
          <p:cNvPicPr/>
          <p:nvPr/>
        </p:nvPicPr>
        <p:blipFill>
          <a:blip r:embed="rId1"/>
          <a:stretch/>
        </p:blipFill>
        <p:spPr>
          <a:xfrm>
            <a:off x="0" y="871560"/>
            <a:ext cx="9144000" cy="46753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8236"/>
                </a:solidFill>
                <a:latin typeface="Kalinga"/>
              </a:rPr>
              <a:t>Appraisal of Monopolistic Competition</a:t>
            </a:r>
            <a:endParaRPr b="0" lang="en-US" sz="3200" spc="-1" strike="noStrike">
              <a:solidFill>
                <a:srgbClr val="000000"/>
              </a:solidFill>
              <a:latin typeface="Kalinga"/>
            </a:endParaRPr>
          </a:p>
        </p:txBody>
      </p:sp>
      <p:sp>
        <p:nvSpPr>
          <p:cNvPr id="505" name=""/>
          <p:cNvSpPr txBox="1"/>
          <p:nvPr/>
        </p:nvSpPr>
        <p:spPr>
          <a:xfrm>
            <a:off x="755280" y="1752120"/>
            <a:ext cx="7931160" cy="43736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roduces a lower output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productive efficiency because the long-run equilibrium price does not equal minimum average total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harges a higher price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allocative efficiency because price exceeds marginal cos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5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E2E2BB8-1A77-4D1D-BB31-25E4793A15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A92F7DB-053B-48AD-BCB8-D50C726FDE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2EC1ADB-6894-4E0D-96EE-A53293D4C8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0" name="TextBox 8"/>
          <p:cNvSpPr/>
          <p:nvPr/>
        </p:nvSpPr>
        <p:spPr>
          <a:xfrm>
            <a:off x="5751360" y="1308240"/>
            <a:ext cx="3392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Q2.  (where MC=MR.)</a:t>
            </a:r>
            <a:endParaRPr b="0" lang="en-US" sz="2600" spc="-1" strike="noStrike">
              <a:solidFill>
                <a:srgbClr val="000000"/>
              </a:solidFill>
              <a:latin typeface="Times New Roman"/>
            </a:endParaRPr>
          </a:p>
        </p:txBody>
      </p:sp>
      <p:pic>
        <p:nvPicPr>
          <p:cNvPr id="521"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
        <p:nvSpPr>
          <p:cNvPr id="522" name="TextBox 9"/>
          <p:cNvSpPr/>
          <p:nvPr/>
        </p:nvSpPr>
        <p:spPr>
          <a:xfrm>
            <a:off x="2679840" y="2130480"/>
            <a:ext cx="4086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Excess capacity of Q4 – Q2</a:t>
            </a:r>
            <a:endParaRPr b="0" lang="en-US" sz="2600" spc="-1" strike="noStrike">
              <a:solidFill>
                <a:srgbClr val="000000"/>
              </a:solidFill>
              <a:latin typeface="Times New Roman"/>
            </a:endParaRPr>
          </a:p>
        </p:txBody>
      </p:sp>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2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4" name=""/>
          <p:cNvSpPr txBox="1"/>
          <p:nvPr/>
        </p:nvSpPr>
        <p:spPr>
          <a:xfrm>
            <a:off x="755280" y="1752120"/>
            <a:ext cx="7931160" cy="4373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  </a:t>
            </a:r>
            <a:endParaRPr b="0" lang="en-US" sz="32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dominated by a few large firms.</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try by new firms is difficult.</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nprice competition between firms is widely practised.</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ignificant control over its price.</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tual interdependence exists between firms.</a:t>
            </a:r>
            <a:endParaRPr b="0" lang="en-US" sz="2800" spc="-1" strike="noStrike">
              <a:solidFill>
                <a:srgbClr val="000000"/>
              </a:solidFill>
              <a:latin typeface="Kaling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can be either homogeneous or differentiated. </a:t>
            </a:r>
            <a:br>
              <a:rPr sz="2200"/>
            </a:br>
            <a:r>
              <a:rPr b="1" i="1" lang="en-US" sz="2200" spc="-1" strike="noStrike">
                <a:solidFill>
                  <a:srgbClr val="a6a6a6"/>
                </a:solidFill>
                <a:latin typeface="Times New Roman"/>
              </a:rPr>
              <a:t> </a:t>
            </a:r>
            <a:endParaRPr b="0" lang="en-US" sz="2200" spc="-1" strike="noStrike">
              <a:solidFill>
                <a:srgbClr val="000000"/>
              </a:solidFill>
              <a:latin typeface="Kalinga"/>
            </a:endParaRPr>
          </a:p>
        </p:txBody>
      </p:sp>
      <p:sp>
        <p:nvSpPr>
          <p:cNvPr id="5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2B95D5C-0971-4E1B-A221-4F267A0597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Kalinga"/>
              </a:rPr>
              <a:t>Mutual interdependence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condition in which a firm’s actions depend, in part, on the reactions of rival firms</a:t>
            </a:r>
            <a:endParaRPr b="0" lang="en-US" sz="2800" spc="-1" strike="noStrike">
              <a:solidFill>
                <a:srgbClr val="000000"/>
              </a:solidFill>
              <a:latin typeface="Kaling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5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8D9DB6A-6EB8-4531-B532-B21CC8E522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on </a:t>
            </a:r>
            <a:endParaRPr b="0" lang="en-US" sz="4400" spc="-1" strike="noStrike">
              <a:solidFill>
                <a:srgbClr val="000000"/>
              </a:solidFill>
              <a:latin typeface="Kalinga"/>
            </a:endParaRPr>
          </a:p>
        </p:txBody>
      </p:sp>
      <p:sp>
        <p:nvSpPr>
          <p:cNvPr id="534"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llusion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greement among suppliers to set the price of a product or the quantities each will produce </a:t>
            </a:r>
            <a:br>
              <a:rPr sz="2800"/>
            </a:br>
            <a:r>
              <a:rPr b="1" i="1" lang="en-US" sz="2800" spc="-1" strike="noStrike">
                <a:solidFill>
                  <a:srgbClr val="a6a6a6"/>
                </a:solidFill>
                <a:latin typeface="Times New Roman"/>
              </a:rPr>
              <a:t> </a:t>
            </a:r>
            <a:endParaRPr b="0" lang="en-US" sz="2800" spc="-1" strike="noStrike">
              <a:solidFill>
                <a:srgbClr val="000000"/>
              </a:solidFill>
              <a:latin typeface="Kaling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Game Theory</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ethod of analyzing firm behaviour that highlights mutual interdependence among firms</a:t>
            </a:r>
            <a:endParaRPr b="0" lang="en-US" sz="2800" spc="-1" strike="noStrike">
              <a:solidFill>
                <a:srgbClr val="000000"/>
              </a:solidFill>
              <a:latin typeface="Kalinga"/>
            </a:endParaRPr>
          </a:p>
        </p:txBody>
      </p:sp>
      <p:sp>
        <p:nvSpPr>
          <p:cNvPr id="5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B034E41-EB02-4DA3-B2D0-567C52D52A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91"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understand the main characteristics of oligopoly marke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understand why large firms are often tempted to collude and form cartel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understand price leadership and why oligopolistic firms are reluctant to change prices very ofte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92"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2FA3F22-6921-4385-AE5B-624BBD4F01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3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Nash Equilibrium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situation where each rival chooses the best actions given the (anticipated) actions of the other(s) </a:t>
            </a:r>
            <a:endParaRPr b="0" lang="en-US" sz="2800" spc="-1" strike="noStrike">
              <a:solidFill>
                <a:srgbClr val="000000"/>
              </a:solidFill>
              <a:latin typeface="Kalinga"/>
            </a:endParaRPr>
          </a:p>
        </p:txBody>
      </p:sp>
      <p:sp>
        <p:nvSpPr>
          <p:cNvPr id="5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0FE2902-6AC6-4EEA-A2FC-3D0222E616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7FB4527-27C1-4F18-A89A-1068C7B2D4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6"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47" name="AutoShape 2"/>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AutoShape 4"/>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49" name="Picture 6" descr="ftp://ftp.eppg.com/Sayre%20Micro%20images/Chapter%2011/SAYRE-MICRO-11-F11-5.jpg"/>
          <p:cNvPicPr/>
          <p:nvPr/>
        </p:nvPicPr>
        <p:blipFill>
          <a:blip r:embed="rId1"/>
          <a:stretch/>
        </p:blipFill>
        <p:spPr>
          <a:xfrm>
            <a:off x="0" y="1298520"/>
            <a:ext cx="9144000" cy="470844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ve Oligopoly</a:t>
            </a:r>
            <a:endParaRPr b="0" lang="en-US" sz="4400" spc="-1" strike="noStrike">
              <a:solidFill>
                <a:srgbClr val="000000"/>
              </a:solidFill>
              <a:latin typeface="Kalinga"/>
            </a:endParaRPr>
          </a:p>
        </p:txBody>
      </p:sp>
      <p:sp>
        <p:nvSpPr>
          <p:cNvPr id="55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artel  </a:t>
            </a:r>
            <a:endParaRPr b="0" lang="en-US" sz="32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ssociation of sellers acting in unis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or example, Organization of Petroleum Exporting Countries (OPEC)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ble to increase prices by restricting outpu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rtels work to the advantage of their members only if there is no cheating among the participants</a:t>
            </a:r>
            <a:endParaRPr b="0" lang="en-US" sz="28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B3AF251-B789-4BAC-93AB-DC9E30FDD6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5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uppose that Spartan Inc. and Trojan Ltd, the only two firms in the industry, have entered into a collusive agreement to share the industry’s total profits of $50 million equally. However, if any one of them cheats, it will increase its profits by $10 million at a cost of $10 million to the other firm. If they both cheat, they will each reduce their profits by $5 million.</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5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0D2209A-13DF-43DF-98F2-51DADE64CF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6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668CB4C-7870-465E-A701-9C100C31FD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65" name="TextBox 8"/>
          <p:cNvSpPr/>
          <p:nvPr/>
        </p:nvSpPr>
        <p:spPr>
          <a:xfrm>
            <a:off x="851040" y="2254320"/>
            <a:ext cx="6708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Cell D.  They will end up both cheating.</a:t>
            </a:r>
            <a:endParaRPr b="0" lang="en-US" sz="26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567" name="" descr=""/>
          <p:cNvPicPr/>
          <p:nvPr/>
        </p:nvPicPr>
        <p:blipFill>
          <a:blip r:embed="rId1"/>
          <a:stretch/>
        </p:blipFill>
        <p:spPr>
          <a:xfrm>
            <a:off x="1041480" y="2679840"/>
            <a:ext cx="6889680" cy="3581280"/>
          </a:xfrm>
          <a:prstGeom prst="rect">
            <a:avLst/>
          </a:prstGeom>
          <a:ln w="0">
            <a:noFill/>
          </a:ln>
        </p:spPr>
      </p:pic>
    </p:spTree>
  </p:cSld>
  <p:transition>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Noncollusive Oligopoly</a:t>
            </a:r>
            <a:endParaRPr b="0" lang="en-US" sz="4400" spc="-1" strike="noStrike">
              <a:solidFill>
                <a:srgbClr val="000000"/>
              </a:solidFill>
              <a:latin typeface="Kalinga"/>
            </a:endParaRPr>
          </a:p>
        </p:txBody>
      </p:sp>
      <p:sp>
        <p:nvSpPr>
          <p:cNvPr id="56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ice Leadership </a:t>
            </a:r>
            <a:r>
              <a:rPr b="1" lang="en-US" sz="2800" spc="-1" strike="noStrike">
                <a:solidFill>
                  <a:srgbClr val="a6a6a6"/>
                </a:solidFill>
                <a:latin typeface="Kalinga"/>
              </a:rPr>
              <a: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n rival firms engage in what amounts to price fixing without overt collusi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ader – usually the largest or most efficient firm – sets price, other firms follow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st balance the advantages of a price increase with the risks of creating an opening for new entrants </a:t>
            </a:r>
            <a:endParaRPr b="0" lang="en-US" sz="28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69CB71C-7338-465C-8EA0-CBAB719852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D896FBBC-2B41-4F30-B8D3-982C435471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5" name="Picture 2" descr="ftp://ftp.eppg.com/Sayre%20Micro%20images/Chapter%2011/SAYRE-MICRO-11-F11-9.jpg"/>
          <p:cNvPicPr/>
          <p:nvPr/>
        </p:nvPicPr>
        <p:blipFill>
          <a:blip r:embed="rId1"/>
          <a:stretch/>
        </p:blipFill>
        <p:spPr>
          <a:xfrm>
            <a:off x="0" y="1063800"/>
            <a:ext cx="9134640" cy="4560840"/>
          </a:xfrm>
          <a:prstGeom prst="rect">
            <a:avLst/>
          </a:prstGeom>
          <a:ln w="0">
            <a:noFill/>
          </a:ln>
        </p:spPr>
      </p:pic>
      <p:sp>
        <p:nvSpPr>
          <p:cNvPr id="576"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15523DB8-38BF-454F-8AA9-7ACDB4ADAE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9" name="Picture 2" descr="ftp://ftp.eppg.com/Sayre%20Micro%20images/Chapter%2011/SAYRE-MICRO-11-F11-10.jpg"/>
          <p:cNvPicPr/>
          <p:nvPr/>
        </p:nvPicPr>
        <p:blipFill>
          <a:blip r:embed="rId1"/>
          <a:stretch/>
        </p:blipFill>
        <p:spPr>
          <a:xfrm>
            <a:off x="0" y="1073160"/>
            <a:ext cx="9144000" cy="4259160"/>
          </a:xfrm>
          <a:prstGeom prst="rect">
            <a:avLst/>
          </a:prstGeom>
          <a:ln w="0">
            <a:noFill/>
          </a:ln>
        </p:spPr>
      </p:pic>
      <p:sp>
        <p:nvSpPr>
          <p:cNvPr id="580"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a:t>
            </a:r>
            <a:endParaRPr b="0" lang="en-US" sz="4400" spc="-1" strike="noStrike">
              <a:solidFill>
                <a:srgbClr val="000000"/>
              </a:solidFill>
              <a:latin typeface="Kalinga"/>
            </a:endParaRPr>
          </a:p>
        </p:txBody>
      </p:sp>
      <p:sp>
        <p:nvSpPr>
          <p:cNvPr id="582" name=""/>
          <p:cNvSpPr txBox="1"/>
          <p:nvPr/>
        </p:nvSpPr>
        <p:spPr>
          <a:xfrm>
            <a:off x="755280" y="1752120"/>
            <a:ext cx="7931160" cy="4373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ome believe that oligopolies are too powerful and produce inefficiently</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thers take the view that oligopolies are at the cutting edge of new technological development and, in the long run, push the average costs of production down</a:t>
            </a:r>
            <a:endParaRPr b="0" lang="en-US" sz="2800" spc="-1" strike="noStrike">
              <a:solidFill>
                <a:srgbClr val="000000"/>
              </a:solidFill>
              <a:latin typeface="Kalinga"/>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E2EF401-1E2E-447B-BAA3-EB2459EC5A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Key Concepts to Remember:</a:t>
            </a:r>
            <a:endParaRPr b="0" lang="en-US" sz="3200" spc="-1" strike="noStrike">
              <a:solidFill>
                <a:srgbClr val="000000"/>
              </a:solidFill>
              <a:latin typeface="Kalinga"/>
            </a:endParaRPr>
          </a:p>
        </p:txBody>
      </p:sp>
      <p:sp>
        <p:nvSpPr>
          <p:cNvPr id="587" name="PlaceHolder 2"/>
          <p:cNvSpPr>
            <a:spLocks noGrp="1"/>
          </p:cNvSpPr>
          <p:nvPr>
            <p:ph/>
          </p:nvPr>
        </p:nvSpPr>
        <p:spPr>
          <a:xfrm>
            <a:off x="456840" y="2743200"/>
            <a:ext cx="8381880" cy="358128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importance of product differentiation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two types of imperfect competition – monopolistic competition and oligopoly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llusion and cartel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Price leadership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588"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SUMMARY </a:t>
            </a:r>
            <a:endParaRPr b="0" lang="en-US" sz="1700" spc="-1" strike="noStrike">
              <a:solidFill>
                <a:srgbClr val="000000"/>
              </a:solidFill>
              <a:latin typeface="Kalinga"/>
            </a:endParaRPr>
          </a:p>
        </p:txBody>
      </p:sp>
      <p:sp>
        <p:nvSpPr>
          <p:cNvPr id="5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EFD5B9F-0F27-4C08-8975-728AAD1802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396" name=""/>
          <p:cNvSpPr txBox="1"/>
          <p:nvPr/>
        </p:nvSpPr>
        <p:spPr>
          <a:xfrm>
            <a:off x="755280" y="1752120"/>
            <a:ext cx="7931160" cy="43736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structure in which producers are identifiable and have some control over price </a:t>
            </a:r>
            <a:endParaRPr b="0" i="1" lang="en-US" sz="2800" spc="-1" strike="noStrike">
              <a:solidFill>
                <a:srgbClr val="000000"/>
              </a:solidFill>
              <a:latin typeface="Times New Roman"/>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wo forms: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nopolistic Competition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ligopoly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F6F66D1-216F-42FA-9359-B29958C2BB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9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40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 Differentia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tempt to distinguish a firm’s products from those of its competitor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rms often compete on basis other than price</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gos, symbols, brand names, location, service, product development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ften involves extensive advertising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C5905F3-4B33-4ED3-91A5-696C885AA9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06"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enefit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vides the consumer with vital informatio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hances competition between firm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wers the prices of produc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ances magazines and television show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96F1FE8-F03E-4670-BFAF-E4C316AEA4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1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riticism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stly not informative and wasteful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concentration within industrie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ises prices to the detriment of consumer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01A33A46-7160-44D5-92FB-61927BFB56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16"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 </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a:t>
            </a:r>
            <a:endParaRPr b="0" lang="en-US" sz="2400" spc="-1" strike="noStrike">
              <a:solidFill>
                <a:srgbClr val="000000"/>
              </a:solidFill>
              <a:latin typeface="Kalinga"/>
            </a:endParaRPr>
          </a:p>
        </p:txBody>
      </p:sp>
      <p:sp>
        <p:nvSpPr>
          <p:cNvPr id="4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EEF3BB1-D79F-46AD-B06B-F315BBF506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1"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a:t>
            </a:r>
            <a:br>
              <a:rPr sz="2400"/>
            </a:br>
            <a:endParaRPr b="0" lang="en-US" sz="2400" spc="-1" strike="noStrike">
              <a:solidFill>
                <a:srgbClr val="000000"/>
              </a:solidFill>
              <a:latin typeface="Kalinga"/>
            </a:endParaRPr>
          </a:p>
        </p:txBody>
      </p:sp>
      <p:sp>
        <p:nvSpPr>
          <p:cNvPr id="42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83D74B8-8FBC-486F-B4E3-529348B2B1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2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25" name="TextBox 8"/>
          <p:cNvSpPr/>
          <p:nvPr/>
        </p:nvSpPr>
        <p:spPr>
          <a:xfrm>
            <a:off x="828720" y="34336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Game theory analysis suggests that the other firm would be forced to respond with a new advertising campaign possibly using another high profile sports figure.</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7:53Z</dcterms:modified>
  <cp:revision>217</cp:revision>
  <dc:subject/>
  <dc:title>Slide 1</dc:title>
</cp:coreProperties>
</file>