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180-A17C-4DBB-918A-40CC9A1C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660-7FEA-4FC1-BA78-F3C4DCF4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6C33B6-B9D3-482D-A506-D2CB761A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A01C5F-85DB-486A-8E72-ED963A7E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762BD5-0FEF-4B8D-A1BC-3589AD10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3BA890-EDF5-4949-8976-5109ACF3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8DD36-BB83-4D0A-A69B-949E5560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6A77C-3E38-47C2-8D8A-E97477B6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3CD3A-9962-4B94-AF48-98D87731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CBCBD9-00F4-4643-A458-51AF3584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A2FCD-A691-4145-B792-FD41452C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9BB654-E6E7-4400-B02A-882626BE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FE9-D598-4E9B-B402-8DD3A525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541613-6992-4864-A0DE-7C088DBA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79647-C7A3-4A5F-89EA-116F45C3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2D558D-77F3-4729-A71F-D9053159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044341-ADBE-41FB-BF8D-5818F08B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12F10E-8445-43D3-8CAF-4953DF31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949DD-8DB8-4291-8660-8B0E281F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445C8-80F2-47B5-922D-F86FF233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B852AE-15F6-4587-A82D-A04FDF34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8254D-DF99-4E5B-8C9A-C757A8B8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3F5924-9621-472A-8EC8-3D2F5051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190-DF02-4F3E-9A0B-31170786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32E982-0144-495A-9D0B-13FAF13B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580F-BE84-4681-BAE9-AB7B6B1E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FE3F-5274-4DD6-AD7F-C59D4AC5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7EC7-4795-4720-BF8F-7CCAE173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FF6F-3791-40ED-9F79-43AB7942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7F97-B26E-4F5F-8F79-F4B558E5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98D6-5B79-4340-872C-5F4D9CEE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F6BF-5462-4049-941C-19E36541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9D26-AB30-47D5-965A-07771EF7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FDD2-EAC3-4961-A73E-C7761CBE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E6B4-F1BE-4E6D-AD1F-844A1B0B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BD18-9699-44AA-906F-B2ABF3B1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5926-6B32-4C8B-B29A-0667575C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6A27-B15C-45FA-8655-6A2A095A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E261E-7944-4BDC-883D-46AF087F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4ED34-65FD-45D3-9102-54F8A990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FE050-4843-4D0B-AB52-9A43E5EC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CEB10-B3C9-45A1-A6D5-111ED81A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67EAA-AD71-44E3-BD81-84734AA1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0384-7B91-4651-8287-703B649D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08979-0564-47F7-A1B8-9D8DE0C4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DB2BC-CA81-41E6-BF09-C06E367A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7CDEA-4EAC-4370-93D2-9A15C094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D26FA-21F4-4450-AA24-2B3F1B35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BE1A9-B291-4AEB-93FC-8FD55787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0ED32-9F0C-4F20-9D7D-B1B303C5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F1B5B-C2D5-45E5-BDFE-C2B8D221E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64A1C-C451-448F-B565-5D2C2DC1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87948-5C63-4B6C-BC57-3FFAD388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EEBB8-D26A-4AC3-8B06-FCD903F3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4516-8A9B-4CEF-A028-7CF10924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1D2FC-BF5E-4984-8989-F60C2FD4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1591B-977C-49CF-95C7-812EA7C0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E2700-41C5-4121-A2DD-2D215622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E1AEB-E07E-4CB5-AAF2-F6A3768E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64CFE-90D5-4BD4-B17C-C9B5CA56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309F5-B429-413A-B2EC-8CCF3FA2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FA7B8-C160-457E-A6D0-F05A238C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D3729-B3AC-4DA4-A873-982BB2F2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B4D2B-BEC0-4EAA-A19F-B9892DAF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19824-B18B-4C1F-A54E-BCEBEB45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85A-D54C-472E-998D-49299F92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9511E-C7E7-46AF-B0DE-8A7804CB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272B3-1C3D-4104-AF57-8D2487AF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27D73-981E-43E4-8761-0A663C72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D3247-845F-4E9F-BF5A-37301B80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4891A-14C8-4C26-A389-65C2DD27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AF11B-8BBD-4750-9F7E-B9555FF3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9CE52-47A1-4F99-BF3F-D40807B6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A9F1D-6E3C-4353-8ED6-7C1B860D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2EC5F-E325-4570-A38A-18741E79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734D2-EA48-4C11-ACEE-B5C29FA5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70C-BB42-4784-BD5D-67A05CBF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4D77C-C058-4DCB-AB9B-96D45573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16D1DF-6E1B-4999-A90D-4000E119B48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21A972-B3AF-43B2-9BE5-7A08BCEDA9F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9E4775-C833-4543-BA70-66F31DB6CC9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8CF595-AFF2-4FCD-B330-32558210B48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435146-AC87-4C55-9286-B2353F56A35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7211CE-AA5C-4CE7-9785-4B77F3D242A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6801A7-1AF1-4BF8-B3DE-ED06E3C4443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BC074-632D-4A2B-960E-F89C1DA21E1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64C327-BE8C-4878-8110-42D01485E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301-2489-461D-A96C-4C830590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C7F137-57F7-41DA-8ED8-345F09A45C3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C5084-89F5-41E4-AA22-13D1DDF4A16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5A83A5-407D-4598-8AA2-DDF544FA8D7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FFFD09-1453-43B5-994B-FB8341EBCEF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870C69-A784-41EA-A05C-E11220B0DB9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7588E1-83C2-44A8-8531-1E8871B88E2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E1B345-4D88-48C0-9D46-E7F384B0142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FEE2D2-3234-4458-8393-5078071941B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23E29E-31C3-4308-A91D-F573916B3BB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4A71D4-6F5F-48BA-9B02-8381D1D32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DBFA-4EB3-4A97-B0FB-61BD4DC9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9B1F57-2DC0-42A5-A5DE-91600903D6D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E28140-96AA-4CF5-93DB-E8C98F3CC5C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7B933A-4146-4358-A82F-CA39170066C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BC9684-0F98-4940-8D5E-B5B50374C5C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A34CE8-876C-4E74-B637-A081C233B05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00D68A-A00F-41A2-9553-A8DFBAB2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DC95D5-9466-452A-A21A-3AEC8E9C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2470ED-304F-4932-AF0C-767834C9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977848-C99F-4DEC-B516-38E55DB8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73C992-3FF1-43AD-9BF4-EAC9B868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A71-74DF-421F-B93E-C918FC7E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F3E570-C52B-4085-B2E1-354F2037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5E52EB-7332-44D8-ACD8-EB30436D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769C06-CBBC-473A-8D41-43549358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8DC3BD-FF81-4E20-B579-203729BD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B608FD-D4D0-4DC4-BBBF-446D6113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BB4DB0-730F-4801-9C2B-6AB8CDE9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B12851-7B54-46A6-82A6-A0415A63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07E216-5919-4948-8820-D3E4BD97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340CE-D9EA-46D4-93B8-AA55C0FE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9092F3-369F-4544-90FD-E239AE1B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434AE292-1CD8-4BB8-935A-FCAC44FFB8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B01C182-FA99-48EF-B09A-26203C29EE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B60674F-99DB-49B2-9829-008F026B3A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2B3D1A5B-6540-4F61-A673-EF4757927F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015733A-5403-4F63-9465-E0750AF387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B571B17-6E13-4DB9-991C-24A7E45982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DDCE8E4-1844-4D8F-AAB6-030B5F2291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B1960013-7E83-458E-B61E-2D82A98A9D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933c"/>
                </a:solidFill>
                <a:latin typeface="Kalinga"/>
                <a:ea typeface="Kalinga"/>
              </a:rPr>
              <a:t>Costs in the Long Run </a:t>
            </a:r>
            <a:endParaRPr b="0" lang="en-US" sz="4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st advantages achieved as a result of large-scale operation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rms in industries characterized by assembly-line production of standardized products tend to experience declining long-run average co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se industries are often dominated by a few large firm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F423C042-77CC-443B-98D2-B70A87844B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Reasons for 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g plants are able to exploit specialization of labour on a far greater scale than small plan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-scale production encourages management speci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rge scale production encourages machine speci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g firms enjoy pecuniary economies of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E0873565-FAC2-48A2-8A87-C02332FF8D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Pecuniary 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cost of borrow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ying in bulk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lling in bulk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conomies of scale in marketing and advertising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aling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C04C2F9F-F60B-4076-B419-B0945E65E8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1115640" y="371160"/>
            <a:ext cx="727236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A87F74B6-1B4B-437A-8E2A-360543F67A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Picture 2" descr="ftp://ftp.eppg.com/Sayre%20Micro%20images/Chapter%207/SAYRE-MICRO-7-F-7-2.jpg"/>
          <p:cNvPicPr/>
          <p:nvPr/>
        </p:nvPicPr>
        <p:blipFill>
          <a:blip r:embed="rId1"/>
          <a:srcRect l="11507" t="11776" r="32612" b="0"/>
          <a:stretch/>
        </p:blipFill>
        <p:spPr>
          <a:xfrm>
            <a:off x="903240" y="1552680"/>
            <a:ext cx="6932520" cy="47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5AA8DFD8-98E8-4AA6-8C09-8C692165E5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the presence of either constant returns to scale or increasing returns to scale in each set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387440" y="2273400"/>
          <a:ext cx="6353280" cy="2563560"/>
        </p:xfrm>
        <a:graphic>
          <a:graphicData uri="http://schemas.openxmlformats.org/drawingml/2006/table">
            <a:tbl>
              <a:tblPr/>
              <a:tblGrid>
                <a:gridCol w="1693800"/>
                <a:gridCol w="2541600"/>
                <a:gridCol w="211788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3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0819772B-A924-4E7A-B5AD-D3C791C7FA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the presence of either constant returns to scale or increasing returns to scale in each set of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387440" y="2273400"/>
          <a:ext cx="6353280" cy="2563560"/>
        </p:xfrm>
        <a:graphic>
          <a:graphicData uri="http://schemas.openxmlformats.org/drawingml/2006/table">
            <a:tbl>
              <a:tblPr/>
              <a:tblGrid>
                <a:gridCol w="1693800"/>
                <a:gridCol w="2541600"/>
                <a:gridCol w="211788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3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marL="9036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12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8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TextBox 10"/>
          <p:cNvSpPr/>
          <p:nvPr/>
        </p:nvSpPr>
        <p:spPr>
          <a:xfrm>
            <a:off x="584280" y="4851360"/>
            <a:ext cx="771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Set 1:  increasing returns to scale.  (Average cost drops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from $171.43 to $16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Set 2:  constant returns to scale.  (The average cost remains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same at $4500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iseconomies of Scale 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s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ureaucratic inefficiencies in management that result in decreasing returns to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ecreasing Returns to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ituation in which a firm’s output increases by a smaller percentage than its inpu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68D60A91-1A5A-4907-94A2-7D87F4796A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1276200" y="382680"/>
            <a:ext cx="71121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RAC Curve under </a:t>
            </a:r>
            <a:br>
              <a:rPr sz="3200"/>
            </a:b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Diseconomies of Scal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C40150F4-F5D8-4350-8F0A-537002AED2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2" descr="ftp://ftp.eppg.com/Sayre%20Micro%20images/Chapter%207/SAYRE-MICRO-7-F-7-3.jpg"/>
          <p:cNvPicPr/>
          <p:nvPr/>
        </p:nvPicPr>
        <p:blipFill>
          <a:blip r:embed="rId1"/>
          <a:srcRect l="10145" t="11151" r="35676" b="0"/>
          <a:stretch/>
        </p:blipFill>
        <p:spPr>
          <a:xfrm>
            <a:off x="1414440" y="1454040"/>
            <a:ext cx="6315120" cy="491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4FF6ADF0-81A0-4CCC-AF9E-FD99139CB4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981A54B4-48A4-48BD-ACB6-8AB7A9B188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Box 10"/>
          <p:cNvSpPr/>
          <p:nvPr/>
        </p:nvSpPr>
        <p:spPr>
          <a:xfrm>
            <a:off x="542880" y="533412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A: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constant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returns to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B: 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economies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of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36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Costs in the 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1:  Distinguish between the short run and the long run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2:  Understand why medium-sized firms are sometimes just as efficient as big firm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3:  Understand why big firms sometimes enjoy great cost advantag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4:  Understand why firms can sometimes be too big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03B6BB0C-F4D8-4169-9250-E26124B0D0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A23E65E3-E217-4FC0-B646-6F7121EB4D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457200" y="1351080"/>
            <a:ext cx="8458200" cy="50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de in each of the following cases (A–D) whether constant returns, economies, or diseconomies of scale ex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10"/>
          <p:cNvSpPr/>
          <p:nvPr/>
        </p:nvSpPr>
        <p:spPr>
          <a:xfrm>
            <a:off x="552600" y="5322960"/>
            <a:ext cx="839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C:  economies of scale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50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60%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D:  diseconomies of scale  (Inputs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8%, output </a:t>
            </a:r>
            <a:r>
              <a:rPr b="0" i="1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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100%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509840" y="2265480"/>
          <a:ext cx="6049800" cy="2838240"/>
        </p:xfrm>
        <a:graphic>
          <a:graphicData uri="http://schemas.openxmlformats.org/drawingml/2006/table">
            <a:tbl>
              <a:tblPr/>
              <a:tblGrid>
                <a:gridCol w="1204920"/>
                <a:gridCol w="1147680"/>
                <a:gridCol w="1176120"/>
                <a:gridCol w="1344600"/>
                <a:gridCol w="1176480"/>
              </a:tblGrid>
              <a:tr h="56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puts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7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291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Changes in Short Run </a:t>
            </a:r>
            <a:br>
              <a:rPr sz="4000"/>
            </a:b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and Long Run Costs 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echnological Improvement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nges in production techniques that reduce the costs of produc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uses a decrease in short-run cos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long-run average cost curve is derived from short-run cost curves, the long-run average costs  also decrease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84E2FCEA-BF8E-4935-8062-3391F8F7FD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Right Size of Fir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28628552-1749-4D4F-B85B-C20D1FF6C2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2" descr="ftp://ftp.eppg.com/Sayre%20Micro%20images/Chapter%207/SAYRE-MICRO-7-F-7-4.jpg"/>
          <p:cNvPicPr/>
          <p:nvPr/>
        </p:nvPicPr>
        <p:blipFill>
          <a:blip r:embed="rId1"/>
          <a:srcRect l="-99" t="-1513" r="10109" b="0"/>
          <a:stretch/>
        </p:blipFill>
        <p:spPr>
          <a:xfrm>
            <a:off x="0" y="1479600"/>
            <a:ext cx="9144000" cy="469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Right Size of Firm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717F71DE-4AE2-47A4-8F1C-5467D80382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2" descr="ftp://ftp.eppg.com/Sayre%20Micro%20images/Chapter%207/SAYRE-MICRO-7-F-7-5.jpg"/>
          <p:cNvPicPr/>
          <p:nvPr/>
        </p:nvPicPr>
        <p:blipFill>
          <a:blip r:embed="rId1"/>
          <a:srcRect l="-119" t="-2579" r="-2003" b="0"/>
          <a:stretch/>
        </p:blipFill>
        <p:spPr>
          <a:xfrm>
            <a:off x="0" y="1147680"/>
            <a:ext cx="9144000" cy="529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an a Market Be Too Smal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58800" y="1775880"/>
            <a:ext cx="8028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inimum Efficient Scale (MES)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mallest sized plant capable of achieving the lowest long-run average cost of productio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DF59F4A5-70A4-43C8-BA9E-AAF07F0603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an a Market Be Too Smal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60972087-5F53-4E49-BA51-335CA5436E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2" descr="ftp://ftp.eppg.com/Sayre%20Micro%20images/Chapter%207/SAYRE-MICRO-7-F-7-6.jpg"/>
          <p:cNvPicPr/>
          <p:nvPr/>
        </p:nvPicPr>
        <p:blipFill>
          <a:blip r:embed="rId1"/>
          <a:srcRect l="0" t="0" r="8158" b="0"/>
          <a:stretch/>
        </p:blipFill>
        <p:spPr>
          <a:xfrm>
            <a:off x="0" y="1542960"/>
            <a:ext cx="9144000" cy="447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56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52AE8C3C-B54A-4B18-9C94-9C8169F0D7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Firms always operate in the short run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Firms can plan as if they are in the long run where all inputs are variable and diminishing marginal productivity does not apply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Constant returns to scale exist when an increase in inputs result in a proportional increase in outpu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Economies of scale involves either technical or pecuniary economies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f7f"/>
                </a:solidFill>
                <a:latin typeface="Kalinga"/>
              </a:rPr>
              <a:t>Chapter 7 Summary</a:t>
            </a:r>
            <a:endParaRPr b="0" lang="en-US" sz="15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5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F0D124AC-5CDE-442D-A190-B5A9ED965E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Diseconomies of scale can occur due to inefficienci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costs can decrease due to a decrease in factor prices,  technological improvement, or mergers reduce average fixed cost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A firm is the right size if it captures economies of scale but does not suffer diseconomies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A market is too small if it limits output to below economic capacity (SR) or below minimum efficient scale (LR) 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Costs in the 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5:  Understand the effect of technological change on a firm’s cost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6:  Explain what is meant by the right size of firm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262626"/>
                </a:solidFill>
                <a:latin typeface="Times New Roman"/>
              </a:rPr>
              <a:t>LO7:  Explain why markets can sometimes be too small</a:t>
            </a:r>
            <a:endParaRPr b="0" lang="en-US" sz="2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7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C287CA76-C1AA-4101-86A9-1A1AF3C46E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Long Ru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47720"/>
            <a:ext cx="822960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ong Run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eriod of time during which all inputs are vari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l production processes operate in the short run, and diminishing marginal productivity applie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the long run, all costs are variable and diminishing marginal productivity does not appl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firm can plan as if it is in the long run, but it always operates in the short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D81492CE-06CB-4EB6-A103-FEE242041A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he Long Run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903320"/>
            <a:ext cx="822960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ong Run Average Cost Curve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graphical representation of the per unit costs of production in the long ru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Constant Returns to Scale </a:t>
            </a:r>
            <a:r>
              <a:rPr b="1" lang="en-US" sz="2800" spc="-1" strike="noStrike">
                <a:solidFill>
                  <a:srgbClr val="a6a6a6"/>
                </a:solidFill>
                <a:latin typeface="Kaling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ituation in which a firm’s output increases by the same percentage as the increase in its inpu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DF615F2D-5402-405F-BEE1-4E2A855D00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1276200" y="382680"/>
            <a:ext cx="71121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Average Costs of Production </a:t>
            </a:r>
            <a:br>
              <a:rPr sz="3200"/>
            </a:b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in Four Plant Sizes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82B3378E-3B37-4F76-B069-9C40EF2111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2" descr="ftp://ftp.eppg.com/Sayre%20Micro%20images/Chapter%207/SAYRE-MICRO-7-F-7-1.jpg"/>
          <p:cNvPicPr/>
          <p:nvPr/>
        </p:nvPicPr>
        <p:blipFill>
          <a:blip r:embed="rId1"/>
          <a:srcRect l="37371" t="12916" r="8450" b="0"/>
          <a:stretch/>
        </p:blipFill>
        <p:spPr>
          <a:xfrm>
            <a:off x="649440" y="1563840"/>
            <a:ext cx="7813440" cy="475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C3708CBC-CEB1-4B27-9D3D-D5FD80ED4B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  Which plant is best suited to produce an output of 4 uni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alue of long-run average cos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A2F9642C-993B-4B9C-98CB-48B578A1BE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lant is best suited to produce an output of 4 uni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Kalinga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Plant 3    (It is the lowest average cost for that outpu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4" name="Rectangle 9"/>
          <p:cNvSpPr/>
          <p:nvPr/>
        </p:nvSpPr>
        <p:spPr>
          <a:xfrm>
            <a:off x="1552680" y="5359320"/>
            <a:ext cx="607032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7-</a:t>
            </a:r>
            <a:fld id="{8A414A3E-A222-47A2-AF03-988542C72C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457200" y="14889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companying table shows the average costs associated with three different plant siz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alue of long-run average cos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36  (It is the lowest average cost in all three plant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873000" y="3224160"/>
          <a:ext cx="7367760" cy="2952720"/>
        </p:xfrm>
        <a:graphic>
          <a:graphicData uri="http://schemas.openxmlformats.org/drawingml/2006/table">
            <a:tbl>
              <a:tblPr/>
              <a:tblGrid>
                <a:gridCol w="1841760"/>
                <a:gridCol w="1842840"/>
                <a:gridCol w="1841760"/>
                <a:gridCol w="1841400"/>
              </a:tblGrid>
              <a:tr h="89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1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2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t 3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6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dec" pos="49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Rectangle 9"/>
          <p:cNvSpPr/>
          <p:nvPr/>
        </p:nvSpPr>
        <p:spPr>
          <a:xfrm>
            <a:off x="3295800" y="4508640"/>
            <a:ext cx="68076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5149800" y="4916520"/>
            <a:ext cx="681120" cy="4460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6978600" y="5340240"/>
            <a:ext cx="681120" cy="4478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1:45Z</dcterms:modified>
  <cp:revision>255</cp:revision>
  <dc:subject/>
  <dc:title>Slide 1</dc:title>
</cp:coreProperties>
</file>