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4B6-1420-4281-9EEB-AF81E0C0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B1B-A1FB-45FD-9663-75646C18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C51B5-C072-4C0B-BD37-257EB356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6B879A-3FB0-4B49-8E00-8A3D9F42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4B6AD-CA1C-4F71-A6CA-DA55994F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4B430-330C-4888-ADA5-4532679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095EC-05D9-4913-B8FB-DE9AECC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9D6F0-4673-47D3-B306-B565E0E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B30596-3AEC-43B6-88CD-13E54CB1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DED5B-3469-426D-9913-98A848E0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FF6781-5F1A-4ED1-A037-5133B35B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2EBD6-F79F-4F8B-8237-910D0DA8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E38-15E0-4C57-AAB4-376D887BC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39C03-62E6-49EF-8D6E-1D6A980C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F83F3-2F6B-41D4-8B29-FEE3D36A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A861C1-0C77-408B-AF99-14DA5C28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AB1E6-3FB9-4B54-8DEA-7BCF8F8F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6C7FD-36A9-4A0F-9686-E3003FF0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53C77-2FB4-42D3-B867-35680A5F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889C1-BCB5-4CEC-AA8E-B5FF9119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D052C-0858-4F10-9FAC-DEF90FC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F3A09-A075-49BE-9EE8-517D23D7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4D76A-4E76-408C-AA54-B6483F3B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BF3-9F9D-402B-B262-2D246A90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1A4F78-5C1E-4B56-9CAA-89483FD5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49D9-CFBD-47D5-839B-948692F0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9461-023C-449E-A2C4-9FC4B0A7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B64B-59E5-4B84-B5B0-CB2F8180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2198-C09D-4F5F-82BF-223C0AC3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418D-6CDA-452B-B7CE-F94DE135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1A9A-B090-4939-A208-0695C838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814C-174B-45A4-BE03-B0E80173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7FF2-E999-484E-9D88-42906B92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A2A0-74AD-4D11-8D09-2D27B30A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DC92-4AE2-462C-9629-B35C7E99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B211-B626-4B73-AC16-222D0093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3820-499C-40CD-9AD5-C9B2C04A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7900-231C-454C-BDC2-F59A8172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01471-EF6F-477D-9BF6-3AA7A3CA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ABA4E-1AED-4215-99A5-582343E8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064F-D031-4A34-9830-200273F4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768B-F2DA-4784-9B9B-987B5F3D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D74F-13BE-494E-B143-E7F4DB10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3EC-1142-4830-9C0C-64F8A582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96E2C-857F-4AC2-9C4A-248CD39B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A5FB-2C8E-455F-97ED-C2F606E3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A4394-0730-4BE4-A33D-809CDEF4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B311-F274-42B8-AFEA-7A67E35B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A674-4A03-45FF-9005-ED5DD917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CFB8-1E95-40D9-9774-F22F66999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8EB8D-C76A-44DB-9804-1D0F49FA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432D9-6414-4556-B36A-B930BE05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3225-95CE-4206-87B9-C4402577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8CD5-27B0-47B4-81F8-D568BC3F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6702-E4D8-4EA0-9763-1B0781E3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B7F2D-B9DD-4F9A-AF76-66300F66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FD379-B8F7-4261-AC03-EBFC7BB8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22E70-22BF-450E-92D8-A64CED51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B903B-2875-4524-A506-3AE89F1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6FBC0-8B3E-4171-B1DD-CCADE6F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08C3-8C34-4B0D-B1F6-1C8610EF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1D546-A067-4FC9-ABFC-42A6804C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750B-7CCF-47CD-A32C-942D14C1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1365-A7C2-477C-8F53-7F9F8F9E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2C2DE-0920-4E5A-8B78-936CE0B8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FE1-E93F-4D3E-9F3D-E5B3D14A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C539-2DD4-4DCE-82FB-BFCF478E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7026E-AD5B-4B19-BF6B-FF1D226E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B62D5-60EC-45F6-8F7A-BFC55BDE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C050-1CD8-4009-828C-E7112660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03D51-7490-4171-80E9-E34FF383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CC884-7BE3-4AAE-90C2-8B4C7CEC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89E38-F10D-48C9-8433-866FF8F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99D48-ED3F-4FD8-8DCF-DDC46D2F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79AA9-0602-4CEE-A8F8-4EC2FB94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31926-8F09-4453-90B1-4E7602C6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3886-A042-42AC-817A-B230A968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BF36A-10F7-4661-AA45-FB2E12DF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EC9CDA-A9EB-4CFE-AF35-842764BD8C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52296-A91A-4E51-845E-653683EB4CA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132545-9DC2-45F2-80F2-B5CF2CED738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6CB9BE-DA3B-4B34-8A76-C67BC841144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975CD-7F15-423D-9DB8-5A71A16F704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64C91-CCA9-497C-947A-C2D4AACA13E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EB895-DF2F-4BEB-BB28-1D325EE871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DE5C21-B446-4061-80DD-0D32044EDCC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BC781-F817-4995-B987-C07BB3584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67A-7A64-40C0-8A4E-D611D0B8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86589E-FC02-474B-BFF6-7DBDD93E9A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C47AF8-30FC-4EE7-9300-7F04041E203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2F40E5-F72F-4488-8534-95EAAD8441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4B8AB5-14D2-43AD-876F-DF62D927F5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E6A05A-870E-41BA-BD73-97DC33CB42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8DA5E1-D3DD-47D2-A0C4-545E8A1ADEC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26C3FC-0FC4-4F96-86ED-5E66894296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C51248-88A5-4562-99B1-26A7F26A39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AC9261-AF89-4ACC-9FF6-9977BCFCFFB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9C84EA-E878-4823-95ED-DFC5F424D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141-4566-4484-AB0E-73B1B75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B8ABC3-D54E-409A-8BC8-976ADD4D010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11C1D8-F150-4DAD-9B98-648CA71230C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E61B7B-D4A1-492C-A1A5-A44BD87052C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9B2634-6C79-4A64-B018-7B863A09CA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73207D-5D60-4538-92F7-1DF9B0A3D3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EC0FE7-EB3D-4C8E-8092-21C1B79A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B2FBCD-DC57-45EE-9D42-545E5F37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598C94-9589-4FB0-B14F-8D0E4623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BE4054-CF1D-4154-9DB6-A97AF0D4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D4937E-9171-4930-A6FD-9F31B507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377-80F9-4DAA-B50C-192A26F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61450B-8E57-422F-BAE0-EE83B28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4BAD78-41AB-4A8D-892E-8B8DEDC0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20F400-99D1-4327-8EF3-A997987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72C88A-752E-44A5-A998-94973878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A059DA-7F6A-46CA-8A49-20209CE7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978B4B-4BF2-428A-93D7-248ECD3A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733C5-B073-4188-9D01-AB29289E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A77B4-705C-451B-B99A-48604693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9EDD29-01FE-4232-B3D5-DA3836CA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4B4D4A-3BCB-4115-9762-CAF6A417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 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6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294732A-3127-410E-BEFC-BA7818E77D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aholowinsky\Documents\McGrawHill\Sayre_MICRO_0070385467_72dpi.jpg"/>
          <p:cNvPicPr/>
          <p:nvPr/>
        </p:nvPicPr>
        <p:blipFill>
          <a:blip r:embed="rId2"/>
          <a:srcRect l="329" t="8890" r="0" b="76669"/>
          <a:stretch/>
        </p:blipFill>
        <p:spPr>
          <a:xfrm>
            <a:off x="3048120" y="838080"/>
            <a:ext cx="4038480" cy="695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aholowinsky\Documents\McGrawHill\Sayre_MICRO_0070385467_72dpi.jpg"/>
          <p:cNvPicPr/>
          <p:nvPr/>
        </p:nvPicPr>
        <p:blipFill>
          <a:blip r:embed="rId3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43" name="Straight Connector 9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Straight Connector 10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11"/>
          <p:cNvSpPr/>
          <p:nvPr/>
        </p:nvSpPr>
        <p:spPr>
          <a:xfrm>
            <a:off x="5562720" y="1828800"/>
            <a:ext cx="293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7933c"/>
                </a:solidFill>
                <a:latin typeface="Kalinga"/>
                <a:ea typeface="Kalinga"/>
              </a:rPr>
              <a:t>SAYRE  |  MORRIS      </a:t>
            </a:r>
            <a:r>
              <a:rPr b="1" lang="en-US" sz="1100" spc="-1" strike="noStrike">
                <a:solidFill>
                  <a:srgbClr val="fa4160"/>
                </a:solidFill>
                <a:latin typeface="Kalinga"/>
                <a:ea typeface="Kalinga"/>
              </a:rPr>
              <a:t>Seventh Edi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58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88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468360" y="239220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arning Objectiv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5BE563E-75D7-4C2B-9400-1DB3D49EF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533520"/>
            <a:ext cx="259092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0" y="53964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traight Connector 7"/>
          <p:cNvSpPr/>
          <p:nvPr/>
        </p:nvSpPr>
        <p:spPr>
          <a:xfrm>
            <a:off x="0" y="2209680"/>
            <a:ext cx="9144000" cy="648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69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CF99D21F-997D-4C49-84CB-CFA92B2668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aholowinsky\Documents\McGrawHill\Sayre_MICRO_0070385467_72dpi.jpg"/>
          <p:cNvPicPr/>
          <p:nvPr/>
        </p:nvPicPr>
        <p:blipFill>
          <a:blip r:embed="rId2"/>
          <a:srcRect l="329" t="32673" r="0" b="12287"/>
          <a:stretch/>
        </p:blipFill>
        <p:spPr>
          <a:xfrm>
            <a:off x="0" y="1987560"/>
            <a:ext cx="3859200" cy="2595600"/>
          </a:xfrm>
          <a:prstGeom prst="rect">
            <a:avLst/>
          </a:prstGeom>
          <a:ln w="0">
            <a:noFill/>
          </a:ln>
        </p:spPr>
      </p:pic>
      <p:sp>
        <p:nvSpPr>
          <p:cNvPr id="177" name="Straight Connector 9"/>
          <p:cNvSpPr/>
          <p:nvPr/>
        </p:nvSpPr>
        <p:spPr>
          <a:xfrm>
            <a:off x="0" y="1986120"/>
            <a:ext cx="9144000" cy="0"/>
          </a:xfrm>
          <a:prstGeom prst="line">
            <a:avLst/>
          </a:prstGeom>
          <a:ln w="25560">
            <a:solidFill>
              <a:srgbClr val="fa41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traight Connector 10"/>
          <p:cNvSpPr/>
          <p:nvPr/>
        </p:nvSpPr>
        <p:spPr>
          <a:xfrm>
            <a:off x="0" y="4591080"/>
            <a:ext cx="9144000" cy="7920"/>
          </a:xfrm>
          <a:prstGeom prst="line">
            <a:avLst/>
          </a:prstGeom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05D65BC2-32CA-4443-9ACE-43F05F7EE0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1257B22C-DADD-4C0F-AB4B-B7A8468A4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E5B50652-C636-4C80-9D11-73F554186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0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81922B98-2800-4349-BDC2-1550BC62C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ling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ling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3"/>
          </p:nvPr>
        </p:nvSpPr>
        <p:spPr>
          <a:xfrm>
            <a:off x="457200" y="6356520"/>
            <a:ext cx="26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McGraw Hill Publishing Col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-</a:t>
            </a:r>
            <a:fld id="{77A3194A-4DD3-4087-ABD1-732AA577F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28572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Kalinga"/>
                <a:ea typeface="Kalinga"/>
              </a:rPr>
              <a:t>Monopoly</a:t>
            </a:r>
            <a:endParaRPr b="0" lang="en-US" sz="66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28177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Kalinga"/>
                <a:ea typeface="Kalinga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56FBF29-347F-49DA-B195-A8C61402C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" descr="ftp://ftp.eppg.com/Sayre%20Micro%20images/Chapter%2010/SAYRE-MICRO-10-F10-1.jpg"/>
          <p:cNvPicPr/>
          <p:nvPr/>
        </p:nvPicPr>
        <p:blipFill>
          <a:blip r:embed="rId1"/>
          <a:stretch/>
        </p:blipFill>
        <p:spPr>
          <a:xfrm>
            <a:off x="0" y="824040"/>
            <a:ext cx="9144000" cy="3562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46040" y="4678200"/>
            <a:ext cx="802800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order to increase sales, a monopolist is forced to reduce price not just on the last units sold, but on the whole of its outp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2" descr="ftp://ftp.eppg.com/Sayre%20Micro%20images/Chapter%2010/SAYRE-MICRO-10-F10-2.jpg"/>
          <p:cNvPicPr/>
          <p:nvPr/>
        </p:nvPicPr>
        <p:blipFill>
          <a:blip r:embed="rId1"/>
          <a:stretch/>
        </p:blipFill>
        <p:spPr>
          <a:xfrm>
            <a:off x="439560" y="0"/>
            <a:ext cx="8036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tal revenue is maximized when the marginal revenue is zero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onopolist will produce only where the demand is elasti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2269A80-0E64-47D2-9EC8-9D8D4C86E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E08AA98-A871-4A08-A5E8-31C22AD3D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882720" y="1233360"/>
            <a:ext cx="737856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E45458E-DFE9-4749-A659-F44A05C0E4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882720" y="1244520"/>
            <a:ext cx="737856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a monopolist was charging a price of $50 for its product and was selling 15 units. It has now lowered its price to $48 and is selling 16 units. What is the marginal revenue? What is the price elasticity of demand over this price range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10"/>
          <p:cNvSpPr/>
          <p:nvPr/>
        </p:nvSpPr>
        <p:spPr>
          <a:xfrm>
            <a:off x="925560" y="3252960"/>
            <a:ext cx="7154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Marginal revenue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:  $18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50 is $750 (15 x $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otal revenue at a price of $48 is $768 (16 x $48)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he extra unit produces extra total revenue of </a:t>
            </a:r>
            <a:br>
              <a:rPr sz="2400"/>
            </a:b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$18 ($768 – $750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Elasticity: e   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% D Q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1/15.5 x 100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=  </a:t>
            </a:r>
            <a:r>
              <a:rPr b="0" i="1" lang="en-GB" sz="2200" spc="-1" strike="noStrike" u="sng">
                <a:solidFill>
                  <a:srgbClr val="ff0000"/>
                </a:solidFill>
                <a:uFillTx/>
                <a:latin typeface="Times New Roman"/>
              </a:rPr>
              <a:t> 6.5%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=   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1.59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% D P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2/49   x 10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     4.1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Tot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aximum profit is where the difference between total revenue (TR) and total cost (TC) is greatest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is shown on the total profit curve, where it occurs at the highest point.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maximum profit point also occurs where the slope of TR (same as MR) equals the slope of TC (same as MC) 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he break-even points occur where total revenue and cost are the same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54103D1-5376-445C-B897-189D462A2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" descr="ftp://ftp.eppg.com/Sayre%20Micro%20images/Chapter%2010/SAYRE-MICRO-10-T10-2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1734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25E92B3-A76F-4E4E-B7A1-5B2EACD0B7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2" descr="ftp://ftp.eppg.com/Sayre%20Micro%20images/Chapter%2010/SAYRE-MICRO-10-F10-3.jpg"/>
          <p:cNvPicPr/>
          <p:nvPr/>
        </p:nvPicPr>
        <p:blipFill>
          <a:blip r:embed="rId1"/>
          <a:stretch/>
        </p:blipFill>
        <p:spPr>
          <a:xfrm>
            <a:off x="0" y="414360"/>
            <a:ext cx="9144000" cy="653400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32C680D-2480-4E9F-B511-3FD3A3884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7200" y="160452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arginal Revenue Approach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s are maximized (or losses minimized) at an output where M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ame profit maximization rule as perfectly competitive firm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B3D3ECC-AFA5-4921-A8F1-6D535292E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aximizing Profit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36686A7-EF1D-41C0-9BE2-DA2B01B5F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2" descr="ftp://ftp.eppg.com/Sayre%20Micro%20images/Chapter%2010/SAYRE-MICRO-10-T10-3.jpg"/>
          <p:cNvPicPr/>
          <p:nvPr/>
        </p:nvPicPr>
        <p:blipFill>
          <a:blip r:embed="rId1"/>
          <a:stretch/>
        </p:blipFill>
        <p:spPr>
          <a:xfrm>
            <a:off x="0" y="67644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1:  Define a monopoly, explain how they come into existence and why they must reduce their prices to sell more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2:  Understand how the profit-maximizing output and price are determined for a monopolist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3:  Explain five grounds on which monopolies can be criticiz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4:  Explain the significant difference between monopoly and perfect competition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9FCFD6D-24F8-407F-B1F8-8E26F6CC42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7A61437-C1A7-4134-8CAA-AE0D183C0C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Picture 2" descr="ftp://ftp.eppg.com/Sayre%20Micro%20images/Chapter%2010/SAYRE-MICRO-10-F10-4.jpg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41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s are not always profitab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pends on costs – if AC curve is higher than the demand curve at all output levels, will have a los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minimize loss using the profit maximization ru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89BB9F0-E3CC-4270-9D0A-5BDD87A3C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inimizing Loss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37BD2537-D2A8-42A7-A010-14671F6FC9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2" descr="ftp://ftp.eppg.com/Sayre%20Micro%20images/Chapter%2010/SAYRE-MICRO-10-F10-5.jpg"/>
          <p:cNvPicPr/>
          <p:nvPr/>
        </p:nvPicPr>
        <p:blipFill>
          <a:blip r:embed="rId1"/>
          <a:stretch/>
        </p:blipFill>
        <p:spPr>
          <a:xfrm>
            <a:off x="0" y="1022400"/>
            <a:ext cx="9144000" cy="405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25D1877-B7AD-4C4F-8A92-9A8172FE9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88BA0E8-B4D8-4116-A236-FB0AC42BA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882720" y="1212840"/>
            <a:ext cx="737856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the following table and indicate the break-even outputs and the profit maximizing output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0"/>
          <p:cNvSpPr/>
          <p:nvPr/>
        </p:nvSpPr>
        <p:spPr>
          <a:xfrm>
            <a:off x="914400" y="5572080"/>
            <a:ext cx="71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eak-even (TR=TC) occur at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. 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rofit-maximizing output occurs at an output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861840" y="2087640"/>
          <a:ext cx="7569360" cy="3462120"/>
        </p:xfrm>
        <a:graphic>
          <a:graphicData uri="http://schemas.openxmlformats.org/drawingml/2006/table">
            <a:tbl>
              <a:tblPr/>
              <a:tblGrid>
                <a:gridCol w="1079640"/>
                <a:gridCol w="1222560"/>
                <a:gridCol w="1963440"/>
                <a:gridCol w="1704960"/>
                <a:gridCol w="1598760"/>
              </a:tblGrid>
              <a:tr h="57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Quant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Price (=A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Revenue (T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Costs (T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Total Profit (T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$2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0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 3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‑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make economic profits indefinitel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e both productively and allocatively inefficien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duce less and charge a higher price than a competitive industr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eating a more unequal distribution of income and wealth within society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ing their power to practice price discrimin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B5220C81-E0CD-4E19-82DF-0C32888332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Criticisms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262F723-247A-4EC2-ACB2-9DBA08A6A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1E8E14F-584A-4488-A8BE-F2740A0611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882720" y="1212840"/>
            <a:ext cx="7378560" cy="52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following table shows the demand for hairc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was a single-price barber, what would be the total revenue for six haircuts?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is barber was able to practice perfect price discrimination by charging each customer the maximum they would pay, what would be the total revenue for six haircu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Box 10"/>
          <p:cNvSpPr/>
          <p:nvPr/>
        </p:nvSpPr>
        <p:spPr>
          <a:xfrm>
            <a:off x="3827520" y="4538520"/>
            <a:ext cx="405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9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($15 x 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19280" y="1662120"/>
          <a:ext cx="4105440" cy="2495520"/>
        </p:xfrm>
        <a:graphic>
          <a:graphicData uri="http://schemas.openxmlformats.org/drawingml/2006/table">
            <a:tbl>
              <a:tblPr/>
              <a:tblGrid>
                <a:gridCol w="1970280"/>
                <a:gridCol w="2135160"/>
              </a:tblGrid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Box 8"/>
          <p:cNvSpPr/>
          <p:nvPr/>
        </p:nvSpPr>
        <p:spPr>
          <a:xfrm>
            <a:off x="1268280" y="5902200"/>
            <a:ext cx="631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TR $105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  ($20 + $19 + $18 + $17 + $16 + $1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charge higher prices than perfectly competitive firm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 produce lower outputs than perfectly competitive firms and these outputs are below economic capacity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es, unlike perfectly competitive firms, may make economic profits in the short run and in the long ru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C7B3581-1581-4B50-90C9-B2F06EB64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604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8236"/>
                </a:solidFill>
                <a:latin typeface="Kalinga"/>
              </a:rPr>
              <a:t>Perfect Competition v Monopoly</a:t>
            </a:r>
            <a:endParaRPr b="0" lang="en-US" sz="40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A38DD5B-4DB9-413B-9AFB-C62E891070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2" descr="ftp://ftp.eppg.com/Sayre%20Micro%20images/Chapter%2010/SAYRE-MICRO-10-F10-7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Kalinga"/>
              </a:rPr>
              <a:t>Monopoly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3030480"/>
            <a:ext cx="838188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5:  Explain three grounds on which monopolies can be defended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62626"/>
                </a:solidFill>
                <a:latin typeface="Times New Roman"/>
              </a:rPr>
              <a:t>LO6:  Discuss ways that governments can change the behaviour of monopolies</a:t>
            </a: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DD4ED2E-ED09-450D-9205-B429B1E29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7ECF383A-1AE3-4404-957B-4A1EA7ED2E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tp://ftp.eppg.com/Sayre%20Micro%20images/Chapter%2010/SAYRE-MICRO-10-F10-8.jpg"/>
          <p:cNvPicPr/>
          <p:nvPr/>
        </p:nvPicPr>
        <p:blipFill>
          <a:blip r:embed="rId1"/>
          <a:stretch/>
        </p:blipFill>
        <p:spPr>
          <a:xfrm>
            <a:off x="0" y="0"/>
            <a:ext cx="81025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941456C-DFF5-4C52-9A66-5D35CB6475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256A3E6-DED9-47EE-9184-7B78024645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4954680" y="1403280"/>
            <a:ext cx="3519360" cy="50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competitive market, what is the equilibrium price and quantity? 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he graph opposite depicts a monopolist, what is the equilibrium price and quantit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5040360" y="2793960"/>
            <a:ext cx="35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3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3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2" descr="ftp://ftp.eppg.com/Sayre%20Micro%20images/Chapter%2010/SAYRE-MICRO-10-p316.jpg"/>
          <p:cNvPicPr/>
          <p:nvPr/>
        </p:nvPicPr>
        <p:blipFill>
          <a:blip r:embed="rId1"/>
          <a:stretch/>
        </p:blipFill>
        <p:spPr>
          <a:xfrm>
            <a:off x="382680" y="1468440"/>
            <a:ext cx="4471920" cy="4375080"/>
          </a:xfrm>
          <a:prstGeom prst="rect">
            <a:avLst/>
          </a:prstGeom>
          <a:ln w="0">
            <a:noFill/>
          </a:ln>
        </p:spPr>
      </p:pic>
      <p:sp>
        <p:nvSpPr>
          <p:cNvPr id="586" name="Straight Connector 9"/>
          <p:cNvSpPr/>
          <p:nvPr/>
        </p:nvSpPr>
        <p:spPr>
          <a:xfrm>
            <a:off x="1084320" y="1935000"/>
            <a:ext cx="1711440" cy="331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traight Connector 13"/>
          <p:cNvSpPr/>
          <p:nvPr/>
        </p:nvSpPr>
        <p:spPr>
          <a:xfrm flipV="1">
            <a:off x="2179800" y="2828880"/>
            <a:ext cx="0" cy="125424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14"/>
          <p:cNvSpPr/>
          <p:nvPr/>
        </p:nvSpPr>
        <p:spPr>
          <a:xfrm>
            <a:off x="2093760" y="2732040"/>
            <a:ext cx="18108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15"/>
          <p:cNvSpPr/>
          <p:nvPr/>
        </p:nvSpPr>
        <p:spPr>
          <a:xfrm>
            <a:off x="5049720" y="4846680"/>
            <a:ext cx="358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Price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$40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; Quantity</a:t>
            </a: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:  2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16"/>
          <p:cNvSpPr/>
          <p:nvPr/>
        </p:nvSpPr>
        <p:spPr>
          <a:xfrm>
            <a:off x="2714760" y="3341520"/>
            <a:ext cx="180720" cy="181080"/>
          </a:xfrm>
          <a:prstGeom prst="ellipse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1978200"/>
            <a:ext cx="82296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capture large economies of scale in production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engage in extensive research and development into new techniques of production and new product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attract high-quality staff by offering relatively high wages and good working conditions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4156CF3-9886-4B3E-8FBC-B694C2823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Defence of Monopol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le producer who is able to produce at a lower cost than competing firms cou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sually in a market with large economies of scal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3BFD3CB-C34C-492A-B0E8-017F8A48C5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Natural 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00B6BA40-D9B1-44E9-9AFE-67E8B88EFC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2" descr="ftp://ftp.eppg.com/Sayre%20Micro%20images/Chapter%2010/SAYRE-MICRO-10-F10-9.jpg"/>
          <p:cNvPicPr/>
          <p:nvPr/>
        </p:nvPicPr>
        <p:blipFill>
          <a:blip r:embed="rId1"/>
          <a:srcRect l="0" t="0" r="27406" b="0"/>
          <a:stretch/>
        </p:blipFill>
        <p:spPr>
          <a:xfrm>
            <a:off x="0" y="6382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s or services regarded as essential and therefore usually provided by governmen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etition may well be costly and wasteful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97204BDA-0FA5-40DD-A230-4A69ABC09B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Public Utilities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C490773-8AC4-4EAD-8E24-F37C05A61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F714A57-47E3-49DD-B300-471514D61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5221440" y="1424160"/>
            <a:ext cx="351792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 10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posite, suppose there are two competing rail companies, each with 50 % of the market. What would be the profit or loss for each if they both charged $1.50? </a:t>
            </a:r>
            <a:br>
              <a:rPr sz="2200"/>
            </a:b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584280" y="4854600"/>
            <a:ext cx="819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At $1.50 the quantity demanded is 100 000, or 50 000 each.  The average cost of servicing 50 000 riders is $2.50.  This means that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each company would lose $1.00 for each fare, for a total loss of $50 000</a:t>
            </a: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 per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2" descr="ftp://ftp.eppg.com/Sayre%20Micro%20images/Chapter%2010/SAYRE-MICRO-10-F10-9.jpg"/>
          <p:cNvPicPr/>
          <p:nvPr/>
        </p:nvPicPr>
        <p:blipFill>
          <a:blip r:embed="rId1"/>
          <a:srcRect l="10216" t="13536" r="38042" b="0"/>
          <a:stretch/>
        </p:blipFill>
        <p:spPr>
          <a:xfrm>
            <a:off x="201600" y="1222200"/>
            <a:ext cx="4937040" cy="355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options: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ing the monopoli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vernment price setting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ationalization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1C9131AA-0FB0-407B-96AF-AD2176ACBB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Control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595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market in which a single firm (the monopolist) is the sole producer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tected from new competitors by barriers to entry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Barriers to Entry  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stacles that make it difficult for new participants to enter a marke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C7F0A18-849D-4FAA-92A7-8711BB26A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89180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Lump sum Profit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ffects fixed cost but not variable cos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average cost but marginal cost is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utput and price levels are unaffect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profit (due to higher costs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E1207F1-F268-47D0-83C7-F16B646ABC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29F26126-C318-46B2-A0BA-334A9089F2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Picture 4" descr="ftp://ftp.eppg.com/Sayre%20Micro%20images/Chapter%2010/SAYRE-MICRO-10-F10-10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0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457200" y="1679400"/>
            <a:ext cx="82296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Monopoly Sales Tax: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x on each unit sol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creases marginal cost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ing point shifts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t of the tax is shifted to consumer in the form of higher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wer quantity is pro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nopolist’s profit is reduced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E3F9D521-12D1-47A2-A4F1-387DD2788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Taxing the Monopoli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8B4F412A-0603-4B2B-B8E6-6D9E79A7F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2" descr="ftp://ftp.eppg.com/Sayre%20Micro%20images/Chapter%2010/SAYRE-MICRO-10-F10-11.jpg"/>
          <p:cNvPicPr/>
          <p:nvPr/>
        </p:nvPicPr>
        <p:blipFill>
          <a:blip r:embed="rId1"/>
          <a:stretch/>
        </p:blipFill>
        <p:spPr>
          <a:xfrm>
            <a:off x="0" y="111600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6902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Socially Optimum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price that produces the best allocation of products (and therefore resources) from society’s point of view, that is,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Kalinga"/>
              </a:rPr>
              <a:t>Fair-Return Price </a:t>
            </a:r>
            <a:endParaRPr b="0" lang="en-US" sz="3200" spc="-1" strike="noStrike">
              <a:solidFill>
                <a:srgbClr val="000000"/>
              </a:solidFill>
              <a:latin typeface="Kalinga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ce that guarantees that the firm will earn normal profits only, that is, where P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C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5E51B6FE-D4AF-4EDD-8892-74D5EB539B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Government Price Setting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C74F270-B187-489E-BE21-98351BB28E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2" descr="ftp://ftp.eppg.com/Sayre%20Micro%20images/Chapter%2010/SAYRE-MICRO-10-F10-12.jpg"/>
          <p:cNvPicPr/>
          <p:nvPr/>
        </p:nvPicPr>
        <p:blipFill>
          <a:blip r:embed="rId1"/>
          <a:stretch/>
        </p:blipFill>
        <p:spPr>
          <a:xfrm>
            <a:off x="0" y="693720"/>
            <a:ext cx="8920080" cy="558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F7F37A35-6046-4286-B834-96A5F51F2F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2" descr="ftp://ftp.eppg.com/Sayre%20Micro%20images/Chapter%2010/SAYRE-MICRO-10-p323.jpg"/>
          <p:cNvPicPr/>
          <p:nvPr/>
        </p:nvPicPr>
        <p:blipFill>
          <a:blip r:embed="rId1"/>
          <a:stretch/>
        </p:blipFill>
        <p:spPr>
          <a:xfrm>
            <a:off x="4221000" y="1604880"/>
            <a:ext cx="4680000" cy="345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E18C37B-FD04-4999-903B-E523663AA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584280" y="1424160"/>
            <a:ext cx="370044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graph, indic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is unregulate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the socially optimum pri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quantity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f monopolist charges fair-return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Picture 2" descr="MicroAK1_ST3"/>
          <p:cNvPicPr/>
          <p:nvPr/>
        </p:nvPicPr>
        <p:blipFill>
          <a:blip r:embed="rId1"/>
          <a:stretch/>
        </p:blipFill>
        <p:spPr>
          <a:xfrm>
            <a:off x="4125960" y="1573200"/>
            <a:ext cx="4592520" cy="346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743200" y="114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933c"/>
              </a:solidFill>
              <a:latin typeface="Kalinga"/>
            </a:endParaRPr>
          </a:p>
        </p:txBody>
      </p:sp>
      <p:sp>
        <p:nvSpPr>
          <p:cNvPr id="66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C61125E6-0CF7-4BAA-BD51-6FDF59DFA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2509920"/>
            <a:ext cx="8381880" cy="36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Times New Roman"/>
              </a:rPr>
              <a:t>Types of barriers to entry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fit maximization for a monopolist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riticism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fences of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ys that governments can control monopolies </a:t>
            </a:r>
            <a:endParaRPr b="0" lang="en-US" sz="28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2819520" y="762120"/>
            <a:ext cx="35812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Kalinga"/>
              </a:rPr>
              <a:t>Chapter 10 Summary</a:t>
            </a:r>
            <a:endParaRPr b="0" lang="en-US" sz="17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955880"/>
            <a:ext cx="803736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echnic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sole ownership of a resourc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egal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uch as public franchise, licences, patents, and copyright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conomic barrier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aused by economies of scal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48D77276-006E-4E9D-A786-AB113EDACD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Barriers to Entry 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AC8C2E2A-E40D-4769-8C50-A1230DCD2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Self-Test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62783A84-C807-4640-B580-4E945FC5DE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882720" y="1488960"/>
            <a:ext cx="73785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into the following industries is very difficult. What type of barrier to entry is involved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operating system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aircraft manufacturi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 coast wild salmon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12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1839960" y="296712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technical barrier (sole ownership of a resour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8"/>
          <p:cNvSpPr/>
          <p:nvPr/>
        </p:nvSpPr>
        <p:spPr>
          <a:xfrm>
            <a:off x="1843200" y="368316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economic barrier (economies of scal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1"/>
          <p:cNvSpPr/>
          <p:nvPr/>
        </p:nvSpPr>
        <p:spPr>
          <a:xfrm>
            <a:off x="1822320" y="4416480"/>
            <a:ext cx="63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Times New Roman"/>
              </a:rPr>
              <a:t>legal barrier (licence fee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57200" y="172260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le to set price rather than having to accept the market-determined pric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 set either price or quantity sold, but not both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the monopolist is the industry, it faces the market demand for the produc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emand is a downward-sloping curve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st decrease the price in order to sell mor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5CA35B4-66FB-443D-B192-C75B4D416B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8236"/>
                </a:solidFill>
                <a:latin typeface="Kalinga"/>
              </a:rPr>
              <a:t>Monopoly</a:t>
            </a:r>
            <a:endParaRPr b="0" lang="en-US" sz="4400" spc="-1" strike="noStrike">
              <a:solidFill>
                <a:srgbClr val="000000"/>
              </a:solidFill>
              <a:latin typeface="Kaling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0-</a:t>
            </a:r>
            <a:fld id="{D2B3AB01-E0EE-4FA3-B987-E6F9F83C7C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© 2012 McGraw-Hill Ryerson Limi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6"/>
          <p:cNvSpPr/>
          <p:nvPr/>
        </p:nvSpPr>
        <p:spPr>
          <a:xfrm>
            <a:off x="8456400" y="1270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imes New Roman"/>
              </a:rPr>
              <a:t>LO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2" descr="ftp://ftp.eppg.com/Sayre%20Micro%20images/Chapter%2010/SAYRE-MICRO-10-T10-1.jpg"/>
          <p:cNvPicPr/>
          <p:nvPr/>
        </p:nvPicPr>
        <p:blipFill>
          <a:blip r:embed="rId1"/>
          <a:stretch/>
        </p:blipFill>
        <p:spPr>
          <a:xfrm>
            <a:off x="0" y="696960"/>
            <a:ext cx="9144000" cy="406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0:16:49Z</dcterms:created>
  <dc:creator>aholowinsky</dc:creator>
  <dc:description/>
  <dc:language>en-US</dc:language>
  <cp:lastModifiedBy>mark_banit</cp:lastModifiedBy>
  <dcterms:modified xsi:type="dcterms:W3CDTF">2012-04-24T12:37:25Z</dcterms:modified>
  <cp:revision>313</cp:revision>
  <dc:subject/>
  <dc:title>Slide 1</dc:title>
</cp:coreProperties>
</file>