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E711-E94D-434C-9030-287FFFA7E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A824-5DF4-4F57-AB20-FFB3FAD0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CD67A4-ABC6-4B46-A5B6-B1CC4B27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05FB03-2352-4119-9FEC-D57A475E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08524A-3B66-4303-BB27-86949DDE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BD1FDE-954D-4062-AFA5-3C4C5FD3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C15183-E36D-4B21-A108-DE0CB535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744A4F-2591-4339-83A4-6374269A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575786-0A74-4CE2-9BD8-53D3DA9F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9AA9F6-FC49-4852-B4BB-3CBE17714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200DE3-3FBF-4944-9D09-A7E9424E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C417DF-C5D6-4AA1-8DE6-F6D0BA965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0477-0774-4A3F-A848-0C80B4EDD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F5C40D-CA61-42CD-8B0C-49FE6F29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BDFEB8-CC68-41C8-A5A7-5F0D3957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ACE7F2-7C9A-4D33-88BC-E87577D4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93A86F-4E49-4161-A831-853F87BF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3C1930-31A0-4A59-8F0A-0398E2BA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6F40AF-2ACF-4C86-87AD-E093ED39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1DDCDD-8AB9-4506-9F5A-36113437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61EF22-CA45-4402-BD01-DA84C626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5A1116-16C9-4337-B27C-2F2FB9CC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631BD9-377D-4084-A821-3B742E001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2725-009F-429B-9417-4E2469F2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BD296E-7B4B-4278-8194-16A251E4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0209-3FD7-4F0F-8CF0-BAFB92938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8D7D-EBEF-4886-813C-1F3F4EAA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A17B-BE18-4A29-8E6A-5C55A44D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B3D8-6DDF-4F52-8AD4-BDA373A7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C9B5-E4F5-461D-9E04-39F85E93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CC90-47B5-40BA-9A07-BB5C3646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9E9C-71E5-47F9-AED2-694FFBF4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69C7-A203-4783-A2FF-A6F95E2A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6B8D-BE20-48F9-8D3C-7EAB7FE5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0126-D4D5-4C98-8F11-29101577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7D28-5704-450A-BA14-5BB4BBCD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5446-EE8A-401C-B0A6-DA87398D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F58C-3B1D-4C72-974A-22996412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905AB-F2F3-4D65-877C-3476F45F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BC87A-FB2C-481C-942C-A8F2208F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E19C2-B22D-4987-A3FA-43889247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1AAB8-2DA7-4DBC-9C0B-A029E831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DC645-92CA-41BD-82E0-A1039174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DA38-9096-4735-B700-473AF692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D8B4B-D5F8-4A6D-AF4A-862FFA1C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4D2CA-6C6F-44AD-AC3B-DC244C58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AC297-3875-4C83-B277-655DF822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5E5DD-8A66-4F7B-A043-8F0C822B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160C4-1BCB-4085-B2CE-A66A1413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CDE03-8907-4C4D-8DB4-E1253686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048AF-74D6-4499-9597-9596374F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DA87C-DB3C-410E-AC4C-2339DB65D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348E3-9E1B-4A39-8989-713EB7C7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F2F3A-4940-4FA9-8B84-20C6341A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93E6-3A49-4F90-A2D4-AA3E308F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8347C-0700-405B-9E7B-04F9A211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8095D-AD49-44EC-897F-54EA983C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F0A8C-1B6D-4408-9F27-09CC6148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B8C9B-13AA-4E42-B8D8-45888119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31D78-1E40-4D71-9927-CEECDF0B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89175-B671-478E-8A3D-ACB8788B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57DB9-1860-4153-B63D-792AF847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CBF40-0574-4AAC-B7F1-F0735FF17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64F90-A91C-4398-AC5C-F872EFED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C2802-C99F-4BAE-BC03-595A4B435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095C-5491-4572-8CBC-E43153AC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1654F-B341-447F-B224-B13463EC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0ED0F-E4DB-4A5E-AC88-7686A228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0766F-0E80-4FDF-AFC4-D85FF402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79787-5849-40E0-B6E6-6D5726E9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E08F7-31B5-42C4-973B-707126DC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3C4F4-2126-47E7-9128-2900BC0B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F9CB7-B264-4A31-BD96-06BC8392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C5585-489F-48CD-8E5D-3B6E1505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675A0-5504-4EE6-87F2-6FCA611E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07011-903C-4BFF-8FC8-2D750717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24E8-E577-4588-9F26-D75988E8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62822-73E9-4B76-AED9-5D753D28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3573B8-A5E6-423A-ACA4-9BB0C8F89D2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E912D3-60A2-4F4F-932B-B76671E6493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183B28-CFDE-4233-951F-8868ED600B5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181041-BA9B-41E8-9213-BEAF719900B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ACF235-F659-4953-860A-DF73586067E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911C39-3126-40F3-9110-2DEAA719368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FD6CD6-FE1B-4C6A-AD7D-981BCC413F4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55A71B-6C33-4BFC-B6D6-DD57A1CEE5E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EEB727-DE01-420D-B424-19DC730508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29FB-DBF9-4782-A3D6-1663F2FB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46C53A-3D9D-4297-A8DA-71E2F4F8577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01358D-DCFE-4A2E-A082-CDE7B2E35F0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D2F1BD-D222-4DFC-8C7E-E42D33F524D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8726CF-C962-4382-AF19-8360B7CB34D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6CEE4B-90E5-46C2-9615-A3B75845380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6F4A30-3FE5-45F5-9CE0-0CCDC832C20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C5379C-A56E-4585-8806-65A9D419F0B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2CF90B-4B4D-42DB-B8DD-49BB52B2B88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FAA261-945D-4EAE-9239-262DEA04E41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EBE91C-E637-4D85-A500-5FD88E5B72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52BD-FE17-4311-B48F-3BC966D5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D7F145-872B-4A7B-AB10-C005B38F789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57A5A4-6DBE-49AA-8E12-DC422F74B86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3EE073-E6CA-42C0-841D-F278343F3DD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2945F2-91E4-47A7-AA6E-F3837E59642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0CDB6C-A80A-488F-929D-16074A869CD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D3052B-32B0-4770-B394-CDA2082CB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D33DE2-B4CD-41A0-A3B2-35D995BC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6C69EE-D5AF-4BF5-B8AB-FAE1B91B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113D0E-F858-43A0-8506-B439D03D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42D81F-BCC7-4A1F-AE2D-9C56E624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C79E-3FB7-4154-B9AD-47EF9D1C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C4B185-AA78-4408-9F0B-7368761F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7F7089-07AE-430E-8D8B-11118CAD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D8A171-4721-4185-8637-0BB90D4E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C9CA94-8A4F-483E-9FE5-0FACC05C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C9C873-9200-4A4D-AB09-3135E901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DAB8A9-B329-4D86-8255-FA3DAE67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FDF32F-0679-4850-8697-A4D18F69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420C62-7EF5-4860-9C4D-8131CDC69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8049DD-BB4D-4469-884B-2183D346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9541CD-C998-4720-8E85-4CBFFC2B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393A20C-CAB3-4A12-935A-C37DA5ED21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5E586FB-6846-4D4B-B76A-A5CA48C275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EF0FFD77-BBBF-47B8-B44C-BD344FC59B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35ABE8B-9340-4826-AFC1-D3DF537884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A434032-0A41-4A0B-8003-90CD20A5D2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D94DF1F-B5DD-4716-BB0E-17E87D25B5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63D4FB41-79CB-4C2C-A4DC-F0BC88444A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B56FDDFD-F9A2-43EB-92CA-84F9DCD3C3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285720"/>
            <a:ext cx="7772400" cy="21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77933c"/>
                </a:solidFill>
                <a:latin typeface="Kalinga"/>
                <a:ea typeface="Kalinga"/>
              </a:rPr>
              <a:t>Monopoly</a:t>
            </a:r>
            <a:endParaRPr b="0" lang="en-US" sz="6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28177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10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B468C5FA-3D4B-4C65-8818-1CD01B3BA6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2" descr="ftp://ftp.eppg.com/Sayre%20Micro%20images/Chapter%2010/SAYRE-MICRO-10-F10-1.jpg"/>
          <p:cNvPicPr/>
          <p:nvPr/>
        </p:nvPicPr>
        <p:blipFill>
          <a:blip r:embed="rId1"/>
          <a:stretch/>
        </p:blipFill>
        <p:spPr>
          <a:xfrm>
            <a:off x="0" y="824040"/>
            <a:ext cx="9144000" cy="35622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446040" y="4678200"/>
            <a:ext cx="802800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order to increase sales, a monopolist is forced to reduce price not just on the last units sold, but on the whole of its outp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Picture 2" descr="ftp://ftp.eppg.com/Sayre%20Micro%20images/Chapter%2010/SAYRE-MICRO-10-F10-2.jpg"/>
          <p:cNvPicPr/>
          <p:nvPr/>
        </p:nvPicPr>
        <p:blipFill>
          <a:blip r:embed="rId1"/>
          <a:stretch/>
        </p:blipFill>
        <p:spPr>
          <a:xfrm>
            <a:off x="439560" y="0"/>
            <a:ext cx="8036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457200" y="1722600"/>
            <a:ext cx="82296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revenue is maximized when the marginal revenue is zero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monopolist will produce only where the demand is elastic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FC162772-4829-4B51-A4CC-3E0D3EB6D5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onopo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9CBEB135-2E1D-4DCE-A35B-F9E4618070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882720" y="1233360"/>
            <a:ext cx="7378560" cy="51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a monopolist was charging a price of $50 for its product and was selling 15 units. It has now lowered its price to $48 and is selling 16 units. What is the marginal revenue? What is the price elasticity of demand over this price range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1B2C58F4-BB82-4A3E-9EC1-79BC02FA61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882720" y="1244520"/>
            <a:ext cx="737856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a monopolist was charging a price of $50 for its product and was selling 15 units. It has now lowered its price to $48 and is selling 16 units. What is the marginal revenue? What is the price elasticity of demand over this price range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Box 10"/>
          <p:cNvSpPr/>
          <p:nvPr/>
        </p:nvSpPr>
        <p:spPr>
          <a:xfrm>
            <a:off x="925560" y="3252960"/>
            <a:ext cx="715464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Marginal revenue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:  $18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otal revenue at a price of $50 is $750 (15 x $50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otal revenue at a price of $48 is $768 (16 x $48) </a:t>
            </a:r>
            <a:br>
              <a:rPr sz="2400"/>
            </a:b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he extra unit produces extra total revenue of </a:t>
            </a:r>
            <a:br>
              <a:rPr sz="2400"/>
            </a:b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$18 ($768 – $750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Elasticity: e   =  </a:t>
            </a:r>
            <a:r>
              <a:rPr b="0" i="1" lang="en-GB" sz="2200" spc="-1" strike="noStrike" u="sng">
                <a:solidFill>
                  <a:srgbClr val="ff0000"/>
                </a:solidFill>
                <a:uFillTx/>
                <a:latin typeface="Times New Roman"/>
              </a:rPr>
              <a:t> % D Q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=   </a:t>
            </a:r>
            <a:r>
              <a:rPr b="0" i="1" lang="en-GB" sz="2200" spc="-1" strike="noStrike" u="sng">
                <a:solidFill>
                  <a:srgbClr val="ff0000"/>
                </a:solidFill>
                <a:uFillTx/>
                <a:latin typeface="Times New Roman"/>
              </a:rPr>
              <a:t> 1/15.5 x 100 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=  </a:t>
            </a:r>
            <a:r>
              <a:rPr b="0" i="1" lang="en-GB" sz="2200" spc="-1" strike="noStrike" u="sng">
                <a:solidFill>
                  <a:srgbClr val="ff0000"/>
                </a:solidFill>
                <a:uFillTx/>
                <a:latin typeface="Times New Roman"/>
              </a:rPr>
              <a:t> 6.5%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=   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1.59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% D P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     2/49   x 100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     4.1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457200" y="1595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Revenue Approach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aximum profit is where the difference between total revenue (TR) and total cost (TC) is greatest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maximum profit point is shown on the total profit curve, where it occurs at the highest point.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maximum profit point also occurs where the slope of TR (same as MR) equals the slope of TC (same as MC)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break-even points occur where total revenue and cost are the same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6BB0F08C-86B7-4BB8-8435-87081B48A3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ximizing Profi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2" descr="ftp://ftp.eppg.com/Sayre%20Micro%20images/Chapter%2010/SAYRE-MICRO-10-T10-2.jp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4173480"/>
          </a:xfrm>
          <a:prstGeom prst="rect">
            <a:avLst/>
          </a:prstGeom>
          <a:ln w="0">
            <a:noFill/>
          </a:ln>
        </p:spPr>
      </p:pic>
      <p:sp>
        <p:nvSpPr>
          <p:cNvPr id="5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319DA412-E02B-4F77-857B-22CBB42BFE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Picture 2" descr="ftp://ftp.eppg.com/Sayre%20Micro%20images/Chapter%2010/SAYRE-MICRO-10-F10-3.jpg"/>
          <p:cNvPicPr/>
          <p:nvPr/>
        </p:nvPicPr>
        <p:blipFill>
          <a:blip r:embed="rId1"/>
          <a:stretch/>
        </p:blipFill>
        <p:spPr>
          <a:xfrm>
            <a:off x="0" y="414360"/>
            <a:ext cx="9144000" cy="6534000"/>
          </a:xfrm>
          <a:prstGeom prst="rect">
            <a:avLst/>
          </a:prstGeom>
          <a:ln w="0">
            <a:noFill/>
          </a:ln>
        </p:spPr>
      </p:pic>
      <p:sp>
        <p:nvSpPr>
          <p:cNvPr id="5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3B97DB8C-DB29-436A-B3AD-4C5292876D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457200" y="1604520"/>
            <a:ext cx="822960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Revenue Approach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fits are maximized (or losses minimized) at an output where M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C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me profit maximization rule as perfectly competitive firm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A00CFE8C-12F7-45C2-A18A-CAEE477EF4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ximizing Profi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FB78CA74-42B6-454B-B464-330036C8E5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2" descr="ftp://ftp.eppg.com/Sayre%20Micro%20images/Chapter%2010/SAYRE-MICRO-10-T10-3.jpg"/>
          <p:cNvPicPr/>
          <p:nvPr/>
        </p:nvPicPr>
        <p:blipFill>
          <a:blip r:embed="rId1"/>
          <a:stretch/>
        </p:blipFill>
        <p:spPr>
          <a:xfrm>
            <a:off x="0" y="676440"/>
            <a:ext cx="9144000" cy="4597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Monopol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1:  Define a monopoly, explain how they come into existence and why they must reduce their prices to sell more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2:  Understand how the profit-maximizing output and price are determined for a monopolist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3:  Explain five grounds on which monopolies can be criticized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4:  Explain the significant difference between monopoly and perfect competition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0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8337A6A1-4180-4C9F-A443-7751FDFA02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9977E0D7-7623-480D-8F15-244C5B6C50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Picture 2" descr="ftp://ftp.eppg.com/Sayre%20Micro%20images/Chapter%2010/SAYRE-MICRO-10-F10-4.jpg"/>
          <p:cNvPicPr/>
          <p:nvPr/>
        </p:nvPicPr>
        <p:blipFill>
          <a:blip r:embed="rId1"/>
          <a:stretch/>
        </p:blipFill>
        <p:spPr>
          <a:xfrm>
            <a:off x="0" y="1100160"/>
            <a:ext cx="9144000" cy="4152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57200" y="1978200"/>
            <a:ext cx="822960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opolists are not always profitab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pends on costs – if AC curve is higher than the demand curve at all output levels, will have a los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minimize loss using the profit maximization ru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57975713-826A-409A-A23A-AC44DDE5A1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inimizing Los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143053AF-34A1-4FE3-BDB5-B0FE1BEFBB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Picture 2" descr="ftp://ftp.eppg.com/Sayre%20Micro%20images/Chapter%2010/SAYRE-MICRO-10-F10-5.jpg"/>
          <p:cNvPicPr/>
          <p:nvPr/>
        </p:nvPicPr>
        <p:blipFill>
          <a:blip r:embed="rId1"/>
          <a:stretch/>
        </p:blipFill>
        <p:spPr>
          <a:xfrm>
            <a:off x="0" y="1022400"/>
            <a:ext cx="9144000" cy="405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ABA59D9F-C1D1-42E9-A81B-F7ADF3500C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882720" y="1212840"/>
            <a:ext cx="737856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the following table and indicate the break-even outputs and the profit maximizing output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861840" y="2087640"/>
          <a:ext cx="7569360" cy="3462120"/>
        </p:xfrm>
        <a:graphic>
          <a:graphicData uri="http://schemas.openxmlformats.org/drawingml/2006/table">
            <a:tbl>
              <a:tblPr/>
              <a:tblGrid>
                <a:gridCol w="1079640"/>
                <a:gridCol w="1222560"/>
                <a:gridCol w="1963440"/>
                <a:gridCol w="1704960"/>
                <a:gridCol w="1598760"/>
              </a:tblGrid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rice (=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Revenue (T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Costs (T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Profit (Tπ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20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4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5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E48528F8-54E9-4424-8AA8-5125DE5CAB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882720" y="1212840"/>
            <a:ext cx="737856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the following table and indicate the break-even outputs and the profit maximizing output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Box 10"/>
          <p:cNvSpPr/>
          <p:nvPr/>
        </p:nvSpPr>
        <p:spPr>
          <a:xfrm>
            <a:off x="914400" y="5572080"/>
            <a:ext cx="71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reak-even (TR=TC) occur a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7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.  </a:t>
            </a:r>
            <a:br>
              <a:rPr sz="2400"/>
            </a:b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rofit-maximizing output occurs at an output of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861840" y="2087640"/>
          <a:ext cx="7569360" cy="3462120"/>
        </p:xfrm>
        <a:graphic>
          <a:graphicData uri="http://schemas.openxmlformats.org/drawingml/2006/table">
            <a:tbl>
              <a:tblPr/>
              <a:tblGrid>
                <a:gridCol w="1079640"/>
                <a:gridCol w="1222560"/>
                <a:gridCol w="1963440"/>
                <a:gridCol w="1704960"/>
                <a:gridCol w="1598760"/>
              </a:tblGrid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rice (=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Revenue (T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Costs (T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Profit (Tπ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20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‑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0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‑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1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2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3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4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‑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3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5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‑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457200" y="1978200"/>
            <a:ext cx="822960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le to make economic profits indefinitel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e both productively and allocatively inefficien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e less and charge a higher price than a competitive industr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eating a more unequal distribution of income and wealth within societ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ing their power to practice price discrimina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A4C79364-C5E3-468A-B5B7-F55DF803F2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riticisms of Monopoli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8B3B1989-6C9A-4F9C-8853-85B494A0BD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882720" y="1212840"/>
            <a:ext cx="7378560" cy="52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following table shows the demand for haircuts: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is was a single-price barber, what would be the total revenue for six haircuts?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is barber was able to practice perfect price discrimination by charging each customer the maximum they would pay, what would be the total revenue for six haircuts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2519280" y="1662120"/>
          <a:ext cx="4105440" cy="2495520"/>
        </p:xfrm>
        <a:graphic>
          <a:graphicData uri="http://schemas.openxmlformats.org/drawingml/2006/table">
            <a:tbl>
              <a:tblPr/>
              <a:tblGrid>
                <a:gridCol w="1970280"/>
                <a:gridCol w="2135160"/>
              </a:tblGrid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4C284B8E-189E-4B5E-9BA2-F4223AB8EB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3"/>
          <p:cNvSpPr/>
          <p:nvPr/>
        </p:nvSpPr>
        <p:spPr>
          <a:xfrm>
            <a:off x="882720" y="1212840"/>
            <a:ext cx="7378560" cy="52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following table shows the demand for haircuts: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is was a single-price barber, what would be the total revenue for six haircuts?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is barber was able to practice perfect price discrimination by charging each customer the maximum they would pay, what would be the total revenue for six haircuts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Box 10"/>
          <p:cNvSpPr/>
          <p:nvPr/>
        </p:nvSpPr>
        <p:spPr>
          <a:xfrm>
            <a:off x="3827520" y="4538520"/>
            <a:ext cx="405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TR $90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($15 x 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2519280" y="1662120"/>
          <a:ext cx="4105440" cy="2495520"/>
        </p:xfrm>
        <a:graphic>
          <a:graphicData uri="http://schemas.openxmlformats.org/drawingml/2006/table">
            <a:tbl>
              <a:tblPr/>
              <a:tblGrid>
                <a:gridCol w="1970280"/>
                <a:gridCol w="2135160"/>
              </a:tblGrid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TextBox 8"/>
          <p:cNvSpPr/>
          <p:nvPr/>
        </p:nvSpPr>
        <p:spPr>
          <a:xfrm>
            <a:off x="1268280" y="5902200"/>
            <a:ext cx="631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TR $105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($20 + $19 + $18 + $17 + $16 + $1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57200" y="1978200"/>
            <a:ext cx="822960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opolies charge higher prices than perfectly competitive firm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opolies produce lower outputs than perfectly competitive firms and these outputs are below economic capacity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opolies, unlike perfectly competitive firms, may make economic profits in the short run and in the long run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928F02AC-3401-4B4C-97DE-E0B10FA839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4604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erfect Competition v Monopoly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AE1964EC-412B-4279-AC43-6FD77B6F3A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2" descr="ftp://ftp.eppg.com/Sayre%20Micro%20images/Chapter%2010/SAYRE-MICRO-10-F10-7.jpg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32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Monopol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5:  Explain three grounds on which monopolies can be defended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6:  Discuss ways that governments can change the behaviour of monopolies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0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2DEBBF21-7EE8-474F-98BA-29C4FD23A1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CAD32009-27F1-4DB1-AE53-841C3A0886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2" descr="ftp://ftp.eppg.com/Sayre%20Micro%20images/Chapter%2010/SAYRE-MICRO-10-F10-8.jpg"/>
          <p:cNvPicPr/>
          <p:nvPr/>
        </p:nvPicPr>
        <p:blipFill>
          <a:blip r:embed="rId1"/>
          <a:stretch/>
        </p:blipFill>
        <p:spPr>
          <a:xfrm>
            <a:off x="0" y="0"/>
            <a:ext cx="81025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58C0B88E-F67E-4BB1-8C73-4B3BB2DAA3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4954680" y="1403280"/>
            <a:ext cx="3519360" cy="50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graph opposite depicts a competitive market, what is the equilibrium price and quantity? 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graph opposite depicts a monopolist, what is the equilibrium price and quantit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Picture 2" descr="ftp://ftp.eppg.com/Sayre%20Micro%20images/Chapter%2010/SAYRE-MICRO-10-p316.jpg"/>
          <p:cNvPicPr/>
          <p:nvPr/>
        </p:nvPicPr>
        <p:blipFill>
          <a:blip r:embed="rId1"/>
          <a:stretch/>
        </p:blipFill>
        <p:spPr>
          <a:xfrm>
            <a:off x="382680" y="1468440"/>
            <a:ext cx="4471920" cy="437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CE3BF3BF-F24F-40D0-9019-CFB8FB2CD1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4954680" y="1403280"/>
            <a:ext cx="3519360" cy="50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graph opposite depicts a competitive market, what is the equilibrium price and quantity? 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graph opposite depicts a monopolist, what is the equilibrium price and quantit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Box 10"/>
          <p:cNvSpPr/>
          <p:nvPr/>
        </p:nvSpPr>
        <p:spPr>
          <a:xfrm>
            <a:off x="5040360" y="2793960"/>
            <a:ext cx="358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Price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:  $30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; Quantity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:  3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2" descr="ftp://ftp.eppg.com/Sayre%20Micro%20images/Chapter%2010/SAYRE-MICRO-10-p316.jpg"/>
          <p:cNvPicPr/>
          <p:nvPr/>
        </p:nvPicPr>
        <p:blipFill>
          <a:blip r:embed="rId1"/>
          <a:stretch/>
        </p:blipFill>
        <p:spPr>
          <a:xfrm>
            <a:off x="382680" y="1468440"/>
            <a:ext cx="4471920" cy="4375080"/>
          </a:xfrm>
          <a:prstGeom prst="rect">
            <a:avLst/>
          </a:prstGeom>
          <a:ln w="0">
            <a:noFill/>
          </a:ln>
        </p:spPr>
      </p:pic>
      <p:sp>
        <p:nvSpPr>
          <p:cNvPr id="586" name="Straight Connector 9"/>
          <p:cNvSpPr/>
          <p:nvPr/>
        </p:nvSpPr>
        <p:spPr>
          <a:xfrm>
            <a:off x="1084320" y="1935000"/>
            <a:ext cx="1711440" cy="331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Straight Connector 13"/>
          <p:cNvSpPr/>
          <p:nvPr/>
        </p:nvSpPr>
        <p:spPr>
          <a:xfrm flipV="1">
            <a:off x="2179800" y="2828880"/>
            <a:ext cx="0" cy="125424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14"/>
          <p:cNvSpPr/>
          <p:nvPr/>
        </p:nvSpPr>
        <p:spPr>
          <a:xfrm>
            <a:off x="2093760" y="2732040"/>
            <a:ext cx="181080" cy="181080"/>
          </a:xfrm>
          <a:prstGeom prst="ellipse">
            <a:avLst/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Box 15"/>
          <p:cNvSpPr/>
          <p:nvPr/>
        </p:nvSpPr>
        <p:spPr>
          <a:xfrm>
            <a:off x="5049720" y="4846680"/>
            <a:ext cx="358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Price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:  $40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; Quantity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:  2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16"/>
          <p:cNvSpPr/>
          <p:nvPr/>
        </p:nvSpPr>
        <p:spPr>
          <a:xfrm>
            <a:off x="2714760" y="3341520"/>
            <a:ext cx="180720" cy="181080"/>
          </a:xfrm>
          <a:prstGeom prst="ellipse">
            <a:avLst/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457200" y="1978200"/>
            <a:ext cx="822960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capture large economies of scale in production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engage in extensive research and development into new techniques of production and new product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attract high-quality staff by offering relatively high wages and good working condition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7015DD93-DA0E-46CC-B7E3-89A186D327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fence of Monopoli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457200" y="1690200"/>
            <a:ext cx="82296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le producer who is able to produce at a lower cost than competing firms coul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ually in a market with large economies of sca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325D2740-FE28-4B5C-869A-F770C059BE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Natural Monopo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F463F3C4-8AE7-4BD3-9481-94E24DB92B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Picture 2" descr="ftp://ftp.eppg.com/Sayre%20Micro%20images/Chapter%2010/SAYRE-MICRO-10-F10-9.jpg"/>
          <p:cNvPicPr/>
          <p:nvPr/>
        </p:nvPicPr>
        <p:blipFill>
          <a:blip r:embed="rId1"/>
          <a:srcRect l="0" t="0" r="27406" b="0"/>
          <a:stretch/>
        </p:blipFill>
        <p:spPr>
          <a:xfrm>
            <a:off x="0" y="638280"/>
            <a:ext cx="9144000" cy="5421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457200" y="1690200"/>
            <a:ext cx="82296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s or services regarded as essential and therefore usually provided by governmen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etition may well be costly and wasteful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0AB3568F-2906-42AC-B637-0481F3598F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ublic Utiliti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4168EDAC-7C03-490D-A79F-198154D5C5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5221440" y="1424160"/>
            <a:ext cx="351792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10.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posite, suppose there are two competing rail companies, each with 50 % of the market. What would be the profit or loss for each if they both charged $1.50? </a:t>
            </a:r>
            <a:br>
              <a:rPr sz="2200"/>
            </a:b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2" descr="ftp://ftp.eppg.com/Sayre%20Micro%20images/Chapter%2010/SAYRE-MICRO-10-F10-9.jpg"/>
          <p:cNvPicPr/>
          <p:nvPr/>
        </p:nvPicPr>
        <p:blipFill>
          <a:blip r:embed="rId1"/>
          <a:srcRect l="10216" t="13536" r="38042" b="0"/>
          <a:stretch/>
        </p:blipFill>
        <p:spPr>
          <a:xfrm>
            <a:off x="201600" y="1222200"/>
            <a:ext cx="4937040" cy="355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073CFCA2-AFBB-4F7D-A103-57266C1F25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5221440" y="1424160"/>
            <a:ext cx="351792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10.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posite, suppose there are two competing rail companies, each with 50 % of the market. What would be the profit or loss for each if they both charged $1.50? </a:t>
            </a:r>
            <a:br>
              <a:rPr sz="2200"/>
            </a:b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10"/>
          <p:cNvSpPr/>
          <p:nvPr/>
        </p:nvSpPr>
        <p:spPr>
          <a:xfrm>
            <a:off x="584280" y="4854600"/>
            <a:ext cx="819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At $1.50 the quantity demanded is 100 000, or 50 000 each.  The average cost of servicing 50 000 riders is $2.50.  This means that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each company would lose $1.00 for each fare, for a total loss of $50 000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per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Picture 2" descr="ftp://ftp.eppg.com/Sayre%20Micro%20images/Chapter%2010/SAYRE-MICRO-10-F10-9.jpg"/>
          <p:cNvPicPr/>
          <p:nvPr/>
        </p:nvPicPr>
        <p:blipFill>
          <a:blip r:embed="rId1"/>
          <a:srcRect l="10216" t="13536" r="38042" b="0"/>
          <a:stretch/>
        </p:blipFill>
        <p:spPr>
          <a:xfrm>
            <a:off x="201600" y="1222200"/>
            <a:ext cx="4937040" cy="355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457200" y="189180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options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xing the monopolis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vernment price setting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tionaliza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509F222A-B461-4DA3-AC37-4FC5FDC9C3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Government Control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1595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onopoly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market in which a single firm (the monopolist) is the sole producer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tected from new competitors by barriers to entr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Barriers to Entry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bstacles that make it difficult for new participants to enter a marke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33E9E410-C3B5-434A-B6D3-96A9606FBD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onopo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457200" y="189180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ump sum Profits Tax: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ffects fixed cost but not variable cos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s average cost but marginal cost is unaffect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utput and price levels are unaffect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wer profit (due to higher costs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BE07593C-FDED-4A3F-9CB8-30799FDA25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axing the Monopoli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D9A6B1D4-F428-4BD0-AFC6-CAC2E74FAB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Picture 4" descr="ftp://ftp.eppg.com/Sayre%20Micro%20images/Chapter%2010/SAYRE-MICRO-10-F10-10.jp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01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457200" y="1679400"/>
            <a:ext cx="822960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onopoly Sales Tax: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x on each unit sol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s marginal cos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fit maximizing point shif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rt of the tax is shifted to consumer in the form of higher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wer quantity is produc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opolist’s profit is reduc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9548F6C2-9261-4569-B346-1ADA3CA3B5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axing the Monopoli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43839AA3-3CED-460C-A289-EB2E68ECB1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Picture 2" descr="ftp://ftp.eppg.com/Sayre%20Micro%20images/Chapter%2010/SAYRE-MICRO-10-F10-11.jpg"/>
          <p:cNvPicPr/>
          <p:nvPr/>
        </p:nvPicPr>
        <p:blipFill>
          <a:blip r:embed="rId1"/>
          <a:stretch/>
        </p:blipFill>
        <p:spPr>
          <a:xfrm>
            <a:off x="0" y="1116000"/>
            <a:ext cx="9144000" cy="475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457200" y="1690200"/>
            <a:ext cx="82296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ocially Optimum Pric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rice that produces the best allocation of products (and therefore resources) from society’s point of view, that is, P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C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Fair-Return Pric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ce that guarantees that the firm will earn normal profits only, that is, where P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C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28ADF81F-1DEE-49BA-880D-95C2558BBE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Government Price Setting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6AABFD97-5D4E-4419-8F05-09D044DE39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Picture 2" descr="ftp://ftp.eppg.com/Sayre%20Micro%20images/Chapter%2010/SAYRE-MICRO-10-F10-12.jpg"/>
          <p:cNvPicPr/>
          <p:nvPr/>
        </p:nvPicPr>
        <p:blipFill>
          <a:blip r:embed="rId1"/>
          <a:stretch/>
        </p:blipFill>
        <p:spPr>
          <a:xfrm>
            <a:off x="0" y="693720"/>
            <a:ext cx="8920080" cy="558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92F36AC5-FFDC-4CC7-8DFD-E986509D52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584280" y="1424160"/>
            <a:ext cx="370044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graph, indic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is unregulated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charges the socially optimum pric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charges fair-return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2" descr="ftp://ftp.eppg.com/Sayre%20Micro%20images/Chapter%2010/SAYRE-MICRO-10-p323.jpg"/>
          <p:cNvPicPr/>
          <p:nvPr/>
        </p:nvPicPr>
        <p:blipFill>
          <a:blip r:embed="rId1"/>
          <a:stretch/>
        </p:blipFill>
        <p:spPr>
          <a:xfrm>
            <a:off x="4221000" y="1604880"/>
            <a:ext cx="4680000" cy="345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F111DC52-ADD9-4850-85B9-4057CE5FDD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3"/>
          <p:cNvSpPr/>
          <p:nvPr/>
        </p:nvSpPr>
        <p:spPr>
          <a:xfrm>
            <a:off x="584280" y="1424160"/>
            <a:ext cx="370044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graph, indic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is unregulated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charges the socially optimum pric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charges fair-return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Picture 2" descr="MicroAK1_ST3"/>
          <p:cNvPicPr/>
          <p:nvPr/>
        </p:nvPicPr>
        <p:blipFill>
          <a:blip r:embed="rId1"/>
          <a:stretch/>
        </p:blipFill>
        <p:spPr>
          <a:xfrm>
            <a:off x="4125960" y="1573200"/>
            <a:ext cx="4592520" cy="346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66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D12A25B3-6D17-4B14-A595-9A5DAC65C4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Types of barriers to entr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fit maximization for a monopolis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iticisms of monopoli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ences of monopoli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ays that governments can control monopoli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0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1955880"/>
            <a:ext cx="803736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echnical barrier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uch as sole ownership of a resour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gal barrier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uch as public franchise, licences, patents, and copyrigh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conomic barrier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aused by economies of sca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640958C8-E109-4438-BD83-007FD136EB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Barriers to Entry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53429D6B-48C7-401D-9BBA-36698BCDE3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3"/>
          <p:cNvSpPr/>
          <p:nvPr/>
        </p:nvSpPr>
        <p:spPr>
          <a:xfrm>
            <a:off x="882720" y="1488960"/>
            <a:ext cx="737856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y into the following industries is very difficult. What type of barrier to entry is involved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operating system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aircraft manufacturi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 coast wild salmon fi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A556911F-9F79-4651-A3DF-9BC5B4B547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882720" y="1488960"/>
            <a:ext cx="737856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y into the following industries is very difficult. What type of barrier to entry is involved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operating system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aircraft manufacturi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 coast wild salmon fi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Box 10"/>
          <p:cNvSpPr/>
          <p:nvPr/>
        </p:nvSpPr>
        <p:spPr>
          <a:xfrm>
            <a:off x="1839960" y="2967120"/>
            <a:ext cx="63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echnical barrier (sole ownership of a resourc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Box 8"/>
          <p:cNvSpPr/>
          <p:nvPr/>
        </p:nvSpPr>
        <p:spPr>
          <a:xfrm>
            <a:off x="1843200" y="3683160"/>
            <a:ext cx="63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economic barrier (economies of scal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Box 11"/>
          <p:cNvSpPr/>
          <p:nvPr/>
        </p:nvSpPr>
        <p:spPr>
          <a:xfrm>
            <a:off x="1822320" y="4416480"/>
            <a:ext cx="63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legal barrier (licence fee requi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457200" y="1722600"/>
            <a:ext cx="82296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le to set price rather than having to accept the market-determined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set either price or quantity sold, but not both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the monopolist is the industry, it faces the market demand for the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mand is a downward-sloping curv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st decrease the price in order to sell mor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8780E9AC-4858-4192-B7B7-2BFF40CDDA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onopo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CC4FA1A5-F0A8-4EC1-A68C-CFAB76D6AE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2" descr="ftp://ftp.eppg.com/Sayre%20Micro%20images/Chapter%2010/SAYRE-MICRO-10-T10-1.jpg"/>
          <p:cNvPicPr/>
          <p:nvPr/>
        </p:nvPicPr>
        <p:blipFill>
          <a:blip r:embed="rId1"/>
          <a:stretch/>
        </p:blipFill>
        <p:spPr>
          <a:xfrm>
            <a:off x="0" y="696960"/>
            <a:ext cx="9144000" cy="406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7:25Z</dcterms:modified>
  <cp:revision>313</cp:revision>
  <dc:subject/>
  <dc:title>Slide 1</dc:title>
</cp:coreProperties>
</file>