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E76-3663-4CFB-B62B-00135C64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3FC-0663-4071-BE92-645CC2D9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5AFDB-8177-4BA7-9615-3A7EC6D9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DF0FC-8BED-46B7-87B5-E1B0C66D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3F336-FE99-4436-827D-27BFE4AA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7644F-90A4-4421-808B-5F007F6C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144E0-38B7-494A-978D-BD618EDB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5A08DC-9BDE-4AD6-A9D7-D2C5F75A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54FDF-31FB-4490-847A-6E4DEAF6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3A31D-D51C-456D-A0D3-AFBAD81A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D7EFB-0A77-4C74-8F23-D1464132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ECC795-01BE-4E1D-98AA-7FF97293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9FE-5647-48C0-AA5E-500E0EDA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6BD5F-5B3F-4940-B157-0DA483D7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F6B809-E9C7-46FA-9213-CBA4C705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1E0B4-EA4D-41F1-B140-7F7AC65D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75272-BF49-4481-BFA2-7CBDEC3C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FACDF-88F6-455C-8849-0AD35D52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2F418-1CF7-489C-B6B8-DE80ABD3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A9F82C-E9C9-49C8-8884-D28CA605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404AD-75E0-4076-B7B8-24E2288C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B1025-393F-4AB3-9FC3-8A54F167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D7DF17-E92B-4187-95CB-8485A9AB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382-0562-4F1D-84D3-6F64F1A9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D3FADC-13FB-46FF-BD32-DF6DBD92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3736-E72C-4DFF-9BB0-A17E6299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B5B9-73F9-42E4-9030-C021C578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7150-FFF7-48AA-AE3F-1DE7E372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0427-E47A-4FE5-9317-401896AE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FEF7-F09A-4A18-B7A1-E02A3B0C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15B8-E367-4ACC-9AE7-0924F1F4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C372-3E15-426F-A105-E1E25C5A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D61-34FE-43C6-BFD7-FA4B56FD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71AC-3CAA-4050-91D5-6DA5BFAC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E169-5B5D-4B09-B79E-6FE9D402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71B8-85B6-461B-9C3A-2E11738F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EE76-725C-46D9-8B3D-024BFD98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3CEC-5916-4952-AB31-134798EA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FCDB-1EBB-42A4-BABD-2D4AB79F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CA1C1-F5C2-480D-BFF7-1170CCBF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599F-2838-448A-84D4-3B614CB5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83066-D76C-4356-97C5-1A198D91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59831-4F39-422A-AF50-7782292D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EEC-5DCC-48B6-82E3-4A416A25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7B028-AE0E-430D-A3F8-45218562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7E373-1429-4741-942E-1E00BFD6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183CB-7BA5-4CA8-B479-C114BC97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ACA40-6152-426F-9C6F-456ADC72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F3B9-8B9F-4516-A9EC-18D69C29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C679C-B786-49B9-B5B3-0DD183F7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A95B1-A4B5-46B5-8E54-4CE1439C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B544B-1CDA-4CD8-BE27-2C8093C1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D2A22-2BD0-4292-A301-3F2AF1E0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A01A4-0F7F-4243-B03D-2DA47B4F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5B0F-B199-4C18-BB8F-B2317680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AC578-1620-474D-85D0-2336C3A8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9D8F3-2732-4C64-82E8-F9CA386A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C3625-3312-4942-BFC8-7267FE8B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41E30-B06E-4335-B812-5837FE82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D9B5F-54A7-4DA1-8166-47251210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44D9A-3588-4260-9597-164040C0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76EB1-1B4F-464A-A125-825AA90C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5DFE4-EE2F-45B6-955A-9008691C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9682D-CD1A-45DA-A27A-B57952ED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622D9-5183-4F49-9ADF-819C8697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F0E-E66D-4572-91F0-76531DAA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9CBD6-183C-416E-8DA3-A870DB16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5845A-4D8A-4F42-9904-5984CCC0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36164-711C-4E42-BFFC-0EC15003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178A6-FBB5-4442-95E1-79B7E52D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2B43A-6143-4453-B7B9-9B10B75D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ECEEE-2E99-443F-BDB7-44EC0BB3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8FF1E-A0FC-4D61-A5CD-FD4037FA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F816F-F3D5-448E-A9F4-41DA6114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167AF-0165-4A0E-B984-BAD58226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0F297-C135-4D1B-B45D-EE157A4D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B43-424C-42B3-B785-E46A3E09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0F8D2-FD77-46E5-B89F-9FA85BE8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E7C58B-DF65-43E3-AE46-B3173BFC868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9A21C5-042E-4F26-88CD-BF5C9354C1E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13214-84B5-4818-8E9F-E19F90FC025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CF2B5D-1645-4163-998D-0B4C9F0C5C6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215CF2-4D9E-49B7-A016-60018FBBDCA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6353C-EA0A-4BDA-808B-81CC5199AA4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9CCC93-C374-4859-B5F5-C5A2C068B4F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FC868-5CC5-4C5F-BEBA-E9D43BAA739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123633-8F58-45F1-9107-39174A1F3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A90-D0B0-4827-A581-2F21928A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811363-0C8A-415E-B78B-14489354DEB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1F7697-6097-4A26-8A91-E30DD7D0139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E1925-C818-49B8-B199-14E37EB73F4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813E26-A92B-4C3F-820C-F34A4BCDFF1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D5DD34-F18C-446F-BF70-044170F00FD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F7ECD5-518C-4216-9579-66095139AB1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102F8E-D961-4E75-9352-61BB087E811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17B549-9819-4102-8E91-91B76FCDD77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45032C-7737-4575-8334-BABDF5F2F1E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C0EF27-0343-4314-91F1-D59B7822C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B86-0155-429E-98E5-C87C8012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458E7D-1BC4-4538-9CC3-3B683CD028E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36A108-17ED-40EE-B197-879CF58EF84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8DA661-5774-41B7-A13A-326FE02D2C2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74E9C6-3235-4BC5-B3AC-D89A81B26D6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83BEB8-04B1-49FB-B3EB-BD27E46A100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371D9A-CC9C-4694-85E5-B791621E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592216-95CA-476C-84D1-2DC8A06A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E600E5-126F-4019-91CB-6110F8C2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BD05DD-9A78-4B0A-ADBD-02FF1C0B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48E0F4-85F1-4A43-86EA-9EB4DA76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93BD-4EA5-4E7F-8FED-ECFC45C3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7ED027-0C50-4EE8-9058-3BDC9E34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8E9B43-4C1E-4AA2-AE4C-F52965C6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DB022C-71EF-4C31-8879-094CB9F3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CF2A6C-13A8-45C5-BE96-74DE6AF6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148B54-6D34-405C-8338-5152969C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DB1179-F608-4D7A-A8F7-2E601C80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BE8D8F-D83B-4CFC-B78A-D66C2494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57C1E-329A-4F3A-BD1B-D579B4A9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AA17A-9460-4B8B-B3E7-B3AE02FA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EEBE8-FC44-4C5E-8735-DF83AFA3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D3C7718-4671-484C-A9CD-30E0ABA9CF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6E57637-A7AD-4435-80A9-60338E4F0B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7E19BFF-A3F9-4FE0-8C8E-2F1EB417EB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6746CB2-38B9-4FA4-9D92-11D9A3AF2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AEB337BC-5889-4F2A-99B4-ADEB1BB260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E47AAFB-F86E-4C36-B03C-7EF33172D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90A0C45E-72B4-439F-BAF9-FD96A9D0E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8796ECA-F827-4FDC-9A53-1793B5DFE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933c"/>
                </a:solidFill>
                <a:latin typeface="Kalinga"/>
                <a:ea typeface="Kalinga"/>
              </a:rPr>
              <a:t>A Firm’s Production Decisions and Costs in the Short Run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A4775CC-5F6F-4369-9638-1B7CD22586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di recently gave up a job that paid $1500 a month to open up his own convenience store. He works full time in the store which had total revenue of $105 000 last year. His total (explicit) costs amounted to $65 000. He reckons his store is now worth $200 000 and if he were to sell it and invest the proceeds in his dad’s supermarket he would earn an 8 percent annual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bdi’s economic profit during the ye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8"/>
          <p:cNvSpPr/>
          <p:nvPr/>
        </p:nvSpPr>
        <p:spPr>
          <a:xfrm>
            <a:off x="1119240" y="3487680"/>
            <a:ext cx="688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revenue: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$10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explicit cos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$65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mplicit co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ages ($1500 X 12)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8 0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nterest (8% X 200 000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16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Total Cos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99 00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otal economic profit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6 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EA94135-4C4B-4C61-91FE-2320EE1B7B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583920" y="1935000"/>
            <a:ext cx="810252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hort Run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y period of time in which at least one input in the production process is fix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output of any productive proces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B246FBF-2120-4A46-ADCB-B58FB00060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83920" y="1541160"/>
            <a:ext cx="8102520" cy="48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crease in total produc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a result of adding one mor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t of in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Product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product (or total output)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ed by the quantity of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puts used to produce that total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ounded Rectangle 10"/>
          <p:cNvSpPr/>
          <p:nvPr/>
        </p:nvSpPr>
        <p:spPr>
          <a:xfrm>
            <a:off x="6262560" y="2403360"/>
            <a:ext cx="1998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6453360" y="2381400"/>
            <a:ext cx="1601640" cy="755640"/>
          </a:xfrm>
          <a:prstGeom prst="rect">
            <a:avLst/>
          </a:prstGeom>
          <a:ln w="0">
            <a:noFill/>
          </a:ln>
        </p:spPr>
      </p:pic>
      <p:sp>
        <p:nvSpPr>
          <p:cNvPr id="490" name="Rounded Rectangle 11"/>
          <p:cNvSpPr/>
          <p:nvPr/>
        </p:nvSpPr>
        <p:spPr>
          <a:xfrm>
            <a:off x="6265800" y="4809960"/>
            <a:ext cx="199872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6570720" y="4836960"/>
            <a:ext cx="1328760" cy="73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7975F9F3-90F1-4A2B-856E-418F1A1E8A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and Average Produc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851040" y="2181240"/>
          <a:ext cx="7410240" cy="3962520"/>
        </p:xfrm>
        <a:graphic>
          <a:graphicData uri="http://schemas.openxmlformats.org/drawingml/2006/table">
            <a:tbl>
              <a:tblPr/>
              <a:tblGrid>
                <a:gridCol w="1506240"/>
                <a:gridCol w="1870200"/>
                <a:gridCol w="1986120"/>
                <a:gridCol w="204768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 of 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673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ory of Production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7200" y="165852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aw of Diminishing Returns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more of a variable input is added to a fixed input in the production process, the resulting increase in output will, at some point, begin to diminish.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vision of Labour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viding the production process into a series of specialized tasks, each done by a different worke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F74D5B2-3518-41C5-9DDC-98DFC3D392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enefits of Division of Labour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44480" y="1785960"/>
            <a:ext cx="79423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ility to fit the best person to the right job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d dexterity achieved when one worker focuses on a single operatio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savings from not having to change tool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me savings gained by not moving from one operation to another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chine specialization can be developed around specific, discrete operations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9454F751-7BFA-49AC-ADBD-D0B4D58472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386251C-98F9-4AFB-A1AE-A38974C772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Picture 2" descr="ftp://ftp.eppg.com/Sayre%20Micro%20images/Chapter%206/SAYRE-MICRO-6-F-6-1.jpg"/>
          <p:cNvPicPr/>
          <p:nvPr/>
        </p:nvPicPr>
        <p:blipFill>
          <a:blip r:embed="rId1"/>
          <a:stretch/>
        </p:blipFill>
        <p:spPr>
          <a:xfrm>
            <a:off x="0" y="469800"/>
            <a:ext cx="9144000" cy="526284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1"/>
          <p:cNvSpPr/>
          <p:nvPr/>
        </p:nvSpPr>
        <p:spPr>
          <a:xfrm>
            <a:off x="264960" y="5560920"/>
            <a:ext cx="860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erage product will rise if marginal product exceeds it and will fall if marginal product is less tha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DF4D86F-6C98-47AF-9D73-D9DBCC3DC7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 the MPL and the APL for each unit of labour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457280" y="2413080"/>
          <a:ext cx="6240600" cy="3303360"/>
        </p:xfrm>
        <a:graphic>
          <a:graphicData uri="http://schemas.openxmlformats.org/drawingml/2006/table">
            <a:tbl>
              <a:tblPr/>
              <a:tblGrid>
                <a:gridCol w="1881360"/>
                <a:gridCol w="1638000"/>
                <a:gridCol w="1349640"/>
                <a:gridCol w="1371600"/>
              </a:tblGrid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 of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6B14A03-325B-420B-8D08-755089C6FE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ate the MPL and the APL for each unit of labour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457280" y="2413080"/>
          <a:ext cx="6240600" cy="3303360"/>
        </p:xfrm>
        <a:graphic>
          <a:graphicData uri="http://schemas.openxmlformats.org/drawingml/2006/table">
            <a:tbl>
              <a:tblPr/>
              <a:tblGrid>
                <a:gridCol w="1881360"/>
                <a:gridCol w="1638000"/>
                <a:gridCol w="1349640"/>
                <a:gridCol w="1371600"/>
              </a:tblGrid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 of Labo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400"/>
                      </a:b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P</a:t>
                      </a:r>
                      <a:r>
                        <a:rPr b="1" lang="en-GB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393BA81-68B9-49D0-A366-CDA323781B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583920" y="2115720"/>
            <a:ext cx="81025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tion relates the number of units produced to the amount of labour use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relate the number of units produced to dollars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depend on the level of production, i.e. how many workers and the level of total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Production Decisions and Costs 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in the Short Run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Understand how and why economists measure costs differently from accountants and distinguish between the accountants’ and economists’ views of profi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the crucial relationship between productivity and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8F20E45-E8D5-4D7D-BEE8-78AF75CE6E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Variable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total of all costs that vary with the level of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increase in total variabl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as a result of producing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ne more unit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3441B883-4E60-4E78-9860-4381CB914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ounded Rectangle 7"/>
          <p:cNvSpPr/>
          <p:nvPr/>
        </p:nvSpPr>
        <p:spPr>
          <a:xfrm>
            <a:off x="5742000" y="4532400"/>
            <a:ext cx="279540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5857920" y="4667400"/>
            <a:ext cx="2573280" cy="80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rginal and Variable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7200" y="2306520"/>
            <a:ext cx="822960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Variable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variable cost divided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y total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3067C31-8E15-49F1-9AEA-B466F9B634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ounded Rectangle 7"/>
          <p:cNvSpPr/>
          <p:nvPr/>
        </p:nvSpPr>
        <p:spPr>
          <a:xfrm>
            <a:off x="5465880" y="2906640"/>
            <a:ext cx="2795400" cy="106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5518080" y="3019320"/>
            <a:ext cx="2648160" cy="86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ost Data for a Firm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164C84B-8CCD-4208-BE33-C4E9D3DE18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638280" y="1488960"/>
          <a:ext cx="7899120" cy="4392720"/>
        </p:xfrm>
        <a:graphic>
          <a:graphicData uri="http://schemas.openxmlformats.org/drawingml/2006/table">
            <a:tbl>
              <a:tblPr/>
              <a:tblGrid>
                <a:gridCol w="1150920"/>
                <a:gridCol w="1201680"/>
                <a:gridCol w="1111320"/>
                <a:gridCol w="1127160"/>
                <a:gridCol w="1152360"/>
                <a:gridCol w="1192320"/>
                <a:gridCol w="963360"/>
              </a:tblGrid>
              <a:tr h="674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s of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165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18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50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22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5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04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—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7D458BE-8543-4964-B65A-0F90231728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Picture 2" descr="ftp://ftp.eppg.com/Sayre%20Micro%20images/Chapter%206/SAYRE-MICRO-6-F-6-2.jpg"/>
          <p:cNvPicPr/>
          <p:nvPr/>
        </p:nvPicPr>
        <p:blipFill>
          <a:blip r:embed="rId1"/>
          <a:stretch/>
        </p:blipFill>
        <p:spPr>
          <a:xfrm>
            <a:off x="0" y="0"/>
            <a:ext cx="8793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TextBox 4"/>
          <p:cNvSpPr/>
          <p:nvPr/>
        </p:nvSpPr>
        <p:spPr>
          <a:xfrm>
            <a:off x="5391000" y="3870360"/>
            <a:ext cx="35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riable costs of production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reflection of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3430B89-5F7C-4FC4-8EA1-61C2C121B6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all units of labour cost the same, fill in the bl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s marginal cost at a minim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P of labour when 4 units of labour are u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21DA404E-A7D4-4C7D-8042-2EEC51D92E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ing all units of labour cost the same, fill in the bl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32C26D95-9830-46C1-8BE4-3D62436C33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s marginal cost at a minim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Whe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wo unit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of labour are employed (output equals 22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33B670A-3B28-4F4C-BAF1-C2DDEEBCC6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P of labour when 4 units of labour are 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80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(400 minus 3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868320" y="3124080"/>
          <a:ext cx="7286760" cy="3033720"/>
        </p:xfrm>
        <a:graphic>
          <a:graphicData uri="http://schemas.openxmlformats.org/drawingml/2006/table">
            <a:tbl>
              <a:tblPr/>
              <a:tblGrid>
                <a:gridCol w="1725480"/>
                <a:gridCol w="1425600"/>
                <a:gridCol w="1487520"/>
                <a:gridCol w="1351080"/>
                <a:gridCol w="1297080"/>
              </a:tblGrid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Units of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8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otal and Average Total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99836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Fixed Costs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s that do not vary with the level of outpu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Fixed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fixed cost divided b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quantity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1F0A9E15-1BA1-48F0-9DF0-FCA3C3F7D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ounded Rectangle 7"/>
          <p:cNvSpPr/>
          <p:nvPr/>
        </p:nvSpPr>
        <p:spPr>
          <a:xfrm>
            <a:off x="5294160" y="3936960"/>
            <a:ext cx="2914920" cy="1071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5443560" y="4062240"/>
            <a:ext cx="2616120" cy="871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otal and Average Total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7200" y="1998360"/>
            <a:ext cx="8229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Cos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um of both tota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le cost and total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xed cost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Total Cos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cost divided by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y of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651AD8D2-0515-46DF-B82D-65866E888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ounded Rectangle 7"/>
          <p:cNvSpPr/>
          <p:nvPr/>
        </p:nvSpPr>
        <p:spPr>
          <a:xfrm>
            <a:off x="5241960" y="2838600"/>
            <a:ext cx="2913120" cy="830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V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F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ounded Rectangle 10"/>
          <p:cNvSpPr/>
          <p:nvPr/>
        </p:nvSpPr>
        <p:spPr>
          <a:xfrm>
            <a:off x="5245200" y="4578480"/>
            <a:ext cx="291312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5294160" y="4657680"/>
            <a:ext cx="2810160" cy="92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Production Decisions and Costs </a:t>
            </a:r>
            <a:br>
              <a:rPr sz="2900"/>
            </a:br>
            <a:r>
              <a:rPr b="0" lang="en-US" sz="2900" spc="-1" strike="noStrike">
                <a:solidFill>
                  <a:srgbClr val="77933c"/>
                </a:solidFill>
                <a:latin typeface="Kalinga"/>
              </a:rPr>
              <a:t>in the Short Run</a:t>
            </a:r>
            <a:endParaRPr b="0" lang="en-US" sz="29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the important difference between fixed costs and variable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List and graph the seven specific cost definitions used by economist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Explain the meaning of increasing productivity and cutting costs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8ED6D69-3D8D-40C9-B113-80BBF7D53C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87037EBB-2F4B-4DE6-B027-754BC0798D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3" name="Picture 4" descr="ftp://ftp.eppg.com/Sayre%20Micro%20images/Chapter%206/SAYRE-MICRO-6-p194.jpg"/>
          <p:cNvPicPr/>
          <p:nvPr/>
        </p:nvPicPr>
        <p:blipFill>
          <a:blip r:embed="rId1"/>
          <a:stretch/>
        </p:blipFill>
        <p:spPr>
          <a:xfrm>
            <a:off x="0" y="549360"/>
            <a:ext cx="9099720" cy="569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EE0AC793-5FB8-42CD-8A51-BA393257B3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83920" y="1434600"/>
            <a:ext cx="81025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1"/>
          <p:cNvSpPr/>
          <p:nvPr/>
        </p:nvSpPr>
        <p:spPr>
          <a:xfrm>
            <a:off x="414360" y="4741920"/>
            <a:ext cx="8602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MC and AVC curves reflect the division of labour as they decline and the law of diminishing returns as they ri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is initially below AVC and ATC but then rises above each of the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C intersects AVC and ATC at their minimum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C continuously dec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Picture 2" descr="ftp://ftp.eppg.com/Sayre%20Micro%20images/Chapter%206/SAYRE-MICRO-6-F-6-3.jpg"/>
          <p:cNvPicPr/>
          <p:nvPr/>
        </p:nvPicPr>
        <p:blipFill>
          <a:blip r:embed="rId1"/>
          <a:stretch/>
        </p:blipFill>
        <p:spPr>
          <a:xfrm>
            <a:off x="0" y="425520"/>
            <a:ext cx="8994600" cy="42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58673B90-5728-47C4-BB45-FB0A1C98D6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2" descr="ftp://ftp.eppg.com/Sayre%20Micro%20images/Chapter%206/SAYRE-MICRO-6-F-6-4.jpg"/>
          <p:cNvPicPr/>
          <p:nvPr/>
        </p:nvPicPr>
        <p:blipFill>
          <a:blip r:embed="rId1"/>
          <a:stretch/>
        </p:blipFill>
        <p:spPr>
          <a:xfrm>
            <a:off x="0" y="474840"/>
            <a:ext cx="8994600" cy="5790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145E8354-212C-4FAD-83F5-FBCA5B2C9D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" descr="ftp://ftp.eppg.com/Sayre%20Micro%20images/Chapter%206/SAYRE-MICRO-6-F-6-5.jpg"/>
          <p:cNvPicPr/>
          <p:nvPr/>
        </p:nvPicPr>
        <p:blipFill>
          <a:blip r:embed="rId1"/>
          <a:stretch/>
        </p:blipFill>
        <p:spPr>
          <a:xfrm>
            <a:off x="0" y="482760"/>
            <a:ext cx="9007560" cy="56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C9B86CD-F08A-44F7-80DC-C7F44AF183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 in the tabl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574560" y="2084400"/>
          <a:ext cx="8207640" cy="398628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  <a:gridCol w="1027080"/>
                <a:gridCol w="1025280"/>
                <a:gridCol w="1025640"/>
                <a:gridCol w="1027080"/>
                <a:gridCol w="1025640"/>
                <a:gridCol w="1025640"/>
              </a:tblGrid>
              <a:tr h="88596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F5942922-F8A5-4BF3-952B-90C07C790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457200" y="1573200"/>
            <a:ext cx="84582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blanks in the table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574560" y="2084400"/>
          <a:ext cx="8207640" cy="3986280"/>
        </p:xfrm>
        <a:graphic>
          <a:graphicData uri="http://schemas.openxmlformats.org/drawingml/2006/table">
            <a:tbl>
              <a:tblPr/>
              <a:tblGrid>
                <a:gridCol w="1025640"/>
                <a:gridCol w="1025640"/>
                <a:gridCol w="1027080"/>
                <a:gridCol w="1025280"/>
                <a:gridCol w="1025640"/>
                <a:gridCol w="1027080"/>
                <a:gridCol w="1025640"/>
                <a:gridCol w="1025640"/>
              </a:tblGrid>
              <a:tr h="885960">
                <a:tc>
                  <a:txBody>
                    <a:bodyPr lIns="68760" rIns="68760" tIns="0" bIns="0" anchor="ctr">
                      <a:noAutofit/>
                    </a:bodyPr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28600" indent="-22860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er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A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M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2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73.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6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88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4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96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33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2666960"/>
                          <a:tab algn="l" pos="103124160"/>
                          <a:tab algn="l" pos="10358136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1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utting Cost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DB623803-C563-4222-BE63-2980738A76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83920" y="1604880"/>
            <a:ext cx="810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utting costs involves a reduction in average costs rather than total costs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firm is assumed to be producing at the lowest possible cost for each output level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sts will decrease if: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price of either fixed or variable inputs decreases 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rginal product of a productive process increases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 firm is operating at excess capacity, and then increases output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A2AE1880-30F1-4A69-A00D-4B097EC44A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2" descr="ftp://ftp.eppg.com/Sayre%20Micro%20images/Chapter%206/SAYRE-MICRO-6-F-6-6.jpg"/>
          <p:cNvPicPr/>
          <p:nvPr/>
        </p:nvPicPr>
        <p:blipFill>
          <a:blip r:embed="rId1"/>
          <a:stretch/>
        </p:blipFill>
        <p:spPr>
          <a:xfrm>
            <a:off x="0" y="817560"/>
            <a:ext cx="9136080" cy="518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5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47830AD-2A39-4353-A255-C7A924B91E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stinction between implicit and explicit costs and the difference between normal and economic profit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product, average product, and marginal product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he division of labour and the law of diminishing return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otal, variable, and fixed cost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498960" indent="-49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MP and M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5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20D8E61-E264-4FC9-A0BC-2E44F7F727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AP and AV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Relationship between MC curve and AVC, ATC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MC, AVC, and ATC decrease if input prices fall or if productivity increas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c capacity </a:t>
            </a: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occurs when ATC is at a minimum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6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xplicit and Implicit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xplicit Cost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st that is actually paid out in money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mplicit Costs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cost that does not require an actual expenditure of mone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CF9BEAEE-B83E-403B-A722-4434D20CEB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xplicit and Implicit Cost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22200"/>
            <a:ext cx="82296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 and Loss Statement </a:t>
            </a:r>
            <a:br>
              <a:rPr sz="3200"/>
            </a:b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066EF36-CA4A-4490-B70C-6330D5BC3B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690480" y="1797120"/>
          <a:ext cx="8028000" cy="4476600"/>
        </p:xfrm>
        <a:graphic>
          <a:graphicData uri="http://schemas.openxmlformats.org/drawingml/2006/table">
            <a:tbl>
              <a:tblPr/>
              <a:tblGrid>
                <a:gridCol w="2679840"/>
                <a:gridCol w="191880"/>
                <a:gridCol w="2872080"/>
                <a:gridCol w="1008000"/>
                <a:gridCol w="1276200"/>
              </a:tblGrid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Revenu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h sales (excluding sales ta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s and Suppl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red lab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9036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reciation on equi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x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counting Profi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portunity costs of $96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18252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t into busin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bour put in by ow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 gridSpan="3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xplicit and Implicit Cost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0760">
                <a:tc gridSpan="2"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onomic Profit or (Loss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90360"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312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 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ccounting v Economic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F093D18-49FE-4C4F-A447-D8F95D3CE5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ounded Rectangle 8"/>
          <p:cNvSpPr/>
          <p:nvPr/>
        </p:nvSpPr>
        <p:spPr>
          <a:xfrm>
            <a:off x="797040" y="2127240"/>
            <a:ext cx="7634160" cy="52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861840" y="2149560"/>
            <a:ext cx="75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ing prof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reven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tal explici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12"/>
          <p:cNvGrpSpPr/>
          <p:nvPr/>
        </p:nvGrpSpPr>
        <p:grpSpPr>
          <a:xfrm>
            <a:off x="822240" y="3490920"/>
            <a:ext cx="7662960" cy="857160"/>
            <a:chOff x="822240" y="3490920"/>
            <a:chExt cx="7662960" cy="857160"/>
          </a:xfrm>
        </p:grpSpPr>
        <p:sp>
          <p:nvSpPr>
            <p:cNvPr id="455" name="Rounded Rectangle 10"/>
            <p:cNvSpPr/>
            <p:nvPr/>
          </p:nvSpPr>
          <p:spPr>
            <a:xfrm>
              <a:off x="822240" y="3490920"/>
              <a:ext cx="7634880" cy="85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9"/>
            <p:cNvSpPr/>
            <p:nvPr/>
          </p:nvSpPr>
          <p:spPr>
            <a:xfrm>
              <a:off x="882360" y="3498840"/>
              <a:ext cx="760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conomic profi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tal revenu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total cost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including implicit and explicit cost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0DF85D22-EDFD-45E8-84AB-17ED8317AA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2" descr="ftp://ftp.eppg.com/Sayre%20Micro%20images/Chapter%206/SAYRE-MICRO-6-p183.jpg"/>
          <p:cNvPicPr/>
          <p:nvPr/>
        </p:nvPicPr>
        <p:blipFill>
          <a:blip r:embed="rId1"/>
          <a:stretch/>
        </p:blipFill>
        <p:spPr>
          <a:xfrm>
            <a:off x="552600" y="192240"/>
            <a:ext cx="7665840" cy="666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Accounting v Economic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49049317-C80A-4C16-9FCF-E9A5AE00FE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83920" y="1604520"/>
            <a:ext cx="8102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Normal Profi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inimum profit that must be earned to keep the entrepreneur in that type of busines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c Profi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venue over and above all costs, including normal profi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unk Cost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istorical costs of an asset that are unrecover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6-</a:t>
            </a:r>
            <a:fld id="{B70E4549-AC01-403E-B6AC-4EEDEB389A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457200" y="1403280"/>
            <a:ext cx="84582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di recently gave up a job that paid $1500 a month to open up his own convenience store. He works full time in the store which had total revenue of $105 000 last year. His total (explicit) costs amounted to $65 000. He reckons his store is now worth $200 000 and if he were to sell it and invest the proceeds in his dad’s supermarket he would earn an 8 percent annual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bdi’s economic profit during the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41:01Z</dcterms:modified>
  <cp:revision>244</cp:revision>
  <dc:subject/>
  <dc:title>Slide 1</dc:title>
</cp:coreProperties>
</file>