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FB1F-A3B4-4312-8414-8BE1F61EE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4F4-E55D-408F-9240-3AA3DE79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5FFE5-75B0-4C63-8467-C6B272F3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D7B96-93B4-4E75-A748-671C64DC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20B70-E0F7-4393-A3AE-129AA7AA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245BDE-9940-427E-8D44-CDA6C50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0DB53-9831-4528-B8F4-28434DD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AA6D00-40D7-41A6-9CE1-8C693FAD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A86F3-E77B-4B8E-B5C2-85E9A9B4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128480-FE0A-46E2-A430-2C73CF020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8C142-CF94-4C6A-814F-15F25798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E19FB-9D50-477E-986B-21EDCD0E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411E-0C4A-4CAB-9E0E-8FA70ECC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C7F5F-C6FC-435A-94C8-561120F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65E9D-C686-44A9-90DE-BD30493C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866BB4-43BA-41B2-8EAD-56C2F6F5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6A715-4EDC-4803-BDD0-6F74BD16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42D01A-C35A-4CB4-8BCA-330085B6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74EB2-B112-473D-93BA-31B6F63A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1B37EA-556C-4A48-8B9F-A928CBB4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B0008-0FC3-40B2-9067-2B10088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1466E-8822-494F-A34F-28ED4B1F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26280-6D97-457E-A86A-90A4D1C29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247-8550-4630-AB63-B96DBC14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286C2-2C49-4869-8B23-6F2945E6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CC89-3BB7-4D1E-937F-CAF94BB9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9345-E58F-431B-816A-BDE8196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06C4-2F28-4568-B2C2-C9A6168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702C-345C-4E5E-A774-761DA84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1DDE-3A25-4500-9250-873380FB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85BE-1FCF-41EF-8B5E-613A6D5C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FD2-AD0B-4FFF-B55C-A22E0A9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21A-62BC-443B-B6F5-200B2BBB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A252-8FBC-4DD5-A1C0-D48AD4B2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E15-DD7E-4EC4-872C-0C9A18C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7E5-816C-4FB6-808D-4C517B0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420E-F7FA-4BB5-B090-03555437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CB96-4121-4FC5-848C-A0018F6D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16E3-8B6E-4906-8DEA-42B964B9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D842-E428-4FAB-965D-3ECE3B0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C2D7-A11F-4D36-9512-30F4AA53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0410-B114-4C22-A4C8-A84C17A7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5E01-3C75-439C-BF0D-FE377144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CA7-07F8-4E91-A064-2C63E697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90C1-66FD-4812-B7B0-E2A8EDBC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83E06-F9EE-46D2-9707-768608D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5497-A20C-47F1-880C-2EC4ECAF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310A1-EA98-4282-A4E2-4CA37D6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9898-D1FB-4E61-A179-0E5B6435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CAC61-BC5C-4BDE-B64C-72217121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9959F-F073-496A-8BD7-17A512E7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065CB-D93F-40DB-BC9F-2D2B0020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1B9E6-83E6-4B15-B4D3-F6339210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A7D1-1583-4C9D-8233-EE5174AF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A92E-5047-4035-AC0C-177867D1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AE62F-F925-494D-BCF4-140CBA8C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B9FCE-C685-467F-B044-7195200A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688E-8E3F-4D92-B544-80838F4D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80184-9D54-4454-9744-DDF2C40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FBE0-3C44-4230-99B1-F5602046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F7D5A-6010-480C-93FF-C89D597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C536D-FC87-45DA-8256-393AFBBA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A2AC-1210-481E-ABBD-5E2B9B6C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DA269-8A71-4FDF-B65F-EBBB2D3A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11C64-69F2-4D30-8027-8CE55385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669-1543-4E85-976F-BC2545CB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A9CD-C55B-48BA-A072-7C9F88E2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9C256-14FF-4DEE-8FC9-9A980252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FFC66-45FF-4B1C-B7F7-BAA02E6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DC8A4-C693-4071-9BD0-F3738883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60713-6014-4C0B-9718-BB1253F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D159-28BE-4ABB-B360-01FD8E1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2FA63-A32A-4379-AD77-0F8AD53C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69A35-EAB4-4A3F-BB09-209F4664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D9D22-FA78-431C-8AD4-BFCC4C89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6DCDC-DE06-47FD-8FC5-3D6769588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750-8E73-4C11-843C-17E5A7AA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86DBD-C654-4450-966F-9213400A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D0CAB-EC7B-4BD3-B4FD-E67F4B2F14F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5DCFA-31D5-4850-BBBE-433D9585467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6BBD2-9B3D-4F40-8C7E-230BBA3FF4F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87A626-4D03-42FA-A04C-CE70F551FF8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E7192-6799-49E9-9EEA-BC4FC9549B5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4586F-151F-4BDA-8A6C-CFC7D4642C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7D733-5E1C-4CDD-B469-36F9B3C7B8A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423C1-A202-4AF6-8CF4-D527E04B2C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27170-8131-4092-9207-370C9115B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A3E-0C3B-4B65-8D06-8D5661F9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A3846-E51B-45C9-831C-0B2697CEB8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D31AF-F1E0-4FEC-A95D-B1FBF168484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1BCC7-E697-4A82-AEA2-7FA42F6CDCD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C9638-EBC2-4DCF-8249-2CC9515AFF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FACB19-2C05-4FCF-BAEB-C2ABFA770F5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0FA710-DD19-49AB-BFCE-855FB67DBC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6EAEEF-B4FD-47C7-9BE9-F8745FCBE0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298C30-63D0-4B8A-A6DC-8FA7CE3227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FCA711-640A-435B-8912-60C249684E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35E9E8-D3A8-454F-B01B-B99731E32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994-AFF6-4C98-83C1-B60ED5B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1AE5BA-99E2-47DA-944C-BDB4087ED6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214F4-CF02-4F9C-AF5A-9CDB87ED2D7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310480-C61F-447A-A0AE-F767F114FAB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EFCFE-DD95-4D08-A52E-9AA0C986942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2D9566-8AAC-4AA8-B490-1DD551FA24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CCAFEE-3BAA-48DD-B39A-BD9153D5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864D57-7789-487E-B765-2B9231BA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C92629-C3AE-49CE-8370-52E1F7E8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5BE2F6-4E9C-4220-BFF7-E61DA1B9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1EAB2-5BBF-4D04-BC50-28963D34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ACF-A12D-44DE-B259-412D3682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25CBDB-282E-4D5F-A6A1-1F1A0742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A1A950-7A73-449D-B3DF-8E88B100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BE78A-3AD1-41C5-BD49-ABF93812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95FC5A-1DD4-4299-A7B1-15A65F9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05CC91-67E4-4171-8123-6384531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5F701C-2D25-4862-A1DB-4A055AB0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0EFB53-E4E1-40B6-A6E4-74BED388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ACA84-3156-4E63-A75A-ECAE3745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E2A6F-C5B6-490F-8B50-0CFA83B0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DD87E4-EF9C-40AB-8827-4E58A68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875026F-99D4-4FEE-9343-DA4C9BDA73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3FA67ED-85D4-4ECE-9A48-124DF981D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678ED9C-3284-4E88-93F2-FAC9867E4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428FE76-050C-4D28-A352-4B389BA06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34A86F33-C76F-4ACF-8B7C-1B5CF4F87C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D0311A34-A535-49A5-8703-CB65B13C4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5A98721-1147-483A-92B8-DE322583AD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2A2AF5A-5F06-473B-827E-75976478E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nsumer Choice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5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21626FE-4D6B-4889-B21A-1679A65043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8D50C2C-A113-4394-9707-81A80B161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table, which shows Michelle’s utility for milksha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6611040" y="29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898560" y="2254320"/>
          <a:ext cx="7288200" cy="3932280"/>
        </p:xfrm>
        <a:graphic>
          <a:graphicData uri="http://schemas.openxmlformats.org/drawingml/2006/table">
            <a:tbl>
              <a:tblPr/>
              <a:tblGrid>
                <a:gridCol w="2438280"/>
                <a:gridCol w="2156040"/>
                <a:gridCol w="2693880"/>
              </a:tblGrid>
              <a:tr h="758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 (T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 (MU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Box 8"/>
          <p:cNvSpPr/>
          <p:nvPr/>
        </p:nvSpPr>
        <p:spPr>
          <a:xfrm>
            <a:off x="6593040" y="3384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0"/>
          <p:cNvSpPr/>
          <p:nvPr/>
        </p:nvSpPr>
        <p:spPr>
          <a:xfrm>
            <a:off x="4162320" y="377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11"/>
          <p:cNvSpPr/>
          <p:nvPr/>
        </p:nvSpPr>
        <p:spPr>
          <a:xfrm>
            <a:off x="4176720" y="418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3"/>
          <p:cNvSpPr/>
          <p:nvPr/>
        </p:nvSpPr>
        <p:spPr>
          <a:xfrm>
            <a:off x="66636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664632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Box 16"/>
          <p:cNvSpPr/>
          <p:nvPr/>
        </p:nvSpPr>
        <p:spPr>
          <a:xfrm>
            <a:off x="4176720" y="535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7"/>
          <p:cNvSpPr/>
          <p:nvPr/>
        </p:nvSpPr>
        <p:spPr>
          <a:xfrm>
            <a:off x="4168800" y="574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658880"/>
            <a:ext cx="82296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rational consumer should purchase the product that yields the greatest marginal utility per dolla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196148E4-E599-4C48-9A45-1845494BB0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9"/>
          <p:cNvGrpSpPr/>
          <p:nvPr/>
        </p:nvGrpSpPr>
        <p:grpSpPr>
          <a:xfrm>
            <a:off x="2487600" y="2881440"/>
            <a:ext cx="4125960" cy="1074600"/>
            <a:chOff x="2487600" y="2881440"/>
            <a:chExt cx="4125960" cy="1074600"/>
          </a:xfrm>
        </p:grpSpPr>
        <p:sp>
          <p:nvSpPr>
            <p:cNvPr id="499" name="Rounded Rectangle 8"/>
            <p:cNvSpPr/>
            <p:nvPr/>
          </p:nvSpPr>
          <p:spPr>
            <a:xfrm>
              <a:off x="2487600" y="2881440"/>
              <a:ext cx="412596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0" name="" descr=""/>
            <p:cNvPicPr/>
            <p:nvPr/>
          </p:nvPicPr>
          <p:blipFill>
            <a:blip r:embed="rId1"/>
            <a:stretch/>
          </p:blipFill>
          <p:spPr>
            <a:xfrm>
              <a:off x="2944800" y="2987640"/>
              <a:ext cx="3268440" cy="90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58920" y="4379760"/>
            <a:ext cx="4891320" cy="17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Optimal Purchasing Rule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07920"/>
            <a:ext cx="8229600" cy="45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maximize utility, a consumer should spend her budget so that $MU spent on all products is equa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845A76B-550B-442C-92B8-FEE06E7492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14"/>
          <p:cNvGrpSpPr/>
          <p:nvPr/>
        </p:nvGrpSpPr>
        <p:grpSpPr>
          <a:xfrm>
            <a:off x="2541600" y="3530520"/>
            <a:ext cx="4124160" cy="1073160"/>
            <a:chOff x="2541600" y="3530520"/>
            <a:chExt cx="4124160" cy="1073160"/>
          </a:xfrm>
        </p:grpSpPr>
        <p:sp>
          <p:nvSpPr>
            <p:cNvPr id="512" name="Rounded Rectangle 8"/>
            <p:cNvSpPr/>
            <p:nvPr/>
          </p:nvSpPr>
          <p:spPr>
            <a:xfrm>
              <a:off x="2541600" y="3530520"/>
              <a:ext cx="4124160" cy="1073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" descr=""/>
            <p:cNvPicPr/>
            <p:nvPr/>
          </p:nvPicPr>
          <p:blipFill>
            <a:blip r:embed="rId1"/>
            <a:stretch/>
          </p:blipFill>
          <p:spPr>
            <a:xfrm>
              <a:off x="2690280" y="3636720"/>
              <a:ext cx="3848040" cy="890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9E8477E-2051-4107-8C51-C39E1025A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903240" y="317520"/>
          <a:ext cx="7326360" cy="2468520"/>
        </p:xfrm>
        <a:graphic>
          <a:graphicData uri="http://schemas.openxmlformats.org/drawingml/2006/table">
            <a:tbl>
              <a:tblPr/>
              <a:tblGrid>
                <a:gridCol w="1022400"/>
                <a:gridCol w="1100160"/>
                <a:gridCol w="1643040"/>
                <a:gridCol w="1057320"/>
                <a:gridCol w="901800"/>
                <a:gridCol w="1601640"/>
              </a:tblGrid>
              <a:tr h="26820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T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CES OF PAS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 per $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ice = $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914400" y="3013200"/>
          <a:ext cx="7315200" cy="3344760"/>
        </p:xfrm>
        <a:graphic>
          <a:graphicData uri="http://schemas.openxmlformats.org/drawingml/2006/table">
            <a:tbl>
              <a:tblPr/>
              <a:tblGrid>
                <a:gridCol w="1422360"/>
                <a:gridCol w="1117800"/>
                <a:gridCol w="1109520"/>
                <a:gridCol w="1319040"/>
                <a:gridCol w="1263960"/>
                <a:gridCol w="1082520"/>
              </a:tblGrid>
              <a:tr h="56592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$ Sp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f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pa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36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x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188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 lat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2" name="Oval 15"/>
          <p:cNvSpPr/>
          <p:nvPr/>
        </p:nvSpPr>
        <p:spPr>
          <a:xfrm>
            <a:off x="7145280" y="11383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16"/>
          <p:cNvSpPr/>
          <p:nvPr/>
        </p:nvSpPr>
        <p:spPr>
          <a:xfrm>
            <a:off x="3565440" y="113040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17"/>
          <p:cNvSpPr/>
          <p:nvPr/>
        </p:nvSpPr>
        <p:spPr>
          <a:xfrm>
            <a:off x="7151760" y="1400040"/>
            <a:ext cx="56340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3568680" y="1400040"/>
            <a:ext cx="563760" cy="308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19"/>
          <p:cNvSpPr/>
          <p:nvPr/>
        </p:nvSpPr>
        <p:spPr>
          <a:xfrm>
            <a:off x="714204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20"/>
          <p:cNvSpPr/>
          <p:nvPr/>
        </p:nvSpPr>
        <p:spPr>
          <a:xfrm>
            <a:off x="3557520" y="167652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21"/>
          <p:cNvSpPr/>
          <p:nvPr/>
        </p:nvSpPr>
        <p:spPr>
          <a:xfrm>
            <a:off x="3568680" y="1952640"/>
            <a:ext cx="563760" cy="30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2"/>
          <p:cNvSpPr/>
          <p:nvPr/>
        </p:nvSpPr>
        <p:spPr>
          <a:xfrm>
            <a:off x="903240" y="358308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23"/>
          <p:cNvSpPr/>
          <p:nvPr/>
        </p:nvSpPr>
        <p:spPr>
          <a:xfrm>
            <a:off x="932040" y="386712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24"/>
          <p:cNvSpPr/>
          <p:nvPr/>
        </p:nvSpPr>
        <p:spPr>
          <a:xfrm>
            <a:off x="915840" y="4130640"/>
            <a:ext cx="7315200" cy="5684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5"/>
          <p:cNvSpPr/>
          <p:nvPr/>
        </p:nvSpPr>
        <p:spPr>
          <a:xfrm>
            <a:off x="912960" y="468468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6"/>
          <p:cNvSpPr/>
          <p:nvPr/>
        </p:nvSpPr>
        <p:spPr>
          <a:xfrm>
            <a:off x="903240" y="5245200"/>
            <a:ext cx="7315200" cy="56664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7"/>
          <p:cNvSpPr/>
          <p:nvPr/>
        </p:nvSpPr>
        <p:spPr>
          <a:xfrm>
            <a:off x="930240" y="5799240"/>
            <a:ext cx="7315200" cy="27612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8"/>
          <p:cNvSpPr/>
          <p:nvPr/>
        </p:nvSpPr>
        <p:spPr>
          <a:xfrm>
            <a:off x="912960" y="6076800"/>
            <a:ext cx="7315200" cy="276480"/>
          </a:xfrm>
          <a:prstGeom prst="rect">
            <a:avLst/>
          </a:prstGeom>
          <a:solidFill>
            <a:srgbClr val="ffff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F738388-FE8E-490C-A9F1-7E5AC1DA0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D016D33-0F19-4943-B3E6-69E53FAF3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1498680"/>
            <a:ext cx="845820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e following marginal utilities and prices, which product would a rational consumer choo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914400" y="2541600"/>
          <a:ext cx="7358040" cy="1467000"/>
        </p:xfrm>
        <a:graphic>
          <a:graphicData uri="http://schemas.openxmlformats.org/drawingml/2006/table">
            <a:tbl>
              <a:tblPr/>
              <a:tblGrid>
                <a:gridCol w="2271600"/>
                <a:gridCol w="1271880"/>
                <a:gridCol w="1298520"/>
                <a:gridCol w="1217520"/>
                <a:gridCol w="1298520"/>
              </a:tblGrid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ce Cr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 D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U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Rectangle 1"/>
          <p:cNvSpPr/>
          <p:nvPr/>
        </p:nvSpPr>
        <p:spPr>
          <a:xfrm>
            <a:off x="606600" y="409392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 rational consumer would choose an apple because it has the highest MU per $ as seen here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Apple   Beer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Ice Cream   Hot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MU/Price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75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  7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S Mincho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Theor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sights into Consumer Behaviour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s with low income elasticities (water, food) have the highest initial marginal utilities, will be purchased fir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ule applies only to the purchasing of the product, not to its repeated “consumption”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not compare utilities between peop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E6994211-049D-44AF-9622-A9730ADC4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09840"/>
            <a:ext cx="822960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io’s Dollar Marginal Ut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mand Curve, Deriv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A364FCC-8B4E-4691-84DE-328A5D4DE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851040" y="2178000"/>
          <a:ext cx="3571560" cy="2743200"/>
        </p:xfrm>
        <a:graphic>
          <a:graphicData uri="http://schemas.openxmlformats.org/drawingml/2006/table">
            <a:tbl>
              <a:tblPr/>
              <a:tblGrid>
                <a:gridCol w="2336760"/>
                <a:gridCol w="12348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nsum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"/>
          <p:cNvGraphicFramePr/>
          <p:nvPr/>
        </p:nvGraphicFramePr>
        <p:xfrm>
          <a:off x="5207040" y="2154240"/>
          <a:ext cx="2651040" cy="3657600"/>
        </p:xfrm>
        <a:graphic>
          <a:graphicData uri="http://schemas.openxmlformats.org/drawingml/2006/table">
            <a:tbl>
              <a:tblPr/>
              <a:tblGrid>
                <a:gridCol w="1285920"/>
                <a:gridCol w="13651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Utility and Demand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769A06C-3CE8-4517-95D7-5238F41DC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2" descr="C:\Users\aholowinsky\Documents\McGrawHill\Sayre Micro Image Bank\Ch5\Fig5_2.bmp"/>
          <p:cNvPicPr/>
          <p:nvPr/>
        </p:nvPicPr>
        <p:blipFill>
          <a:blip r:embed="rId1"/>
          <a:stretch/>
        </p:blipFill>
        <p:spPr>
          <a:xfrm>
            <a:off x="0" y="1757520"/>
            <a:ext cx="9144000" cy="389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Explain the law of diminishing marginal utilit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Derive a consumers’ purchasing rule which ensures that satisfaction is maximized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Explain how marginal utility theory is applicable to real-world exampl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Provide a theoretical rationale for downward sloping demand curve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AC7008BB-E25B-4F6E-A77B-83100F692B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amond Water Paradox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y is water (which has a very high value in use) inexpensive, while diamonds (which have a low value in use) expensive?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reflected 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tal util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f a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lue in exchan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the price) is determined by it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ginal utilit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8D22AD1-F82D-4834-B451-45D1684EC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difference between what a customer is willing to pay and the actual price of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4420AC0-EF3F-4ACB-9A23-5A429CD62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25560" y="2502000"/>
          <a:ext cx="7315200" cy="1708200"/>
        </p:xfrm>
        <a:graphic>
          <a:graphicData uri="http://schemas.openxmlformats.org/drawingml/2006/table">
            <a:tbl>
              <a:tblPr/>
              <a:tblGrid>
                <a:gridCol w="1347840"/>
                <a:gridCol w="987480"/>
                <a:gridCol w="792000"/>
                <a:gridCol w="2303640"/>
                <a:gridCol w="188424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ms of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gin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nsumer Sur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05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"/>
          <p:cNvSpPr/>
          <p:nvPr/>
        </p:nvSpPr>
        <p:spPr>
          <a:xfrm>
            <a:off x="1351080" y="4626000"/>
            <a:ext cx="64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 consumer surplus (MC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$M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690480" y="5307120"/>
            <a:ext cx="797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onsumer surplu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un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F63DCFA9-75B8-4448-AFBF-27DCD164F7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7" descr="Fig5_3.bmp"/>
          <p:cNvPicPr/>
          <p:nvPr/>
        </p:nvPicPr>
        <p:blipFill>
          <a:blip r:embed="rId1"/>
          <a:stretch/>
        </p:blipFill>
        <p:spPr>
          <a:xfrm>
            <a:off x="0" y="1349280"/>
            <a:ext cx="9005760" cy="39499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9"/>
          <p:cNvSpPr/>
          <p:nvPr/>
        </p:nvSpPr>
        <p:spPr>
          <a:xfrm>
            <a:off x="957600" y="5465880"/>
            <a:ext cx="72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surplus = ½ x (32-20) x (60,000-0) = $36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dd up all consumer surpl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nsumer Surplu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328400"/>
            <a:ext cx="822960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66B1A90-C788-433E-80DE-05FC82EF8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8" descr="Fig5_4.bmp"/>
          <p:cNvPicPr/>
          <p:nvPr/>
        </p:nvPicPr>
        <p:blipFill>
          <a:blip r:embed="rId1"/>
          <a:stretch/>
        </p:blipFill>
        <p:spPr>
          <a:xfrm>
            <a:off x="0" y="1901880"/>
            <a:ext cx="9144000" cy="364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578BDBF-A325-4141-902B-9CA893BCD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partial units cannot be bought, what is the marginal consumer surplus for each unit bought, and what is the total consumer surplus if the price is $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2403360" y="2786040"/>
          <a:ext cx="4262400" cy="2093760"/>
        </p:xfrm>
        <a:graphic>
          <a:graphicData uri="http://schemas.openxmlformats.org/drawingml/2006/table">
            <a:tbl>
              <a:tblPr/>
              <a:tblGrid>
                <a:gridCol w="2140200"/>
                <a:gridCol w="21222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2E76A7B7-BA93-46FF-B0A1-2D73375AE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1"/>
          <p:cNvSpPr/>
          <p:nvPr/>
        </p:nvSpPr>
        <p:spPr>
          <a:xfrm>
            <a:off x="1351080" y="3772800"/>
            <a:ext cx="6432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Qty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Willing to pay    Actual Price    Marginal Surpl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9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8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7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6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6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Total consumer surplus =  $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413080" y="1254240"/>
          <a:ext cx="4263840" cy="2095560"/>
        </p:xfrm>
        <a:graphic>
          <a:graphicData uri="http://schemas.openxmlformats.org/drawingml/2006/table">
            <a:tbl>
              <a:tblPr/>
              <a:tblGrid>
                <a:gridCol w="2139840"/>
                <a:gridCol w="2124000"/>
              </a:tblGrid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38240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elling of an identical product at a different price to different customer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 reasons other than differences in the cost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umers have different demands for the same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therefore prepared to pay different price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57EE691-BDCE-4434-B778-6B38B02949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6981366-5397-4A4D-908E-35DA88AA8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8" descr="Fig5_5.bmp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316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rice Discrimina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63840"/>
            <a:ext cx="8229600" cy="47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actice price discrimination, must: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dentify groups of customers with different demand elasticit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parate them from the other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ose obtaining the lower prices cannot resell the produc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sure that the seller has control over the price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F95E780-EE29-47F0-8038-8A1A18BA6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D2D32603-5A1D-4CE6-A1FC-25FD4B3DA7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mand for haircuts from seniors differs greatly from that from your other customer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in order to maximize your sales revenu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2052720" y="2093760"/>
          <a:ext cx="5021280" cy="2452680"/>
        </p:xfrm>
        <a:graphic>
          <a:graphicData uri="http://schemas.openxmlformats.org/drawingml/2006/table">
            <a:tbl>
              <a:tblPr/>
              <a:tblGrid>
                <a:gridCol w="1562040"/>
                <a:gridCol w="1673280"/>
                <a:gridCol w="178596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933c"/>
                </a:solidFill>
                <a:latin typeface="Kalinga"/>
              </a:rPr>
              <a:t>Consumer Choice </a:t>
            </a:r>
            <a:endParaRPr b="0" lang="en-US" sz="3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944800"/>
            <a:ext cx="8381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Understand why consumers generally value a product more than the price they pay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Understand why some sellers charge different prices to different consumers for the same product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9B78E473-929C-4BD0-9DDA-5F7EBB8C9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92ECDE4-B6DC-46B6-B9C0-A6295AFAA1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If you could only charge one price to all customers, which price would give you the greatest sales revenue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690480" y="500652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2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, which gives a total sales revenue of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57EA2A7E-DC8E-402A-87A1-71DA73B58F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457200" y="1308240"/>
            <a:ext cx="845820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Suppose that you charged a different price for seniors. What prices would you charge each group to maximize your reven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"/>
          <p:cNvSpPr/>
          <p:nvPr/>
        </p:nvSpPr>
        <p:spPr>
          <a:xfrm>
            <a:off x="690480" y="5024160"/>
            <a:ext cx="730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to seniors (total revenue of $160).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$18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(or $20) to the other customers (total revenue of $180).  (In total, then, the sales revenue would b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4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925560" y="1360440"/>
          <a:ext cx="7315200" cy="2743200"/>
        </p:xfrm>
        <a:graphic>
          <a:graphicData uri="http://schemas.openxmlformats.org/drawingml/2006/table">
            <a:tbl>
              <a:tblPr/>
              <a:tblGrid>
                <a:gridCol w="1112760"/>
                <a:gridCol w="1192320"/>
                <a:gridCol w="1193760"/>
                <a:gridCol w="1271520"/>
                <a:gridCol w="1271520"/>
                <a:gridCol w="127332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Seni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598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4A5B293-7B08-462B-B838-B01382828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arginal utility and total utilit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s’ optimal purchasing rule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he law of diminishing marginal utility and how it relates to a downward sloping demand curve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umer surplus and how to calculate i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Price discrimination and the conditions required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5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ra or additional uni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atisfaction or pleasure derived from the consumption of a produc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0F4F396E-EA12-4B44-B3CE-6040D02B6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47360"/>
            <a:ext cx="822960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rived from the consumption of an extra unit of a product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Utilit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the marginal utility from each uni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48393316-8282-4A7A-8831-5E9F2B369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2127240" y="3359160"/>
            <a:ext cx="4805280" cy="1074600"/>
            <a:chOff x="2127240" y="3359160"/>
            <a:chExt cx="4805280" cy="1074600"/>
          </a:xfrm>
        </p:grpSpPr>
        <p:sp>
          <p:nvSpPr>
            <p:cNvPr id="449" name="Rounded Rectangle 8"/>
            <p:cNvSpPr/>
            <p:nvPr/>
          </p:nvSpPr>
          <p:spPr>
            <a:xfrm>
              <a:off x="2127240" y="3359160"/>
              <a:ext cx="4805280" cy="1074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0" name="" descr=""/>
            <p:cNvPicPr/>
            <p:nvPr/>
          </p:nvPicPr>
          <p:blipFill>
            <a:blip r:embed="rId1"/>
            <a:stretch/>
          </p:blipFill>
          <p:spPr>
            <a:xfrm>
              <a:off x="2268000" y="3486600"/>
              <a:ext cx="4513680" cy="808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Utility applies when: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 is behaving rational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nsumer’s objective is maximum satisfa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rchases and consumption take place over a short period of tim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units purchased may sometimes be sets of item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62BFE15D-95B6-4331-B2AE-1BFC27C210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785600"/>
            <a:ext cx="822960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5.1 Total Marginal Utilit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105AC1B-3A93-4BDF-8112-995B098C3B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914400" y="2530440"/>
          <a:ext cx="7294680" cy="3073320"/>
        </p:xfrm>
        <a:graphic>
          <a:graphicData uri="http://schemas.openxmlformats.org/drawingml/2006/table">
            <a:tbl>
              <a:tblPr/>
              <a:tblGrid>
                <a:gridCol w="2195640"/>
                <a:gridCol w="2886120"/>
                <a:gridCol w="2212920"/>
              </a:tblGrid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ginal Utility (M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Utility (TU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minishing Marginal Utilit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86048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Marginal Utility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mount of additional utility decreases as successive units of a product are consum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8F18FC53-242C-42A4-9FD1-90D6B8D2F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5-</a:t>
            </a:r>
            <a:fld id="{C21643F3-F38E-468F-89EB-AE59A2C477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8" descr="Fig5_1.bmp"/>
          <p:cNvPicPr/>
          <p:nvPr/>
        </p:nvPicPr>
        <p:blipFill>
          <a:blip r:embed="rId1"/>
          <a:stretch/>
        </p:blipFill>
        <p:spPr>
          <a:xfrm>
            <a:off x="0" y="855720"/>
            <a:ext cx="9144000" cy="5465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0:41Z</dcterms:modified>
  <cp:revision>277</cp:revision>
  <dc:subject/>
  <dc:title>Slide 1</dc:title>
</cp:coreProperties>
</file>