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D4D7-EF71-4CF5-99E5-4406FD76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1B0D-0ACC-4F48-9B4A-A1BDB17F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DB5079-AA9D-423E-8F22-3AC4A04E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8B1E2A-9437-45AA-AB87-54A048B0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3AA737-A981-4F72-B4C9-59438042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41E54D-1577-4268-8B0C-887D30EA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E20DBF-953A-43FA-9721-6AE61DD9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0BA32D-4469-4382-A4E7-C3303C73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41E547-1E04-4E01-BF92-CD744C3F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FE1F67-AC44-4409-8D43-E6F596F29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F9C593-92B6-4088-8768-1ACAB364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A6FE06-C21D-4BE2-A58E-D97AE9A6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4141-3EDB-4457-B17F-6E6255820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5AA19A-25CC-40D6-994C-A609B2F7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4E6098-1D95-4FDC-919E-C625B5E6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8278A0-D5B4-4E09-AFE4-27A6264C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8D0F60-04DA-434C-9470-292145F9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4710C8-ABD1-44AC-9631-E528802F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11FD30-4B64-4CD6-8B04-74B1F3BC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5FBDB2-9AF7-4A49-A9E6-10E650CA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89172C-B32E-4CE7-AE70-9B7A3AB8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A0507F-4EA4-4257-B32B-29FAED22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7B5EE3-FAC9-48B8-8810-115EDB462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4B5B-D842-4E4E-9B6B-EE14A875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795979-096D-46A9-A0D0-050AB6713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C725-9C10-4C6D-A9E7-01EA48D8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34E7-A279-4089-B0C5-19A15330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4686-4C30-4367-A70D-0E9A55E8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4051-0862-4566-95EF-3B85335F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E25E-6E52-4CBE-8B07-A24042CD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075C-A143-48D5-AF00-AC3D1D0F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3FF9-5995-407C-9CEC-64EAF9C8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6DA5-2F3A-44C6-AA95-31BFC880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84CF-9994-4C8C-A405-CA1CFE6B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BBF9-C81B-422E-AC7C-2F780012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C1E4-6839-418A-8AF5-274FF08E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F7AD-94A8-43CC-93B1-F3BE44936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4BD5-B50F-4EF5-B27A-00EAC187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B9F60-280A-4528-A1EC-FB6E220F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379B6-5F63-40D3-BDAE-A34B6D42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6DD00-1416-4D92-B72C-C82BF932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6C6B9-63A0-4BCB-8B9E-F301644A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440C8-7395-4B58-BEC8-88B8DB42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DB0F-5A93-4CC7-8193-66A84026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AED33-6A4F-4770-8865-69A95186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543C4-EA32-4E06-8F9C-132B9D5A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91D9C-A455-4E86-8A0A-3CDA443C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920D0-6779-4761-97B2-8B51A663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EE6BD-17A2-4AEC-BFE7-3C995CAD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D3CBE-D4E2-4A26-9E77-B5D30106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07521-DE87-4445-B419-F1539D3AC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2F4EE-06F4-4691-A43C-D068CA2E0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8AEC6-0C8C-4DD6-9949-25ADF8B1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F33D7-7608-42A7-92C8-5E2CA669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1791-6927-467B-A9C7-519942BB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42594-17AE-4E2B-8326-3A0E8270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6EA3A-6C95-4505-A108-3F8F594F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07FA6-4D3A-43EA-ADE7-9EDF4967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E4F90-6679-4865-8189-7ECC75E8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D9456-8EAE-4B5C-84B6-C47D5A57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1A418-75F6-446E-925A-D5326DD9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1332D-8E5B-45E6-BABB-6042EF66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BA7CD-540D-485A-AB1F-615520269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F758D-6B21-4267-B33C-FB6758AAE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515AB-6E22-4E4C-81D3-20DCB149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A691-C686-4790-B953-AF8DF0BD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25D0C-B760-4B6B-8227-FD4E5440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00B42-F448-4758-9A06-F5806BE4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191C5-BD95-4C5D-AB4C-84D89DE5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8F9A7-730A-4FBD-B1BC-64FCBD4C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8D222-B1FC-443D-8BA7-64BE4CF5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D7075-760C-45D1-B87D-C4983BFA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4433F-8633-410A-B2FB-A1665EE3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6110C-A6F6-4772-93AD-1AF42F98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CF325-AC74-4A3E-9648-79159FB5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876D2-1C5F-4778-AE34-FB58838B0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4298-2184-4195-89BD-A983A6E2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09DE3-ACC6-4BCE-9377-CAA98C033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6FBFC8-3917-4BC3-9D45-9FFFEA78EAC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8AFC07-B1A4-4969-B88A-33840241352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52FF72-01AD-4BE4-B7A8-4AE49006F1A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8E9610-8389-4BCB-853E-4A7AF18B344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E8C0F4-1E5C-418E-92F8-84BAD2E7AFF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B53FBF-3D8B-46CD-8032-12DE95D15B1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EAA780-DFE0-4504-8CAC-C7F98FB0D9C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949FD4-BACD-4199-A01E-47AD8EAF6C8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7EEE9B-82B9-486D-8873-217941AFD6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2B0C-EE75-40CF-9D9A-34D0A9F4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E3C31F-C5D3-4C17-8EE1-A13B53C16A6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AECB2E-424B-4B8C-9219-5255D2A584F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94FD7A-885E-426C-AA15-9D703DC1CE0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2BD863-442F-4B59-9F86-6ED3C4614EE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DECA41-00BF-4CCC-ACDE-94C8704B9AB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2A2574-B9D2-4B79-A05C-2E34948231C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A62D8E-C61E-47F0-8050-2FF47297A5B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D76E7E-A16C-4146-A1B1-5B6C42E346B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C372C6-0220-4C32-B48E-B0A99B16AF0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446B86-09AC-4011-B890-3C6D5ADAE5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F12B-C6B6-4B59-976D-5201AE24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EE466D-0F2C-469E-BF3F-2B9B8CEB584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65EEFB-FF69-4B30-A996-1593E4C2278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B3A0CA-CA03-4416-8FEF-A57D0DCCA25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69256D-17C3-49B8-AF3B-9E647988C6E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F0FDEF-DC79-4DFC-949C-73ABFE3FE2C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3CEB02-F031-4ED8-A8D6-4CD0EAB6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0EB2B6-BD1F-47B3-9B69-D1B89700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F28E31-04D3-4B04-B03D-69599737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2AA862-6327-4AFE-92B2-8F720534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AAA82F-84F5-4944-8737-8A8A89C3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3868-CC33-4564-ACBE-E2A61B18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7EF904-6E5E-4F77-96B3-7C3F7DF8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2ECFCF-B2EC-4F7E-9B3C-2F88FDFB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303F98-ECAF-4948-81F9-3CACC6F4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DF426D-E851-41F7-937E-5BBAA83A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A150EE-6D3D-4353-A317-F8E6DEEA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A4B74E-6E43-4726-A479-8A24FBF87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C68395-A257-44AE-8103-19E2067B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87746D-E0C9-487B-A423-F727CE405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A27288-9F30-4CAF-921B-B2488A81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04F358-7B80-449F-B260-89941C76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457C197-0F01-499B-8007-BE33C9A3B2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E6A9A8C-8E65-4E5D-9B31-0373994F60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2E28FC04-D844-4EAD-94B2-C6D767DF94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D2B875D-7FA4-41A7-861A-969595C43A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F2ACFB1-E53E-45E7-8496-F329E1242C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7A5D437-F8E0-43AB-B1C6-F174C7B1E0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F6A5018-3035-445A-A2AB-E34BB866F4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0F0CC8F-2914-4F06-8DE4-3F68CD581F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Consumer Choice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5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DCFF7532-F864-49EA-A535-26F28318C5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457200" y="1498680"/>
            <a:ext cx="845820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the table, which shows Michelle’s utility for milkshak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898560" y="2254320"/>
          <a:ext cx="7288200" cy="3932280"/>
        </p:xfrm>
        <a:graphic>
          <a:graphicData uri="http://schemas.openxmlformats.org/drawingml/2006/table">
            <a:tbl>
              <a:tblPr/>
              <a:tblGrid>
                <a:gridCol w="2438280"/>
                <a:gridCol w="2156040"/>
                <a:gridCol w="2693880"/>
              </a:tblGrid>
              <a:tr h="758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Utility (T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Utility (M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23B278F5-B5D1-4BB1-BA85-36186ABD9A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457200" y="1498680"/>
            <a:ext cx="845820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the table, which shows Michelle’s utility for milkshak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Box 14"/>
          <p:cNvSpPr/>
          <p:nvPr/>
        </p:nvSpPr>
        <p:spPr>
          <a:xfrm>
            <a:off x="6611040" y="299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898560" y="2254320"/>
          <a:ext cx="7288200" cy="3932280"/>
        </p:xfrm>
        <a:graphic>
          <a:graphicData uri="http://schemas.openxmlformats.org/drawingml/2006/table">
            <a:tbl>
              <a:tblPr/>
              <a:tblGrid>
                <a:gridCol w="2438280"/>
                <a:gridCol w="2156040"/>
                <a:gridCol w="2693880"/>
              </a:tblGrid>
              <a:tr h="758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Utility (T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Utility (M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TextBox 8"/>
          <p:cNvSpPr/>
          <p:nvPr/>
        </p:nvSpPr>
        <p:spPr>
          <a:xfrm>
            <a:off x="6593040" y="3384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Box 10"/>
          <p:cNvSpPr/>
          <p:nvPr/>
        </p:nvSpPr>
        <p:spPr>
          <a:xfrm>
            <a:off x="4162320" y="3770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Box 11"/>
          <p:cNvSpPr/>
          <p:nvPr/>
        </p:nvSpPr>
        <p:spPr>
          <a:xfrm>
            <a:off x="4176720" y="4189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Box 13"/>
          <p:cNvSpPr/>
          <p:nvPr/>
        </p:nvSpPr>
        <p:spPr>
          <a:xfrm>
            <a:off x="6663600" y="457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Box 15"/>
          <p:cNvSpPr/>
          <p:nvPr/>
        </p:nvSpPr>
        <p:spPr>
          <a:xfrm>
            <a:off x="6646320" y="495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Box 16"/>
          <p:cNvSpPr/>
          <p:nvPr/>
        </p:nvSpPr>
        <p:spPr>
          <a:xfrm>
            <a:off x="4176720" y="5359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Box 17"/>
          <p:cNvSpPr/>
          <p:nvPr/>
        </p:nvSpPr>
        <p:spPr>
          <a:xfrm>
            <a:off x="4168800" y="5745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Optimal Purchasing R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658880"/>
            <a:ext cx="822960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rational consumer should purchase the product that yields the greatest marginal utility per dolla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8DFF05A7-5259-48F1-9C10-69B41D6566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Group 9"/>
          <p:cNvGrpSpPr/>
          <p:nvPr/>
        </p:nvGrpSpPr>
        <p:grpSpPr>
          <a:xfrm>
            <a:off x="2487600" y="2881440"/>
            <a:ext cx="4125960" cy="1074600"/>
            <a:chOff x="2487600" y="2881440"/>
            <a:chExt cx="4125960" cy="1074600"/>
          </a:xfrm>
        </p:grpSpPr>
        <p:sp>
          <p:nvSpPr>
            <p:cNvPr id="499" name="Rounded Rectangle 8"/>
            <p:cNvSpPr/>
            <p:nvPr/>
          </p:nvSpPr>
          <p:spPr>
            <a:xfrm>
              <a:off x="2487600" y="2881440"/>
              <a:ext cx="4125960" cy="1074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0" name="" descr=""/>
            <p:cNvPicPr/>
            <p:nvPr/>
          </p:nvPicPr>
          <p:blipFill>
            <a:blip r:embed="rId1"/>
            <a:stretch/>
          </p:blipFill>
          <p:spPr>
            <a:xfrm>
              <a:off x="2944800" y="2987640"/>
              <a:ext cx="3268440" cy="90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2158920" y="4379760"/>
            <a:ext cx="4891320" cy="1702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Optimal Purchasing R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807920"/>
            <a:ext cx="8229600" cy="45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order to maximize utility, a consumer should spend her budget so that $MU spent on all products is equ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ADECE301-7B8C-4FFB-BA6C-9DAC3A7263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Group 14"/>
          <p:cNvGrpSpPr/>
          <p:nvPr/>
        </p:nvGrpSpPr>
        <p:grpSpPr>
          <a:xfrm>
            <a:off x="2541600" y="3530520"/>
            <a:ext cx="4124160" cy="1073160"/>
            <a:chOff x="2541600" y="3530520"/>
            <a:chExt cx="4124160" cy="1073160"/>
          </a:xfrm>
        </p:grpSpPr>
        <p:sp>
          <p:nvSpPr>
            <p:cNvPr id="512" name="Rounded Rectangle 8"/>
            <p:cNvSpPr/>
            <p:nvPr/>
          </p:nvSpPr>
          <p:spPr>
            <a:xfrm>
              <a:off x="2541600" y="3530520"/>
              <a:ext cx="4124160" cy="107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3" name="" descr=""/>
            <p:cNvPicPr/>
            <p:nvPr/>
          </p:nvPicPr>
          <p:blipFill>
            <a:blip r:embed="rId1"/>
            <a:stretch/>
          </p:blipFill>
          <p:spPr>
            <a:xfrm>
              <a:off x="2690280" y="3636720"/>
              <a:ext cx="3848040" cy="890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56D190F9-C862-47E5-B175-A144D93AB0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903240" y="317520"/>
          <a:ext cx="7326360" cy="2468520"/>
        </p:xfrm>
        <a:graphic>
          <a:graphicData uri="http://schemas.openxmlformats.org/drawingml/2006/table">
            <a:tbl>
              <a:tblPr/>
              <a:tblGrid>
                <a:gridCol w="1022400"/>
                <a:gridCol w="1100160"/>
                <a:gridCol w="1643040"/>
                <a:gridCol w="1057320"/>
                <a:gridCol w="901800"/>
                <a:gridCol w="1601640"/>
              </a:tblGrid>
              <a:tr h="268200"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T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ECES OF PAS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 per $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rice = $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 per $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rice = $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1" name=""/>
          <p:cNvGraphicFramePr/>
          <p:nvPr/>
        </p:nvGraphicFramePr>
        <p:xfrm>
          <a:off x="914400" y="3013200"/>
          <a:ext cx="7315200" cy="3344760"/>
        </p:xfrm>
        <a:graphic>
          <a:graphicData uri="http://schemas.openxmlformats.org/drawingml/2006/table">
            <a:tbl>
              <a:tblPr/>
              <a:tblGrid>
                <a:gridCol w="1422360"/>
                <a:gridCol w="1117800"/>
                <a:gridCol w="1109520"/>
                <a:gridCol w="1319040"/>
                <a:gridCol w="1263960"/>
                <a:gridCol w="1082520"/>
              </a:tblGrid>
              <a:tr h="56592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rc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sp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$ Sp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ut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ut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6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st pa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368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st lat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 pa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ur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 lat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f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rd pa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368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x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rd lat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188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en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urth lat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2" name="Oval 15"/>
          <p:cNvSpPr/>
          <p:nvPr/>
        </p:nvSpPr>
        <p:spPr>
          <a:xfrm>
            <a:off x="7145280" y="1138320"/>
            <a:ext cx="563760" cy="307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16"/>
          <p:cNvSpPr/>
          <p:nvPr/>
        </p:nvSpPr>
        <p:spPr>
          <a:xfrm>
            <a:off x="3565440" y="1130400"/>
            <a:ext cx="563760" cy="307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17"/>
          <p:cNvSpPr/>
          <p:nvPr/>
        </p:nvSpPr>
        <p:spPr>
          <a:xfrm>
            <a:off x="7151760" y="1400040"/>
            <a:ext cx="563400" cy="308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18"/>
          <p:cNvSpPr/>
          <p:nvPr/>
        </p:nvSpPr>
        <p:spPr>
          <a:xfrm>
            <a:off x="3568680" y="1400040"/>
            <a:ext cx="563760" cy="308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19"/>
          <p:cNvSpPr/>
          <p:nvPr/>
        </p:nvSpPr>
        <p:spPr>
          <a:xfrm>
            <a:off x="7142040" y="1676520"/>
            <a:ext cx="563760" cy="307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20"/>
          <p:cNvSpPr/>
          <p:nvPr/>
        </p:nvSpPr>
        <p:spPr>
          <a:xfrm>
            <a:off x="3557520" y="1676520"/>
            <a:ext cx="563760" cy="307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21"/>
          <p:cNvSpPr/>
          <p:nvPr/>
        </p:nvSpPr>
        <p:spPr>
          <a:xfrm>
            <a:off x="3568680" y="1952640"/>
            <a:ext cx="563760" cy="307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22"/>
          <p:cNvSpPr/>
          <p:nvPr/>
        </p:nvSpPr>
        <p:spPr>
          <a:xfrm>
            <a:off x="903240" y="3583080"/>
            <a:ext cx="7315200" cy="27612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23"/>
          <p:cNvSpPr/>
          <p:nvPr/>
        </p:nvSpPr>
        <p:spPr>
          <a:xfrm>
            <a:off x="932040" y="3867120"/>
            <a:ext cx="7315200" cy="27612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24"/>
          <p:cNvSpPr/>
          <p:nvPr/>
        </p:nvSpPr>
        <p:spPr>
          <a:xfrm>
            <a:off x="915840" y="4130640"/>
            <a:ext cx="7315200" cy="56844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25"/>
          <p:cNvSpPr/>
          <p:nvPr/>
        </p:nvSpPr>
        <p:spPr>
          <a:xfrm>
            <a:off x="912960" y="4684680"/>
            <a:ext cx="7315200" cy="56664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26"/>
          <p:cNvSpPr/>
          <p:nvPr/>
        </p:nvSpPr>
        <p:spPr>
          <a:xfrm>
            <a:off x="903240" y="5245200"/>
            <a:ext cx="7315200" cy="56664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27"/>
          <p:cNvSpPr/>
          <p:nvPr/>
        </p:nvSpPr>
        <p:spPr>
          <a:xfrm>
            <a:off x="930240" y="5799240"/>
            <a:ext cx="7315200" cy="27612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28"/>
          <p:cNvSpPr/>
          <p:nvPr/>
        </p:nvSpPr>
        <p:spPr>
          <a:xfrm>
            <a:off x="912960" y="6076800"/>
            <a:ext cx="7315200" cy="27648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10B5E472-E64E-4CB1-AE35-E3BB5AF50E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457200" y="1498680"/>
            <a:ext cx="845820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he following marginal utilities and prices, which product would a rational consumer choo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914400" y="2541600"/>
          <a:ext cx="7358040" cy="1467000"/>
        </p:xfrm>
        <a:graphic>
          <a:graphicData uri="http://schemas.openxmlformats.org/drawingml/2006/table">
            <a:tbl>
              <a:tblPr/>
              <a:tblGrid>
                <a:gridCol w="2271600"/>
                <a:gridCol w="1271880"/>
                <a:gridCol w="1298520"/>
                <a:gridCol w="1217520"/>
                <a:gridCol w="1298520"/>
              </a:tblGrid>
              <a:tr h="60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e Cre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t D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Ut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2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E74BC6A0-A0F5-4947-BCA5-726F114DFD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457200" y="1498680"/>
            <a:ext cx="845820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he following marginal utilities and prices, which product would a rational consumer choo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914400" y="2541600"/>
          <a:ext cx="7358040" cy="1467000"/>
        </p:xfrm>
        <a:graphic>
          <a:graphicData uri="http://schemas.openxmlformats.org/drawingml/2006/table">
            <a:tbl>
              <a:tblPr/>
              <a:tblGrid>
                <a:gridCol w="2271600"/>
                <a:gridCol w="1271880"/>
                <a:gridCol w="1298520"/>
                <a:gridCol w="1217520"/>
                <a:gridCol w="1298520"/>
              </a:tblGrid>
              <a:tr h="60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e Cre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t D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Ut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2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8" name="Rectangle 1"/>
          <p:cNvSpPr/>
          <p:nvPr/>
        </p:nvSpPr>
        <p:spPr>
          <a:xfrm>
            <a:off x="606600" y="4093920"/>
            <a:ext cx="79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A rational consumer would choose an apple because it has the highest MU per $ as seen here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Apple   Beer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Ice Cream   Hot D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MU/Price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   8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   75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      7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Utility Theor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Insights into Consumer Behaviour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s with low income elasticities (water, food) have the highest initial marginal utilities, will be purchased firs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ule applies only to the purchasing of the product, not to its repeated “consumption”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not compare utilities between peop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9C818AC2-FDC1-4873-A76E-ECF9CB23CA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Utility and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509840"/>
            <a:ext cx="8229600" cy="48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kio’s Dollar Marginal Utilit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mand Curve, Deriv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0D90C21C-6928-44B4-97EF-6609BEF102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851040" y="2178000"/>
          <a:ext cx="3571560" cy="2743200"/>
        </p:xfrm>
        <a:graphic>
          <a:graphicData uri="http://schemas.openxmlformats.org/drawingml/2006/table">
            <a:tbl>
              <a:tblPr/>
              <a:tblGrid>
                <a:gridCol w="2336760"/>
                <a:gridCol w="123480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nsum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0" name=""/>
          <p:cNvGraphicFramePr/>
          <p:nvPr/>
        </p:nvGraphicFramePr>
        <p:xfrm>
          <a:off x="5207040" y="2154240"/>
          <a:ext cx="2651040" cy="3657600"/>
        </p:xfrm>
        <a:graphic>
          <a:graphicData uri="http://schemas.openxmlformats.org/drawingml/2006/table">
            <a:tbl>
              <a:tblPr/>
              <a:tblGrid>
                <a:gridCol w="1285920"/>
                <a:gridCol w="136512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 Deman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Utility and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132840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4D0BD8AE-8D23-4EC5-93A8-A45F5C8D6D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Picture 2" descr="C:\Users\aholowinsky\Documents\McGrawHill\Sayre Micro Image Bank\Ch5\Fig5_2.bmp"/>
          <p:cNvPicPr/>
          <p:nvPr/>
        </p:nvPicPr>
        <p:blipFill>
          <a:blip r:embed="rId1"/>
          <a:stretch/>
        </p:blipFill>
        <p:spPr>
          <a:xfrm>
            <a:off x="0" y="1757520"/>
            <a:ext cx="9144000" cy="389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Kalinga"/>
              </a:rPr>
              <a:t>Consumer Choice </a:t>
            </a:r>
            <a:endParaRPr b="0" lang="en-US" sz="3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3818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1:  Explain the law of diminishing marginal utility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2:  Derive a consumers’ purchasing rule which ensures that satisfaction is maximized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3:  Explain how marginal utility theory is applicable to real-world example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4: Provide a theoretical rationale for downward sloping demand curve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5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3778268B-7391-43AE-AB42-5D987BC1B9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amond Water Paradox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138240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y is water (which has a very high value in use) inexpensive, while diamonds (which have a low value in use) expensive?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alue in u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reflected in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otal util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f a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alue in exchang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the price) is determined by it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rginal utilit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65B3C1BB-F30A-4598-81E6-3105819616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onsumer Surplu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38240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difference between what a customer is willing to pay and the actual price of the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AE9B7C7E-CEF4-41E8-8AB7-EDBEBDA2D3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925560" y="2502000"/>
          <a:ext cx="7315200" cy="1708200"/>
        </p:xfrm>
        <a:graphic>
          <a:graphicData uri="http://schemas.openxmlformats.org/drawingml/2006/table">
            <a:tbl>
              <a:tblPr/>
              <a:tblGrid>
                <a:gridCol w="1347840"/>
                <a:gridCol w="987480"/>
                <a:gridCol w="792000"/>
                <a:gridCol w="2303640"/>
                <a:gridCol w="1884240"/>
              </a:tblGrid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ms of 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Consumer Sur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onsumer Sur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ur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8" name="Rectangle 8"/>
          <p:cNvSpPr/>
          <p:nvPr/>
        </p:nvSpPr>
        <p:spPr>
          <a:xfrm>
            <a:off x="1351080" y="4626000"/>
            <a:ext cx="64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 consumer surplus (MC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$MU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9"/>
          <p:cNvSpPr/>
          <p:nvPr/>
        </p:nvSpPr>
        <p:spPr>
          <a:xfrm>
            <a:off x="690480" y="5307120"/>
            <a:ext cx="797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nsumer surplu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 un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onsumer Surplu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32840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CE0C8561-A584-431F-8802-A81762DB91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7" descr="Fig5_3.bmp"/>
          <p:cNvPicPr/>
          <p:nvPr/>
        </p:nvPicPr>
        <p:blipFill>
          <a:blip r:embed="rId1"/>
          <a:stretch/>
        </p:blipFill>
        <p:spPr>
          <a:xfrm>
            <a:off x="0" y="1349280"/>
            <a:ext cx="9005760" cy="3949920"/>
          </a:xfrm>
          <a:prstGeom prst="rect">
            <a:avLst/>
          </a:prstGeom>
          <a:ln w="0">
            <a:noFill/>
          </a:ln>
        </p:spPr>
      </p:pic>
      <p:sp>
        <p:nvSpPr>
          <p:cNvPr id="586" name="TextBox 9"/>
          <p:cNvSpPr/>
          <p:nvPr/>
        </p:nvSpPr>
        <p:spPr>
          <a:xfrm>
            <a:off x="957600" y="5465880"/>
            <a:ext cx="72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 surplus = ½ x (32-20) x (60,000-0) = $36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add up all consumer surpl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onsumer Surplu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32840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C92459B8-E8C9-47AC-9069-01974B6BC0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8" descr="Fig5_4.bmp"/>
          <p:cNvPicPr/>
          <p:nvPr/>
        </p:nvPicPr>
        <p:blipFill>
          <a:blip r:embed="rId1"/>
          <a:stretch/>
        </p:blipFill>
        <p:spPr>
          <a:xfrm>
            <a:off x="0" y="1901880"/>
            <a:ext cx="9144000" cy="364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8F5CD7A2-0106-4496-A3E3-BA7606EA2A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457200" y="1403280"/>
            <a:ext cx="84582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partial units cannot be bought, what is the marginal consumer surplus for each unit bought, and what is the total consumer surplus if the price is $6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2403360" y="2786040"/>
          <a:ext cx="4262400" cy="2093760"/>
        </p:xfrm>
        <a:graphic>
          <a:graphicData uri="http://schemas.openxmlformats.org/drawingml/2006/table">
            <a:tbl>
              <a:tblPr/>
              <a:tblGrid>
                <a:gridCol w="2140200"/>
                <a:gridCol w="2122200"/>
              </a:tblGrid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AC24C616-AE38-4D01-97F5-6E91BAF785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3"/>
          <p:cNvSpPr/>
          <p:nvPr/>
        </p:nvSpPr>
        <p:spPr>
          <a:xfrm>
            <a:off x="457200" y="1403280"/>
            <a:ext cx="84582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1"/>
          <p:cNvSpPr/>
          <p:nvPr/>
        </p:nvSpPr>
        <p:spPr>
          <a:xfrm>
            <a:off x="1351080" y="3772800"/>
            <a:ext cx="6432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Qty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Willing to pay    Actual Price    Marginal Surpl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000" spc="-1" strike="noStrike" baseline="30000">
                <a:solidFill>
                  <a:srgbClr val="ff0000"/>
                </a:solidFill>
                <a:latin typeface="Times New Roman"/>
              </a:rPr>
              <a:t>st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10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Times New Roman"/>
              </a:rPr>
              <a:t>nd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9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GB" sz="2000" spc="-1" strike="noStrike" baseline="30000">
                <a:solidFill>
                  <a:srgbClr val="ff0000"/>
                </a:solidFill>
                <a:latin typeface="Times New Roman"/>
              </a:rPr>
              <a:t>rd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8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GB" sz="20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7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GB" sz="20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6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otal consumer surplus =  $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2413080" y="1254240"/>
          <a:ext cx="4263840" cy="2095560"/>
        </p:xfrm>
        <a:graphic>
          <a:graphicData uri="http://schemas.openxmlformats.org/drawingml/2006/table">
            <a:tbl>
              <a:tblPr/>
              <a:tblGrid>
                <a:gridCol w="2139840"/>
                <a:gridCol w="2124000"/>
              </a:tblGrid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Discrimination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38240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elling of an identical product at a different price to different customer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 reasons other than differences in the cost of produc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sumers have different demands for the same produ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e therefore prepared to pay different price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BDF0EE13-AB7A-4955-87E6-1A3DC132A7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Discrimination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CAA9E46B-8136-4A0B-8C2A-649567BCA5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8" descr="Fig5_5.bmp"/>
          <p:cNvPicPr/>
          <p:nvPr/>
        </p:nvPicPr>
        <p:blipFill>
          <a:blip r:embed="rId1"/>
          <a:stretch/>
        </p:blipFill>
        <p:spPr>
          <a:xfrm>
            <a:off x="0" y="1847880"/>
            <a:ext cx="9144000" cy="316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Discrimination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57200" y="1563840"/>
            <a:ext cx="8229600" cy="47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ractice price discrimination, must: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dentify groups of customers with different demand elasticiti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parate them from the other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sure that those obtaining the lower prices cannot resell the produc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sure that the seller has control over the price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E1B2440D-14D8-494A-8CDE-7380E67E89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4FAFE3D2-7B72-4028-9E06-9F9048EE34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457200" y="1308240"/>
            <a:ext cx="845820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mand for haircuts from seniors differs greatly from that from your other customers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) If you could only charge one price to all customers, which price would give you the greatest sales revenue?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) Suppose that you charged a different price for seniors. What prices would you charge each group in order to maximize your sales revenu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2052720" y="2093760"/>
          <a:ext cx="5021280" cy="2452680"/>
        </p:xfrm>
        <a:graphic>
          <a:graphicData uri="http://schemas.openxmlformats.org/drawingml/2006/table">
            <a:tbl>
              <a:tblPr/>
              <a:tblGrid>
                <a:gridCol w="1562040"/>
                <a:gridCol w="1673280"/>
                <a:gridCol w="1785960"/>
              </a:tblGrid>
              <a:tr h="315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Seni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O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Kalinga"/>
              </a:rPr>
              <a:t>Consumer Choice </a:t>
            </a:r>
            <a:endParaRPr b="0" lang="en-US" sz="3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3818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5: Understand why consumers generally value a product more than the price they pay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6: Understand why some sellers charge different prices to different consumers for the same product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5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2F514DEA-8BAA-4D96-8708-BD1E90C933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39AF876A-1EFA-4240-AD4D-6BABFCB017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457200" y="1308240"/>
            <a:ext cx="845820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If you could only charge one price to all customers, which price would give you the greatest sales revenu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1"/>
          <p:cNvSpPr/>
          <p:nvPr/>
        </p:nvSpPr>
        <p:spPr>
          <a:xfrm>
            <a:off x="690480" y="5006520"/>
            <a:ext cx="73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$12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, which gives a total sales revenue of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$3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925560" y="1360440"/>
          <a:ext cx="7315200" cy="2743200"/>
        </p:xfrm>
        <a:graphic>
          <a:graphicData uri="http://schemas.openxmlformats.org/drawingml/2006/table">
            <a:tbl>
              <a:tblPr/>
              <a:tblGrid>
                <a:gridCol w="1112760"/>
                <a:gridCol w="1192320"/>
                <a:gridCol w="1193760"/>
                <a:gridCol w="1271520"/>
                <a:gridCol w="1271520"/>
                <a:gridCol w="127332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Seni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O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CEED9374-7E04-4CF1-96CE-B40718E380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457200" y="1308240"/>
            <a:ext cx="845820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Suppose that you charged a different price for seniors. What prices would you charge each group to maximize your reven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1"/>
          <p:cNvSpPr/>
          <p:nvPr/>
        </p:nvSpPr>
        <p:spPr>
          <a:xfrm>
            <a:off x="690480" y="5024160"/>
            <a:ext cx="730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$10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to seniors (total revenue of $160). 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$18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(or $20) to the other customers (total revenue of $180).  (In total, then, the sales revenue would be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$340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0" name=""/>
          <p:cNvGraphicFramePr/>
          <p:nvPr/>
        </p:nvGraphicFramePr>
        <p:xfrm>
          <a:off x="925560" y="1360440"/>
          <a:ext cx="7315200" cy="2743200"/>
        </p:xfrm>
        <a:graphic>
          <a:graphicData uri="http://schemas.openxmlformats.org/drawingml/2006/table">
            <a:tbl>
              <a:tblPr/>
              <a:tblGrid>
                <a:gridCol w="1112760"/>
                <a:gridCol w="1192320"/>
                <a:gridCol w="1193760"/>
                <a:gridCol w="1271520"/>
                <a:gridCol w="1271520"/>
                <a:gridCol w="127332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Seni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O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642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7239581D-5DC3-4921-ABFA-9D00F7F215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Marginal utility and total utilit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Consumers’ optimal purchasing rule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The law of diminishing marginal utility and how it relates to a downward sloping demand curv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Consumer surplus and how to calculate i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Price discrimination and the conditions require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5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minishing Marginal Util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tra or additional unit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Utilit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atisfaction or pleasure derived from the consumption of a produ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BBBDD38B-5EDC-4FAB-9BAD-D0711FEFCA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minishing Marginal Util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647360"/>
            <a:ext cx="82296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Utility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mount of additional utility derived from the consumption of an extra unit of a product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Utilit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um of the marginal utility from each uni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DAB442AD-266C-40BD-A16D-02C917EF88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2127240" y="3359160"/>
            <a:ext cx="4805280" cy="1074600"/>
            <a:chOff x="2127240" y="3359160"/>
            <a:chExt cx="4805280" cy="1074600"/>
          </a:xfrm>
        </p:grpSpPr>
        <p:sp>
          <p:nvSpPr>
            <p:cNvPr id="449" name="Rounded Rectangle 8"/>
            <p:cNvSpPr/>
            <p:nvPr/>
          </p:nvSpPr>
          <p:spPr>
            <a:xfrm>
              <a:off x="2127240" y="3359160"/>
              <a:ext cx="4805280" cy="1074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0" name="" descr=""/>
            <p:cNvPicPr/>
            <p:nvPr/>
          </p:nvPicPr>
          <p:blipFill>
            <a:blip r:embed="rId1"/>
            <a:stretch/>
          </p:blipFill>
          <p:spPr>
            <a:xfrm>
              <a:off x="2268000" y="3486600"/>
              <a:ext cx="4513680" cy="808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minishing Marginal Util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Utility applies when: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nsumer is behaving rationall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nsumer’s objective is maximum satisfac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rchases and consumption take place over a short period of tim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units purchased may sometimes be sets of item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6460DB90-BBB7-4C6B-80A2-64D73AC6C9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minishing Marginal Util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785600"/>
            <a:ext cx="8229600" cy="45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5.1 Total Marginal Utility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7FC3A60B-4F34-40AC-91A8-3C74512E4B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914400" y="2530440"/>
          <a:ext cx="7294680" cy="3073320"/>
        </p:xfrm>
        <a:graphic>
          <a:graphicData uri="http://schemas.openxmlformats.org/drawingml/2006/table">
            <a:tbl>
              <a:tblPr/>
              <a:tblGrid>
                <a:gridCol w="2195640"/>
                <a:gridCol w="2886120"/>
                <a:gridCol w="2212920"/>
              </a:tblGrid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ginal Utility (M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Utility (T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4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minishing Marginal Util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aw of Diminishing Marginal Utility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mount of additional utility decreases as successive units of a product are consum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004D380D-4FDE-4876-82D7-44F4223369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CABFA411-B0A3-4660-9D64-550AAB21D5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Picture 8" descr="Fig5_1.bmp"/>
          <p:cNvPicPr/>
          <p:nvPr/>
        </p:nvPicPr>
        <p:blipFill>
          <a:blip r:embed="rId1"/>
          <a:stretch/>
        </p:blipFill>
        <p:spPr>
          <a:xfrm>
            <a:off x="0" y="855720"/>
            <a:ext cx="9144000" cy="5465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40:41Z</dcterms:modified>
  <cp:revision>277</cp:revision>
  <dc:subject/>
  <dc:title>Slide 1</dc:title>
</cp:coreProperties>
</file>