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8E4-C519-4CB6-BC97-F4C7ABBC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F4F-131B-4F7E-8057-10500BE6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DFA09-9752-4E7D-8FC4-6F3EDB80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5973C-6D8C-4512-88BF-AB6217D4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21F00-40F2-4673-9E24-445B986A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515BD-EB14-41BC-AE2D-5A818170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F9028-1706-45E4-AACF-1143747F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2884B-08C1-4C45-B875-6111DB51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4D9FA-5126-4F4B-A924-E0225304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A9277-1918-4AEB-99E7-EDE54F9C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FC396-EC14-4448-98FF-E487C81A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01BA6-E4A9-4E57-BDEA-0AFED7B30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F3D-6842-47E1-9276-00D1C8AB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BC0A5-6C53-4FD6-8668-8569B6BB823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60710-F9CB-4F41-85C5-229A7CC6AF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46F6E-4350-42BF-927B-0BDA587A7B1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46C15-0117-4548-AE5D-F107B04D876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6013C-E8D3-4BE8-908D-6D55351B68B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5A598-4F48-44C7-84C6-1C700E07053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22E41-7C6D-4D2D-A8E4-CA277910593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1A2CC-AC6D-43B2-8453-B9872D6A006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02AFC-99A6-4AFF-8A2C-801F9FB9BF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5A2D4-D907-4500-9690-B3BFD9E8A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24B-485A-4814-A553-73AD97D8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FEECA-E1E7-4631-8CB0-B18D9ED61A9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A7A652-7B94-4AC2-9104-E4E7DD9FBB0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F563C8-BB51-49D7-836B-885FF068367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61226E-1B7E-439F-9366-A83225DAC65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7EAB0D-7080-4250-AC15-1BD82127C8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3EE3FF-8D54-413E-9935-2725C9A8E0E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34F6A7-70A4-46D1-98F7-3B6DFC4C8B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58CC8C-D1FB-41AE-98F9-9F006CE6071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7DCBC8-6A01-4035-BD4E-5D5724A5AC4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994A12-F728-4427-8C0B-04900BB29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E01E-4FC6-4F6A-B0A2-29549451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8F3DCF-5FDF-4B99-A156-F1C0AAF0EE1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B3D687-5463-4A78-87AF-805F4042089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DE8260-4B96-4EAD-BA39-91FEBD0983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17B1-8914-4159-86AB-FF6DAF77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E4A1-72AF-4A7A-9FA5-BE7B2413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2C18-6133-48FD-94A6-7197607F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8D30-B1AE-4690-B5B8-4007CDF8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1E73-6A7C-454D-AC4E-05788737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E40C-6508-47BC-AED2-BCF039B7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541-B7F6-48B2-89B7-431B10E6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B1CC-7F9E-4A37-B5F4-E8EFF9B3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B4BE-6D1D-49E4-8567-9E84A967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24A7-18DE-409B-9F44-C0F9DC6B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7360-1ED6-424D-99FF-77331853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6E6A-FF36-4A3A-BE4B-4D8FCBDD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4E2C-92D7-423C-9D89-3D7087B2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F014-1A3D-4AC5-BFC6-A3F86FA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57D3-2F5F-4656-95F8-9CF5C7E4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AA19-885B-43FE-8B07-EEC65C3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7307-E4B1-46F8-BDBB-874DA97A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E59-6751-41AB-96D7-2DC3E3AC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3DDD-1C30-44C5-908C-9432DEFF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7869-594A-4F23-9544-EFB6864B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6B2E1-C8BB-4E2E-A477-64203ABA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2B10-2EB6-4F81-AA15-D5EB3709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845B-7F18-43DD-A5A2-DAC9006F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6066-6658-4135-BBA2-724EEE89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1065-136D-49D1-B833-51AC7A4F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C098-AFDF-44A0-B177-ADA97B4C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339C-ABDD-4FCF-90C9-1891BD48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07619-B38B-40A1-AD0D-2B7E570C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B42-D7D9-4140-861D-1F21733A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CEDE-6E85-4322-86F2-2A7261B1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C3D35-FE31-4050-9995-8180B8B6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CF87E-D402-4919-BB57-60F8E976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2AC59-9B62-4045-9D92-EBC2B9F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4364-A1B9-4972-98C0-BC13C3CF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93F4-F87F-4070-86E8-CE4BD2CA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32997-31AF-4123-A954-5820B8C2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95A7-88C3-4FC2-8874-B305D57A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E0DDA-F59D-46EA-93C7-EF6240B7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44FCA-425C-442B-87EF-CCB28844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E3F-F14E-4AB6-88D8-0D5E60CE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4E30A-1201-44A1-9350-FD274159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5FD2F-58DF-4FCD-B544-A601A5B7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26B08-D333-4CE9-BD04-220B7B39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B7192-E98F-4F16-B77C-BD88C27A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58B6-9857-4A0E-9372-C9579A34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3B54-B3E2-410B-9710-D11D2B2B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7E25-28EF-49AE-85A0-D3A32C14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E2A5D-A938-4C7F-BFBB-0CCFA6C4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9F4B5-FD77-4586-B716-30376A6C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8AE66-D0E2-460D-86BB-E36E6314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943-C254-4D84-B822-70C67301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4CBF-8682-451D-B002-E19C69FE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C690B-EB06-4339-BE7D-F7603CDB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009E-E0AF-43B8-96B2-0AA56570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5417-1D23-4A69-8B0E-8FC5841A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F84F1-3829-4E7F-8C7F-F990EEE6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3BB0D-943F-44A5-A467-A2790875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8670F-B075-490D-BBFF-DAAF8DD9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EF67-4EAE-4465-B4E6-FA005B31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A3268-D060-4520-9284-3A7E92BD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CE1BB-3F0A-41EF-BFAE-E9771C5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D82-7B3A-45A1-9B53-03D5AA57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8640C-9CC9-45B4-8864-768339A0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AFA1F-B167-44A9-B30F-850CC0F5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C1E57-617E-4462-AAD5-00384749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F9DB1-2D18-4123-BE05-A83C7A54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5238B-CED0-41C4-9EED-F2B60528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5E49C-642D-4316-9CB9-9A4393B0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9CA4F-7A51-4B2E-8752-E136869A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F857B-130A-4A71-A08A-3F20EEF6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01E45-58C4-4D75-A3F6-A2C7743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57DA6-69C4-4209-8649-018A921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B3E-C251-48F9-8862-B6F72E4A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D88A1-95DB-4B28-A7CD-E407EB0D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3195A-C12A-4ED0-98BD-1FC68C24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8964C-594D-456B-AE9C-FE17B73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B4D7F-3B4C-4050-AD9E-A36BFB95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0E48D-267E-43EB-9A76-35B862A4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AABCB-E1B8-4F9F-B684-6233D485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7F6AA-8C30-418A-879E-DBE5886F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9D777-5793-4C63-B058-31888FE4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6E22A-D8A2-4052-87BC-D4CA4FE8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3C108-1C9A-4851-A02E-AC34471A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429-D406-46A1-A013-0B9DD4E5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5784F-3161-4A94-BDCA-4384A042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2D71E-865D-4A42-B08D-D15E88CC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04E3C-65D9-46A9-87AC-6360A9E3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1CA5E-42FD-4AEE-B8D1-418A07DF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87FEA-B005-482C-B57B-24ACBA22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C0575-4E5D-4CE0-8394-12F5CE35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C8F0B-3F22-4F27-AEA0-8008032A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CBD68-2A5C-48FD-84A3-176DF79F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ADA23-4347-48A9-ADED-745831F9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6D728-4D5A-4AE8-B875-3F35FD38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1BF115F-BEE1-4FB8-AF07-6303D6C8DAE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EEC9A18-8407-4DF4-8996-C8CF1432C2CA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F457B8B-C8F1-461E-8F7E-900551A57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D76886D-C564-44D0-A68F-31B183C85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221DF0AC-D61D-4AC5-A9D1-679681E626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BF87EFEF-1DC1-4891-94F8-0EFD0C909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51FA96B0-D5D0-4907-BB16-411A3CDA3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878664C4-FB70-417B-9B73-7C66C989C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01F87A6E-6330-4771-B1EA-72CDF5AA5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Introduc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ubtitle 2"/>
          <p:cNvSpPr/>
          <p:nvPr/>
        </p:nvSpPr>
        <p:spPr>
          <a:xfrm>
            <a:off x="1365120" y="5043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6"/>
          <p:cNvSpPr/>
          <p:nvPr/>
        </p:nvSpPr>
        <p:spPr>
          <a:xfrm flipV="1">
            <a:off x="1539720" y="3567240"/>
            <a:ext cx="3122640" cy="93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8"/>
          <p:cNvSpPr/>
          <p:nvPr/>
        </p:nvSpPr>
        <p:spPr>
          <a:xfrm flipH="1">
            <a:off x="4647960" y="355752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26"/>
          <p:cNvSpPr/>
          <p:nvPr/>
        </p:nvSpPr>
        <p:spPr>
          <a:xfrm flipV="1">
            <a:off x="1546200" y="3159000"/>
            <a:ext cx="2617920" cy="79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28"/>
          <p:cNvSpPr/>
          <p:nvPr/>
        </p:nvSpPr>
        <p:spPr>
          <a:xfrm flipH="1">
            <a:off x="4194000" y="3141720"/>
            <a:ext cx="648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26"/>
          <p:cNvSpPr/>
          <p:nvPr/>
        </p:nvSpPr>
        <p:spPr>
          <a:xfrm flipV="1">
            <a:off x="1554120" y="2760480"/>
            <a:ext cx="2157480" cy="61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28"/>
          <p:cNvSpPr/>
          <p:nvPr/>
        </p:nvSpPr>
        <p:spPr>
          <a:xfrm>
            <a:off x="3711600" y="2743200"/>
            <a:ext cx="223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47"/>
          <p:cNvCxnSpPr/>
          <p:nvPr/>
        </p:nvCxnSpPr>
        <p:spPr>
          <a:xfrm flipH="1">
            <a:off x="4762080" y="2100240"/>
            <a:ext cx="634320" cy="12787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0" name="Rectangle 49"/>
          <p:cNvSpPr/>
          <p:nvPr/>
        </p:nvSpPr>
        <p:spPr>
          <a:xfrm>
            <a:off x="5495760" y="1814400"/>
            <a:ext cx="272448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0"/>
          <p:cNvSpPr/>
          <p:nvPr/>
        </p:nvSpPr>
        <p:spPr>
          <a:xfrm>
            <a:off x="5502240" y="2271600"/>
            <a:ext cx="272412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51"/>
          <p:cNvCxnSpPr/>
          <p:nvPr/>
        </p:nvCxnSpPr>
        <p:spPr>
          <a:xfrm flipH="1">
            <a:off x="4381200" y="2539080"/>
            <a:ext cx="1023120" cy="501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3" name="Rectangle 55"/>
          <p:cNvSpPr/>
          <p:nvPr/>
        </p:nvSpPr>
        <p:spPr>
          <a:xfrm>
            <a:off x="5492880" y="2741760"/>
            <a:ext cx="274140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56"/>
          <p:cNvCxnSpPr/>
          <p:nvPr/>
        </p:nvCxnSpPr>
        <p:spPr>
          <a:xfrm flipH="1" flipV="1">
            <a:off x="3879000" y="2755080"/>
            <a:ext cx="1531080" cy="23580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5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10D8DFC-7537-432A-BEAC-906794A3E5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51"/>
          <p:cNvCxnSpPr/>
          <p:nvPr/>
        </p:nvCxnSpPr>
        <p:spPr>
          <a:xfrm flipV="1">
            <a:off x="4614840" y="3849480"/>
            <a:ext cx="310320" cy="2973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58" name="TextBox 33"/>
          <p:cNvSpPr/>
          <p:nvPr/>
        </p:nvSpPr>
        <p:spPr>
          <a:xfrm>
            <a:off x="2093760" y="39765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0791C34-4245-48CE-A555-87B5EA9FD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Rectangle 52"/>
          <p:cNvSpPr/>
          <p:nvPr/>
        </p:nvSpPr>
        <p:spPr>
          <a:xfrm>
            <a:off x="5495760" y="1839960"/>
            <a:ext cx="2724480" cy="90324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urved Down Arrow 53"/>
          <p:cNvSpPr/>
          <p:nvPr/>
        </p:nvSpPr>
        <p:spPr>
          <a:xfrm rot="5400000">
            <a:off x="8099280" y="2174760"/>
            <a:ext cx="609480" cy="285840"/>
          </a:xfrm>
          <a:custGeom>
            <a:avLst/>
            <a:gdLst>
              <a:gd name="textAreaLeft" fmla="*/ 125640 w 609480"/>
              <a:gd name="textAreaRight" fmla="*/ 448200 w 6094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3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4" y="16200"/>
                </a:lnTo>
                <a:lnTo>
                  <a:pt x="17520" y="16200"/>
                </a:lnTo>
                <a:arcTo wR="8902" hR="21600" stAng="-1924114" swAng="-3272646"/>
                <a:lnTo>
                  <a:pt x="10167" y="219"/>
                </a:lnTo>
                <a:arcTo wR="8902" hR="21600" stAng="-5603240" swAng="-5196760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240"/>
                <a:lnTo>
                  <a:pt x="10167" y="219"/>
                </a:lnTo>
                <a:arcTo wR="8902" hR="21600" stAng="-5603240" swAng="-5196760"/>
                <a:close/>
              </a:path>
            </a:pathLst>
          </a:cu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85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E8AFBAD-FFDE-4471-B1F6-3DA61CD18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Down Arrow 54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611" name="Down Arrow 60"/>
          <p:cNvSpPr/>
          <p:nvPr/>
        </p:nvSpPr>
        <p:spPr>
          <a:xfrm rot="5400000">
            <a:off x="4227120" y="520236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Rounded Rectangle 29"/>
          <p:cNvGrpSpPr/>
          <p:nvPr/>
        </p:nvGrpSpPr>
        <p:grpSpPr>
          <a:xfrm>
            <a:off x="5505480" y="1994040"/>
            <a:ext cx="3084480" cy="2906640"/>
            <a:chOff x="5505480" y="1994040"/>
            <a:chExt cx="3084480" cy="2906640"/>
          </a:xfrm>
        </p:grpSpPr>
        <p:pic>
          <p:nvPicPr>
            <p:cNvPr id="615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5505480" y="1994040"/>
              <a:ext cx="308448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699160" y="2168640"/>
              <a:ext cx="26985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demanded decrea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demand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98EFD6C-C6E4-4A31-AF83-67B64035E7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come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effect of a price change on real income, and therefore on quantity deman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a6a6"/>
                </a:solidFill>
                <a:latin typeface="Times New Roman"/>
              </a:rPr>
              <a:t>Real inco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easured in terms of the goods and services it will buy</a:t>
            </a:r>
            <a:br>
              <a:rPr sz="2800"/>
            </a:b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income will increase if prices fa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5FBCE19-3DA8-4988-8D0D-DBE299C1CF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bstitution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bstitution of one product for another as a result of a change in their relative p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8A6CF98-0CB1-46D2-8BF9-36B8D9E32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demand for a product or service from all consumer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8500607-9817-45CA-9368-2E63A7C1D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87320" y="1397160"/>
          <a:ext cx="7543800" cy="4983120"/>
        </p:xfrm>
        <a:graphic>
          <a:graphicData uri="http://schemas.openxmlformats.org/drawingml/2006/table">
            <a:tbl>
              <a:tblPr/>
              <a:tblGrid>
                <a:gridCol w="1371600"/>
                <a:gridCol w="1524240"/>
                <a:gridCol w="1352520"/>
                <a:gridCol w="1501560"/>
                <a:gridCol w="1793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demand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i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TextBox 7"/>
          <p:cNvSpPr/>
          <p:nvPr/>
        </p:nvSpPr>
        <p:spPr>
          <a:xfrm>
            <a:off x="7099200" y="3005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099200" y="3637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7099200" y="4356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7132680" y="504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7132680" y="572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3728520" y="3024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5068440" y="3033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668124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70EE03E-F43E-41A5-AE5A-87772C4F2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"/>
          <p:cNvGrpSpPr/>
          <p:nvPr/>
        </p:nvGrpSpPr>
        <p:grpSpPr>
          <a:xfrm>
            <a:off x="2666880" y="1981080"/>
            <a:ext cx="1981440" cy="2872440"/>
            <a:chOff x="2666880" y="1981080"/>
            <a:chExt cx="1981440" cy="2872440"/>
          </a:xfrm>
        </p:grpSpPr>
        <p:sp>
          <p:nvSpPr>
            <p:cNvPr id="654" name="Line 8"/>
            <p:cNvSpPr/>
            <p:nvPr/>
          </p:nvSpPr>
          <p:spPr>
            <a:xfrm>
              <a:off x="2666880" y="1981080"/>
              <a:ext cx="914400" cy="2438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3"/>
            <p:cNvSpPr/>
            <p:nvPr/>
          </p:nvSpPr>
          <p:spPr>
            <a:xfrm>
              <a:off x="3276360" y="4343400"/>
              <a:ext cx="13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OMI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0"/>
          <p:cNvGrpSpPr/>
          <p:nvPr/>
        </p:nvGrpSpPr>
        <p:grpSpPr>
          <a:xfrm>
            <a:off x="2514600" y="1905120"/>
            <a:ext cx="2590920" cy="2719800"/>
            <a:chOff x="2514600" y="1905120"/>
            <a:chExt cx="2590920" cy="2719800"/>
          </a:xfrm>
        </p:grpSpPr>
        <p:sp>
          <p:nvSpPr>
            <p:cNvPr id="664" name="Text Box 35"/>
            <p:cNvSpPr/>
            <p:nvPr/>
          </p:nvSpPr>
          <p:spPr>
            <a:xfrm>
              <a:off x="4114800" y="41148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J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39"/>
            <p:cNvGrpSpPr/>
            <p:nvPr/>
          </p:nvGrpSpPr>
          <p:grpSpPr>
            <a:xfrm>
              <a:off x="2514600" y="1905120"/>
              <a:ext cx="1752840" cy="2590920"/>
              <a:chOff x="2514600" y="1905120"/>
              <a:chExt cx="1752840" cy="259092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2971800" y="251460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1"/>
              <p:cNvSpPr/>
              <p:nvPr/>
            </p:nvSpPr>
            <p:spPr>
              <a:xfrm>
                <a:off x="3429000" y="3124440"/>
                <a:ext cx="38088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32"/>
              <p:cNvSpPr/>
              <p:nvPr/>
            </p:nvSpPr>
            <p:spPr>
              <a:xfrm>
                <a:off x="3810240" y="3733920"/>
                <a:ext cx="457200" cy="762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"/>
              <p:cNvSpPr/>
              <p:nvPr/>
            </p:nvSpPr>
            <p:spPr>
              <a:xfrm>
                <a:off x="2514600" y="190512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36"/>
          <p:cNvGrpSpPr/>
          <p:nvPr/>
        </p:nvGrpSpPr>
        <p:grpSpPr>
          <a:xfrm>
            <a:off x="2894040" y="1980720"/>
            <a:ext cx="231840" cy="2745360"/>
            <a:chOff x="2894040" y="1980720"/>
            <a:chExt cx="231840" cy="2745360"/>
          </a:xfrm>
        </p:grpSpPr>
        <p:sp>
          <p:nvSpPr>
            <p:cNvPr id="671" name="Straight Connector 28"/>
            <p:cNvSpPr/>
            <p:nvPr/>
          </p:nvSpPr>
          <p:spPr>
            <a:xfrm flipV="1">
              <a:off x="3124440" y="3201840"/>
              <a:ext cx="1440" cy="15242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30"/>
            <p:cNvSpPr/>
            <p:nvPr/>
          </p:nvSpPr>
          <p:spPr>
            <a:xfrm flipV="1">
              <a:off x="2894040" y="1980720"/>
              <a:ext cx="1440" cy="12193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traight Connector 32"/>
            <p:cNvSpPr/>
            <p:nvPr/>
          </p:nvSpPr>
          <p:spPr>
            <a:xfrm>
              <a:off x="2895480" y="3200400"/>
              <a:ext cx="228960" cy="14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35"/>
          <p:cNvSpPr/>
          <p:nvPr/>
        </p:nvSpPr>
        <p:spPr>
          <a:xfrm>
            <a:off x="2895480" y="46483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984807"/>
                </a:solidFill>
                <a:latin typeface="Times New Roman"/>
              </a:rPr>
              <a:t>AB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41"/>
          <p:cNvGrpSpPr/>
          <p:nvPr/>
        </p:nvGrpSpPr>
        <p:grpSpPr>
          <a:xfrm>
            <a:off x="3429000" y="1904760"/>
            <a:ext cx="3962520" cy="3101040"/>
            <a:chOff x="3429000" y="1904760"/>
            <a:chExt cx="3962520" cy="3101040"/>
          </a:xfrm>
        </p:grpSpPr>
        <p:sp>
          <p:nvSpPr>
            <p:cNvPr id="676" name="Line 21"/>
            <p:cNvSpPr/>
            <p:nvPr/>
          </p:nvSpPr>
          <p:spPr>
            <a:xfrm flipH="1" flipV="1">
              <a:off x="3429000" y="1904760"/>
              <a:ext cx="91440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33"/>
            <p:cNvSpPr/>
            <p:nvPr/>
          </p:nvSpPr>
          <p:spPr>
            <a:xfrm flipH="1" flipV="1">
              <a:off x="5486040" y="3276720"/>
              <a:ext cx="53316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34"/>
            <p:cNvSpPr/>
            <p:nvPr/>
          </p:nvSpPr>
          <p:spPr>
            <a:xfrm flipH="1" flipV="1">
              <a:off x="6019560" y="4114440"/>
              <a:ext cx="68580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36"/>
            <p:cNvSpPr/>
            <p:nvPr/>
          </p:nvSpPr>
          <p:spPr>
            <a:xfrm>
              <a:off x="6096240" y="449568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 flipH="1" flipV="1">
              <a:off x="4343040" y="2514600"/>
              <a:ext cx="1143000" cy="761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8"/>
          <p:cNvSpPr/>
          <p:nvPr/>
        </p:nvSpPr>
        <p:spPr>
          <a:xfrm>
            <a:off x="3633840" y="11700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demand is the horizontal summation of all individual de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741C305-EE71-4121-8DA4-1577A2338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C6E12E0-8567-41BC-90DB-B40C92B429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term marke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the concept of equilibrium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DB496E0-8BE1-4C19-8B8C-916A5B526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Text Box 51"/>
          <p:cNvSpPr/>
          <p:nvPr/>
        </p:nvSpPr>
        <p:spPr>
          <a:xfrm>
            <a:off x="7556400" y="374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1"/>
          <p:cNvSpPr/>
          <p:nvPr/>
        </p:nvSpPr>
        <p:spPr>
          <a:xfrm>
            <a:off x="375012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545184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4"/>
          <p:cNvSpPr/>
          <p:nvPr/>
        </p:nvSpPr>
        <p:spPr>
          <a:xfrm>
            <a:off x="7064640" y="372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1"/>
          <p:cNvSpPr/>
          <p:nvPr/>
        </p:nvSpPr>
        <p:spPr>
          <a:xfrm>
            <a:off x="755640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69360" y="48132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7543800" y="532116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1"/>
          <p:cNvSpPr/>
          <p:nvPr/>
        </p:nvSpPr>
        <p:spPr>
          <a:xfrm>
            <a:off x="7556400" y="581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B094DFD-F656-470E-A828-E6E54B7AA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producers are willing and able to suppl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AC02E63-CAF6-444A-B947-833FE5744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96880" y="1587240"/>
            <a:ext cx="81532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</a:t>
            </a: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quantities supplied p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riod of time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the supply schedu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04A1505-96EC-4B99-B800-28E89A2EF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939960" y="1917720"/>
          <a:ext cx="7238880" cy="34750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F80D70E-F737-4487-9E05-F866B668F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5486400" y="1371600"/>
          <a:ext cx="2743200" cy="27432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26"/>
          <p:cNvSpPr/>
          <p:nvPr/>
        </p:nvSpPr>
        <p:spPr>
          <a:xfrm>
            <a:off x="1539720" y="3576600"/>
            <a:ext cx="822600" cy="1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28"/>
          <p:cNvSpPr/>
          <p:nvPr/>
        </p:nvSpPr>
        <p:spPr>
          <a:xfrm flipH="1">
            <a:off x="2358720" y="356544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8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26"/>
          <p:cNvSpPr/>
          <p:nvPr/>
        </p:nvSpPr>
        <p:spPr>
          <a:xfrm flipV="1">
            <a:off x="1546200" y="3156120"/>
            <a:ext cx="126828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28"/>
          <p:cNvSpPr/>
          <p:nvPr/>
        </p:nvSpPr>
        <p:spPr>
          <a:xfrm flipH="1">
            <a:off x="2803320" y="3181320"/>
            <a:ext cx="612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40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6"/>
          <p:cNvSpPr/>
          <p:nvPr/>
        </p:nvSpPr>
        <p:spPr>
          <a:xfrm flipV="1">
            <a:off x="1554120" y="2751120"/>
            <a:ext cx="1690560" cy="158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traight Connector 28"/>
          <p:cNvSpPr/>
          <p:nvPr/>
        </p:nvSpPr>
        <p:spPr>
          <a:xfrm>
            <a:off x="3234600" y="2774880"/>
            <a:ext cx="205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7"/>
          <p:cNvCxnSpPr/>
          <p:nvPr/>
        </p:nvCxnSpPr>
        <p:spPr>
          <a:xfrm flipH="1">
            <a:off x="2560680" y="2099160"/>
            <a:ext cx="2835720" cy="1446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47" name="Rectangle 49"/>
          <p:cNvSpPr/>
          <p:nvPr/>
        </p:nvSpPr>
        <p:spPr>
          <a:xfrm>
            <a:off x="5486400" y="1827360"/>
            <a:ext cx="272412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0"/>
          <p:cNvSpPr/>
          <p:nvPr/>
        </p:nvSpPr>
        <p:spPr>
          <a:xfrm>
            <a:off x="5486400" y="2268360"/>
            <a:ext cx="272556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51"/>
          <p:cNvCxnSpPr/>
          <p:nvPr/>
        </p:nvCxnSpPr>
        <p:spPr>
          <a:xfrm flipH="1">
            <a:off x="3036240" y="2539080"/>
            <a:ext cx="2367720" cy="6166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0" name="Rectangle 55"/>
          <p:cNvSpPr/>
          <p:nvPr/>
        </p:nvSpPr>
        <p:spPr>
          <a:xfrm>
            <a:off x="5479920" y="2732040"/>
            <a:ext cx="2743200" cy="45900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56"/>
          <p:cNvCxnSpPr/>
          <p:nvPr/>
        </p:nvCxnSpPr>
        <p:spPr>
          <a:xfrm flipH="1" flipV="1">
            <a:off x="3450600" y="2790360"/>
            <a:ext cx="1959480" cy="2008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2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D1CE583-8BC7-49BF-8D37-154F3F3F0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51"/>
          <p:cNvCxnSpPr/>
          <p:nvPr/>
        </p:nvCxnSpPr>
        <p:spPr>
          <a:xfrm flipH="1" flipV="1">
            <a:off x="3521880" y="2607840"/>
            <a:ext cx="421560" cy="3499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72" name="TextBox 33"/>
          <p:cNvSpPr/>
          <p:nvPr/>
        </p:nvSpPr>
        <p:spPr>
          <a:xfrm>
            <a:off x="3897720" y="277668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B6699D8-3269-44A3-87A4-3A7ACBBFA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Rounded Rectangle 23"/>
          <p:cNvGrpSpPr/>
          <p:nvPr/>
        </p:nvGrpSpPr>
        <p:grpSpPr>
          <a:xfrm>
            <a:off x="4511520" y="1932120"/>
            <a:ext cx="3407040" cy="2279520"/>
            <a:chOff x="4511520" y="1932120"/>
            <a:chExt cx="3407040" cy="2279520"/>
          </a:xfrm>
        </p:grpSpPr>
        <p:pic>
          <p:nvPicPr>
            <p:cNvPr id="799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4511520" y="1932120"/>
              <a:ext cx="3407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4676760" y="2075040"/>
              <a:ext cx="304020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supplied (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) increa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supply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Down Arrow 28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Straight Arrow Connector 29"/>
          <p:cNvCxnSpPr/>
          <p:nvPr/>
        </p:nvCxnSpPr>
        <p:spPr>
          <a:xfrm flipV="1">
            <a:off x="2095200" y="2920680"/>
            <a:ext cx="445320" cy="3945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03" name="Down Arrow 30"/>
          <p:cNvSpPr/>
          <p:nvPr/>
        </p:nvSpPr>
        <p:spPr>
          <a:xfrm rot="16200000">
            <a:off x="2436840" y="518292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2391480" y="36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000600" y="309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E8F7F37-4ADF-4E97-A022-4CE2E1318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Supply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Up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s are motivated by prof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 price means more profit, more suppliers are willing to produce the produc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ise as more is produced, so higher prices required to supply mo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8AB72B4-909F-4625-B412-B58DFB058A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supply from all producers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rizontal summation of each individual producer’s supply curv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are all making a simila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no preference as to which supplier or product they u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4126FEF-491B-43FC-897C-F8775BB52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031760" y="1417680"/>
          <a:ext cx="7123320" cy="4983120"/>
        </p:xfrm>
        <a:graphic>
          <a:graphicData uri="http://schemas.openxmlformats.org/drawingml/2006/table">
            <a:tbl>
              <a:tblPr/>
              <a:tblGrid>
                <a:gridCol w="1700280"/>
                <a:gridCol w="1887480"/>
                <a:gridCol w="1675080"/>
                <a:gridCol w="18604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b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re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Box 3"/>
          <p:cNvSpPr/>
          <p:nvPr/>
        </p:nvSpPr>
        <p:spPr>
          <a:xfrm>
            <a:off x="4823280" y="29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6639120" y="298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C5F9F45-C44D-408C-9D4C-34A50D7A3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demand and supply determine price and quantity trad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BCBD418-B855-4A0F-9D7A-79AB85878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8"/>
          <p:cNvSpPr/>
          <p:nvPr/>
        </p:nvSpPr>
        <p:spPr>
          <a:xfrm flipH="1">
            <a:off x="2819520" y="1981080"/>
            <a:ext cx="838080" cy="2438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3"/>
          <p:cNvSpPr/>
          <p:nvPr/>
        </p:nvSpPr>
        <p:spPr>
          <a:xfrm>
            <a:off x="3733920" y="159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39"/>
          <p:cNvGrpSpPr/>
          <p:nvPr/>
        </p:nvGrpSpPr>
        <p:grpSpPr>
          <a:xfrm>
            <a:off x="3657240" y="1523880"/>
            <a:ext cx="3200760" cy="2895840"/>
            <a:chOff x="3657240" y="1523880"/>
            <a:chExt cx="3200760" cy="2895840"/>
          </a:xfrm>
        </p:grpSpPr>
        <p:sp>
          <p:nvSpPr>
            <p:cNvPr id="841" name="Text Box 35"/>
            <p:cNvSpPr/>
            <p:nvPr/>
          </p:nvSpPr>
          <p:spPr>
            <a:xfrm>
              <a:off x="5638680" y="15238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2"/>
            <p:cNvSpPr/>
            <p:nvPr/>
          </p:nvSpPr>
          <p:spPr>
            <a:xfrm flipH="1">
              <a:off x="3657240" y="1981080"/>
              <a:ext cx="2667240" cy="2438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37"/>
            <p:cNvSpPr/>
            <p:nvPr/>
          </p:nvSpPr>
          <p:spPr>
            <a:xfrm>
              <a:off x="5029200" y="1523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40"/>
          <p:cNvGrpSpPr/>
          <p:nvPr/>
        </p:nvGrpSpPr>
        <p:grpSpPr>
          <a:xfrm>
            <a:off x="4114800" y="1487520"/>
            <a:ext cx="4724280" cy="2932200"/>
            <a:chOff x="4114800" y="1487520"/>
            <a:chExt cx="4724280" cy="2932200"/>
          </a:xfrm>
        </p:grpSpPr>
        <p:sp>
          <p:nvSpPr>
            <p:cNvPr id="845" name="Line 34"/>
            <p:cNvSpPr/>
            <p:nvPr/>
          </p:nvSpPr>
          <p:spPr>
            <a:xfrm flipH="1">
              <a:off x="4114800" y="2057400"/>
              <a:ext cx="36576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36"/>
            <p:cNvSpPr/>
            <p:nvPr/>
          </p:nvSpPr>
          <p:spPr>
            <a:xfrm>
              <a:off x="7543800" y="152424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38"/>
            <p:cNvSpPr/>
            <p:nvPr/>
          </p:nvSpPr>
          <p:spPr>
            <a:xfrm>
              <a:off x="7010280" y="1487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Supply Cur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7"/>
          <p:cNvSpPr/>
          <p:nvPr/>
        </p:nvSpPr>
        <p:spPr>
          <a:xfrm>
            <a:off x="3398760" y="4646520"/>
            <a:ext cx="507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supply is the total quantity of all producers at each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F219ABD-C240-49C1-AB8B-540B4B7BF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1574280"/>
            <a:ext cx="82296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chanism that allows buyers and sellers to exchange products or serv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quilibrium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quantity demanded equals quantity suppli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either a shortage nor a surplu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Rounded Rectangle 3"/>
          <p:cNvGrpSpPr/>
          <p:nvPr/>
        </p:nvGrpSpPr>
        <p:grpSpPr>
          <a:xfrm>
            <a:off x="3365640" y="5162400"/>
            <a:ext cx="2419200" cy="1019160"/>
            <a:chOff x="3365640" y="5162400"/>
            <a:chExt cx="2419200" cy="1019160"/>
          </a:xfrm>
        </p:grpSpPr>
        <p:pic>
          <p:nvPicPr>
            <p:cNvPr id="85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365640" y="5162400"/>
              <a:ext cx="241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3468600" y="5246640"/>
              <a:ext cx="22179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D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= 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S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E4ADBA7-2148-4747-ABA8-50CB0B4628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"/>
          <p:cNvSpPr/>
          <p:nvPr/>
        </p:nvSpPr>
        <p:spPr>
          <a:xfrm>
            <a:off x="8065080" y="1494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. 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rplu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reat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above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ag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below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FE7FB6B-89FE-4206-9F81-BB08D9CF1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755640" y="1417680"/>
          <a:ext cx="7709040" cy="4983120"/>
        </p:xfrm>
        <a:graphic>
          <a:graphicData uri="http://schemas.openxmlformats.org/drawingml/2006/table">
            <a:tbl>
              <a:tblPr/>
              <a:tblGrid>
                <a:gridCol w="1838160"/>
                <a:gridCol w="1787760"/>
                <a:gridCol w="1913040"/>
                <a:gridCol w="2170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/ Surp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Text Box 51"/>
          <p:cNvSpPr/>
          <p:nvPr/>
        </p:nvSpPr>
        <p:spPr>
          <a:xfrm>
            <a:off x="6934320" y="3011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"/>
          <p:cNvSpPr/>
          <p:nvPr/>
        </p:nvSpPr>
        <p:spPr>
          <a:xfrm>
            <a:off x="4642560" y="2820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8"/>
          <p:cNvSpPr/>
          <p:nvPr/>
        </p:nvSpPr>
        <p:spPr>
          <a:xfrm>
            <a:off x="6386760" y="3002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7023240" y="366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1"/>
          <p:cNvSpPr/>
          <p:nvPr/>
        </p:nvSpPr>
        <p:spPr>
          <a:xfrm>
            <a:off x="7224840" y="435456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1"/>
          <p:cNvSpPr/>
          <p:nvPr/>
        </p:nvSpPr>
        <p:spPr>
          <a:xfrm>
            <a:off x="6862680" y="5045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1"/>
          <p:cNvSpPr/>
          <p:nvPr/>
        </p:nvSpPr>
        <p:spPr>
          <a:xfrm>
            <a:off x="6853320" y="57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B60BFC8-0476-4C93-B31A-B24B1771D9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28"/>
          <p:cNvSpPr/>
          <p:nvPr/>
        </p:nvSpPr>
        <p:spPr>
          <a:xfrm flipH="1" flipV="1">
            <a:off x="1990800" y="3482640"/>
            <a:ext cx="2187360" cy="4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79E05CA-7F6D-43AD-BCA0-BC11B4224DE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28"/>
          <p:cNvSpPr/>
          <p:nvPr/>
        </p:nvSpPr>
        <p:spPr>
          <a:xfrm flipH="1">
            <a:off x="4176720" y="3646440"/>
            <a:ext cx="1440" cy="20876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Rounded Rectangle 21"/>
          <p:cNvGrpSpPr/>
          <p:nvPr/>
        </p:nvGrpSpPr>
        <p:grpSpPr>
          <a:xfrm>
            <a:off x="5694480" y="2481120"/>
            <a:ext cx="2747880" cy="1462320"/>
            <a:chOff x="5694480" y="2481120"/>
            <a:chExt cx="2747880" cy="1462320"/>
          </a:xfrm>
        </p:grpSpPr>
        <p:pic>
          <p:nvPicPr>
            <p:cNvPr id="891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94480" y="2481120"/>
              <a:ext cx="274788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818320" y="2585880"/>
              <a:ext cx="2484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 market is in equilibrium when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4068720" y="335772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hortag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7D96A0A-D769-4829-8181-09E01FF69B8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09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low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l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8"/>
          <p:cNvSpPr/>
          <p:nvPr/>
        </p:nvSpPr>
        <p:spPr>
          <a:xfrm flipH="1" flipV="1">
            <a:off x="1973160" y="4199040"/>
            <a:ext cx="290664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28"/>
          <p:cNvSpPr/>
          <p:nvPr/>
        </p:nvSpPr>
        <p:spPr>
          <a:xfrm>
            <a:off x="3433680" y="417816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8"/>
          <p:cNvSpPr/>
          <p:nvPr/>
        </p:nvSpPr>
        <p:spPr>
          <a:xfrm>
            <a:off x="4925880" y="420372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3"/>
          <p:cNvSpPr/>
          <p:nvPr/>
        </p:nvSpPr>
        <p:spPr>
          <a:xfrm>
            <a:off x="1215360" y="3921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"/>
          <p:cNvSpPr/>
          <p:nvPr/>
        </p:nvSpPr>
        <p:spPr>
          <a:xfrm>
            <a:off x="325620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471708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4681440" y="609912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3105000" y="608796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33"/>
          <p:cNvSpPr/>
          <p:nvPr/>
        </p:nvSpPr>
        <p:spPr>
          <a:xfrm>
            <a:off x="4805280" y="40734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8"/>
          <p:cNvSpPr/>
          <p:nvPr/>
        </p:nvSpPr>
        <p:spPr>
          <a:xfrm>
            <a:off x="3324240" y="405936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eft-Right Arrow 34"/>
          <p:cNvSpPr/>
          <p:nvPr/>
        </p:nvSpPr>
        <p:spPr>
          <a:xfrm>
            <a:off x="3476520" y="4551480"/>
            <a:ext cx="1403280" cy="6271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C53674E-349E-4454-BA27-8F14FB06562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37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high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g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C2A6A7B-CFF3-4BBC-9FF9-616C1D6B6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Text Box 51"/>
          <p:cNvSpPr/>
          <p:nvPr/>
        </p:nvSpPr>
        <p:spPr>
          <a:xfrm>
            <a:off x="6694560" y="3533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1"/>
          <p:cNvSpPr/>
          <p:nvPr/>
        </p:nvSpPr>
        <p:spPr>
          <a:xfrm>
            <a:off x="6676920" y="4057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1"/>
          <p:cNvSpPr/>
          <p:nvPr/>
        </p:nvSpPr>
        <p:spPr>
          <a:xfrm>
            <a:off x="6670800" y="4572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1"/>
          <p:cNvSpPr/>
          <p:nvPr/>
        </p:nvSpPr>
        <p:spPr>
          <a:xfrm>
            <a:off x="6999120" y="5092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1"/>
          <p:cNvSpPr/>
          <p:nvPr/>
        </p:nvSpPr>
        <p:spPr>
          <a:xfrm>
            <a:off x="6627960" y="561492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F8BDD51-9259-4ECB-9702-0C2465788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urplus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drop the price to sell excess stoc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drop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in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fa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A1CDE2E-FA84-4ECC-AB8F-73F588306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2061720"/>
            <a:ext cx="8229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416CCDB-8A7A-4B46-B8A8-A575AFACD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EFCAFC2-26DB-4153-BDB8-D6D8B20AF90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04AF9E0-A279-4925-A80C-EC11FE1174B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Rounded Rectangle 21"/>
          <p:cNvGrpSpPr/>
          <p:nvPr/>
        </p:nvGrpSpPr>
        <p:grpSpPr>
          <a:xfrm>
            <a:off x="5602320" y="2004840"/>
            <a:ext cx="3316320" cy="2994120"/>
            <a:chOff x="5602320" y="2004840"/>
            <a:chExt cx="3316320" cy="2994120"/>
          </a:xfrm>
        </p:grpSpPr>
        <p:pic>
          <p:nvPicPr>
            <p:cNvPr id="101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02320" y="2004840"/>
              <a:ext cx="33163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5805360" y="2185920"/>
              <a:ext cx="286704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drop price to sell ex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uyers buy more at lower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supply less at lower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ack to equilibrium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28"/>
          <p:cNvSpPr/>
          <p:nvPr/>
        </p:nvSpPr>
        <p:spPr>
          <a:xfrm flipH="1">
            <a:off x="2001960" y="3086280"/>
            <a:ext cx="259560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28"/>
          <p:cNvSpPr/>
          <p:nvPr/>
        </p:nvSpPr>
        <p:spPr>
          <a:xfrm flipH="1">
            <a:off x="3745080" y="3073320"/>
            <a:ext cx="1440" cy="26877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28"/>
          <p:cNvSpPr/>
          <p:nvPr/>
        </p:nvSpPr>
        <p:spPr>
          <a:xfrm>
            <a:off x="4571280" y="3086280"/>
            <a:ext cx="28440" cy="2689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eft-Right Arrow 34"/>
          <p:cNvSpPr/>
          <p:nvPr/>
        </p:nvSpPr>
        <p:spPr>
          <a:xfrm>
            <a:off x="3733920" y="4635360"/>
            <a:ext cx="850680" cy="470160"/>
          </a:xfrm>
          <a:prstGeom prst="leftRightArrow">
            <a:avLst>
              <a:gd name="adj1" fmla="val 50000"/>
              <a:gd name="adj2" fmla="val 49958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Down Arrow 36"/>
          <p:cNvSpPr/>
          <p:nvPr/>
        </p:nvSpPr>
        <p:spPr>
          <a:xfrm>
            <a:off x="3911760" y="2502000"/>
            <a:ext cx="54612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Straight Arrow Connector 37"/>
          <p:cNvCxnSpPr/>
          <p:nvPr/>
        </p:nvCxnSpPr>
        <p:spPr>
          <a:xfrm flipH="1">
            <a:off x="4681080" y="2996280"/>
            <a:ext cx="411840" cy="384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27" name="Straight Arrow Connector 39"/>
          <p:cNvCxnSpPr/>
          <p:nvPr/>
        </p:nvCxnSpPr>
        <p:spPr>
          <a:xfrm>
            <a:off x="3262680" y="2971440"/>
            <a:ext cx="445320" cy="4453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028" name="Oval 41"/>
          <p:cNvSpPr/>
          <p:nvPr/>
        </p:nvSpPr>
        <p:spPr>
          <a:xfrm>
            <a:off x="4078440" y="335124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eft-Right Arrow 43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hortage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ers bid up the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rise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de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increas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644A3E8-0EFF-48EC-ABC7-0CF667B5B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8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"/>
          <p:cNvSpPr/>
          <p:nvPr/>
        </p:nvSpPr>
        <p:spPr>
          <a:xfrm flipH="1" flipV="1">
            <a:off x="4130280" y="2854440"/>
            <a:ext cx="1560600" cy="236376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5"/>
          <p:cNvSpPr/>
          <p:nvPr/>
        </p:nvSpPr>
        <p:spPr>
          <a:xfrm>
            <a:off x="3220560" y="2708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4311000" y="274176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3650400" y="5929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1117440" y="38671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7"/>
          <p:cNvSpPr/>
          <p:nvPr/>
        </p:nvSpPr>
        <p:spPr>
          <a:xfrm>
            <a:off x="471240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27"/>
          <p:cNvCxnSpPr/>
          <p:nvPr/>
        </p:nvCxnSpPr>
        <p:spPr>
          <a:xfrm>
            <a:off x="1746360" y="4093920"/>
            <a:ext cx="4450320" cy="1476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7" name="Straight Arrow Connector 31"/>
          <p:cNvCxnSpPr>
            <a:endCxn id="1043" idx="0"/>
          </p:cNvCxnSpPr>
          <p:nvPr/>
        </p:nvCxnSpPr>
        <p:spPr>
          <a:xfrm flipH="1">
            <a:off x="3867840" y="4134960"/>
            <a:ext cx="9000" cy="17946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8" name="Straight Arrow Connector 34"/>
          <p:cNvCxnSpPr/>
          <p:nvPr/>
        </p:nvCxnSpPr>
        <p:spPr>
          <a:xfrm>
            <a:off x="4926600" y="4135320"/>
            <a:ext cx="3960" cy="17820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49" name="Text Box 19"/>
          <p:cNvSpPr/>
          <p:nvPr/>
        </p:nvSpPr>
        <p:spPr>
          <a:xfrm>
            <a:off x="905400" y="1371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9"/>
          <p:cNvSpPr/>
          <p:nvPr/>
        </p:nvSpPr>
        <p:spPr>
          <a:xfrm>
            <a:off x="6978960" y="5742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Rounded Rectangle 21"/>
          <p:cNvGrpSpPr/>
          <p:nvPr/>
        </p:nvGrpSpPr>
        <p:grpSpPr>
          <a:xfrm>
            <a:off x="5065560" y="1768320"/>
            <a:ext cx="3687840" cy="1870200"/>
            <a:chOff x="5065560" y="1768320"/>
            <a:chExt cx="3687840" cy="1870200"/>
          </a:xfrm>
        </p:grpSpPr>
        <p:pic>
          <p:nvPicPr>
            <p:cNvPr id="105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065560" y="1768320"/>
              <a:ext cx="368784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5216400" y="1889280"/>
              <a:ext cx="339732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re quantity is demanded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t each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used by a factor other than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Down Arrow 23"/>
          <p:cNvSpPr/>
          <p:nvPr/>
        </p:nvSpPr>
        <p:spPr>
          <a:xfrm rot="16200000">
            <a:off x="3801960" y="3171240"/>
            <a:ext cx="368280" cy="43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6"/>
          <p:cNvSpPr/>
          <p:nvPr/>
        </p:nvSpPr>
        <p:spPr>
          <a:xfrm flipH="1" flipV="1">
            <a:off x="3086280" y="2874960"/>
            <a:ext cx="1506240" cy="2341440"/>
          </a:xfrm>
          <a:prstGeom prst="line">
            <a:avLst/>
          </a:prstGeom>
          <a:ln cap="sq" w="57240">
            <a:solidFill>
              <a:srgbClr val="ff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26"/>
          <p:cNvCxnSpPr/>
          <p:nvPr/>
        </p:nvCxnSpPr>
        <p:spPr>
          <a:xfrm flipV="1">
            <a:off x="1758600" y="4101480"/>
            <a:ext cx="2166120" cy="540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5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97AB58B-6884-4BD6-95D8-75D8590C1D5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1. Consumer preferenc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astes change, demand chang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Consumer incom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ormal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rises, less when income fall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ferior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falls, less when income ris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0FCA5E3-454F-40B2-BEAA-7F6CB3AF7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are related if a change in the price of one product causes a change in demand for the othe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wo types of related product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itut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284B115-D413-476C-8ADD-910AB7F76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itute Product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ilar products that can be substituted for each o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increased demand for the related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362F29C-D58D-4994-8B64-101F316814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ary Product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d to be bought toge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a decrease in demand for related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CB935D8-B773-475D-B88C-D3B1073EF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447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Expectations of future prices, income, availabilit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prices or incomes expected to rise, consumers buy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goods expected to be scarcer, buy more now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5. Population size, income, and age distribution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in population or incomes cause increase in deman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age distribution affect demand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718B8D5-B8F7-4691-95E4-7A43D75F6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44DA473-03E2-4EBA-B8DE-CF415FF95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l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be willing to purchase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ability to pay for 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36AF7DE-F1ED-4FDB-A891-3EC4C4B3A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4" name="TextBox 5"/>
          <p:cNvSpPr/>
          <p:nvPr/>
        </p:nvSpPr>
        <p:spPr>
          <a:xfrm>
            <a:off x="5549760" y="4795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beer f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"/>
          <p:cNvSpPr/>
          <p:nvPr/>
        </p:nvSpPr>
        <p:spPr>
          <a:xfrm>
            <a:off x="5067360" y="5613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nuts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823F112-4664-4E57-8B51-D040BF439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n In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C48EC65-9C32-4F9B-9DA0-2B7B116AB45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9"/>
          <p:cNvSpPr/>
          <p:nvPr/>
        </p:nvSpPr>
        <p:spPr>
          <a:xfrm>
            <a:off x="398304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0"/>
          <p:cNvSpPr/>
          <p:nvPr/>
        </p:nvSpPr>
        <p:spPr>
          <a:xfrm>
            <a:off x="52783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3"/>
          <p:cNvSpPr/>
          <p:nvPr/>
        </p:nvSpPr>
        <p:spPr>
          <a:xfrm>
            <a:off x="1768320" y="1447920"/>
            <a:ext cx="0" cy="438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"/>
          <p:cNvSpPr/>
          <p:nvPr/>
        </p:nvSpPr>
        <p:spPr>
          <a:xfrm flipV="1">
            <a:off x="1768320" y="5825880"/>
            <a:ext cx="5626080" cy="61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5"/>
          <p:cNvSpPr/>
          <p:nvPr/>
        </p:nvSpPr>
        <p:spPr>
          <a:xfrm>
            <a:off x="2133720" y="1828800"/>
            <a:ext cx="3911400" cy="387504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"/>
          <p:cNvSpPr/>
          <p:nvPr/>
        </p:nvSpPr>
        <p:spPr>
          <a:xfrm flipV="1">
            <a:off x="2211480" y="2179440"/>
            <a:ext cx="460512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7"/>
          <p:cNvSpPr/>
          <p:nvPr/>
        </p:nvSpPr>
        <p:spPr>
          <a:xfrm>
            <a:off x="3097080" y="1447920"/>
            <a:ext cx="3916440" cy="392112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"/>
          <p:cNvSpPr/>
          <p:nvPr/>
        </p:nvSpPr>
        <p:spPr>
          <a:xfrm>
            <a:off x="7100280" y="5186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9"/>
          <p:cNvSpPr/>
          <p:nvPr/>
        </p:nvSpPr>
        <p:spPr>
          <a:xfrm>
            <a:off x="6902280" y="190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0"/>
          <p:cNvSpPr/>
          <p:nvPr/>
        </p:nvSpPr>
        <p:spPr>
          <a:xfrm>
            <a:off x="6033240" y="5262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5"/>
          <p:cNvSpPr/>
          <p:nvPr/>
        </p:nvSpPr>
        <p:spPr>
          <a:xfrm>
            <a:off x="4194000" y="3997440"/>
            <a:ext cx="0" cy="1827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5032440" y="3387600"/>
            <a:ext cx="0" cy="243540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8"/>
          <p:cNvSpPr/>
          <p:nvPr/>
        </p:nvSpPr>
        <p:spPr>
          <a:xfrm flipH="1">
            <a:off x="1755360" y="3387600"/>
            <a:ext cx="318924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1"/>
          <p:cNvSpPr/>
          <p:nvPr/>
        </p:nvSpPr>
        <p:spPr>
          <a:xfrm>
            <a:off x="1064520" y="3049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2"/>
          <p:cNvSpPr/>
          <p:nvPr/>
        </p:nvSpPr>
        <p:spPr>
          <a:xfrm>
            <a:off x="1096920" y="3691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4"/>
          <p:cNvSpPr/>
          <p:nvPr/>
        </p:nvSpPr>
        <p:spPr>
          <a:xfrm flipV="1">
            <a:off x="3427560" y="2900520"/>
            <a:ext cx="99216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29"/>
          <p:cNvSpPr/>
          <p:nvPr/>
        </p:nvSpPr>
        <p:spPr>
          <a:xfrm>
            <a:off x="5486400" y="388620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48211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33"/>
          <p:cNvSpPr/>
          <p:nvPr/>
        </p:nvSpPr>
        <p:spPr>
          <a:xfrm rot="16200000">
            <a:off x="4647960" y="35812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36"/>
          <p:cNvSpPr/>
          <p:nvPr/>
        </p:nvSpPr>
        <p:spPr>
          <a:xfrm>
            <a:off x="4952880" y="3276720"/>
            <a:ext cx="152640" cy="15228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37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8"/>
          <p:cNvSpPr/>
          <p:nvPr/>
        </p:nvSpPr>
        <p:spPr>
          <a:xfrm>
            <a:off x="4114800" y="3809880"/>
            <a:ext cx="15228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traight Connector 30"/>
          <p:cNvSpPr/>
          <p:nvPr/>
        </p:nvSpPr>
        <p:spPr>
          <a:xfrm flipH="1" flipV="1">
            <a:off x="1830240" y="3895200"/>
            <a:ext cx="236232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traight Connector 32"/>
          <p:cNvSpPr/>
          <p:nvPr/>
        </p:nvSpPr>
        <p:spPr>
          <a:xfrm>
            <a:off x="4267080" y="388620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Rounded Rectangle 29"/>
          <p:cNvGrpSpPr/>
          <p:nvPr/>
        </p:nvGrpSpPr>
        <p:grpSpPr>
          <a:xfrm>
            <a:off x="6132600" y="2693880"/>
            <a:ext cx="2871720" cy="1871640"/>
            <a:chOff x="6132600" y="2693880"/>
            <a:chExt cx="2871720" cy="1871640"/>
          </a:xfrm>
        </p:grpSpPr>
        <p:pic>
          <p:nvPicPr>
            <p:cNvPr id="1126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717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increases, a shortage is created and price ri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34"/>
          <p:cNvSpPr/>
          <p:nvPr/>
        </p:nvSpPr>
        <p:spPr>
          <a:xfrm>
            <a:off x="4368960" y="4356000"/>
            <a:ext cx="1091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4"/>
          <p:cNvSpPr/>
          <p:nvPr/>
        </p:nvSpPr>
        <p:spPr>
          <a:xfrm flipV="1">
            <a:off x="888840" y="3286080"/>
            <a:ext cx="14400" cy="68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 De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2A582F6-5486-4098-9C1F-BDF0FE0BF413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"/>
          <p:cNvSpPr/>
          <p:nvPr/>
        </p:nvSpPr>
        <p:spPr>
          <a:xfrm>
            <a:off x="313128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436392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5"/>
          <p:cNvSpPr/>
          <p:nvPr/>
        </p:nvSpPr>
        <p:spPr>
          <a:xfrm>
            <a:off x="1309680" y="1325520"/>
            <a:ext cx="0" cy="4384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1309680" y="5710320"/>
            <a:ext cx="5548320" cy="4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7"/>
          <p:cNvSpPr/>
          <p:nvPr/>
        </p:nvSpPr>
        <p:spPr>
          <a:xfrm>
            <a:off x="1576440" y="1600200"/>
            <a:ext cx="3911400" cy="387504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8"/>
          <p:cNvSpPr/>
          <p:nvPr/>
        </p:nvSpPr>
        <p:spPr>
          <a:xfrm flipV="1">
            <a:off x="1752480" y="2057040"/>
            <a:ext cx="460548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9"/>
          <p:cNvSpPr/>
          <p:nvPr/>
        </p:nvSpPr>
        <p:spPr>
          <a:xfrm>
            <a:off x="2638440" y="1325520"/>
            <a:ext cx="3916440" cy="3921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6639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6443280" y="178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2"/>
          <p:cNvSpPr/>
          <p:nvPr/>
        </p:nvSpPr>
        <p:spPr>
          <a:xfrm>
            <a:off x="5496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3"/>
          <p:cNvSpPr/>
          <p:nvPr/>
        </p:nvSpPr>
        <p:spPr>
          <a:xfrm>
            <a:off x="3811680" y="3875040"/>
            <a:ext cx="0" cy="182736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4"/>
          <p:cNvSpPr/>
          <p:nvPr/>
        </p:nvSpPr>
        <p:spPr>
          <a:xfrm>
            <a:off x="4573440" y="326556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5"/>
          <p:cNvSpPr/>
          <p:nvPr/>
        </p:nvSpPr>
        <p:spPr>
          <a:xfrm flipH="1">
            <a:off x="1296720" y="3798720"/>
            <a:ext cx="239076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 flipH="1">
            <a:off x="1296720" y="3265560"/>
            <a:ext cx="318924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7"/>
          <p:cNvSpPr/>
          <p:nvPr/>
        </p:nvSpPr>
        <p:spPr>
          <a:xfrm>
            <a:off x="627120" y="2927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8"/>
          <p:cNvSpPr/>
          <p:nvPr/>
        </p:nvSpPr>
        <p:spPr>
          <a:xfrm>
            <a:off x="611280" y="3568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2838600" y="2732040"/>
            <a:ext cx="10634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3"/>
          <p:cNvSpPr/>
          <p:nvPr/>
        </p:nvSpPr>
        <p:spPr>
          <a:xfrm>
            <a:off x="3276720" y="327672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4"/>
          <p:cNvSpPr/>
          <p:nvPr/>
        </p:nvSpPr>
        <p:spPr>
          <a:xfrm>
            <a:off x="355896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Rounded Rectangle 23"/>
          <p:cNvGrpSpPr/>
          <p:nvPr/>
        </p:nvGrpSpPr>
        <p:grpSpPr>
          <a:xfrm>
            <a:off x="6132600" y="2693880"/>
            <a:ext cx="2822400" cy="1871640"/>
            <a:chOff x="6132600" y="2693880"/>
            <a:chExt cx="2822400" cy="1871640"/>
          </a:xfrm>
        </p:grpSpPr>
        <p:pic>
          <p:nvPicPr>
            <p:cNvPr id="1154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224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decreases, a surplus is created and price dro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Line 24"/>
          <p:cNvSpPr/>
          <p:nvPr/>
        </p:nvSpPr>
        <p:spPr>
          <a:xfrm flipH="1">
            <a:off x="439200" y="3157560"/>
            <a:ext cx="11160" cy="723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0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754BFA6-3440-44A3-91B6-9BA83FE50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35"/>
          <p:cNvGrpSpPr/>
          <p:nvPr/>
        </p:nvGrpSpPr>
        <p:grpSpPr>
          <a:xfrm>
            <a:off x="5092560" y="2932920"/>
            <a:ext cx="1752840" cy="475560"/>
            <a:chOff x="5092560" y="2932920"/>
            <a:chExt cx="1752840" cy="475560"/>
          </a:xfrm>
        </p:grpSpPr>
        <p:sp>
          <p:nvSpPr>
            <p:cNvPr id="1167" name="TextBox 7"/>
            <p:cNvSpPr/>
            <p:nvPr/>
          </p:nvSpPr>
          <p:spPr>
            <a:xfrm>
              <a:off x="5092560" y="3009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8" name="Straight Arrow Connector 9"/>
            <p:cNvCxnSpPr/>
            <p:nvPr/>
          </p:nvCxnSpPr>
          <p:spPr>
            <a:xfrm flipV="1">
              <a:off x="542916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69" name="Straight Arrow Connector 11"/>
            <p:cNvCxnSpPr/>
            <p:nvPr/>
          </p:nvCxnSpPr>
          <p:spPr>
            <a:xfrm flipV="1">
              <a:off x="59299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0" name="Straight Arrow Connector 12"/>
            <p:cNvCxnSpPr/>
            <p:nvPr/>
          </p:nvCxnSpPr>
          <p:spPr>
            <a:xfrm flipV="1">
              <a:off x="64645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1" name="Group 36"/>
          <p:cNvGrpSpPr/>
          <p:nvPr/>
        </p:nvGrpSpPr>
        <p:grpSpPr>
          <a:xfrm>
            <a:off x="2133720" y="3936960"/>
            <a:ext cx="1752480" cy="398880"/>
            <a:chOff x="2133720" y="3936960"/>
            <a:chExt cx="1752480" cy="398880"/>
          </a:xfrm>
        </p:grpSpPr>
        <p:sp>
          <p:nvSpPr>
            <p:cNvPr id="1172" name="TextBox 21"/>
            <p:cNvSpPr/>
            <p:nvPr/>
          </p:nvSpPr>
          <p:spPr>
            <a:xfrm>
              <a:off x="2133720" y="3936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3" name="Straight Arrow Connector 22"/>
            <p:cNvCxnSpPr/>
            <p:nvPr/>
          </p:nvCxnSpPr>
          <p:spPr>
            <a:xfrm>
              <a:off x="25138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4" name="Straight Arrow Connector 23"/>
            <p:cNvCxnSpPr/>
            <p:nvPr/>
          </p:nvCxnSpPr>
          <p:spPr>
            <a:xfrm>
              <a:off x="29710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5" name="Straight Arrow Connector 24"/>
            <p:cNvCxnSpPr/>
            <p:nvPr/>
          </p:nvCxnSpPr>
          <p:spPr>
            <a:xfrm flipH="1">
              <a:off x="3504240" y="3936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6" name="Group 37"/>
          <p:cNvGrpSpPr/>
          <p:nvPr/>
        </p:nvGrpSpPr>
        <p:grpSpPr>
          <a:xfrm>
            <a:off x="7391520" y="4304520"/>
            <a:ext cx="1752480" cy="475560"/>
            <a:chOff x="7391520" y="4304520"/>
            <a:chExt cx="1752480" cy="475560"/>
          </a:xfrm>
        </p:grpSpPr>
        <p:sp>
          <p:nvSpPr>
            <p:cNvPr id="1177" name="TextBox 13"/>
            <p:cNvSpPr/>
            <p:nvPr/>
          </p:nvSpPr>
          <p:spPr>
            <a:xfrm>
              <a:off x="7391520" y="43812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8" name="Straight Arrow Connector 14"/>
            <p:cNvCxnSpPr/>
            <p:nvPr/>
          </p:nvCxnSpPr>
          <p:spPr>
            <a:xfrm flipV="1">
              <a:off x="7728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9" name="Straight Arrow Connector 15"/>
            <p:cNvCxnSpPr/>
            <p:nvPr/>
          </p:nvCxnSpPr>
          <p:spPr>
            <a:xfrm flipV="1">
              <a:off x="822888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0" name="Straight Arrow Connector 16"/>
            <p:cNvCxnSpPr/>
            <p:nvPr/>
          </p:nvCxnSpPr>
          <p:spPr>
            <a:xfrm flipV="1">
              <a:off x="8763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1" name="Group 38"/>
          <p:cNvGrpSpPr/>
          <p:nvPr/>
        </p:nvGrpSpPr>
        <p:grpSpPr>
          <a:xfrm>
            <a:off x="2755800" y="5218920"/>
            <a:ext cx="1752840" cy="475560"/>
            <a:chOff x="2755800" y="5218920"/>
            <a:chExt cx="1752840" cy="475560"/>
          </a:xfrm>
        </p:grpSpPr>
        <p:sp>
          <p:nvSpPr>
            <p:cNvPr id="1182" name="TextBox 17"/>
            <p:cNvSpPr/>
            <p:nvPr/>
          </p:nvSpPr>
          <p:spPr>
            <a:xfrm>
              <a:off x="2755800" y="5295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8"/>
            <p:cNvCxnSpPr/>
            <p:nvPr/>
          </p:nvCxnSpPr>
          <p:spPr>
            <a:xfrm flipV="1">
              <a:off x="310392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4" name="Straight Arrow Connector 19"/>
            <p:cNvCxnSpPr/>
            <p:nvPr/>
          </p:nvCxnSpPr>
          <p:spPr>
            <a:xfrm flipV="1">
              <a:off x="35931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5" name="Straight Arrow Connector 20"/>
            <p:cNvCxnSpPr/>
            <p:nvPr/>
          </p:nvCxnSpPr>
          <p:spPr>
            <a:xfrm flipV="1">
              <a:off x="41277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6" name="Group 39"/>
          <p:cNvGrpSpPr/>
          <p:nvPr/>
        </p:nvGrpSpPr>
        <p:grpSpPr>
          <a:xfrm>
            <a:off x="5880240" y="5803920"/>
            <a:ext cx="1752480" cy="398880"/>
            <a:chOff x="5880240" y="5803920"/>
            <a:chExt cx="1752480" cy="398880"/>
          </a:xfrm>
        </p:grpSpPr>
        <p:sp>
          <p:nvSpPr>
            <p:cNvPr id="1187" name="TextBox 25"/>
            <p:cNvSpPr/>
            <p:nvPr/>
          </p:nvSpPr>
          <p:spPr>
            <a:xfrm>
              <a:off x="5880240" y="5803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Straight Arrow Connector 26"/>
            <p:cNvCxnSpPr/>
            <p:nvPr/>
          </p:nvCxnSpPr>
          <p:spPr>
            <a:xfrm>
              <a:off x="62604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9" name="Straight Arrow Connector 27"/>
            <p:cNvCxnSpPr/>
            <p:nvPr/>
          </p:nvCxnSpPr>
          <p:spPr>
            <a:xfrm>
              <a:off x="67176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0" name="Straight Arrow Connector 28"/>
            <p:cNvCxnSpPr/>
            <p:nvPr/>
          </p:nvCxnSpPr>
          <p:spPr>
            <a:xfrm flipH="1">
              <a:off x="7250760" y="580392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9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4CD4593-FE65-432C-83B7-644298558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1595520"/>
            <a:ext cx="8458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ices of Productive Resour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price of a productive resource increases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 Business Tax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business taxes rise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 Technolog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mprovement in technology leads to a fall in the cost of production and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2F0D818-C4FC-42AB-A8F3-7A433D52C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0520" y="1584000"/>
            <a:ext cx="80773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 Prices of Substitutes in Production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ncrease in the price of one product will cause a drop in the supply of products that are substitutes in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5.  Future Expectation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expected future prices will lead to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6.  Number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ecrease in the number of suppliers will reduce market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D1064E6-CE62-4BFA-A668-535685CAD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n In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BA1A43DE-2100-4A39-9997-491B1A5257E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8"/>
          <p:cNvSpPr/>
          <p:nvPr/>
        </p:nvSpPr>
        <p:spPr>
          <a:xfrm>
            <a:off x="3652920" y="395460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1"/>
          <p:cNvSpPr/>
          <p:nvPr/>
        </p:nvSpPr>
        <p:spPr>
          <a:xfrm flipH="1">
            <a:off x="1752120" y="3873600"/>
            <a:ext cx="396252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14"/>
          <p:cNvSpPr/>
          <p:nvPr/>
        </p:nvSpPr>
        <p:spPr>
          <a:xfrm>
            <a:off x="525924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5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6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7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8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9"/>
          <p:cNvSpPr/>
          <p:nvPr/>
        </p:nvSpPr>
        <p:spPr>
          <a:xfrm>
            <a:off x="1090440" y="3703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0"/>
          <p:cNvSpPr/>
          <p:nvPr/>
        </p:nvSpPr>
        <p:spPr>
          <a:xfrm>
            <a:off x="1090440" y="4376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4649760" y="3503520"/>
            <a:ext cx="1548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1976400" y="4010040"/>
            <a:ext cx="4680" cy="48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8"/>
          <p:cNvSpPr/>
          <p:nvPr/>
        </p:nvSpPr>
        <p:spPr>
          <a:xfrm>
            <a:off x="5715000" y="396252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5490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Rounded Rectangle 27"/>
          <p:cNvGrpSpPr/>
          <p:nvPr/>
        </p:nvGrpSpPr>
        <p:grpSpPr>
          <a:xfrm>
            <a:off x="6224760" y="3693960"/>
            <a:ext cx="2700000" cy="1878120"/>
            <a:chOff x="6224760" y="3693960"/>
            <a:chExt cx="2700000" cy="1878120"/>
          </a:xfrm>
        </p:grpSpPr>
        <p:pic>
          <p:nvPicPr>
            <p:cNvPr id="1227" name="Rounded Rectangle 27" descr=""/>
            <p:cNvPicPr/>
            <p:nvPr/>
          </p:nvPicPr>
          <p:blipFill>
            <a:blip r:embed="rId1"/>
            <a:stretch/>
          </p:blipFill>
          <p:spPr>
            <a:xfrm>
              <a:off x="6224760" y="3693960"/>
              <a:ext cx="270000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6372360" y="3819600"/>
              <a:ext cx="240660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increases, a surplus is created and price fal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2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 De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36E139B7-3BC8-4922-B112-FD64558415C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2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2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2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2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28"/>
          <p:cNvSpPr/>
          <p:nvPr/>
        </p:nvSpPr>
        <p:spPr>
          <a:xfrm>
            <a:off x="3652920" y="3954600"/>
            <a:ext cx="4680" cy="191268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2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31"/>
          <p:cNvSpPr/>
          <p:nvPr/>
        </p:nvSpPr>
        <p:spPr>
          <a:xfrm flipH="1">
            <a:off x="1676520" y="3886200"/>
            <a:ext cx="195552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2"/>
          <p:cNvSpPr/>
          <p:nvPr/>
        </p:nvSpPr>
        <p:spPr>
          <a:xfrm>
            <a:off x="518292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3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4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5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6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37"/>
          <p:cNvSpPr/>
          <p:nvPr/>
        </p:nvSpPr>
        <p:spPr>
          <a:xfrm>
            <a:off x="1090440" y="3657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38"/>
          <p:cNvSpPr/>
          <p:nvPr/>
        </p:nvSpPr>
        <p:spPr>
          <a:xfrm>
            <a:off x="1090440" y="43434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39"/>
          <p:cNvSpPr/>
          <p:nvPr/>
        </p:nvSpPr>
        <p:spPr>
          <a:xfrm>
            <a:off x="4724280" y="350532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41"/>
          <p:cNvSpPr/>
          <p:nvPr/>
        </p:nvSpPr>
        <p:spPr>
          <a:xfrm flipH="1" flipV="1">
            <a:off x="1980720" y="3962160"/>
            <a:ext cx="1800" cy="53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Rounded Rectangle 23"/>
          <p:cNvGrpSpPr/>
          <p:nvPr/>
        </p:nvGrpSpPr>
        <p:grpSpPr>
          <a:xfrm>
            <a:off x="6516720" y="3456000"/>
            <a:ext cx="2262240" cy="2305080"/>
            <a:chOff x="6516720" y="3456000"/>
            <a:chExt cx="2262240" cy="2305080"/>
          </a:xfrm>
        </p:grpSpPr>
        <p:pic>
          <p:nvPicPr>
            <p:cNvPr id="1252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516720" y="3456000"/>
              <a:ext cx="22622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83400" y="3597120"/>
              <a:ext cx="1936800" cy="19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decreases, a shortage is created and price 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Line 29"/>
          <p:cNvSpPr/>
          <p:nvPr/>
        </p:nvSpPr>
        <p:spPr>
          <a:xfrm>
            <a:off x="2346480" y="459576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4D147EC-DF36-4BFF-A65B-520789DD4FC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eriod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sures quantities in a specific time period, e.g. a week / month / year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A71868B-10CA-4886-AFFF-8468A0EAF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145DE31-9243-4DB0-B653-53F3D6918E1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57"/>
          <p:cNvSpPr/>
          <p:nvPr/>
        </p:nvSpPr>
        <p:spPr>
          <a:xfrm>
            <a:off x="7391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8"/>
          <p:cNvSpPr/>
          <p:nvPr/>
        </p:nvSpPr>
        <p:spPr>
          <a:xfrm>
            <a:off x="73915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59"/>
          <p:cNvSpPr/>
          <p:nvPr/>
        </p:nvSpPr>
        <p:spPr>
          <a:xfrm>
            <a:off x="73915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60"/>
          <p:cNvSpPr/>
          <p:nvPr/>
        </p:nvSpPr>
        <p:spPr>
          <a:xfrm>
            <a:off x="7391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61"/>
          <p:cNvSpPr/>
          <p:nvPr/>
        </p:nvSpPr>
        <p:spPr>
          <a:xfrm>
            <a:off x="73915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62"/>
          <p:cNvSpPr/>
          <p:nvPr/>
        </p:nvSpPr>
        <p:spPr>
          <a:xfrm>
            <a:off x="73915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63"/>
          <p:cNvSpPr/>
          <p:nvPr/>
        </p:nvSpPr>
        <p:spPr>
          <a:xfrm>
            <a:off x="73915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12"/>
          <p:cNvSpPr/>
          <p:nvPr/>
        </p:nvSpPr>
        <p:spPr>
          <a:xfrm>
            <a:off x="31240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3"/>
          <p:cNvSpPr/>
          <p:nvPr/>
        </p:nvSpPr>
        <p:spPr>
          <a:xfrm>
            <a:off x="525780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4"/>
          <p:cNvSpPr/>
          <p:nvPr/>
        </p:nvSpPr>
        <p:spPr>
          <a:xfrm>
            <a:off x="10666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5"/>
          <p:cNvSpPr/>
          <p:nvPr/>
        </p:nvSpPr>
        <p:spPr>
          <a:xfrm>
            <a:off x="735336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6"/>
          <p:cNvSpPr/>
          <p:nvPr/>
        </p:nvSpPr>
        <p:spPr>
          <a:xfrm>
            <a:off x="1066680" y="235908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7"/>
          <p:cNvSpPr/>
          <p:nvPr/>
        </p:nvSpPr>
        <p:spPr>
          <a:xfrm>
            <a:off x="312408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7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9CD67AA-CDC9-4DAE-9523-DAF5019CBC8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pSp>
        <p:nvGrpSpPr>
          <p:cNvPr id="1293" name="Group 35"/>
          <p:cNvGrpSpPr/>
          <p:nvPr/>
        </p:nvGrpSpPr>
        <p:grpSpPr>
          <a:xfrm>
            <a:off x="7391520" y="1358280"/>
            <a:ext cx="1752480" cy="475560"/>
            <a:chOff x="7391520" y="1358280"/>
            <a:chExt cx="1752480" cy="475560"/>
          </a:xfrm>
        </p:grpSpPr>
        <p:sp>
          <p:nvSpPr>
            <p:cNvPr id="1294" name="TextBox 7"/>
            <p:cNvSpPr/>
            <p:nvPr/>
          </p:nvSpPr>
          <p:spPr>
            <a:xfrm>
              <a:off x="7391520" y="1434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5" name="Straight Arrow Connector 8"/>
            <p:cNvCxnSpPr/>
            <p:nvPr/>
          </p:nvCxnSpPr>
          <p:spPr>
            <a:xfrm flipH="1">
              <a:off x="7724880" y="143460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6" name="Straight Arrow Connector 9"/>
            <p:cNvCxnSpPr/>
            <p:nvPr/>
          </p:nvCxnSpPr>
          <p:spPr>
            <a:xfrm flipV="1">
              <a:off x="8228880" y="135828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7" name="Straight Arrow Connector 10"/>
            <p:cNvCxnSpPr/>
            <p:nvPr/>
          </p:nvCxnSpPr>
          <p:spPr>
            <a:xfrm flipH="1">
              <a:off x="8762040" y="1434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98" name="Group 41"/>
          <p:cNvGrpSpPr/>
          <p:nvPr/>
        </p:nvGrpSpPr>
        <p:grpSpPr>
          <a:xfrm>
            <a:off x="6718320" y="1905840"/>
            <a:ext cx="1752480" cy="403920"/>
            <a:chOff x="6718320" y="1905840"/>
            <a:chExt cx="1752480" cy="403920"/>
          </a:xfrm>
        </p:grpSpPr>
        <p:sp>
          <p:nvSpPr>
            <p:cNvPr id="1299" name="TextBox 15"/>
            <p:cNvSpPr/>
            <p:nvPr/>
          </p:nvSpPr>
          <p:spPr>
            <a:xfrm>
              <a:off x="6718320" y="1910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0" name="Straight Arrow Connector 16"/>
            <p:cNvCxnSpPr/>
            <p:nvPr/>
          </p:nvCxnSpPr>
          <p:spPr>
            <a:xfrm flipV="1">
              <a:off x="7040160" y="1905840"/>
              <a:ext cx="2160" cy="363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1" name="Straight Arrow Connector 17"/>
            <p:cNvCxnSpPr/>
            <p:nvPr/>
          </p:nvCxnSpPr>
          <p:spPr>
            <a:xfrm>
              <a:off x="7555680" y="1929600"/>
              <a:ext cx="1440" cy="324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2" name="Straight Arrow Connector 18"/>
            <p:cNvCxnSpPr/>
            <p:nvPr/>
          </p:nvCxnSpPr>
          <p:spPr>
            <a:xfrm flipH="1" flipV="1">
              <a:off x="8089560" y="194868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3" name="Group 53"/>
          <p:cNvGrpSpPr/>
          <p:nvPr/>
        </p:nvGrpSpPr>
        <p:grpSpPr>
          <a:xfrm>
            <a:off x="6400800" y="2367720"/>
            <a:ext cx="1752480" cy="475560"/>
            <a:chOff x="6400800" y="2367720"/>
            <a:chExt cx="1752480" cy="475560"/>
          </a:xfrm>
        </p:grpSpPr>
        <p:sp>
          <p:nvSpPr>
            <p:cNvPr id="1304" name="TextBox 19"/>
            <p:cNvSpPr/>
            <p:nvPr/>
          </p:nvSpPr>
          <p:spPr>
            <a:xfrm>
              <a:off x="6400800" y="24444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5" name="Straight Arrow Connector 20"/>
            <p:cNvCxnSpPr/>
            <p:nvPr/>
          </p:nvCxnSpPr>
          <p:spPr>
            <a:xfrm flipH="1">
              <a:off x="6734160" y="244404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6" name="Straight Arrow Connector 21"/>
            <p:cNvCxnSpPr/>
            <p:nvPr/>
          </p:nvCxnSpPr>
          <p:spPr>
            <a:xfrm flipV="1">
              <a:off x="7238160" y="23677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7" name="Straight Arrow Connector 22"/>
            <p:cNvCxnSpPr/>
            <p:nvPr/>
          </p:nvCxnSpPr>
          <p:spPr>
            <a:xfrm flipH="1">
              <a:off x="7771320" y="244440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8" name="Group 52"/>
          <p:cNvGrpSpPr/>
          <p:nvPr/>
        </p:nvGrpSpPr>
        <p:grpSpPr>
          <a:xfrm>
            <a:off x="7162920" y="5707800"/>
            <a:ext cx="1752480" cy="475560"/>
            <a:chOff x="7162920" y="5707800"/>
            <a:chExt cx="1752480" cy="475560"/>
          </a:xfrm>
        </p:grpSpPr>
        <p:sp>
          <p:nvSpPr>
            <p:cNvPr id="1309" name="TextBox 31"/>
            <p:cNvSpPr/>
            <p:nvPr/>
          </p:nvSpPr>
          <p:spPr>
            <a:xfrm>
              <a:off x="7162920" y="5784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0" name="Straight Arrow Connector 32"/>
            <p:cNvCxnSpPr/>
            <p:nvPr/>
          </p:nvCxnSpPr>
          <p:spPr>
            <a:xfrm flipH="1">
              <a:off x="7496280" y="578412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1" name="Straight Arrow Connector 33"/>
            <p:cNvCxnSpPr/>
            <p:nvPr/>
          </p:nvCxnSpPr>
          <p:spPr>
            <a:xfrm flipV="1">
              <a:off x="8000280" y="570780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2" name="Straight Arrow Connector 34"/>
            <p:cNvCxnSpPr/>
            <p:nvPr/>
          </p:nvCxnSpPr>
          <p:spPr>
            <a:xfrm flipH="1">
              <a:off x="8533440" y="578448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3" name="Group 42"/>
          <p:cNvGrpSpPr/>
          <p:nvPr/>
        </p:nvGrpSpPr>
        <p:grpSpPr>
          <a:xfrm>
            <a:off x="2832120" y="3594240"/>
            <a:ext cx="1752480" cy="403200"/>
            <a:chOff x="2832120" y="3594240"/>
            <a:chExt cx="1752480" cy="403200"/>
          </a:xfrm>
        </p:grpSpPr>
        <p:sp>
          <p:nvSpPr>
            <p:cNvPr id="1314" name="TextBox 43"/>
            <p:cNvSpPr/>
            <p:nvPr/>
          </p:nvSpPr>
          <p:spPr>
            <a:xfrm>
              <a:off x="2832120" y="35985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5" name="Straight Arrow Connector 44"/>
            <p:cNvCxnSpPr/>
            <p:nvPr/>
          </p:nvCxnSpPr>
          <p:spPr>
            <a:xfrm flipV="1">
              <a:off x="3153960" y="359424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6" name="Straight Arrow Connector 45"/>
            <p:cNvCxnSpPr/>
            <p:nvPr/>
          </p:nvCxnSpPr>
          <p:spPr>
            <a:xfrm>
              <a:off x="3669480" y="361764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7" name="Straight Arrow Connector 46"/>
            <p:cNvCxnSpPr/>
            <p:nvPr/>
          </p:nvCxnSpPr>
          <p:spPr>
            <a:xfrm flipH="1" flipV="1">
              <a:off x="4203360" y="363636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8" name="Group 47"/>
          <p:cNvGrpSpPr/>
          <p:nvPr/>
        </p:nvGrpSpPr>
        <p:grpSpPr>
          <a:xfrm>
            <a:off x="6222960" y="4470480"/>
            <a:ext cx="1752480" cy="403200"/>
            <a:chOff x="6222960" y="4470480"/>
            <a:chExt cx="1752480" cy="403200"/>
          </a:xfrm>
        </p:grpSpPr>
        <p:sp>
          <p:nvSpPr>
            <p:cNvPr id="1319" name="TextBox 48"/>
            <p:cNvSpPr/>
            <p:nvPr/>
          </p:nvSpPr>
          <p:spPr>
            <a:xfrm>
              <a:off x="6222960" y="4474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0" name="Straight Arrow Connector 49"/>
            <p:cNvCxnSpPr/>
            <p:nvPr/>
          </p:nvCxnSpPr>
          <p:spPr>
            <a:xfrm flipV="1">
              <a:off x="6544800" y="447048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1" name="Straight Arrow Connector 50"/>
            <p:cNvCxnSpPr/>
            <p:nvPr/>
          </p:nvCxnSpPr>
          <p:spPr>
            <a:xfrm>
              <a:off x="7060320" y="449388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2" name="Straight Arrow Connector 51"/>
            <p:cNvCxnSpPr/>
            <p:nvPr/>
          </p:nvCxnSpPr>
          <p:spPr>
            <a:xfrm flipH="1" flipV="1">
              <a:off x="7594200" y="451260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323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1556DD2-7A4A-4DCA-9E88-E62F0F844A8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demand vs quantity demand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supply vs quantity suppli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term “market”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equilibrium price and quant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determinants of demand and suppl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effect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change in demand or a change in suppl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hy demand and supply determine price, not the reverse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08857BD-07BA-42ED-B5DB-0B67B5826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arious pr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ows relationship between quantity &amp;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is the most important determinan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teris paribus” – all else remains the sa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AEB72DA-F1EB-4197-B4E0-4CB844E9A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quantities demanded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a demand sched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DA911CF-5F16-4CEF-A1FE-D6CD1D0B2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143000" y="1676520"/>
          <a:ext cx="6934320" cy="4065480"/>
        </p:xfrm>
        <a:graphic>
          <a:graphicData uri="http://schemas.openxmlformats.org/drawingml/2006/table">
            <a:tbl>
              <a:tblPr/>
              <a:tblGrid>
                <a:gridCol w="2971800"/>
                <a:gridCol w="396252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1419F24-AF1C-4C10-A535-323C5E9CC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26Z</dcterms:modified>
  <cp:revision>173</cp:revision>
  <dc:subject/>
  <dc:title>Slide 1</dc:title>
</cp:coreProperties>
</file>