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C2F86-4AC5-403A-8766-480C0504E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2F8F8-8B60-4BB6-8F02-CFFE88C45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0C4D8A-7145-4A99-BA65-4ACE5763D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BC1F12-DFD2-41C8-A337-749F63FC8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61C799-BE61-4E8C-822C-8D38842E1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363EBB-7FA0-4BEB-864C-D3E07F5EE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BE4BEE-C12D-4E24-94D4-16D18A745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6D247E-9DB5-4457-B99D-6CB3691BA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2BB2DD-D6C2-446D-8046-764452A43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B13328-6B1E-4EA7-A352-CF761922F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28BBA7-AA0C-4824-A407-69483E520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6A3CF-FDF5-467B-9D7A-999BC2406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A0188-3EC7-468C-BBAA-8947DCED2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9C929-DD81-4D46-8CCC-8D681F2B6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D3F2C-106E-4641-BB2F-174B7F580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D92BB-C73E-485D-9578-F2764E42B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BBB89-FEF8-4F13-BB6F-2EC724131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74C02-EB7F-4B91-ADA6-933E4CA6E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82160-E752-4A55-BD66-683DB74B1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840B2-4897-4D63-BDA4-F94C6A016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3C367-6C0B-4509-ADC9-F42335B66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15625-092B-4CD9-A030-6B0DF88E4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35AB1-38C4-4F79-979B-76E193052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B6328-A13F-4E72-A4DD-852E991F6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589D8-5AD3-479A-9E55-5D115E825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B5C46-5646-4939-9B11-912AAC752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13BC11-3662-4DB6-9B13-DA9C2B327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0DFBEE-B7C1-4676-8FDE-980450926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108250-8DF9-4F05-B99C-6B43312A2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9A4CAD-372A-4DF1-83B3-754DB4DFE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C96DCA-BACC-48FB-BFC5-71936B958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A670A-0C40-4EE2-863B-B438268A1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E6C790-30DA-47FC-AD3D-83C15C1B3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393322-8585-4DF7-B301-AB3DE50DC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90738C-D8C1-42B7-998B-068CEF02B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CF4C86-C8A9-4BF6-A47F-067ED34FE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8084F2-1C75-49B6-9C2E-8FD2569C3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3B3C4B-E922-40FC-BD1A-25A3C5EEF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7E4835-AF62-42E1-8CED-A65BB6438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9F93AA-D16A-494E-963F-41865B6D5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93472C-DCD0-4BE3-BFA8-3C50D77C4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AE802C-A661-48D2-9866-89680969E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6D4F2-88E7-4B46-BC5B-5348C61B6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CDCA51-3F1A-4E9E-9E3E-45AD2AE4A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692FB5-84EB-449F-ADCD-682E8F1BF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E80E4C-EC89-40EE-BA3D-F3D5C14BA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E1ACB8-F2FE-4BA2-899E-79429B613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0548AE-CB86-44FC-A879-1068E1900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397E26-F6B3-4ED5-AD86-36934BFB0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1D60A5-1B5C-4BA1-8A32-1A77D3357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D0621B-6F49-40C3-87D1-A6DAE49F7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8EDBDF-39EA-4E00-9D29-10ED078BF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206325-F2CC-495F-82F3-3E701EA93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76E6B-CFAF-45B9-A047-4E16D01BB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E44AB0-6930-49F3-9E0E-67505804B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86643D-A84F-4391-B951-D19958564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633F92-FCFA-40C7-B8C9-128F7F6E8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42CFED-F032-44BB-BAA9-6935ADAEA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18652A-5AB7-417C-A80D-B38EDD8EB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8E6819-33F6-4EF6-B37F-A87724A18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469E95-2837-4D97-8C71-4EA602B5E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79DE22-B366-4B64-95FE-0CDF2748B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46977C-B583-495E-91A1-B0E51F468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06A7B1-1AA9-4FD5-B51D-74F66C0BB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9DBA6-F4DC-446F-8FBC-C23348588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96F461-92CF-4282-B065-562B20644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F440A4-9D29-4E47-99F7-C52297193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E87D8A-48E2-400A-A8E2-90ECA03C3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62CFD4-B749-4E97-B528-6275A19C8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3E549B-6167-487A-BB2D-9BA7B405D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F5E658-5C96-4CC6-8756-1E4C60897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7A71BE-D797-484F-A241-7D56D9BC7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AB985C-CCC1-4B2D-B8B1-E9B6731CD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1F2191-D478-4BFE-B5EF-358EB8F97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FBB225-2F8D-4BE0-BDBD-35FE87DFA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A6EBB-D1A8-464F-B44D-9A2978E0C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168B55-B868-49B7-A2A8-A2FEAF15E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FA4E42-3E5A-4B9D-94B0-690B37C58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AE09D3-4F4C-4A8D-AB7A-56F394FAD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1A4AF0-C1B9-483E-BB4F-2AECC1F92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51C819-7E71-40C9-A2DC-0BA5DE6DF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12D724-F022-46FF-9A23-9A6A1F90B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7038DF-A3C2-4F11-807F-731F63E5A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68492D-803D-4AF2-84D0-61C394816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232DC3-0F16-4D18-9915-803AE4521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8CA665-7A2E-4387-88C4-39E56C435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68264-D6C3-4251-81E2-2B8D42166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9CD608-6602-40C7-AE5B-DD24B9756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74805C-C67D-443B-9CB3-A06F0285F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F3778B-FC5C-4A84-9CC8-FF3EA870D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9D31A4-755C-4147-943A-3548FBD32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240129-A14B-4777-9513-C6D594796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A3406D-EAE7-4068-92AA-E89630576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41F80F-16DB-4FCD-A86D-FFACEF1DB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1B5CCA-5B4C-4A26-8FCA-B51CA878B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D68EC5-3253-43F0-8168-AB02B86DC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231809-C5DB-45D7-86CF-07A61CB6F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40B9B-73AC-4EF2-96B1-018A44A62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66F415-AE89-42D3-BF13-CF61960C0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59C1B4-C434-4E38-89D7-9F44BA9D7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2C1213-850C-4253-AF91-84D454776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3E27F2-8B14-42EB-A01E-390F05E3A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059292-D8FF-4270-95C1-C18DCE354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A329FA-ED88-40EE-9FF2-59C16964E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540E95-F881-49D1-90C4-AB7C65609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ECAB23-376B-497D-BA00-99906BF3F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2A05E9-24DA-4815-81CD-3B8BB13B4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9EFCA4-DDAB-44B8-8988-978040212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604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(#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Users\aholowinsky\Documents\McGrawHill\Sayre_MICRO_0070385467_72dpi.jpg"/>
          <p:cNvPicPr/>
          <p:nvPr/>
        </p:nvPicPr>
        <p:blipFill>
          <a:blip r:embed="rId2"/>
          <a:srcRect l="329" t="8890" r="0" b="76669"/>
          <a:stretch/>
        </p:blipFill>
        <p:spPr>
          <a:xfrm>
            <a:off x="3048120" y="838080"/>
            <a:ext cx="4038480" cy="69552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C:\Users\aholowinsky\Documents\McGrawHill\Sayre_MICRO_0070385467_72dpi.jpg"/>
          <p:cNvPicPr/>
          <p:nvPr/>
        </p:nvPicPr>
        <p:blipFill>
          <a:blip r:embed="rId3"/>
          <a:srcRect l="329" t="32673" r="0" b="12287"/>
          <a:stretch/>
        </p:blipFill>
        <p:spPr>
          <a:xfrm>
            <a:off x="0" y="533520"/>
            <a:ext cx="2590920" cy="1682640"/>
          </a:xfrm>
          <a:prstGeom prst="rect">
            <a:avLst/>
          </a:prstGeom>
          <a:ln w="0">
            <a:noFill/>
          </a:ln>
        </p:spPr>
      </p:pic>
      <p:sp>
        <p:nvSpPr>
          <p:cNvPr id="43" name="Straight Connector 9"/>
          <p:cNvSpPr/>
          <p:nvPr/>
        </p:nvSpPr>
        <p:spPr>
          <a:xfrm>
            <a:off x="0" y="539640"/>
            <a:ext cx="9144000" cy="0"/>
          </a:xfrm>
          <a:prstGeom prst="line">
            <a:avLst/>
          </a:prstGeom>
          <a:ln w="25560">
            <a:solidFill>
              <a:srgbClr val="fa4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Straight Connector 10"/>
          <p:cNvSpPr/>
          <p:nvPr/>
        </p:nvSpPr>
        <p:spPr>
          <a:xfrm>
            <a:off x="0" y="2209680"/>
            <a:ext cx="9144000" cy="6480"/>
          </a:xfrm>
          <a:prstGeom prst="line">
            <a:avLst/>
          </a:prstGeom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Box 11"/>
          <p:cNvSpPr/>
          <p:nvPr/>
        </p:nvSpPr>
        <p:spPr>
          <a:xfrm>
            <a:off x="5562720" y="1828800"/>
            <a:ext cx="29318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7933c"/>
                </a:solidFill>
                <a:latin typeface="Kalinga"/>
                <a:ea typeface="Kalinga"/>
              </a:rPr>
              <a:t>SAYRE  |  MORRIS      </a:t>
            </a:r>
            <a:r>
              <a:rPr b="1" lang="en-US" sz="1100" spc="-1" strike="noStrike">
                <a:solidFill>
                  <a:srgbClr val="fa4160"/>
                </a:solidFill>
                <a:latin typeface="Kalinga"/>
                <a:ea typeface="Kalinga"/>
              </a:rPr>
              <a:t>Seventh Edition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584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C:\Users\aholowinsky\Documents\McGrawHill\Sayre_MICRO_0070385467_72dpi.jpg"/>
          <p:cNvPicPr/>
          <p:nvPr/>
        </p:nvPicPr>
        <p:blipFill>
          <a:blip r:embed="rId2"/>
          <a:srcRect l="329" t="32673" r="0" b="12287"/>
          <a:stretch/>
        </p:blipFill>
        <p:spPr>
          <a:xfrm>
            <a:off x="0" y="533520"/>
            <a:ext cx="2590920" cy="1682640"/>
          </a:xfrm>
          <a:prstGeom prst="rect">
            <a:avLst/>
          </a:prstGeom>
          <a:ln w="0">
            <a:noFill/>
          </a:ln>
        </p:spPr>
      </p:pic>
      <p:sp>
        <p:nvSpPr>
          <p:cNvPr id="88" name="Straight Connector 6"/>
          <p:cNvSpPr/>
          <p:nvPr/>
        </p:nvSpPr>
        <p:spPr>
          <a:xfrm>
            <a:off x="0" y="539640"/>
            <a:ext cx="9144000" cy="0"/>
          </a:xfrm>
          <a:prstGeom prst="line">
            <a:avLst/>
          </a:prstGeom>
          <a:ln w="25560">
            <a:solidFill>
              <a:srgbClr val="fa4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Straight Connector 7"/>
          <p:cNvSpPr/>
          <p:nvPr/>
        </p:nvSpPr>
        <p:spPr>
          <a:xfrm>
            <a:off x="0" y="2209680"/>
            <a:ext cx="9144000" cy="6480"/>
          </a:xfrm>
          <a:prstGeom prst="line">
            <a:avLst/>
          </a:prstGeom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457200" y="6356520"/>
            <a:ext cx="2690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216128FE-8C80-4EA3-BC10-7ED3F74253C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C:\Users\aholowinsky\Documents\McGrawHill\Sayre_MICRO_0070385467_72dpi.jpg"/>
          <p:cNvPicPr/>
          <p:nvPr/>
        </p:nvPicPr>
        <p:blipFill>
          <a:blip r:embed="rId2"/>
          <a:srcRect l="329" t="32673" r="0" b="12287"/>
          <a:stretch/>
        </p:blipFill>
        <p:spPr>
          <a:xfrm>
            <a:off x="0" y="1987560"/>
            <a:ext cx="3859200" cy="2595600"/>
          </a:xfrm>
          <a:prstGeom prst="rect">
            <a:avLst/>
          </a:prstGeom>
          <a:ln w="0">
            <a:noFill/>
          </a:ln>
        </p:spPr>
      </p:pic>
      <p:sp>
        <p:nvSpPr>
          <p:cNvPr id="132" name="Straight Connector 9"/>
          <p:cNvSpPr/>
          <p:nvPr/>
        </p:nvSpPr>
        <p:spPr>
          <a:xfrm>
            <a:off x="0" y="1986120"/>
            <a:ext cx="9144000" cy="0"/>
          </a:xfrm>
          <a:prstGeom prst="line">
            <a:avLst/>
          </a:prstGeom>
          <a:ln w="25560">
            <a:solidFill>
              <a:srgbClr val="fa4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Straight Connector 10"/>
          <p:cNvSpPr/>
          <p:nvPr/>
        </p:nvSpPr>
        <p:spPr>
          <a:xfrm>
            <a:off x="0" y="4591080"/>
            <a:ext cx="9144000" cy="7920"/>
          </a:xfrm>
          <a:prstGeom prst="line">
            <a:avLst/>
          </a:prstGeom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457200" y="6356520"/>
            <a:ext cx="2604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D74A1FD6-E3B6-4F6B-AD03-BC94872DFAD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dt" idx="13"/>
          </p:nvPr>
        </p:nvSpPr>
        <p:spPr>
          <a:xfrm>
            <a:off x="457200" y="6356520"/>
            <a:ext cx="2604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 </a:t>
            </a:r>
            <a:fld id="{04B66AB2-A9EC-4CEE-9F6E-0055AA62A69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dt" idx="16"/>
          </p:nvPr>
        </p:nvSpPr>
        <p:spPr>
          <a:xfrm>
            <a:off x="457200" y="6356520"/>
            <a:ext cx="2604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 </a:t>
            </a:r>
            <a:fld id="{67388C8B-6522-4197-B8F1-EA1613AFBD2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 type="dt" idx="19"/>
          </p:nvPr>
        </p:nvSpPr>
        <p:spPr>
          <a:xfrm>
            <a:off x="457200" y="6356520"/>
            <a:ext cx="2604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 </a:t>
            </a:r>
            <a:fld id="{AA187839-7658-415E-98F7-DC2E80B4294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 type="dt" idx="22"/>
          </p:nvPr>
        </p:nvSpPr>
        <p:spPr>
          <a:xfrm>
            <a:off x="457200" y="6356520"/>
            <a:ext cx="2604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 </a:t>
            </a:r>
            <a:fld id="{7AC5F136-A0BC-47F5-AA25-7A2492EE449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 type="dt" idx="25"/>
          </p:nvPr>
        </p:nvSpPr>
        <p:spPr>
          <a:xfrm>
            <a:off x="457200" y="6356520"/>
            <a:ext cx="2604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 </a:t>
            </a:r>
            <a:fld id="{AA101C28-35C1-49CD-9BF3-6E69E9DB2A0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4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4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65280" y="3423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77933c"/>
                </a:solidFill>
                <a:latin typeface="Kalinga"/>
                <a:ea typeface="Kalinga"/>
              </a:rPr>
              <a:t>Demand and Supply: </a:t>
            </a:r>
            <a:br>
              <a:rPr sz="4800"/>
            </a:br>
            <a:r>
              <a:rPr b="0" lang="en-US" sz="4800" spc="-1" strike="noStrike">
                <a:solidFill>
                  <a:srgbClr val="77933c"/>
                </a:solidFill>
                <a:latin typeface="Kalinga"/>
                <a:ea typeface="Kalinga"/>
              </a:rPr>
              <a:t>an Elaboration </a:t>
            </a:r>
            <a:endParaRPr b="0" lang="en-US" sz="48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1371600" y="297648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6a6a6"/>
                </a:solidFill>
                <a:latin typeface="Kalinga"/>
                <a:ea typeface="Kalinga"/>
              </a:rPr>
              <a:t>CHAPTER 3</a:t>
            </a:r>
            <a:endParaRPr b="0" lang="en-US" sz="20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8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3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Price Ceiling  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212400" y="1722600"/>
            <a:ext cx="8474040" cy="440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Used when present market price for a particular product is considered too high for many buyers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product is felt to be a necessity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xample: rent control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3-</a:t>
            </a:r>
            <a:fld id="{6967CF21-8B3C-4B32-BA94-0A48174982E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TextBox 5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AutoShape 2"/>
          <p:cNvSpPr/>
          <p:nvPr/>
        </p:nvSpPr>
        <p:spPr>
          <a:xfrm>
            <a:off x="63360" y="-136440"/>
            <a:ext cx="15621120" cy="60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AutoShape 4"/>
          <p:cNvSpPr/>
          <p:nvPr/>
        </p:nvSpPr>
        <p:spPr>
          <a:xfrm>
            <a:off x="63360" y="-136440"/>
            <a:ext cx="15621120" cy="60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AutoShape 6"/>
          <p:cNvSpPr/>
          <p:nvPr/>
        </p:nvSpPr>
        <p:spPr>
          <a:xfrm>
            <a:off x="63360" y="-136440"/>
            <a:ext cx="15154560" cy="71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AutoShape 8"/>
          <p:cNvSpPr/>
          <p:nvPr/>
        </p:nvSpPr>
        <p:spPr>
          <a:xfrm>
            <a:off x="63360" y="-136440"/>
            <a:ext cx="15154560" cy="71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Price Ceiling  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212400" y="1339560"/>
            <a:ext cx="847404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rice ceilings cause shortages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3-</a:t>
            </a:r>
            <a:fld id="{EF810141-89D4-4388-861B-C4BE1EFC9D1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TextBox 5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AutoShape 2"/>
          <p:cNvSpPr/>
          <p:nvPr/>
        </p:nvSpPr>
        <p:spPr>
          <a:xfrm>
            <a:off x="63360" y="-136440"/>
            <a:ext cx="15621120" cy="60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AutoShape 4"/>
          <p:cNvSpPr/>
          <p:nvPr/>
        </p:nvSpPr>
        <p:spPr>
          <a:xfrm>
            <a:off x="63360" y="-136440"/>
            <a:ext cx="15621120" cy="60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AutoShape 6"/>
          <p:cNvSpPr/>
          <p:nvPr/>
        </p:nvSpPr>
        <p:spPr>
          <a:xfrm>
            <a:off x="63360" y="-136440"/>
            <a:ext cx="15154560" cy="71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AutoShape 8"/>
          <p:cNvSpPr/>
          <p:nvPr/>
        </p:nvSpPr>
        <p:spPr>
          <a:xfrm>
            <a:off x="63360" y="-136440"/>
            <a:ext cx="15154560" cy="71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AutoShape 2"/>
          <p:cNvSpPr/>
          <p:nvPr/>
        </p:nvSpPr>
        <p:spPr>
          <a:xfrm>
            <a:off x="63360" y="-136440"/>
            <a:ext cx="15011640" cy="71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6" name="Picture 11" descr="Fig3_6.bmp"/>
          <p:cNvPicPr/>
          <p:nvPr/>
        </p:nvPicPr>
        <p:blipFill>
          <a:blip r:embed="rId1"/>
          <a:stretch/>
        </p:blipFill>
        <p:spPr>
          <a:xfrm>
            <a:off x="0" y="2003400"/>
            <a:ext cx="9144000" cy="43401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Allocating Shortages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68" name=""/>
          <p:cNvSpPr txBox="1"/>
          <p:nvPr/>
        </p:nvSpPr>
        <p:spPr>
          <a:xfrm>
            <a:off x="212400" y="1722600"/>
            <a:ext cx="8474040" cy="440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market (supply and demand) 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irst come, first served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roducers’ preferences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ationing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3-</a:t>
            </a:r>
            <a:fld id="{89942D3A-FACF-4A49-B415-8078A8143A9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Box 5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AutoShape 2"/>
          <p:cNvSpPr/>
          <p:nvPr/>
        </p:nvSpPr>
        <p:spPr>
          <a:xfrm>
            <a:off x="63360" y="-136440"/>
            <a:ext cx="15621120" cy="60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AutoShape 4"/>
          <p:cNvSpPr/>
          <p:nvPr/>
        </p:nvSpPr>
        <p:spPr>
          <a:xfrm>
            <a:off x="63360" y="-136440"/>
            <a:ext cx="15621120" cy="60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AutoShape 6"/>
          <p:cNvSpPr/>
          <p:nvPr/>
        </p:nvSpPr>
        <p:spPr>
          <a:xfrm>
            <a:off x="63360" y="-136440"/>
            <a:ext cx="15154560" cy="71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AutoShape 8"/>
          <p:cNvSpPr/>
          <p:nvPr/>
        </p:nvSpPr>
        <p:spPr>
          <a:xfrm>
            <a:off x="63360" y="-136440"/>
            <a:ext cx="15154560" cy="71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"/>
          <p:cNvSpPr txBox="1"/>
          <p:nvPr/>
        </p:nvSpPr>
        <p:spPr>
          <a:xfrm>
            <a:off x="457200" y="1253880"/>
            <a:ext cx="8229600" cy="48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Kalinga"/>
              </a:rPr>
              <a:t>a)</a:t>
            </a:r>
            <a:r>
              <a:rPr b="1" lang="en-US" sz="2400" spc="-1" strike="noStrike">
                <a:solidFill>
                  <a:srgbClr val="262626"/>
                </a:solidFill>
                <a:latin typeface="Kalinga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Kalinga"/>
              </a:rPr>
              <a:t>Suppose the government introduces a price ceiling that is 20 cents different from the present equilibrium price. Would the result be a surplus or a shortage? Of what quantity?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Kalinga"/>
            </a:endParaRPr>
          </a:p>
          <a:p>
            <a:pPr marL="343080" indent="-343080">
              <a:spcBef>
                <a:spcPts val="601"/>
              </a:spcBef>
              <a:buClr>
                <a:srgbClr val="262626"/>
              </a:buClr>
              <a:buFont typeface="Kalinga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Kalinga"/>
              </a:rPr>
              <a:t>If an illegal market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Kalinga"/>
              </a:rPr>
              <a:t>were to develop, 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Kalinga"/>
              </a:rPr>
              <a:t>what would be 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Kalinga"/>
              </a:rPr>
              <a:t>the maximum 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Kalinga"/>
              </a:rPr>
              <a:t>illegal market 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Kalinga"/>
              </a:rPr>
              <a:t>price? </a:t>
            </a:r>
            <a:endParaRPr b="0" lang="en-US" sz="2400" spc="-1" strike="noStrike">
              <a:solidFill>
                <a:srgbClr val="000000"/>
              </a:solidFill>
              <a:latin typeface="Kaling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Kaling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d050"/>
                </a:solidFill>
                <a:latin typeface="Kalinga"/>
              </a:rPr>
              <a:t>Self-Test  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78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3-</a:t>
            </a:r>
            <a:fld id="{63D857B6-62CF-4038-A07D-239EF65C9E6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Footer Placeholder 1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TextBox 13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1" name="Picture 7" descr="SelfTest_milkGraph.bmp"/>
          <p:cNvPicPr/>
          <p:nvPr/>
        </p:nvPicPr>
        <p:blipFill>
          <a:blip r:embed="rId1"/>
          <a:stretch/>
        </p:blipFill>
        <p:spPr>
          <a:xfrm>
            <a:off x="3774960" y="2544840"/>
            <a:ext cx="4869000" cy="3674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"/>
          <p:cNvSpPr txBox="1"/>
          <p:nvPr/>
        </p:nvSpPr>
        <p:spPr>
          <a:xfrm>
            <a:off x="457200" y="1253880"/>
            <a:ext cx="8229600" cy="48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262626"/>
              </a:buClr>
              <a:buFont typeface="Kaling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Kalinga"/>
              </a:rPr>
              <a:t>Suppose the government introduces a price ceiling that is 20 cents different from the present equilibrium price. Would the result be a surplus or a shortage? Of what quantity?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Kaling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Kalinga"/>
            </a:endParaRPr>
          </a:p>
          <a:p>
            <a:pPr marL="457200" indent="-457200">
              <a:spcBef>
                <a:spcPts val="601"/>
              </a:spcBef>
              <a:buClr>
                <a:srgbClr val="262626"/>
              </a:buClr>
              <a:buFont typeface="Kaling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Kalinga"/>
            </a:endParaRPr>
          </a:p>
          <a:p>
            <a:pPr marL="457200" indent="-457200">
              <a:spcBef>
                <a:spcPts val="601"/>
              </a:spcBef>
              <a:buClr>
                <a:srgbClr val="262626"/>
              </a:buClr>
              <a:buFont typeface="Kalinga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Kalinga"/>
              </a:rPr>
              <a:t>If an illegal market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Kalinga"/>
              </a:rPr>
              <a:t>were to develop, 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Kalinga"/>
              </a:rPr>
              <a:t>what would be 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Kalinga"/>
              </a:rPr>
              <a:t>the maximum 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Kalinga"/>
              </a:rPr>
              <a:t>illegal market 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Kalinga"/>
              </a:rPr>
              <a:t>price? </a:t>
            </a:r>
            <a:endParaRPr b="0" lang="en-US" sz="2400" spc="-1" strike="noStrike">
              <a:solidFill>
                <a:srgbClr val="000000"/>
              </a:solidFill>
              <a:latin typeface="Kalinga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Kalinga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d050"/>
                </a:solidFill>
                <a:latin typeface="Kalinga"/>
              </a:rPr>
              <a:t>Self-Test  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84" name="Text Box 51"/>
          <p:cNvSpPr/>
          <p:nvPr/>
        </p:nvSpPr>
        <p:spPr>
          <a:xfrm>
            <a:off x="932040" y="2725560"/>
            <a:ext cx="2895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Kalinga"/>
              </a:rPr>
              <a:t>Price = 0.90; </a:t>
            </a:r>
            <a:br>
              <a:rPr sz="2400"/>
            </a:br>
            <a:r>
              <a:rPr b="0" lang="en-GB" sz="2400" spc="-1" strike="noStrike">
                <a:solidFill>
                  <a:srgbClr val="ff0000"/>
                </a:solidFill>
                <a:latin typeface="Kalinga"/>
              </a:rPr>
              <a:t>Shortage of 1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3-</a:t>
            </a:r>
            <a:fld id="{FB6A327C-61C8-4828-9F5B-8F342EFDE6B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Footer Placeholder 1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Box 13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8" name="Picture 7" descr="SelfTest_milkGraph.bmp"/>
          <p:cNvPicPr/>
          <p:nvPr/>
        </p:nvPicPr>
        <p:blipFill>
          <a:blip r:embed="rId1"/>
          <a:stretch/>
        </p:blipFill>
        <p:spPr>
          <a:xfrm>
            <a:off x="3774960" y="2544840"/>
            <a:ext cx="4869000" cy="3674880"/>
          </a:xfrm>
          <a:prstGeom prst="rect">
            <a:avLst/>
          </a:prstGeom>
          <a:ln w="0">
            <a:noFill/>
          </a:ln>
        </p:spPr>
      </p:pic>
      <p:sp>
        <p:nvSpPr>
          <p:cNvPr id="489" name="Straight Connector 12"/>
          <p:cNvSpPr/>
          <p:nvPr/>
        </p:nvSpPr>
        <p:spPr>
          <a:xfrm>
            <a:off x="4295880" y="4827600"/>
            <a:ext cx="3944880" cy="0"/>
          </a:xfrm>
          <a:prstGeom prst="line">
            <a:avLst/>
          </a:prstGeom>
          <a:ln w="47520">
            <a:solidFill>
              <a:srgbClr val="40404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Text Box 51"/>
          <p:cNvSpPr/>
          <p:nvPr/>
        </p:nvSpPr>
        <p:spPr>
          <a:xfrm>
            <a:off x="2052720" y="5408640"/>
            <a:ext cx="11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Kalinga"/>
              </a:rPr>
              <a:t>$1.2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Straight Connector 15"/>
          <p:cNvSpPr/>
          <p:nvPr/>
        </p:nvSpPr>
        <p:spPr>
          <a:xfrm flipH="1" flipV="1">
            <a:off x="6113520" y="3498840"/>
            <a:ext cx="14400" cy="2246400"/>
          </a:xfrm>
          <a:prstGeom prst="line">
            <a:avLst/>
          </a:prstGeom>
          <a:ln w="47520">
            <a:solidFill>
              <a:srgbClr val="40404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Left-Right Arrow 19"/>
          <p:cNvSpPr/>
          <p:nvPr/>
        </p:nvSpPr>
        <p:spPr>
          <a:xfrm>
            <a:off x="6156360" y="4943520"/>
            <a:ext cx="1774800" cy="372960"/>
          </a:xfrm>
          <a:prstGeom prst="leftRightArrow">
            <a:avLst>
              <a:gd name="adj1" fmla="val 50000"/>
              <a:gd name="adj2" fmla="val 4985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Price Floor   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212400" y="1722600"/>
            <a:ext cx="8474040" cy="440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Used when present market price for a particular product is considered too low for producers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Often used in agricultural markets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3-</a:t>
            </a:r>
            <a:fld id="{7489A614-6071-4E0F-B786-CFC486683E2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TextBox 5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AutoShape 2"/>
          <p:cNvSpPr/>
          <p:nvPr/>
        </p:nvSpPr>
        <p:spPr>
          <a:xfrm>
            <a:off x="63360" y="-136440"/>
            <a:ext cx="15621120" cy="60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AutoShape 4"/>
          <p:cNvSpPr/>
          <p:nvPr/>
        </p:nvSpPr>
        <p:spPr>
          <a:xfrm>
            <a:off x="63360" y="-136440"/>
            <a:ext cx="15621120" cy="60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AutoShape 6"/>
          <p:cNvSpPr/>
          <p:nvPr/>
        </p:nvSpPr>
        <p:spPr>
          <a:xfrm>
            <a:off x="63360" y="-136440"/>
            <a:ext cx="15154560" cy="71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AutoShape 8"/>
          <p:cNvSpPr/>
          <p:nvPr/>
        </p:nvSpPr>
        <p:spPr>
          <a:xfrm>
            <a:off x="63360" y="-136440"/>
            <a:ext cx="15154560" cy="71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Price Floor  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03" name=""/>
          <p:cNvSpPr txBox="1"/>
          <p:nvPr/>
        </p:nvSpPr>
        <p:spPr>
          <a:xfrm>
            <a:off x="212400" y="1339560"/>
            <a:ext cx="847404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rice floors cause surpluses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3-</a:t>
            </a:r>
            <a:fld id="{7E745D06-942B-4BB3-BF2C-572BEBB1D52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TextBox 5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AutoShape 2"/>
          <p:cNvSpPr/>
          <p:nvPr/>
        </p:nvSpPr>
        <p:spPr>
          <a:xfrm>
            <a:off x="63360" y="-136440"/>
            <a:ext cx="15621120" cy="60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AutoShape 4"/>
          <p:cNvSpPr/>
          <p:nvPr/>
        </p:nvSpPr>
        <p:spPr>
          <a:xfrm>
            <a:off x="63360" y="-136440"/>
            <a:ext cx="15621120" cy="60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AutoShape 6"/>
          <p:cNvSpPr/>
          <p:nvPr/>
        </p:nvSpPr>
        <p:spPr>
          <a:xfrm>
            <a:off x="63360" y="-136440"/>
            <a:ext cx="15154560" cy="71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AutoShape 8"/>
          <p:cNvSpPr/>
          <p:nvPr/>
        </p:nvSpPr>
        <p:spPr>
          <a:xfrm>
            <a:off x="63360" y="-136440"/>
            <a:ext cx="15154560" cy="71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AutoShape 2"/>
          <p:cNvSpPr/>
          <p:nvPr/>
        </p:nvSpPr>
        <p:spPr>
          <a:xfrm>
            <a:off x="63360" y="-136440"/>
            <a:ext cx="15011640" cy="71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2" name="Picture 13" descr="Fig3_8.bmp"/>
          <p:cNvPicPr/>
          <p:nvPr/>
        </p:nvPicPr>
        <p:blipFill>
          <a:blip r:embed="rId1"/>
          <a:stretch/>
        </p:blipFill>
        <p:spPr>
          <a:xfrm>
            <a:off x="0" y="1951200"/>
            <a:ext cx="9144000" cy="4316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Price Floor  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212400" y="1339560"/>
            <a:ext cx="847404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inimum wage laws can cause unemployment 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3-</a:t>
            </a:r>
            <a:fld id="{6196F441-C27C-49AC-8607-474903B5879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Box 5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AutoShape 2"/>
          <p:cNvSpPr/>
          <p:nvPr/>
        </p:nvSpPr>
        <p:spPr>
          <a:xfrm>
            <a:off x="63360" y="-136440"/>
            <a:ext cx="15621120" cy="60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AutoShape 4"/>
          <p:cNvSpPr/>
          <p:nvPr/>
        </p:nvSpPr>
        <p:spPr>
          <a:xfrm>
            <a:off x="63360" y="-136440"/>
            <a:ext cx="15621120" cy="60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AutoShape 6"/>
          <p:cNvSpPr/>
          <p:nvPr/>
        </p:nvSpPr>
        <p:spPr>
          <a:xfrm>
            <a:off x="63360" y="-136440"/>
            <a:ext cx="15154560" cy="71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AutoShape 8"/>
          <p:cNvSpPr/>
          <p:nvPr/>
        </p:nvSpPr>
        <p:spPr>
          <a:xfrm>
            <a:off x="63360" y="-136440"/>
            <a:ext cx="15154560" cy="71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AutoShape 2"/>
          <p:cNvSpPr/>
          <p:nvPr/>
        </p:nvSpPr>
        <p:spPr>
          <a:xfrm>
            <a:off x="63360" y="-136440"/>
            <a:ext cx="15011640" cy="71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3" name="Picture 12" descr="Fig3_10.bmp"/>
          <p:cNvPicPr/>
          <p:nvPr/>
        </p:nvPicPr>
        <p:blipFill>
          <a:blip r:embed="rId1"/>
          <a:stretch/>
        </p:blipFill>
        <p:spPr>
          <a:xfrm>
            <a:off x="0" y="1959120"/>
            <a:ext cx="9144000" cy="4343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Dealing with Surpluses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212400" y="1722600"/>
            <a:ext cx="8474040" cy="440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tore it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onvert it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ell it abroad at a reduced price (dump)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onate it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estroy it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3-</a:t>
            </a:r>
            <a:fld id="{02886A18-A407-4D39-B7F8-AAF1EE85E2F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TextBox 5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AutoShape 2"/>
          <p:cNvSpPr/>
          <p:nvPr/>
        </p:nvSpPr>
        <p:spPr>
          <a:xfrm>
            <a:off x="63360" y="-136440"/>
            <a:ext cx="15621120" cy="60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AutoShape 4"/>
          <p:cNvSpPr/>
          <p:nvPr/>
        </p:nvSpPr>
        <p:spPr>
          <a:xfrm>
            <a:off x="63360" y="-136440"/>
            <a:ext cx="15621120" cy="60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AutoShape 6"/>
          <p:cNvSpPr/>
          <p:nvPr/>
        </p:nvSpPr>
        <p:spPr>
          <a:xfrm>
            <a:off x="63360" y="-136440"/>
            <a:ext cx="15154560" cy="71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AutoShape 8"/>
          <p:cNvSpPr/>
          <p:nvPr/>
        </p:nvSpPr>
        <p:spPr>
          <a:xfrm>
            <a:off x="63360" y="-136440"/>
            <a:ext cx="15154560" cy="71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Quota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34" name=""/>
          <p:cNvSpPr txBox="1"/>
          <p:nvPr/>
        </p:nvSpPr>
        <p:spPr>
          <a:xfrm>
            <a:off x="212400" y="1233000"/>
            <a:ext cx="8474040" cy="48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quota, or restricting output, can raise price without causing a surplus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3-</a:t>
            </a:r>
            <a:fld id="{DA4FF58F-C8C5-4B73-B22A-EE8D640F144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TextBox 5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AutoShape 2"/>
          <p:cNvSpPr/>
          <p:nvPr/>
        </p:nvSpPr>
        <p:spPr>
          <a:xfrm>
            <a:off x="63360" y="-136440"/>
            <a:ext cx="15621120" cy="60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AutoShape 4"/>
          <p:cNvSpPr/>
          <p:nvPr/>
        </p:nvSpPr>
        <p:spPr>
          <a:xfrm>
            <a:off x="63360" y="-136440"/>
            <a:ext cx="15621120" cy="60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AutoShape 6"/>
          <p:cNvSpPr/>
          <p:nvPr/>
        </p:nvSpPr>
        <p:spPr>
          <a:xfrm>
            <a:off x="63360" y="-136440"/>
            <a:ext cx="15154560" cy="71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AutoShape 8"/>
          <p:cNvSpPr/>
          <p:nvPr/>
        </p:nvSpPr>
        <p:spPr>
          <a:xfrm>
            <a:off x="63360" y="-136440"/>
            <a:ext cx="15154560" cy="71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AutoShape 2"/>
          <p:cNvSpPr/>
          <p:nvPr/>
        </p:nvSpPr>
        <p:spPr>
          <a:xfrm>
            <a:off x="63360" y="-136440"/>
            <a:ext cx="15011640" cy="71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3" name="Picture 12" descr="Fig3_9.bmp"/>
          <p:cNvPicPr/>
          <p:nvPr/>
        </p:nvPicPr>
        <p:blipFill>
          <a:blip r:embed="rId1"/>
          <a:stretch/>
        </p:blipFill>
        <p:spPr>
          <a:xfrm>
            <a:off x="0" y="2160720"/>
            <a:ext cx="9144000" cy="42814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2743200" y="11430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7933c"/>
                </a:solidFill>
                <a:latin typeface="Kalinga"/>
              </a:rPr>
              <a:t>Demand and Supply:</a:t>
            </a:r>
            <a:br>
              <a:rPr sz="2900"/>
            </a:br>
            <a:r>
              <a:rPr b="0" lang="en-US" sz="2900" spc="-1" strike="noStrike">
                <a:solidFill>
                  <a:srgbClr val="77933c"/>
                </a:solidFill>
                <a:latin typeface="Kalinga"/>
              </a:rPr>
              <a:t>an Elaboration </a:t>
            </a:r>
            <a:endParaRPr b="0" lang="en-US" sz="29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6840" y="2647440"/>
            <a:ext cx="8381880" cy="367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262626"/>
                </a:solidFill>
                <a:latin typeface="Times New Roman"/>
              </a:rPr>
              <a:t>Learning Objectives:</a:t>
            </a:r>
            <a:r>
              <a:rPr b="0" i="1" lang="en-US" sz="2800" spc="-1" strike="noStrike">
                <a:solidFill>
                  <a:srgbClr val="26262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5144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Kaling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26262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Times New Roman"/>
              </a:rPr>
              <a:t>Explain the effects on equilibrium price and quantity of simultaneous changes in supply and demand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26262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Times New Roman"/>
              </a:rPr>
              <a:t>Explain why markets do not always work well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26262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Times New Roman"/>
              </a:rPr>
              <a:t>Understand why price ceilings cause shortages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2819520" y="762120"/>
            <a:ext cx="3581280" cy="30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7f7f7f"/>
                </a:solidFill>
                <a:latin typeface="Kalinga"/>
              </a:rPr>
              <a:t>CHAPTER 3 </a:t>
            </a:r>
            <a:endParaRPr b="0" lang="en-US" sz="17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87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3-</a:t>
            </a:r>
            <a:fld id="{A513282F-D3DB-4660-B185-F4C4D4883FC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"/>
          <p:cNvSpPr txBox="1"/>
          <p:nvPr/>
        </p:nvSpPr>
        <p:spPr>
          <a:xfrm>
            <a:off x="457200" y="1254240"/>
            <a:ext cx="8229600" cy="506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Kalinga"/>
              </a:rPr>
              <a:t>a)</a:t>
            </a:r>
            <a:r>
              <a:rPr b="1" lang="en-US" sz="2400" spc="-1" strike="noStrike">
                <a:solidFill>
                  <a:srgbClr val="262626"/>
                </a:solidFill>
                <a:latin typeface="Kalinga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Kalinga"/>
              </a:rPr>
              <a:t>In equilibrium, what is the total revenue received by producers?</a:t>
            </a:r>
            <a:endParaRPr b="0" lang="en-US" sz="2400" spc="-1" strike="noStrike">
              <a:solidFill>
                <a:srgbClr val="000000"/>
              </a:solidFill>
              <a:latin typeface="Kaling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Kalinga"/>
              </a:rPr>
              <a:t>b)</a:t>
            </a:r>
            <a:r>
              <a:rPr b="1" lang="en-US" sz="2400" spc="-1" strike="noStrike">
                <a:solidFill>
                  <a:srgbClr val="262626"/>
                </a:solidFill>
                <a:latin typeface="Kalinga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Kalinga"/>
              </a:rPr>
              <a:t>Suppose that government imposes a price floor of $4 per kilo. What quantity 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Kalinga"/>
              </a:rPr>
              <a:t>will be demanded? 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Kalinga"/>
              </a:rPr>
              <a:t>What quantity will 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Kalinga"/>
              </a:rPr>
              <a:t>farmers produce? 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Kalinga"/>
              </a:rPr>
              <a:t>What quantity will 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Kalinga"/>
              </a:rPr>
              <a:t>government buy?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Kalinga"/>
            </a:endParaRPr>
          </a:p>
          <a:p>
            <a:pPr marL="343080" indent="-343080">
              <a:spcBef>
                <a:spcPts val="601"/>
              </a:spcBef>
              <a:buClr>
                <a:srgbClr val="262626"/>
              </a:buClr>
              <a:buFont typeface="Kalinga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Kalinga"/>
              </a:rPr>
              <a:t>How much will it 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Kalinga"/>
              </a:rPr>
              <a:t>cost to buy the 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Kalinga"/>
              </a:rPr>
              <a:t>surplus?</a:t>
            </a:r>
            <a:endParaRPr b="0" lang="en-US" sz="2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d050"/>
                </a:solidFill>
                <a:latin typeface="Kalinga"/>
              </a:rPr>
              <a:t>Self-Test  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46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3-</a:t>
            </a:r>
            <a:fld id="{C4044262-A510-4914-98FF-802E19FD2C1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Footer Placeholder 1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Box 13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AutoShape 2"/>
          <p:cNvSpPr/>
          <p:nvPr/>
        </p:nvSpPr>
        <p:spPr>
          <a:xfrm>
            <a:off x="63360" y="-136440"/>
            <a:ext cx="8277480" cy="71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0" name="Picture 16" descr="SelfTest_CornGraph.bmp"/>
          <p:cNvPicPr/>
          <p:nvPr/>
        </p:nvPicPr>
        <p:blipFill>
          <a:blip r:embed="rId1"/>
          <a:stretch/>
        </p:blipFill>
        <p:spPr>
          <a:xfrm>
            <a:off x="4241880" y="2508120"/>
            <a:ext cx="4363920" cy="3754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"/>
          <p:cNvSpPr txBox="1"/>
          <p:nvPr/>
        </p:nvSpPr>
        <p:spPr>
          <a:xfrm>
            <a:off x="457200" y="1254240"/>
            <a:ext cx="8229600" cy="506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Kalinga"/>
              </a:rPr>
              <a:t>a)</a:t>
            </a:r>
            <a:r>
              <a:rPr b="1" lang="en-US" sz="2400" spc="-1" strike="noStrike">
                <a:solidFill>
                  <a:srgbClr val="262626"/>
                </a:solidFill>
                <a:latin typeface="Kalinga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Kalinga"/>
              </a:rPr>
              <a:t>In equilibrium, what is the total revenue received by producers?</a:t>
            </a:r>
            <a:endParaRPr b="0" lang="en-US" sz="2400" spc="-1" strike="noStrike">
              <a:solidFill>
                <a:srgbClr val="000000"/>
              </a:solidFill>
              <a:latin typeface="Kaling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Kalinga"/>
              </a:rPr>
              <a:t>b)</a:t>
            </a:r>
            <a:r>
              <a:rPr b="1" lang="en-US" sz="2400" spc="-1" strike="noStrike">
                <a:solidFill>
                  <a:srgbClr val="262626"/>
                </a:solidFill>
                <a:latin typeface="Kalinga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Kalinga"/>
              </a:rPr>
              <a:t>Suppose that government imposes a price floor of $4 per kilo. What quantity 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Kalinga"/>
              </a:rPr>
              <a:t>will be demanded? 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Kalinga"/>
              </a:rPr>
              <a:t>What quantity will 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Kalinga"/>
              </a:rPr>
              <a:t>farmers produce? 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Kalinga"/>
              </a:rPr>
              <a:t>What quantity will 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Kalinga"/>
              </a:rPr>
              <a:t>government buy?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Kalinga"/>
            </a:endParaRPr>
          </a:p>
          <a:p>
            <a:pPr marL="343080" indent="-343080">
              <a:spcBef>
                <a:spcPts val="601"/>
              </a:spcBef>
              <a:buClr>
                <a:srgbClr val="262626"/>
              </a:buClr>
              <a:buFont typeface="Kalinga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Kalinga"/>
              </a:rPr>
              <a:t>How much will it 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Kalinga"/>
              </a:rPr>
              <a:t>cost to buy the 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Kalinga"/>
              </a:rPr>
              <a:t>surplus?</a:t>
            </a:r>
            <a:endParaRPr b="0" lang="en-US" sz="2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d050"/>
                </a:solidFill>
                <a:latin typeface="Kalinga"/>
              </a:rPr>
              <a:t>Self-Test  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53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3-</a:t>
            </a:r>
            <a:fld id="{BB71815D-9152-4AAB-83FD-8D6D87E8EFA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Footer Placeholder 1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Box 13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AutoShape 2"/>
          <p:cNvSpPr/>
          <p:nvPr/>
        </p:nvSpPr>
        <p:spPr>
          <a:xfrm>
            <a:off x="63360" y="-136440"/>
            <a:ext cx="8277480" cy="71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7" name="Picture 16" descr="SelfTest_CornGraph.bmp"/>
          <p:cNvPicPr/>
          <p:nvPr/>
        </p:nvPicPr>
        <p:blipFill>
          <a:blip r:embed="rId1"/>
          <a:stretch/>
        </p:blipFill>
        <p:spPr>
          <a:xfrm>
            <a:off x="4241880" y="2508120"/>
            <a:ext cx="4363920" cy="3754440"/>
          </a:xfrm>
          <a:prstGeom prst="rect">
            <a:avLst/>
          </a:prstGeom>
          <a:ln w="0">
            <a:noFill/>
          </a:ln>
        </p:spPr>
      </p:pic>
      <p:sp>
        <p:nvSpPr>
          <p:cNvPr id="558" name="Text Box 51"/>
          <p:cNvSpPr/>
          <p:nvPr/>
        </p:nvSpPr>
        <p:spPr>
          <a:xfrm>
            <a:off x="2760840" y="1609560"/>
            <a:ext cx="461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Kalinga"/>
              </a:rPr>
              <a:t>TR = Q x P = 5 x 3.50 = $17.5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Text Box 51"/>
          <p:cNvSpPr/>
          <p:nvPr/>
        </p:nvSpPr>
        <p:spPr>
          <a:xfrm>
            <a:off x="903240" y="4664160"/>
            <a:ext cx="31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Kalinga"/>
              </a:rPr>
              <a:t>Qd=4, Qs=6, buy 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Straight Connector 12"/>
          <p:cNvSpPr/>
          <p:nvPr/>
        </p:nvSpPr>
        <p:spPr>
          <a:xfrm>
            <a:off x="4730760" y="3274920"/>
            <a:ext cx="2849400" cy="0"/>
          </a:xfrm>
          <a:prstGeom prst="line">
            <a:avLst/>
          </a:prstGeom>
          <a:ln w="47520">
            <a:solidFill>
              <a:srgbClr val="40404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Text Box 51"/>
          <p:cNvSpPr/>
          <p:nvPr/>
        </p:nvSpPr>
        <p:spPr>
          <a:xfrm>
            <a:off x="2322360" y="5805360"/>
            <a:ext cx="180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Kalinga"/>
              </a:rPr>
              <a:t>2 x $4 = $8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Vertical Demand Curve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63" name=""/>
          <p:cNvSpPr txBox="1"/>
          <p:nvPr/>
        </p:nvSpPr>
        <p:spPr>
          <a:xfrm>
            <a:off x="212400" y="1722600"/>
            <a:ext cx="8474040" cy="440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 vertical demand curve suggests that price does not matter 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ame quantity is demanded no matter what the price 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ome goods seen as necessities (eg, insulin) may have a perfectly inelastic (vertical) range 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ventually, quantity demanded decreases as income is insufficient to pay for the good 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3-</a:t>
            </a:r>
            <a:fld id="{94622445-DD5B-4A62-B691-0D96D679BEC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Box 5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AutoShape 2"/>
          <p:cNvSpPr/>
          <p:nvPr/>
        </p:nvSpPr>
        <p:spPr>
          <a:xfrm>
            <a:off x="63360" y="-136440"/>
            <a:ext cx="15621120" cy="60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AutoShape 4"/>
          <p:cNvSpPr/>
          <p:nvPr/>
        </p:nvSpPr>
        <p:spPr>
          <a:xfrm>
            <a:off x="63360" y="-136440"/>
            <a:ext cx="15621120" cy="60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AutoShape 6"/>
          <p:cNvSpPr/>
          <p:nvPr/>
        </p:nvSpPr>
        <p:spPr>
          <a:xfrm>
            <a:off x="63360" y="-136440"/>
            <a:ext cx="15154560" cy="71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AutoShape 8"/>
          <p:cNvSpPr/>
          <p:nvPr/>
        </p:nvSpPr>
        <p:spPr>
          <a:xfrm>
            <a:off x="63360" y="-136440"/>
            <a:ext cx="15154560" cy="71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a8236"/>
                </a:solidFill>
                <a:latin typeface="Kalinga"/>
              </a:rPr>
              <a:t>Upward Sloping Demand Curve</a:t>
            </a:r>
            <a:endParaRPr b="0" lang="en-US" sz="40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72" name=""/>
          <p:cNvSpPr txBox="1"/>
          <p:nvPr/>
        </p:nvSpPr>
        <p:spPr>
          <a:xfrm>
            <a:off x="212400" y="1265400"/>
            <a:ext cx="8474040" cy="48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pward sloping demand curves may be true for some individuals over a limited range of prices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3-</a:t>
            </a:r>
            <a:fld id="{2BF3BBAD-1F75-4293-B1F9-B753A771A95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5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AutoShape 2"/>
          <p:cNvSpPr/>
          <p:nvPr/>
        </p:nvSpPr>
        <p:spPr>
          <a:xfrm>
            <a:off x="63360" y="-136440"/>
            <a:ext cx="15621120" cy="60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AutoShape 4"/>
          <p:cNvSpPr/>
          <p:nvPr/>
        </p:nvSpPr>
        <p:spPr>
          <a:xfrm>
            <a:off x="63360" y="-136440"/>
            <a:ext cx="15621120" cy="60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AutoShape 6"/>
          <p:cNvSpPr/>
          <p:nvPr/>
        </p:nvSpPr>
        <p:spPr>
          <a:xfrm>
            <a:off x="63360" y="-136440"/>
            <a:ext cx="15154560" cy="71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AutoShape 8"/>
          <p:cNvSpPr/>
          <p:nvPr/>
        </p:nvSpPr>
        <p:spPr>
          <a:xfrm>
            <a:off x="63360" y="-136440"/>
            <a:ext cx="15154560" cy="71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0" name="Picture 12" descr="Fig3_12.bmp"/>
          <p:cNvPicPr/>
          <p:nvPr/>
        </p:nvPicPr>
        <p:blipFill>
          <a:blip r:embed="rId1"/>
          <a:stretch/>
        </p:blipFill>
        <p:spPr>
          <a:xfrm>
            <a:off x="0" y="2155680"/>
            <a:ext cx="9144000" cy="4289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The Demand for Water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82" name=""/>
          <p:cNvSpPr txBox="1"/>
          <p:nvPr/>
        </p:nvSpPr>
        <p:spPr>
          <a:xfrm>
            <a:off x="212400" y="1265400"/>
            <a:ext cx="8474040" cy="48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effect of a change in supply depends very much on the shape of the demand curv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3-</a:t>
            </a:r>
            <a:fld id="{8299A192-C1A1-4EFF-9EC4-FEE3F759CF9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Box 5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AutoShape 2"/>
          <p:cNvSpPr/>
          <p:nvPr/>
        </p:nvSpPr>
        <p:spPr>
          <a:xfrm>
            <a:off x="63360" y="-136440"/>
            <a:ext cx="15621120" cy="60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AutoShape 4"/>
          <p:cNvSpPr/>
          <p:nvPr/>
        </p:nvSpPr>
        <p:spPr>
          <a:xfrm>
            <a:off x="63360" y="-136440"/>
            <a:ext cx="15621120" cy="60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AutoShape 6"/>
          <p:cNvSpPr/>
          <p:nvPr/>
        </p:nvSpPr>
        <p:spPr>
          <a:xfrm>
            <a:off x="63360" y="-136440"/>
            <a:ext cx="15154560" cy="71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AutoShape 8"/>
          <p:cNvSpPr/>
          <p:nvPr/>
        </p:nvSpPr>
        <p:spPr>
          <a:xfrm>
            <a:off x="63360" y="-136440"/>
            <a:ext cx="15154560" cy="71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0" name="Picture 11" descr="Fig3_14.bmp"/>
          <p:cNvPicPr/>
          <p:nvPr/>
        </p:nvPicPr>
        <p:blipFill>
          <a:blip r:embed="rId1"/>
          <a:stretch/>
        </p:blipFill>
        <p:spPr>
          <a:xfrm>
            <a:off x="0" y="2119320"/>
            <a:ext cx="9144000" cy="4172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2743200" y="11430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933c"/>
                </a:solidFill>
                <a:latin typeface="Kalinga"/>
              </a:rPr>
              <a:t>Key Concepts to Remember: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6840" y="2519280"/>
            <a:ext cx="8381880" cy="380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Times New Roman"/>
              </a:rPr>
              <a:t>The effects on equilibrium price and quantity of simultaneous changes in supply and demand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Times New Roman"/>
              </a:rPr>
              <a:t>Why markets don’t always work well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Times New Roman"/>
              </a:rPr>
              <a:t>Why price ceilings create shortages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Times New Roman"/>
              </a:rPr>
              <a:t>Why price floors create surpluses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Times New Roman"/>
              </a:rPr>
              <a:t>Why demand curves might be vertical or upward sloping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514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514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2819520" y="762120"/>
            <a:ext cx="3581280" cy="30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7f7f7f"/>
                </a:solidFill>
                <a:latin typeface="Kalinga"/>
              </a:rPr>
              <a:t>CHAPTER 3 SUMMARY </a:t>
            </a:r>
            <a:endParaRPr b="0" lang="en-US" sz="17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94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3-</a:t>
            </a:r>
            <a:fld id="{DCC3C7BE-12E8-4A4C-9C4A-02543D1D463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743200" y="11430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7933c"/>
                </a:solidFill>
                <a:latin typeface="Kalinga"/>
              </a:rPr>
              <a:t>Demand and Supply:</a:t>
            </a:r>
            <a:br>
              <a:rPr sz="2900"/>
            </a:br>
            <a:r>
              <a:rPr b="0" lang="en-US" sz="2900" spc="-1" strike="noStrike">
                <a:solidFill>
                  <a:srgbClr val="77933c"/>
                </a:solidFill>
                <a:latin typeface="Kalinga"/>
              </a:rPr>
              <a:t>an Elaboration </a:t>
            </a:r>
            <a:endParaRPr b="0" lang="en-US" sz="29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6840" y="2647440"/>
            <a:ext cx="8381880" cy="367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262626"/>
                </a:solidFill>
                <a:latin typeface="Times New Roman"/>
              </a:rPr>
              <a:t>Learning Objectives:</a:t>
            </a:r>
            <a:r>
              <a:rPr b="0" i="1" lang="en-US" sz="2800" spc="-1" strike="noStrike">
                <a:solidFill>
                  <a:srgbClr val="26262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5144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Kaling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262626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Times New Roman"/>
              </a:rPr>
              <a:t>Understand why price floors cause surpluses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262626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Times New Roman"/>
              </a:rPr>
              <a:t>Ask some interesting “what if ” questions concerning the shape of demand and supply curves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2819520" y="762120"/>
            <a:ext cx="3581280" cy="30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7f7f7f"/>
                </a:solidFill>
                <a:latin typeface="Kalinga"/>
              </a:rPr>
              <a:t>CHAPTER 3 </a:t>
            </a:r>
            <a:endParaRPr b="0" lang="en-US" sz="17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92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3-</a:t>
            </a:r>
            <a:fld id="{03BFB6F5-CFB9-463F-846C-945F11668D8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a8236"/>
                </a:solidFill>
                <a:latin typeface="Kalinga"/>
              </a:rPr>
              <a:t>Determinants of </a:t>
            </a:r>
            <a:br>
              <a:rPr sz="4000"/>
            </a:br>
            <a:r>
              <a:rPr b="0" lang="en-US" sz="4000" spc="-1" strike="noStrike">
                <a:solidFill>
                  <a:srgbClr val="6a8236"/>
                </a:solidFill>
                <a:latin typeface="Kalinga"/>
              </a:rPr>
              <a:t>Supply and Demand </a:t>
            </a:r>
            <a:endParaRPr b="0" lang="en-US" sz="40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9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3-</a:t>
            </a:r>
            <a:fld id="{ED60F36E-A336-4A2E-9BF3-7DA90BB9531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TextBox 5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AutoShape 2"/>
          <p:cNvSpPr/>
          <p:nvPr/>
        </p:nvSpPr>
        <p:spPr>
          <a:xfrm>
            <a:off x="63360" y="-136440"/>
            <a:ext cx="15621120" cy="60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AutoShape 4"/>
          <p:cNvSpPr/>
          <p:nvPr/>
        </p:nvSpPr>
        <p:spPr>
          <a:xfrm>
            <a:off x="63360" y="-136440"/>
            <a:ext cx="15621120" cy="60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AutoShape 6"/>
          <p:cNvSpPr/>
          <p:nvPr/>
        </p:nvSpPr>
        <p:spPr>
          <a:xfrm>
            <a:off x="63360" y="-136440"/>
            <a:ext cx="15154560" cy="71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AutoShape 8"/>
          <p:cNvSpPr/>
          <p:nvPr/>
        </p:nvSpPr>
        <p:spPr>
          <a:xfrm>
            <a:off x="63360" y="-136440"/>
            <a:ext cx="15154560" cy="71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02" name=""/>
          <p:cNvGraphicFramePr/>
          <p:nvPr/>
        </p:nvGraphicFramePr>
        <p:xfrm>
          <a:off x="615960" y="2297160"/>
          <a:ext cx="7688160" cy="3238560"/>
        </p:xfrm>
        <a:graphic>
          <a:graphicData uri="http://schemas.openxmlformats.org/drawingml/2006/table">
            <a:tbl>
              <a:tblPr/>
              <a:tblGrid>
                <a:gridCol w="3498840"/>
                <a:gridCol w="509760"/>
                <a:gridCol w="3679560"/>
              </a:tblGrid>
              <a:tr h="403200">
                <a:tc>
                  <a:txBody>
                    <a:bodyPr lIns="0" rIns="0" tIns="0" bIns="0" anchor="t">
                      <a:noAutofit/>
                    </a:bodyPr>
                    <a:p>
                      <a:pPr marL="90360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terminants of Dema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ae812">
                        <a:alpha val="58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0360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ae812">
                        <a:alpha val="58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0360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terminants of Suppl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ae812">
                        <a:alpha val="58000"/>
                      </a:srgbClr>
                    </a:solidFill>
                  </a:tcPr>
                </a:tc>
              </a:tr>
              <a:tr h="404640">
                <a:tc>
                  <a:txBody>
                    <a:bodyPr lIns="0" rIns="0" tIns="0" bIns="0" anchor="t">
                      <a:noAutofit/>
                    </a:bodyPr>
                    <a:p>
                      <a:pPr marL="90360"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sumer preferenc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9cc00">
                        <a:alpha val="28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0360"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9cc00">
                        <a:alpha val="28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0360"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ices of productive resourc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9cc00">
                        <a:alpha val="28000"/>
                      </a:srgbClr>
                    </a:solidFill>
                  </a:tcPr>
                </a:tc>
              </a:tr>
              <a:tr h="403200">
                <a:tc>
                  <a:txBody>
                    <a:bodyPr lIns="0" rIns="0" tIns="0" bIns="0" anchor="t">
                      <a:noAutofit/>
                    </a:bodyPr>
                    <a:p>
                      <a:pPr marL="90360"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sumer incom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00">
                        <a:alpha val="28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0360"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00">
                        <a:alpha val="28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0360"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usiness tax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00">
                        <a:alpha val="28000"/>
                      </a:srgbClr>
                    </a:solidFill>
                  </a:tcPr>
                </a:tc>
              </a:tr>
              <a:tr h="405000">
                <a:tc>
                  <a:txBody>
                    <a:bodyPr lIns="0" rIns="0" tIns="0" bIns="0" anchor="t">
                      <a:noAutofit/>
                    </a:bodyPr>
                    <a:p>
                      <a:pPr marL="90360"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ices of related produc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00">
                        <a:alpha val="28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0360"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00">
                        <a:alpha val="28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0360"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chnolog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00">
                        <a:alpha val="28000"/>
                      </a:srgbClr>
                    </a:solidFill>
                  </a:tcPr>
                </a:tc>
              </a:tr>
              <a:tr h="610200">
                <a:tc>
                  <a:txBody>
                    <a:bodyPr lIns="0" rIns="0" tIns="0" bIns="0" anchor="t">
                      <a:noAutofit/>
                    </a:bodyPr>
                    <a:p>
                      <a:pPr marL="90360"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xpectations of future prices, incomes, or availabil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00">
                        <a:alpha val="28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0360"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00">
                        <a:alpha val="28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0360"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ices of substitutes in produ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00">
                        <a:alpha val="28000"/>
                      </a:srgbClr>
                    </a:solidFill>
                  </a:tcPr>
                </a:tc>
              </a:tr>
              <a:tr h="610200">
                <a:tc>
                  <a:txBody>
                    <a:bodyPr lIns="0" rIns="0" tIns="0" bIns="0" anchor="t">
                      <a:noAutofit/>
                    </a:bodyPr>
                    <a:p>
                      <a:pPr marL="90360"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pulation: its size, income distribution, and a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00">
                        <a:alpha val="28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0360"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00">
                        <a:alpha val="28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0360"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uture expectations of suppli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00">
                        <a:alpha val="28000"/>
                      </a:srgbClr>
                    </a:solidFill>
                  </a:tcPr>
                </a:tc>
              </a:tr>
              <a:tr h="402120">
                <a:tc>
                  <a:txBody>
                    <a:bodyPr lIns="0" rIns="0" tIns="0" bIns="0" anchor="t">
                      <a:noAutofit/>
                    </a:bodyPr>
                    <a:p>
                      <a:pPr marL="90360"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istribu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28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0360"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28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0360"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umber of suppli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28000"/>
                      </a:srgbClr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a8236"/>
                </a:solidFill>
                <a:latin typeface="Kalinga"/>
              </a:rPr>
              <a:t>Simultaneous Changes in </a:t>
            </a:r>
            <a:br>
              <a:rPr sz="4000"/>
            </a:br>
            <a:r>
              <a:rPr b="0" lang="en-US" sz="4000" spc="-1" strike="noStrike">
                <a:solidFill>
                  <a:srgbClr val="6a8236"/>
                </a:solidFill>
                <a:latin typeface="Kalinga"/>
              </a:rPr>
              <a:t>Supply and Demand </a:t>
            </a:r>
            <a:endParaRPr b="0" lang="en-US" sz="40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457200" y="173340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crease in both demand and supply leads to an increase in equilibrium quantity; price may rise or fall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3-</a:t>
            </a:r>
            <a:fld id="{79623964-A3D7-4DAB-B5E9-DD4BF35F404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TextBox 5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AutoShape 2"/>
          <p:cNvSpPr/>
          <p:nvPr/>
        </p:nvSpPr>
        <p:spPr>
          <a:xfrm>
            <a:off x="63360" y="-136440"/>
            <a:ext cx="15621120" cy="60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AutoShape 4"/>
          <p:cNvSpPr/>
          <p:nvPr/>
        </p:nvSpPr>
        <p:spPr>
          <a:xfrm>
            <a:off x="63360" y="-136440"/>
            <a:ext cx="15621120" cy="60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AutoShape 6"/>
          <p:cNvSpPr/>
          <p:nvPr/>
        </p:nvSpPr>
        <p:spPr>
          <a:xfrm>
            <a:off x="63360" y="-136440"/>
            <a:ext cx="15154560" cy="71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AutoShape 8"/>
          <p:cNvSpPr/>
          <p:nvPr/>
        </p:nvSpPr>
        <p:spPr>
          <a:xfrm>
            <a:off x="63360" y="-136440"/>
            <a:ext cx="15154560" cy="71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2" name="Picture 1" descr="C:\Users\aholowinsky\Documents\McGrawHill\Sayre Micro Image Bank\Fig3_3.bmp"/>
          <p:cNvPicPr/>
          <p:nvPr/>
        </p:nvPicPr>
        <p:blipFill>
          <a:blip r:embed="rId1"/>
          <a:stretch/>
        </p:blipFill>
        <p:spPr>
          <a:xfrm>
            <a:off x="0" y="2719440"/>
            <a:ext cx="9144000" cy="3565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d050"/>
                </a:solidFill>
                <a:latin typeface="Kalinga"/>
              </a:rPr>
              <a:t>Self-Test  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457200" y="1351080"/>
            <a:ext cx="8229600" cy="477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Kalinga"/>
              </a:rPr>
              <a:t>Explain what effect the changes will have on equilibrium price and quantity in the following markets: </a:t>
            </a:r>
            <a:endParaRPr b="0" lang="en-US" sz="2000" spc="-1" strike="noStrike">
              <a:solidFill>
                <a:srgbClr val="000000"/>
              </a:solidFill>
              <a:latin typeface="Kaling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Kaling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15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3-</a:t>
            </a:r>
            <a:fld id="{264043E8-3A1E-44F1-8585-D64B1861D2F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Footer Placeholder 1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TextBox 13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18" name=""/>
          <p:cNvGraphicFramePr/>
          <p:nvPr/>
        </p:nvGraphicFramePr>
        <p:xfrm>
          <a:off x="468360" y="2039760"/>
          <a:ext cx="8175600" cy="4480200"/>
        </p:xfrm>
        <a:graphic>
          <a:graphicData uri="http://schemas.openxmlformats.org/drawingml/2006/table">
            <a:tbl>
              <a:tblPr/>
              <a:tblGrid>
                <a:gridCol w="1816200"/>
                <a:gridCol w="63594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rke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f8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hang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f8a6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)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y-car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rvice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f8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re mothers with small children are returning to the labour force; at the same time, government decides to introduce subsidies for day-care operator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f8a6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)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Marijua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f8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overnment severely increases the penalties for both buying and selling marijuana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f8a6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)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Compact disc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f8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 new processing method significantly reduces the costs of producing CDs; at the same time, more consumers download music directly onto their computer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f8a6"/>
                    </a:solidFill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)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rganic vegetab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6f8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egetarianism increases as a result of medical reports extolling its health benefits; at the same time, tighter regulations on the definition of organically grown products are introduced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6f8a6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9" name=""/>
          <p:cNvGraphicFramePr/>
          <p:nvPr/>
        </p:nvGraphicFramePr>
        <p:xfrm>
          <a:off x="477720" y="2295360"/>
          <a:ext cx="8177400" cy="3338640"/>
        </p:xfrm>
        <a:graphic>
          <a:graphicData uri="http://schemas.openxmlformats.org/drawingml/2006/table">
            <a:tbl>
              <a:tblPr/>
              <a:tblGrid>
                <a:gridCol w="1817640"/>
                <a:gridCol w="6359760"/>
              </a:tblGrid>
              <a:tr h="3661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rke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hang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088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)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y-car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rvice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132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)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Marijua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268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)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Compact disc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764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)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rganic vegetab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d050"/>
                </a:solidFill>
                <a:latin typeface="Kalinga"/>
              </a:rPr>
              <a:t>Self-Test  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457200" y="1477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Kalinga"/>
              </a:rPr>
              <a:t>Explain what effect the changes will have on equilibrium price and quantity in the following markets: </a:t>
            </a:r>
            <a:endParaRPr b="0" lang="en-US" sz="2000" spc="-1" strike="noStrike">
              <a:solidFill>
                <a:srgbClr val="000000"/>
              </a:solidFill>
              <a:latin typeface="Kaling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Kaling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22" name="Text Box 51"/>
          <p:cNvSpPr/>
          <p:nvPr/>
        </p:nvSpPr>
        <p:spPr>
          <a:xfrm>
            <a:off x="2622600" y="2682720"/>
            <a:ext cx="613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Both demand and supply increase so quantity traded increases but price is indetermin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3-</a:t>
            </a:r>
            <a:fld id="{75EFDA48-0535-4B4F-BEC4-AC6B3C8C58D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Footer Placeholder 1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TextBox 13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Text Box 51"/>
          <p:cNvSpPr/>
          <p:nvPr/>
        </p:nvSpPr>
        <p:spPr>
          <a:xfrm>
            <a:off x="2658960" y="3378240"/>
            <a:ext cx="6137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Both demand and supply decrease so price is indeterminate while quantity traded decreas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Text Box 51"/>
          <p:cNvSpPr/>
          <p:nvPr/>
        </p:nvSpPr>
        <p:spPr>
          <a:xfrm>
            <a:off x="2647800" y="4079880"/>
            <a:ext cx="6202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Supply increases while demand decreases so price decreases while quantity traded is indetermin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Text Box 51"/>
          <p:cNvSpPr/>
          <p:nvPr/>
        </p:nvSpPr>
        <p:spPr>
          <a:xfrm>
            <a:off x="2668680" y="4838760"/>
            <a:ext cx="6216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Demand increases and supply decreases so that price increases while quantity traded is indetermin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How Well Do Markets Work? 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212400" y="1733400"/>
            <a:ext cx="847404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6a6a6"/>
                </a:solidFill>
                <a:latin typeface="Kalinga"/>
              </a:rPr>
              <a:t>Problems with markets: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arkets do not always adjust as quickly as we would like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arkets do not always produce equitable results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mpetitive markets may not exist for some goods or services 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3-</a:t>
            </a:r>
            <a:fld id="{8C1161CF-4FAA-4786-A45F-60760BDF660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TextBox 5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AutoShape 2"/>
          <p:cNvSpPr/>
          <p:nvPr/>
        </p:nvSpPr>
        <p:spPr>
          <a:xfrm>
            <a:off x="63360" y="-136440"/>
            <a:ext cx="15621120" cy="60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AutoShape 4"/>
          <p:cNvSpPr/>
          <p:nvPr/>
        </p:nvSpPr>
        <p:spPr>
          <a:xfrm>
            <a:off x="63360" y="-136440"/>
            <a:ext cx="15621120" cy="60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AutoShape 6"/>
          <p:cNvSpPr/>
          <p:nvPr/>
        </p:nvSpPr>
        <p:spPr>
          <a:xfrm>
            <a:off x="63360" y="-136440"/>
            <a:ext cx="15154560" cy="71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AutoShape 8"/>
          <p:cNvSpPr/>
          <p:nvPr/>
        </p:nvSpPr>
        <p:spPr>
          <a:xfrm>
            <a:off x="63360" y="-136440"/>
            <a:ext cx="15154560" cy="71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Price Controls 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212400" y="1434600"/>
            <a:ext cx="8474040" cy="485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93560" indent="-4935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6a6a6"/>
                </a:solidFill>
                <a:latin typeface="Kalinga"/>
              </a:rPr>
              <a:t>Price Controls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lvl="1" marL="877680" indent="-49356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overnment regulations to set either a maximum or minimum price for a product </a:t>
            </a:r>
            <a:br>
              <a:rPr sz="2800"/>
            </a:b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93560" indent="-4935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6a6a6"/>
                </a:solidFill>
                <a:latin typeface="Kalinga"/>
              </a:rPr>
              <a:t>Price Ceiling 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lvl="1" marL="877680" indent="-49356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government regulation stipulating the maximum price that can be charged for a product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77680" indent="-493560"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93560" indent="-4935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6a6a6"/>
                </a:solidFill>
                <a:latin typeface="Kalinga"/>
              </a:rPr>
              <a:t>Price Floor 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lvl="1" marL="877680" indent="-49356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government regulation stipulating the minimum price that can be charged for a product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3-</a:t>
            </a:r>
            <a:fld id="{E0127367-5AE6-46FC-9FEE-8DF6AB55BA0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TextBox 5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AutoShape 2"/>
          <p:cNvSpPr/>
          <p:nvPr/>
        </p:nvSpPr>
        <p:spPr>
          <a:xfrm>
            <a:off x="63360" y="-136440"/>
            <a:ext cx="15621120" cy="60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AutoShape 4"/>
          <p:cNvSpPr/>
          <p:nvPr/>
        </p:nvSpPr>
        <p:spPr>
          <a:xfrm>
            <a:off x="63360" y="-136440"/>
            <a:ext cx="15621120" cy="60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AutoShape 6"/>
          <p:cNvSpPr/>
          <p:nvPr/>
        </p:nvSpPr>
        <p:spPr>
          <a:xfrm>
            <a:off x="63360" y="-136440"/>
            <a:ext cx="15154560" cy="71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AutoShape 8"/>
          <p:cNvSpPr/>
          <p:nvPr/>
        </p:nvSpPr>
        <p:spPr>
          <a:xfrm>
            <a:off x="63360" y="-136440"/>
            <a:ext cx="15154560" cy="71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06T00:16:49Z</dcterms:created>
  <dc:creator>aholowinsky</dc:creator>
  <dc:description/>
  <dc:language>en-US</dc:language>
  <cp:lastModifiedBy>mark_banit</cp:lastModifiedBy>
  <dcterms:modified xsi:type="dcterms:W3CDTF">2012-04-24T12:35:56Z</dcterms:modified>
  <cp:revision>202</cp:revision>
  <dc:subject/>
  <dc:title>Slide 1</dc:title>
</cp:coreProperties>
</file>