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E4C6-4051-497C-B547-ED3A0C709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5C17-DAB2-40A3-8B60-EC43F44F8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574C-91C6-45BC-9FA9-8758D78C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6ACC-6128-4A76-872E-9EF9951A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2585C0-5E48-4141-A85E-4DD05D0E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759A0E-4169-4ECF-A2FC-DB5CE867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BBA4EE-C54D-455C-B6BC-D8050FA9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FF5F4A-83C9-401B-9654-FEA1D3E1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0651F9-09F2-45B8-8A01-5C6D6785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32394C-8803-499F-9B8F-A44C6F13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7A5D5D-7960-4658-AE66-F926DB8C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9F0694-3C93-4BAB-9A24-E47937C0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A09195-D835-4C88-AD86-9E4F54C5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55EE34-ABE0-439D-9CC4-0DA68E0B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E1A6-F4EA-4D46-B7DC-6C6BE238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B987A2-6E9C-4C37-9FFF-87FD7616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0B20C1-7718-4DD6-AA97-AB7A936A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49A185-E56D-4C2F-B0E1-AA57717C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81E031-853D-455E-B2E0-44F91059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44678A-0357-41EC-BB69-66783E35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8A22B1-94E4-434D-B535-368E5644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EBA696-0EC6-45EF-A13C-3A2ADECF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9B2990-C906-44EC-BDBB-BB86F762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372374-0A79-45E1-BEBD-71AB5B84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1C1DDF-A03B-452E-B03E-99EB0A5F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78FD-6E34-4B6E-AEBF-C7275E62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F36B1C-6D3D-4BB7-904F-3FC26C375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BB6572-9C5C-4D5C-837A-4107532507A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1EB962-778A-4BDA-AD4D-5793D8E0D2F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7F640E-0F6E-42C7-BD3D-1EB99452723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3034DD-583B-426A-A0D3-F7181AD17DF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590A9F-6CED-4018-993A-675D75A270D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6EAE82-5CCC-4916-834A-F99B526D361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244B88-6E07-4211-AD11-2261CAF32F8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D8DA7C-615D-472F-8955-241992396CC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599664-67E6-47FD-8781-14E7E3CC9B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BFDA-9062-42EC-B67E-0E1CDF7F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E22593-E3C0-4726-A97F-898F720484E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C388F7-915A-4542-8B40-9F296FC243B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9F983B-846F-4A74-AC49-D7A0AA055BB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B66EC-8A4F-42FF-AE1F-6652C168736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04CAC-9FA6-4CC9-9AD6-FCBC9AF61BC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6052B-67A1-42F2-903F-6F9DC38F6B5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5E0DE-D11F-4107-93F1-76B190982CD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7ACEE-85BD-46BC-B40A-C2B87F9096A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83112-8C86-47FA-835D-AFD48A0AB70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735F2-0991-4C79-928D-7B8328C2AD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501E-1B96-4E79-AA02-C6CFEB95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EF133-1CD5-44B5-8531-E909A0D66A8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92A96-5473-4564-9000-BC9401641F0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B6849-B920-4B55-941F-3D1071E5CE4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BDE1A-39A9-4789-9183-0AE0BE3F5F6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C30EB-6CA2-4DC3-9857-85F95A2EB14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0CDD07-6590-43D1-8F11-05800043FA1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ABC890B-7DD1-400F-812E-9848F500A6D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DD9C71-2D3E-4233-89AA-D3E129F0CC6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C6D1D3-69A2-42C5-B136-1AC1C3FB244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0BD12C-D321-4979-A5A0-A7804BABD5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98B7-EF23-4ABC-9E0D-2938BC28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C65CF2-8980-4D51-AA45-90799B97EEE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65DAA0-576C-4AFD-954A-41D42E125A1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0E8969-9CEE-4697-84CC-769604DFFA9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B3FD9F9-48AF-4A02-AC59-3F79987B86E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B16523-9075-4D6D-ACC0-3868E8B7F9B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6ABCDB-E12E-41EF-A120-0FB6E9B358C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B02157-80B8-4B01-81DA-F6941E89D3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E87D-7DC5-4C9E-B809-B078CA74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8A7A-99CC-4C50-B7D5-4B1F5E37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165B-7AE1-4902-A35D-1FC4FDB7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4C61-CC56-411F-8370-7289917C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8C1D-DA45-45B1-BD04-6AC729EB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DAE7-C78E-40B6-8EBF-6BFBD897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46C0-9D73-4934-94AF-6F420CE3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3224-45F8-4210-9F76-A67B231E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02A6-5FD7-4ABB-838C-D47A3B72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50EA-B937-4191-970D-53702597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C59BD-B617-40B2-8A76-5584BF4C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A398C-8A1D-4034-9DC8-607B26A5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88332-7445-48B8-8937-016B2C42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3CFC5-4C0F-4720-96D6-51AC49EE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EBBBF-BC29-4D23-B330-21AC417F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5371-536A-40DD-BDD9-1A5FA8C8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9EB71-D226-4334-8DCD-4DB52FDA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DA629-4574-4915-889D-FD9CFD7E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71606-451D-4308-956A-2DD57B33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0B927-D036-45F9-BCB0-75F518CD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07DE6-FCF6-47DC-91C7-79C6BC0D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87D07-F9E3-49BF-951C-D56B19FC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924D2-C18E-4A5E-A8DC-DAA14ECB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D2EF3-D932-4044-95FE-DB517907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60593-D7E0-4B2E-BFF7-D488EC22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CCCEE-CFD1-44F4-84D2-87F72D6D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8984-5D00-4DAF-A962-8868240E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6438E-5B5D-4087-A95F-1DDE66DE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9406E-CBE5-4AEE-B587-2F6660F1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3A05D-AE0D-4EBB-881E-1E1A3A2B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9B79A-9DD2-493C-BD38-DC42589C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F95A3-8BD7-4309-B34A-F5A9BCF3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4D6F6-A2E2-4194-A75D-F5FD820D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A2023-FB27-4841-8536-DECE0252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AD090-0495-455D-93D2-68C45F8A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DEE73-9C29-4CF0-AE3D-2D68DC57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19D17-1B41-416B-8D11-9FC156F7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62F5-31CA-49A8-9357-F42EE967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9CAC9-C768-4A4F-BB57-AFECCCF6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BEF95-3EC7-4D3E-B103-8DEF7CF3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88D9F-886A-42BD-80BB-619EBD13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67CB7-3E7E-485D-8D89-F4185D0C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E5284-61DE-4D15-92A7-A139C9D1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B3D9D-F7D4-49A1-984F-0364EE4F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426F6-EC79-4623-A7A3-C83AFCBD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EB811-0E7A-47A0-8E8C-181196AC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BCE9C-2D7F-4107-933E-3D8795E9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965BD-93C4-46BF-ADFB-77D74D53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39B2-6223-4326-B8A4-AD5110BE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D8B4B-34FB-4F86-B62F-C59FC32D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230E88-5CDC-457B-BCF1-40F9A4EA53D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4EA1DC-619F-47AB-88B1-191390B8450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2139DC-D8E5-4405-82D0-F228418C1E4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059E53-D4D6-4F44-A27D-2D903E5A456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F48E73-6331-402C-B90F-A82A094A40D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D3C96B-FEE8-4CFD-A0ED-59B385778CE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BD4C72-F1C4-4867-B17F-E0B5BF7A2A1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08963B-52F9-460D-8040-8A951473822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5DA0EA-89D1-4453-8A3F-76447D1BF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DAF4-0221-477F-90B8-4BF509C4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E59E4F-0B84-4BFC-B192-C8B6892D378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5085D4-0EBC-4CAC-BA83-76662D5D4A9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57F586-9FF1-4744-9A39-F3928A384AB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018B2E-4246-4F6D-97AC-F8A8800CE37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B494A4-69B0-49E6-9145-A48E816847B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D5DF04-7637-4CA9-8900-6D808A5D638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E79A68-8863-469A-974C-D83D7557CD1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891A2C-9178-4AE5-9010-707DA2CFEAA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BDC1D5-7DFA-4AE0-971B-058535E536A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CA7C42-1411-4ADD-A471-36E20EED0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CA66-C61B-45D1-BBEF-FD0DBA12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89BE0F-D3D8-4688-8CD0-6AB1583F2A4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3629BA-197B-43FF-AB7A-88623B49D11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7CF94C-33A6-4565-882D-B888A21B6AD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0F88C0-E182-4AE6-BC1E-CFAA4FF961F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3A12A8-CDAE-4663-A5DF-B61A8295628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2647B1-959E-4029-89E2-EF4D3432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EC06A3-DC3B-42CF-8FA1-E8279312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E9DE35-5EFC-44BA-AD67-64D10C4F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9E3468-DE85-4BE7-B42D-E1E04A43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CCF631-79FB-4E67-AAA1-C7661A83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0F87-953D-4604-A270-3C9F051B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57A5AF-5768-4A05-9740-339937AB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DAE7F5-2D6F-4388-8231-6A9D73B0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FCA8A6-F6CD-46B3-913F-07D722E9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BA6EFE-EB96-4E10-8D59-584AABBD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F2523C-B53A-48E3-8EE9-1DCBF139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9A9147-503D-4D2E-98A5-F4B4DCE0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EAE4E1-00E5-45DB-B64E-26DF5706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E6FA08-D340-4B8D-B280-2F9F201E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B05638-4FE9-4E73-9A54-3301F805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1C4CBD-AAD3-4F56-9AB7-F2162759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2BD966D-ABEC-4935-8DCD-B1AAD1035D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C7AD4FC-B7F1-46C1-8E2D-BB82D59900D6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7BBDD82-E467-4D82-A286-B3E1231789C5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42A2BF0-9CC1-4BF3-AE2F-BCE6545427A1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03DCE61-48A7-48CC-97E7-EE29382B79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67B1B62-9192-4095-844C-BB2E3073D4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E445510-5680-4302-85BB-71BF8EEF02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69167A3-1D4C-4DDE-BDDD-BFE2851206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D8D07E9-0F51-481E-A66C-008C8C6588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1808159-6A16-4EA5-BE58-6C0324ACD7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39C95F0-34CF-4E5C-948A-5A0802B2A1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The Economic Problem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1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What is Economics?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croeconomics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w the major components of an economy intera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employment, inflation, interest rate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icroeconomic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tcomes of decisions by people and firm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pply and demand, costs of production, market structur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03B4A0B-0D43-4C8A-AB7E-3F69A3A0B9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24808D7-5F5B-469C-B316-45DAB3857D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entify which of the following topics would likely appear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a microeconomics course and which in a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croeconomics course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ice of iPo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Unemployment r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esence of monopol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rate of economic grow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B2A7517-674E-41CD-AE7A-12FDD1BF4B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entify which of the following topics would likely appear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a microeconomics course and which in a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croeconomics course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ice of iPo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Unemployment r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esence of monopol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rate of economic grow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Box 8"/>
          <p:cNvSpPr/>
          <p:nvPr/>
        </p:nvSpPr>
        <p:spPr>
          <a:xfrm>
            <a:off x="4393800" y="263700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i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Box 9"/>
          <p:cNvSpPr/>
          <p:nvPr/>
        </p:nvSpPr>
        <p:spPr>
          <a:xfrm>
            <a:off x="4982760" y="312912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Box 10"/>
          <p:cNvSpPr/>
          <p:nvPr/>
        </p:nvSpPr>
        <p:spPr>
          <a:xfrm>
            <a:off x="6141600" y="363996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i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Box 11"/>
          <p:cNvSpPr/>
          <p:nvPr/>
        </p:nvSpPr>
        <p:spPr>
          <a:xfrm>
            <a:off x="6407640" y="416088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carcity and Choic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Resources are Scarce: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ources, or “factors of production”, are anything used to produce goods and service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 not have enough resources to produce everything everybody wan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 have some way to ration scarce resourc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C18693E-D70E-4679-9980-FE5B55B98C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c Resourc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902880" y="1752120"/>
            <a:ext cx="77835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Labour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uman mental and physical effor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Land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 Any natural resource used to produce goods or services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Capital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 Tools, equipment, factories, and buildings used in production proces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Enterprise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 The human resource that innovates and takes risk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560D159-A554-4B84-B2C5-1DDF3EB61E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c Resourc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04A6E1A-EF76-488D-BA04-D3D07609BB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1535040" y="1566720"/>
          <a:ext cx="6096240" cy="42134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4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caf47"/>
                          </a:solidFill>
                          <a:latin typeface="Kalinga"/>
                        </a:rPr>
                        <a:t>RESOURC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caf47"/>
                          </a:solidFill>
                          <a:latin typeface="Kalinga"/>
                        </a:rPr>
                        <a:t>EARN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Labou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W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Lan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Capi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Intere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Enterpri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rof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BE050B5-F58F-4D27-8A3D-4EE3A7B814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icate whether the resource in question is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bour (L), capital (K), land (N), or enterprise (E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 bar-code scanner in a supermark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Fresh drinking wate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Copper deposits in a m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work of a systems analy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first application of e- technology to an economics text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n office buil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14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D8D6047-C5FD-4A12-BE77-C1E636D71B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icate whether the resource in question is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bour (L), capital (K), land (N), or enterprise (E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 bar-code scanner in a supermark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Fresh drinking wate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Copper deposits in a m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work of a systems analy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first application of e- technology to an economics text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n office buil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Box 8"/>
          <p:cNvSpPr/>
          <p:nvPr/>
        </p:nvSpPr>
        <p:spPr>
          <a:xfrm>
            <a:off x="7583760" y="2286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Box 9"/>
          <p:cNvSpPr/>
          <p:nvPr/>
        </p:nvSpPr>
        <p:spPr>
          <a:xfrm>
            <a:off x="4887000" y="2789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Box 10"/>
          <p:cNvSpPr/>
          <p:nvPr/>
        </p:nvSpPr>
        <p:spPr>
          <a:xfrm>
            <a:off x="5823720" y="3300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Box 11"/>
          <p:cNvSpPr/>
          <p:nvPr/>
        </p:nvSpPr>
        <p:spPr>
          <a:xfrm>
            <a:off x="6471000" y="38210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Box 12"/>
          <p:cNvSpPr/>
          <p:nvPr/>
        </p:nvSpPr>
        <p:spPr>
          <a:xfrm>
            <a:off x="4731120" y="4749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Box 13"/>
          <p:cNvSpPr/>
          <p:nvPr/>
        </p:nvSpPr>
        <p:spPr>
          <a:xfrm>
            <a:off x="4277160" y="5273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Box 14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c Resourc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902880" y="1690200"/>
            <a:ext cx="7783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Technology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thod of production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ay in which resources are combined to produce goods and servic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Opportunity Cost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value of the next-best alternative that is given up as a result of making a particular choic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A6B876C-E147-4010-B913-0810234905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fficienc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902880" y="1690200"/>
            <a:ext cx="7783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Productive Efficiency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ion of an output at the lowest possible average cost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Allocative Efficiency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ion of that combination of outputs that best satisfies consumers’ demand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E4E7D9C-CECC-400B-9511-99F495D8DD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The Economic Problem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1:  Understand the relevance of economic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2:  Define economics, microeconomics, and macroeconomics and understand the importance of the scientific metho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3:  Realize that scarcity, choice, and opportunity cost are at the heart of economics and that efficiency is a cornerston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1834788-33C0-4B6A-B546-FC515D62B5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902880" y="1871640"/>
            <a:ext cx="778356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oluntary trade benefits both part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re trade, the greater the benefit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ies to individuals as well as to nation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E3CEE60-4BF7-464E-88A2-98D26E15CC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Benefits of Tra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82DEA73-8C68-445F-9D59-967939A2C3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1201680" y="1444680"/>
          <a:ext cx="6740640" cy="1828800"/>
        </p:xfrm>
        <a:graphic>
          <a:graphicData uri="http://schemas.openxmlformats.org/drawingml/2006/table">
            <a:tbl>
              <a:tblPr/>
              <a:tblGrid>
                <a:gridCol w="2573280"/>
                <a:gridCol w="1690920"/>
                <a:gridCol w="871560"/>
                <a:gridCol w="160488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Maximum Outpu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Spa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5" name=""/>
          <p:cNvGraphicFramePr/>
          <p:nvPr/>
        </p:nvGraphicFramePr>
        <p:xfrm>
          <a:off x="1216080" y="3670200"/>
          <a:ext cx="6740640" cy="2286000"/>
        </p:xfrm>
        <a:graphic>
          <a:graphicData uri="http://schemas.openxmlformats.org/drawingml/2006/table">
            <a:tbl>
              <a:tblPr/>
              <a:tblGrid>
                <a:gridCol w="2573280"/>
                <a:gridCol w="1569960"/>
                <a:gridCol w="992160"/>
                <a:gridCol w="160524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Without Trad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Spa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Total 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Benefits of Tra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131F18C-18AE-4CCA-9CBF-A8A080DA6F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1201680" y="1444680"/>
          <a:ext cx="6740640" cy="1828800"/>
        </p:xfrm>
        <a:graphic>
          <a:graphicData uri="http://schemas.openxmlformats.org/drawingml/2006/table">
            <a:tbl>
              <a:tblPr/>
              <a:tblGrid>
                <a:gridCol w="2573280"/>
                <a:gridCol w="1690920"/>
                <a:gridCol w="871560"/>
                <a:gridCol w="160488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Maximum Outpu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Spa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1" name=""/>
          <p:cNvGraphicFramePr/>
          <p:nvPr/>
        </p:nvGraphicFramePr>
        <p:xfrm>
          <a:off x="1216080" y="3670200"/>
          <a:ext cx="6740640" cy="2286000"/>
        </p:xfrm>
        <a:graphic>
          <a:graphicData uri="http://schemas.openxmlformats.org/drawingml/2006/table">
            <a:tbl>
              <a:tblPr/>
              <a:tblGrid>
                <a:gridCol w="2573280"/>
                <a:gridCol w="1569960"/>
                <a:gridCol w="992160"/>
                <a:gridCol w="160524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With Trad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Spa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Total 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Three Fundamental Questions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o produc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to produc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r wh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4DD5B48-3ECF-405F-84DD-F37B7B3398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Four Types of Economies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operation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stom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mand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etition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214DD41-45FE-4C4B-B696-A76C3D93A7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roduction Possibilities Model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Production Possibilities Curve: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raphical representation of the various combinations of maximum output that can be produced from the available resources and technology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sumptions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ll employment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 of the best technology availabl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ductive efficiency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8AD6DAA-F833-46BA-B7C0-6B04143F30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roduction Possibilities Model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71E3DE6-5E92-4554-9C5F-C8FFAE1327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Picture 2" descr=""/>
          <p:cNvPicPr/>
          <p:nvPr/>
        </p:nvPicPr>
        <p:blipFill>
          <a:blip r:embed="rId1"/>
          <a:stretch/>
        </p:blipFill>
        <p:spPr>
          <a:xfrm>
            <a:off x="0" y="1170000"/>
            <a:ext cx="9144000" cy="34974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2" descr=""/>
          <p:cNvPicPr/>
          <p:nvPr/>
        </p:nvPicPr>
        <p:blipFill>
          <a:blip r:embed="rId2"/>
          <a:srcRect l="5483" t="39876" r="10200" b="34772"/>
          <a:stretch/>
        </p:blipFill>
        <p:spPr>
          <a:xfrm>
            <a:off x="0" y="4730760"/>
            <a:ext cx="9144000" cy="171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5"/>
          <p:cNvSpPr/>
          <p:nvPr/>
        </p:nvSpPr>
        <p:spPr>
          <a:xfrm>
            <a:off x="7391520" y="5334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4133880" y="2057400"/>
            <a:ext cx="15523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attai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Oval 23"/>
          <p:cNvSpPr/>
          <p:nvPr/>
        </p:nvSpPr>
        <p:spPr>
          <a:xfrm>
            <a:off x="1373040" y="24685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8"/>
          <p:cNvSpPr/>
          <p:nvPr/>
        </p:nvSpPr>
        <p:spPr>
          <a:xfrm>
            <a:off x="4267080" y="2438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9"/>
          <p:cNvSpPr/>
          <p:nvPr/>
        </p:nvSpPr>
        <p:spPr>
          <a:xfrm>
            <a:off x="1449360" y="2011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0"/>
          <p:cNvSpPr/>
          <p:nvPr/>
        </p:nvSpPr>
        <p:spPr>
          <a:xfrm>
            <a:off x="2819520" y="2209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1"/>
          <p:cNvSpPr/>
          <p:nvPr/>
        </p:nvSpPr>
        <p:spPr>
          <a:xfrm>
            <a:off x="42670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2"/>
          <p:cNvSpPr/>
          <p:nvPr/>
        </p:nvSpPr>
        <p:spPr>
          <a:xfrm>
            <a:off x="5257800" y="3809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3"/>
          <p:cNvSpPr/>
          <p:nvPr/>
        </p:nvSpPr>
        <p:spPr>
          <a:xfrm>
            <a:off x="57150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Group 51"/>
          <p:cNvGrpSpPr/>
          <p:nvPr/>
        </p:nvGrpSpPr>
        <p:grpSpPr>
          <a:xfrm>
            <a:off x="496800" y="1752480"/>
            <a:ext cx="6438960" cy="4711680"/>
            <a:chOff x="496800" y="1752480"/>
            <a:chExt cx="6438960" cy="4711680"/>
          </a:xfrm>
        </p:grpSpPr>
        <p:sp>
          <p:nvSpPr>
            <p:cNvPr id="703" name="Line 3"/>
            <p:cNvSpPr/>
            <p:nvPr/>
          </p:nvSpPr>
          <p:spPr>
            <a:xfrm>
              <a:off x="1449360" y="1782720"/>
              <a:ext cx="0" cy="434340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4"/>
            <p:cNvSpPr/>
            <p:nvPr/>
          </p:nvSpPr>
          <p:spPr>
            <a:xfrm>
              <a:off x="1449360" y="6126120"/>
              <a:ext cx="54864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Text Box 5"/>
            <p:cNvSpPr/>
            <p:nvPr/>
          </p:nvSpPr>
          <p:spPr>
            <a:xfrm>
              <a:off x="496800" y="17524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Text Box 6"/>
            <p:cNvSpPr/>
            <p:nvPr/>
          </p:nvSpPr>
          <p:spPr>
            <a:xfrm>
              <a:off x="6203520" y="60958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Arc 7"/>
            <p:cNvSpPr/>
            <p:nvPr/>
          </p:nvSpPr>
          <p:spPr>
            <a:xfrm>
              <a:off x="1523880" y="2514600"/>
              <a:ext cx="4343400" cy="3581280"/>
            </a:xfrm>
            <a:custGeom>
              <a:avLst/>
              <a:gdLst>
                <a:gd name="textAreaLeft" fmla="*/ 0 w 4343400"/>
                <a:gd name="textAreaRight" fmla="*/ 4343400 w 4343400"/>
                <a:gd name="textAreaTop" fmla="*/ 0 h 3581280"/>
                <a:gd name="textAreaBottom" fmla="*/ 3581640 h 358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cc"/>
            </a:solidFill>
            <a:ln cap="sq"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Oval 16"/>
          <p:cNvSpPr/>
          <p:nvPr/>
        </p:nvSpPr>
        <p:spPr>
          <a:xfrm>
            <a:off x="2895480" y="25909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19"/>
          <p:cNvSpPr/>
          <p:nvPr/>
        </p:nvSpPr>
        <p:spPr>
          <a:xfrm flipH="1">
            <a:off x="1447920" y="26668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0"/>
          <p:cNvSpPr/>
          <p:nvPr/>
        </p:nvSpPr>
        <p:spPr>
          <a:xfrm>
            <a:off x="2973240" y="277344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24"/>
          <p:cNvSpPr/>
          <p:nvPr/>
        </p:nvSpPr>
        <p:spPr>
          <a:xfrm>
            <a:off x="5791320" y="601992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13"/>
          <p:cNvSpPr/>
          <p:nvPr/>
        </p:nvSpPr>
        <p:spPr>
          <a:xfrm>
            <a:off x="4114800" y="2590920"/>
            <a:ext cx="152280" cy="1522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22"/>
          <p:cNvSpPr/>
          <p:nvPr/>
        </p:nvSpPr>
        <p:spPr>
          <a:xfrm>
            <a:off x="5638680" y="49528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27"/>
          <p:cNvSpPr/>
          <p:nvPr/>
        </p:nvSpPr>
        <p:spPr>
          <a:xfrm>
            <a:off x="4191120" y="266688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21"/>
          <p:cNvSpPr/>
          <p:nvPr/>
        </p:nvSpPr>
        <p:spPr>
          <a:xfrm flipH="1">
            <a:off x="1447920" y="495288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26"/>
          <p:cNvSpPr/>
          <p:nvPr/>
        </p:nvSpPr>
        <p:spPr>
          <a:xfrm>
            <a:off x="4114800" y="32004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10"/>
          <p:cNvSpPr/>
          <p:nvPr/>
        </p:nvSpPr>
        <p:spPr>
          <a:xfrm flipH="1">
            <a:off x="4419000" y="3809880"/>
            <a:ext cx="15228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11"/>
          <p:cNvSpPr/>
          <p:nvPr/>
        </p:nvSpPr>
        <p:spPr>
          <a:xfrm>
            <a:off x="2958480" y="365760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i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36"/>
          <p:cNvSpPr/>
          <p:nvPr/>
        </p:nvSpPr>
        <p:spPr>
          <a:xfrm flipH="1">
            <a:off x="1447920" y="32767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37"/>
          <p:cNvSpPr/>
          <p:nvPr/>
        </p:nvSpPr>
        <p:spPr>
          <a:xfrm>
            <a:off x="9144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38"/>
          <p:cNvSpPr/>
          <p:nvPr/>
        </p:nvSpPr>
        <p:spPr>
          <a:xfrm>
            <a:off x="914400" y="2514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39"/>
          <p:cNvSpPr/>
          <p:nvPr/>
        </p:nvSpPr>
        <p:spPr>
          <a:xfrm>
            <a:off x="91440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0"/>
          <p:cNvSpPr/>
          <p:nvPr/>
        </p:nvSpPr>
        <p:spPr>
          <a:xfrm>
            <a:off x="91440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1"/>
          <p:cNvSpPr/>
          <p:nvPr/>
        </p:nvSpPr>
        <p:spPr>
          <a:xfrm>
            <a:off x="91440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Oval 42"/>
          <p:cNvSpPr/>
          <p:nvPr/>
        </p:nvSpPr>
        <p:spPr>
          <a:xfrm>
            <a:off x="5562720" y="487692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43"/>
          <p:cNvSpPr/>
          <p:nvPr/>
        </p:nvSpPr>
        <p:spPr>
          <a:xfrm flipH="1">
            <a:off x="1447560" y="4114800"/>
            <a:ext cx="37335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Oval 9"/>
          <p:cNvSpPr/>
          <p:nvPr/>
        </p:nvSpPr>
        <p:spPr>
          <a:xfrm>
            <a:off x="5105520" y="4038480"/>
            <a:ext cx="152280" cy="15264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44"/>
          <p:cNvSpPr/>
          <p:nvPr/>
        </p:nvSpPr>
        <p:spPr>
          <a:xfrm>
            <a:off x="5943600" y="5638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45"/>
          <p:cNvSpPr/>
          <p:nvPr/>
        </p:nvSpPr>
        <p:spPr>
          <a:xfrm>
            <a:off x="5181480" y="41911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46"/>
          <p:cNvSpPr/>
          <p:nvPr/>
        </p:nvSpPr>
        <p:spPr>
          <a:xfrm>
            <a:off x="266688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47"/>
          <p:cNvSpPr/>
          <p:nvPr/>
        </p:nvSpPr>
        <p:spPr>
          <a:xfrm>
            <a:off x="48006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48"/>
          <p:cNvSpPr/>
          <p:nvPr/>
        </p:nvSpPr>
        <p:spPr>
          <a:xfrm>
            <a:off x="38862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49"/>
          <p:cNvSpPr/>
          <p:nvPr/>
        </p:nvSpPr>
        <p:spPr>
          <a:xfrm>
            <a:off x="5562720" y="6095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50"/>
          <p:cNvSpPr/>
          <p:nvPr/>
        </p:nvSpPr>
        <p:spPr>
          <a:xfrm>
            <a:off x="52578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2" descr=""/>
          <p:cNvPicPr/>
          <p:nvPr/>
        </p:nvPicPr>
        <p:blipFill>
          <a:blip r:embed="rId1"/>
          <a:srcRect l="5483" t="39876" r="10200" b="34772"/>
          <a:stretch/>
        </p:blipFill>
        <p:spPr>
          <a:xfrm>
            <a:off x="0" y="0"/>
            <a:ext cx="9144000" cy="1719360"/>
          </a:xfrm>
          <a:prstGeom prst="rect">
            <a:avLst/>
          </a:prstGeom>
          <a:ln w="0">
            <a:noFill/>
          </a:ln>
        </p:spPr>
      </p:pic>
      <p:sp>
        <p:nvSpPr>
          <p:cNvPr id="736" name="TextBox 48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DE0C8BD-CCC9-4A0F-943E-A93C2AB49479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Rounded Rectangle 51"/>
          <p:cNvGrpSpPr/>
          <p:nvPr/>
        </p:nvGrpSpPr>
        <p:grpSpPr>
          <a:xfrm>
            <a:off x="5827680" y="2494080"/>
            <a:ext cx="3054240" cy="1919160"/>
            <a:chOff x="5827680" y="2494080"/>
            <a:chExt cx="3054240" cy="1919160"/>
          </a:xfrm>
        </p:grpSpPr>
        <p:pic>
          <p:nvPicPr>
            <p:cNvPr id="740" name="Rounded Rectangle 51" descr=""/>
            <p:cNvPicPr/>
            <p:nvPr/>
          </p:nvPicPr>
          <p:blipFill>
            <a:blip r:embed="rId2"/>
            <a:stretch/>
          </p:blipFill>
          <p:spPr>
            <a:xfrm>
              <a:off x="5827680" y="2494080"/>
              <a:ext cx="3054240" cy="19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5978520" y="2619360"/>
              <a:ext cx="269388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oints on the curve represent maximum output possible with available resourc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Oval 52"/>
          <p:cNvSpPr/>
          <p:nvPr/>
        </p:nvSpPr>
        <p:spPr>
          <a:xfrm>
            <a:off x="1849320" y="531720"/>
            <a:ext cx="511200" cy="1201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3" name="Straight Arrow Connector 54"/>
          <p:cNvCxnSpPr>
            <a:endCxn id="697" idx="2"/>
          </p:cNvCxnSpPr>
          <p:nvPr/>
        </p:nvCxnSpPr>
        <p:spPr>
          <a:xfrm flipH="1">
            <a:off x="1639440" y="1722240"/>
            <a:ext cx="339120" cy="686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4" name="Oval 56"/>
          <p:cNvSpPr/>
          <p:nvPr/>
        </p:nvSpPr>
        <p:spPr>
          <a:xfrm>
            <a:off x="3129120" y="523800"/>
            <a:ext cx="510840" cy="1201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Straight Arrow Connector 58"/>
          <p:cNvCxnSpPr/>
          <p:nvPr/>
        </p:nvCxnSpPr>
        <p:spPr>
          <a:xfrm flipH="1">
            <a:off x="3093480" y="1779120"/>
            <a:ext cx="270360" cy="740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6" name="Oval 60"/>
          <p:cNvSpPr/>
          <p:nvPr/>
        </p:nvSpPr>
        <p:spPr>
          <a:xfrm>
            <a:off x="5727600" y="517680"/>
            <a:ext cx="509760" cy="1201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Straight Arrow Connector 61"/>
          <p:cNvCxnSpPr/>
          <p:nvPr/>
        </p:nvCxnSpPr>
        <p:spPr>
          <a:xfrm flipH="1">
            <a:off x="5327280" y="1782360"/>
            <a:ext cx="645120" cy="21200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roduction Possibilities Model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457200" y="1584360"/>
            <a:ext cx="822960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carcity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resented by points outside the curve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Choic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resented by points on the curve (efficient) and points within the curve (inefficient)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Opportunity Cos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resented by the downward slope of the curv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967A4D3-8536-4542-8B71-C870AD44BE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8236"/>
                </a:solidFill>
                <a:latin typeface="Kalinga"/>
              </a:rPr>
              <a:t>Law of Increasing Opportunity Costs </a:t>
            </a:r>
            <a:endParaRPr b="0" lang="en-US" sz="3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7200" y="1584360"/>
            <a:ext cx="822960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actors of production are not equally suitabl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s output increases, the per unit costs of additional units increases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ives the production possibilities curve its bowed out shape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CFF0F9E-CD2E-4BDD-B273-B7E8B1A07C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The Economic Problem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52804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4:  Understand why trade results in economies being more productiv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5:  Explain the three fundamental questions and the four ways economies can be organize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6:  Use the production possibilities model to explain choice, opportunity cost, efficiency, and unemploymen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7F464BC-2F7D-4895-8CBD-32270B7A8E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5"/>
          <p:cNvSpPr/>
          <p:nvPr/>
        </p:nvSpPr>
        <p:spPr>
          <a:xfrm>
            <a:off x="7391520" y="5334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23"/>
          <p:cNvSpPr/>
          <p:nvPr/>
        </p:nvSpPr>
        <p:spPr>
          <a:xfrm>
            <a:off x="1373040" y="24685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29"/>
          <p:cNvSpPr/>
          <p:nvPr/>
        </p:nvSpPr>
        <p:spPr>
          <a:xfrm>
            <a:off x="1449360" y="2011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Group 51"/>
          <p:cNvGrpSpPr/>
          <p:nvPr/>
        </p:nvGrpSpPr>
        <p:grpSpPr>
          <a:xfrm>
            <a:off x="496800" y="1752480"/>
            <a:ext cx="6438960" cy="4711680"/>
            <a:chOff x="496800" y="1752480"/>
            <a:chExt cx="6438960" cy="4711680"/>
          </a:xfrm>
        </p:grpSpPr>
        <p:sp>
          <p:nvSpPr>
            <p:cNvPr id="762" name="Line 3"/>
            <p:cNvSpPr/>
            <p:nvPr/>
          </p:nvSpPr>
          <p:spPr>
            <a:xfrm>
              <a:off x="1449360" y="1782720"/>
              <a:ext cx="0" cy="434340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4"/>
            <p:cNvSpPr/>
            <p:nvPr/>
          </p:nvSpPr>
          <p:spPr>
            <a:xfrm>
              <a:off x="1449360" y="6126120"/>
              <a:ext cx="54864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Text Box 5"/>
            <p:cNvSpPr/>
            <p:nvPr/>
          </p:nvSpPr>
          <p:spPr>
            <a:xfrm>
              <a:off x="496800" y="17524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Text Box 6"/>
            <p:cNvSpPr/>
            <p:nvPr/>
          </p:nvSpPr>
          <p:spPr>
            <a:xfrm>
              <a:off x="6203520" y="60958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Arc 7"/>
            <p:cNvSpPr/>
            <p:nvPr/>
          </p:nvSpPr>
          <p:spPr>
            <a:xfrm>
              <a:off x="1523880" y="2514600"/>
              <a:ext cx="4343400" cy="3581280"/>
            </a:xfrm>
            <a:custGeom>
              <a:avLst/>
              <a:gdLst>
                <a:gd name="textAreaLeft" fmla="*/ 0 w 4343400"/>
                <a:gd name="textAreaRight" fmla="*/ 4343400 w 4343400"/>
                <a:gd name="textAreaTop" fmla="*/ 0 h 3581280"/>
                <a:gd name="textAreaBottom" fmla="*/ 3581640 h 358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cc"/>
            </a:solidFill>
            <a:ln cap="sq"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Oval 16"/>
          <p:cNvSpPr/>
          <p:nvPr/>
        </p:nvSpPr>
        <p:spPr>
          <a:xfrm>
            <a:off x="2895480" y="25909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19"/>
          <p:cNvSpPr/>
          <p:nvPr/>
        </p:nvSpPr>
        <p:spPr>
          <a:xfrm flipH="1" flipV="1">
            <a:off x="1472760" y="2666880"/>
            <a:ext cx="1435320" cy="46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0"/>
          <p:cNvSpPr/>
          <p:nvPr/>
        </p:nvSpPr>
        <p:spPr>
          <a:xfrm>
            <a:off x="2973240" y="277344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24"/>
          <p:cNvSpPr/>
          <p:nvPr/>
        </p:nvSpPr>
        <p:spPr>
          <a:xfrm>
            <a:off x="5791320" y="601992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2"/>
          <p:cNvSpPr/>
          <p:nvPr/>
        </p:nvSpPr>
        <p:spPr>
          <a:xfrm>
            <a:off x="5638680" y="49528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 flipH="1">
            <a:off x="4191120" y="3352680"/>
            <a:ext cx="46080" cy="278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1"/>
          <p:cNvSpPr/>
          <p:nvPr/>
        </p:nvSpPr>
        <p:spPr>
          <a:xfrm flipH="1">
            <a:off x="1447920" y="495288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26"/>
          <p:cNvSpPr/>
          <p:nvPr/>
        </p:nvSpPr>
        <p:spPr>
          <a:xfrm>
            <a:off x="4114800" y="32004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36"/>
          <p:cNvSpPr/>
          <p:nvPr/>
        </p:nvSpPr>
        <p:spPr>
          <a:xfrm flipH="1" flipV="1">
            <a:off x="1523880" y="3246480"/>
            <a:ext cx="2603520" cy="46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37"/>
          <p:cNvSpPr/>
          <p:nvPr/>
        </p:nvSpPr>
        <p:spPr>
          <a:xfrm>
            <a:off x="9144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38"/>
          <p:cNvSpPr/>
          <p:nvPr/>
        </p:nvSpPr>
        <p:spPr>
          <a:xfrm>
            <a:off x="914400" y="2514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39"/>
          <p:cNvSpPr/>
          <p:nvPr/>
        </p:nvSpPr>
        <p:spPr>
          <a:xfrm>
            <a:off x="91440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40"/>
          <p:cNvSpPr/>
          <p:nvPr/>
        </p:nvSpPr>
        <p:spPr>
          <a:xfrm>
            <a:off x="91440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1"/>
          <p:cNvSpPr/>
          <p:nvPr/>
        </p:nvSpPr>
        <p:spPr>
          <a:xfrm>
            <a:off x="91440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42"/>
          <p:cNvSpPr/>
          <p:nvPr/>
        </p:nvSpPr>
        <p:spPr>
          <a:xfrm>
            <a:off x="5562720" y="487692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43"/>
          <p:cNvSpPr/>
          <p:nvPr/>
        </p:nvSpPr>
        <p:spPr>
          <a:xfrm flipH="1">
            <a:off x="1447560" y="4114800"/>
            <a:ext cx="37335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9"/>
          <p:cNvSpPr/>
          <p:nvPr/>
        </p:nvSpPr>
        <p:spPr>
          <a:xfrm>
            <a:off x="5105520" y="4038480"/>
            <a:ext cx="152280" cy="15264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44"/>
          <p:cNvSpPr/>
          <p:nvPr/>
        </p:nvSpPr>
        <p:spPr>
          <a:xfrm>
            <a:off x="5943600" y="5638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45"/>
          <p:cNvSpPr/>
          <p:nvPr/>
        </p:nvSpPr>
        <p:spPr>
          <a:xfrm>
            <a:off x="5181480" y="41911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46"/>
          <p:cNvSpPr/>
          <p:nvPr/>
        </p:nvSpPr>
        <p:spPr>
          <a:xfrm>
            <a:off x="266688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47"/>
          <p:cNvSpPr/>
          <p:nvPr/>
        </p:nvSpPr>
        <p:spPr>
          <a:xfrm>
            <a:off x="48006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48"/>
          <p:cNvSpPr/>
          <p:nvPr/>
        </p:nvSpPr>
        <p:spPr>
          <a:xfrm>
            <a:off x="38862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49"/>
          <p:cNvSpPr/>
          <p:nvPr/>
        </p:nvSpPr>
        <p:spPr>
          <a:xfrm>
            <a:off x="5562720" y="6095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50"/>
          <p:cNvSpPr/>
          <p:nvPr/>
        </p:nvSpPr>
        <p:spPr>
          <a:xfrm>
            <a:off x="52578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Group 69"/>
          <p:cNvGrpSpPr/>
          <p:nvPr/>
        </p:nvGrpSpPr>
        <p:grpSpPr>
          <a:xfrm>
            <a:off x="2972520" y="2449440"/>
            <a:ext cx="1751760" cy="789120"/>
            <a:chOff x="2972520" y="2449440"/>
            <a:chExt cx="1751760" cy="789120"/>
          </a:xfrm>
        </p:grpSpPr>
        <p:grpSp>
          <p:nvGrpSpPr>
            <p:cNvPr id="792" name="Group 53"/>
            <p:cNvGrpSpPr/>
            <p:nvPr/>
          </p:nvGrpSpPr>
          <p:grpSpPr>
            <a:xfrm>
              <a:off x="2972520" y="2742120"/>
              <a:ext cx="1230480" cy="496440"/>
              <a:chOff x="2972520" y="2742120"/>
              <a:chExt cx="1230480" cy="496440"/>
            </a:xfrm>
          </p:grpSpPr>
          <p:sp>
            <p:nvSpPr>
              <p:cNvPr id="793" name="Straight Connector 47"/>
              <p:cNvSpPr/>
              <p:nvPr/>
            </p:nvSpPr>
            <p:spPr>
              <a:xfrm>
                <a:off x="2972520" y="2742120"/>
                <a:ext cx="1218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Straight Connector 49"/>
              <p:cNvSpPr/>
              <p:nvPr/>
            </p:nvSpPr>
            <p:spPr>
              <a:xfrm>
                <a:off x="4190400" y="2742840"/>
                <a:ext cx="12600" cy="49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TextBox 63"/>
            <p:cNvSpPr/>
            <p:nvPr/>
          </p:nvSpPr>
          <p:spPr>
            <a:xfrm>
              <a:off x="3657600" y="24494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TextBox 64"/>
            <p:cNvSpPr/>
            <p:nvPr/>
          </p:nvSpPr>
          <p:spPr>
            <a:xfrm>
              <a:off x="4191120" y="27432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Text Box 30"/>
          <p:cNvSpPr/>
          <p:nvPr/>
        </p:nvSpPr>
        <p:spPr>
          <a:xfrm>
            <a:off x="2666880" y="272736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31"/>
          <p:cNvSpPr/>
          <p:nvPr/>
        </p:nvSpPr>
        <p:spPr>
          <a:xfrm>
            <a:off x="3886200" y="3200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32"/>
          <p:cNvSpPr/>
          <p:nvPr/>
        </p:nvSpPr>
        <p:spPr>
          <a:xfrm>
            <a:off x="4800600" y="40989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33"/>
          <p:cNvSpPr/>
          <p:nvPr/>
        </p:nvSpPr>
        <p:spPr>
          <a:xfrm>
            <a:off x="5334120" y="4876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Group 72"/>
          <p:cNvGrpSpPr/>
          <p:nvPr/>
        </p:nvGrpSpPr>
        <p:grpSpPr>
          <a:xfrm>
            <a:off x="4267080" y="2971800"/>
            <a:ext cx="1524240" cy="1104840"/>
            <a:chOff x="4267080" y="2971800"/>
            <a:chExt cx="1524240" cy="1104840"/>
          </a:xfrm>
        </p:grpSpPr>
        <p:sp>
          <p:nvSpPr>
            <p:cNvPr id="802" name="Straight Connector 55"/>
            <p:cNvSpPr/>
            <p:nvPr/>
          </p:nvSpPr>
          <p:spPr>
            <a:xfrm>
              <a:off x="4267080" y="3276360"/>
              <a:ext cx="9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70"/>
            <p:cNvGrpSpPr/>
            <p:nvPr/>
          </p:nvGrpSpPr>
          <p:grpSpPr>
            <a:xfrm>
              <a:off x="4647960" y="2971800"/>
              <a:ext cx="1143360" cy="1104840"/>
              <a:chOff x="4647960" y="2971800"/>
              <a:chExt cx="1143360" cy="1104840"/>
            </a:xfrm>
          </p:grpSpPr>
          <p:sp>
            <p:nvSpPr>
              <p:cNvPr id="804" name="Straight Connector 56"/>
              <p:cNvSpPr/>
              <p:nvPr/>
            </p:nvSpPr>
            <p:spPr>
              <a:xfrm>
                <a:off x="5180760" y="3276360"/>
                <a:ext cx="12600" cy="8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TextBox 65"/>
              <p:cNvSpPr/>
              <p:nvPr/>
            </p:nvSpPr>
            <p:spPr>
              <a:xfrm>
                <a:off x="4647960" y="2971800"/>
                <a:ext cx="60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+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TextBox 66"/>
              <p:cNvSpPr/>
              <p:nvPr/>
            </p:nvSpPr>
            <p:spPr>
              <a:xfrm>
                <a:off x="5181480" y="3276360"/>
                <a:ext cx="60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7" name="Group 73"/>
          <p:cNvGrpSpPr/>
          <p:nvPr/>
        </p:nvGrpSpPr>
        <p:grpSpPr>
          <a:xfrm>
            <a:off x="5182560" y="3733920"/>
            <a:ext cx="1065960" cy="1144440"/>
            <a:chOff x="5182560" y="3733920"/>
            <a:chExt cx="1065960" cy="1144440"/>
          </a:xfrm>
        </p:grpSpPr>
        <p:sp>
          <p:nvSpPr>
            <p:cNvPr id="808" name="Straight Connector 60"/>
            <p:cNvSpPr/>
            <p:nvPr/>
          </p:nvSpPr>
          <p:spPr>
            <a:xfrm flipV="1">
              <a:off x="5182560" y="4113360"/>
              <a:ext cx="456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Straight Connector 62"/>
            <p:cNvSpPr/>
            <p:nvPr/>
          </p:nvSpPr>
          <p:spPr>
            <a:xfrm flipV="1">
              <a:off x="5638680" y="4115880"/>
              <a:ext cx="1440" cy="76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Box 67"/>
            <p:cNvSpPr/>
            <p:nvPr/>
          </p:nvSpPr>
          <p:spPr>
            <a:xfrm>
              <a:off x="5257800" y="37339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TextBox 68"/>
            <p:cNvSpPr/>
            <p:nvPr/>
          </p:nvSpPr>
          <p:spPr>
            <a:xfrm>
              <a:off x="5639040" y="42800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Kalinga"/>
              </a:rPr>
              <a:t>Law of Increasing Opportunity Costs </a:t>
            </a:r>
            <a:endParaRPr b="0" lang="en-US" sz="3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3" name="TextBox 6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6AA8D6E-F28E-43E1-A036-DA30AC0A0904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Rounded Rectangle 69"/>
          <p:cNvGrpSpPr/>
          <p:nvPr/>
        </p:nvGrpSpPr>
        <p:grpSpPr>
          <a:xfrm>
            <a:off x="4479840" y="1292400"/>
            <a:ext cx="4200480" cy="1469880"/>
            <a:chOff x="4479840" y="1292400"/>
            <a:chExt cx="4200480" cy="1469880"/>
          </a:xfrm>
        </p:grpSpPr>
        <p:pic>
          <p:nvPicPr>
            <p:cNvPr id="817" name="Rounded Rectangle 69" descr=""/>
            <p:cNvPicPr/>
            <p:nvPr/>
          </p:nvPicPr>
          <p:blipFill>
            <a:blip r:embed="rId1"/>
            <a:stretch/>
          </p:blipFill>
          <p:spPr>
            <a:xfrm>
              <a:off x="4479840" y="1292400"/>
              <a:ext cx="4200480" cy="14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/>
            <p:nvPr/>
          </p:nvSpPr>
          <p:spPr>
            <a:xfrm>
              <a:off x="4627440" y="1395360"/>
              <a:ext cx="392904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s more cars are produced, an increasing amount of wheat must be given 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Self-Test 5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228600" y="104148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ociety produces 1000 units of butter, how many guns can it produce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ociety is at “b” on the PPC, what is the cost of 1000 more units of butter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2" name="Text Box 9"/>
          <p:cNvSpPr/>
          <p:nvPr/>
        </p:nvSpPr>
        <p:spPr>
          <a:xfrm rot="10800000">
            <a:off x="3809520" y="2675880"/>
            <a:ext cx="45468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Quantity of guns per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10"/>
          <p:cNvSpPr/>
          <p:nvPr/>
        </p:nvSpPr>
        <p:spPr>
          <a:xfrm>
            <a:off x="4889520" y="5943600"/>
            <a:ext cx="42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y of butter per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7"/>
          <p:cNvSpPr/>
          <p:nvPr/>
        </p:nvSpPr>
        <p:spPr>
          <a:xfrm>
            <a:off x="4800600" y="2590920"/>
            <a:ext cx="0" cy="31240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8"/>
          <p:cNvSpPr/>
          <p:nvPr/>
        </p:nvSpPr>
        <p:spPr>
          <a:xfrm>
            <a:off x="4800600" y="5715000"/>
            <a:ext cx="41911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Arc 11"/>
          <p:cNvSpPr/>
          <p:nvPr/>
        </p:nvSpPr>
        <p:spPr>
          <a:xfrm>
            <a:off x="4800600" y="2895480"/>
            <a:ext cx="4038480" cy="2819520"/>
          </a:xfrm>
          <a:custGeom>
            <a:avLst/>
            <a:gdLst>
              <a:gd name="textAreaLeft" fmla="*/ 0 w 4038480"/>
              <a:gd name="textAreaRight" fmla="*/ 4038840 w 403848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13"/>
          <p:cNvSpPr/>
          <p:nvPr/>
        </p:nvSpPr>
        <p:spPr>
          <a:xfrm>
            <a:off x="4038480" y="2895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14"/>
          <p:cNvSpPr/>
          <p:nvPr/>
        </p:nvSpPr>
        <p:spPr>
          <a:xfrm>
            <a:off x="3962520" y="3429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15"/>
          <p:cNvSpPr/>
          <p:nvPr/>
        </p:nvSpPr>
        <p:spPr>
          <a:xfrm>
            <a:off x="4038480" y="449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16"/>
          <p:cNvSpPr/>
          <p:nvPr/>
        </p:nvSpPr>
        <p:spPr>
          <a:xfrm>
            <a:off x="54864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17"/>
          <p:cNvSpPr/>
          <p:nvPr/>
        </p:nvSpPr>
        <p:spPr>
          <a:xfrm>
            <a:off x="66294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18"/>
          <p:cNvSpPr/>
          <p:nvPr/>
        </p:nvSpPr>
        <p:spPr>
          <a:xfrm>
            <a:off x="792468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19"/>
          <p:cNvSpPr/>
          <p:nvPr/>
        </p:nvSpPr>
        <p:spPr>
          <a:xfrm>
            <a:off x="6095880" y="30481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20"/>
          <p:cNvSpPr/>
          <p:nvPr/>
        </p:nvSpPr>
        <p:spPr>
          <a:xfrm>
            <a:off x="7315200" y="358128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21"/>
          <p:cNvSpPr/>
          <p:nvPr/>
        </p:nvSpPr>
        <p:spPr>
          <a:xfrm>
            <a:off x="8534520" y="46483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Line 22"/>
          <p:cNvSpPr/>
          <p:nvPr/>
        </p:nvSpPr>
        <p:spPr>
          <a:xfrm flipH="1">
            <a:off x="4800240" y="35812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23"/>
          <p:cNvSpPr/>
          <p:nvPr/>
        </p:nvSpPr>
        <p:spPr>
          <a:xfrm flipH="1">
            <a:off x="4800600" y="4648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24"/>
          <p:cNvSpPr/>
          <p:nvPr/>
        </p:nvSpPr>
        <p:spPr>
          <a:xfrm flipH="1">
            <a:off x="4800240" y="3048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25"/>
          <p:cNvSpPr/>
          <p:nvPr/>
        </p:nvSpPr>
        <p:spPr>
          <a:xfrm>
            <a:off x="8458200" y="45720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26"/>
          <p:cNvSpPr/>
          <p:nvPr/>
        </p:nvSpPr>
        <p:spPr>
          <a:xfrm>
            <a:off x="7238880" y="342900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27"/>
          <p:cNvSpPr/>
          <p:nvPr/>
        </p:nvSpPr>
        <p:spPr>
          <a:xfrm>
            <a:off x="6019920" y="29718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28"/>
          <p:cNvSpPr/>
          <p:nvPr/>
        </p:nvSpPr>
        <p:spPr>
          <a:xfrm>
            <a:off x="6095880" y="2666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29"/>
          <p:cNvSpPr/>
          <p:nvPr/>
        </p:nvSpPr>
        <p:spPr>
          <a:xfrm>
            <a:off x="7315200" y="3124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30"/>
          <p:cNvSpPr/>
          <p:nvPr/>
        </p:nvSpPr>
        <p:spPr>
          <a:xfrm>
            <a:off x="8534520" y="4267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32"/>
          <p:cNvSpPr/>
          <p:nvPr/>
        </p:nvSpPr>
        <p:spPr>
          <a:xfrm>
            <a:off x="228600" y="2590920"/>
            <a:ext cx="3276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pportunity cost greater for move from “c” to “d” compared to a move from “b” to “c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9368D6D-A69F-4783-8734-F8C800B92D87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Box 3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Self-Test 5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228600" y="104148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ociety produces 1000 units of butter, how many guns can it produce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ociety is at “b” on the PPC, what is the cost of 1000 more units of butter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2" name="Text Box 9"/>
          <p:cNvSpPr/>
          <p:nvPr/>
        </p:nvSpPr>
        <p:spPr>
          <a:xfrm rot="10800000">
            <a:off x="3809520" y="2675880"/>
            <a:ext cx="45468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Quantity of guns per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10"/>
          <p:cNvSpPr/>
          <p:nvPr/>
        </p:nvSpPr>
        <p:spPr>
          <a:xfrm>
            <a:off x="4889520" y="5943600"/>
            <a:ext cx="42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y of butter per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7"/>
          <p:cNvSpPr/>
          <p:nvPr/>
        </p:nvSpPr>
        <p:spPr>
          <a:xfrm>
            <a:off x="4800600" y="2590920"/>
            <a:ext cx="0" cy="31240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8"/>
          <p:cNvSpPr/>
          <p:nvPr/>
        </p:nvSpPr>
        <p:spPr>
          <a:xfrm>
            <a:off x="4800600" y="5715000"/>
            <a:ext cx="41911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rc 11"/>
          <p:cNvSpPr/>
          <p:nvPr/>
        </p:nvSpPr>
        <p:spPr>
          <a:xfrm>
            <a:off x="4800600" y="2895480"/>
            <a:ext cx="4038480" cy="2819520"/>
          </a:xfrm>
          <a:custGeom>
            <a:avLst/>
            <a:gdLst>
              <a:gd name="textAreaLeft" fmla="*/ 0 w 4038480"/>
              <a:gd name="textAreaRight" fmla="*/ 4038840 w 403848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13"/>
          <p:cNvSpPr/>
          <p:nvPr/>
        </p:nvSpPr>
        <p:spPr>
          <a:xfrm>
            <a:off x="4038480" y="2895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14"/>
          <p:cNvSpPr/>
          <p:nvPr/>
        </p:nvSpPr>
        <p:spPr>
          <a:xfrm>
            <a:off x="3962520" y="3429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15"/>
          <p:cNvSpPr/>
          <p:nvPr/>
        </p:nvSpPr>
        <p:spPr>
          <a:xfrm>
            <a:off x="4038480" y="449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6"/>
          <p:cNvSpPr/>
          <p:nvPr/>
        </p:nvSpPr>
        <p:spPr>
          <a:xfrm>
            <a:off x="54864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7"/>
          <p:cNvSpPr/>
          <p:nvPr/>
        </p:nvSpPr>
        <p:spPr>
          <a:xfrm>
            <a:off x="66294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8"/>
          <p:cNvSpPr/>
          <p:nvPr/>
        </p:nvSpPr>
        <p:spPr>
          <a:xfrm>
            <a:off x="792468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19"/>
          <p:cNvSpPr/>
          <p:nvPr/>
        </p:nvSpPr>
        <p:spPr>
          <a:xfrm>
            <a:off x="6095880" y="30481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20"/>
          <p:cNvSpPr/>
          <p:nvPr/>
        </p:nvSpPr>
        <p:spPr>
          <a:xfrm>
            <a:off x="7315200" y="358128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21"/>
          <p:cNvSpPr/>
          <p:nvPr/>
        </p:nvSpPr>
        <p:spPr>
          <a:xfrm>
            <a:off x="8534520" y="46483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22"/>
          <p:cNvSpPr/>
          <p:nvPr/>
        </p:nvSpPr>
        <p:spPr>
          <a:xfrm flipH="1">
            <a:off x="4800240" y="35812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23"/>
          <p:cNvSpPr/>
          <p:nvPr/>
        </p:nvSpPr>
        <p:spPr>
          <a:xfrm flipH="1">
            <a:off x="4800600" y="4648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24"/>
          <p:cNvSpPr/>
          <p:nvPr/>
        </p:nvSpPr>
        <p:spPr>
          <a:xfrm flipH="1">
            <a:off x="4800240" y="3048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Oval 25"/>
          <p:cNvSpPr/>
          <p:nvPr/>
        </p:nvSpPr>
        <p:spPr>
          <a:xfrm>
            <a:off x="8458200" y="45720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Oval 26"/>
          <p:cNvSpPr/>
          <p:nvPr/>
        </p:nvSpPr>
        <p:spPr>
          <a:xfrm>
            <a:off x="7238880" y="342900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27"/>
          <p:cNvSpPr/>
          <p:nvPr/>
        </p:nvSpPr>
        <p:spPr>
          <a:xfrm>
            <a:off x="6019920" y="29718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28"/>
          <p:cNvSpPr/>
          <p:nvPr/>
        </p:nvSpPr>
        <p:spPr>
          <a:xfrm>
            <a:off x="6095880" y="2666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9"/>
          <p:cNvSpPr/>
          <p:nvPr/>
        </p:nvSpPr>
        <p:spPr>
          <a:xfrm>
            <a:off x="7315200" y="3124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30"/>
          <p:cNvSpPr/>
          <p:nvPr/>
        </p:nvSpPr>
        <p:spPr>
          <a:xfrm>
            <a:off x="8534520" y="4267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2"/>
          <p:cNvSpPr/>
          <p:nvPr/>
        </p:nvSpPr>
        <p:spPr>
          <a:xfrm>
            <a:off x="228600" y="2590920"/>
            <a:ext cx="3276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pportunity cost greater for move from “c” to “d” compared to a move from “b” to “c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31"/>
          <p:cNvSpPr/>
          <p:nvPr/>
        </p:nvSpPr>
        <p:spPr>
          <a:xfrm>
            <a:off x="3149640" y="143820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00 units of gu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Box 32"/>
          <p:cNvSpPr/>
          <p:nvPr/>
        </p:nvSpPr>
        <p:spPr>
          <a:xfrm>
            <a:off x="3774960" y="2219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00 units of g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Box 33"/>
          <p:cNvSpPr/>
          <p:nvPr/>
        </p:nvSpPr>
        <p:spPr>
          <a:xfrm>
            <a:off x="849240" y="55040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c to d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– 150 guns per 1000 units of bu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Box 34"/>
          <p:cNvSpPr/>
          <p:nvPr/>
        </p:nvSpPr>
        <p:spPr>
          <a:xfrm>
            <a:off x="838080" y="48578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b to c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– 100 guns per 1000 units of bu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4E10450-931B-41A9-9ADD-44130387CF62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Box 3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PC and Economic Growth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43E2BD6-BDEB-462C-BEF8-4D712768C2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7" name="Chart 8" descr=""/>
          <p:cNvPicPr/>
          <p:nvPr/>
        </p:nvPicPr>
        <p:blipFill>
          <a:blip r:embed="rId1"/>
          <a:stretch/>
        </p:blipFill>
        <p:spPr>
          <a:xfrm>
            <a:off x="225360" y="1566720"/>
            <a:ext cx="6108840" cy="4700880"/>
          </a:xfrm>
          <a:prstGeom prst="rect">
            <a:avLst/>
          </a:prstGeom>
          <a:ln w="0">
            <a:noFill/>
          </a:ln>
        </p:spPr>
      </p:pic>
      <p:grpSp>
        <p:nvGrpSpPr>
          <p:cNvPr id="888" name="Rounded Rectangle 9"/>
          <p:cNvGrpSpPr/>
          <p:nvPr/>
        </p:nvGrpSpPr>
        <p:grpSpPr>
          <a:xfrm>
            <a:off x="6242040" y="1773360"/>
            <a:ext cx="2541600" cy="2487600"/>
            <a:chOff x="6242040" y="1773360"/>
            <a:chExt cx="2541600" cy="2487600"/>
          </a:xfrm>
        </p:grpSpPr>
        <p:pic>
          <p:nvPicPr>
            <p:cNvPr id="889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6242040" y="1773360"/>
              <a:ext cx="254160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/>
            <p:nvPr/>
          </p:nvSpPr>
          <p:spPr>
            <a:xfrm>
              <a:off x="6421320" y="1924200"/>
              <a:ext cx="2192400" cy="21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Growth means the economy is able to produce more of every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PC and Technological Change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E9ACEAE-3F8D-4A80-8505-21F7ABA194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Rounded Rectangle 9"/>
          <p:cNvGrpSpPr/>
          <p:nvPr/>
        </p:nvGrpSpPr>
        <p:grpSpPr>
          <a:xfrm>
            <a:off x="6242040" y="1773360"/>
            <a:ext cx="2670120" cy="3268440"/>
            <a:chOff x="6242040" y="1773360"/>
            <a:chExt cx="2670120" cy="3268440"/>
          </a:xfrm>
        </p:grpSpPr>
        <p:pic>
          <p:nvPicPr>
            <p:cNvPr id="896" name="Rounded Rectangle 9" descr=""/>
            <p:cNvPicPr/>
            <p:nvPr/>
          </p:nvPicPr>
          <p:blipFill>
            <a:blip r:embed="rId1"/>
            <a:stretch/>
          </p:blipFill>
          <p:spPr>
            <a:xfrm>
              <a:off x="6242040" y="1773360"/>
              <a:ext cx="2670120" cy="32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6429240" y="1932120"/>
              <a:ext cx="2292480" cy="29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mprovement in technology shifts curve to P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can produce more of either good, or more of bot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8" name="Chart 10" descr=""/>
          <p:cNvPicPr/>
          <p:nvPr/>
        </p:nvPicPr>
        <p:blipFill>
          <a:blip r:embed="rId2"/>
          <a:stretch/>
        </p:blipFill>
        <p:spPr>
          <a:xfrm>
            <a:off x="-6480" y="1384200"/>
            <a:ext cx="6351840" cy="524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Self-Test 6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533520" y="914400"/>
          <a:ext cx="7924680" cy="1706400"/>
        </p:xfrm>
        <a:graphic>
          <a:graphicData uri="http://schemas.openxmlformats.org/drawingml/2006/table">
            <a:tbl>
              <a:tblPr/>
              <a:tblGrid>
                <a:gridCol w="1584360"/>
                <a:gridCol w="1585800"/>
                <a:gridCol w="1584360"/>
                <a:gridCol w="1585800"/>
                <a:gridCol w="15843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ies per Ye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2" name="Rectangle 32"/>
          <p:cNvSpPr/>
          <p:nvPr/>
        </p:nvSpPr>
        <p:spPr>
          <a:xfrm>
            <a:off x="382680" y="2895480"/>
            <a:ext cx="83804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a P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ools on the horizontal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assume new technology that can be used only in the tool industry is developed, which increases tool output by 5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Draw a new P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reflects this new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If Finhorn produced 12 units of tools per year, how many units of grain could be produced after the introduction of the new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2C14196-CD9A-4EEC-AF12-14E760943E5C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Box 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12"/>
          <p:cNvSpPr/>
          <p:nvPr/>
        </p:nvSpPr>
        <p:spPr>
          <a:xfrm>
            <a:off x="0" y="838080"/>
            <a:ext cx="9144000" cy="556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Self-Test 6 Solu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0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DD9D88E-27BC-4EBD-B7C4-3DC20DADBFE1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23"/>
          <p:cNvSpPr/>
          <p:nvPr/>
        </p:nvSpPr>
        <p:spPr>
          <a:xfrm>
            <a:off x="1373040" y="24685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29"/>
          <p:cNvSpPr/>
          <p:nvPr/>
        </p:nvSpPr>
        <p:spPr>
          <a:xfrm>
            <a:off x="1449360" y="21938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Group 51"/>
          <p:cNvGrpSpPr/>
          <p:nvPr/>
        </p:nvGrpSpPr>
        <p:grpSpPr>
          <a:xfrm>
            <a:off x="494280" y="1752480"/>
            <a:ext cx="7705080" cy="4635720"/>
            <a:chOff x="494280" y="1752480"/>
            <a:chExt cx="7705080" cy="4635720"/>
          </a:xfrm>
        </p:grpSpPr>
        <p:sp>
          <p:nvSpPr>
            <p:cNvPr id="912" name="Line 3"/>
            <p:cNvSpPr/>
            <p:nvPr/>
          </p:nvSpPr>
          <p:spPr>
            <a:xfrm>
              <a:off x="1449360" y="1782720"/>
              <a:ext cx="0" cy="434340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Line 4"/>
            <p:cNvSpPr/>
            <p:nvPr/>
          </p:nvSpPr>
          <p:spPr>
            <a:xfrm>
              <a:off x="1449360" y="6126120"/>
              <a:ext cx="54864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Text Box 5"/>
            <p:cNvSpPr/>
            <p:nvPr/>
          </p:nvSpPr>
          <p:spPr>
            <a:xfrm>
              <a:off x="494280" y="175248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r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Text Box 6"/>
            <p:cNvSpPr/>
            <p:nvPr/>
          </p:nvSpPr>
          <p:spPr>
            <a:xfrm>
              <a:off x="7407360" y="6019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Text Box 37"/>
          <p:cNvSpPr/>
          <p:nvPr/>
        </p:nvSpPr>
        <p:spPr>
          <a:xfrm>
            <a:off x="914400" y="23367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40"/>
          <p:cNvSpPr/>
          <p:nvPr/>
        </p:nvSpPr>
        <p:spPr>
          <a:xfrm>
            <a:off x="91440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41"/>
          <p:cNvSpPr/>
          <p:nvPr/>
        </p:nvSpPr>
        <p:spPr>
          <a:xfrm>
            <a:off x="91440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Group 81"/>
          <p:cNvGrpSpPr/>
          <p:nvPr/>
        </p:nvGrpSpPr>
        <p:grpSpPr>
          <a:xfrm>
            <a:off x="4800600" y="5775480"/>
            <a:ext cx="457200" cy="396720"/>
            <a:chOff x="4800600" y="5775480"/>
            <a:chExt cx="457200" cy="396720"/>
          </a:xfrm>
        </p:grpSpPr>
        <p:sp>
          <p:nvSpPr>
            <p:cNvPr id="920" name="Oval 24"/>
            <p:cNvSpPr/>
            <p:nvPr/>
          </p:nvSpPr>
          <p:spPr>
            <a:xfrm>
              <a:off x="4800600" y="601992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44"/>
            <p:cNvSpPr/>
            <p:nvPr/>
          </p:nvSpPr>
          <p:spPr>
            <a:xfrm>
              <a:off x="4952880" y="5775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Text Box 46"/>
          <p:cNvSpPr/>
          <p:nvPr/>
        </p:nvSpPr>
        <p:spPr>
          <a:xfrm>
            <a:off x="2286000" y="6095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48"/>
          <p:cNvSpPr/>
          <p:nvPr/>
        </p:nvSpPr>
        <p:spPr>
          <a:xfrm>
            <a:off x="3505320" y="6095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49"/>
          <p:cNvSpPr/>
          <p:nvPr/>
        </p:nvSpPr>
        <p:spPr>
          <a:xfrm>
            <a:off x="45720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Group 79"/>
          <p:cNvGrpSpPr/>
          <p:nvPr/>
        </p:nvGrpSpPr>
        <p:grpSpPr>
          <a:xfrm>
            <a:off x="2438280" y="3032280"/>
            <a:ext cx="457200" cy="368280"/>
            <a:chOff x="2438280" y="3032280"/>
            <a:chExt cx="457200" cy="368280"/>
          </a:xfrm>
        </p:grpSpPr>
        <p:sp>
          <p:nvSpPr>
            <p:cNvPr id="926" name="Oval 16"/>
            <p:cNvSpPr/>
            <p:nvPr/>
          </p:nvSpPr>
          <p:spPr>
            <a:xfrm>
              <a:off x="2438280" y="320040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30"/>
            <p:cNvSpPr/>
            <p:nvPr/>
          </p:nvSpPr>
          <p:spPr>
            <a:xfrm>
              <a:off x="2514240" y="30322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Text Box 49"/>
          <p:cNvSpPr/>
          <p:nvPr/>
        </p:nvSpPr>
        <p:spPr>
          <a:xfrm>
            <a:off x="563868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49"/>
          <p:cNvSpPr/>
          <p:nvPr/>
        </p:nvSpPr>
        <p:spPr>
          <a:xfrm>
            <a:off x="6705720" y="6095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80"/>
          <p:cNvGrpSpPr/>
          <p:nvPr/>
        </p:nvGrpSpPr>
        <p:grpSpPr>
          <a:xfrm>
            <a:off x="3657600" y="4022640"/>
            <a:ext cx="380880" cy="397080"/>
            <a:chOff x="3657600" y="4022640"/>
            <a:chExt cx="380880" cy="397080"/>
          </a:xfrm>
        </p:grpSpPr>
        <p:sp>
          <p:nvSpPr>
            <p:cNvPr id="931" name="Text Box 31"/>
            <p:cNvSpPr/>
            <p:nvPr/>
          </p:nvSpPr>
          <p:spPr>
            <a:xfrm>
              <a:off x="3733560" y="4022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Oval 26"/>
            <p:cNvSpPr/>
            <p:nvPr/>
          </p:nvSpPr>
          <p:spPr>
            <a:xfrm>
              <a:off x="3657600" y="426744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Group 82"/>
          <p:cNvGrpSpPr/>
          <p:nvPr/>
        </p:nvGrpSpPr>
        <p:grpSpPr>
          <a:xfrm>
            <a:off x="3035160" y="2984400"/>
            <a:ext cx="622440" cy="397080"/>
            <a:chOff x="3035160" y="2984400"/>
            <a:chExt cx="622440" cy="397080"/>
          </a:xfrm>
        </p:grpSpPr>
        <p:sp>
          <p:nvSpPr>
            <p:cNvPr id="934" name="Oval 16"/>
            <p:cNvSpPr/>
            <p:nvPr/>
          </p:nvSpPr>
          <p:spPr>
            <a:xfrm>
              <a:off x="3035160" y="322920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Text Box 30"/>
            <p:cNvSpPr/>
            <p:nvPr/>
          </p:nvSpPr>
          <p:spPr>
            <a:xfrm>
              <a:off x="3111120" y="298440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Group 83"/>
          <p:cNvGrpSpPr/>
          <p:nvPr/>
        </p:nvGrpSpPr>
        <p:grpSpPr>
          <a:xfrm>
            <a:off x="4800600" y="4038480"/>
            <a:ext cx="685800" cy="380880"/>
            <a:chOff x="4800600" y="4038480"/>
            <a:chExt cx="685800" cy="380880"/>
          </a:xfrm>
        </p:grpSpPr>
        <p:sp>
          <p:nvSpPr>
            <p:cNvPr id="937" name="Oval 26"/>
            <p:cNvSpPr/>
            <p:nvPr/>
          </p:nvSpPr>
          <p:spPr>
            <a:xfrm>
              <a:off x="4800600" y="426708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31"/>
            <p:cNvSpPr/>
            <p:nvPr/>
          </p:nvSpPr>
          <p:spPr>
            <a:xfrm>
              <a:off x="4952880" y="40384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Group 84"/>
          <p:cNvGrpSpPr/>
          <p:nvPr/>
        </p:nvGrpSpPr>
        <p:grpSpPr>
          <a:xfrm>
            <a:off x="6858000" y="5778360"/>
            <a:ext cx="685800" cy="393840"/>
            <a:chOff x="6858000" y="5778360"/>
            <a:chExt cx="685800" cy="393840"/>
          </a:xfrm>
        </p:grpSpPr>
        <p:sp>
          <p:nvSpPr>
            <p:cNvPr id="940" name="Oval 26"/>
            <p:cNvSpPr/>
            <p:nvPr/>
          </p:nvSpPr>
          <p:spPr>
            <a:xfrm>
              <a:off x="6858000" y="601992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Text Box 44"/>
            <p:cNvSpPr/>
            <p:nvPr/>
          </p:nvSpPr>
          <p:spPr>
            <a:xfrm>
              <a:off x="6933960" y="57783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Group 85"/>
          <p:cNvGrpSpPr/>
          <p:nvPr/>
        </p:nvGrpSpPr>
        <p:grpSpPr>
          <a:xfrm>
            <a:off x="1486080" y="2540160"/>
            <a:ext cx="5460840" cy="3555720"/>
            <a:chOff x="1486080" y="2540160"/>
            <a:chExt cx="5460840" cy="3555720"/>
          </a:xfrm>
        </p:grpSpPr>
        <p:sp>
          <p:nvSpPr>
            <p:cNvPr id="943" name="Freeform 77"/>
            <p:cNvSpPr/>
            <p:nvPr/>
          </p:nvSpPr>
          <p:spPr>
            <a:xfrm>
              <a:off x="1486080" y="2540160"/>
              <a:ext cx="5460840" cy="3555720"/>
            </a:xfrm>
            <a:custGeom>
              <a:avLst/>
              <a:gdLst>
                <a:gd name="textAreaLeft" fmla="*/ 0 w 5460840"/>
                <a:gd name="textAreaRight" fmla="*/ 5460840 w 5460840"/>
                <a:gd name="textAreaTop" fmla="*/ 0 h 3555720"/>
                <a:gd name="textAreaBottom" fmla="*/ 3556080 h 3555720"/>
              </a:gdLst>
              <a:ahLst/>
              <a:rect l="textAreaLeft" t="textAreaTop" r="textAreaRight" b="textAreaBottom"/>
              <a:pathLst>
                <a:path w="5461000" h="3556000">
                  <a:moveTo>
                    <a:pt x="0" y="0"/>
                  </a:moveTo>
                  <a:cubicBezTo>
                    <a:pt x="536575" y="236008"/>
                    <a:pt x="1073150" y="472017"/>
                    <a:pt x="1638300" y="774700"/>
                  </a:cubicBezTo>
                  <a:cubicBezTo>
                    <a:pt x="2203450" y="1077383"/>
                    <a:pt x="2753783" y="1352550"/>
                    <a:pt x="3390900" y="1816100"/>
                  </a:cubicBezTo>
                  <a:cubicBezTo>
                    <a:pt x="4028017" y="2279650"/>
                    <a:pt x="4744508" y="2917825"/>
                    <a:pt x="5461000" y="3556000"/>
                  </a:cubicBezTo>
                </a:path>
              </a:pathLst>
            </a:custGeom>
            <a:noFill/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Text Box 44"/>
            <p:cNvSpPr/>
            <p:nvPr/>
          </p:nvSpPr>
          <p:spPr>
            <a:xfrm>
              <a:off x="5791320" y="47242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79646"/>
                  </a:solidFill>
                  <a:latin typeface="Arial"/>
                </a:rPr>
                <a:t>P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Freeform 70"/>
          <p:cNvSpPr/>
          <p:nvPr/>
        </p:nvSpPr>
        <p:spPr>
          <a:xfrm>
            <a:off x="1486080" y="2540160"/>
            <a:ext cx="3403440" cy="3581280"/>
          </a:xfrm>
          <a:custGeom>
            <a:avLst/>
            <a:gdLst/>
            <a:ahLst/>
            <a:rect l="l" t="t" r="r" b="b"/>
            <a:pathLst>
              <a:path w="3403600" h="3581400">
                <a:moveTo>
                  <a:pt x="0" y="0"/>
                </a:moveTo>
                <a:cubicBezTo>
                  <a:pt x="333375" y="218016"/>
                  <a:pt x="666750" y="436033"/>
                  <a:pt x="1041400" y="736600"/>
                </a:cubicBezTo>
                <a:cubicBezTo>
                  <a:pt x="1416050" y="1037167"/>
                  <a:pt x="1854200" y="1329267"/>
                  <a:pt x="2247900" y="1803400"/>
                </a:cubicBezTo>
                <a:cubicBezTo>
                  <a:pt x="2641600" y="2277533"/>
                  <a:pt x="3022600" y="2929466"/>
                  <a:pt x="3403600" y="3581400"/>
                </a:cubicBezTo>
              </a:path>
            </a:pathLst>
          </a:custGeom>
          <a:noFill/>
          <a:ln w="507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Box 86"/>
          <p:cNvSpPr/>
          <p:nvPr/>
        </p:nvSpPr>
        <p:spPr>
          <a:xfrm>
            <a:off x="925560" y="1193760"/>
            <a:ext cx="76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technology allows 50% increase in tool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Group 94"/>
          <p:cNvGrpSpPr/>
          <p:nvPr/>
        </p:nvGrpSpPr>
        <p:grpSpPr>
          <a:xfrm>
            <a:off x="1523880" y="4343040"/>
            <a:ext cx="3354480" cy="1676880"/>
            <a:chOff x="1523880" y="4343040"/>
            <a:chExt cx="3354480" cy="1676880"/>
          </a:xfrm>
        </p:grpSpPr>
        <p:sp>
          <p:nvSpPr>
            <p:cNvPr id="948" name="Straight Connector 88"/>
            <p:cNvSpPr/>
            <p:nvPr/>
          </p:nvSpPr>
          <p:spPr>
            <a:xfrm>
              <a:off x="4876920" y="4356000"/>
              <a:ext cx="1440" cy="1663920"/>
            </a:xfrm>
            <a:prstGeom prst="line">
              <a:avLst/>
            </a:prstGeom>
            <a:ln w="284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Straight Connector 93"/>
            <p:cNvSpPr/>
            <p:nvPr/>
          </p:nvSpPr>
          <p:spPr>
            <a:xfrm flipH="1" flipV="1">
              <a:off x="1523880" y="4343040"/>
              <a:ext cx="3353040" cy="12600"/>
            </a:xfrm>
            <a:prstGeom prst="line">
              <a:avLst/>
            </a:prstGeom>
            <a:ln w="284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Box 4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Macroeconomic Goals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574560" y="1711080"/>
            <a:ext cx="811224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mproved standard of living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conomic growth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ll employmen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ble price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iable balance of international trad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quitable distribution of incom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nageable government debt &amp; defici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82880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9968E58-58E8-4C28-AB38-645ED4269E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95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74FF959-A87A-45DE-9A11-C8D7C32311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Understand why economics is such a relevant discipline in our society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earn a definition of economics and distinction between micro and macro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ppreciate that groups of people can have differing underlying value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ealize that scarcity, choice and opportunity cost are at the heart of economic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Understand why greater trade results in economies being more productive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96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4494EC8-DA77-402B-ABE2-E07629807D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lain the three fundamental questions that all societies must addres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derstand the four different ways that economies can be organized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Use the production possibilities model to illustrate opportunity cost, efficiency, and unemployment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List the economic goals of society and understand why they are often difficult to achieve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The Economic Problem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2935440"/>
            <a:ext cx="8528040" cy="33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7:  List the economic goals of society and explain why they are often difficult to achiev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A05FB91-3B0E-4694-8703-C60F659F98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Relevance of Economic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Controversies: </a:t>
            </a:r>
            <a:br>
              <a:rPr sz="3200"/>
            </a:b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onomic growth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ome redistribu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ad pricing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lobaliz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vision of health car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rbon trading system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94D1BAD-AF89-4D3C-9E8A-4BD2E704E2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What is Economics?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Positive Statemen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verified with empirical data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Normative Statemen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d on a person’s beliefs or value system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not be verified with data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96FBD6C-A4C2-4A53-9105-6DAF0A35E4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D605768-DD62-436D-ACB6-BB04371FC8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entify each of the following statements as either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itive (P) or normative (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federal government’s budget this year is the largest in his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national debt is at a manageable level and therefore is nothing to worry abou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ice of gasoline is higher than it needs to b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Rising Canadian exports are creating many new jobs in the coun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72CACBE-573F-42FD-982D-1645D5E659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entify each of the following statements as either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itive (P) or normative (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federal government’s budget this year is the largest in his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national debt is at a manageable level and therefore is nothing to worry abou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ice of gasoline is higher than it needs to b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Rising Canadian exports are creating many new jobs in the coun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8"/>
          <p:cNvSpPr/>
          <p:nvPr/>
        </p:nvSpPr>
        <p:spPr>
          <a:xfrm>
            <a:off x="4724280" y="2817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Box 9"/>
          <p:cNvSpPr/>
          <p:nvPr/>
        </p:nvSpPr>
        <p:spPr>
          <a:xfrm>
            <a:off x="7885800" y="3767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Box 10"/>
          <p:cNvSpPr/>
          <p:nvPr/>
        </p:nvSpPr>
        <p:spPr>
          <a:xfrm>
            <a:off x="2186640" y="4672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11"/>
          <p:cNvSpPr/>
          <p:nvPr/>
        </p:nvSpPr>
        <p:spPr>
          <a:xfrm>
            <a:off x="5280480" y="56275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What is Economics?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conomic Theor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oks at how positive statements are relat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s the </a:t>
            </a:r>
            <a:r>
              <a:rPr b="1" i="1" lang="en-US" sz="2800" spc="-1" strike="noStrike">
                <a:solidFill>
                  <a:srgbClr val="595959"/>
                </a:solidFill>
                <a:latin typeface="Times New Roman"/>
              </a:rPr>
              <a:t>scientific metho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 up a hypothesi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ine terms, state assumption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ather data to test hypothesi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ept, reject, or modify theory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A0DE9F3-258D-440C-BB99-80B3A94117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4:50Z</dcterms:modified>
  <cp:revision>225</cp:revision>
  <dc:subject/>
  <dc:title>Slide 1</dc:title>
</cp:coreProperties>
</file>