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941E-6F4D-4B22-BBF9-1B4B38610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FD00-0023-495F-AF63-91BA8E6D3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D22-B93B-489F-822E-D99C3776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DAE-92E1-4052-B5AC-04CDBCD3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88405-E4B5-4FE9-90CB-A5CAA56D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AC376-7E8D-4722-830F-E1FC39B2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818F6-1DF2-49CC-B1EF-BD6381D0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ACB7A-4438-4145-A44E-587998C7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51036-E61A-4819-B1D4-1CBE784A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BBE77D-6E49-4136-A07C-424F2DA6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B6F34-1BAE-4E14-BE8D-238B157E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C20DA-1EDA-465B-8877-CA8982A0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CAFA9-B2F4-41D1-8B0D-345612B4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78FB7-E59B-43ED-AF3F-0227DE69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0FB-2A49-4ED9-A087-00101CCB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78568-58BF-4BE1-A695-4574E28C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00582-7252-4284-9A45-0A523AD3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F14B88-BD2F-475F-BEDD-E5E4E55A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4DEFC-1349-448F-AB04-DB91C3B1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71F73-030D-4B1F-BEDB-62AB8F5C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A61AC-9720-4970-B6D0-98DAA03A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50341-553A-4B1A-89BB-DAFE9E71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6F794-9271-4890-8B67-2F700299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1601BE-0C61-418E-9868-E11ABA7A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7A63C-4070-453F-BA20-D7A8F735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1BBF-B67D-4764-83AA-9731FD32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271E4-6034-411D-9081-79F6971F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FDC7EC-61A1-4682-BE7E-CDB3EA559EA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E362EC-5B3C-4FEC-B307-EA50F3157E8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21A104-53B7-4111-AC6D-5CC9D1DEAF6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5C8B68-5521-4135-A66A-D31FF124E70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44B579-D882-425F-A954-F86100C4F6A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50E0B0-1C92-4AD0-92D6-BAE290A7F78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5E1C80-ECBB-4857-A6AF-A3BF778E7C3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642E50-983D-44FA-B107-18B7119309F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067357-A1A0-40FB-9369-EECE4FC3F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193A-178C-427A-8CFB-CDAC8109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F92CB0-2FDB-44F6-98AA-17F3CA6602B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BCB012-844D-47E3-8269-38C7C5895CA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D36F73-B774-4EDA-B5F8-94E2C0C97C5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C949E-4B05-4A5A-9A91-1ECD3E55B27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C1C29-A3F7-411B-86A0-98C269057B4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E5211-3C7E-466B-AF1A-C182A257033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25DA1-12C8-4C21-BA8B-74F6EBEDD06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C1EA5-32F8-4B65-88D9-105F9F08EF7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99438-9CE2-4A20-ABE3-9F099A47417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4931E4-367D-4C4F-9649-EB8882EA55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4D71-B82D-48C8-824E-B39F7B54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6CC8C-B2C0-4476-B65A-7187DBCF054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7AB8E-82B0-4A72-B58F-8EDBB6A4AC8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0A27E-0AC6-42ED-B923-41537A63111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BF938-32D7-44F2-99C1-8AA2D1B5011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DC3BD-EFB1-4D5E-83D5-A6B9F645729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8B98F4-7456-43C7-8A2A-2DE2928DDEA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038302-B273-4C4C-9ED6-98C437B4111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BF6CC2-AC25-4BB3-B4DD-58E1E94C884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6B86A0-0D11-47A2-9F08-8B47933B3B4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905FEF-D0B3-4897-BEDF-CCA4F359BB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2D2F-5343-4A4E-9822-BAB2CB03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F6BA05-F5AE-401F-AC91-9CDFDD8A07C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7A0B25-7267-48EC-B8E2-07FFB66DFED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0D7FAE-48F5-4F29-80A6-2DD6ECA5EF6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CCCD1D-905B-41BB-BA3B-21C6A7F868E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E3452C-1506-4059-9E54-EFC76CF1821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6F6C94-C14A-4EEE-B47D-BC83964D3A6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5F1167-338E-4DAB-A363-DA799EDC7B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8DE4-8110-4485-B06D-A6E24457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D9A2-A8E1-456D-814F-C788715A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7F6E-3E03-4A85-83A2-DDA861F6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03F7-1DC3-4D25-B088-ADE306C2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36A9-99BA-4E8C-A69B-4A6A7045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BDBC-26C6-4B49-BE18-6E8E9E44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8CDF-B147-4D22-820B-EDE1CF4C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E72E-99E8-4BC6-B10C-4A520C9E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BB02-5DEF-4B95-A604-F72416B7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078A-1A6C-4949-A369-74D2FC3A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04880-AF52-40C9-A8C3-3006F873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CA16D-6623-44C3-A8EC-F7304AF3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AC256-C86B-4E8D-AE40-11D3A958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8607E-5F3F-4C39-82C9-E344EF18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B7299-BB44-4FD3-B2A5-5FDE56A4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9A6-8586-440A-A21A-EE9EC9B8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FA775-93EF-4405-AEE0-B33768AF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E0B65-A9DF-4BB9-BC05-7D077B34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0792B-FEC6-4CEF-B176-CD33CB98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B4182-EE95-4078-B5BF-0E676549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DA871-3191-486E-B495-79BCE086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DDBD4-4812-4A1D-ABBD-EE25CBC4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3F850-C329-43E6-9CF6-9183FB8C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763B3-33C9-40A6-B88A-87EA6AE7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F7D60-82A8-4DC5-8146-351ACA31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81F6E-14AD-48FB-85F9-D884CA92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C858-BE48-4241-9279-31B65AC1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6431C-EF47-460E-A258-B93A704D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BD56E-671F-4112-860B-21B2CF11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C1B71-E83B-4B0B-B041-1EB94F3E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BDC60-9EF1-4494-A1DD-64ABF0A6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46652-7E4C-4490-8FA7-9FB01D16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AE9F9-4D96-472E-B334-3EFCEBFE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2D1D0-9F71-4E1B-9760-34725A3A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1BFAF-4521-489F-A7DD-B33A499F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5BCAC-BE21-44BA-852D-DE68E660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05ECE-CC1E-49EF-9921-188A7B57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677-4143-4F2E-AC03-2D79A93B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5EB13-7683-48AE-AF50-B7A662C8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69B3A-55B2-492A-87B6-27895AD7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99AAB-58F3-4C07-A54A-45C5C087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D45F9-6719-4E53-8884-55029AC2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EDDBD-F981-4C10-BFDB-375270E9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5BBC9-564C-4B4D-BD1B-33EBF8C3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B2472-C5D5-434E-A369-BAA798BE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BEF8F-942C-43FC-A2A1-38C6B1B9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384CA-46C4-4E49-B1A2-570C66C9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8F4CF-B86E-4F93-8C42-F0D1E607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3EB-C691-4434-A143-79E0AF6A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6345D-E8ED-4CBB-B4D3-1902B3A8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7FAA9-4E62-437D-8156-01848CD875C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8BB0DB-B892-4B9C-8BCF-181CDE7C8F4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43791-1A86-4337-9C41-530B9330F29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A36534-2F99-4668-BD9F-4328B9FACBC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701B6-7F10-4CCB-811D-B33426066AD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DB4D2D-9B91-459F-8029-B756C9462B7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22359E-5204-4460-B8C5-E510BC152A9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2103FB-7B33-4DFA-A889-512C914CB17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AD8A77-5511-4FB5-BF7C-D790064E2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065-C229-4F27-8C85-DF1053A9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29987-71B8-4571-8A58-319A8A8F855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915046-AFEE-4D17-8FD3-34C10E60508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AF1263-4AA2-4683-AF8C-BA93A5C8B5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3E7412-A5ED-45B4-9657-75B320291A3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3495D9-4B06-45FE-A10D-6EF4885BBA7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F60AFF-8E6B-47EC-9365-FDC1687678F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5E5250-316D-42AA-86A2-782F00CD83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A0B695-89BB-419A-BBA0-20DF78DEAD4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C020EC-B707-4EF3-A391-8DD5300D291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83CD59-6049-4DFB-A243-CBBE5CBA0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29F8-FC09-498F-B884-BAB761A1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C495B5-7C45-416E-90A3-CE45848F46F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5795C7-5B36-4560-BF1F-2FBD4184AD1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973B26-7404-4C00-931F-FD50713FFBA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E21FCB-2873-4C8A-AE07-5117881EAFD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2C2639-F7AB-4758-9828-E4ED21D357E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131B7D-637C-4D0F-B590-6656CFB6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B65111-AB13-46E6-AEC5-F5CFD700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89A732-5AB2-48B9-AEA7-749F9ED6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B1C399-461D-4F4B-AEE8-9B2F2FA8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705EFF-8407-4696-8FCC-70435880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E4B-5DEA-49D1-A7D5-FC8709FE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C5E528-6EAE-4158-AD71-943115C5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2EEAB4-7DB0-4C34-8B96-E6B0A1A4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2DAE18-4CE5-48A7-8C08-9E8DB93E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CB4BEE-95AC-4E83-A542-77F7B068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91842E-2E26-4CC8-BD3E-3A5151A5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FA984A-BF69-4985-B65B-B821EF7D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1DDE7E-ADE9-4F7E-966A-451F5462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0B4502-0F54-4405-BC89-1445656D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32CEC-F950-467F-B274-F0DA5A51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9AAB8-32E4-4B2F-BFB4-033B5085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DF876E5-3E9F-4F89-8F40-C94F6BF018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02A30F3-399C-404F-9BB0-3DD98EBD8F46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5FD3ABE-EFCB-4424-8C91-2526AF2F0EEF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2C276D1-88A4-43F2-893C-7A065862D423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E1B099E-6F45-4AEB-BA71-E95392E696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EF93E10-EA37-4FF5-A510-05A643081B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D7202A0-B276-444B-9263-CA6FB872E5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7354166-A74D-4165-BE25-68C3DB82D3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5A1888F-7CF3-434D-B970-3A846F11AA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E783401-0765-4DA5-97CB-D2F70D3905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172B70E-46D2-4A22-BED1-A2CD99B79D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The Economic Problem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croeconomic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w the major components of an economy intera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employment, inflation, interest rat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icroeconomic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comes of decisions by people and fir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y and demand, costs of production, market structur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C67C427-4AAE-4DF4-89A6-EC5F672C19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AE6A87E-12A8-4F73-B65B-5ED367D087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ify which of the following topics would likely app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a microeconomics course and which in a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roeconomics course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iP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Unemployment r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esence of monopo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rate of economic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1613EA9-D8C3-409F-8C4B-43B6BE5B5E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ify which of the following topics would likely app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a microeconomics course and which in a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roeconomics course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iP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Unemployment r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esence of monopo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rate of economic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Box 8"/>
          <p:cNvSpPr/>
          <p:nvPr/>
        </p:nvSpPr>
        <p:spPr>
          <a:xfrm>
            <a:off x="4393800" y="263700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9"/>
          <p:cNvSpPr/>
          <p:nvPr/>
        </p:nvSpPr>
        <p:spPr>
          <a:xfrm>
            <a:off x="4982760" y="312912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Box 10"/>
          <p:cNvSpPr/>
          <p:nvPr/>
        </p:nvSpPr>
        <p:spPr>
          <a:xfrm>
            <a:off x="6141600" y="36399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11"/>
          <p:cNvSpPr/>
          <p:nvPr/>
        </p:nvSpPr>
        <p:spPr>
          <a:xfrm>
            <a:off x="6407640" y="41608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carcity and Choic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Resources are Scarce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ources, or “factors of production”, are anything used to produce goods and serv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 not have enough resources to produce everything everybody wan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have some way to ration scarce resour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F6D4AAB-BA5E-4D88-983E-A54A22CC9E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902880" y="1752120"/>
            <a:ext cx="77835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Labour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uman mental and physical effor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Land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Any natural resource used to produce goods or services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Capital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Tools, equipment, factories, and buildings used in production proces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Enterprise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The human resource that innovates and takes risk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3DE49FE-1141-4B51-83C0-E7D9BCFD4D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CA168EE-6BB9-4C32-820F-229023C18F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535040" y="1566720"/>
          <a:ext cx="6096240" cy="4213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caf47"/>
                          </a:solidFill>
                          <a:latin typeface="Kalinga"/>
                        </a:rPr>
                        <a:t>RESOURC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caf47"/>
                          </a:solidFill>
                          <a:latin typeface="Kalinga"/>
                        </a:rPr>
                        <a:t>EARN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Labou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La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Capi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Intere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Enterpri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rof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879811A-587F-40C5-AA23-2FDFFE6AFC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cate whether the resource in ques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bour (L), capital (K), land (N), or enterprise (E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bar-code scanner in a supermar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Fresh drinking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Copper deposits in a 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work of a systems an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irst application of e- technology to an economics 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n office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6E744E2-3996-4AF3-AA53-F0E318D33C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cate whether the resource in ques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bour (L), capital (K), land (N), or enterprise (E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bar-code scanner in a supermar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Fresh drinking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Copper deposits in a 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work of a systems an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irst application of e- technology to an economics 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n office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7583760" y="2286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4887000" y="2789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5823720" y="3300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6471000" y="3821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4731120" y="474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4277160" y="5273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902880" y="1690200"/>
            <a:ext cx="7783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Technology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hod of productio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y in which resources are combined to produce goods and servic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Opportunity Cost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value of the next-best alternative that is given up as a result of making a particular choic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BBF43D1-06E5-4DA3-B8AA-70D47E6CE7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fficienc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02880" y="1690200"/>
            <a:ext cx="7783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Productive Efficiency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of an output at the lowest possible average cos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Allocative Efficiency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of that combination of outputs that best satisfies consumers’ demand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42E9210-403C-4663-92CD-E7196ABB8B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1:  Understand the relevance of economic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2:  Define economics, microeconomics, and macroeconomics and understand the importance of the scientific metho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3:  Realize that scarcity, choice, and opportunity cost are at the heart of economics and that efficiency is a cornerston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A0333CB-9C00-41A4-8977-70F7B5A484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902880" y="1871640"/>
            <a:ext cx="77835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oluntary trade benefits both part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re trade, the greater the benefit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es to individuals as well as to nation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C1841B7-D29F-41D0-B962-26889CC156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7284FAA-C767-4581-B783-D3B0554273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1201680" y="1444680"/>
          <a:ext cx="6740640" cy="1828800"/>
        </p:xfrm>
        <a:graphic>
          <a:graphicData uri="http://schemas.openxmlformats.org/drawingml/2006/table">
            <a:tbl>
              <a:tblPr/>
              <a:tblGrid>
                <a:gridCol w="2573280"/>
                <a:gridCol w="1690920"/>
                <a:gridCol w="871560"/>
                <a:gridCol w="1604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Maximum Outpu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1216080" y="3670200"/>
          <a:ext cx="6740640" cy="2286000"/>
        </p:xfrm>
        <a:graphic>
          <a:graphicData uri="http://schemas.openxmlformats.org/drawingml/2006/table">
            <a:tbl>
              <a:tblPr/>
              <a:tblGrid>
                <a:gridCol w="2573280"/>
                <a:gridCol w="1569960"/>
                <a:gridCol w="992160"/>
                <a:gridCol w="160524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ithout Tra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Total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17C0E08-4173-44FB-B258-235D5A038A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1201680" y="1444680"/>
          <a:ext cx="6740640" cy="1828800"/>
        </p:xfrm>
        <a:graphic>
          <a:graphicData uri="http://schemas.openxmlformats.org/drawingml/2006/table">
            <a:tbl>
              <a:tblPr/>
              <a:tblGrid>
                <a:gridCol w="2573280"/>
                <a:gridCol w="1690920"/>
                <a:gridCol w="871560"/>
                <a:gridCol w="1604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Maximum Outpu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1216080" y="3670200"/>
          <a:ext cx="6740640" cy="2286000"/>
        </p:xfrm>
        <a:graphic>
          <a:graphicData uri="http://schemas.openxmlformats.org/drawingml/2006/table">
            <a:tbl>
              <a:tblPr/>
              <a:tblGrid>
                <a:gridCol w="2573280"/>
                <a:gridCol w="1569960"/>
                <a:gridCol w="992160"/>
                <a:gridCol w="160524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ith Tra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Total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Three Fundamental Question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o produ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to produ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r wh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022F901-D11C-422E-9A4E-A88732AA4C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Four Types of Economie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operation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stom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and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etitio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D57C81A-CBB0-453D-8D68-29C22C7D5E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roduction Possibilities Curve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the various combinations of maximum output that can be produced from the available resources and technology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sumption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ll employment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 of the best technology availabl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ive efficienc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BEF81D4-D9A6-4877-BDCB-3A1C2B391E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B0082A7-7506-4977-BCC6-CC59A23E6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3497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" descr=""/>
          <p:cNvPicPr/>
          <p:nvPr/>
        </p:nvPicPr>
        <p:blipFill>
          <a:blip r:embed="rId2"/>
          <a:srcRect l="5483" t="39876" r="10200" b="34772"/>
          <a:stretch/>
        </p:blipFill>
        <p:spPr>
          <a:xfrm>
            <a:off x="0" y="4730760"/>
            <a:ext cx="9144000" cy="171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5"/>
          <p:cNvSpPr/>
          <p:nvPr/>
        </p:nvSpPr>
        <p:spPr>
          <a:xfrm>
            <a:off x="73915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4133880" y="2057400"/>
            <a:ext cx="15523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ttai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42670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9"/>
          <p:cNvSpPr/>
          <p:nvPr/>
        </p:nvSpPr>
        <p:spPr>
          <a:xfrm>
            <a:off x="1449360" y="201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0"/>
          <p:cNvSpPr/>
          <p:nvPr/>
        </p:nvSpPr>
        <p:spPr>
          <a:xfrm>
            <a:off x="2819520" y="2209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1"/>
          <p:cNvSpPr/>
          <p:nvPr/>
        </p:nvSpPr>
        <p:spPr>
          <a:xfrm>
            <a:off x="42670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2"/>
          <p:cNvSpPr/>
          <p:nvPr/>
        </p:nvSpPr>
        <p:spPr>
          <a:xfrm>
            <a:off x="5257800" y="3809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3"/>
          <p:cNvSpPr/>
          <p:nvPr/>
        </p:nvSpPr>
        <p:spPr>
          <a:xfrm>
            <a:off x="57150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51"/>
          <p:cNvGrpSpPr/>
          <p:nvPr/>
        </p:nvGrpSpPr>
        <p:grpSpPr>
          <a:xfrm>
            <a:off x="496800" y="1752480"/>
            <a:ext cx="6438960" cy="4711680"/>
            <a:chOff x="496800" y="1752480"/>
            <a:chExt cx="6438960" cy="4711680"/>
          </a:xfrm>
        </p:grpSpPr>
        <p:sp>
          <p:nvSpPr>
            <p:cNvPr id="703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5"/>
            <p:cNvSpPr/>
            <p:nvPr/>
          </p:nvSpPr>
          <p:spPr>
            <a:xfrm>
              <a:off x="496800" y="1752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6"/>
            <p:cNvSpPr/>
            <p:nvPr/>
          </p:nvSpPr>
          <p:spPr>
            <a:xfrm>
              <a:off x="6203520" y="6095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Arc 7"/>
            <p:cNvSpPr/>
            <p:nvPr/>
          </p:nvSpPr>
          <p:spPr>
            <a:xfrm>
              <a:off x="1523880" y="2514600"/>
              <a:ext cx="4343400" cy="358128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cap="sq"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Oval 16"/>
          <p:cNvSpPr/>
          <p:nvPr/>
        </p:nvSpPr>
        <p:spPr>
          <a:xfrm>
            <a:off x="2895480" y="25909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9"/>
          <p:cNvSpPr/>
          <p:nvPr/>
        </p:nvSpPr>
        <p:spPr>
          <a:xfrm flipH="1">
            <a:off x="1447920" y="2666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0"/>
          <p:cNvSpPr/>
          <p:nvPr/>
        </p:nvSpPr>
        <p:spPr>
          <a:xfrm>
            <a:off x="2973240" y="277344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24"/>
          <p:cNvSpPr/>
          <p:nvPr/>
        </p:nvSpPr>
        <p:spPr>
          <a:xfrm>
            <a:off x="5791320" y="6019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13"/>
          <p:cNvSpPr/>
          <p:nvPr/>
        </p:nvSpPr>
        <p:spPr>
          <a:xfrm>
            <a:off x="4114800" y="2590920"/>
            <a:ext cx="15228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22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27"/>
          <p:cNvSpPr/>
          <p:nvPr/>
        </p:nvSpPr>
        <p:spPr>
          <a:xfrm>
            <a:off x="4191120" y="266688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21"/>
          <p:cNvSpPr/>
          <p:nvPr/>
        </p:nvSpPr>
        <p:spPr>
          <a:xfrm flipH="1">
            <a:off x="1447920" y="49528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26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10"/>
          <p:cNvSpPr/>
          <p:nvPr/>
        </p:nvSpPr>
        <p:spPr>
          <a:xfrm flipH="1">
            <a:off x="4419000" y="3809880"/>
            <a:ext cx="15228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2958480" y="36576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36"/>
          <p:cNvSpPr/>
          <p:nvPr/>
        </p:nvSpPr>
        <p:spPr>
          <a:xfrm flipH="1">
            <a:off x="1447920" y="3276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37"/>
          <p:cNvSpPr/>
          <p:nvPr/>
        </p:nvSpPr>
        <p:spPr>
          <a:xfrm>
            <a:off x="9144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8"/>
          <p:cNvSpPr/>
          <p:nvPr/>
        </p:nvSpPr>
        <p:spPr>
          <a:xfrm>
            <a:off x="9144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9"/>
          <p:cNvSpPr/>
          <p:nvPr/>
        </p:nvSpPr>
        <p:spPr>
          <a:xfrm>
            <a:off x="9144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2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43"/>
          <p:cNvSpPr/>
          <p:nvPr/>
        </p:nvSpPr>
        <p:spPr>
          <a:xfrm flipH="1">
            <a:off x="1447560" y="41148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9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44"/>
          <p:cNvSpPr/>
          <p:nvPr/>
        </p:nvSpPr>
        <p:spPr>
          <a:xfrm>
            <a:off x="59436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45"/>
          <p:cNvSpPr/>
          <p:nvPr/>
        </p:nvSpPr>
        <p:spPr>
          <a:xfrm>
            <a:off x="5181480" y="4191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46"/>
          <p:cNvSpPr/>
          <p:nvPr/>
        </p:nvSpPr>
        <p:spPr>
          <a:xfrm>
            <a:off x="26668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47"/>
          <p:cNvSpPr/>
          <p:nvPr/>
        </p:nvSpPr>
        <p:spPr>
          <a:xfrm>
            <a:off x="4800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8"/>
          <p:cNvSpPr/>
          <p:nvPr/>
        </p:nvSpPr>
        <p:spPr>
          <a:xfrm>
            <a:off x="3886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9"/>
          <p:cNvSpPr/>
          <p:nvPr/>
        </p:nvSpPr>
        <p:spPr>
          <a:xfrm>
            <a:off x="5562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0"/>
          <p:cNvSpPr/>
          <p:nvPr/>
        </p:nvSpPr>
        <p:spPr>
          <a:xfrm>
            <a:off x="52578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rcRect l="5483" t="39876" r="10200" b="34772"/>
          <a:stretch/>
        </p:blipFill>
        <p:spPr>
          <a:xfrm>
            <a:off x="0" y="0"/>
            <a:ext cx="9144000" cy="17193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4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F92AC7E-C27F-4F4E-AF23-916976FB81B2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Rounded Rectangle 51"/>
          <p:cNvGrpSpPr/>
          <p:nvPr/>
        </p:nvGrpSpPr>
        <p:grpSpPr>
          <a:xfrm>
            <a:off x="5827680" y="2494080"/>
            <a:ext cx="3054240" cy="1919160"/>
            <a:chOff x="5827680" y="2494080"/>
            <a:chExt cx="3054240" cy="1919160"/>
          </a:xfrm>
        </p:grpSpPr>
        <p:pic>
          <p:nvPicPr>
            <p:cNvPr id="740" name="Rounded Rectangle 51" descr=""/>
            <p:cNvPicPr/>
            <p:nvPr/>
          </p:nvPicPr>
          <p:blipFill>
            <a:blip r:embed="rId2"/>
            <a:stretch/>
          </p:blipFill>
          <p:spPr>
            <a:xfrm>
              <a:off x="5827680" y="2494080"/>
              <a:ext cx="3054240" cy="19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5978520" y="2619360"/>
              <a:ext cx="26938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oints on the curve represent maximum output possible with available resourc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Oval 52"/>
          <p:cNvSpPr/>
          <p:nvPr/>
        </p:nvSpPr>
        <p:spPr>
          <a:xfrm>
            <a:off x="1849320" y="531720"/>
            <a:ext cx="51120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3" name="Straight Arrow Connector 54"/>
          <p:cNvCxnSpPr>
            <a:endCxn id="697" idx="2"/>
          </p:cNvCxnSpPr>
          <p:nvPr/>
        </p:nvCxnSpPr>
        <p:spPr>
          <a:xfrm flipH="1">
            <a:off x="1639440" y="1722240"/>
            <a:ext cx="33912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4" name="Oval 56"/>
          <p:cNvSpPr/>
          <p:nvPr/>
        </p:nvSpPr>
        <p:spPr>
          <a:xfrm>
            <a:off x="3129120" y="523800"/>
            <a:ext cx="51084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Straight Arrow Connector 58"/>
          <p:cNvCxnSpPr/>
          <p:nvPr/>
        </p:nvCxnSpPr>
        <p:spPr>
          <a:xfrm flipH="1">
            <a:off x="3093480" y="1779120"/>
            <a:ext cx="270360" cy="740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6" name="Oval 60"/>
          <p:cNvSpPr/>
          <p:nvPr/>
        </p:nvSpPr>
        <p:spPr>
          <a:xfrm>
            <a:off x="5727600" y="517680"/>
            <a:ext cx="50976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Straight Arrow Connector 61"/>
          <p:cNvCxnSpPr/>
          <p:nvPr/>
        </p:nvCxnSpPr>
        <p:spPr>
          <a:xfrm flipH="1">
            <a:off x="5327280" y="1782360"/>
            <a:ext cx="645120" cy="2120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carcity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points outside the curv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ho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points on the curve (efficient) and points within the curve (inefficient)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Opportunity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the downward slope of the curv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AB22519-CB8D-4D50-8809-8E777A1051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8236"/>
                </a:solidFill>
                <a:latin typeface="Kalinga"/>
              </a:rPr>
              <a:t>Law of Increasing Opportunity Costs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ors of production are not equally suitabl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 output increases, the per unit costs of additional units increase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ives the production possibilities curve its bowed out shap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0C2E8F4-905A-4D12-86F4-9B34CC107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52804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4:  Understand why trade results in economies being more producti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5:  Explain the three fundamental questions and the four ways economies can be organiz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6:  Use the production possibilities model to explain choice, opportunity cost, efficiency, and unemploymen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4012671-5135-4B7C-B8F3-9677243DCB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5"/>
          <p:cNvSpPr/>
          <p:nvPr/>
        </p:nvSpPr>
        <p:spPr>
          <a:xfrm>
            <a:off x="73915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9"/>
          <p:cNvSpPr/>
          <p:nvPr/>
        </p:nvSpPr>
        <p:spPr>
          <a:xfrm>
            <a:off x="1449360" y="201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Group 51"/>
          <p:cNvGrpSpPr/>
          <p:nvPr/>
        </p:nvGrpSpPr>
        <p:grpSpPr>
          <a:xfrm>
            <a:off x="496800" y="1752480"/>
            <a:ext cx="6438960" cy="4711680"/>
            <a:chOff x="496800" y="1752480"/>
            <a:chExt cx="6438960" cy="4711680"/>
          </a:xfrm>
        </p:grpSpPr>
        <p:sp>
          <p:nvSpPr>
            <p:cNvPr id="762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Text Box 5"/>
            <p:cNvSpPr/>
            <p:nvPr/>
          </p:nvSpPr>
          <p:spPr>
            <a:xfrm>
              <a:off x="496800" y="1752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Text Box 6"/>
            <p:cNvSpPr/>
            <p:nvPr/>
          </p:nvSpPr>
          <p:spPr>
            <a:xfrm>
              <a:off x="6203520" y="6095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7"/>
            <p:cNvSpPr/>
            <p:nvPr/>
          </p:nvSpPr>
          <p:spPr>
            <a:xfrm>
              <a:off x="1523880" y="2514600"/>
              <a:ext cx="4343400" cy="358128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cap="sq"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Oval 16"/>
          <p:cNvSpPr/>
          <p:nvPr/>
        </p:nvSpPr>
        <p:spPr>
          <a:xfrm>
            <a:off x="2895480" y="25909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19"/>
          <p:cNvSpPr/>
          <p:nvPr/>
        </p:nvSpPr>
        <p:spPr>
          <a:xfrm flipH="1" flipV="1">
            <a:off x="1472760" y="2666880"/>
            <a:ext cx="1435320" cy="46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0"/>
          <p:cNvSpPr/>
          <p:nvPr/>
        </p:nvSpPr>
        <p:spPr>
          <a:xfrm>
            <a:off x="2973240" y="277344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24"/>
          <p:cNvSpPr/>
          <p:nvPr/>
        </p:nvSpPr>
        <p:spPr>
          <a:xfrm>
            <a:off x="5791320" y="6019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2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 flipH="1">
            <a:off x="4191120" y="3352680"/>
            <a:ext cx="46080" cy="278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1"/>
          <p:cNvSpPr/>
          <p:nvPr/>
        </p:nvSpPr>
        <p:spPr>
          <a:xfrm flipH="1">
            <a:off x="1447920" y="49528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26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36"/>
          <p:cNvSpPr/>
          <p:nvPr/>
        </p:nvSpPr>
        <p:spPr>
          <a:xfrm flipH="1" flipV="1">
            <a:off x="1523880" y="3246480"/>
            <a:ext cx="2603520" cy="46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37"/>
          <p:cNvSpPr/>
          <p:nvPr/>
        </p:nvSpPr>
        <p:spPr>
          <a:xfrm>
            <a:off x="9144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38"/>
          <p:cNvSpPr/>
          <p:nvPr/>
        </p:nvSpPr>
        <p:spPr>
          <a:xfrm>
            <a:off x="9144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39"/>
          <p:cNvSpPr/>
          <p:nvPr/>
        </p:nvSpPr>
        <p:spPr>
          <a:xfrm>
            <a:off x="9144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42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43"/>
          <p:cNvSpPr/>
          <p:nvPr/>
        </p:nvSpPr>
        <p:spPr>
          <a:xfrm flipH="1">
            <a:off x="1447560" y="41148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9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44"/>
          <p:cNvSpPr/>
          <p:nvPr/>
        </p:nvSpPr>
        <p:spPr>
          <a:xfrm>
            <a:off x="59436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45"/>
          <p:cNvSpPr/>
          <p:nvPr/>
        </p:nvSpPr>
        <p:spPr>
          <a:xfrm>
            <a:off x="5181480" y="4191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46"/>
          <p:cNvSpPr/>
          <p:nvPr/>
        </p:nvSpPr>
        <p:spPr>
          <a:xfrm>
            <a:off x="26668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47"/>
          <p:cNvSpPr/>
          <p:nvPr/>
        </p:nvSpPr>
        <p:spPr>
          <a:xfrm>
            <a:off x="4800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48"/>
          <p:cNvSpPr/>
          <p:nvPr/>
        </p:nvSpPr>
        <p:spPr>
          <a:xfrm>
            <a:off x="3886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49"/>
          <p:cNvSpPr/>
          <p:nvPr/>
        </p:nvSpPr>
        <p:spPr>
          <a:xfrm>
            <a:off x="5562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50"/>
          <p:cNvSpPr/>
          <p:nvPr/>
        </p:nvSpPr>
        <p:spPr>
          <a:xfrm>
            <a:off x="52578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Group 69"/>
          <p:cNvGrpSpPr/>
          <p:nvPr/>
        </p:nvGrpSpPr>
        <p:grpSpPr>
          <a:xfrm>
            <a:off x="2972520" y="2449440"/>
            <a:ext cx="1751760" cy="789120"/>
            <a:chOff x="2972520" y="2449440"/>
            <a:chExt cx="1751760" cy="789120"/>
          </a:xfrm>
        </p:grpSpPr>
        <p:grpSp>
          <p:nvGrpSpPr>
            <p:cNvPr id="792" name="Group 53"/>
            <p:cNvGrpSpPr/>
            <p:nvPr/>
          </p:nvGrpSpPr>
          <p:grpSpPr>
            <a:xfrm>
              <a:off x="2972520" y="2742120"/>
              <a:ext cx="1230480" cy="496440"/>
              <a:chOff x="2972520" y="2742120"/>
              <a:chExt cx="1230480" cy="496440"/>
            </a:xfrm>
          </p:grpSpPr>
          <p:sp>
            <p:nvSpPr>
              <p:cNvPr id="793" name="Straight Connector 47"/>
              <p:cNvSpPr/>
              <p:nvPr/>
            </p:nvSpPr>
            <p:spPr>
              <a:xfrm>
                <a:off x="2972520" y="2742120"/>
                <a:ext cx="1218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Straight Connector 49"/>
              <p:cNvSpPr/>
              <p:nvPr/>
            </p:nvSpPr>
            <p:spPr>
              <a:xfrm>
                <a:off x="4190400" y="2742840"/>
                <a:ext cx="12600" cy="49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TextBox 63"/>
            <p:cNvSpPr/>
            <p:nvPr/>
          </p:nvSpPr>
          <p:spPr>
            <a:xfrm>
              <a:off x="3657600" y="24494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Box 64"/>
            <p:cNvSpPr/>
            <p:nvPr/>
          </p:nvSpPr>
          <p:spPr>
            <a:xfrm>
              <a:off x="4191120" y="2743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Text Box 30"/>
          <p:cNvSpPr/>
          <p:nvPr/>
        </p:nvSpPr>
        <p:spPr>
          <a:xfrm>
            <a:off x="2666880" y="27273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38862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32"/>
          <p:cNvSpPr/>
          <p:nvPr/>
        </p:nvSpPr>
        <p:spPr>
          <a:xfrm>
            <a:off x="4800600" y="40989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33"/>
          <p:cNvSpPr/>
          <p:nvPr/>
        </p:nvSpPr>
        <p:spPr>
          <a:xfrm>
            <a:off x="53341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72"/>
          <p:cNvGrpSpPr/>
          <p:nvPr/>
        </p:nvGrpSpPr>
        <p:grpSpPr>
          <a:xfrm>
            <a:off x="4267080" y="2971800"/>
            <a:ext cx="1524240" cy="1104840"/>
            <a:chOff x="4267080" y="2971800"/>
            <a:chExt cx="1524240" cy="1104840"/>
          </a:xfrm>
        </p:grpSpPr>
        <p:sp>
          <p:nvSpPr>
            <p:cNvPr id="802" name="Straight Connector 55"/>
            <p:cNvSpPr/>
            <p:nvPr/>
          </p:nvSpPr>
          <p:spPr>
            <a:xfrm>
              <a:off x="4267080" y="3276360"/>
              <a:ext cx="9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70"/>
            <p:cNvGrpSpPr/>
            <p:nvPr/>
          </p:nvGrpSpPr>
          <p:grpSpPr>
            <a:xfrm>
              <a:off x="4647960" y="2971800"/>
              <a:ext cx="1143360" cy="1104840"/>
              <a:chOff x="4647960" y="2971800"/>
              <a:chExt cx="1143360" cy="1104840"/>
            </a:xfrm>
          </p:grpSpPr>
          <p:sp>
            <p:nvSpPr>
              <p:cNvPr id="804" name="Straight Connector 56"/>
              <p:cNvSpPr/>
              <p:nvPr/>
            </p:nvSpPr>
            <p:spPr>
              <a:xfrm>
                <a:off x="5180760" y="3276360"/>
                <a:ext cx="12600" cy="8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Box 65"/>
              <p:cNvSpPr/>
              <p:nvPr/>
            </p:nvSpPr>
            <p:spPr>
              <a:xfrm>
                <a:off x="4647960" y="297180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Box 66"/>
              <p:cNvSpPr/>
              <p:nvPr/>
            </p:nvSpPr>
            <p:spPr>
              <a:xfrm>
                <a:off x="5181480" y="327636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Group 73"/>
          <p:cNvGrpSpPr/>
          <p:nvPr/>
        </p:nvGrpSpPr>
        <p:grpSpPr>
          <a:xfrm>
            <a:off x="5182560" y="3733920"/>
            <a:ext cx="1065960" cy="1144440"/>
            <a:chOff x="5182560" y="3733920"/>
            <a:chExt cx="1065960" cy="1144440"/>
          </a:xfrm>
        </p:grpSpPr>
        <p:sp>
          <p:nvSpPr>
            <p:cNvPr id="808" name="Straight Connector 60"/>
            <p:cNvSpPr/>
            <p:nvPr/>
          </p:nvSpPr>
          <p:spPr>
            <a:xfrm flipV="1">
              <a:off x="5182560" y="4113360"/>
              <a:ext cx="456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Straight Connector 62"/>
            <p:cNvSpPr/>
            <p:nvPr/>
          </p:nvSpPr>
          <p:spPr>
            <a:xfrm flipV="1">
              <a:off x="5638680" y="4115880"/>
              <a:ext cx="1440" cy="76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Box 67"/>
            <p:cNvSpPr/>
            <p:nvPr/>
          </p:nvSpPr>
          <p:spPr>
            <a:xfrm>
              <a:off x="5257800" y="37339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Box 68"/>
            <p:cNvSpPr/>
            <p:nvPr/>
          </p:nvSpPr>
          <p:spPr>
            <a:xfrm>
              <a:off x="5639040" y="42800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Law of Increasing Opportunity Costs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3" name="TextBox 6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461157A-8D26-4392-A2E6-2E828D0E3BFC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Rounded Rectangle 69"/>
          <p:cNvGrpSpPr/>
          <p:nvPr/>
        </p:nvGrpSpPr>
        <p:grpSpPr>
          <a:xfrm>
            <a:off x="4479840" y="1292400"/>
            <a:ext cx="4200480" cy="1469880"/>
            <a:chOff x="4479840" y="1292400"/>
            <a:chExt cx="4200480" cy="1469880"/>
          </a:xfrm>
        </p:grpSpPr>
        <p:pic>
          <p:nvPicPr>
            <p:cNvPr id="817" name="Rounded Rectangle 69" descr=""/>
            <p:cNvPicPr/>
            <p:nvPr/>
          </p:nvPicPr>
          <p:blipFill>
            <a:blip r:embed="rId1"/>
            <a:stretch/>
          </p:blipFill>
          <p:spPr>
            <a:xfrm>
              <a:off x="4479840" y="1292400"/>
              <a:ext cx="420048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4627440" y="1395360"/>
              <a:ext cx="392904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more cars are produced, an increasing amount of wheat must be given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5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228600" y="104148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produces 1000 units of butter, how many guns can it produce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is at “b” on the PPC, what is the cost of 1000 more units of butter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2" name="Text Box 9"/>
          <p:cNvSpPr/>
          <p:nvPr/>
        </p:nvSpPr>
        <p:spPr>
          <a:xfrm rot="10800000">
            <a:off x="3809520" y="2675880"/>
            <a:ext cx="45468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Quantity of guns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10"/>
          <p:cNvSpPr/>
          <p:nvPr/>
        </p:nvSpPr>
        <p:spPr>
          <a:xfrm>
            <a:off x="4889520" y="59436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butter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7"/>
          <p:cNvSpPr/>
          <p:nvPr/>
        </p:nvSpPr>
        <p:spPr>
          <a:xfrm>
            <a:off x="4800600" y="25909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8"/>
          <p:cNvSpPr/>
          <p:nvPr/>
        </p:nvSpPr>
        <p:spPr>
          <a:xfrm>
            <a:off x="4800600" y="5715000"/>
            <a:ext cx="4191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rc 11"/>
          <p:cNvSpPr/>
          <p:nvPr/>
        </p:nvSpPr>
        <p:spPr>
          <a:xfrm>
            <a:off x="4800600" y="2895480"/>
            <a:ext cx="4038480" cy="28195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3"/>
          <p:cNvSpPr/>
          <p:nvPr/>
        </p:nvSpPr>
        <p:spPr>
          <a:xfrm>
            <a:off x="40384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14"/>
          <p:cNvSpPr/>
          <p:nvPr/>
        </p:nvSpPr>
        <p:spPr>
          <a:xfrm>
            <a:off x="39625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15"/>
          <p:cNvSpPr/>
          <p:nvPr/>
        </p:nvSpPr>
        <p:spPr>
          <a:xfrm>
            <a:off x="403848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16"/>
          <p:cNvSpPr/>
          <p:nvPr/>
        </p:nvSpPr>
        <p:spPr>
          <a:xfrm>
            <a:off x="5486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17"/>
          <p:cNvSpPr/>
          <p:nvPr/>
        </p:nvSpPr>
        <p:spPr>
          <a:xfrm>
            <a:off x="6629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79246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9"/>
          <p:cNvSpPr/>
          <p:nvPr/>
        </p:nvSpPr>
        <p:spPr>
          <a:xfrm>
            <a:off x="6095880" y="30481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20"/>
          <p:cNvSpPr/>
          <p:nvPr/>
        </p:nvSpPr>
        <p:spPr>
          <a:xfrm>
            <a:off x="7315200" y="35812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21"/>
          <p:cNvSpPr/>
          <p:nvPr/>
        </p:nvSpPr>
        <p:spPr>
          <a:xfrm>
            <a:off x="85345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22"/>
          <p:cNvSpPr/>
          <p:nvPr/>
        </p:nvSpPr>
        <p:spPr>
          <a:xfrm flipH="1">
            <a:off x="4800240" y="3581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23"/>
          <p:cNvSpPr/>
          <p:nvPr/>
        </p:nvSpPr>
        <p:spPr>
          <a:xfrm flipH="1">
            <a:off x="4800600" y="4648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24"/>
          <p:cNvSpPr/>
          <p:nvPr/>
        </p:nvSpPr>
        <p:spPr>
          <a:xfrm flipH="1">
            <a:off x="4800240" y="3048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25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26"/>
          <p:cNvSpPr/>
          <p:nvPr/>
        </p:nvSpPr>
        <p:spPr>
          <a:xfrm>
            <a:off x="7238880" y="342900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27"/>
          <p:cNvSpPr/>
          <p:nvPr/>
        </p:nvSpPr>
        <p:spPr>
          <a:xfrm>
            <a:off x="6019920" y="29718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28"/>
          <p:cNvSpPr/>
          <p:nvPr/>
        </p:nvSpPr>
        <p:spPr>
          <a:xfrm>
            <a:off x="60958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29"/>
          <p:cNvSpPr/>
          <p:nvPr/>
        </p:nvSpPr>
        <p:spPr>
          <a:xfrm>
            <a:off x="731520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30"/>
          <p:cNvSpPr/>
          <p:nvPr/>
        </p:nvSpPr>
        <p:spPr>
          <a:xfrm>
            <a:off x="85345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32"/>
          <p:cNvSpPr/>
          <p:nvPr/>
        </p:nvSpPr>
        <p:spPr>
          <a:xfrm>
            <a:off x="228600" y="2590920"/>
            <a:ext cx="327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portunity cost greater for move from “c” to “d” compared to a move from “b” to “c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9691F5B-C80F-4210-8291-2C9B0532BA3D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Box 3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5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228600" y="104148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produces 1000 units of butter, how many guns can it produce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is at “b” on the PPC, what is the cost of 1000 more units of butter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2" name="Text Box 9"/>
          <p:cNvSpPr/>
          <p:nvPr/>
        </p:nvSpPr>
        <p:spPr>
          <a:xfrm rot="10800000">
            <a:off x="3809520" y="2675880"/>
            <a:ext cx="45468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Quantity of guns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0"/>
          <p:cNvSpPr/>
          <p:nvPr/>
        </p:nvSpPr>
        <p:spPr>
          <a:xfrm>
            <a:off x="4889520" y="59436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butter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7"/>
          <p:cNvSpPr/>
          <p:nvPr/>
        </p:nvSpPr>
        <p:spPr>
          <a:xfrm>
            <a:off x="4800600" y="25909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4800600" y="5715000"/>
            <a:ext cx="4191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rc 11"/>
          <p:cNvSpPr/>
          <p:nvPr/>
        </p:nvSpPr>
        <p:spPr>
          <a:xfrm>
            <a:off x="4800600" y="2895480"/>
            <a:ext cx="4038480" cy="28195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40384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4"/>
          <p:cNvSpPr/>
          <p:nvPr/>
        </p:nvSpPr>
        <p:spPr>
          <a:xfrm>
            <a:off x="39625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5"/>
          <p:cNvSpPr/>
          <p:nvPr/>
        </p:nvSpPr>
        <p:spPr>
          <a:xfrm>
            <a:off x="403848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6"/>
          <p:cNvSpPr/>
          <p:nvPr/>
        </p:nvSpPr>
        <p:spPr>
          <a:xfrm>
            <a:off x="5486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7"/>
          <p:cNvSpPr/>
          <p:nvPr/>
        </p:nvSpPr>
        <p:spPr>
          <a:xfrm>
            <a:off x="6629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8"/>
          <p:cNvSpPr/>
          <p:nvPr/>
        </p:nvSpPr>
        <p:spPr>
          <a:xfrm>
            <a:off x="79246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9"/>
          <p:cNvSpPr/>
          <p:nvPr/>
        </p:nvSpPr>
        <p:spPr>
          <a:xfrm>
            <a:off x="6095880" y="30481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20"/>
          <p:cNvSpPr/>
          <p:nvPr/>
        </p:nvSpPr>
        <p:spPr>
          <a:xfrm>
            <a:off x="7315200" y="35812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21"/>
          <p:cNvSpPr/>
          <p:nvPr/>
        </p:nvSpPr>
        <p:spPr>
          <a:xfrm>
            <a:off x="85345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2"/>
          <p:cNvSpPr/>
          <p:nvPr/>
        </p:nvSpPr>
        <p:spPr>
          <a:xfrm flipH="1">
            <a:off x="4800240" y="3581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3"/>
          <p:cNvSpPr/>
          <p:nvPr/>
        </p:nvSpPr>
        <p:spPr>
          <a:xfrm flipH="1">
            <a:off x="4800600" y="4648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4"/>
          <p:cNvSpPr/>
          <p:nvPr/>
        </p:nvSpPr>
        <p:spPr>
          <a:xfrm flipH="1">
            <a:off x="4800240" y="3048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26"/>
          <p:cNvSpPr/>
          <p:nvPr/>
        </p:nvSpPr>
        <p:spPr>
          <a:xfrm>
            <a:off x="7238880" y="342900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27"/>
          <p:cNvSpPr/>
          <p:nvPr/>
        </p:nvSpPr>
        <p:spPr>
          <a:xfrm>
            <a:off x="6019920" y="29718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8"/>
          <p:cNvSpPr/>
          <p:nvPr/>
        </p:nvSpPr>
        <p:spPr>
          <a:xfrm>
            <a:off x="60958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9"/>
          <p:cNvSpPr/>
          <p:nvPr/>
        </p:nvSpPr>
        <p:spPr>
          <a:xfrm>
            <a:off x="731520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30"/>
          <p:cNvSpPr/>
          <p:nvPr/>
        </p:nvSpPr>
        <p:spPr>
          <a:xfrm>
            <a:off x="85345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2"/>
          <p:cNvSpPr/>
          <p:nvPr/>
        </p:nvSpPr>
        <p:spPr>
          <a:xfrm>
            <a:off x="228600" y="2590920"/>
            <a:ext cx="327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portunity cost greater for move from “c” to “d” compared to a move from “b” to “c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31"/>
          <p:cNvSpPr/>
          <p:nvPr/>
        </p:nvSpPr>
        <p:spPr>
          <a:xfrm>
            <a:off x="3149640" y="143820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00 units of gu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Box 32"/>
          <p:cNvSpPr/>
          <p:nvPr/>
        </p:nvSpPr>
        <p:spPr>
          <a:xfrm>
            <a:off x="3774960" y="2219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00 units of g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Box 33"/>
          <p:cNvSpPr/>
          <p:nvPr/>
        </p:nvSpPr>
        <p:spPr>
          <a:xfrm>
            <a:off x="849240" y="55040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c to d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– 150 guns per 1000 units of b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Box 34"/>
          <p:cNvSpPr/>
          <p:nvPr/>
        </p:nvSpPr>
        <p:spPr>
          <a:xfrm>
            <a:off x="838080" y="48578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b to c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– 100 guns per 1000 units of b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CED6DB6-234F-4FC4-A126-4BFF54C3BA97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Box 3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PC and Economic Growth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E0BC87E-4FF8-4F16-A25E-8B67854E37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Chart 8" descr=""/>
          <p:cNvPicPr/>
          <p:nvPr/>
        </p:nvPicPr>
        <p:blipFill>
          <a:blip r:embed="rId1"/>
          <a:stretch/>
        </p:blipFill>
        <p:spPr>
          <a:xfrm>
            <a:off x="225360" y="1566720"/>
            <a:ext cx="6108840" cy="4700880"/>
          </a:xfrm>
          <a:prstGeom prst="rect">
            <a:avLst/>
          </a:prstGeom>
          <a:ln w="0">
            <a:noFill/>
          </a:ln>
        </p:spPr>
      </p:pic>
      <p:grpSp>
        <p:nvGrpSpPr>
          <p:cNvPr id="888" name="Rounded Rectangle 9"/>
          <p:cNvGrpSpPr/>
          <p:nvPr/>
        </p:nvGrpSpPr>
        <p:grpSpPr>
          <a:xfrm>
            <a:off x="6242040" y="1773360"/>
            <a:ext cx="2541600" cy="2487600"/>
            <a:chOff x="6242040" y="1773360"/>
            <a:chExt cx="2541600" cy="2487600"/>
          </a:xfrm>
        </p:grpSpPr>
        <p:pic>
          <p:nvPicPr>
            <p:cNvPr id="889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6242040" y="1773360"/>
              <a:ext cx="254160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6421320" y="1924200"/>
              <a:ext cx="219240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Growth means the economy is able to produce more of every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PC and Technological Change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3B4E1B3-A85F-4B50-A68D-28CE55806C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Rounded Rectangle 9"/>
          <p:cNvGrpSpPr/>
          <p:nvPr/>
        </p:nvGrpSpPr>
        <p:grpSpPr>
          <a:xfrm>
            <a:off x="6242040" y="1773360"/>
            <a:ext cx="2670120" cy="3268440"/>
            <a:chOff x="6242040" y="1773360"/>
            <a:chExt cx="2670120" cy="3268440"/>
          </a:xfrm>
        </p:grpSpPr>
        <p:pic>
          <p:nvPicPr>
            <p:cNvPr id="896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6242040" y="1773360"/>
              <a:ext cx="2670120" cy="32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6429240" y="1932120"/>
              <a:ext cx="2292480" cy="29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mprovement in technology shifts curve to P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an produce more of either good, or more of bot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8" name="Chart 10" descr=""/>
          <p:cNvPicPr/>
          <p:nvPr/>
        </p:nvPicPr>
        <p:blipFill>
          <a:blip r:embed="rId2"/>
          <a:stretch/>
        </p:blipFill>
        <p:spPr>
          <a:xfrm>
            <a:off x="-6480" y="1384200"/>
            <a:ext cx="635184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6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533520" y="914400"/>
          <a:ext cx="7924680" cy="17064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ies per Y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2" name="Rectangle 32"/>
          <p:cNvSpPr/>
          <p:nvPr/>
        </p:nvSpPr>
        <p:spPr>
          <a:xfrm>
            <a:off x="382680" y="2895480"/>
            <a:ext cx="83804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a P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ools on the horizontal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assume new technology that can be used only in the tool industry is developed, which increases tool output by 5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Draw a new P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flects this 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f Finhorn produced 12 units of tools per year, how many units of grain could be produced after the introduction of the 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5013FC1-E225-4831-AE73-6C87C1A24AA8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12"/>
          <p:cNvSpPr/>
          <p:nvPr/>
        </p:nvSpPr>
        <p:spPr>
          <a:xfrm>
            <a:off x="0" y="838080"/>
            <a:ext cx="9144000" cy="556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6 Solu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0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C5918E0-99A9-40EC-A18D-52A7481E956D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29"/>
          <p:cNvSpPr/>
          <p:nvPr/>
        </p:nvSpPr>
        <p:spPr>
          <a:xfrm>
            <a:off x="1449360" y="21938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Group 51"/>
          <p:cNvGrpSpPr/>
          <p:nvPr/>
        </p:nvGrpSpPr>
        <p:grpSpPr>
          <a:xfrm>
            <a:off x="494280" y="1752480"/>
            <a:ext cx="7705080" cy="4635720"/>
            <a:chOff x="494280" y="1752480"/>
            <a:chExt cx="7705080" cy="4635720"/>
          </a:xfrm>
        </p:grpSpPr>
        <p:sp>
          <p:nvSpPr>
            <p:cNvPr id="912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Text Box 5"/>
            <p:cNvSpPr/>
            <p:nvPr/>
          </p:nvSpPr>
          <p:spPr>
            <a:xfrm>
              <a:off x="494280" y="17524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Text Box 6"/>
            <p:cNvSpPr/>
            <p:nvPr/>
          </p:nvSpPr>
          <p:spPr>
            <a:xfrm>
              <a:off x="7407360" y="6019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Text Box 37"/>
          <p:cNvSpPr/>
          <p:nvPr/>
        </p:nvSpPr>
        <p:spPr>
          <a:xfrm>
            <a:off x="914400" y="2336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Group 81"/>
          <p:cNvGrpSpPr/>
          <p:nvPr/>
        </p:nvGrpSpPr>
        <p:grpSpPr>
          <a:xfrm>
            <a:off x="4800600" y="5775480"/>
            <a:ext cx="457200" cy="396720"/>
            <a:chOff x="4800600" y="5775480"/>
            <a:chExt cx="457200" cy="396720"/>
          </a:xfrm>
        </p:grpSpPr>
        <p:sp>
          <p:nvSpPr>
            <p:cNvPr id="920" name="Oval 24"/>
            <p:cNvSpPr/>
            <p:nvPr/>
          </p:nvSpPr>
          <p:spPr>
            <a:xfrm>
              <a:off x="4800600" y="601992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44"/>
            <p:cNvSpPr/>
            <p:nvPr/>
          </p:nvSpPr>
          <p:spPr>
            <a:xfrm>
              <a:off x="4952880" y="5775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Text Box 46"/>
          <p:cNvSpPr/>
          <p:nvPr/>
        </p:nvSpPr>
        <p:spPr>
          <a:xfrm>
            <a:off x="228600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48"/>
          <p:cNvSpPr/>
          <p:nvPr/>
        </p:nvSpPr>
        <p:spPr>
          <a:xfrm>
            <a:off x="350532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49"/>
          <p:cNvSpPr/>
          <p:nvPr/>
        </p:nvSpPr>
        <p:spPr>
          <a:xfrm>
            <a:off x="45720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Group 79"/>
          <p:cNvGrpSpPr/>
          <p:nvPr/>
        </p:nvGrpSpPr>
        <p:grpSpPr>
          <a:xfrm>
            <a:off x="2438280" y="3032280"/>
            <a:ext cx="457200" cy="368280"/>
            <a:chOff x="2438280" y="3032280"/>
            <a:chExt cx="457200" cy="368280"/>
          </a:xfrm>
        </p:grpSpPr>
        <p:sp>
          <p:nvSpPr>
            <p:cNvPr id="926" name="Oval 16"/>
            <p:cNvSpPr/>
            <p:nvPr/>
          </p:nvSpPr>
          <p:spPr>
            <a:xfrm>
              <a:off x="2438280" y="320040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30"/>
            <p:cNvSpPr/>
            <p:nvPr/>
          </p:nvSpPr>
          <p:spPr>
            <a:xfrm>
              <a:off x="2514240" y="30322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Text Box 49"/>
          <p:cNvSpPr/>
          <p:nvPr/>
        </p:nvSpPr>
        <p:spPr>
          <a:xfrm>
            <a:off x="56386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49"/>
          <p:cNvSpPr/>
          <p:nvPr/>
        </p:nvSpPr>
        <p:spPr>
          <a:xfrm>
            <a:off x="6705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80"/>
          <p:cNvGrpSpPr/>
          <p:nvPr/>
        </p:nvGrpSpPr>
        <p:grpSpPr>
          <a:xfrm>
            <a:off x="3657600" y="4022640"/>
            <a:ext cx="380880" cy="397080"/>
            <a:chOff x="3657600" y="4022640"/>
            <a:chExt cx="380880" cy="397080"/>
          </a:xfrm>
        </p:grpSpPr>
        <p:sp>
          <p:nvSpPr>
            <p:cNvPr id="931" name="Text Box 31"/>
            <p:cNvSpPr/>
            <p:nvPr/>
          </p:nvSpPr>
          <p:spPr>
            <a:xfrm>
              <a:off x="3733560" y="4022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26"/>
            <p:cNvSpPr/>
            <p:nvPr/>
          </p:nvSpPr>
          <p:spPr>
            <a:xfrm>
              <a:off x="3657600" y="426744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82"/>
          <p:cNvGrpSpPr/>
          <p:nvPr/>
        </p:nvGrpSpPr>
        <p:grpSpPr>
          <a:xfrm>
            <a:off x="3035160" y="2984400"/>
            <a:ext cx="622440" cy="397080"/>
            <a:chOff x="3035160" y="2984400"/>
            <a:chExt cx="622440" cy="397080"/>
          </a:xfrm>
        </p:grpSpPr>
        <p:sp>
          <p:nvSpPr>
            <p:cNvPr id="934" name="Oval 16"/>
            <p:cNvSpPr/>
            <p:nvPr/>
          </p:nvSpPr>
          <p:spPr>
            <a:xfrm>
              <a:off x="3035160" y="322920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30"/>
            <p:cNvSpPr/>
            <p:nvPr/>
          </p:nvSpPr>
          <p:spPr>
            <a:xfrm>
              <a:off x="3111120" y="298440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Group 83"/>
          <p:cNvGrpSpPr/>
          <p:nvPr/>
        </p:nvGrpSpPr>
        <p:grpSpPr>
          <a:xfrm>
            <a:off x="4800600" y="4038480"/>
            <a:ext cx="685800" cy="380880"/>
            <a:chOff x="4800600" y="4038480"/>
            <a:chExt cx="685800" cy="380880"/>
          </a:xfrm>
        </p:grpSpPr>
        <p:sp>
          <p:nvSpPr>
            <p:cNvPr id="937" name="Oval 26"/>
            <p:cNvSpPr/>
            <p:nvPr/>
          </p:nvSpPr>
          <p:spPr>
            <a:xfrm>
              <a:off x="4800600" y="426708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31"/>
            <p:cNvSpPr/>
            <p:nvPr/>
          </p:nvSpPr>
          <p:spPr>
            <a:xfrm>
              <a:off x="4952880" y="4038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Group 84"/>
          <p:cNvGrpSpPr/>
          <p:nvPr/>
        </p:nvGrpSpPr>
        <p:grpSpPr>
          <a:xfrm>
            <a:off x="6858000" y="5778360"/>
            <a:ext cx="685800" cy="393840"/>
            <a:chOff x="6858000" y="5778360"/>
            <a:chExt cx="685800" cy="393840"/>
          </a:xfrm>
        </p:grpSpPr>
        <p:sp>
          <p:nvSpPr>
            <p:cNvPr id="940" name="Oval 26"/>
            <p:cNvSpPr/>
            <p:nvPr/>
          </p:nvSpPr>
          <p:spPr>
            <a:xfrm>
              <a:off x="6858000" y="601992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44"/>
            <p:cNvSpPr/>
            <p:nvPr/>
          </p:nvSpPr>
          <p:spPr>
            <a:xfrm>
              <a:off x="6933960" y="57783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Group 85"/>
          <p:cNvGrpSpPr/>
          <p:nvPr/>
        </p:nvGrpSpPr>
        <p:grpSpPr>
          <a:xfrm>
            <a:off x="1486080" y="2540160"/>
            <a:ext cx="5460840" cy="3555720"/>
            <a:chOff x="1486080" y="2540160"/>
            <a:chExt cx="5460840" cy="3555720"/>
          </a:xfrm>
        </p:grpSpPr>
        <p:sp>
          <p:nvSpPr>
            <p:cNvPr id="943" name="Freeform 77"/>
            <p:cNvSpPr/>
            <p:nvPr/>
          </p:nvSpPr>
          <p:spPr>
            <a:xfrm>
              <a:off x="1486080" y="2540160"/>
              <a:ext cx="5460840" cy="3555720"/>
            </a:xfrm>
            <a:custGeom>
              <a:avLst/>
              <a:gdLst>
                <a:gd name="textAreaLeft" fmla="*/ 0 w 5460840"/>
                <a:gd name="textAreaRight" fmla="*/ 5460840 w 5460840"/>
                <a:gd name="textAreaTop" fmla="*/ 0 h 3555720"/>
                <a:gd name="textAreaBottom" fmla="*/ 3556080 h 3555720"/>
              </a:gdLst>
              <a:ahLst/>
              <a:rect l="textAreaLeft" t="textAreaTop" r="textAreaRight" b="textAreaBottom"/>
              <a:pathLst>
                <a:path w="5461000" h="3556000">
                  <a:moveTo>
                    <a:pt x="0" y="0"/>
                  </a:moveTo>
                  <a:cubicBezTo>
                    <a:pt x="536575" y="236008"/>
                    <a:pt x="1073150" y="472017"/>
                    <a:pt x="1638300" y="774700"/>
                  </a:cubicBezTo>
                  <a:cubicBezTo>
                    <a:pt x="2203450" y="1077383"/>
                    <a:pt x="2753783" y="1352550"/>
                    <a:pt x="3390900" y="1816100"/>
                  </a:cubicBezTo>
                  <a:cubicBezTo>
                    <a:pt x="4028017" y="2279650"/>
                    <a:pt x="4744508" y="2917825"/>
                    <a:pt x="5461000" y="3556000"/>
                  </a:cubicBezTo>
                </a:path>
              </a:pathLst>
            </a:custGeom>
            <a:noFill/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Text Box 44"/>
            <p:cNvSpPr/>
            <p:nvPr/>
          </p:nvSpPr>
          <p:spPr>
            <a:xfrm>
              <a:off x="5791320" y="4724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9646"/>
                  </a:solidFill>
                  <a:latin typeface="Arial"/>
                </a:rPr>
                <a:t>P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Freeform 70"/>
          <p:cNvSpPr/>
          <p:nvPr/>
        </p:nvSpPr>
        <p:spPr>
          <a:xfrm>
            <a:off x="1486080" y="2540160"/>
            <a:ext cx="3403440" cy="3581280"/>
          </a:xfrm>
          <a:custGeom>
            <a:avLst/>
            <a:gdLst/>
            <a:ahLst/>
            <a:rect l="l" t="t" r="r" b="b"/>
            <a:pathLst>
              <a:path w="3403600" h="3581400">
                <a:moveTo>
                  <a:pt x="0" y="0"/>
                </a:moveTo>
                <a:cubicBezTo>
                  <a:pt x="333375" y="218016"/>
                  <a:pt x="666750" y="436033"/>
                  <a:pt x="1041400" y="736600"/>
                </a:cubicBezTo>
                <a:cubicBezTo>
                  <a:pt x="1416050" y="1037167"/>
                  <a:pt x="1854200" y="1329267"/>
                  <a:pt x="2247900" y="1803400"/>
                </a:cubicBezTo>
                <a:cubicBezTo>
                  <a:pt x="2641600" y="2277533"/>
                  <a:pt x="3022600" y="2929466"/>
                  <a:pt x="3403600" y="3581400"/>
                </a:cubicBezTo>
              </a:path>
            </a:pathLst>
          </a:custGeom>
          <a:noFill/>
          <a:ln w="507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Box 86"/>
          <p:cNvSpPr/>
          <p:nvPr/>
        </p:nvSpPr>
        <p:spPr>
          <a:xfrm>
            <a:off x="925560" y="1193760"/>
            <a:ext cx="76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chnology allows 50% increase in tool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Group 94"/>
          <p:cNvGrpSpPr/>
          <p:nvPr/>
        </p:nvGrpSpPr>
        <p:grpSpPr>
          <a:xfrm>
            <a:off x="1523880" y="4343040"/>
            <a:ext cx="3354480" cy="1676880"/>
            <a:chOff x="1523880" y="4343040"/>
            <a:chExt cx="3354480" cy="1676880"/>
          </a:xfrm>
        </p:grpSpPr>
        <p:sp>
          <p:nvSpPr>
            <p:cNvPr id="948" name="Straight Connector 88"/>
            <p:cNvSpPr/>
            <p:nvPr/>
          </p:nvSpPr>
          <p:spPr>
            <a:xfrm>
              <a:off x="4876920" y="4356000"/>
              <a:ext cx="1440" cy="1663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Straight Connector 93"/>
            <p:cNvSpPr/>
            <p:nvPr/>
          </p:nvSpPr>
          <p:spPr>
            <a:xfrm flipH="1" flipV="1">
              <a:off x="1523880" y="4343040"/>
              <a:ext cx="3353040" cy="12600"/>
            </a:xfrm>
            <a:prstGeom prst="line">
              <a:avLst/>
            </a:prstGeom>
            <a:ln w="28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Box 4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Macroeconomic Goal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574560" y="1711080"/>
            <a:ext cx="811224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proved standard of living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conomic growth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ll employm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ble pric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able balance of international trad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quitable distribution of incom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nageable government debt &amp; defici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920E198-6C81-45AA-95C0-6207C28142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95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1CA086F-00E3-418A-A20D-B0E609E4ED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 why economics is such a relevant discipline in our society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earn a definition of economics and distinction between micro and macro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ppreciate that groups of people can have differing underlying value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alize that scarcity, choice and opportunity cost are at the heart of economic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 why greater trade results in economies being more productive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9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C602D66-F5B9-47A9-9695-6550C434B8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ain the three fundamental questions that all societies must addres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derstand the four different ways that economies can be organized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Use the production possibilities model to illustrate opportunity cost, efficiency, and unemploy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List the economic goals of society and understand why they are often difficult to achieve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2935440"/>
            <a:ext cx="852804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7:  List the economic goals of society and explain why they are often difficult to achie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A8E2794-1006-46D0-A14A-599633A89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Relevance of Economic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ontroversies: </a:t>
            </a:r>
            <a:br>
              <a:rPr sz="3200"/>
            </a:b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growth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ome redistribu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ad pricing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lob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vision of health ca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rbon trading syste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D9FF736-1B85-4CD3-8B6C-D39B9654C2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ositive Statemen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verified with empirical data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Normative Statem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d on a person’s beliefs or value system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not be verified with dat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DE64D07-3A69-41D4-B4DB-87A6F0E633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67E888A-61F1-4D2B-8175-E92DDDFC42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each of the following statements as eithe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itive (P) or normative (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ederal government’s budget this year is the largest in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ational debt is at a manageable level and therefore is nothing to worry abo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gasoline is higher than it needs to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Rising Canadian exports are creating many new jobs in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7728D08-4297-4DE5-9FA9-6AA5164A53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each of the following statements as eithe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itive (P) or normative (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ederal government’s budget this year is the largest in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ational debt is at a manageable level and therefore is nothing to worry abo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gasoline is higher than it needs to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Rising Canadian exports are creating many new jobs in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4724280" y="2817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Box 9"/>
          <p:cNvSpPr/>
          <p:nvPr/>
        </p:nvSpPr>
        <p:spPr>
          <a:xfrm>
            <a:off x="7885800" y="3767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Box 10"/>
          <p:cNvSpPr/>
          <p:nvPr/>
        </p:nvSpPr>
        <p:spPr>
          <a:xfrm>
            <a:off x="2186640" y="4672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1"/>
          <p:cNvSpPr/>
          <p:nvPr/>
        </p:nvSpPr>
        <p:spPr>
          <a:xfrm>
            <a:off x="5280480" y="5627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c Theor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oks at how positive statements are rela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s the </a:t>
            </a:r>
            <a:r>
              <a:rPr b="1" i="1" lang="en-US" sz="2800" spc="-1" strike="noStrike">
                <a:solidFill>
                  <a:srgbClr val="595959"/>
                </a:solidFill>
                <a:latin typeface="Times New Roman"/>
              </a:rPr>
              <a:t>scientific metho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 up a hypothe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ine terms, state assumption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ther data to test hypothe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ept, reject, or modify theor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D355E9F-1A12-4B16-8CEF-0F7F16B082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4:50Z</dcterms:modified>
  <cp:revision>225</cp:revision>
  <dc:subject/>
  <dc:title>Slide 1</dc:title>
</cp:coreProperties>
</file>