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E33C-76F4-4D0A-AD31-9F5E53F24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BF2C-5F3D-4F21-8E37-6B68390F2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FEAD-A8BF-4DEE-9850-0DB1AC19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465F-1FD6-43C0-B245-DA246A46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DBB8E6-26F1-4AD8-81AB-75E13956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9DE78-9CDE-4980-905B-4C4C6AE7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9DCD42-E508-40C1-BFDC-C8FC45D1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E8D26F-E831-482C-ACA8-0BC4C230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759332-8705-48A5-B92E-DBCAC31F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06FCE6-ADCC-4CA6-A1DF-13DD400A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A90720-9B47-4C61-8AE3-F1098071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38B980-B01E-4A61-8DB9-457E2CAC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778C7-D6B3-4A43-8495-333932E2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1BD6F2-8E34-4168-AEFB-7EF681F1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2FE6-8E26-4741-B309-718FB2B3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526CD7-8354-4245-A0FB-6C354B2B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8E0B77-861C-4F4A-BA59-D758D69E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641C09-673E-4514-B8F6-E6D11A5B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B9EE59-C014-4E0B-BD2F-79E94101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7908CF-CC7B-4649-9823-62877C49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77E7F1-D09E-4C57-9494-520454B8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FBA09-9BD6-46B4-9A92-0AE95DBE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5AEA01-76B3-45F6-A373-A9253574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70E505-FD29-471F-85F3-531836FB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DD2772-5B84-4A00-BED0-03243936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53B3-EB87-40EF-B0B9-E006F146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24F43D-60E6-48E7-BDCE-B1D43CA7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2388D7-0A62-4FBD-B169-02662720737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AF167B-0E55-4287-B9EC-DD8F8A562CE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C53E81-8F64-436F-905F-DA416D684F7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FFD744-5388-45F6-B40B-8A51FBD6479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73B859-DC89-4BCC-B11A-7A49E18237C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2D03E1-FF09-48C8-854B-FB528D492ED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71468D-8172-4479-9F31-1E1A2931DBD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D726D1-BF1F-4B3C-880F-10AF6566109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6DB42C-2D00-4E95-823B-DDAF97A23C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6E08-C8D7-47E5-86CA-2F6DB3DF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4D1C1B-50D6-4A2E-B216-B947E639B1E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6D50B6-1ABC-4627-BA4E-EE4848C8F33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CAF7F5-C132-41B3-8D83-0AAFF15F2FA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56F8B-D171-4F56-B5A0-E300CB0AB0E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E1AE7-968D-4D7B-9251-646CE97B1FF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F76EE-0E8A-4867-A036-BE8CA02534D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9C1B2-47D4-49A6-B30B-707BE4701A4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B2996-1C09-468F-8E42-5A042D887A5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AC31D-11D7-4E5E-873B-E91E15D788E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B349C-C270-45D1-BA43-515667B83B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3729-C86A-4878-AA78-7E0A2286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E9AB5-09FC-49BE-927A-FBA9A1AD5D1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8C37E-2358-40A9-A05D-F544262752C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2A296-3491-44E1-9DF0-92357B806D3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A865B-A30F-42FD-A4B5-517A80043B5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793D6-7875-44A6-8B8B-006B7F42A3B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C31599-5530-49B7-8E46-B522A3C06C2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442061-02B5-4265-A5DC-E8C05C6AD01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C8F347-2619-4F94-B068-3074C35F5CA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5BCB94-A94B-4D98-BE10-17808A627B3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954A72-25E3-4E9D-8133-659536ED18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AC4C-0FFE-4411-A9AA-C2E958D9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6479C0-3B27-4E38-8A69-91F37F25CFD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757F65-4540-443A-B85C-EB4F73CCDC3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3FB81A-AACF-48AE-8C83-C30EF3D905D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5D798E-4B88-42A6-BEEA-47F0E06D085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15A510-3A39-4790-80EE-80D14D9A372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13FE8B-5F1E-4A53-B6C1-F895F93A968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FB57A5-E324-41A5-8240-1FEAC32C99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F698-D150-450C-9810-978844AC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4EEE-E086-428C-8308-A0B50E2D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5DEA-CC29-4FDD-8DEA-430A3987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AAEC-0827-442C-8006-729B2BAF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AFBC-581B-4CEB-AE49-AB4CBE1B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3C9D-3106-4576-91D4-4A850F3C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17AD-E559-4EF9-8114-D72C3BC3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7AB9-8084-43F6-B571-93DA54AA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7775-8F09-4C41-A829-5711A96D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51E9-59BD-404F-BA2E-D5764A6A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77205-756D-4C06-BE5F-0DE74C7A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6B13E-4538-4A7D-B1EB-26EC7F8E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FEA8F-D05A-41BC-9BC4-50098FA5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72BD8-54BF-483A-A556-C0C20A38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32AA8-D6FE-4615-A12E-98D35535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728E-68D3-428E-B36E-59011B5B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D7E09-3510-421C-AAF2-7C1949B5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3E217-262D-483D-B14D-2BB9D8C4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4DFB1-98BB-405F-9EB8-755382F9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3F880-1236-49C6-ADB1-713E70E0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D31C9-0CB2-40D2-8FE0-B90158F8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2BAC-DD27-4063-8205-5F95859F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18E90-8022-4957-8D37-43E07D6A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02D19-1011-4AA1-B9C8-31DB3664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FE9F1-068F-4A0D-91CD-6048A86D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ED861-E13E-4A38-B4DC-E62CD9A7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E7A2-3C98-45B6-A728-CC225D93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3FF77-0B85-4B1B-B30D-59A79D47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BF636-A6D3-4FF1-BBC4-EB363848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A70AF-BF38-46D3-9F80-735EBDFE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D1516-BA7F-4A1B-8B0F-8AAF6714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9DB30-EA10-445D-99AF-41EEBE22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6B98B-8804-4A45-A023-9C808172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FA268-88FE-4B77-B437-E2DA3FBA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BBFC9-E1F2-416A-98BA-547AB440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3717D-AB76-4F47-AB37-E42DF30E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13EC5-34B0-4939-B24D-93FDB96F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BA30-4DC6-4531-9F8C-E81D5090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572BA-8DE2-4A01-8EEE-1A0BBD69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5F0C9-F0A8-4FE7-8EF4-63E2984A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249E3-6A7E-4179-B93A-715AE64A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21BEE-7BF5-430A-95A5-0E0A2E1D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B3ACF-FD85-4EB0-93E6-E0F6F806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FE466-6A07-4133-9BF1-60A43394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538B5-F083-4D3C-A81E-92A7E523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D80A4-71FF-4EB3-9D6A-B0CBFA3D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32347-AFC0-41EA-9A72-F0079226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20C76-613C-44F6-B909-A62A2D55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6CA8-82D4-4B56-A323-3CD449DD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02E4C-3D5A-4DFD-BA6B-5256C1BE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07B408-A341-4DB4-A163-49A8399A92D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76E789-BC4B-427E-BA2E-0294A86CDA1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08E872-4633-4657-A5E5-040AC4DB1AA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1938AE-ACC0-4C9A-ADBC-88C8FA19FC8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C94387-E125-4EBE-ACCB-BE11B5E884D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F268EA-159A-48ED-B745-66EBE1B5774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B33582-61DD-4D91-B65C-0F87AA32A3B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1DF15F-43C5-4480-9D70-89BCFB6B3CE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D63A88-2419-4AD1-9CB1-41744138B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BB7F-D26D-48A7-8F70-198EB5C2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6B1A38-9C08-4F0B-8A41-721A56BBB08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817EC3-6383-4C50-8A19-2301C8A7550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94E048-D9EC-4158-B0ED-57D79AF10B3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0977B4-BD04-4577-A140-8E40D5D3C4F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9DC68E-FA7B-4108-9C79-462E389E72F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7AF840-AD83-42F9-AB78-12454B37BEA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521D01-204C-41D1-A3D1-ECEC88A93D6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3E5D7E-7E22-4F01-B149-CB9B8C7D216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4B862A-57FD-4AB3-8C02-7F133CF3AF7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C183D5-9B1D-4013-B034-433700D7F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1FC3-1E46-4B00-9A77-797511BE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CA61CF-EA3F-42EB-8593-8FC4EA4B0C3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D03A7F-A0C1-4B36-B0BC-1A9FE276CEF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F5169E-468B-474F-8543-C002080A166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89A2AE-610C-41E2-B423-CF4E6F4A850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9F430D-4F6A-4533-B0CF-F805D3757DC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2043EC-D023-43E2-81FC-D019CA94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1B0591-249C-4B9F-A4F0-9B6C459B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B853D2-5D83-47C7-9D49-93141084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0365AB-D367-4EEA-8760-C8B44E87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9552FD-9794-4F85-88A1-F5AB9D9C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37A-9855-4297-9360-C6057877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237074-9455-4E65-A9DB-9ED835DA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4D62B6-A433-4D46-8426-FE39388D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D310E5-3B0F-4CC5-BC80-BC15353C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F6B0DC-02D0-428B-857F-0BD6C7D6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BD945F-0BD1-4444-A283-179995C0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25F56A-3809-4B48-BF4E-EA7875E7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F1F993-6D8B-4A8F-AADE-7104C20C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DF6107-13DD-4298-9143-A3630154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7506DD-CC84-4AA0-99C4-43EF09A1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806857-0EF6-44C9-9D9F-05037080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3FD3ECC-14DE-4469-92C8-E279165DD5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26C262B-DE80-435A-B394-3611229BCD89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3F0BFC5-5542-4457-B354-C78A60A46B88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0D34EEE-31DD-4BC8-8E0F-A9AE532A8055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6E9C325-C09C-45B1-B39C-A10DE6FBDC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7399935-35CE-4A38-97B4-0A20BC416D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391B5C8-AEAF-4011-A435-445EB76BFF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590EA83-6459-4103-AB25-B23CEAD40B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A55F258-9819-4DC2-BA9C-703EF0D24C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0581967-9112-4F5A-B95E-4D63A6B3CC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9BD35FE-9EF9-470C-B93A-17110B8FF2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The Economic Problem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1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What is Economics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croeconomic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w the major components of an economy intera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employment, inflation, interest rate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icroeconomic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tcomes of decisions by people and firm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ply and demand, costs of production, market structur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ED3181E-C436-498C-8309-69A4D83D3B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F49C17F-E205-433B-A03C-258D485CF1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entify which of the following topics would likely appear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a microeconomics course and which in a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croeconomics course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iPo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Unemployment r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esence of monopol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rate of economic grow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1B4DC66-84E9-49D9-83C4-212CAEC539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entify which of the following topics would likely appear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a microeconomics course and which in a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croeconomics course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iPo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Unemployment r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esence of monopol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rate of economic grow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Box 8"/>
          <p:cNvSpPr/>
          <p:nvPr/>
        </p:nvSpPr>
        <p:spPr>
          <a:xfrm>
            <a:off x="4393800" y="263700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i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9"/>
          <p:cNvSpPr/>
          <p:nvPr/>
        </p:nvSpPr>
        <p:spPr>
          <a:xfrm>
            <a:off x="4982760" y="312912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Box 10"/>
          <p:cNvSpPr/>
          <p:nvPr/>
        </p:nvSpPr>
        <p:spPr>
          <a:xfrm>
            <a:off x="6141600" y="363996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i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Box 11"/>
          <p:cNvSpPr/>
          <p:nvPr/>
        </p:nvSpPr>
        <p:spPr>
          <a:xfrm>
            <a:off x="6407640" y="416088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carcity and Choic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Resources are Scarce: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ources, or “factors of production”, are anything used to produce goods and service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 not have enough resources to produce everything everybody wan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have some way to ration scarce resour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F444F13-EF98-4F92-8FB2-58C291632E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c Resourc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902880" y="1752120"/>
            <a:ext cx="77835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Labour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uman mental and physical effor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Land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Any natural resource used to produce goods or services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Capital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Tools, equipment, factories, and buildings used in production proces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Enterprise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The human resource that innovates and takes risk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4A2D17D-C271-419D-8A04-92EB26E600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c Resourc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CE95BC4-EB6E-4D07-9C54-552217BFA4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1535040" y="1566720"/>
          <a:ext cx="6096240" cy="42134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4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caf47"/>
                          </a:solidFill>
                          <a:latin typeface="Kalinga"/>
                        </a:rPr>
                        <a:t>RESOURC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caf47"/>
                          </a:solidFill>
                          <a:latin typeface="Kalinga"/>
                        </a:rPr>
                        <a:t>EARN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Labou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W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Lan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Capi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Intere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Enterpri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rof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459DE61-94E6-49DC-A46A-F8BF509784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icate whether the resource in question is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bour (L), capital (K), land (N), or enterprise (E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bar-code scanner in a supermark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Fresh drinking wat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Copper deposits in a m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work of a systems anal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irst application of e- technology to an economics text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n office buil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14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5E1E9F1-3EB9-4F16-856B-B47761F5EC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icate whether the resource in question is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bour (L), capital (K), land (N), or enterprise (E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bar-code scanner in a supermark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Fresh drinking wat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Copper deposits in a m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work of a systems anal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irst application of e- technology to an economics text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n office buil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7583760" y="2286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Box 9"/>
          <p:cNvSpPr/>
          <p:nvPr/>
        </p:nvSpPr>
        <p:spPr>
          <a:xfrm>
            <a:off x="4887000" y="2789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10"/>
          <p:cNvSpPr/>
          <p:nvPr/>
        </p:nvSpPr>
        <p:spPr>
          <a:xfrm>
            <a:off x="5823720" y="3300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Box 11"/>
          <p:cNvSpPr/>
          <p:nvPr/>
        </p:nvSpPr>
        <p:spPr>
          <a:xfrm>
            <a:off x="6471000" y="3821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Box 12"/>
          <p:cNvSpPr/>
          <p:nvPr/>
        </p:nvSpPr>
        <p:spPr>
          <a:xfrm>
            <a:off x="4731120" y="4749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13"/>
          <p:cNvSpPr/>
          <p:nvPr/>
        </p:nvSpPr>
        <p:spPr>
          <a:xfrm>
            <a:off x="4277160" y="5273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Box 14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c Resourc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902880" y="1690200"/>
            <a:ext cx="7783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Technology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thod of production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ay in which resources are combined to produce goods and servic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Opportunity Cost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value of the next-best alternative that is given up as a result of making a particular choic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3D229AB-A1C4-4ADB-BF95-32370BC21F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fficienc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902880" y="1690200"/>
            <a:ext cx="7783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Productive Efficiency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ion of an output at the lowest possible average cos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Allocative Efficiency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ion of that combination of outputs that best satisfies consumers’ demand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28F06B7-F114-47EA-BC42-6C8C06B3E4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The Economic Problem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1:  Understand the relevance of economic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2:  Define economics, microeconomics, and macroeconomics and understand the importance of the scientific metho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3:  Realize that scarcity, choice, and opportunity cost are at the heart of economics and that efficiency is a cornerston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B1FF96E-B49A-4967-82C3-AF70E1CBCC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902880" y="1871640"/>
            <a:ext cx="77835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oluntary trade benefits both part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re trade, the greater the benefit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es to individuals as well as to nation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BF603F8-E550-4A17-BF23-84C2B25A3A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enefits of Tra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30156A7-F8B6-4B4F-B144-E8371CAE32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1201680" y="1444680"/>
          <a:ext cx="6740640" cy="1828800"/>
        </p:xfrm>
        <a:graphic>
          <a:graphicData uri="http://schemas.openxmlformats.org/drawingml/2006/table">
            <a:tbl>
              <a:tblPr/>
              <a:tblGrid>
                <a:gridCol w="2573280"/>
                <a:gridCol w="1690920"/>
                <a:gridCol w="871560"/>
                <a:gridCol w="160488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Maximum Outpu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5" name=""/>
          <p:cNvGraphicFramePr/>
          <p:nvPr/>
        </p:nvGraphicFramePr>
        <p:xfrm>
          <a:off x="1216080" y="3670200"/>
          <a:ext cx="6740640" cy="2286000"/>
        </p:xfrm>
        <a:graphic>
          <a:graphicData uri="http://schemas.openxmlformats.org/drawingml/2006/table">
            <a:tbl>
              <a:tblPr/>
              <a:tblGrid>
                <a:gridCol w="2573280"/>
                <a:gridCol w="1569960"/>
                <a:gridCol w="992160"/>
                <a:gridCol w="160524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Without Trad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Total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enefits of Tra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4D9A40E-FB67-4F5A-AED6-503A44D746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1201680" y="1444680"/>
          <a:ext cx="6740640" cy="1828800"/>
        </p:xfrm>
        <a:graphic>
          <a:graphicData uri="http://schemas.openxmlformats.org/drawingml/2006/table">
            <a:tbl>
              <a:tblPr/>
              <a:tblGrid>
                <a:gridCol w="2573280"/>
                <a:gridCol w="1690920"/>
                <a:gridCol w="871560"/>
                <a:gridCol w="160488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Maximum Outpu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1" name=""/>
          <p:cNvGraphicFramePr/>
          <p:nvPr/>
        </p:nvGraphicFramePr>
        <p:xfrm>
          <a:off x="1216080" y="3670200"/>
          <a:ext cx="6740640" cy="2286000"/>
        </p:xfrm>
        <a:graphic>
          <a:graphicData uri="http://schemas.openxmlformats.org/drawingml/2006/table">
            <a:tbl>
              <a:tblPr/>
              <a:tblGrid>
                <a:gridCol w="2573280"/>
                <a:gridCol w="1569960"/>
                <a:gridCol w="992160"/>
                <a:gridCol w="160524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With Trad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Total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Three Fundamental Questions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o produc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to produc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r wh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8751113-C3ED-4462-BCA4-5D8F5C26A8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Four Types of Economies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operation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stom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and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etition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D2BB9F5-6C64-4866-9427-45D0B5A89C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roduction Possibilities Model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roduction Possibilities Curve: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al representation of the various combinations of maximum output that can be produced from the available resources and technology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sumptions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ll employment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 of the best technology availabl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ductive efficienc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841109F-1286-4CAA-B467-290A2AC33C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roduction Possibilities Model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F4D2191-7399-40E3-816C-2C28634982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Picture 2" descr=""/>
          <p:cNvPicPr/>
          <p:nvPr/>
        </p:nvPicPr>
        <p:blipFill>
          <a:blip r:embed="rId1"/>
          <a:stretch/>
        </p:blipFill>
        <p:spPr>
          <a:xfrm>
            <a:off x="0" y="1170000"/>
            <a:ext cx="9144000" cy="34974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" descr=""/>
          <p:cNvPicPr/>
          <p:nvPr/>
        </p:nvPicPr>
        <p:blipFill>
          <a:blip r:embed="rId2"/>
          <a:srcRect l="5483" t="39876" r="10200" b="34772"/>
          <a:stretch/>
        </p:blipFill>
        <p:spPr>
          <a:xfrm>
            <a:off x="0" y="4730760"/>
            <a:ext cx="9144000" cy="171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5"/>
          <p:cNvSpPr/>
          <p:nvPr/>
        </p:nvSpPr>
        <p:spPr>
          <a:xfrm>
            <a:off x="7391520" y="5334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4133880" y="2057400"/>
            <a:ext cx="15523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attai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Oval 23"/>
          <p:cNvSpPr/>
          <p:nvPr/>
        </p:nvSpPr>
        <p:spPr>
          <a:xfrm>
            <a:off x="1373040" y="24685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4267080" y="2438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9"/>
          <p:cNvSpPr/>
          <p:nvPr/>
        </p:nvSpPr>
        <p:spPr>
          <a:xfrm>
            <a:off x="1449360" y="2011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0"/>
          <p:cNvSpPr/>
          <p:nvPr/>
        </p:nvSpPr>
        <p:spPr>
          <a:xfrm>
            <a:off x="2819520" y="2209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1"/>
          <p:cNvSpPr/>
          <p:nvPr/>
        </p:nvSpPr>
        <p:spPr>
          <a:xfrm>
            <a:off x="42670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2"/>
          <p:cNvSpPr/>
          <p:nvPr/>
        </p:nvSpPr>
        <p:spPr>
          <a:xfrm>
            <a:off x="5257800" y="3809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3"/>
          <p:cNvSpPr/>
          <p:nvPr/>
        </p:nvSpPr>
        <p:spPr>
          <a:xfrm>
            <a:off x="57150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Group 51"/>
          <p:cNvGrpSpPr/>
          <p:nvPr/>
        </p:nvGrpSpPr>
        <p:grpSpPr>
          <a:xfrm>
            <a:off x="496800" y="1752480"/>
            <a:ext cx="6438960" cy="4711680"/>
            <a:chOff x="496800" y="1752480"/>
            <a:chExt cx="6438960" cy="4711680"/>
          </a:xfrm>
        </p:grpSpPr>
        <p:sp>
          <p:nvSpPr>
            <p:cNvPr id="703" name="Line 3"/>
            <p:cNvSpPr/>
            <p:nvPr/>
          </p:nvSpPr>
          <p:spPr>
            <a:xfrm>
              <a:off x="1449360" y="1782720"/>
              <a:ext cx="0" cy="43434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4"/>
            <p:cNvSpPr/>
            <p:nvPr/>
          </p:nvSpPr>
          <p:spPr>
            <a:xfrm>
              <a:off x="1449360" y="6126120"/>
              <a:ext cx="54864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Text Box 5"/>
            <p:cNvSpPr/>
            <p:nvPr/>
          </p:nvSpPr>
          <p:spPr>
            <a:xfrm>
              <a:off x="496800" y="17524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Text Box 6"/>
            <p:cNvSpPr/>
            <p:nvPr/>
          </p:nvSpPr>
          <p:spPr>
            <a:xfrm>
              <a:off x="6203520" y="60958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Arc 7"/>
            <p:cNvSpPr/>
            <p:nvPr/>
          </p:nvSpPr>
          <p:spPr>
            <a:xfrm>
              <a:off x="1523880" y="2514600"/>
              <a:ext cx="4343400" cy="3581280"/>
            </a:xfrm>
            <a:custGeom>
              <a:avLst/>
              <a:gdLst>
                <a:gd name="textAreaLeft" fmla="*/ 0 w 4343400"/>
                <a:gd name="textAreaRight" fmla="*/ 4343400 w 4343400"/>
                <a:gd name="textAreaTop" fmla="*/ 0 h 3581280"/>
                <a:gd name="textAreaBottom" fmla="*/ 3581640 h 358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cc"/>
            </a:solidFill>
            <a:ln cap="sq"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Oval 16"/>
          <p:cNvSpPr/>
          <p:nvPr/>
        </p:nvSpPr>
        <p:spPr>
          <a:xfrm>
            <a:off x="2895480" y="25909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9"/>
          <p:cNvSpPr/>
          <p:nvPr/>
        </p:nvSpPr>
        <p:spPr>
          <a:xfrm flipH="1">
            <a:off x="1447920" y="26668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0"/>
          <p:cNvSpPr/>
          <p:nvPr/>
        </p:nvSpPr>
        <p:spPr>
          <a:xfrm>
            <a:off x="2973240" y="277344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24"/>
          <p:cNvSpPr/>
          <p:nvPr/>
        </p:nvSpPr>
        <p:spPr>
          <a:xfrm>
            <a:off x="5791320" y="6019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13"/>
          <p:cNvSpPr/>
          <p:nvPr/>
        </p:nvSpPr>
        <p:spPr>
          <a:xfrm>
            <a:off x="4114800" y="2590920"/>
            <a:ext cx="152280" cy="1522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22"/>
          <p:cNvSpPr/>
          <p:nvPr/>
        </p:nvSpPr>
        <p:spPr>
          <a:xfrm>
            <a:off x="5638680" y="49528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27"/>
          <p:cNvSpPr/>
          <p:nvPr/>
        </p:nvSpPr>
        <p:spPr>
          <a:xfrm>
            <a:off x="4191120" y="266688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21"/>
          <p:cNvSpPr/>
          <p:nvPr/>
        </p:nvSpPr>
        <p:spPr>
          <a:xfrm flipH="1">
            <a:off x="1447920" y="495288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26"/>
          <p:cNvSpPr/>
          <p:nvPr/>
        </p:nvSpPr>
        <p:spPr>
          <a:xfrm>
            <a:off x="4114800" y="32004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10"/>
          <p:cNvSpPr/>
          <p:nvPr/>
        </p:nvSpPr>
        <p:spPr>
          <a:xfrm flipH="1">
            <a:off x="4419000" y="3809880"/>
            <a:ext cx="15228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11"/>
          <p:cNvSpPr/>
          <p:nvPr/>
        </p:nvSpPr>
        <p:spPr>
          <a:xfrm>
            <a:off x="2958480" y="36576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i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36"/>
          <p:cNvSpPr/>
          <p:nvPr/>
        </p:nvSpPr>
        <p:spPr>
          <a:xfrm flipH="1">
            <a:off x="1447920" y="32767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37"/>
          <p:cNvSpPr/>
          <p:nvPr/>
        </p:nvSpPr>
        <p:spPr>
          <a:xfrm>
            <a:off x="9144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38"/>
          <p:cNvSpPr/>
          <p:nvPr/>
        </p:nvSpPr>
        <p:spPr>
          <a:xfrm>
            <a:off x="91440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39"/>
          <p:cNvSpPr/>
          <p:nvPr/>
        </p:nvSpPr>
        <p:spPr>
          <a:xfrm>
            <a:off x="91440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0"/>
          <p:cNvSpPr/>
          <p:nvPr/>
        </p:nvSpPr>
        <p:spPr>
          <a:xfrm>
            <a:off x="91440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1"/>
          <p:cNvSpPr/>
          <p:nvPr/>
        </p:nvSpPr>
        <p:spPr>
          <a:xfrm>
            <a:off x="9144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Oval 42"/>
          <p:cNvSpPr/>
          <p:nvPr/>
        </p:nvSpPr>
        <p:spPr>
          <a:xfrm>
            <a:off x="5562720" y="4876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43"/>
          <p:cNvSpPr/>
          <p:nvPr/>
        </p:nvSpPr>
        <p:spPr>
          <a:xfrm flipH="1">
            <a:off x="1447560" y="4114800"/>
            <a:ext cx="37335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Oval 9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44"/>
          <p:cNvSpPr/>
          <p:nvPr/>
        </p:nvSpPr>
        <p:spPr>
          <a:xfrm>
            <a:off x="5943600" y="5638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45"/>
          <p:cNvSpPr/>
          <p:nvPr/>
        </p:nvSpPr>
        <p:spPr>
          <a:xfrm>
            <a:off x="5181480" y="41911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46"/>
          <p:cNvSpPr/>
          <p:nvPr/>
        </p:nvSpPr>
        <p:spPr>
          <a:xfrm>
            <a:off x="266688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47"/>
          <p:cNvSpPr/>
          <p:nvPr/>
        </p:nvSpPr>
        <p:spPr>
          <a:xfrm>
            <a:off x="48006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48"/>
          <p:cNvSpPr/>
          <p:nvPr/>
        </p:nvSpPr>
        <p:spPr>
          <a:xfrm>
            <a:off x="38862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49"/>
          <p:cNvSpPr/>
          <p:nvPr/>
        </p:nvSpPr>
        <p:spPr>
          <a:xfrm>
            <a:off x="556272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50"/>
          <p:cNvSpPr/>
          <p:nvPr/>
        </p:nvSpPr>
        <p:spPr>
          <a:xfrm>
            <a:off x="52578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2" descr=""/>
          <p:cNvPicPr/>
          <p:nvPr/>
        </p:nvPicPr>
        <p:blipFill>
          <a:blip r:embed="rId1"/>
          <a:srcRect l="5483" t="39876" r="10200" b="34772"/>
          <a:stretch/>
        </p:blipFill>
        <p:spPr>
          <a:xfrm>
            <a:off x="0" y="0"/>
            <a:ext cx="9144000" cy="17193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48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D174980-F6EC-4B8E-A2C0-3D214DF4A1F2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Rounded Rectangle 51"/>
          <p:cNvGrpSpPr/>
          <p:nvPr/>
        </p:nvGrpSpPr>
        <p:grpSpPr>
          <a:xfrm>
            <a:off x="5827680" y="2494080"/>
            <a:ext cx="3054240" cy="1919160"/>
            <a:chOff x="5827680" y="2494080"/>
            <a:chExt cx="3054240" cy="1919160"/>
          </a:xfrm>
        </p:grpSpPr>
        <p:pic>
          <p:nvPicPr>
            <p:cNvPr id="740" name="Rounded Rectangle 51" descr=""/>
            <p:cNvPicPr/>
            <p:nvPr/>
          </p:nvPicPr>
          <p:blipFill>
            <a:blip r:embed="rId2"/>
            <a:stretch/>
          </p:blipFill>
          <p:spPr>
            <a:xfrm>
              <a:off x="5827680" y="2494080"/>
              <a:ext cx="3054240" cy="19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5978520" y="2619360"/>
              <a:ext cx="269388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oints on the curve represent maximum output possible with available resourc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Oval 52"/>
          <p:cNvSpPr/>
          <p:nvPr/>
        </p:nvSpPr>
        <p:spPr>
          <a:xfrm>
            <a:off x="1849320" y="531720"/>
            <a:ext cx="511200" cy="1201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3" name="Straight Arrow Connector 54"/>
          <p:cNvCxnSpPr>
            <a:endCxn id="697" idx="2"/>
          </p:cNvCxnSpPr>
          <p:nvPr/>
        </p:nvCxnSpPr>
        <p:spPr>
          <a:xfrm flipH="1">
            <a:off x="1639440" y="1722240"/>
            <a:ext cx="339120" cy="686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4" name="Oval 56"/>
          <p:cNvSpPr/>
          <p:nvPr/>
        </p:nvSpPr>
        <p:spPr>
          <a:xfrm>
            <a:off x="3129120" y="523800"/>
            <a:ext cx="510840" cy="1201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Straight Arrow Connector 58"/>
          <p:cNvCxnSpPr/>
          <p:nvPr/>
        </p:nvCxnSpPr>
        <p:spPr>
          <a:xfrm flipH="1">
            <a:off x="3093480" y="1779120"/>
            <a:ext cx="270360" cy="740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6" name="Oval 60"/>
          <p:cNvSpPr/>
          <p:nvPr/>
        </p:nvSpPr>
        <p:spPr>
          <a:xfrm>
            <a:off x="5727600" y="517680"/>
            <a:ext cx="509760" cy="1201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Straight Arrow Connector 61"/>
          <p:cNvCxnSpPr/>
          <p:nvPr/>
        </p:nvCxnSpPr>
        <p:spPr>
          <a:xfrm flipH="1">
            <a:off x="5327280" y="1782360"/>
            <a:ext cx="645120" cy="2120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roduction Possibilities Model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457200" y="1584360"/>
            <a:ext cx="82296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carcity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ed by points outside the curve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Choic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ed by points on the curve (efficient) and points within the curve (inefficient)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Opportunity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ed by the downward slope of the curv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56F5119-551C-4933-9741-EB11CD95EA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8236"/>
                </a:solidFill>
                <a:latin typeface="Kalinga"/>
              </a:rPr>
              <a:t>Law of Increasing Opportunity Costs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584360"/>
            <a:ext cx="82296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ctors of production are not equally suitabl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s output increases, the per unit costs of additional units increases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ives the production possibilities curve its bowed out shape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6D3D6F0-A41E-4AC4-B55C-7D26612238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The Economic Problem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52804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4:  Understand why trade results in economies being more productiv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5:  Explain the three fundamental questions and the four ways economies can be organize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6:  Use the production possibilities model to explain choice, opportunity cost, efficiency, and unemploymen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2E10A58-CD74-492D-83BA-2169D790A2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5"/>
          <p:cNvSpPr/>
          <p:nvPr/>
        </p:nvSpPr>
        <p:spPr>
          <a:xfrm>
            <a:off x="7391520" y="5334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23"/>
          <p:cNvSpPr/>
          <p:nvPr/>
        </p:nvSpPr>
        <p:spPr>
          <a:xfrm>
            <a:off x="1373040" y="24685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29"/>
          <p:cNvSpPr/>
          <p:nvPr/>
        </p:nvSpPr>
        <p:spPr>
          <a:xfrm>
            <a:off x="1449360" y="2011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Group 51"/>
          <p:cNvGrpSpPr/>
          <p:nvPr/>
        </p:nvGrpSpPr>
        <p:grpSpPr>
          <a:xfrm>
            <a:off x="496800" y="1752480"/>
            <a:ext cx="6438960" cy="4711680"/>
            <a:chOff x="496800" y="1752480"/>
            <a:chExt cx="6438960" cy="4711680"/>
          </a:xfrm>
        </p:grpSpPr>
        <p:sp>
          <p:nvSpPr>
            <p:cNvPr id="762" name="Line 3"/>
            <p:cNvSpPr/>
            <p:nvPr/>
          </p:nvSpPr>
          <p:spPr>
            <a:xfrm>
              <a:off x="1449360" y="1782720"/>
              <a:ext cx="0" cy="43434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4"/>
            <p:cNvSpPr/>
            <p:nvPr/>
          </p:nvSpPr>
          <p:spPr>
            <a:xfrm>
              <a:off x="1449360" y="6126120"/>
              <a:ext cx="54864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Text Box 5"/>
            <p:cNvSpPr/>
            <p:nvPr/>
          </p:nvSpPr>
          <p:spPr>
            <a:xfrm>
              <a:off x="496800" y="17524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Text Box 6"/>
            <p:cNvSpPr/>
            <p:nvPr/>
          </p:nvSpPr>
          <p:spPr>
            <a:xfrm>
              <a:off x="6203520" y="60958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Arc 7"/>
            <p:cNvSpPr/>
            <p:nvPr/>
          </p:nvSpPr>
          <p:spPr>
            <a:xfrm>
              <a:off x="1523880" y="2514600"/>
              <a:ext cx="4343400" cy="3581280"/>
            </a:xfrm>
            <a:custGeom>
              <a:avLst/>
              <a:gdLst>
                <a:gd name="textAreaLeft" fmla="*/ 0 w 4343400"/>
                <a:gd name="textAreaRight" fmla="*/ 4343400 w 4343400"/>
                <a:gd name="textAreaTop" fmla="*/ 0 h 3581280"/>
                <a:gd name="textAreaBottom" fmla="*/ 3581640 h 358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cc"/>
            </a:solidFill>
            <a:ln cap="sq"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Oval 16"/>
          <p:cNvSpPr/>
          <p:nvPr/>
        </p:nvSpPr>
        <p:spPr>
          <a:xfrm>
            <a:off x="2895480" y="25909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19"/>
          <p:cNvSpPr/>
          <p:nvPr/>
        </p:nvSpPr>
        <p:spPr>
          <a:xfrm flipH="1" flipV="1">
            <a:off x="1472760" y="2666880"/>
            <a:ext cx="1435320" cy="46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0"/>
          <p:cNvSpPr/>
          <p:nvPr/>
        </p:nvSpPr>
        <p:spPr>
          <a:xfrm>
            <a:off x="2973240" y="277344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24"/>
          <p:cNvSpPr/>
          <p:nvPr/>
        </p:nvSpPr>
        <p:spPr>
          <a:xfrm>
            <a:off x="5791320" y="6019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2"/>
          <p:cNvSpPr/>
          <p:nvPr/>
        </p:nvSpPr>
        <p:spPr>
          <a:xfrm>
            <a:off x="5638680" y="49528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 flipH="1">
            <a:off x="4191120" y="3352680"/>
            <a:ext cx="46080" cy="278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1"/>
          <p:cNvSpPr/>
          <p:nvPr/>
        </p:nvSpPr>
        <p:spPr>
          <a:xfrm flipH="1">
            <a:off x="1447920" y="495288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26"/>
          <p:cNvSpPr/>
          <p:nvPr/>
        </p:nvSpPr>
        <p:spPr>
          <a:xfrm>
            <a:off x="4114800" y="32004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36"/>
          <p:cNvSpPr/>
          <p:nvPr/>
        </p:nvSpPr>
        <p:spPr>
          <a:xfrm flipH="1" flipV="1">
            <a:off x="1523880" y="3246480"/>
            <a:ext cx="2603520" cy="46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37"/>
          <p:cNvSpPr/>
          <p:nvPr/>
        </p:nvSpPr>
        <p:spPr>
          <a:xfrm>
            <a:off x="9144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38"/>
          <p:cNvSpPr/>
          <p:nvPr/>
        </p:nvSpPr>
        <p:spPr>
          <a:xfrm>
            <a:off x="91440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39"/>
          <p:cNvSpPr/>
          <p:nvPr/>
        </p:nvSpPr>
        <p:spPr>
          <a:xfrm>
            <a:off x="91440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40"/>
          <p:cNvSpPr/>
          <p:nvPr/>
        </p:nvSpPr>
        <p:spPr>
          <a:xfrm>
            <a:off x="91440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1"/>
          <p:cNvSpPr/>
          <p:nvPr/>
        </p:nvSpPr>
        <p:spPr>
          <a:xfrm>
            <a:off x="9144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42"/>
          <p:cNvSpPr/>
          <p:nvPr/>
        </p:nvSpPr>
        <p:spPr>
          <a:xfrm>
            <a:off x="5562720" y="4876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43"/>
          <p:cNvSpPr/>
          <p:nvPr/>
        </p:nvSpPr>
        <p:spPr>
          <a:xfrm flipH="1">
            <a:off x="1447560" y="4114800"/>
            <a:ext cx="37335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9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44"/>
          <p:cNvSpPr/>
          <p:nvPr/>
        </p:nvSpPr>
        <p:spPr>
          <a:xfrm>
            <a:off x="5943600" y="5638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45"/>
          <p:cNvSpPr/>
          <p:nvPr/>
        </p:nvSpPr>
        <p:spPr>
          <a:xfrm>
            <a:off x="5181480" y="41911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46"/>
          <p:cNvSpPr/>
          <p:nvPr/>
        </p:nvSpPr>
        <p:spPr>
          <a:xfrm>
            <a:off x="266688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47"/>
          <p:cNvSpPr/>
          <p:nvPr/>
        </p:nvSpPr>
        <p:spPr>
          <a:xfrm>
            <a:off x="48006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48"/>
          <p:cNvSpPr/>
          <p:nvPr/>
        </p:nvSpPr>
        <p:spPr>
          <a:xfrm>
            <a:off x="38862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49"/>
          <p:cNvSpPr/>
          <p:nvPr/>
        </p:nvSpPr>
        <p:spPr>
          <a:xfrm>
            <a:off x="556272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50"/>
          <p:cNvSpPr/>
          <p:nvPr/>
        </p:nvSpPr>
        <p:spPr>
          <a:xfrm>
            <a:off x="52578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Group 69"/>
          <p:cNvGrpSpPr/>
          <p:nvPr/>
        </p:nvGrpSpPr>
        <p:grpSpPr>
          <a:xfrm>
            <a:off x="2972520" y="2449440"/>
            <a:ext cx="1751760" cy="789120"/>
            <a:chOff x="2972520" y="2449440"/>
            <a:chExt cx="1751760" cy="789120"/>
          </a:xfrm>
        </p:grpSpPr>
        <p:grpSp>
          <p:nvGrpSpPr>
            <p:cNvPr id="792" name="Group 53"/>
            <p:cNvGrpSpPr/>
            <p:nvPr/>
          </p:nvGrpSpPr>
          <p:grpSpPr>
            <a:xfrm>
              <a:off x="2972520" y="2742120"/>
              <a:ext cx="1230480" cy="496440"/>
              <a:chOff x="2972520" y="2742120"/>
              <a:chExt cx="1230480" cy="496440"/>
            </a:xfrm>
          </p:grpSpPr>
          <p:sp>
            <p:nvSpPr>
              <p:cNvPr id="793" name="Straight Connector 47"/>
              <p:cNvSpPr/>
              <p:nvPr/>
            </p:nvSpPr>
            <p:spPr>
              <a:xfrm>
                <a:off x="2972520" y="2742120"/>
                <a:ext cx="1218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Straight Connector 49"/>
              <p:cNvSpPr/>
              <p:nvPr/>
            </p:nvSpPr>
            <p:spPr>
              <a:xfrm>
                <a:off x="4190400" y="2742840"/>
                <a:ext cx="12600" cy="49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TextBox 63"/>
            <p:cNvSpPr/>
            <p:nvPr/>
          </p:nvSpPr>
          <p:spPr>
            <a:xfrm>
              <a:off x="3657600" y="24494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TextBox 64"/>
            <p:cNvSpPr/>
            <p:nvPr/>
          </p:nvSpPr>
          <p:spPr>
            <a:xfrm>
              <a:off x="4191120" y="27432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Text Box 30"/>
          <p:cNvSpPr/>
          <p:nvPr/>
        </p:nvSpPr>
        <p:spPr>
          <a:xfrm>
            <a:off x="2666880" y="27273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31"/>
          <p:cNvSpPr/>
          <p:nvPr/>
        </p:nvSpPr>
        <p:spPr>
          <a:xfrm>
            <a:off x="388620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32"/>
          <p:cNvSpPr/>
          <p:nvPr/>
        </p:nvSpPr>
        <p:spPr>
          <a:xfrm>
            <a:off x="4800600" y="40989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33"/>
          <p:cNvSpPr/>
          <p:nvPr/>
        </p:nvSpPr>
        <p:spPr>
          <a:xfrm>
            <a:off x="5334120" y="4876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Group 72"/>
          <p:cNvGrpSpPr/>
          <p:nvPr/>
        </p:nvGrpSpPr>
        <p:grpSpPr>
          <a:xfrm>
            <a:off x="4267080" y="2971800"/>
            <a:ext cx="1524240" cy="1104840"/>
            <a:chOff x="4267080" y="2971800"/>
            <a:chExt cx="1524240" cy="1104840"/>
          </a:xfrm>
        </p:grpSpPr>
        <p:sp>
          <p:nvSpPr>
            <p:cNvPr id="802" name="Straight Connector 55"/>
            <p:cNvSpPr/>
            <p:nvPr/>
          </p:nvSpPr>
          <p:spPr>
            <a:xfrm>
              <a:off x="4267080" y="3276360"/>
              <a:ext cx="9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70"/>
            <p:cNvGrpSpPr/>
            <p:nvPr/>
          </p:nvGrpSpPr>
          <p:grpSpPr>
            <a:xfrm>
              <a:off x="4647960" y="2971800"/>
              <a:ext cx="1143360" cy="1104840"/>
              <a:chOff x="4647960" y="2971800"/>
              <a:chExt cx="1143360" cy="1104840"/>
            </a:xfrm>
          </p:grpSpPr>
          <p:sp>
            <p:nvSpPr>
              <p:cNvPr id="804" name="Straight Connector 56"/>
              <p:cNvSpPr/>
              <p:nvPr/>
            </p:nvSpPr>
            <p:spPr>
              <a:xfrm>
                <a:off x="5180760" y="3276360"/>
                <a:ext cx="12600" cy="8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Box 65"/>
              <p:cNvSpPr/>
              <p:nvPr/>
            </p:nvSpPr>
            <p:spPr>
              <a:xfrm>
                <a:off x="4647960" y="2971800"/>
                <a:ext cx="60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TextBox 66"/>
              <p:cNvSpPr/>
              <p:nvPr/>
            </p:nvSpPr>
            <p:spPr>
              <a:xfrm>
                <a:off x="5181480" y="3276360"/>
                <a:ext cx="60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7" name="Group 73"/>
          <p:cNvGrpSpPr/>
          <p:nvPr/>
        </p:nvGrpSpPr>
        <p:grpSpPr>
          <a:xfrm>
            <a:off x="5182560" y="3733920"/>
            <a:ext cx="1065960" cy="1144440"/>
            <a:chOff x="5182560" y="3733920"/>
            <a:chExt cx="1065960" cy="1144440"/>
          </a:xfrm>
        </p:grpSpPr>
        <p:sp>
          <p:nvSpPr>
            <p:cNvPr id="808" name="Straight Connector 60"/>
            <p:cNvSpPr/>
            <p:nvPr/>
          </p:nvSpPr>
          <p:spPr>
            <a:xfrm flipV="1">
              <a:off x="5182560" y="4113360"/>
              <a:ext cx="456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Straight Connector 62"/>
            <p:cNvSpPr/>
            <p:nvPr/>
          </p:nvSpPr>
          <p:spPr>
            <a:xfrm flipV="1">
              <a:off x="5638680" y="4115880"/>
              <a:ext cx="1440" cy="76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Box 67"/>
            <p:cNvSpPr/>
            <p:nvPr/>
          </p:nvSpPr>
          <p:spPr>
            <a:xfrm>
              <a:off x="5257800" y="37339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TextBox 68"/>
            <p:cNvSpPr/>
            <p:nvPr/>
          </p:nvSpPr>
          <p:spPr>
            <a:xfrm>
              <a:off x="5639040" y="42800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Kalinga"/>
              </a:rPr>
              <a:t>Law of Increasing Opportunity Costs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3" name="TextBox 6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49BAC18-9C2C-4597-84D6-B77B28D1E9EE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Rounded Rectangle 69"/>
          <p:cNvGrpSpPr/>
          <p:nvPr/>
        </p:nvGrpSpPr>
        <p:grpSpPr>
          <a:xfrm>
            <a:off x="4479840" y="1292400"/>
            <a:ext cx="4200480" cy="1469880"/>
            <a:chOff x="4479840" y="1292400"/>
            <a:chExt cx="4200480" cy="1469880"/>
          </a:xfrm>
        </p:grpSpPr>
        <p:pic>
          <p:nvPicPr>
            <p:cNvPr id="817" name="Rounded Rectangle 69" descr=""/>
            <p:cNvPicPr/>
            <p:nvPr/>
          </p:nvPicPr>
          <p:blipFill>
            <a:blip r:embed="rId1"/>
            <a:stretch/>
          </p:blipFill>
          <p:spPr>
            <a:xfrm>
              <a:off x="4479840" y="1292400"/>
              <a:ext cx="4200480" cy="14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4627440" y="1395360"/>
              <a:ext cx="392904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s more cars are produced, an increasing amount of wheat must be given 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5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228600" y="104148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produces 1000 units of butter, how many guns can it produce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is at “b” on the PPC, what is the cost of 1000 more units of butter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2" name="Text Box 9"/>
          <p:cNvSpPr/>
          <p:nvPr/>
        </p:nvSpPr>
        <p:spPr>
          <a:xfrm rot="10800000">
            <a:off x="3809520" y="2675880"/>
            <a:ext cx="45468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Quantity of guns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10"/>
          <p:cNvSpPr/>
          <p:nvPr/>
        </p:nvSpPr>
        <p:spPr>
          <a:xfrm>
            <a:off x="4889520" y="594360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y of butter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7"/>
          <p:cNvSpPr/>
          <p:nvPr/>
        </p:nvSpPr>
        <p:spPr>
          <a:xfrm>
            <a:off x="4800600" y="2590920"/>
            <a:ext cx="0" cy="31240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8"/>
          <p:cNvSpPr/>
          <p:nvPr/>
        </p:nvSpPr>
        <p:spPr>
          <a:xfrm>
            <a:off x="4800600" y="5715000"/>
            <a:ext cx="4191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rc 11"/>
          <p:cNvSpPr/>
          <p:nvPr/>
        </p:nvSpPr>
        <p:spPr>
          <a:xfrm>
            <a:off x="4800600" y="2895480"/>
            <a:ext cx="4038480" cy="281952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13"/>
          <p:cNvSpPr/>
          <p:nvPr/>
        </p:nvSpPr>
        <p:spPr>
          <a:xfrm>
            <a:off x="4038480" y="2895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14"/>
          <p:cNvSpPr/>
          <p:nvPr/>
        </p:nvSpPr>
        <p:spPr>
          <a:xfrm>
            <a:off x="3962520" y="3429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15"/>
          <p:cNvSpPr/>
          <p:nvPr/>
        </p:nvSpPr>
        <p:spPr>
          <a:xfrm>
            <a:off x="4038480" y="449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16"/>
          <p:cNvSpPr/>
          <p:nvPr/>
        </p:nvSpPr>
        <p:spPr>
          <a:xfrm>
            <a:off x="5486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17"/>
          <p:cNvSpPr/>
          <p:nvPr/>
        </p:nvSpPr>
        <p:spPr>
          <a:xfrm>
            <a:off x="6629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18"/>
          <p:cNvSpPr/>
          <p:nvPr/>
        </p:nvSpPr>
        <p:spPr>
          <a:xfrm>
            <a:off x="792468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19"/>
          <p:cNvSpPr/>
          <p:nvPr/>
        </p:nvSpPr>
        <p:spPr>
          <a:xfrm>
            <a:off x="6095880" y="30481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20"/>
          <p:cNvSpPr/>
          <p:nvPr/>
        </p:nvSpPr>
        <p:spPr>
          <a:xfrm>
            <a:off x="7315200" y="358128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21"/>
          <p:cNvSpPr/>
          <p:nvPr/>
        </p:nvSpPr>
        <p:spPr>
          <a:xfrm>
            <a:off x="8534520" y="46483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22"/>
          <p:cNvSpPr/>
          <p:nvPr/>
        </p:nvSpPr>
        <p:spPr>
          <a:xfrm flipH="1">
            <a:off x="4800240" y="35812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23"/>
          <p:cNvSpPr/>
          <p:nvPr/>
        </p:nvSpPr>
        <p:spPr>
          <a:xfrm flipH="1">
            <a:off x="4800600" y="4648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24"/>
          <p:cNvSpPr/>
          <p:nvPr/>
        </p:nvSpPr>
        <p:spPr>
          <a:xfrm flipH="1">
            <a:off x="4800240" y="3048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25"/>
          <p:cNvSpPr/>
          <p:nvPr/>
        </p:nvSpPr>
        <p:spPr>
          <a:xfrm>
            <a:off x="8458200" y="45720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26"/>
          <p:cNvSpPr/>
          <p:nvPr/>
        </p:nvSpPr>
        <p:spPr>
          <a:xfrm>
            <a:off x="7238880" y="342900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27"/>
          <p:cNvSpPr/>
          <p:nvPr/>
        </p:nvSpPr>
        <p:spPr>
          <a:xfrm>
            <a:off x="6019920" y="29718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28"/>
          <p:cNvSpPr/>
          <p:nvPr/>
        </p:nvSpPr>
        <p:spPr>
          <a:xfrm>
            <a:off x="6095880" y="2666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29"/>
          <p:cNvSpPr/>
          <p:nvPr/>
        </p:nvSpPr>
        <p:spPr>
          <a:xfrm>
            <a:off x="731520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30"/>
          <p:cNvSpPr/>
          <p:nvPr/>
        </p:nvSpPr>
        <p:spPr>
          <a:xfrm>
            <a:off x="85345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32"/>
          <p:cNvSpPr/>
          <p:nvPr/>
        </p:nvSpPr>
        <p:spPr>
          <a:xfrm>
            <a:off x="228600" y="2590920"/>
            <a:ext cx="3276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pportunity cost greater for move from “c” to “d” compared to a move from “b” to “c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A53442E-F120-43BA-9E6F-DCAF71A74A81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Box 3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5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228600" y="104148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produces 1000 units of butter, how many guns can it produce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is at “b” on the PPC, what is the cost of 1000 more units of butter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2" name="Text Box 9"/>
          <p:cNvSpPr/>
          <p:nvPr/>
        </p:nvSpPr>
        <p:spPr>
          <a:xfrm rot="10800000">
            <a:off x="3809520" y="2675880"/>
            <a:ext cx="45468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Quantity of guns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0"/>
          <p:cNvSpPr/>
          <p:nvPr/>
        </p:nvSpPr>
        <p:spPr>
          <a:xfrm>
            <a:off x="4889520" y="594360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y of butter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7"/>
          <p:cNvSpPr/>
          <p:nvPr/>
        </p:nvSpPr>
        <p:spPr>
          <a:xfrm>
            <a:off x="4800600" y="2590920"/>
            <a:ext cx="0" cy="31240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8"/>
          <p:cNvSpPr/>
          <p:nvPr/>
        </p:nvSpPr>
        <p:spPr>
          <a:xfrm>
            <a:off x="4800600" y="5715000"/>
            <a:ext cx="4191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rc 11"/>
          <p:cNvSpPr/>
          <p:nvPr/>
        </p:nvSpPr>
        <p:spPr>
          <a:xfrm>
            <a:off x="4800600" y="2895480"/>
            <a:ext cx="4038480" cy="281952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13"/>
          <p:cNvSpPr/>
          <p:nvPr/>
        </p:nvSpPr>
        <p:spPr>
          <a:xfrm>
            <a:off x="4038480" y="2895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14"/>
          <p:cNvSpPr/>
          <p:nvPr/>
        </p:nvSpPr>
        <p:spPr>
          <a:xfrm>
            <a:off x="3962520" y="3429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5"/>
          <p:cNvSpPr/>
          <p:nvPr/>
        </p:nvSpPr>
        <p:spPr>
          <a:xfrm>
            <a:off x="4038480" y="449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6"/>
          <p:cNvSpPr/>
          <p:nvPr/>
        </p:nvSpPr>
        <p:spPr>
          <a:xfrm>
            <a:off x="5486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7"/>
          <p:cNvSpPr/>
          <p:nvPr/>
        </p:nvSpPr>
        <p:spPr>
          <a:xfrm>
            <a:off x="6629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8"/>
          <p:cNvSpPr/>
          <p:nvPr/>
        </p:nvSpPr>
        <p:spPr>
          <a:xfrm>
            <a:off x="792468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19"/>
          <p:cNvSpPr/>
          <p:nvPr/>
        </p:nvSpPr>
        <p:spPr>
          <a:xfrm>
            <a:off x="6095880" y="30481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20"/>
          <p:cNvSpPr/>
          <p:nvPr/>
        </p:nvSpPr>
        <p:spPr>
          <a:xfrm>
            <a:off x="7315200" y="358128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21"/>
          <p:cNvSpPr/>
          <p:nvPr/>
        </p:nvSpPr>
        <p:spPr>
          <a:xfrm>
            <a:off x="8534520" y="46483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22"/>
          <p:cNvSpPr/>
          <p:nvPr/>
        </p:nvSpPr>
        <p:spPr>
          <a:xfrm flipH="1">
            <a:off x="4800240" y="35812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23"/>
          <p:cNvSpPr/>
          <p:nvPr/>
        </p:nvSpPr>
        <p:spPr>
          <a:xfrm flipH="1">
            <a:off x="4800600" y="4648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24"/>
          <p:cNvSpPr/>
          <p:nvPr/>
        </p:nvSpPr>
        <p:spPr>
          <a:xfrm flipH="1">
            <a:off x="4800240" y="3048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Oval 25"/>
          <p:cNvSpPr/>
          <p:nvPr/>
        </p:nvSpPr>
        <p:spPr>
          <a:xfrm>
            <a:off x="8458200" y="45720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Oval 26"/>
          <p:cNvSpPr/>
          <p:nvPr/>
        </p:nvSpPr>
        <p:spPr>
          <a:xfrm>
            <a:off x="7238880" y="342900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27"/>
          <p:cNvSpPr/>
          <p:nvPr/>
        </p:nvSpPr>
        <p:spPr>
          <a:xfrm>
            <a:off x="6019920" y="29718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8"/>
          <p:cNvSpPr/>
          <p:nvPr/>
        </p:nvSpPr>
        <p:spPr>
          <a:xfrm>
            <a:off x="6095880" y="2666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9"/>
          <p:cNvSpPr/>
          <p:nvPr/>
        </p:nvSpPr>
        <p:spPr>
          <a:xfrm>
            <a:off x="731520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30"/>
          <p:cNvSpPr/>
          <p:nvPr/>
        </p:nvSpPr>
        <p:spPr>
          <a:xfrm>
            <a:off x="85345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2"/>
          <p:cNvSpPr/>
          <p:nvPr/>
        </p:nvSpPr>
        <p:spPr>
          <a:xfrm>
            <a:off x="228600" y="2590920"/>
            <a:ext cx="3276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pportunity cost greater for move from “c” to “d” compared to a move from “b” to “c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31"/>
          <p:cNvSpPr/>
          <p:nvPr/>
        </p:nvSpPr>
        <p:spPr>
          <a:xfrm>
            <a:off x="3149640" y="143820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00 units of gu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Box 32"/>
          <p:cNvSpPr/>
          <p:nvPr/>
        </p:nvSpPr>
        <p:spPr>
          <a:xfrm>
            <a:off x="3774960" y="2219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00 units of g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Box 33"/>
          <p:cNvSpPr/>
          <p:nvPr/>
        </p:nvSpPr>
        <p:spPr>
          <a:xfrm>
            <a:off x="849240" y="55040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c to d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– 150 guns per 1000 units of bu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Box 34"/>
          <p:cNvSpPr/>
          <p:nvPr/>
        </p:nvSpPr>
        <p:spPr>
          <a:xfrm>
            <a:off x="838080" y="48578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b to c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– 100 guns per 1000 units of bu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58CD30C-5908-4493-932D-4723F6F31B02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Box 3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PC and Economic Growth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5B50B5A-BEE7-40B3-8125-D1C57D0A83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Chart 8" descr=""/>
          <p:cNvPicPr/>
          <p:nvPr/>
        </p:nvPicPr>
        <p:blipFill>
          <a:blip r:embed="rId1"/>
          <a:stretch/>
        </p:blipFill>
        <p:spPr>
          <a:xfrm>
            <a:off x="225360" y="1566720"/>
            <a:ext cx="6108840" cy="4700880"/>
          </a:xfrm>
          <a:prstGeom prst="rect">
            <a:avLst/>
          </a:prstGeom>
          <a:ln w="0">
            <a:noFill/>
          </a:ln>
        </p:spPr>
      </p:pic>
      <p:grpSp>
        <p:nvGrpSpPr>
          <p:cNvPr id="888" name="Rounded Rectangle 9"/>
          <p:cNvGrpSpPr/>
          <p:nvPr/>
        </p:nvGrpSpPr>
        <p:grpSpPr>
          <a:xfrm>
            <a:off x="6242040" y="1773360"/>
            <a:ext cx="2541600" cy="2487600"/>
            <a:chOff x="6242040" y="1773360"/>
            <a:chExt cx="2541600" cy="2487600"/>
          </a:xfrm>
        </p:grpSpPr>
        <p:pic>
          <p:nvPicPr>
            <p:cNvPr id="889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6242040" y="1773360"/>
              <a:ext cx="254160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6421320" y="1924200"/>
              <a:ext cx="2192400" cy="21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Growth means the economy is able to produce more of every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PC and Technological Change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E393252-DF5C-4DD0-AE6E-CF67074554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Rounded Rectangle 9"/>
          <p:cNvGrpSpPr/>
          <p:nvPr/>
        </p:nvGrpSpPr>
        <p:grpSpPr>
          <a:xfrm>
            <a:off x="6242040" y="1773360"/>
            <a:ext cx="2670120" cy="3268440"/>
            <a:chOff x="6242040" y="1773360"/>
            <a:chExt cx="2670120" cy="3268440"/>
          </a:xfrm>
        </p:grpSpPr>
        <p:pic>
          <p:nvPicPr>
            <p:cNvPr id="896" name="Rounded Rectangle 9" descr=""/>
            <p:cNvPicPr/>
            <p:nvPr/>
          </p:nvPicPr>
          <p:blipFill>
            <a:blip r:embed="rId1"/>
            <a:stretch/>
          </p:blipFill>
          <p:spPr>
            <a:xfrm>
              <a:off x="6242040" y="1773360"/>
              <a:ext cx="2670120" cy="32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6429240" y="1932120"/>
              <a:ext cx="2292480" cy="29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mprovement in technology shifts curve to P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can produce more of either good, or more of bot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8" name="Chart 10" descr=""/>
          <p:cNvPicPr/>
          <p:nvPr/>
        </p:nvPicPr>
        <p:blipFill>
          <a:blip r:embed="rId2"/>
          <a:stretch/>
        </p:blipFill>
        <p:spPr>
          <a:xfrm>
            <a:off x="-6480" y="1384200"/>
            <a:ext cx="6351840" cy="524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6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533520" y="914400"/>
          <a:ext cx="7924680" cy="170640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ies per Ye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2" name="Rectangle 32"/>
          <p:cNvSpPr/>
          <p:nvPr/>
        </p:nvSpPr>
        <p:spPr>
          <a:xfrm>
            <a:off x="382680" y="2895480"/>
            <a:ext cx="83804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a P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ools on the horizontal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assume new technology that can be used only in the tool industry is developed, which increases tool output by 5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Draw a new P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reflects this new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If Finhorn produced 12 units of tools per year, how many units of grain could be produced after the introduction of the new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164DF01-EE1B-493B-8C3D-C27F6EB94D52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Box 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12"/>
          <p:cNvSpPr/>
          <p:nvPr/>
        </p:nvSpPr>
        <p:spPr>
          <a:xfrm>
            <a:off x="0" y="838080"/>
            <a:ext cx="9144000" cy="556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6 Solu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0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36A4E69-B1C8-4F81-87C5-6FE2E3847908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23"/>
          <p:cNvSpPr/>
          <p:nvPr/>
        </p:nvSpPr>
        <p:spPr>
          <a:xfrm>
            <a:off x="1373040" y="24685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29"/>
          <p:cNvSpPr/>
          <p:nvPr/>
        </p:nvSpPr>
        <p:spPr>
          <a:xfrm>
            <a:off x="1449360" y="21938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Group 51"/>
          <p:cNvGrpSpPr/>
          <p:nvPr/>
        </p:nvGrpSpPr>
        <p:grpSpPr>
          <a:xfrm>
            <a:off x="494280" y="1752480"/>
            <a:ext cx="7705080" cy="4635720"/>
            <a:chOff x="494280" y="1752480"/>
            <a:chExt cx="7705080" cy="4635720"/>
          </a:xfrm>
        </p:grpSpPr>
        <p:sp>
          <p:nvSpPr>
            <p:cNvPr id="912" name="Line 3"/>
            <p:cNvSpPr/>
            <p:nvPr/>
          </p:nvSpPr>
          <p:spPr>
            <a:xfrm>
              <a:off x="1449360" y="1782720"/>
              <a:ext cx="0" cy="43434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Line 4"/>
            <p:cNvSpPr/>
            <p:nvPr/>
          </p:nvSpPr>
          <p:spPr>
            <a:xfrm>
              <a:off x="1449360" y="6126120"/>
              <a:ext cx="54864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Text Box 5"/>
            <p:cNvSpPr/>
            <p:nvPr/>
          </p:nvSpPr>
          <p:spPr>
            <a:xfrm>
              <a:off x="494280" y="175248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Text Box 6"/>
            <p:cNvSpPr/>
            <p:nvPr/>
          </p:nvSpPr>
          <p:spPr>
            <a:xfrm>
              <a:off x="7407360" y="6019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Text Box 37"/>
          <p:cNvSpPr/>
          <p:nvPr/>
        </p:nvSpPr>
        <p:spPr>
          <a:xfrm>
            <a:off x="914400" y="23367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40"/>
          <p:cNvSpPr/>
          <p:nvPr/>
        </p:nvSpPr>
        <p:spPr>
          <a:xfrm>
            <a:off x="91440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41"/>
          <p:cNvSpPr/>
          <p:nvPr/>
        </p:nvSpPr>
        <p:spPr>
          <a:xfrm>
            <a:off x="9144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Group 81"/>
          <p:cNvGrpSpPr/>
          <p:nvPr/>
        </p:nvGrpSpPr>
        <p:grpSpPr>
          <a:xfrm>
            <a:off x="4800600" y="5775480"/>
            <a:ext cx="457200" cy="396720"/>
            <a:chOff x="4800600" y="5775480"/>
            <a:chExt cx="457200" cy="396720"/>
          </a:xfrm>
        </p:grpSpPr>
        <p:sp>
          <p:nvSpPr>
            <p:cNvPr id="920" name="Oval 24"/>
            <p:cNvSpPr/>
            <p:nvPr/>
          </p:nvSpPr>
          <p:spPr>
            <a:xfrm>
              <a:off x="4800600" y="601992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44"/>
            <p:cNvSpPr/>
            <p:nvPr/>
          </p:nvSpPr>
          <p:spPr>
            <a:xfrm>
              <a:off x="4952880" y="5775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Text Box 46"/>
          <p:cNvSpPr/>
          <p:nvPr/>
        </p:nvSpPr>
        <p:spPr>
          <a:xfrm>
            <a:off x="2286000" y="60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48"/>
          <p:cNvSpPr/>
          <p:nvPr/>
        </p:nvSpPr>
        <p:spPr>
          <a:xfrm>
            <a:off x="3505320" y="60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49"/>
          <p:cNvSpPr/>
          <p:nvPr/>
        </p:nvSpPr>
        <p:spPr>
          <a:xfrm>
            <a:off x="45720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Group 79"/>
          <p:cNvGrpSpPr/>
          <p:nvPr/>
        </p:nvGrpSpPr>
        <p:grpSpPr>
          <a:xfrm>
            <a:off x="2438280" y="3032280"/>
            <a:ext cx="457200" cy="368280"/>
            <a:chOff x="2438280" y="3032280"/>
            <a:chExt cx="457200" cy="368280"/>
          </a:xfrm>
        </p:grpSpPr>
        <p:sp>
          <p:nvSpPr>
            <p:cNvPr id="926" name="Oval 16"/>
            <p:cNvSpPr/>
            <p:nvPr/>
          </p:nvSpPr>
          <p:spPr>
            <a:xfrm>
              <a:off x="2438280" y="320040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30"/>
            <p:cNvSpPr/>
            <p:nvPr/>
          </p:nvSpPr>
          <p:spPr>
            <a:xfrm>
              <a:off x="2514240" y="30322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Text Box 49"/>
          <p:cNvSpPr/>
          <p:nvPr/>
        </p:nvSpPr>
        <p:spPr>
          <a:xfrm>
            <a:off x="563868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49"/>
          <p:cNvSpPr/>
          <p:nvPr/>
        </p:nvSpPr>
        <p:spPr>
          <a:xfrm>
            <a:off x="670572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80"/>
          <p:cNvGrpSpPr/>
          <p:nvPr/>
        </p:nvGrpSpPr>
        <p:grpSpPr>
          <a:xfrm>
            <a:off x="3657600" y="4022640"/>
            <a:ext cx="380880" cy="397080"/>
            <a:chOff x="3657600" y="4022640"/>
            <a:chExt cx="380880" cy="397080"/>
          </a:xfrm>
        </p:grpSpPr>
        <p:sp>
          <p:nvSpPr>
            <p:cNvPr id="931" name="Text Box 31"/>
            <p:cNvSpPr/>
            <p:nvPr/>
          </p:nvSpPr>
          <p:spPr>
            <a:xfrm>
              <a:off x="3733560" y="4022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Oval 26"/>
            <p:cNvSpPr/>
            <p:nvPr/>
          </p:nvSpPr>
          <p:spPr>
            <a:xfrm>
              <a:off x="3657600" y="426744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Group 82"/>
          <p:cNvGrpSpPr/>
          <p:nvPr/>
        </p:nvGrpSpPr>
        <p:grpSpPr>
          <a:xfrm>
            <a:off x="3035160" y="2984400"/>
            <a:ext cx="622440" cy="397080"/>
            <a:chOff x="3035160" y="2984400"/>
            <a:chExt cx="622440" cy="397080"/>
          </a:xfrm>
        </p:grpSpPr>
        <p:sp>
          <p:nvSpPr>
            <p:cNvPr id="934" name="Oval 16"/>
            <p:cNvSpPr/>
            <p:nvPr/>
          </p:nvSpPr>
          <p:spPr>
            <a:xfrm>
              <a:off x="3035160" y="322920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Text Box 30"/>
            <p:cNvSpPr/>
            <p:nvPr/>
          </p:nvSpPr>
          <p:spPr>
            <a:xfrm>
              <a:off x="3111120" y="298440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Group 83"/>
          <p:cNvGrpSpPr/>
          <p:nvPr/>
        </p:nvGrpSpPr>
        <p:grpSpPr>
          <a:xfrm>
            <a:off x="4800600" y="4038480"/>
            <a:ext cx="685800" cy="380880"/>
            <a:chOff x="4800600" y="4038480"/>
            <a:chExt cx="685800" cy="380880"/>
          </a:xfrm>
        </p:grpSpPr>
        <p:sp>
          <p:nvSpPr>
            <p:cNvPr id="937" name="Oval 26"/>
            <p:cNvSpPr/>
            <p:nvPr/>
          </p:nvSpPr>
          <p:spPr>
            <a:xfrm>
              <a:off x="4800600" y="426708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31"/>
            <p:cNvSpPr/>
            <p:nvPr/>
          </p:nvSpPr>
          <p:spPr>
            <a:xfrm>
              <a:off x="4952880" y="40384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Group 84"/>
          <p:cNvGrpSpPr/>
          <p:nvPr/>
        </p:nvGrpSpPr>
        <p:grpSpPr>
          <a:xfrm>
            <a:off x="6858000" y="5778360"/>
            <a:ext cx="685800" cy="393840"/>
            <a:chOff x="6858000" y="5778360"/>
            <a:chExt cx="685800" cy="393840"/>
          </a:xfrm>
        </p:grpSpPr>
        <p:sp>
          <p:nvSpPr>
            <p:cNvPr id="940" name="Oval 26"/>
            <p:cNvSpPr/>
            <p:nvPr/>
          </p:nvSpPr>
          <p:spPr>
            <a:xfrm>
              <a:off x="6858000" y="601992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Text Box 44"/>
            <p:cNvSpPr/>
            <p:nvPr/>
          </p:nvSpPr>
          <p:spPr>
            <a:xfrm>
              <a:off x="6933960" y="57783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Group 85"/>
          <p:cNvGrpSpPr/>
          <p:nvPr/>
        </p:nvGrpSpPr>
        <p:grpSpPr>
          <a:xfrm>
            <a:off x="1486080" y="2540160"/>
            <a:ext cx="5460840" cy="3555720"/>
            <a:chOff x="1486080" y="2540160"/>
            <a:chExt cx="5460840" cy="3555720"/>
          </a:xfrm>
        </p:grpSpPr>
        <p:sp>
          <p:nvSpPr>
            <p:cNvPr id="943" name="Freeform 77"/>
            <p:cNvSpPr/>
            <p:nvPr/>
          </p:nvSpPr>
          <p:spPr>
            <a:xfrm>
              <a:off x="1486080" y="2540160"/>
              <a:ext cx="5460840" cy="3555720"/>
            </a:xfrm>
            <a:custGeom>
              <a:avLst/>
              <a:gdLst>
                <a:gd name="textAreaLeft" fmla="*/ 0 w 5460840"/>
                <a:gd name="textAreaRight" fmla="*/ 5460840 w 5460840"/>
                <a:gd name="textAreaTop" fmla="*/ 0 h 3555720"/>
                <a:gd name="textAreaBottom" fmla="*/ 3556080 h 3555720"/>
              </a:gdLst>
              <a:ahLst/>
              <a:rect l="textAreaLeft" t="textAreaTop" r="textAreaRight" b="textAreaBottom"/>
              <a:pathLst>
                <a:path w="5461000" h="3556000">
                  <a:moveTo>
                    <a:pt x="0" y="0"/>
                  </a:moveTo>
                  <a:cubicBezTo>
                    <a:pt x="536575" y="236008"/>
                    <a:pt x="1073150" y="472017"/>
                    <a:pt x="1638300" y="774700"/>
                  </a:cubicBezTo>
                  <a:cubicBezTo>
                    <a:pt x="2203450" y="1077383"/>
                    <a:pt x="2753783" y="1352550"/>
                    <a:pt x="3390900" y="1816100"/>
                  </a:cubicBezTo>
                  <a:cubicBezTo>
                    <a:pt x="4028017" y="2279650"/>
                    <a:pt x="4744508" y="2917825"/>
                    <a:pt x="5461000" y="3556000"/>
                  </a:cubicBezTo>
                </a:path>
              </a:pathLst>
            </a:custGeom>
            <a:noFill/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Text Box 44"/>
            <p:cNvSpPr/>
            <p:nvPr/>
          </p:nvSpPr>
          <p:spPr>
            <a:xfrm>
              <a:off x="5791320" y="47242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79646"/>
                  </a:solidFill>
                  <a:latin typeface="Arial"/>
                </a:rPr>
                <a:t>P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Freeform 70"/>
          <p:cNvSpPr/>
          <p:nvPr/>
        </p:nvSpPr>
        <p:spPr>
          <a:xfrm>
            <a:off x="1486080" y="2540160"/>
            <a:ext cx="3403440" cy="3581280"/>
          </a:xfrm>
          <a:custGeom>
            <a:avLst/>
            <a:gdLst/>
            <a:ahLst/>
            <a:rect l="l" t="t" r="r" b="b"/>
            <a:pathLst>
              <a:path w="3403600" h="3581400">
                <a:moveTo>
                  <a:pt x="0" y="0"/>
                </a:moveTo>
                <a:cubicBezTo>
                  <a:pt x="333375" y="218016"/>
                  <a:pt x="666750" y="436033"/>
                  <a:pt x="1041400" y="736600"/>
                </a:cubicBezTo>
                <a:cubicBezTo>
                  <a:pt x="1416050" y="1037167"/>
                  <a:pt x="1854200" y="1329267"/>
                  <a:pt x="2247900" y="1803400"/>
                </a:cubicBezTo>
                <a:cubicBezTo>
                  <a:pt x="2641600" y="2277533"/>
                  <a:pt x="3022600" y="2929466"/>
                  <a:pt x="3403600" y="3581400"/>
                </a:cubicBezTo>
              </a:path>
            </a:pathLst>
          </a:custGeom>
          <a:noFill/>
          <a:ln w="507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Box 86"/>
          <p:cNvSpPr/>
          <p:nvPr/>
        </p:nvSpPr>
        <p:spPr>
          <a:xfrm>
            <a:off x="925560" y="1193760"/>
            <a:ext cx="76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echnology allows 50% increase in tool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Group 94"/>
          <p:cNvGrpSpPr/>
          <p:nvPr/>
        </p:nvGrpSpPr>
        <p:grpSpPr>
          <a:xfrm>
            <a:off x="1523880" y="4343040"/>
            <a:ext cx="3354480" cy="1676880"/>
            <a:chOff x="1523880" y="4343040"/>
            <a:chExt cx="3354480" cy="1676880"/>
          </a:xfrm>
        </p:grpSpPr>
        <p:sp>
          <p:nvSpPr>
            <p:cNvPr id="948" name="Straight Connector 88"/>
            <p:cNvSpPr/>
            <p:nvPr/>
          </p:nvSpPr>
          <p:spPr>
            <a:xfrm>
              <a:off x="4876920" y="4356000"/>
              <a:ext cx="1440" cy="1663920"/>
            </a:xfrm>
            <a:prstGeom prst="line">
              <a:avLst/>
            </a:prstGeom>
            <a:ln w="284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Straight Connector 93"/>
            <p:cNvSpPr/>
            <p:nvPr/>
          </p:nvSpPr>
          <p:spPr>
            <a:xfrm flipH="1" flipV="1">
              <a:off x="1523880" y="4343040"/>
              <a:ext cx="3353040" cy="12600"/>
            </a:xfrm>
            <a:prstGeom prst="line">
              <a:avLst/>
            </a:prstGeom>
            <a:ln w="284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Box 4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Macroeconomic Goals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574560" y="1711080"/>
            <a:ext cx="811224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mproved standard of living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conomic growth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ll employmen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ble price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iable balance of international trad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quitable distribution of incom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nageable government debt &amp; defici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82880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A7F6F84-0313-44EC-A4B9-8F14154989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95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03925E0-2BEE-48CE-AA9C-F88E8C798A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nderstand why economics is such a relevant discipline in our society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earn a definition of economics and distinction between micro and macro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ppreciate that groups of people can have differing underlying value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ealize that scarcity, choice and opportunity cost are at the heart of economic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nderstand why greater trade results in economies being more productive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96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D31867D-1C09-4B91-B151-10E6962AD5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lain the three fundamental questions that all societies must addres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derstand the four different ways that economies can be organized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Use the production possibilities model to illustrate opportunity cost, efficiency, and unemploymen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List the economic goals of society and understand why they are often difficult to achieve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The Economic Problem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2935440"/>
            <a:ext cx="8528040" cy="33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7:  List the economic goals of society and explain why they are often difficult to achiev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8461588-0345-49DA-B03A-CDDB80B6A9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Relevance of Economic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Controversies: </a:t>
            </a:r>
            <a:br>
              <a:rPr sz="3200"/>
            </a:b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c growth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ome redistribu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ad pricing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lob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vision of health car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rbon trading system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43737ED-7C6A-4A5B-AD1C-979CB2C58C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What is Economics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ositive Statemen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verified with empirical data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Normative Statemen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d on a person’s beliefs or value system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not be verified with data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646847F-0FE3-4EDD-9C14-9E00D443FA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9D5C80E-D92E-4FB5-A690-B9DCA8003D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entify each of the following statements as either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itive (P) or normative (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ederal government’s budget this year is the largest in his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ational debt is at a manageable level and therefore is nothing to worry abou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gasoline is higher than it needs to b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Rising Canadian exports are creating many new jobs in the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B364532-4BDD-4995-9947-B9D61A767E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entify each of the following statements as either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itive (P) or normative (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ederal government’s budget this year is the largest in his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ational debt is at a manageable level and therefore is nothing to worry abou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gasoline is higher than it needs to b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Rising Canadian exports are creating many new jobs in the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8"/>
          <p:cNvSpPr/>
          <p:nvPr/>
        </p:nvSpPr>
        <p:spPr>
          <a:xfrm>
            <a:off x="4724280" y="2817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Box 9"/>
          <p:cNvSpPr/>
          <p:nvPr/>
        </p:nvSpPr>
        <p:spPr>
          <a:xfrm>
            <a:off x="7885800" y="3767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Box 10"/>
          <p:cNvSpPr/>
          <p:nvPr/>
        </p:nvSpPr>
        <p:spPr>
          <a:xfrm>
            <a:off x="2186640" y="4672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11"/>
          <p:cNvSpPr/>
          <p:nvPr/>
        </p:nvSpPr>
        <p:spPr>
          <a:xfrm>
            <a:off x="5280480" y="56275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What is Economics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c Theor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oks at how positive statements are relat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s the </a:t>
            </a:r>
            <a:r>
              <a:rPr b="1" i="1" lang="en-US" sz="2800" spc="-1" strike="noStrike">
                <a:solidFill>
                  <a:srgbClr val="595959"/>
                </a:solidFill>
                <a:latin typeface="Times New Roman"/>
              </a:rPr>
              <a:t>scientific metho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 up a hypothesi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ine terms, state assumption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ather data to test hypothesi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ept, reject, or modify theory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1D95D94-0448-4CD8-A38A-869DC59089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4:50Z</dcterms:modified>
  <cp:revision>225</cp:revision>
  <dc:subject/>
  <dc:title>Slide 1</dc:title>
</cp:coreProperties>
</file>