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22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1D78-CE74-4651-96B7-EC09F9493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B2B5-963A-4146-B1A6-8396E2258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2218-39F1-4974-9429-CE49D5467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98D2-61F6-4A02-9A22-73CB75E06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81C2-0BDB-447D-AFF1-9DBAF68D0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B7F1-224B-468D-9D47-17ACB3C51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D7F3-B94A-48BE-A1E9-CFC742FB6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9C63-B01A-424B-AEF4-1B2524364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204F-866C-437C-B264-E32B34999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5D8C-192F-46B3-812F-9E2B4E409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D3E2-ED5F-42E4-A416-BDF8168E8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B680-64AC-44CA-95C5-AACFE5900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B6AA-D363-4564-9123-07D4761C0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33BC-4615-48A2-8B40-1AB41C5EA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E84D-E1E8-48C2-B88E-D1F75A416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1D3-9EF2-4713-9046-0666D7DD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46A-4786-427B-AB22-F57288E3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19705-52E0-4E5D-B3FB-91815EC6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13251-2D05-418E-B7CE-C84A5BC8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8D9AE-90F8-4CB2-BE2C-F9C43093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F4A49-10E6-4574-9FAC-EAE62DEC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2492A-83C8-4F36-AF1D-50924D6B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1E4B7-BAA5-4BC0-89E7-7AF4772F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1EFFC-374B-4964-B324-D2838472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EF955-09FA-49E2-91C5-D40AE9D0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A076A-F28B-407F-8685-E82F3E1B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5D058-6212-4F7A-96F8-605C3851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072-3B03-4708-87A8-CFF5D144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9FD3A-8C13-4C36-8F5C-EA8ABCED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9AB15-B9E1-4FE0-A751-C1E75DEF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ABEF2-EE4A-412B-8344-69FA8751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0F24A-B8D8-4F69-8740-1E52CC36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1FA50-6447-423E-BD3D-3CC34345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690B2C-BC52-4C3C-967A-1D686415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74EA2-F18A-4972-8FB3-C571B731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6B7E1-B8F3-4E5D-8F2B-F99E9D00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08461-6A2C-4A37-9047-BEE69E2B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90733-4ABB-4846-B2A0-D6B97934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10E-1FD0-4D3F-8F17-C7B19BE2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06B83-1032-4B33-A0FC-30269239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B2E7-7C33-4BBD-BE48-D6ABD7AD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E7B9-E184-429F-A106-8B9A223B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1287-9596-4C5C-9C27-2CAB4485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7CF5-0A8C-457B-A6B1-3677B82D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1E36-595F-4232-BB1F-A5247EB7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D95C-9ADF-46C7-9FC0-C42EC286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6898-0F6B-42FE-871E-AAE64263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504-CDB9-4354-9185-A894837E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C86C-717E-4077-8BEC-FC8AE011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064A-286A-48A5-A893-343F895F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435B-B152-474E-AA4C-AD6EEFBD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C53B-02F7-4C42-8D35-5018252E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EE8C-D034-4703-81C8-8BB97975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5DD48-B6CB-49D4-8FF2-2793CECE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D89C1-7E3D-47EC-B0FE-45C0778F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E1262-E50D-468A-BD3C-A3966616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EC635-0596-4D4A-B09D-FE19C6D7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31ED0-37B7-4552-9270-4372170D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930-0D0D-4079-A074-8F23F4BC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0D921-B3A6-467B-9DBE-3C79A0A0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C0D0-AF99-4285-9342-6E82D808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CFE7B-DC01-478A-B81C-08AEC506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2B58C-0E22-4B74-B11D-F42C6AF0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24B54-C062-4809-95E0-63949601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841D2-0C59-4434-9B15-BA4910A3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FC41F-E85F-41C0-B3C6-7D084AF7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7E407-2B0A-4E21-8D3A-5184DBD4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99962-0849-4BBA-99D6-14AD5D26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D5721-B271-41B1-9233-B99E713D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DFD-BC77-46A0-B9D9-45A42F6C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70ED4-BD1D-4855-A15B-488DACB2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85175-FFDB-4D16-ABBD-8EFB52B6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0417E-919F-4B7B-8240-2628E382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8AFCC-F974-40BE-A855-15A9BB39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F2A31-BBC9-4EEA-B7C2-783CBC4F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A95E-05C9-41BD-AEBD-12D535C9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AFEBE-22F3-4191-806E-47090451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86E3F-9B7E-46CE-923E-15E86FBF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FDBED-59E3-4A66-BA58-9141AC8B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6B5E5-28BD-41F7-AE7D-170F1F39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837-2E0C-4BF8-B32A-D2F8E576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DC7BD-D20C-443F-B922-E5B9E0AE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F49B1-5C1A-404F-833A-72E57116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BA72B-8088-46AA-AF0A-D7908B3B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B9535-D6F7-41BF-9720-FAC58EBA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3740D-E2C1-4E6D-B63A-6B87ECAE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D1E39-B95C-433F-BE5B-4E3B2646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1ABC1-13E6-4460-984A-795CC417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3D0C0-5C81-4C28-968C-C5A3EB90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D6BAD-52B8-4077-804A-0A70F85B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87692-A140-49C5-8CBE-E22361EC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283A-AF2A-4FD9-AFFF-A49C2264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444FC-01FD-4F16-B4A1-46F92127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8DB61-74D3-44F9-BBBF-C246EE55E0D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8CB63D-BA0E-4BB7-86AE-16ECF39343F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78DB8C-6EFE-4ACD-B658-AFE730A6642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1E0DE0-CEFF-49F0-80A9-4CE37C3DBC6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CC87C-DE80-42E8-8DCE-EAD36BA426A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029CB-1E7A-44E7-94AD-2E5DB604294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DC9AD-1A58-4C0D-974B-98D4D25959B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9AF6E9-DD63-4458-AD62-F19F79F4A89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D3E75C-7AC2-4169-BFC6-7B3C05EC0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2E9-7881-4174-A695-9C52D9C4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C8636-1C28-4BF9-A26D-B1FB5E90B4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2334E-7B7A-4D53-BEE8-D32E09D2B40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7B9E2F-91B0-4195-A62E-DF9D189005D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AEA66A-84D3-4AAF-9167-1096CD6C381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C5344A-7F2E-4183-937C-1866DA29562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2A0B34-E12D-47ED-A73A-4EE7BD35DD7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9FEEAF-F23C-4A28-B863-4A9AA0D0DFB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6FC128-AF84-429B-BD8F-8098C699BBE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3DF658-5E8B-447D-AE2D-7A07074BB02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9F05A4-6135-4BD6-989C-4A1AEB741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0916-2E7B-424D-B86F-B0CBFF46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058BFC-C6F1-435F-8679-ED1FDECA2C8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45AE4A-06A1-457D-B7A6-1E3706ABD6C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4B45C9-22AB-4296-9DDA-24BFB76F5FA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72CF34-4469-47EC-9888-557B124AA4D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8E1217-9384-4510-82CF-C8D309F04FA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01D185-7012-4091-A97F-F81BDB3F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06CF2B-B154-47E4-8DBB-73BEA78A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29D9BC-DE44-44DA-B81A-86A8EFCF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5398B0-6E2F-422D-84A7-8E550F75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8CDF4E-956A-4B03-946B-D4BAEA9C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B25-55B8-473C-882B-577499C7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4F417A-696E-4DCB-B2C0-FDF4E8AE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0B5D64-88CA-4990-8EFC-53E2CEE2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45D844-9585-463C-82A7-C93D3D3C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C50153-2A11-4988-9A83-16BB75E3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321B73-A1FD-4530-A680-B1CF1121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02C443-BEE4-49E7-A821-E664872D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AEF2DC-2D18-491D-B15D-694CE9F4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34627-7A2F-4BD1-AE4E-F6711241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AB322-DEBA-430E-A1BB-A79E3697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21415-EF39-4927-8A1D-6CCA0B8A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3F0410B-989F-458B-8CA1-E807EC6D33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3E4689E-73AB-4991-AB61-4502D2B2CD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6A06A21-3CE0-4D2B-B97A-03AE7A2B18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B1664EA-1C2E-4DDA-9511-D23682D76D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9A8E4C9-0A90-41B5-BCB1-B2F34F706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CBD12EB-D435-4C34-9FEA-4A2CDBC974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00E1568-7AEB-4236-9E51-A4666F4B9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154F3DD-DBED-494F-AF8C-CC99CB44B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Elasticity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4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C0253B3-305C-45F5-9422-C9DFFAD57F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elasticity coefficients for eac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Box 14"/>
          <p:cNvSpPr/>
          <p:nvPr/>
        </p:nvSpPr>
        <p:spPr>
          <a:xfrm>
            <a:off x="822960" y="362592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t 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.67.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–1) x1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9 – 8) x 100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  66.66%/11.7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          8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8"/>
          <p:cNvSpPr/>
          <p:nvPr/>
        </p:nvSpPr>
        <p:spPr>
          <a:xfrm>
            <a:off x="816120" y="450072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t I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18.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9–8) x1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 – 1) x 100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  11.76%/66.6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8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      1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93DBDAA-0F61-4CB1-BD0F-4DBDFDB18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et the change in price is $1 and the change in quantity is 1 unit. Why aren’t the coefficients the sam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TextBox 8"/>
          <p:cNvSpPr/>
          <p:nvPr/>
        </p:nvSpPr>
        <p:spPr>
          <a:xfrm>
            <a:off x="795240" y="3884760"/>
            <a:ext cx="80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y are not the same because the $1 change in price is a small % change in Set 1, but a big % change in Set 2.  Similarly, 1 unit is a big % change in Set 1, but a small % change in Set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Total Revenu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13AD1290-EAD5-4EE3-804A-09882A0F02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42380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demand is elastic, an increase in price will decrease revenu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demand is inelastic, an increase in price will increase revenu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649440" y="3430440"/>
          <a:ext cx="7867440" cy="2230560"/>
        </p:xfrm>
        <a:graphic>
          <a:graphicData uri="http://schemas.openxmlformats.org/drawingml/2006/table">
            <a:tbl>
              <a:tblPr/>
              <a:tblGrid>
                <a:gridCol w="1106280"/>
                <a:gridCol w="1125720"/>
                <a:gridCol w="1701720"/>
                <a:gridCol w="982440"/>
                <a:gridCol w="1106640"/>
                <a:gridCol w="1844640"/>
              </a:tblGrid>
              <a:tr h="54612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  <a:tr h="56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12" name="Right Brace 12"/>
          <p:cNvSpPr/>
          <p:nvPr/>
        </p:nvSpPr>
        <p:spPr>
          <a:xfrm rot="5400000">
            <a:off x="2449800" y="3991680"/>
            <a:ext cx="351000" cy="3870360"/>
          </a:xfrm>
          <a:custGeom>
            <a:avLst/>
            <a:gdLst>
              <a:gd name="textAreaLeft" fmla="*/ 0 w 351000"/>
              <a:gd name="textAreaRight" fmla="*/ 126720 w 351000"/>
              <a:gd name="textAreaTop" fmla="*/ 9000 h 3870360"/>
              <a:gd name="textAreaBottom" fmla="*/ 3861360 h 38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13"/>
          <p:cNvSpPr/>
          <p:nvPr/>
        </p:nvSpPr>
        <p:spPr>
          <a:xfrm>
            <a:off x="1898640" y="603900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ight Brace 14"/>
          <p:cNvSpPr/>
          <p:nvPr/>
        </p:nvSpPr>
        <p:spPr>
          <a:xfrm rot="5400000">
            <a:off x="6359760" y="3993120"/>
            <a:ext cx="350640" cy="3870360"/>
          </a:xfrm>
          <a:custGeom>
            <a:avLst/>
            <a:gdLst>
              <a:gd name="textAreaLeft" fmla="*/ 0 w 350640"/>
              <a:gd name="textAreaRight" fmla="*/ 126720 w 350640"/>
              <a:gd name="textAreaTop" fmla="*/ 9000 h 3870360"/>
              <a:gd name="textAreaBottom" fmla="*/ 3861360 h 38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5"/>
          <p:cNvSpPr/>
          <p:nvPr/>
        </p:nvSpPr>
        <p:spPr>
          <a:xfrm>
            <a:off x="6005880" y="602136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Total Revenu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563400" y="2019240"/>
          <a:ext cx="7974000" cy="3538440"/>
        </p:xfrm>
        <a:graphic>
          <a:graphicData uri="http://schemas.openxmlformats.org/drawingml/2006/table">
            <a:tbl>
              <a:tblPr/>
              <a:tblGrid>
                <a:gridCol w="2838600"/>
                <a:gridCol w="2328840"/>
                <a:gridCol w="280656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Demand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 Price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n Total Revenue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 (&l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 (&l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 (&g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 (&g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 elastic (=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ys 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 elastic (=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ys 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7693ABC-3673-40B8-A850-5FE9ADFCBA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C1E88FB-509F-410C-AD1A-B7DCB731A9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total revenue in each of the circumstances below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fa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rises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fa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rises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and price r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625F1BE6-203B-4AA2-A948-68090EF533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total revenue in each of the circumstances below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fa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rises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fa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rises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and price r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9"/>
          <p:cNvSpPr/>
          <p:nvPr/>
        </p:nvSpPr>
        <p:spPr>
          <a:xfrm>
            <a:off x="1185120" y="31892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ris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4718880" y="3171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ris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Box 10"/>
          <p:cNvSpPr/>
          <p:nvPr/>
        </p:nvSpPr>
        <p:spPr>
          <a:xfrm>
            <a:off x="1181880" y="433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fall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1"/>
          <p:cNvSpPr/>
          <p:nvPr/>
        </p:nvSpPr>
        <p:spPr>
          <a:xfrm>
            <a:off x="4736520" y="43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fall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3"/>
          <p:cNvSpPr/>
          <p:nvPr/>
        </p:nvSpPr>
        <p:spPr>
          <a:xfrm>
            <a:off x="1196280" y="5454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No chang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Slop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DFB0B32-955B-4867-B2AA-19B35221FE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lop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se over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centage change in quantity over percentage change in price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153D9A9-EFA8-45E9-A959-532D22421B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3" descr="Fig4_1.bmp"/>
          <p:cNvPicPr/>
          <p:nvPr/>
        </p:nvPicPr>
        <p:blipFill>
          <a:blip r:embed="rId1"/>
          <a:stretch/>
        </p:blipFill>
        <p:spPr>
          <a:xfrm>
            <a:off x="0" y="0"/>
            <a:ext cx="74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2907E24-C75B-48D2-9701-8129C6D7CE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4" descr="Fig4_2.bmp"/>
          <p:cNvPicPr/>
          <p:nvPr/>
        </p:nvPicPr>
        <p:blipFill>
          <a:blip r:embed="rId1"/>
          <a:stretch/>
        </p:blipFill>
        <p:spPr>
          <a:xfrm>
            <a:off x="0" y="0"/>
            <a:ext cx="877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79469EE-5436-4F63-AE53-67A05EE664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a demand curve using the data from the demand schedule (make each square on both axes equal to 2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lope of this demand curv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demonstrate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ity of demand was not the sam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Understand the concept and calculate price 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the relationship between the slope of a demand curve and elasticity and how this affects the total revenue of the producer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the determinants of price 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3F8E452-5522-4A6A-BC9D-EE45690D5C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EABE000-C6A7-4250-9D18-349B8BA7CA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a demand curve using the data from the demand schedule (make each square on both axes equal to 2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18960" y="2317680"/>
            <a:ext cx="5518440" cy="375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24F5DD0-54F9-47AF-8C9C-01A06B37E1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lope of this demand curve?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demonstrate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ity of demand was not the sam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9"/>
          <p:cNvSpPr/>
          <p:nvPr/>
        </p:nvSpPr>
        <p:spPr>
          <a:xfrm>
            <a:off x="901080" y="19242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/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∆P/∆Q) = 1/–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8"/>
          <p:cNvSpPr/>
          <p:nvPr/>
        </p:nvSpPr>
        <p:spPr>
          <a:xfrm>
            <a:off x="520560" y="3789360"/>
            <a:ext cx="527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elasticity coefficient for a price change from, say, 4 to 5 is 0.82 which is quite different from the slope of  – 1/2.  In fact, elasticity varies along any curve despite the fact that the slope is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s of elastic and inelastic demand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91C25A4-03E5-49EC-8872-1E2ED74586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744480" y="2243160"/>
          <a:ext cx="7836120" cy="3457440"/>
        </p:xfrm>
        <a:graphic>
          <a:graphicData uri="http://schemas.openxmlformats.org/drawingml/2006/table">
            <a:tbl>
              <a:tblPr/>
              <a:tblGrid>
                <a:gridCol w="3865680"/>
                <a:gridCol w="397044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 That Have Elastic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 That Have Inelastic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sh tomatoes (4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 electricity (0.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ies (3.4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ggs (0.3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b (2.6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repairs (0.3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aurant meals (1.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 (0.5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 and tableware (1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 appliances (0.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mobiles (1.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bacco (0.8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: H.S. Houthakker and Lester D. Taylor, Consumer Demand in the United States (Cambridge, MA: Harvard University Press, 1970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Determinants of Price Elasticit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74276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demand for a product is more elastic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loser and the greater are the number of available substitutes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larger the percentage of one’s income that is spent on the product; an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longer the time period involved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Kaling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590250D-CE0B-4450-91BE-8B68CBB6D5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113FBF1-65A0-4DD0-82BE-4F8A99D4C6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elasticity coefficients were recently measured in Canada over a period of one year for the following products. Indicate whether you think such a measurement would be elastic (&gt;1) or inelastic (&lt;1) demand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urant me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ha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ru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7C92023-CFCE-47A6-AFFA-82DB0E5EF4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elasticity coefficients were recently measured in Canada over a period of one year for the following products. Indicate whether you think such a measurement would be elastic (&gt;1) or inelastic (&lt;1) demand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urant me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ha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ru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6"/>
          <p:cNvSpPr/>
          <p:nvPr/>
        </p:nvSpPr>
        <p:spPr>
          <a:xfrm>
            <a:off x="930240" y="37958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8"/>
          <p:cNvSpPr/>
          <p:nvPr/>
        </p:nvSpPr>
        <p:spPr>
          <a:xfrm>
            <a:off x="912960" y="4522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9"/>
          <p:cNvSpPr/>
          <p:nvPr/>
        </p:nvSpPr>
        <p:spPr>
          <a:xfrm>
            <a:off x="916200" y="52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0"/>
          <p:cNvSpPr/>
          <p:nvPr/>
        </p:nvSpPr>
        <p:spPr>
          <a:xfrm>
            <a:off x="4587840" y="3816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1"/>
          <p:cNvSpPr/>
          <p:nvPr/>
        </p:nvSpPr>
        <p:spPr>
          <a:xfrm>
            <a:off x="4559400" y="4522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4562640" y="52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pplications of Pric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5728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xcise Tax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sales tax imposed on a particular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867202A-52EA-4E87-9F50-F1E9A16D9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1" descr="Fig4-6.bmp"/>
          <p:cNvPicPr/>
          <p:nvPr/>
        </p:nvPicPr>
        <p:blipFill>
          <a:blip r:embed="rId1"/>
          <a:stretch/>
        </p:blipFill>
        <p:spPr>
          <a:xfrm>
            <a:off x="0" y="2751120"/>
            <a:ext cx="914400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pplications of Pric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re inelastic the demand for a product, the larger is the percentage of a sales (or excise) tax the consumer will pa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D58E471-9168-4E5C-8A94-AA243A5F3D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12" descr="Fig4-7.bmp"/>
          <p:cNvPicPr/>
          <p:nvPr/>
        </p:nvPicPr>
        <p:blipFill>
          <a:blip r:embed="rId1"/>
          <a:stretch/>
        </p:blipFill>
        <p:spPr>
          <a:xfrm>
            <a:off x="0" y="2782800"/>
            <a:ext cx="9144000" cy="365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of Supply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asure of how much quantity supplied changes as a result of a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1C6DFC86-3714-42B8-AF13-35B7C7900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ounded Rectangle 7"/>
          <p:cNvSpPr/>
          <p:nvPr/>
        </p:nvSpPr>
        <p:spPr>
          <a:xfrm>
            <a:off x="2743200" y="2498760"/>
            <a:ext cx="370044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95760" y="2625840"/>
            <a:ext cx="3543120" cy="89352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3094200" y="4390920"/>
            <a:ext cx="307332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of Suppl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36044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When price changes from $2 to $3, the quantity supplied rises from 400 to 500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703D0C7-45BC-4B45-89F3-F936A402F5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2637000" y="4678200"/>
            <a:ext cx="3859200" cy="14432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3147840" y="2751120"/>
            <a:ext cx="2859120" cy="160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Use real-world examples to demonstrate that the concept of elasticity is a powerful tool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 Understand the meaning and significance  of elasticity of supply, income elasticity, and cross-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C35A33D-0D25-4B10-9A7C-FB0584BFEE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FFCE4F8-D83E-42F6-B1BB-A615A1CAFB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12" descr="Fig4_12.bmp"/>
          <p:cNvPicPr/>
          <p:nvPr/>
        </p:nvPicPr>
        <p:blipFill>
          <a:blip r:embed="rId1"/>
          <a:stretch/>
        </p:blipFill>
        <p:spPr>
          <a:xfrm>
            <a:off x="0" y="49068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erfectly Inelastic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65DD3BD-8C59-4672-8B9E-D199FB2638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13" descr="Fig4-13.bmp"/>
          <p:cNvPicPr/>
          <p:nvPr/>
        </p:nvPicPr>
        <p:blipFill>
          <a:blip r:embed="rId1"/>
          <a:stretch/>
        </p:blipFill>
        <p:spPr>
          <a:xfrm>
            <a:off x="0" y="1630440"/>
            <a:ext cx="8962920" cy="42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responsiveness of quantity demanded to a change in inco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9CF5711-B0CE-4B2C-A228-1D35843BE6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ounded Rectangle 7"/>
          <p:cNvSpPr/>
          <p:nvPr/>
        </p:nvSpPr>
        <p:spPr>
          <a:xfrm>
            <a:off x="2084400" y="2498760"/>
            <a:ext cx="49323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286000" y="2637000"/>
            <a:ext cx="4527720" cy="89352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2955960" y="4402080"/>
            <a:ext cx="3306600" cy="178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270A1DA-3C5C-4549-A1AB-1F82C044A6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934920" y="1865160"/>
          <a:ext cx="7347240" cy="3568680"/>
        </p:xfrm>
        <a:graphic>
          <a:graphicData uri="http://schemas.openxmlformats.org/drawingml/2006/table">
            <a:tbl>
              <a:tblPr/>
              <a:tblGrid>
                <a:gridCol w="2449800"/>
                <a:gridCol w="2449440"/>
                <a:gridCol w="2448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Type of Goo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Demand i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xury goo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 but greater than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– 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essi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in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ior 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 income elasti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BLE 4.9 Differences in Spending between the Riches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Poorest Groups in Canada, 199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B2DDE61-3024-4BF0-B6EF-53546C56D3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52600" y="2487600"/>
          <a:ext cx="7995960" cy="3754440"/>
        </p:xfrm>
        <a:graphic>
          <a:graphicData uri="http://schemas.openxmlformats.org/drawingml/2006/table">
            <a:tbl>
              <a:tblPr/>
              <a:tblGrid>
                <a:gridCol w="1168200"/>
                <a:gridCol w="1282680"/>
                <a:gridCol w="1401840"/>
                <a:gridCol w="1244520"/>
                <a:gridCol w="1381320"/>
                <a:gridCol w="1517400"/>
              </a:tblGrid>
              <a:tr h="293760"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Ine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E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560">
                <a:tc>
                  <a:txBody>
                    <a:bodyPr lIns="0" rIns="0" tIns="0" bIns="0" anchor="b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rni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el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re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bacco 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6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: Based on Statistics Canada, Family Expenditure in Canada, 1996, catalogue no. 62-555-XPB, released on July 28, 199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C25B489-8E4B-4306-96C1-3C774E6B24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come elasticity for products X and 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roducts X and Y norm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8EAB981-5868-4B35-8680-72DE031874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come elasticity for products X and 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TextBox 9"/>
          <p:cNvSpPr/>
          <p:nvPr/>
        </p:nvSpPr>
        <p:spPr>
          <a:xfrm>
            <a:off x="914400" y="4338720"/>
            <a:ext cx="73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X: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+ 1.3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350–20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15 000 – 10 000) x 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+54.5%/+4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75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2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Box 10"/>
          <p:cNvSpPr/>
          <p:nvPr/>
        </p:nvSpPr>
        <p:spPr>
          <a:xfrm>
            <a:off x="917640" y="5394240"/>
            <a:ext cx="73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Y =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+ 0.19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54–5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15 000 – 10 00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=  +7.6%/+40%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2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63159F3-7F5A-43D9-A311-B13327F36F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roducts X and Y norm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TextBox 9"/>
          <p:cNvSpPr/>
          <p:nvPr/>
        </p:nvSpPr>
        <p:spPr>
          <a:xfrm>
            <a:off x="787320" y="4551480"/>
            <a:ext cx="73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es.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Both products have a positive co-efficient; product X is a luxury with a co-efficient greater than 1, Y is a necessity with a co-efficient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76200"/>
            <a:ext cx="82296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ponsiveness of the change in Qd of product A to a change in the price of product B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33C0897-6AAD-40D4-BB17-DBF3D4FB5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ounded Rectangle 7"/>
          <p:cNvSpPr/>
          <p:nvPr/>
        </p:nvSpPr>
        <p:spPr>
          <a:xfrm>
            <a:off x="1328760" y="2498760"/>
            <a:ext cx="657072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1754280" y="2647800"/>
            <a:ext cx="5605200" cy="87336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3030480" y="4390920"/>
            <a:ext cx="3125880" cy="17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5C471C2-53DB-48CA-8E77-5F2A622735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712800" y="1522440"/>
          <a:ext cx="7709040" cy="1523880"/>
        </p:xfrm>
        <a:graphic>
          <a:graphicData uri="http://schemas.openxmlformats.org/drawingml/2006/table">
            <a:tbl>
              <a:tblPr/>
              <a:tblGrid>
                <a:gridCol w="1326960"/>
                <a:gridCol w="2632320"/>
                <a:gridCol w="1127160"/>
                <a:gridCol w="2622600"/>
              </a:tblGrid>
              <a:tr h="305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a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Week (lb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Week (lb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2743200" y="4906800"/>
            <a:ext cx="3710160" cy="126216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3189240" y="3189240"/>
            <a:ext cx="2779920" cy="157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asure of how much quantity demanded changes as a result of a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F7220F1-246D-41B9-8351-71F54C23DC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ounded Rectangle 7"/>
          <p:cNvSpPr/>
          <p:nvPr/>
        </p:nvSpPr>
        <p:spPr>
          <a:xfrm>
            <a:off x="2743200" y="2498760"/>
            <a:ext cx="370044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870280" y="2595600"/>
            <a:ext cx="3456000" cy="96660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019320" y="4389480"/>
            <a:ext cx="320040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E9734EF-E934-4B7D-B8EB-F4E16DDF6E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670040" y="2247840"/>
          <a:ext cx="5869080" cy="2621160"/>
        </p:xfrm>
        <a:graphic>
          <a:graphicData uri="http://schemas.openxmlformats.org/drawingml/2006/table">
            <a:tbl>
              <a:tblPr/>
              <a:tblGrid>
                <a:gridCol w="2933640"/>
                <a:gridCol w="2935440"/>
              </a:tblGrid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Goods ar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titu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811B437-7BB4-44CB-8E13-DF66BB5DB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10" descr="4ElasticitySummary.bmp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0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76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A001CE8-2A96-47DB-9284-6FD7F1953E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Definition, calculation, and determinants of price elasticity of demand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Difference between slope and elastic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lationship between elasticity and total revenu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al world examples of elastic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lasticity of supply, income elasticity, and cross-elasticity of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airline tick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A015B00-34AE-4716-A916-52AE8210F8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627120" y="1852560"/>
          <a:ext cx="7889760" cy="1676520"/>
        </p:xfrm>
        <a:graphic>
          <a:graphicData uri="http://schemas.openxmlformats.org/drawingml/2006/table">
            <a:tbl>
              <a:tblPr/>
              <a:tblGrid>
                <a:gridCol w="1542960"/>
                <a:gridCol w="1062000"/>
                <a:gridCol w="1214640"/>
                <a:gridCol w="1003320"/>
                <a:gridCol w="1079280"/>
                <a:gridCol w="1987560"/>
              </a:tblGrid>
              <a:tr h="28404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i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i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7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944800" y="3668760"/>
            <a:ext cx="3191040" cy="7444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2774880" y="4592520"/>
            <a:ext cx="3433680" cy="70164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3125880" y="5443560"/>
            <a:ext cx="2903400" cy="73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6585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ity Coeffici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number that measures the responsiveness of quantity demanded to a change in pric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1818647C-531A-4D1D-8DEC-BFA44EE07F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328760" y="3427560"/>
          <a:ext cx="6400800" cy="2527200"/>
        </p:xfrm>
        <a:graphic>
          <a:graphicData uri="http://schemas.openxmlformats.org/drawingml/2006/table">
            <a:tbl>
              <a:tblPr/>
              <a:tblGrid>
                <a:gridCol w="3200400"/>
                <a:gridCol w="320040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Demand i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 to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elastic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demanded that is not very responsive to a change in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demanded that is quite responsive to a change in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DD55E61-E660-4B12-98F0-2328640BED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Unitary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oint where the percentage change in quantity is exactly equal to the percentage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142E90B-088B-42D5-80D8-5BF0350F18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77A2FA7-C099-44F5-979A-6C9006FFB5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elasticity coefficients for eac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et the change in price is $1 and the change in quantity is 1 unit. Why aren’t the coefficients the sam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6:28Z</dcterms:modified>
  <cp:revision>253</cp:revision>
  <dc:subject/>
  <dc:title>Slide 1</dc:title>
</cp:coreProperties>
</file>