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22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8FF2-1A0D-4E91-8D23-40D57CA16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8FF2-DB8E-4BB9-B599-6CFC323B3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EEA1-4F74-4903-B144-B92E34828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39E8-8076-4F9E-BCE1-E4AFFA555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F7C1-ADB5-43D0-ADDC-97D15C39E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0893-6CB9-4492-B647-866F063A4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DA9E-AE4D-4B1F-A0CA-8DCD48BD7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BBF9-C226-4B4B-A372-627A8ADD7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AA60-8266-4095-BE7B-F679E9CE9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402A-50D1-4C7A-9FE3-3C096BE44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FD6D-D95E-493C-B5F2-8DAE852C5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0D96-B482-41A5-8C13-A91C6D05A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2813-F924-4A5D-A43B-32D0D5AA4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01AF-3474-44F4-99E9-008B0A5B3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685A-B5D1-46FE-BC6F-413961BD6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B659-B2EF-4FF9-88D8-3E868CF8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DFA-D54C-4CF7-BF8F-43D487C1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83A24-5133-4F01-B76D-55C6341D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2795AE-E15B-4026-B3DB-4F685EFF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06709-F273-4769-998A-466F43FF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6C4EE-5969-46F2-8584-EFC6A2CD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B4958D-588E-47A3-B648-8E294542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4A294-9DCF-4BD8-9047-F7C455C7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89552-D901-4253-9DB1-0D8E77CD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8429B7-527A-44CA-93B2-7768AB71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1FFC4-F00C-403C-B292-4229E40A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61E99-57B5-4C22-81C4-F1C732D6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D31-45C9-4D05-B4F6-79B7D52B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FB554F-B143-4328-9663-BEDE3160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8AEB4-DA40-4F86-A8AF-E0AD8E0D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6795D-119B-4CD3-A853-E1FD5C3A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2709F-D957-4A6D-8956-C789672D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DB5A5-240F-4FF4-B1FD-0C6F8A14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05192-6F9F-4EA8-895B-97EFF21C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BFF09-ECEC-4EEC-98F8-84FAC1C8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9ACC6-C958-4FB7-8E78-AE0D30E0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9FD98-6D0E-4220-9A4C-8F3A8AD7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7BDEBE-637D-4312-AD2B-7BFAF1F5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36A-14CD-466D-9195-4EF62DCF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122F8F-4FF9-4B81-B2CF-492C7627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39D2-CAB0-4844-874C-93F5E949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0BF3-217C-4FC8-A709-37408BA9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E329-AF5D-4951-AAAE-BB5FFA32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546B-115C-41D4-BE3D-AB875377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C6DD-A58A-4565-AA7E-A7CD01AF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A78F-6F7F-444A-8AEA-945BAE97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0985-CD12-44E5-BC72-65ADFEE5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1B5B-1181-45FE-AA3B-6412389C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4458-DF90-494A-A7D8-F785B899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7D44-01B4-4912-A3D2-5346DA14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B381-5B46-4B91-90FE-BDD0F761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C64E-43E2-4DCC-BC18-F3904911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74A3-197A-4B42-8402-C34EC1C8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38FB7-72CC-4A32-9F9E-3E3100DD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6C80E-67F5-4150-B412-2C193844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94F3E-C756-4622-9E5A-EA8A311F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54F08-CEDC-4660-A782-48B85314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7BC28-2754-4391-989F-EB3F9612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F09-BD80-496C-AB24-31219B48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89439-4CD5-4D7C-9AC8-963C7B4E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F8AC2-6C3B-4C35-9052-BB83359C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BFCF6-D6E3-4055-B98D-D8902466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FC09D-F3B9-4C2F-A976-3CA4FC83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F8F67-FC42-416E-BB0B-1C19E12C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241A9-1967-4DFA-BFC3-C1D27172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85575-9F11-4166-B93F-FF967F63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BD57A-D7FD-4C3A-B1CF-CE9F03C4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D6D46-AD3C-4CE3-9AE3-53555AC5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C8EED-0CA6-4037-93D7-DE36C931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40A-2DD0-4D0E-ABEC-B3445406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ECD9D-2114-489C-BC01-F3CB1012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E6076-3858-4643-90F0-526273B2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3938E-CEE7-4A65-A3D9-6EE5CCE1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F56A7-3BEA-4150-A1B8-F4A02D2A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50D97-D0CF-4746-8366-8CB0E906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A31AF-D19F-4DC9-B1E9-01B5949E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BB4F1-D1EE-4FCA-BB71-DF042518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8186F-DEF2-4101-AFF6-045E4DE7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FDB65-9BD0-461A-A43C-177A0351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65B17-4F5B-4408-A105-63610E60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6B8-0F6B-49E5-B2E3-CDB464BF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BD0CF-637F-4A28-8BD0-3B31C326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49594-02D9-41E6-A95B-38209B79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2E91D-F962-4DAC-B03E-30920D2D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77A06-C190-497A-B450-AD4E2EC0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AE138-A3E7-4A51-B2C4-0190813F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A655B-8C7B-4CB2-915D-2E1365E5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646D7-2640-4A9B-99C4-12CAC61F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4C08E-87EB-4461-BEEF-0250F7EF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233AB-7850-43D5-9067-E4DEE7DB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B2C50-547E-4169-8199-989C284C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B892-EBAF-4EDE-B83D-1117FC98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19551-1C2C-4CA1-893C-610D3E2E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5EE86F-5923-420D-99FA-BBF31E52128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875BE-58E8-4714-90CD-3B5AEC2D90D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A4C58-0F9E-454B-8CCF-F40774F7B4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26DBBF-D60C-49B5-965E-FB3C655BE77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917C1-4803-443E-B544-49D173AE801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0D2D0C-D614-4242-9A53-35D78B52F85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75387-6AD7-4E61-A42D-634C266894E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24D29-E1F9-4F82-9DD7-3ECABD65022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A43A5-0E14-4DD3-A852-DA6B2345E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EF5-120B-46A1-BE94-5BB9B59C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2A33BC-9C0D-4D7D-86E1-D2E8624B3F2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67AB89-00BB-475A-9974-F9FFA02645E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F3008E-F61C-457D-A5BD-48355F740AC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F31F40-C289-4CB6-AE68-248F41CF32C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AE6DD3-70C5-4F79-A94F-84F6E990D5F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2E1B97-D419-4FD4-8C3E-93C8BBA86C2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BEAAD5-E9DB-4FB4-A573-B23D19CBBDF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259D02-CED4-4EEF-AD76-71E863A186F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E5B8A1-7960-4892-B89C-4E5BDB7FA36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FBB5BB-3E7A-42BF-A760-9EF6BBF8E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16F-69DB-43B3-BA6D-AEBD927D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8EADD1-92AE-4AA9-9375-D4445F1F3DE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B0FA42-85E5-40DC-9577-4A04417BF12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6E82A0-7A03-4AFA-8B89-C4A2D7F63B9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E4CE4E-117A-49D6-97F2-ADF78D98B77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EB9248-3F8A-4DB3-B232-605E913957A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81307B-91FE-4E1A-A9A9-01907EC4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C34ED0-1C60-46FD-BDA7-C1418FA8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EADA3A-F2B9-4B54-B1AD-CD17E712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E75B5B-A93E-4D50-BC03-6CC8E8B6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0BF9AE-3AC8-42D7-BEFA-F8A85096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C7D-0568-45AE-B46B-2FF9EB7F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1878C1-B533-4779-B5ED-499E8CA1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19BDC6-5B96-41BC-9392-72C38CBF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DA130C-FD15-478F-A35C-A0313507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A04570-CDFC-4499-A05F-BD88DCFE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465F84-3867-4C97-B3EF-3A73ECFF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B5FB4B-D3D5-4406-B618-1AC37B1C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6052CE-2C87-4002-A896-842BB235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B5958-E0A5-480D-815E-61C4C977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B7320-0F83-4042-8A89-A366D385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6CF10-CC65-4C1D-8AB9-9EF14DC4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526CB9D-DED9-4C11-BDC8-EFDBDB3830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524708D-81E4-418F-94A5-723E622465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4DDA7CD-D41B-4DF5-A689-011C02ACFE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23171D9-B892-4C7F-AAB9-D8B121D2C0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44015C1-05EF-4336-B560-3114A17A90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738F1B2-24F2-44D3-BE13-2E295F18B3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D7DABAD-CEFC-4F7D-B0AD-565FF0DA22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10D4BE8-8C1E-42E9-A44E-8300706CA1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Elasticity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4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16EE67E2-724E-4C5B-87BB-5AC3E0895A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elasticity coefficients for eac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Box 14"/>
          <p:cNvSpPr/>
          <p:nvPr/>
        </p:nvSpPr>
        <p:spPr>
          <a:xfrm>
            <a:off x="822960" y="362592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t I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.67.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–1) x1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9 – 8) x 100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=  66.66%/11.7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          8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8"/>
          <p:cNvSpPr/>
          <p:nvPr/>
        </p:nvSpPr>
        <p:spPr>
          <a:xfrm>
            <a:off x="816120" y="450072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t II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18.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9–8) x1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 – 1) x 100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=  11.76%/66.6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8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      1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6F51AD48-491D-45DB-9FDE-BBC7F3541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et the change in price is $1 and the change in quantity is 1 unit. Why aren’t the coefficients the sam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TextBox 8"/>
          <p:cNvSpPr/>
          <p:nvPr/>
        </p:nvSpPr>
        <p:spPr>
          <a:xfrm>
            <a:off x="795240" y="3884760"/>
            <a:ext cx="80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y are not the same because the $1 change in price is a small % change in Set 1, but a big % change in Set 2.  Similarly, 1 unit is a big % change in Set 1, but a small % change in Set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Total Revenu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44025DA-F30C-4CB2-A23C-944F93DA7A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42380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demand is elastic, an increase in price will decrease revenu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demand is inelastic, an increase in price will increase revenu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649440" y="3430440"/>
          <a:ext cx="7867440" cy="2230560"/>
        </p:xfrm>
        <a:graphic>
          <a:graphicData uri="http://schemas.openxmlformats.org/drawingml/2006/table">
            <a:tbl>
              <a:tblPr/>
              <a:tblGrid>
                <a:gridCol w="1106280"/>
                <a:gridCol w="1125720"/>
                <a:gridCol w="1701720"/>
                <a:gridCol w="982440"/>
                <a:gridCol w="1106640"/>
                <a:gridCol w="1844640"/>
              </a:tblGrid>
              <a:tr h="54612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  <a:tr h="56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12" name="Right Brace 12"/>
          <p:cNvSpPr/>
          <p:nvPr/>
        </p:nvSpPr>
        <p:spPr>
          <a:xfrm rot="5400000">
            <a:off x="2449800" y="3991680"/>
            <a:ext cx="351000" cy="3870360"/>
          </a:xfrm>
          <a:custGeom>
            <a:avLst/>
            <a:gdLst>
              <a:gd name="textAreaLeft" fmla="*/ 0 w 351000"/>
              <a:gd name="textAreaRight" fmla="*/ 126720 w 351000"/>
              <a:gd name="textAreaTop" fmla="*/ 9000 h 3870360"/>
              <a:gd name="textAreaBottom" fmla="*/ 3861360 h 38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13"/>
          <p:cNvSpPr/>
          <p:nvPr/>
        </p:nvSpPr>
        <p:spPr>
          <a:xfrm>
            <a:off x="1898640" y="603900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ight Brace 14"/>
          <p:cNvSpPr/>
          <p:nvPr/>
        </p:nvSpPr>
        <p:spPr>
          <a:xfrm rot="5400000">
            <a:off x="6359760" y="3993120"/>
            <a:ext cx="350640" cy="3870360"/>
          </a:xfrm>
          <a:custGeom>
            <a:avLst/>
            <a:gdLst>
              <a:gd name="textAreaLeft" fmla="*/ 0 w 350640"/>
              <a:gd name="textAreaRight" fmla="*/ 126720 w 350640"/>
              <a:gd name="textAreaTop" fmla="*/ 9000 h 3870360"/>
              <a:gd name="textAreaBottom" fmla="*/ 3861360 h 38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5"/>
          <p:cNvSpPr/>
          <p:nvPr/>
        </p:nvSpPr>
        <p:spPr>
          <a:xfrm>
            <a:off x="6005880" y="602136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Total Revenu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563400" y="2019240"/>
          <a:ext cx="7974000" cy="3538440"/>
        </p:xfrm>
        <a:graphic>
          <a:graphicData uri="http://schemas.openxmlformats.org/drawingml/2006/table">
            <a:tbl>
              <a:tblPr/>
              <a:tblGrid>
                <a:gridCol w="2838600"/>
                <a:gridCol w="2328840"/>
                <a:gridCol w="280656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Demand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 Price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n Total Revenue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 (&l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 (&l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 (&g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 (&g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 elastic (=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ys 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 elastic (=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ys 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43ECE06-5AB5-4650-A865-BBADC001EC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D5556CB-3C33-472D-82F0-279E0B8A09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total revenue in each of the circumstances below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fa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rises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fa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rises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and price r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95776B8-E970-42A2-9987-504EF5F8FC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total revenue in each of the circumstances below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fa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rises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fa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rises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and price r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9"/>
          <p:cNvSpPr/>
          <p:nvPr/>
        </p:nvSpPr>
        <p:spPr>
          <a:xfrm>
            <a:off x="1185120" y="31892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ris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4718880" y="31719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ris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Box 10"/>
          <p:cNvSpPr/>
          <p:nvPr/>
        </p:nvSpPr>
        <p:spPr>
          <a:xfrm>
            <a:off x="1181880" y="433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fall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1"/>
          <p:cNvSpPr/>
          <p:nvPr/>
        </p:nvSpPr>
        <p:spPr>
          <a:xfrm>
            <a:off x="4736520" y="43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fall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3"/>
          <p:cNvSpPr/>
          <p:nvPr/>
        </p:nvSpPr>
        <p:spPr>
          <a:xfrm>
            <a:off x="1196280" y="5454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No chang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Slop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80C06E1-EFCA-4ED7-B316-119AB0D718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lop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se over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centage change in quantity over percentage change in price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EFDE51F-A813-4FB7-B258-C10D9C77EA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3" descr="Fig4_1.bmp"/>
          <p:cNvPicPr/>
          <p:nvPr/>
        </p:nvPicPr>
        <p:blipFill>
          <a:blip r:embed="rId1"/>
          <a:stretch/>
        </p:blipFill>
        <p:spPr>
          <a:xfrm>
            <a:off x="0" y="0"/>
            <a:ext cx="74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83A50C4-CB4F-4D5F-B8CF-90E02F900D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4" descr="Fig4_2.bmp"/>
          <p:cNvPicPr/>
          <p:nvPr/>
        </p:nvPicPr>
        <p:blipFill>
          <a:blip r:embed="rId1"/>
          <a:stretch/>
        </p:blipFill>
        <p:spPr>
          <a:xfrm>
            <a:off x="0" y="0"/>
            <a:ext cx="877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911C879-B827-4460-BA84-F7BBF40B85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a demand curve using the data from the demand schedule (make each square on both axes equal to 2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lope of this demand curv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demonstrate tha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ity of demand was not the same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Understand the concept and calculate price 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the relationship between the slope of a demand curve and elasticity and how this affects the total revenue of the producer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the determinants of price 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2DE5B3A-5EC3-4EAE-98F9-64F284E7F9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F1011F4A-FCDA-4D9A-9E59-B0B734F79C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a demand curve using the data from the demand schedule (make each square on both axes equal to 2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18960" y="2317680"/>
            <a:ext cx="5518440" cy="375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4B0A43B-5997-43C1-BF3C-49B44BB3E5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lope of this demand curve?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demonstrate tha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ity of demand was not the same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9"/>
          <p:cNvSpPr/>
          <p:nvPr/>
        </p:nvSpPr>
        <p:spPr>
          <a:xfrm>
            <a:off x="901080" y="19242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/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∆P/∆Q) = 1/–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8"/>
          <p:cNvSpPr/>
          <p:nvPr/>
        </p:nvSpPr>
        <p:spPr>
          <a:xfrm>
            <a:off x="520560" y="3789360"/>
            <a:ext cx="527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elasticity coefficient for a price change from, say, 4 to 5 is 0.82 which is quite different from the slope of  – 1/2.  In fact, elasticity varies along any curve despite the fact that the slope is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s of elastic and inelastic demand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1DE789A-18BA-4938-AF52-036CB06A20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744480" y="2243160"/>
          <a:ext cx="7836120" cy="3457440"/>
        </p:xfrm>
        <a:graphic>
          <a:graphicData uri="http://schemas.openxmlformats.org/drawingml/2006/table">
            <a:tbl>
              <a:tblPr/>
              <a:tblGrid>
                <a:gridCol w="3865680"/>
                <a:gridCol w="397044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 That Have Elastic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 That Have Inelastic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sh tomatoes (4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 electricity (0.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ies (3.4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ggs (0.3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b (2.6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repairs (0.3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aurant meals (1.6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d (0.5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 and tableware (1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 appliances (0.6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mobiles (1.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bacco (0.8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: H.S. Houthakker and Lester D. Taylor, Consumer Demand in the United States (Cambridge, MA: Harvard University Press, 1970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Determinants of Price Elasticit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74276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demand for a product is more elastic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loser and the greater are the number of available substitutes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larger the percentage of one’s income that is spent on the product; an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longer the time period involved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Kaling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65DE04AE-44DD-4D6B-8B30-242F80D545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2A6A826-75AA-4380-A8D1-8CC9BAF420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elasticity coefficients were recently measured in Canada over a period of one year for the following products. Indicate whether you think such a measurement would be elastic (&gt;1) or inelastic (&lt;1) demand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urant me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ha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ru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8AF8864-834C-4E07-BAF8-1B34C7A4DC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elasticity coefficients were recently measured in Canada over a period of one year for the following products. Indicate whether you think such a measurement would be elastic (&gt;1) or inelastic (&lt;1) demand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urant me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ha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ru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6"/>
          <p:cNvSpPr/>
          <p:nvPr/>
        </p:nvSpPr>
        <p:spPr>
          <a:xfrm>
            <a:off x="930240" y="37958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Box 8"/>
          <p:cNvSpPr/>
          <p:nvPr/>
        </p:nvSpPr>
        <p:spPr>
          <a:xfrm>
            <a:off x="912960" y="4522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9"/>
          <p:cNvSpPr/>
          <p:nvPr/>
        </p:nvSpPr>
        <p:spPr>
          <a:xfrm>
            <a:off x="916200" y="52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0"/>
          <p:cNvSpPr/>
          <p:nvPr/>
        </p:nvSpPr>
        <p:spPr>
          <a:xfrm>
            <a:off x="4587840" y="3816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1"/>
          <p:cNvSpPr/>
          <p:nvPr/>
        </p:nvSpPr>
        <p:spPr>
          <a:xfrm>
            <a:off x="4559400" y="4522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4562640" y="52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pplications of Pric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5728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xcise Tax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sales tax imposed on a particular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FCA2C71-E717-415C-A7FB-1BC451C422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1" descr="Fig4-6.bmp"/>
          <p:cNvPicPr/>
          <p:nvPr/>
        </p:nvPicPr>
        <p:blipFill>
          <a:blip r:embed="rId1"/>
          <a:stretch/>
        </p:blipFill>
        <p:spPr>
          <a:xfrm>
            <a:off x="0" y="2751120"/>
            <a:ext cx="914400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pplications of Pric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re inelastic the demand for a product, the larger is the percentage of a sales (or excise) tax the consumer will pa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66E2DEF-3C4B-4F72-8EA5-B17BC65CE0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12" descr="Fig4-7.bmp"/>
          <p:cNvPicPr/>
          <p:nvPr/>
        </p:nvPicPr>
        <p:blipFill>
          <a:blip r:embed="rId1"/>
          <a:stretch/>
        </p:blipFill>
        <p:spPr>
          <a:xfrm>
            <a:off x="0" y="2782800"/>
            <a:ext cx="9144000" cy="365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of Supply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asure of how much quantity supplied changes as a result of a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A2A36B5-CBCB-405D-B797-2141B71D98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ounded Rectangle 7"/>
          <p:cNvSpPr/>
          <p:nvPr/>
        </p:nvSpPr>
        <p:spPr>
          <a:xfrm>
            <a:off x="2743200" y="2498760"/>
            <a:ext cx="370044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95760" y="2625840"/>
            <a:ext cx="3543120" cy="89352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3094200" y="4390920"/>
            <a:ext cx="307332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of Suppl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36044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When price changes from $2 to $3, the quantity supplied rises from 400 to 500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0A31C18-A2CD-4862-8E92-14181D51E7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2637000" y="4678200"/>
            <a:ext cx="3859200" cy="14432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3147840" y="2751120"/>
            <a:ext cx="2859120" cy="160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Use real-world examples to demonstrate that the concept of elasticity is a powerful tool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 Understand the meaning and significance  of elasticity of supply, income elasticity, and cross-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19F4E1D-6516-4C97-B18B-57BB42EAD0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248A276-7C76-4CFD-BFDC-8E0243989E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12" descr="Fig4_12.bmp"/>
          <p:cNvPicPr/>
          <p:nvPr/>
        </p:nvPicPr>
        <p:blipFill>
          <a:blip r:embed="rId1"/>
          <a:stretch/>
        </p:blipFill>
        <p:spPr>
          <a:xfrm>
            <a:off x="0" y="490680"/>
            <a:ext cx="9144000" cy="584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erfectly Inelastic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7AA3585-25A0-4D70-B87C-781CCC4C4C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icture 13" descr="Fig4-13.bmp"/>
          <p:cNvPicPr/>
          <p:nvPr/>
        </p:nvPicPr>
        <p:blipFill>
          <a:blip r:embed="rId1"/>
          <a:stretch/>
        </p:blipFill>
        <p:spPr>
          <a:xfrm>
            <a:off x="0" y="1630440"/>
            <a:ext cx="8962920" cy="42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responsiveness of quantity demanded to a change in inco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1BD81106-E6C1-4EBB-AE8F-BA29576D1A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ounded Rectangle 7"/>
          <p:cNvSpPr/>
          <p:nvPr/>
        </p:nvSpPr>
        <p:spPr>
          <a:xfrm>
            <a:off x="2084400" y="2498760"/>
            <a:ext cx="49323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286000" y="2637000"/>
            <a:ext cx="4527720" cy="89352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2955960" y="4402080"/>
            <a:ext cx="3306600" cy="178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E043C25-6116-4C98-BE32-FADE1F4BF9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934920" y="1865160"/>
          <a:ext cx="7347240" cy="3568680"/>
        </p:xfrm>
        <a:graphic>
          <a:graphicData uri="http://schemas.openxmlformats.org/drawingml/2006/table">
            <a:tbl>
              <a:tblPr/>
              <a:tblGrid>
                <a:gridCol w="2449800"/>
                <a:gridCol w="2449440"/>
                <a:gridCol w="2448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Type of Goo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Demand i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xury goo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 but greater than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– </a:t>
                      </a: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cessit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in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ior 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 income elasti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BLE 4.9 Differences in Spending between the Riches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Poorest Groups in Canada, 199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2C35190-5FD7-4B68-9F34-95E4D2C8C8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52600" y="2487600"/>
          <a:ext cx="7995960" cy="3754440"/>
        </p:xfrm>
        <a:graphic>
          <a:graphicData uri="http://schemas.openxmlformats.org/drawingml/2006/table">
            <a:tbl>
              <a:tblPr/>
              <a:tblGrid>
                <a:gridCol w="1168200"/>
                <a:gridCol w="1282680"/>
                <a:gridCol w="1401840"/>
                <a:gridCol w="1244520"/>
                <a:gridCol w="1381320"/>
                <a:gridCol w="1517400"/>
              </a:tblGrid>
              <a:tr h="293760"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me Ine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me E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560">
                <a:tc>
                  <a:txBody>
                    <a:bodyPr lIns="0" rIns="0" tIns="0" bIns="0" anchor="b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rni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el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re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bacco 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gridSpan="6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: Based on Statistics Canada, Family Expenditure in Canada, 1996, catalogue no. 62-555-XPB, released on July 28, 199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17B0F9C-8E21-43CC-B3E9-46F38D752B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come elasticity for products X and Y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roducts X and Y norm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1EB8010-36CC-418F-9FDD-816973F537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come elasticity for products X and Y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6" name="TextBox 9"/>
          <p:cNvSpPr/>
          <p:nvPr/>
        </p:nvSpPr>
        <p:spPr>
          <a:xfrm>
            <a:off x="914400" y="4338720"/>
            <a:ext cx="73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X: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+ 1.3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350–20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15 000 – 10 000) x 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+54.5%/+4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75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2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Box 10"/>
          <p:cNvSpPr/>
          <p:nvPr/>
        </p:nvSpPr>
        <p:spPr>
          <a:xfrm>
            <a:off x="917640" y="5394240"/>
            <a:ext cx="73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Y =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+ 0.19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54–5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15 000 – 10 00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=  +7.6%/+40%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2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4F9F4C8-DE0F-4EF3-9008-388FAC8FF2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roducts X and Y norm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TextBox 9"/>
          <p:cNvSpPr/>
          <p:nvPr/>
        </p:nvSpPr>
        <p:spPr>
          <a:xfrm>
            <a:off x="787320" y="4551480"/>
            <a:ext cx="73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Yes.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Both products have a positive co-efficient; product X is a luxury with a co-efficient greater than 1, Y is a necessity with a co-efficient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76200"/>
            <a:ext cx="82296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ponsiveness of the change in Qd of product A to a change in the price of product B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39D66D6-B7A7-44CA-A08E-4A8AE83FB6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ounded Rectangle 7"/>
          <p:cNvSpPr/>
          <p:nvPr/>
        </p:nvSpPr>
        <p:spPr>
          <a:xfrm>
            <a:off x="1328760" y="2498760"/>
            <a:ext cx="657072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1754280" y="2647800"/>
            <a:ext cx="5605200" cy="87336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3030480" y="4390920"/>
            <a:ext cx="3125880" cy="177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3DD864F-1218-4926-830F-85BFAEDF69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712800" y="1522440"/>
          <a:ext cx="7709040" cy="1523880"/>
        </p:xfrm>
        <a:graphic>
          <a:graphicData uri="http://schemas.openxmlformats.org/drawingml/2006/table">
            <a:tbl>
              <a:tblPr/>
              <a:tblGrid>
                <a:gridCol w="1326960"/>
                <a:gridCol w="2632320"/>
                <a:gridCol w="1127160"/>
                <a:gridCol w="2622600"/>
              </a:tblGrid>
              <a:tr h="305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a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Week (lb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Week (lb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2743200" y="4906800"/>
            <a:ext cx="3710160" cy="126216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3189240" y="3189240"/>
            <a:ext cx="2779920" cy="157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asure of how much quantity demanded changes as a result of a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0D678B5-C664-428E-882C-F6E1799C30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ounded Rectangle 7"/>
          <p:cNvSpPr/>
          <p:nvPr/>
        </p:nvSpPr>
        <p:spPr>
          <a:xfrm>
            <a:off x="2743200" y="2498760"/>
            <a:ext cx="370044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2870280" y="2595600"/>
            <a:ext cx="3456000" cy="96660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019320" y="4389480"/>
            <a:ext cx="320040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DB33589-529F-4AA1-8753-E2E4427945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670040" y="2247840"/>
          <a:ext cx="5869080" cy="2621160"/>
        </p:xfrm>
        <a:graphic>
          <a:graphicData uri="http://schemas.openxmlformats.org/drawingml/2006/table">
            <a:tbl>
              <a:tblPr/>
              <a:tblGrid>
                <a:gridCol w="2933640"/>
                <a:gridCol w="2935440"/>
              </a:tblGrid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Goods ar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titu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DECAC3F-2FC4-4E06-9BEC-8C33DFB31F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10" descr="4ElasticitySummary.bmp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0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76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FEDB306C-73EF-4756-A1C6-8B7122F0D6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Definition, calculation, and determinants of price elasticity of demand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Difference between slope and elastic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lationship between elasticity and total revenu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al world examples of elastic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lasticity of supply, income elasticity, and cross-elasticity of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airline ticke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B4AA819-8081-4BFC-AD6E-D2C8126FB6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627120" y="1852560"/>
          <a:ext cx="7889760" cy="1676520"/>
        </p:xfrm>
        <a:graphic>
          <a:graphicData uri="http://schemas.openxmlformats.org/drawingml/2006/table">
            <a:tbl>
              <a:tblPr/>
              <a:tblGrid>
                <a:gridCol w="1542960"/>
                <a:gridCol w="1062000"/>
                <a:gridCol w="1214640"/>
                <a:gridCol w="1003320"/>
                <a:gridCol w="1079280"/>
                <a:gridCol w="1987560"/>
              </a:tblGrid>
              <a:tr h="28404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i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i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7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944800" y="3668760"/>
            <a:ext cx="3191040" cy="7444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2774880" y="4592520"/>
            <a:ext cx="3433680" cy="70164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3125880" y="5443560"/>
            <a:ext cx="2903400" cy="73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6585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ity Coeffici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number that measures the responsiveness of quantity demanded to a change in price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EB76A9B-F7ED-4949-9BF4-23E6491CAE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328760" y="3427560"/>
          <a:ext cx="6400800" cy="2527200"/>
        </p:xfrm>
        <a:graphic>
          <a:graphicData uri="http://schemas.openxmlformats.org/drawingml/2006/table">
            <a:tbl>
              <a:tblPr/>
              <a:tblGrid>
                <a:gridCol w="3200400"/>
                <a:gridCol w="320040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Demand i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 to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elastic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demanded that is not very responsive to a change in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demanded that is quite responsive to a change in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42C293D-AECD-411F-BE9A-F0BC41ABAA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Unitary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oint where the percentage change in quantity is exactly equal to the percentage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7E28688-0FDC-4D0D-A3FF-71B77F629F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71B4D2E-F4BC-4E83-AA0E-F90AAE7456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elasticity coefficients for eac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et the change in price is $1 and the change in quantity is 1 unit. Why aren’t the coefficients the sam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6:28Z</dcterms:modified>
  <cp:revision>253</cp:revision>
  <dc:subject/>
  <dc:title>Slide 1</dc:title>
</cp:coreProperties>
</file>