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0D4-4C91-49A5-B426-2FEED87C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967-5C2E-4271-A546-795DD0AF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42574C-9139-4382-8DD7-ED8E3204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487B91-E60F-4FF4-8456-BCA61D47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93866-4557-497B-8564-8EAC6381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9A410-7EB0-494F-BA8C-F51B0173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1DD80-3A54-4E17-860D-9C339D93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6236E-8371-453F-8126-ED3FA9FA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7335D-D404-4825-856E-3A5236C4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7FA63-2FB0-4C9D-AD66-1050562F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E0046B-018B-4A31-B83B-15F721E9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2A1C1-4FAD-4682-A915-9D2BD561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616-A499-4570-980A-611C2059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6D7F1-1D6D-45B1-A247-59416C8D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CEEE1B-1B27-41D7-9DAB-139183E7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8ACC74-B56A-454C-AA8A-971C6CFF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4C76DD-2F13-4C58-B589-15DEAEF1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0AE3B-8A9C-49D3-9C72-9834EBC7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E369E-257A-481F-8AAB-00F33021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3B65E-1A71-4942-99CC-2BF6EEB8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626942-AE7A-488A-985E-35D76141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227616-ACE6-423F-9A66-C4B8AE80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CA318-88F9-4231-9052-20D121D3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5AE-3B65-4D8B-8EEC-D056CB92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9879E-0F65-4790-B217-3C8FA1E2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1D0D-2D63-42DE-8748-95EA5D28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7128-9E0F-48EC-8AC3-E75E0C12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D026-4FE5-45CB-848D-08FC7F08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0E59-D378-4A0F-914E-DB0D2170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0CB2-96BC-438C-83B6-724BD3B6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3864-901C-43B9-BB31-9AD9EF04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C4CB-120D-42D0-998B-2566BFA4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259C-A6EA-46B9-93B2-0C1D3FBE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6ECF-AE2B-4F64-B9DC-57C4FF69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85A6-7CCB-4F83-95E3-E8988ED5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F595-BA0B-4290-BCAC-096037F8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8C9D-5718-4703-9863-56B361DC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FFDA-44DB-4345-B1EA-FE769FD4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B594C-9A93-4EAA-A9F2-15F4744B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7B908-880A-4B9F-AB1B-16ABCD49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BE915-601B-477D-BD35-3D85357D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77F78-D22E-4415-97E5-EBFB0F6B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99C15-40BE-47A8-A271-92038BC9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3E6-44AB-4419-84FA-9A0C8AE1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F0CF8-7CBF-4F29-A2BD-85540B46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6CAA2-743E-41CF-A285-EB57B095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C2DC6-D0FB-4DB5-960D-24294D9A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9BE7F-3040-4498-B093-EA8070A4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8B742-856E-40D0-BFEB-FE964A0F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3C901-5725-4D40-936B-702CBE9A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C2A1A-6C8C-45ED-8AA8-85F34FB4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BF324-6809-4041-AB64-423CA0B4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2C614-9A22-4B46-A21E-1A392ECB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E9B65-0407-435C-98B2-69DF6EFA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0751-E85F-4530-BB90-197FE173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E61EE-5EBB-47A7-9251-BF5D91C1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457BF-2661-4D82-97A3-806047A2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BDC09-6D47-4675-977A-51E7FD06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6330C-4E00-4AA0-89A7-BE268F57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EB149-25AA-4C66-9485-6B2D4F12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D7AD3-C8A4-488B-8B30-599F7C89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A95DF-5222-49C4-8C0B-BCFBB02F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4C261-5060-455B-AF7A-A2709282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79B5D-A1B9-42F9-8451-931531C9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44E05-8107-4CB7-A7AA-030FE44A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B73-EFDA-48A3-90B8-6F7A387A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2CEAC-3E79-48E7-BB06-2DFE9E81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B2ACB-E1B8-44FD-9182-F99901D3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8A5FB-CD0A-4F8B-BB44-36702EAB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ABC1A-AFF4-44AC-8CB4-5BD35FFE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1A8B2-55FD-4159-A65E-0B111007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16AA7-6D9D-46DF-9455-B6AA4654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18C47-850B-4574-B902-4BF00A29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F4764-742D-4DFE-A30A-42365F08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986BA-F7ED-4C38-A42A-A9AEC88D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91D0E-E70F-4A90-8DDB-94549984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883A-1355-4A3A-812D-4A49119E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C41D2-2645-4CBD-9D1C-70DE70CE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9DD72B-9958-405F-80F2-A97CD7F2EC5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11CB45-F062-4BE1-9A47-49E4CDE0BB2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65EFEB-7956-47E9-9D62-3C7895749D6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D40DF2-5F1E-480F-9F43-948218B455F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89C622-42F4-49CF-AFD7-B6723932376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550B14-74A3-4992-A71C-3D3040348BB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ACC4E-8C8B-40D0-A12E-C174554536E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CA73B8-9220-433A-8F71-965BB8F348B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02165C-48AA-4DA7-9950-DFA5B13E9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C2A8-654E-4F2F-AAFB-11876093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1E6A20-F442-48D8-8016-193704BCBF3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D3ADBD-42B7-4FAA-AC22-617FD486D1B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F68E50-D951-4386-93EE-73F66CE4EE5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09B73E-08E5-4D16-9B23-320CFA23620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E70ED6-AECE-46C9-B3AE-16820207BAE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0356C3-C63F-445A-9D5F-8D074E4E645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E0AFFA-83B3-491F-96E5-7990F9D47A3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0E9EF0-565E-48C6-B06A-E28136F55FE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4067C0-1779-49D2-B3B2-27B2B84772C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37ADEC-1AD2-47B7-94EF-B961A45A7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2BF1-2BD0-42FB-ADFE-B79733D2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1213AF-CEF8-4FE7-B936-94FEACEB4AC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A86D5F-3001-4D61-BEB9-B8C79C854E8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3501B3-1D63-4B46-A52B-8EFAEAFE310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06C05E-B365-4851-AB12-66911E2870D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623E9C-3FC4-4854-93E7-DFF50901322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513118-C84A-4640-BAA9-EEC87937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8DA635-CBA2-45BE-B15D-A7FC62F6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456A80-1AA1-4423-B2CF-C7A3E4DA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F6880D-E891-40A3-A22B-BA810CF0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6E2DD4-BF7B-428D-914A-92B1A8C4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C31F-73C3-42D3-AF3F-6F1F138F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0031F3-FE1E-4E71-AB90-4C662FA2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0E6606-5E20-4A84-B922-BA2723DF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C085E1-2107-4F69-817E-4A9D38E9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F37F10-E1F9-439C-9AD6-CE99343D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F1950A-48D9-4BB1-8A4D-DF80691D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66FE50-1C99-41EC-9B7B-8F4B00D1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A62EA4-7490-469D-8E2C-5FE26A4A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5012E2-338C-49A7-BF2F-10607B16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45EBA-78D9-4521-9934-2A33E118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9F944-6B29-4427-B1EE-0F15008B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25083A6-BC4C-4F51-9FF8-56175356F2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B401E85-FE12-42C6-ACB8-EEB8BFD29A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7A05464-0DDC-4105-BE2F-5BA2007800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DE3AADF-D14E-4EA0-AC90-FA674E34B3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29AB73B-853D-451F-BA2E-1B63553216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D409BEA-6728-4057-8613-4C36B62250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CC55334-71BC-443F-8E29-4D8CF2DA92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A8C079D-4723-4DDE-8A09-5E75835796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Costs in the Long Ru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 advantages achieved as a result of large-scale operation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ms in industries characterized by assembly-line production of standardized products tend to experience declining long-run average co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se industries are often dominated by a few large firm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AFCDA018-9E1F-4CBE-A7B2-8B2C7ED728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Reasons for 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g plants are able to exploit specialization of labour on a far greater scale than small plan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-scale production encourages management speci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 scale production encourages machine speci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g firms enjoy pecuniary economies of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3E3BEB30-455E-45CD-B639-39C4EC67DE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ecuniary 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cost of borrow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ing in bulk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lling in bulk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es of scale in marketing and advertis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938FF6AC-DCD2-4446-AEC9-78535580AF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1115640" y="371160"/>
            <a:ext cx="727236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802BBB5D-CA77-425C-B970-49BEAA454B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Picture 2" descr="ftp://ftp.eppg.com/Sayre%20Micro%20images/Chapter%207/SAYRE-MICRO-7-F-7-2.jpg"/>
          <p:cNvPicPr/>
          <p:nvPr/>
        </p:nvPicPr>
        <p:blipFill>
          <a:blip r:embed="rId1"/>
          <a:srcRect l="11507" t="11776" r="32612" b="0"/>
          <a:stretch/>
        </p:blipFill>
        <p:spPr>
          <a:xfrm>
            <a:off x="903240" y="1552680"/>
            <a:ext cx="6932520" cy="47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0E2CD525-2EE5-47E8-B4AF-7C843C0E09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the presence of either constant returns to scale or increasing returns to scale in each set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387440" y="2273400"/>
          <a:ext cx="6353280" cy="2563560"/>
        </p:xfrm>
        <a:graphic>
          <a:graphicData uri="http://schemas.openxmlformats.org/drawingml/2006/table">
            <a:tbl>
              <a:tblPr/>
              <a:tblGrid>
                <a:gridCol w="1693800"/>
                <a:gridCol w="2541600"/>
                <a:gridCol w="2117880"/>
              </a:tblGrid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3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33BB4EFB-8B05-42E7-81EE-B1EAC28AEA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the presence of either constant returns to scale or increasing returns to scale in each set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387440" y="2273400"/>
          <a:ext cx="6353280" cy="2563560"/>
        </p:xfrm>
        <a:graphic>
          <a:graphicData uri="http://schemas.openxmlformats.org/drawingml/2006/table">
            <a:tbl>
              <a:tblPr/>
              <a:tblGrid>
                <a:gridCol w="1693800"/>
                <a:gridCol w="2541600"/>
                <a:gridCol w="2117880"/>
              </a:tblGrid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3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TextBox 10"/>
          <p:cNvSpPr/>
          <p:nvPr/>
        </p:nvSpPr>
        <p:spPr>
          <a:xfrm>
            <a:off x="584280" y="4851360"/>
            <a:ext cx="771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Set 1:  increasing returns to scale.  (Average cost drops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from $171.43 to $16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Set 2:  constant returns to scale.  (The average cost remains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same at $450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s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s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reaucratic inefficiencies in management that result in decreasing returns to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creasing Returns to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ituation in which a firm’s output increases by a smaller percentage than its inpu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030BB9CE-0D06-416C-8577-C2BD976B71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1276200" y="382680"/>
            <a:ext cx="71121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RAC Curve under </a:t>
            </a:r>
            <a:br>
              <a:rPr sz="3200"/>
            </a:b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s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188BB7F6-4383-4752-BBDB-9CB080B093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2" descr="ftp://ftp.eppg.com/Sayre%20Micro%20images/Chapter%207/SAYRE-MICRO-7-F-7-3.jpg"/>
          <p:cNvPicPr/>
          <p:nvPr/>
        </p:nvPicPr>
        <p:blipFill>
          <a:blip r:embed="rId1"/>
          <a:srcRect l="10145" t="11151" r="35676" b="0"/>
          <a:stretch/>
        </p:blipFill>
        <p:spPr>
          <a:xfrm>
            <a:off x="1414440" y="1454040"/>
            <a:ext cx="6315120" cy="491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1285915E-11C6-4241-A83D-BDF9DD2F78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1013C356-B97F-4471-A5BE-EE32FD629A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Box 10"/>
          <p:cNvSpPr/>
          <p:nvPr/>
        </p:nvSpPr>
        <p:spPr>
          <a:xfrm>
            <a:off x="542880" y="533412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A: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returns to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B: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economies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of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36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Costs in the 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Distinguish between the short run and the long run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why medium-sized firms are sometimes just as efficient as big firm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why big firms sometimes enjoy great cost advantag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Understand why firms can sometimes be too big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BD5B1B37-2166-4B09-B9ED-4FF7EC193F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5D433DD8-C97F-4FCF-98E6-F427DB7728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10"/>
          <p:cNvSpPr/>
          <p:nvPr/>
        </p:nvSpPr>
        <p:spPr>
          <a:xfrm>
            <a:off x="552600" y="5322960"/>
            <a:ext cx="839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C:  economies of scale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5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60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D:  diseconomies of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8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Changes in Short Run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and Long Run Costs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echnological Improvemen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nges in production techniques that reduce the costs of produ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uses a decrease in short-run cos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long-run average cost curve is derived from short-run cost curves, the long-run average costs  also decrease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B0C0C850-691A-44CD-BA2B-B69C99CFA3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Right Size of Fir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8B088EAE-F021-4DD7-88B2-B7EDF3F2C8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2" descr="ftp://ftp.eppg.com/Sayre%20Micro%20images/Chapter%207/SAYRE-MICRO-7-F-7-4.jpg"/>
          <p:cNvPicPr/>
          <p:nvPr/>
        </p:nvPicPr>
        <p:blipFill>
          <a:blip r:embed="rId1"/>
          <a:srcRect l="-99" t="-1513" r="10109" b="0"/>
          <a:stretch/>
        </p:blipFill>
        <p:spPr>
          <a:xfrm>
            <a:off x="0" y="1479600"/>
            <a:ext cx="9144000" cy="46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Right Size of Fir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D1A25657-74DA-450F-A599-BC851D130E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2" descr="ftp://ftp.eppg.com/Sayre%20Micro%20images/Chapter%207/SAYRE-MICRO-7-F-7-5.jpg"/>
          <p:cNvPicPr/>
          <p:nvPr/>
        </p:nvPicPr>
        <p:blipFill>
          <a:blip r:embed="rId1"/>
          <a:srcRect l="-119" t="-2579" r="-2003" b="0"/>
          <a:stretch/>
        </p:blipFill>
        <p:spPr>
          <a:xfrm>
            <a:off x="0" y="1147680"/>
            <a:ext cx="9144000" cy="529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an a Market Be Too Smal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58800" y="1775880"/>
            <a:ext cx="8028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inimum Efficient Scale (MES)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mallest sized plant capable of achieving the lowest long-run average cost of produc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D88A2A70-6503-4138-BB03-B4D849516D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an a Market Be Too Smal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139DA27E-EC88-42FC-8119-BFFE868D2F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Picture 2" descr="ftp://ftp.eppg.com/Sayre%20Micro%20images/Chapter%207/SAYRE-MICRO-7-F-7-6.jpg"/>
          <p:cNvPicPr/>
          <p:nvPr/>
        </p:nvPicPr>
        <p:blipFill>
          <a:blip r:embed="rId1"/>
          <a:srcRect l="0" t="0" r="8158" b="0"/>
          <a:stretch/>
        </p:blipFill>
        <p:spPr>
          <a:xfrm>
            <a:off x="0" y="1542960"/>
            <a:ext cx="9144000" cy="447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56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45431989-F116-47F0-BB8A-F87BB23F3C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Firms always operate in the short ru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Firms can plan as if they are in the long run where all inputs are variable and diminishing marginal productivity does not app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tant returns to scale exist when an increase in inputs result in a proportional increase in outpu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conomies of scale involves either technical or pecuniary economies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Kalinga"/>
              </a:rPr>
              <a:t>Chapter 7 Summary</a:t>
            </a:r>
            <a:endParaRPr b="0" lang="en-US" sz="15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56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C3770364-F88E-4BAF-8C7C-CE404E87A8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Diseconomies of scale can occur due to inefficienci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costs can decrease due to a decrease in factor prices,  technological improvement, or mergers reduce average fixed cost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A firm is the right size if it captures economies of scale but does not suffer diseconomi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A market is too small if it limits output to below economic capacity (SR) or below minimum efficient scale (LR)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Costs in the 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 Understand the effect of technological change on a firm’s cost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6:  Explain what is meant by the right size of firm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7:  Explain why markets can sometimes be too small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C6FCC043-BE0E-4C63-AE23-353A749E21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Long Ru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47720"/>
            <a:ext cx="822960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eriod of time during which all inputs are vari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 production processes operate in the short run, and diminishing marginal productivity appli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the long run, all costs are variable and diminishing marginal productivity does not appl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firm can plan as if it is in the long run, but it always operates in the short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D2885D8B-F2A0-4886-8A73-97C70746A1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Long Ru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ong Run Average Cost Curve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al representation of the per unit costs of production in the long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onstant Returns to Scale </a:t>
            </a: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ituation in which a firm’s output increases by the same percentage as the increase in its inpu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D9F8359C-AA6C-424E-9EE0-E897CD3C5C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1276200" y="382680"/>
            <a:ext cx="71121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Costs of Production </a:t>
            </a:r>
            <a:br>
              <a:rPr sz="3200"/>
            </a:b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 Four Plant Sizes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17653A4A-5B12-49F9-9158-0B3A7DCE36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2" descr="ftp://ftp.eppg.com/Sayre%20Micro%20images/Chapter%207/SAYRE-MICRO-7-F-7-1.jpg"/>
          <p:cNvPicPr/>
          <p:nvPr/>
        </p:nvPicPr>
        <p:blipFill>
          <a:blip r:embed="rId1"/>
          <a:srcRect l="37371" t="12916" r="8450" b="0"/>
          <a:stretch/>
        </p:blipFill>
        <p:spPr>
          <a:xfrm>
            <a:off x="649440" y="1563840"/>
            <a:ext cx="7813440" cy="475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05743BE5-99AF-449C-9F9D-AE8F9C51FB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  Which plant is best suited to produce an output of 4 uni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alue of long-run average cos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F95CAA21-171D-44A5-AECB-FA1EA45F97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plant is best suited to produce an output of 4 uni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Plant 3    (It is the lowest average cost for that outpu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4" name="Rectangle 9"/>
          <p:cNvSpPr/>
          <p:nvPr/>
        </p:nvSpPr>
        <p:spPr>
          <a:xfrm>
            <a:off x="1552680" y="5359320"/>
            <a:ext cx="607032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CD77A0B9-44CF-4767-98A0-3F61301629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alue of long-run average cos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6  (It is the lowest average cost in all three plant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Rectangle 9"/>
          <p:cNvSpPr/>
          <p:nvPr/>
        </p:nvSpPr>
        <p:spPr>
          <a:xfrm>
            <a:off x="3295800" y="4508640"/>
            <a:ext cx="68076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5149800" y="4916520"/>
            <a:ext cx="68112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6978600" y="5340240"/>
            <a:ext cx="681120" cy="4478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1:45Z</dcterms:modified>
  <cp:revision>255</cp:revision>
  <dc:subject/>
  <dc:title>Slide 1</dc:title>
</cp:coreProperties>
</file>