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B716-62D7-451B-83C1-010373E93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F737-F99E-44B5-BA5A-3850B5365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CD0732-9DAA-46E0-A96E-4FB465DF5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7C0966-C786-4445-8309-8AB15109D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5E0B84-8CF4-4492-97DD-E84D89498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E20DE6-F270-458C-86C5-7819A285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E857AE-E052-44C6-B7E8-88F049DC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6D3182-73F5-4BA0-9F20-30AE6B8D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568B20-B390-4DC5-87AC-02A0C1D7A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BE2479-61CB-4D48-B3B6-15D7D5AF2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27C5B0-C01B-4D14-93B1-E78828D54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04E97D-97C9-48EF-A469-D6E8A941C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87B5-FA20-4D2D-907C-FCA86023B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94DC56-0156-4463-86E0-24787F753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434FE7-2083-468A-83FB-3A241C391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A3B7FB-6E68-4E62-B963-CEA20A4C2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54DEF0-67A4-45BF-B687-5C5F3692D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092D23-90AC-41AE-84BF-AB598EF73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2A36E7-43D4-42D2-811F-D21BC2F0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965106-40E0-4502-9D1F-CD50E2D2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2A5507-D72F-45F7-9041-C5534313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C2AD51-B9E0-4225-9950-4E185BB68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B8D6F4-AFCF-4671-B629-E3537953F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C740-75D5-4157-8926-786CD7849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9EFF89-5A7D-4201-927F-E66C00096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87A8B-949C-4E7C-AC7B-1EC5C81BD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CFEFD-84E0-4CD1-8A3B-5B6545DB6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4A66A-29E7-4694-8D74-0CD84F2AC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FF2D0-8D7C-4E7B-8FD3-A73278045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6033B-8597-4422-A738-4192DE0EB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0883B-4138-48BF-A7F1-66853E992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85386-E8C6-43D9-98C2-81BA8B42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8F0E-D4C0-4926-AA63-AF4D9E471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0E65C-FE05-4B64-AA3C-7FA8A4EC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9B719-A044-444B-B315-805A5459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E3691-3C8C-4147-A88A-30335EA77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D8D76-4989-472E-A256-2DF7FFD62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23719-3383-4BEC-8B4F-669F8C933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C56FD-6A2D-4125-93DB-4A882264F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2F0C8-B6EA-486A-86BD-9971F46C8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2619B-0E2E-460F-B8EA-88EE15240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EA17B-9DF8-4378-92FC-18160D561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B97B0-B915-40E8-9BEC-FC2940309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F116-E2FF-49DC-9ED7-2E9963104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F012C-975E-4233-9D5E-C02F6CB9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E33CE-D18D-44F6-9AD3-4FDF8118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D7F6D-1427-429B-A784-6EEF4012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9DBD4-7AC0-438E-870D-5808532B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31DAF-C172-4B51-BDE5-84043C036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DB690-991F-400D-8E49-BB9F90765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20191-084E-4D24-9310-21A61C5FB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13CDA-B0FC-4E1F-AD15-C0C14CD78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C72A0-01C7-4B54-B6C2-456E622C1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65B66-2883-4C73-B9DD-BD844B8A9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E54A-7F1B-4482-A653-79F0DCB2D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8AB1B-5B6D-4C0A-96B4-3581B4F9A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A76F2-67CB-4A90-ABAD-3CA3B935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F2460-B316-47A0-B4B5-81F8513AE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C4834-8E06-4100-8046-E6C3024D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C5BFC-21D4-4758-8BC6-695C0293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225A6-6BE7-4DB3-B8F0-1E6E1982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57365-2F4D-46F9-B83D-787B14491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ADAF4-ACAD-4D5F-B158-D7700362B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66B18-5136-40D2-818A-532B6089B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0F49D-312D-493F-A2EB-9538BE4EA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BE25-BD46-4DA0-8DBA-0C7AD5D95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FFCB0-368B-4C4B-9D74-9495B1353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B2C3E-A563-4CCC-8B1A-D13F941CE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2C406-5772-4977-91FB-49BC08044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3533C-C99C-47E9-936B-37F910AD1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B1697-6F1A-4456-9646-7D3AAF9DE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6E50F-E9BA-4E0D-A63B-538642CE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DBC17-E7CD-4E30-ABB7-3B21D5F1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C7E35-1623-491E-998B-456D7971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D0352-D9E3-4BC3-81F9-1E8E0E197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EBD2F-3710-4211-9C95-9C89E59A0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443D-A0B2-4019-8819-82DD0ACF4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84C34-D799-4D5B-B982-C858E2D99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05BD3F-8AFA-4EC5-95B8-E0F0AA81E91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3EB994-8E15-4C92-B44F-48859DD59A4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9B545A-77E2-4112-9DC1-AC9E84735F1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5251F0-0020-4FF7-9F9A-D251BD58CFB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F99BF9-E7C7-4EA1-A7D5-3AF69365904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4089DC-85A2-4D56-839A-0A5614D74A9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3BA941-B098-469D-BC4F-0958F7E2D8B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97355A-F99A-46A2-96DD-FED23B56587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C8CF2F-5D4F-4BDB-9606-DEC1F79C2A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52E6-BECC-4F77-8253-D114211C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96C6D0-E2CC-46EE-A564-78ACE786D65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49CE3D-330E-4602-B822-F2997ACDAAD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F6CD6C-61BE-4DE4-A408-6FF59770FCE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25D9BFA-DA8A-4ED6-9FA4-FA10B1A5052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C7EE92-9BCC-4045-BB61-62856856284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69E9E17-3D48-49A9-9856-512101A5820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B4335D9-E095-40DD-B0F9-39FEE51425B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28739ED-98BE-42D6-9B73-EF0B97C1A0C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2C0CA3A-99BA-46F3-A718-AACF296898B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043A490-1CB4-402D-B30A-8CABBBB571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90F9-65E4-453D-8FE7-359B1410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DA4A762-C0BD-4D58-B3EA-E0802EDDF67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A13009E-B0C1-4704-B765-0009E9C553F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BD777E4-48F3-4563-BE29-8B19CE8FF13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211EBC8-956F-4B42-982C-B049B28CBAE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548722A-3465-438A-B9F0-D5CF442379C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3D9A8DD-1C9D-4382-9E91-9D8100F13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5402884-A679-4CB3-B72A-BEC379C46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C15E37F-B4A6-48AD-9603-BBD6A2FCB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09BC5B7-2DD6-4CD3-8B5C-0A9672337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D685BB3-49A4-42B4-AC72-D1DD62D7E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1EEF-8B4D-41ED-A2B3-2688DC9E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C2160F9-8263-4EA8-8C81-848AA67CF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D19B9D7-B3C7-4AED-BCDF-A1561446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87F38C-3C63-4FAE-8253-70D6F4EE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3B0D94D-4B6B-4F66-ABA9-E221D8B2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CA7273D-45FF-41CE-B8F1-2349C251D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99631DF-69FD-4CDA-9164-31D852CD1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E69EB4E-3C2F-46C0-B8A2-E2C792121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05FFEC-81A3-4B81-BDBB-8BAF041B8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4C64E5-653D-46CD-ABCD-D5A54BAE0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0B410B-F0BB-4F97-B7C8-2997C0864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 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6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36DCD701-BA14-4A76-BEC8-83645B4424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aholowinsky\Documents\McGrawHill\Sayre_MICRO_0070385467_72dpi.jpg"/>
          <p:cNvPicPr/>
          <p:nvPr/>
        </p:nvPicPr>
        <p:blipFill>
          <a:blip r:embed="rId2"/>
          <a:srcRect l="329" t="8890" r="0" b="76669"/>
          <a:stretch/>
        </p:blipFill>
        <p:spPr>
          <a:xfrm>
            <a:off x="3048120" y="838080"/>
            <a:ext cx="4038480" cy="695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aholowinsky\Documents\McGrawHill\Sayre_MICRO_0070385467_72dpi.jpg"/>
          <p:cNvPicPr/>
          <p:nvPr/>
        </p:nvPicPr>
        <p:blipFill>
          <a:blip r:embed="rId3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43" name="Straight Connector 9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Straight Connector 10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Box 11"/>
          <p:cNvSpPr/>
          <p:nvPr/>
        </p:nvSpPr>
        <p:spPr>
          <a:xfrm>
            <a:off x="5562720" y="1828800"/>
            <a:ext cx="293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7933c"/>
                </a:solidFill>
                <a:latin typeface="Kalinga"/>
                <a:ea typeface="Kalinga"/>
              </a:rPr>
              <a:t>SAYRE  |  MORRIS      </a:t>
            </a:r>
            <a:r>
              <a:rPr b="1" lang="en-US" sz="1100" spc="-1" strike="noStrike">
                <a:solidFill>
                  <a:srgbClr val="fa4160"/>
                </a:solidFill>
                <a:latin typeface="Kalinga"/>
                <a:ea typeface="Kalinga"/>
              </a:rPr>
              <a:t>Seventh Edi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58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88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17"/>
          <p:cNvSpPr/>
          <p:nvPr/>
        </p:nvSpPr>
        <p:spPr>
          <a:xfrm>
            <a:off x="468360" y="2392200"/>
            <a:ext cx="47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earning Objectiv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F48C7C75-EA07-4723-BA11-747DDC7F4F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133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798FDF68-FC3A-4D22-A9CE-58F58637C1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1987560"/>
            <a:ext cx="3859200" cy="2595600"/>
          </a:xfrm>
          <a:prstGeom prst="rect">
            <a:avLst/>
          </a:prstGeom>
          <a:ln w="0">
            <a:noFill/>
          </a:ln>
        </p:spPr>
      </p:pic>
      <p:sp>
        <p:nvSpPr>
          <p:cNvPr id="177" name="Straight Connector 9"/>
          <p:cNvSpPr/>
          <p:nvPr/>
        </p:nvSpPr>
        <p:spPr>
          <a:xfrm>
            <a:off x="0" y="198612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traight Connector 10"/>
          <p:cNvSpPr/>
          <p:nvPr/>
        </p:nvSpPr>
        <p:spPr>
          <a:xfrm>
            <a:off x="0" y="4591080"/>
            <a:ext cx="9144000" cy="792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18854E4D-0706-4BC1-B671-865F2686FD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1970A68E-827A-49C3-9730-A5D8755846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3E847AC6-109C-493D-B26A-1C9FB0A29A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0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62220CE0-EF6C-45C1-BDC5-B2DE84D1A5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F42F2C38-9269-42C9-A611-552DF4699C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285720"/>
            <a:ext cx="7772400" cy="21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7933c"/>
                </a:solidFill>
                <a:latin typeface="Kalinga"/>
                <a:ea typeface="Kalinga"/>
              </a:rPr>
              <a:t>Costs in the Long Run </a:t>
            </a:r>
            <a:endParaRPr b="0" lang="en-US" sz="4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371600" y="281772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Kalinga"/>
                <a:ea typeface="Kalinga"/>
              </a:rPr>
              <a:t>CHAPTER 7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conomies of Scale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57200" y="1903320"/>
            <a:ext cx="822960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Economies of Scale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st advantages achieved as a result of large-scale operation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rms in industries characterized by assembly-line production of standardized products tend to experience declining long-run average cos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se industries are often dominated by a few large firm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ED464EE1-BF6D-4A47-AB8D-BE29B0F8AF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conomies of Scale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57200" y="1903320"/>
            <a:ext cx="822960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Reasons for Economies of Scale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ig plants are able to exploit specialization of labour on a far greater scale than small plant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arge-scale production encourages management specialization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arge scale production encourages machine specialization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ig firms enjoy pecuniary economies of scal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745103F7-BDE9-41C2-AC2F-607D82052B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conomies of Scale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57200" y="1903320"/>
            <a:ext cx="822960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Pecuniary Economies of Scale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ower cost of borrowing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uying in bulk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lling in bulk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conomies of scale in marketing and advertising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270375B6-63E1-454F-85EB-26ED05D731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1115640" y="371160"/>
            <a:ext cx="7272360" cy="40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Economies of Scale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9173462B-59B5-420F-A503-ECEB32A4B7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3" name="Picture 2" descr="ftp://ftp.eppg.com/Sayre%20Micro%20images/Chapter%207/SAYRE-MICRO-7-F-7-2.jpg"/>
          <p:cNvPicPr/>
          <p:nvPr/>
        </p:nvPicPr>
        <p:blipFill>
          <a:blip r:embed="rId1"/>
          <a:srcRect l="11507" t="11776" r="32612" b="0"/>
          <a:stretch/>
        </p:blipFill>
        <p:spPr>
          <a:xfrm>
            <a:off x="903240" y="1552680"/>
            <a:ext cx="6932520" cy="4789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184A5DBB-1EEE-4591-A3CB-CE35FCE248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3"/>
          <p:cNvSpPr/>
          <p:nvPr/>
        </p:nvSpPr>
        <p:spPr>
          <a:xfrm>
            <a:off x="457200" y="1351080"/>
            <a:ext cx="8458200" cy="50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cate the presence of either constant returns to scale or increasing returns to scale in each set of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1387440" y="2273400"/>
          <a:ext cx="6353280" cy="2563560"/>
        </p:xfrm>
        <a:graphic>
          <a:graphicData uri="http://schemas.openxmlformats.org/drawingml/2006/table">
            <a:tbl>
              <a:tblPr/>
              <a:tblGrid>
                <a:gridCol w="1693800"/>
                <a:gridCol w="2541600"/>
                <a:gridCol w="2117880"/>
              </a:tblGrid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C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t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12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 3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8760">
                <a:tc>
                  <a:txBody>
                    <a:bodyPr lIns="0" rIns="0" tIns="0" bIns="0" anchor="ctr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12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12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t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12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12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9DA7CF8C-EEEC-4FF2-801E-C8F869C9C2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3"/>
          <p:cNvSpPr/>
          <p:nvPr/>
        </p:nvSpPr>
        <p:spPr>
          <a:xfrm>
            <a:off x="457200" y="1351080"/>
            <a:ext cx="8458200" cy="50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cate the presence of either constant returns to scale or increasing returns to scale in each set of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1387440" y="2273400"/>
          <a:ext cx="6353280" cy="2563560"/>
        </p:xfrm>
        <a:graphic>
          <a:graphicData uri="http://schemas.openxmlformats.org/drawingml/2006/table">
            <a:tbl>
              <a:tblPr/>
              <a:tblGrid>
                <a:gridCol w="1693800"/>
                <a:gridCol w="2541600"/>
                <a:gridCol w="2117880"/>
              </a:tblGrid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C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t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12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 3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8760">
                <a:tc>
                  <a:txBody>
                    <a:bodyPr lIns="0" rIns="0" tIns="0" bIns="0" anchor="ctr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12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12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t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12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12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6" name="TextBox 10"/>
          <p:cNvSpPr/>
          <p:nvPr/>
        </p:nvSpPr>
        <p:spPr>
          <a:xfrm>
            <a:off x="584280" y="4851360"/>
            <a:ext cx="7719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Set 1:  increasing returns to scale.  (Average cost drops </a:t>
            </a:r>
            <a:br>
              <a:rPr sz="2400"/>
            </a:b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from $171.43 to $160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Set 2:  constant returns to scale.  (The average cost remains </a:t>
            </a:r>
            <a:br>
              <a:rPr sz="2400"/>
            </a:b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the same at $4500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iseconomies of Scale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57200" y="1903320"/>
            <a:ext cx="822960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Diseconomies of Scale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ureaucratic inefficiencies in management that result in decreasing returns to scal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Decreasing Returns to Scale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ituation in which a firm’s output increases by a smaller percentage than its input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CF5B38FF-51EE-4BEB-92CC-AD6ED96742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1276200" y="382680"/>
            <a:ext cx="711216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LRAC Curve under </a:t>
            </a:r>
            <a:br>
              <a:rPr sz="3200"/>
            </a:b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Diseconomies of Scale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D403802F-CD98-4545-A96F-622173FFB8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6" name="Picture 2" descr="ftp://ftp.eppg.com/Sayre%20Micro%20images/Chapter%207/SAYRE-MICRO-7-F-7-3.jpg"/>
          <p:cNvPicPr/>
          <p:nvPr/>
        </p:nvPicPr>
        <p:blipFill>
          <a:blip r:embed="rId1"/>
          <a:srcRect l="10145" t="11151" r="35676" b="0"/>
          <a:stretch/>
        </p:blipFill>
        <p:spPr>
          <a:xfrm>
            <a:off x="1414440" y="1454040"/>
            <a:ext cx="6315120" cy="4919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78626DBC-0A6C-433D-9F2C-AC557AD932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457200" y="1351080"/>
            <a:ext cx="8458200" cy="50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de in each of the following cases (A–D) whether constant returns, economies, or diseconomies of scale exis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2" name=""/>
          <p:cNvGraphicFramePr/>
          <p:nvPr/>
        </p:nvGraphicFramePr>
        <p:xfrm>
          <a:off x="1509840" y="2265480"/>
          <a:ext cx="6049800" cy="2838240"/>
        </p:xfrm>
        <a:graphic>
          <a:graphicData uri="http://schemas.openxmlformats.org/drawingml/2006/table">
            <a:tbl>
              <a:tblPr/>
              <a:tblGrid>
                <a:gridCol w="1204920"/>
                <a:gridCol w="1147680"/>
                <a:gridCol w="1176120"/>
                <a:gridCol w="1344600"/>
                <a:gridCol w="1176480"/>
              </a:tblGrid>
              <a:tr h="566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puts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puts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8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7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8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6DCBF230-85DD-4E50-9A18-E1F68AAA08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1351080"/>
            <a:ext cx="8458200" cy="50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de in each of the following cases (A–D) whether constant returns, economies, or diseconomies of scale exis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Box 10"/>
          <p:cNvSpPr/>
          <p:nvPr/>
        </p:nvSpPr>
        <p:spPr>
          <a:xfrm>
            <a:off x="542880" y="5334120"/>
            <a:ext cx="839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A: 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constant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returns to scale  (Inputs </a:t>
            </a:r>
            <a:r>
              <a:rPr b="0" i="1" lang="en-GB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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100%, output </a:t>
            </a:r>
            <a:r>
              <a:rPr b="0" i="1" lang="en-GB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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100%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B: 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economies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of scale  (Inputs </a:t>
            </a:r>
            <a:r>
              <a:rPr b="0" i="1" lang="en-GB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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100%, output </a:t>
            </a:r>
            <a:r>
              <a:rPr b="0" i="1" lang="en-GB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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136%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9" name=""/>
          <p:cNvGraphicFramePr/>
          <p:nvPr/>
        </p:nvGraphicFramePr>
        <p:xfrm>
          <a:off x="1509840" y="2265480"/>
          <a:ext cx="6049800" cy="2838240"/>
        </p:xfrm>
        <a:graphic>
          <a:graphicData uri="http://schemas.openxmlformats.org/drawingml/2006/table">
            <a:tbl>
              <a:tblPr/>
              <a:tblGrid>
                <a:gridCol w="1204920"/>
                <a:gridCol w="1147680"/>
                <a:gridCol w="1176120"/>
                <a:gridCol w="1344600"/>
                <a:gridCol w="1176480"/>
              </a:tblGrid>
              <a:tr h="566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puts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puts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8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7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8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Kalinga"/>
              </a:rPr>
              <a:t>Costs in the Long Run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3030480"/>
            <a:ext cx="8381880" cy="33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1:  Distinguish between the short run and the long run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2:  Understand why medium-sized firms are sometimes just as efficient as big firms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3:  Understand why big firms sometimes enjoy great cost advantages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4:  Understand why firms can sometimes be too big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7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D3A34702-E96B-44DF-8CF1-79ADDEBC76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55775CAB-F1B5-4949-AF36-59030C14EF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3"/>
          <p:cNvSpPr/>
          <p:nvPr/>
        </p:nvSpPr>
        <p:spPr>
          <a:xfrm>
            <a:off x="457200" y="1351080"/>
            <a:ext cx="8458200" cy="50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de in each of the following cases (A–D) whether constant returns, economies, or diseconomies of scale exis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Box 10"/>
          <p:cNvSpPr/>
          <p:nvPr/>
        </p:nvSpPr>
        <p:spPr>
          <a:xfrm>
            <a:off x="552600" y="5322960"/>
            <a:ext cx="839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C:  economies of scale (Inputs </a:t>
            </a:r>
            <a:r>
              <a:rPr b="0" i="1" lang="en-GB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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50%, output </a:t>
            </a:r>
            <a:r>
              <a:rPr b="0" i="1" lang="en-GB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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60%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D:  diseconomies of scale  (Inputs </a:t>
            </a:r>
            <a:r>
              <a:rPr b="0" i="1" lang="en-GB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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108%, output </a:t>
            </a:r>
            <a:r>
              <a:rPr b="0" i="1" lang="en-GB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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100%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1509840" y="2265480"/>
          <a:ext cx="6049800" cy="2838240"/>
        </p:xfrm>
        <a:graphic>
          <a:graphicData uri="http://schemas.openxmlformats.org/drawingml/2006/table">
            <a:tbl>
              <a:tblPr/>
              <a:tblGrid>
                <a:gridCol w="1204920"/>
                <a:gridCol w="1147680"/>
                <a:gridCol w="1176120"/>
                <a:gridCol w="1344600"/>
                <a:gridCol w="1176480"/>
              </a:tblGrid>
              <a:tr h="566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puts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puts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8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7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8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Changes in Short Run </a:t>
            </a:r>
            <a:br>
              <a:rPr sz="4000"/>
            </a:b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and Long Run Costs 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903320"/>
            <a:ext cx="822960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Technological Improvement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nges in production techniques that reduce the costs of production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uses a decrease in short-run cost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 long-run average cost curve is derived from short-run cost curves, the long-run average costs  also decrease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EC8C5CDF-15C2-4421-89D6-B9315A9501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he Right Size of Firm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ABA01B33-7F7A-4176-B82B-057DDB6FE8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6" name="Picture 2" descr="ftp://ftp.eppg.com/Sayre%20Micro%20images/Chapter%207/SAYRE-MICRO-7-F-7-4.jpg"/>
          <p:cNvPicPr/>
          <p:nvPr/>
        </p:nvPicPr>
        <p:blipFill>
          <a:blip r:embed="rId1"/>
          <a:srcRect l="-99" t="-1513" r="10109" b="0"/>
          <a:stretch/>
        </p:blipFill>
        <p:spPr>
          <a:xfrm>
            <a:off x="0" y="1479600"/>
            <a:ext cx="9144000" cy="469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he Right Size of Firm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907EF649-F08F-46C8-BF4A-27B1EDD257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1" name="Picture 2" descr="ftp://ftp.eppg.com/Sayre%20Micro%20images/Chapter%207/SAYRE-MICRO-7-F-7-5.jpg"/>
          <p:cNvPicPr/>
          <p:nvPr/>
        </p:nvPicPr>
        <p:blipFill>
          <a:blip r:embed="rId1"/>
          <a:srcRect l="-119" t="-2579" r="-2003" b="0"/>
          <a:stretch/>
        </p:blipFill>
        <p:spPr>
          <a:xfrm>
            <a:off x="0" y="1147680"/>
            <a:ext cx="9144000" cy="5297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Can a Market Be Too Small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658800" y="1775880"/>
            <a:ext cx="80280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inimum Efficient Scale (MES)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mallest sized plant capable of achieving the lowest long-run average cost of productio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4D793CE1-74AE-432E-A238-01B1590B43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Can a Market Be Too Small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63C5ED9B-6915-4B22-A8A1-F7B17E8CE8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1" name="Picture 2" descr="ftp://ftp.eppg.com/Sayre%20Micro%20images/Chapter%207/SAYRE-MICRO-7-F-7-6.jpg"/>
          <p:cNvPicPr/>
          <p:nvPr/>
        </p:nvPicPr>
        <p:blipFill>
          <a:blip r:embed="rId1"/>
          <a:srcRect l="0" t="0" r="8158" b="0"/>
          <a:stretch/>
        </p:blipFill>
        <p:spPr>
          <a:xfrm>
            <a:off x="0" y="1542960"/>
            <a:ext cx="9144000" cy="4475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Kalinga"/>
            </a:endParaRPr>
          </a:p>
        </p:txBody>
      </p:sp>
      <p:sp>
        <p:nvSpPr>
          <p:cNvPr id="563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A9A798B0-DCE9-47CD-8E8E-936F67CC62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6840" y="2509920"/>
            <a:ext cx="8381880" cy="36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Firms always operate in the short run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Firms can plan as if they are in the long run where all inputs are variable and diminishing marginal productivity does not apply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Constant returns to scale exist when an increase in inputs result in a proportional increase in output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Economies of scale involves either technical or pecuniary economies 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f7f"/>
                </a:solidFill>
                <a:latin typeface="Kalinga"/>
              </a:rPr>
              <a:t>Chapter 7 Summary</a:t>
            </a:r>
            <a:endParaRPr b="0" lang="en-US" sz="15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Kalinga"/>
            </a:endParaRPr>
          </a:p>
        </p:txBody>
      </p:sp>
      <p:sp>
        <p:nvSpPr>
          <p:cNvPr id="568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FED2A06B-6A2C-4005-8A2E-96896B1ABD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6840" y="2509920"/>
            <a:ext cx="8381880" cy="36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Diseconomies of scale can occur due to inefficiencies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costs can decrease due to a decrease in factor prices,  technological improvement, or mergers reduce average fixed costs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A firm is the right size if it captures economies of scale but does not suffer diseconomies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A market is too small if it limits output to below economic capacity (SR) or below minimum efficient scale (LR)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7 Summary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Kalinga"/>
              </a:rPr>
              <a:t>Costs in the Long Run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3030480"/>
            <a:ext cx="8381880" cy="33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5:  Understand the effect of technological change on a firm’s cost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6:  Explain what is meant by the right size of firm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7:  Explain why markets can sometimes be too small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7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D526B808-413B-492B-8647-8391DEBB09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he Long Run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7200" y="1647720"/>
            <a:ext cx="8229600" cy="44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Long Run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period of time during which all inputs are variabl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l production processes operate in the short run, and diminishing marginal productivity applie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 the long run, all costs are variable and diminishing marginal productivity does not apply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firm can plan as if it is in the long run, but it always operates in the short run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50A89A30-8EB8-40DF-9DE6-E869B9E837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he Long Run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903320"/>
            <a:ext cx="822960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Long Run Average Cost Curve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graphical representation of the per unit costs of production in the long run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Constant Returns to Scale </a:t>
            </a: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ituation in which a firm’s output increases by the same percentage as the increase in its input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C7505156-06DF-4295-8FAC-A1EC614A86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1276200" y="382680"/>
            <a:ext cx="711216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Average Costs of Production </a:t>
            </a:r>
            <a:br>
              <a:rPr sz="3200"/>
            </a:b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in Four Plant Sizes 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1DEE7B3C-66E7-49FA-97DE-144F8F1C67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Picture 2" descr="ftp://ftp.eppg.com/Sayre%20Micro%20images/Chapter%207/SAYRE-MICRO-7-F-7-1.jpg"/>
          <p:cNvPicPr/>
          <p:nvPr/>
        </p:nvPicPr>
        <p:blipFill>
          <a:blip r:embed="rId1"/>
          <a:srcRect l="37371" t="12916" r="8450" b="0"/>
          <a:stretch/>
        </p:blipFill>
        <p:spPr>
          <a:xfrm>
            <a:off x="649440" y="1563840"/>
            <a:ext cx="7813440" cy="475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366A0406-822B-473B-96DE-D1FC8252DB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3"/>
          <p:cNvSpPr/>
          <p:nvPr/>
        </p:nvSpPr>
        <p:spPr>
          <a:xfrm>
            <a:off x="457200" y="14889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ccompanying table shows the average costs associated with three different plant siz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   Which plant is best suited to produce an output of 4 unit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value of long-run average cost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873000" y="3224160"/>
          <a:ext cx="7367760" cy="2952720"/>
        </p:xfrm>
        <a:graphic>
          <a:graphicData uri="http://schemas.openxmlformats.org/drawingml/2006/table">
            <a:tbl>
              <a:tblPr/>
              <a:tblGrid>
                <a:gridCol w="1841760"/>
                <a:gridCol w="1842840"/>
                <a:gridCol w="1841760"/>
                <a:gridCol w="1841400"/>
              </a:tblGrid>
              <a:tr h="892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t 1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t 2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t 3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4FC4E306-8F39-419B-AD5D-33D73C1B6D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3"/>
          <p:cNvSpPr/>
          <p:nvPr/>
        </p:nvSpPr>
        <p:spPr>
          <a:xfrm>
            <a:off x="457200" y="14889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ccompanying table shows the average costs associated with three different plant siz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plant is best suited to produce an output of 4 unit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Kalinga"/>
              </a:rPr>
              <a:t>	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Plant 3    (It is the lowest average cost for that outpu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873000" y="3224160"/>
          <a:ext cx="7367760" cy="2952720"/>
        </p:xfrm>
        <a:graphic>
          <a:graphicData uri="http://schemas.openxmlformats.org/drawingml/2006/table">
            <a:tbl>
              <a:tblPr/>
              <a:tblGrid>
                <a:gridCol w="1841760"/>
                <a:gridCol w="1842840"/>
                <a:gridCol w="1841760"/>
                <a:gridCol w="1841400"/>
              </a:tblGrid>
              <a:tr h="892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t 1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t 2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t 3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4" name="Rectangle 9"/>
          <p:cNvSpPr/>
          <p:nvPr/>
        </p:nvSpPr>
        <p:spPr>
          <a:xfrm>
            <a:off x="1552680" y="5359320"/>
            <a:ext cx="6070320" cy="44604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611A3B3D-EDF4-4C0D-A383-98DE71E392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3"/>
          <p:cNvSpPr/>
          <p:nvPr/>
        </p:nvSpPr>
        <p:spPr>
          <a:xfrm>
            <a:off x="457200" y="14889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ccompanying table shows the average costs associated with three different plant siz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value of long-run average cost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$36  (It is the lowest average cost in all three plants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873000" y="3224160"/>
          <a:ext cx="7367760" cy="2952720"/>
        </p:xfrm>
        <a:graphic>
          <a:graphicData uri="http://schemas.openxmlformats.org/drawingml/2006/table">
            <a:tbl>
              <a:tblPr/>
              <a:tblGrid>
                <a:gridCol w="1841760"/>
                <a:gridCol w="1842840"/>
                <a:gridCol w="1841760"/>
                <a:gridCol w="1841400"/>
              </a:tblGrid>
              <a:tr h="892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t 1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t 2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t 3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1" name="Rectangle 9"/>
          <p:cNvSpPr/>
          <p:nvPr/>
        </p:nvSpPr>
        <p:spPr>
          <a:xfrm>
            <a:off x="3295800" y="4508640"/>
            <a:ext cx="680760" cy="44604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10"/>
          <p:cNvSpPr/>
          <p:nvPr/>
        </p:nvSpPr>
        <p:spPr>
          <a:xfrm>
            <a:off x="5149800" y="4916520"/>
            <a:ext cx="681120" cy="44604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11"/>
          <p:cNvSpPr/>
          <p:nvPr/>
        </p:nvSpPr>
        <p:spPr>
          <a:xfrm>
            <a:off x="6978600" y="5340240"/>
            <a:ext cx="681120" cy="44784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6T00:16:49Z</dcterms:created>
  <dc:creator>aholowinsky</dc:creator>
  <dc:description/>
  <dc:language>en-US</dc:language>
  <cp:lastModifiedBy>mark_banit</cp:lastModifiedBy>
  <dcterms:modified xsi:type="dcterms:W3CDTF">2012-04-24T12:31:45Z</dcterms:modified>
  <cp:revision>255</cp:revision>
  <dc:subject/>
  <dc:title>Slide 1</dc:title>
</cp:coreProperties>
</file>