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E1F-57FC-48C8-8C58-CA80F217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37C-E02A-46E4-A705-84F1B376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9A271-82EC-4DE4-99BA-CCABF0D0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0DA57-D029-404F-A290-1690FA2B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4EE7F-F995-4A3B-A575-C6890198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BEA17-761A-41DA-B837-45C5F711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D8DB7-53FF-4F72-B3CA-C775008F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284AA-D2EB-4A29-864C-621BDC53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BE67D-7846-4467-8343-D54294B2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6DDF6-AE86-4D17-B572-54CF3AE0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683C9-C6ED-416C-99EB-625B9868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5E2BA-4F39-4E44-9746-2E0840A1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2B6-1FAF-494C-8970-3C4F7777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BD6669-2743-4BE9-801A-144E5288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A2D077-C175-488A-BE22-95197043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89C00-7919-4DEA-89A3-3633D7B1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C3CEE-22A7-4442-AE5C-D103D953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56988-D858-4B01-8749-731BA124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A873E-C653-4D63-8A91-21C73B63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14B42-8BD8-42B5-8BA6-BFB3671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3F972-C8AC-4EB1-A0C7-8569734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6BBBA-9B1E-4C7A-9C3C-D0BC3C03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D3456-132F-4F61-80B9-B2330246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32A-FAB0-4F1B-A9A3-26BD79A9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FEF32-8E92-4119-86CA-1247D946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0E1D-563E-4E96-B85E-F9301A04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34FB-F1D8-42FB-A182-BD90B7D7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990B-49A0-4878-812F-110C56B6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AB91-6C47-4CF4-AEAB-F5B051BD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05CF-46BF-45CF-ACE2-661B5EE8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4119-032E-459B-B74F-B4699643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668D-C306-43A7-AF81-C9E4EF08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EF5-4916-44CE-8A64-0347B1D2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A7EC-D1C4-45CF-B0E4-19DD5B25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5117-EC53-406F-AC5A-0D973ABD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818E-B6BC-409C-B170-77482789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2809-393B-4FB6-9028-019AD890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9B45-C050-4CB6-99FE-840FE801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B371F-5F78-4119-A2C8-5BD8CD57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A1E9D-287B-4740-9672-03A0E315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F5C6-9492-42C0-8F22-A0D6F4C8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F8480-FAA7-4792-A053-3E291038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B2D1A-1EC7-4958-B8F6-884FD010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5E5-70F6-4CF7-BDA7-3E3524A3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B6311-844B-4F89-9B83-E8012FBA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E7D9-95F9-4E57-9A07-E3883C96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3C3C-8852-4D02-9E60-1561F64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C8DEF-B503-4F19-A986-CAC40C24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02A5-9DFA-4FB4-BDDA-3905CDF3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F775-42B8-462D-8BD3-573A9663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6F8D-27A3-4D24-BDD0-5E7EA60C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01AFC-65CB-4303-8962-97B9B75C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6D3B-E527-4B5F-85EA-294924A9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4A916-0538-4619-AD48-14930940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D4B-98FD-43E6-955A-46959A25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6E60E-A946-494D-8B60-1DC772E5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52548-2C75-4C33-9009-769DE2E6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EABD-7ABE-4F9F-9A4D-B4E2DDE1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ED657-782A-4ED7-B612-850F0AF7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DF9E3-AC0A-46AC-B1E8-2BA242CF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12B63-8648-4B41-ABE6-E468EDEC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31392-273A-49A6-9371-73817523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8C721-1764-400C-AB51-EE27EA43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4456-5748-441C-8968-806BBEAA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6A3E5-36FE-4A95-ABFE-01A85FFD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5CA3-9121-45AE-A1BB-15E05271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C2271-3927-410E-9F9E-1987DCE5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4BBE7-4691-435D-85D5-BE14FAD7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BAC9-CD1A-42FB-98EA-57762143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74412-92C5-43D5-9883-66BA4A91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50D76-CD63-425E-873D-90492A1B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E4F8B-9B1D-44D6-A3B6-51559A55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5369D-6B13-4D0E-8405-CC6F9133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651F9-2BB4-4E6F-97B9-B3F6424A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DEA32-E746-457F-9C20-B8B89CC2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0FEE-F39A-4531-A919-849B33A9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734-76B9-46D2-8920-6541B02D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802A7-F44A-4225-9217-EE2347DE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EF098-EB38-44C9-B3E4-8ACFD483DC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C55DD-2DE8-42AF-8B8B-F1045C0A188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C76BB9-2D24-4CCB-81CF-E20000ADA80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59BAF-B4DD-4EF8-B44D-44BCA239C7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F6CD8-11C3-45E1-B8A2-439E781725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90A1B9-8858-4499-AA9C-5DAA3C70CCD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50A9A-EDF2-4F8A-9394-4878EFFF7E8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A49DE-FCE4-4C7F-9659-5FA65F85B87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E41D6-D6E0-46FF-9CDB-9607C889E5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9F5-2B1E-400C-8BA7-6C1345BE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201B0-3322-414B-93D8-20B43798898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105FEB-46DD-4349-88A2-FDCBA4E76CF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A5EA9-3184-4687-880D-8A8F8D70DE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EE8723-3E74-49D6-AA1A-7E411D43719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08C48A-E929-431C-B106-D8ABC977E26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53C81-6E2F-47FF-8CB9-5F7D345A202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0EAC0F-D1F9-4E16-89FB-9AE87F5881B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ADE01-1D00-4255-90EF-E20BE984259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16DDC4-B829-4089-8AE9-83B82B493FF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86662E-BCEB-488F-8671-AD7527EE6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DFC3-7807-4E19-99EA-D7AB3FA8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1FF101-6460-44A4-A830-588E766EDD0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79E82B-A538-4681-A0FD-0E27CA010E8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2CFB5C-BB22-49D8-9626-696AB77A21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415FA2-66A6-4706-AD86-007ECBB5331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955F40-9574-4784-A178-0500CA4B5EC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7702AF-D10B-4799-BEC5-D948C92D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7AF0AB-EBF6-4D59-8A7E-7B073EF4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C0A626-DE82-40D7-AD01-3C9B47C0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E38D69-CB95-4AA2-919A-42B65750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D1700D-5CC2-441F-867D-92AAA2F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DE8-3D8D-4B37-8C90-B95AA6F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3BE278-F8EF-4250-B4BB-EA395159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99205B-FF34-4128-B613-41A3ADE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B28F2F-9DCE-4631-8583-0186C33C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4E2A6A-DB8C-4F8D-8980-9588EE0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9B2B58-EA1D-4218-B84D-D14CE00E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6C0E77-62DC-4DF2-8E9F-1BFC2370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DFE642-661A-4AF8-9417-7C21DA7E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424BC-C278-491B-89FD-F31CED20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017E5-9FA6-43B6-A2CD-20CA31AD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D3972-E4AF-438A-8010-F208F534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CB4AFEB-CFF2-4002-8804-19A5BBC0F8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A2AE233-E14D-474F-8C35-7953368BB4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A222597-BCF8-4671-8BCE-7C87835E34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7AFF4B3-0533-4203-BEFC-F9011824F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7C5A053-900F-45A7-82EC-4F36E81F7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9BD5DCC-6C8C-401F-86F5-A282D2FEF4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058BE84-1AAE-40B5-9FF6-1EFD9A7C95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FE93317-CC26-430C-96C0-12C2E097B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sts in the Long Ru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 advantages achieved as a result of large-scale opera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ms in industries characterized by assembly-line production of standardized products tend to experience declining long-run average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se industries are often dominated by a few large firm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3D4C286-6FC0-4F80-B27B-5216CE44A7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asons for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plants are able to exploit specialization of labour on a far greater scale than small pl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-scale production encourages management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 scale production encourages machine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firms enjoy pecuniar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CF7206B-3520-456C-A4CC-BE27A56EE4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ecuniary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cost of borrow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l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es of scale in marketing and advertis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3A2D113-0F74-4CC3-B25B-95364B2425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115640" y="371160"/>
            <a:ext cx="72723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2EE0EEF-0CDF-471E-99B7-A876CED674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ftp://ftp.eppg.com/Sayre%20Micro%20images/Chapter%207/SAYRE-MICRO-7-F-7-2.jpg"/>
          <p:cNvPicPr/>
          <p:nvPr/>
        </p:nvPicPr>
        <p:blipFill>
          <a:blip r:embed="rId1"/>
          <a:srcRect l="11507" t="11776" r="32612" b="0"/>
          <a:stretch/>
        </p:blipFill>
        <p:spPr>
          <a:xfrm>
            <a:off x="903240" y="1552680"/>
            <a:ext cx="6932520" cy="47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2503F40-9CA4-412D-B093-4733EA2606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396B31D-8921-4129-9936-2E2357B20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Box 10"/>
          <p:cNvSpPr/>
          <p:nvPr/>
        </p:nvSpPr>
        <p:spPr>
          <a:xfrm>
            <a:off x="584280" y="4851360"/>
            <a:ext cx="771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1:  increasing returns to scale.  (Average cost drop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from $171.43 to $16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2:  constant returns to scale.  (The average cost remain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same at $450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s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reaucratic inefficiencies in management that result in decreasing returns to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creasing Returns to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a smaller percentage tha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1B84230D-1067-442F-9BE1-73065780F2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RAC Curve under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7313EA6-F410-4076-A637-723FB763A5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2" descr="ftp://ftp.eppg.com/Sayre%20Micro%20images/Chapter%207/SAYRE-MICRO-7-F-7-3.jpg"/>
          <p:cNvPicPr/>
          <p:nvPr/>
        </p:nvPicPr>
        <p:blipFill>
          <a:blip r:embed="rId1"/>
          <a:srcRect l="10145" t="11151" r="35676" b="0"/>
          <a:stretch/>
        </p:blipFill>
        <p:spPr>
          <a:xfrm>
            <a:off x="1414440" y="1454040"/>
            <a:ext cx="6315120" cy="491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847942D-B30B-403F-B701-311B12AE7A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4A84404-8913-4868-B89E-793E88654B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542880" y="53341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returns to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B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conomies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36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Distinguish between the short run and the long run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why medium-sized firms are sometimes just as efficient as big firm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why big firms sometimes enjoy great cost advantag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nderstand why firms can sometimes be too big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7D98D45-D63A-4422-A17C-AAEF37739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8348867-E523-4970-9422-2D734673F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552600" y="5322960"/>
            <a:ext cx="83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C:  economies of scale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5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6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D:  diseconomies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8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Changes in Short Ru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and Long Run Costs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echnological Improv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production techniques that reduce the costs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uses a decrease in short-run cos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long-run average cost curve is derived from short-run cost curves, the long-run average costs  also decreas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77BE952-1DE6-45F1-BE55-80C697B58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FB67F7F-B99A-47BC-BDA7-D5371A6A8A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2" descr="ftp://ftp.eppg.com/Sayre%20Micro%20images/Chapter%207/SAYRE-MICRO-7-F-7-4.jpg"/>
          <p:cNvPicPr/>
          <p:nvPr/>
        </p:nvPicPr>
        <p:blipFill>
          <a:blip r:embed="rId1"/>
          <a:srcRect l="-99" t="-1513" r="10109" b="0"/>
          <a:stretch/>
        </p:blipFill>
        <p:spPr>
          <a:xfrm>
            <a:off x="0" y="14796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BA65DA7-2053-433D-9E1D-862FD1FDE3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2" descr="ftp://ftp.eppg.com/Sayre%20Micro%20images/Chapter%207/SAYRE-MICRO-7-F-7-5.jpg"/>
          <p:cNvPicPr/>
          <p:nvPr/>
        </p:nvPicPr>
        <p:blipFill>
          <a:blip r:embed="rId1"/>
          <a:srcRect l="-119" t="-2579" r="-2003" b="0"/>
          <a:stretch/>
        </p:blipFill>
        <p:spPr>
          <a:xfrm>
            <a:off x="0" y="114768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58800" y="1775880"/>
            <a:ext cx="80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nimum Efficient Scale (MES)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mallest sized plant capable of achieving the lowest long-run average cost of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BAE31F12-8FD0-43EC-ABF6-66D8077E5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0D532948-0ADB-43B1-A4D4-9244285C5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2" descr="ftp://ftp.eppg.com/Sayre%20Micro%20images/Chapter%207/SAYRE-MICRO-7-F-7-6.jpg"/>
          <p:cNvPicPr/>
          <p:nvPr/>
        </p:nvPicPr>
        <p:blipFill>
          <a:blip r:embed="rId1"/>
          <a:srcRect l="0" t="0" r="8158" b="0"/>
          <a:stretch/>
        </p:blipFill>
        <p:spPr>
          <a:xfrm>
            <a:off x="0" y="1542960"/>
            <a:ext cx="9144000" cy="447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813189F-F6A8-4D15-B9BB-7DD7B0BC3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always operate in the short ru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can plan as if they are in the long run where all inputs are variable and diminishing marginal productivity does not app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tant returns to scale exist when an increase in inputs result in a proportional increase in outpu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conomies of scale involves either technical or pecuniary economi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5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241A81A2-CC4D-4DFC-81BE-24D583F82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Diseconomies of scale can occur due to inefficienc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costs can decrease due to a decrease in factor prices,  technological improvement, or mergers reduce average fixed co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firm is the right size if it captures economies of scale but does not suffer diseconom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market is too small if it limits output to below economic capacity (SR) or below minimum efficient scale (LR)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effect of technological change on a firm’s cost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 Explain what is meant by the right size of firm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7:  Explain why markets can sometimes be too smal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81F2454-F824-4C97-90BB-EB01AC6DF9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4772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riod of time during which all inputs are vari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 production processes operate in the short run, and diminishing marginal productivity appli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the long run, all costs are variable and diminishing marginal productivity does not app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irm can plan as if it is in the long run, but it always operates in the short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BC8A239D-07C0-4AFA-A97D-C9CA725298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Average Cost Curve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per unit costs of production in the long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stant Returns to Scale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the same percentage as the increase i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88286BB9-C02C-4CB4-AA14-1437DD224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Costs of Production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 Four Plant Sizes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E34B1543-3101-4AF9-AE82-D8850FE97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ftp://ftp.eppg.com/Sayre%20Micro%20images/Chapter%207/SAYRE-MICRO-7-F-7-1.jpg"/>
          <p:cNvPicPr/>
          <p:nvPr/>
        </p:nvPicPr>
        <p:blipFill>
          <a:blip r:embed="rId1"/>
          <a:srcRect l="37371" t="12916" r="8450" b="0"/>
          <a:stretch/>
        </p:blipFill>
        <p:spPr>
          <a:xfrm>
            <a:off x="649440" y="1563840"/>
            <a:ext cx="7813440" cy="47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E4A756CC-2097-4897-88B0-A6C16C2B1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 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7315541-17A8-4C88-8A7B-73B8C6EE41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Plant 3    (It is the lowest average cost for that outpu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Rectangle 9"/>
          <p:cNvSpPr/>
          <p:nvPr/>
        </p:nvSpPr>
        <p:spPr>
          <a:xfrm>
            <a:off x="1552680" y="5359320"/>
            <a:ext cx="60703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361F71C9-AFA1-469A-9428-ECE8B28A7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6  (It is the lowest average cost in all three plant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9"/>
          <p:cNvSpPr/>
          <p:nvPr/>
        </p:nvSpPr>
        <p:spPr>
          <a:xfrm>
            <a:off x="3295800" y="4508640"/>
            <a:ext cx="68076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149800" y="4916520"/>
            <a:ext cx="6811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978600" y="5340240"/>
            <a:ext cx="681120" cy="447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45Z</dcterms:modified>
  <cp:revision>255</cp:revision>
  <dc:subject/>
  <dc:title>Slide 1</dc:title>
</cp:coreProperties>
</file>