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486-C4BC-410B-A055-C99F31A6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2C5-189E-4F9C-AA3A-AEF2C245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4A83C-9C26-49A6-876A-A0C1B5C7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FD2AE-6BDE-43CE-BF15-1931C6E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A0739-260F-4D5D-992D-1D3DF17B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EDA5E-24F5-4BB0-8F00-B0DC819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53318-5C7A-43D2-AE16-0E7AD2D2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A5E01-203D-4023-8CA7-CB76E25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4D2AF-A3DC-49B8-87EC-E177B95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2BFE4-83DF-4C45-B31D-8CF53FC2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E44D2-9F58-4CDB-92D3-8A3E84B4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A9906-2AB2-4121-80C6-E7623FFF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36E-D2EF-420A-A0B3-8C8F8B74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2FA69-5B2B-45CF-9E40-D535CBFD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2B03E-EB7D-4346-8506-B689DBE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F0FB0-FEEC-4616-B68F-D87FFE0A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0843E-7FD1-4876-B357-B6CF49A4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5B86B-AA8D-45F3-9A77-4E2D67B2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D297D-945C-4F03-A9BE-4F311FDA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A9E37-CB58-4BAF-A214-90CDE0E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13EC5-B9D3-409C-82C3-8178049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6A435-3AE5-456E-9067-A9E1A34B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2F03F-A89B-4704-8EAE-6064CF47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18E-8AB8-46CE-8F30-2BDB192F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FFCF4-BA36-4D59-8929-2A4787E5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C4D5-0D0A-4BE1-96FE-48B18D92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2927-0EF1-4549-89F2-2F015E4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BDA6-EFB9-44BA-B572-C9AF978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FED6-9874-4D08-B624-9DC2E83F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8863-C355-4A43-80C7-3656EBF1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4EC-93B0-446A-97CB-8D1262F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379F-682E-4174-8158-8DDCF8BB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46D-50AA-4D11-AF58-22693BC2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740D-6A1D-4A00-BE04-DAA7049B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84F-E4BC-493A-9339-984DD3D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CD35-08E4-43D3-B9EA-613CB4A7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E852-0CF6-42E2-9AF8-8A88025B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79DC-B11D-4F4A-AC2B-E14EF7F6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BBA7-BEA6-4EF9-BFEB-4E81D07A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E42F-4817-48BD-B76C-4347D85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B11F-D3EB-4439-B63C-094D6577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8424-096A-41A4-BB78-AC498A77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5692-E8F8-4B5B-BF7B-CF7C6D47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7A4-9D04-4758-BE95-584AD226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565A-E831-4C92-BA19-81E8A49B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8999-48A7-4F58-938E-581E61A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625A-5B29-452F-8F43-D7447E7B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114B-B249-407A-AF85-19F5F57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7583-4CA0-40B7-BBE9-B4C33111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FD52-AA5B-4228-9F42-CC74FD51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C3A7-FA73-4B77-996F-76FA5C18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0C14-5041-4329-981C-89E7FCC8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CC42-D64A-4E74-A1D6-5C1701D6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6F8F-BBED-4EF2-AB7D-D78671B8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F6B-03FC-4A42-8F88-6324E873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0EE4C-0A9E-455B-A620-5B685EA3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5F8D0-105D-4583-BDF2-292EEF70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83D5-6781-414E-ADC8-98094A2A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3722-543A-49C6-8F96-32CB41A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1A33-3099-44DD-B5E3-EB18BC4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2AD1E-C05C-423C-894B-C1994879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A753-F3EE-4EBE-84DA-1A703F4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0DA0-E6FC-4EDB-95B2-7B8D8309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E960-7425-4614-AD42-CC02401E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707B-C986-459C-B060-06282C77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453-D81C-4F8E-A4A3-DD839A62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47FDB-EBA6-4C41-930E-2E0B7168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25F9A-1256-484D-BCAD-18431E7F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71F6B-B186-4823-87BE-8183FD90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010B2-CB02-4EF5-ABE8-DA0F5DB7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14F09-29E1-43E5-B70B-5380B4A3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A017-21F4-4CA5-B76E-DFEEC716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712D5-DD5B-458F-98A5-4D90DE6F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C811-5930-4AD8-A0FE-06D0D2C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6DA73-6093-402D-9DB3-D50A24FD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38A7-615B-49A7-99F0-157EA5A1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620-FB4B-458C-9090-0E02D88E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5B5E-A2C4-4AB9-8065-7806CE05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D2D4E-6125-42DD-8A0F-CFA594AC98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864BB-7A8B-4754-A656-FD576DA6AA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D837A-6412-4B5F-9CBF-3847616336A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D7C9C-40C9-4BD7-A896-7CF3BE4181E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0DEEF-B2E4-425A-BDE6-294A8BB941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F1BD4-C1AA-4DD0-9A74-C15EFAAAEF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591C2-88E9-4B9A-B2F5-00A775EC0B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D27F0-C028-49D9-9F0F-ADF872559F2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E9885-AA8F-47E2-8A36-99156D4C0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D5B-A97D-4A48-BA0F-936EB16F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16690-FCAB-4E22-8F4A-40F5550004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72D3A-2B18-4F13-AB30-E12BD15970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C8FC0-79C4-444A-A8C8-B3B08F7573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1F46B5-1514-4FDB-AE2A-5528592DE4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FF912-690D-424F-AC03-495583FCB2B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617C42-0CB9-4E00-BDF6-E21C61C87A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12CDEE-B515-44F4-A59B-847AF645BB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5D0C5-CF95-48EF-9C4C-CB0E2506C5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A4E456-6BF5-4428-9AB0-4556FDD4FD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E4AF85-651D-42C6-824A-0E084C856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58C-CC3F-4160-9DE2-29A6B73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7FB27-8F15-47D4-AF8B-02562F4F550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E32597-5599-4004-87AA-B2E77A9E65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93429E-E072-4824-AA50-DBDAA8DAF4B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1DF717-B573-4D36-A67C-8099DACD6A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3DB404-6E79-4876-8EC8-B5922C731D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41DBAC-78F7-47B9-A02C-5138D62F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B3D1A-72C2-434B-BD6D-BBEA0947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7964EC-211E-45A0-BAE9-51DB71A7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B9B080-9F20-4647-875F-FD3EB796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751E76-013E-4E50-8C81-84B66B32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D33-4206-4DC5-9D25-149ED830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5628F5-8353-4DC1-8E6F-5F3D7490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172B28-2306-4D6D-99E6-E7AA8AC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20CF0D-3883-4EDF-AEA9-5201ED1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7D770B-8004-411F-A0ED-2464EE9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89FBE5-18A1-491C-902A-CCAB4DD8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8DA902-B80A-4EF3-8517-A021CA70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9888D-218F-4BBB-945B-DF92EFB8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CF996-5EF6-4D80-AB37-46059DE3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3537C-7030-42F7-B34D-0A4A07EB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47059-4720-4F73-ADA3-9B32127D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F947647-0A1F-4ADA-938D-8FCF2EB907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FFAAC00-5904-47F7-94C0-3C818A404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6E99D23-7615-4845-8F30-BD44F90E4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A3C9A4A-63E5-4B33-B854-CA52D78E4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34A1A40-08A2-43AE-B747-113C3C7DA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7B38998-42FC-458D-8154-CA9DCDB86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8D56B7B-E9F2-491D-A1DC-3CBE3AE9C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9698F88-55A8-4697-94FF-9A8284E66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Kalinga"/>
                <a:ea typeface="Kalinga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F441F73-3D41-40BF-A4A3-2CA257553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" descr="ftp://ftp.eppg.com/Sayre%20Micro%20images/Chapter%2010/SAYRE-MICRO-10-F10-1.jpg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3562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46040" y="4678200"/>
            <a:ext cx="80280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increase sales, a monopolist is forced to reduce price not just on the last units sold, but on the whole of its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ftp://ftp.eppg.com/Sayre%20Micro%20images/Chapter%2010/SAYRE-MICRO-10-F10-2.jpg"/>
          <p:cNvPicPr/>
          <p:nvPr/>
        </p:nvPicPr>
        <p:blipFill>
          <a:blip r:embed="rId1"/>
          <a:stretch/>
        </p:blipFill>
        <p:spPr>
          <a:xfrm>
            <a:off x="439560" y="0"/>
            <a:ext cx="803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revenue is maximized when the marginal revenue is zer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onopolist will produce only where the demand is elast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8E5C1E8-AB57-4E9D-871B-1C82065E0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FBAB064-A9C7-4F1C-AEC9-CFA61E52A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82720" y="1233360"/>
            <a:ext cx="73785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1E96EC6-071E-4D3E-AFA0-7AD3CB94E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882720" y="1244520"/>
            <a:ext cx="73785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925560" y="3252960"/>
            <a:ext cx="715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Marginal revenu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:  $18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50 is $750 (15 x $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48 is $768 (16 x $48)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xtra unit produces extra total revenue of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18 ($768 – $7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lasticity: e   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% D Q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1/15.5 x 100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6.5%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=  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1.59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% D P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2/49   x 10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4.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ximum profit is where the difference between total revenue (TR) and total cost (TC) is greatest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is shown on the total profit curve, where it occurs at the highest point.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also occurs where the slope of TR (same as MR) equals the slope of TC (same as MC)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break-even points occur where total revenue and cost are the sam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77ECD78-F400-40F5-81A0-E621C4B1C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ftp://ftp.eppg.com/Sayre%20Micro%20images/Chapter%2010/SAYRE-MICRO-10-T10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B8786E9-8D48-4BCF-A3BD-6515ABE84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ftp://ftp.eppg.com/Sayre%20Micro%20images/Chapter%2010/SAYRE-MICRO-10-F10-3.jpg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9D8A837-9C12-4458-979B-F25C513AF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s are maximized (or losses minimized) at an output where M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profit maximization rule as perfectly competitive firm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833D448-B556-4EFB-B537-8F01C8842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73D5E34-EBA5-4A7B-9C7B-140BD80DB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" descr="ftp://ftp.eppg.com/Sayre%20Micro%20images/Chapter%2010/SAYRE-MICRO-10-T10-3.jpg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1:  Define a monopoly, explain how they come into existence and why they must reduce their prices to sell more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2:  Understand how the profit-maximizing output and price are determined for a monopolist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3:  Explain five grounds on which monopolies can be criticiz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4:  Explain the significant difference between monopoly and perfect competition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E98EB6F-E6C2-4832-8BF6-8E4DFC238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BB7C8E1-DD68-43DE-A2EA-FF5571947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ftp://ftp.eppg.com/Sayre%20Micro%20images/Chapter%2010/SAYRE-MICRO-10-F10-4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s are not always profit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s on costs – if AC curve is higher than the demand curve at all output levels, will have a lo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minimize loss using the profit maximization r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C44D7B8-50AA-4022-9BBF-06CF51E91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inimizing Los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950E8D2-7AAB-4D33-983D-42CB35840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ftp://ftp.eppg.com/Sayre%20Micro%20images/Chapter%2010/SAYRE-MICRO-10-F10-5.jpg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69F75BE-601E-4960-B3BC-3227C458C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0E7F13E-F9A8-4824-963D-F922AEDDD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914400" y="557208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eak-even (TR=TC) occur 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fit-maximizing output occurs at an output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make economic profits indefinite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both productively and allocatively ineffici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less and charge a higher price than a competitive indust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ing a more unequal distribution of income and wealth within socie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ir power to practice price discrimin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DB41000-E43C-4FE4-B618-BFB53C94E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iticisms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BE094EC-64E3-4C83-9755-297F5C723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07ADC64-E83B-447B-A795-A22E41565A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3827520" y="4538520"/>
            <a:ext cx="405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9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($15 x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Box 8"/>
          <p:cNvSpPr/>
          <p:nvPr/>
        </p:nvSpPr>
        <p:spPr>
          <a:xfrm>
            <a:off x="1268280" y="5902200"/>
            <a:ext cx="63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105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($20 + $19 + $18 + $17 + $16 + $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charge higher prices than perfectly competitive firm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produce lower outputs than perfectly competitive firms and these outputs are below economic capacit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, unlike perfectly competitive firms, may make economic profits in the short run and in the long ru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A81EACE-D43E-4347-9E97-E04609613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6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erfect Competition v Monopo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38C39D4-316A-4117-8B41-ADEF787CD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ftp://ftp.eppg.com/Sayre%20Micro%20images/Chapter%2010/SAYRE-MICRO-10-F10-7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5:  Explain three grounds on which monopolies can be defend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6:  Discuss ways that governments can change the behaviour of monopolies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8D07B6E-0232-4BA8-8657-3757F9A31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91052D7-DB19-4448-BD44-A59436F6E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tp://ftp.eppg.com/Sayre%20Micro%20images/Chapter%2010/SAYRE-MICRO-10-F10-8.jpg"/>
          <p:cNvPicPr/>
          <p:nvPr/>
        </p:nvPicPr>
        <p:blipFill>
          <a:blip r:embed="rId1"/>
          <a:stretch/>
        </p:blipFill>
        <p:spPr>
          <a:xfrm>
            <a:off x="0" y="0"/>
            <a:ext cx="8102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15FCB24-6876-4924-8CE6-18472F505B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4171E70-5FA3-4F9A-9941-D214565D29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5040360" y="2793960"/>
            <a:ext cx="35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3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  <p:sp>
        <p:nvSpPr>
          <p:cNvPr id="586" name="Straight Connector 9"/>
          <p:cNvSpPr/>
          <p:nvPr/>
        </p:nvSpPr>
        <p:spPr>
          <a:xfrm>
            <a:off x="1084320" y="1935000"/>
            <a:ext cx="1711440" cy="331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13"/>
          <p:cNvSpPr/>
          <p:nvPr/>
        </p:nvSpPr>
        <p:spPr>
          <a:xfrm flipV="1">
            <a:off x="2179800" y="2828880"/>
            <a:ext cx="0" cy="12542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2093760" y="2732040"/>
            <a:ext cx="18108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5049720" y="4846680"/>
            <a:ext cx="35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4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2714760" y="3341520"/>
            <a:ext cx="18072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capture large economies of scale in produc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engage in extensive research and development into new techniques of production and new product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attract high-quality staff by offering relatively high wages and good working condition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9D36A4C-D173-4915-9160-ECE9E2587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fence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oducer who is able to produce at a lower cost than competing firms cou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ually in a market with large economies of sca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8CD886F-3804-448E-963F-813266F1F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Natural 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E426360-4BE2-488B-BC6E-51C1C95F5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2" descr="ftp://ftp.eppg.com/Sayre%20Micro%20images/Chapter%2010/SAYRE-MICRO-10-F10-9.jpg"/>
          <p:cNvPicPr/>
          <p:nvPr/>
        </p:nvPicPr>
        <p:blipFill>
          <a:blip r:embed="rId1"/>
          <a:srcRect l="0" t="0" r="27406" b="0"/>
          <a:stretch/>
        </p:blipFill>
        <p:spPr>
          <a:xfrm>
            <a:off x="0" y="6382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or services regarded as essential and therefore usually provided by governmen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may well be costly and wastefu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0A670DA-CBA9-4D80-8650-6E0D83DD5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ublic Utilit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E63C82C-3B33-46A5-9A19-F8116F43C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825A790-0EEA-486A-8149-7A36F2966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584280" y="4854600"/>
            <a:ext cx="81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t $1.50 the quantity demanded is 100 000, or 50 000 each.  The average cost of servicing 50 000 riders is $2.50.  This means that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ach company would lose $1.00 for each fare, for a total loss of $50 00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o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ing the monopoli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price sett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ion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A5B141B-6BB2-4DCF-B98E-F33779627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Contro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arket in which a single firm (the monopolist) is the sole produc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 from new competitors by barriers to entr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Barriers to Entr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stacles that make it difficult for new participants to enter a mark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857E36B-8B9A-4769-8A9A-8449A998A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ump sum Profit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ects fixed cost but not variable co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average cost but marginal cost is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and price levels are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profit (due to higher cost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8E4B7D7-CBAB-4D06-AA72-810F7AE04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B6F2FC4-12E2-49E5-B0AC-D386F792C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4" descr="ftp://ftp.eppg.com/Sayre%20Micro%20images/Chapter%2010/SAYRE-MICRO-10-F10-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794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Sale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 on each unit so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marginal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ing point shif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 of the tax is shifted to consumer in the form of higher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quantity is pro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’s profit is re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8487442-1066-4095-94E9-3F445E344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9595832-159B-435F-8BC5-7796E89C8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" descr="ftp://ftp.eppg.com/Sayre%20Micro%20images/Chapter%2010/SAYRE-MICRO-10-F10-11.jpg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ocially Optimum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ce that produces the best allocation of products (and therefore resources) from society’s point of view, that is,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Fair-Return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ce that guarantees that the firm will earn normal profits only, that is, where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1A990B6-C8A5-4C5D-9286-35C1F285D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Price Setting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D37E77D-E06E-4B49-B8D3-327338711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ftp://ftp.eppg.com/Sayre%20Micro%20images/Chapter%2010/SAYRE-MICRO-10-F10-12.jpg"/>
          <p:cNvPicPr/>
          <p:nvPr/>
        </p:nvPicPr>
        <p:blipFill>
          <a:blip r:embed="rId1"/>
          <a:stretch/>
        </p:blipFill>
        <p:spPr>
          <a:xfrm>
            <a:off x="0" y="693720"/>
            <a:ext cx="892008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C9056EB-0C30-4330-BC16-3B1A0AC1B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ftp://ftp.eppg.com/Sayre%20Micro%20images/Chapter%2010/SAYRE-MICRO-10-p323.jpg"/>
          <p:cNvPicPr/>
          <p:nvPr/>
        </p:nvPicPr>
        <p:blipFill>
          <a:blip r:embed="rId1"/>
          <a:stretch/>
        </p:blipFill>
        <p:spPr>
          <a:xfrm>
            <a:off x="4221000" y="160488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6AA83C2-1964-48C7-8BAE-D58DF1DB4C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2" descr="MicroAK1_ST3"/>
          <p:cNvPicPr/>
          <p:nvPr/>
        </p:nvPicPr>
        <p:blipFill>
          <a:blip r:embed="rId1"/>
          <a:stretch/>
        </p:blipFill>
        <p:spPr>
          <a:xfrm>
            <a:off x="4125960" y="1573200"/>
            <a:ext cx="459252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806F4B6-037A-433D-B877-DA572DFFF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ypes of barriers to entr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ation for a monopolis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ism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ce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s that governments can control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955880"/>
            <a:ext cx="80373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chnic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sole ownership of a resour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g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public franchise, licences, patents, and copyrigh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conomic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used b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6D62FDA-4DF3-4BCD-BC1F-BC885E294F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arriers to Entr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1F32342-BC2E-4419-A27C-CF3BF8716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7F0D2AC-791C-427C-9E2E-74A6BC5F2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1839960" y="296712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echnical barrier (sole ownership of a resour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1843200" y="368316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conomic barrier (economies of sca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822320" y="441648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egal barrier (licence fee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set price rather than having to accept the market-determined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set either price or quantity sold, but not bo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the monopolist is the industry, it faces the market demand for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and is a downward-sloping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decrease the price in order to sell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BB75B6A-02D7-4E8A-A2D7-49F62C369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802A01A-DF13-41BC-8E4D-78857DE46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ftp://ftp.eppg.com/Sayre%20Micro%20images/Chapter%2010/SAYRE-MICRO-10-T10-1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7:25Z</dcterms:modified>
  <cp:revision>313</cp:revision>
  <dc:subject/>
  <dc:title>Slide 1</dc:title>
</cp:coreProperties>
</file>