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68B-05E0-4381-9149-42648C32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AF4-CC38-4B38-9F85-7F59C768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72C0C-06DC-4A5B-9191-DE96A4ED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EFFBA7-308B-41BD-911E-AEB60C46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F31FD-C088-497F-B96F-B127CFF4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603EC-9A39-4886-A069-377C8EB7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AD7C1-0BE9-4BB2-9F89-0997A9C5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236910-2766-44AE-8ED9-056C53B0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84BDF4-5624-479D-BA4F-CF055099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22299C-DAD9-4889-BB68-DC3DEFD5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7F1A2-6BB6-43C6-A81A-9BED4047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D87C3-526E-469B-A0A4-256AA92B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D62-4C46-4EB5-90C5-F97C39D4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45A0F-FC3A-4DF4-BDA1-68886CA2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3C439-D84F-4BF7-A559-6776843D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633D0-2E3C-4C81-A977-497D6BFE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2AAC9-6A35-4551-8AE2-CDC8CC87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488CF-E422-4095-81B0-BA69C9DF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F7245E-72AB-4B54-914E-2E696DE2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3984D-4B58-4F64-AC90-153607E9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58BAC-EC18-4A64-A369-5BAFC6CB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4EB6A-8812-47F5-9A84-8A7D1C08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E0CEF0-52A6-465A-9CC1-68858827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130-768F-4F67-8CFD-A4E45644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14FC7-5B79-4936-B38E-81214721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DEFD-AFA8-41A7-9037-769C7567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6084-93E6-4E59-BF83-376EC777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B64F-1AC0-42D7-938E-8FAFFAEE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55D4-1CE7-4302-811A-757368B1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C201-BD31-40A8-A060-53FA9954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5460-36E9-491B-8ECE-2E2541D6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883D-62D4-4766-9822-6B505945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820-E805-4C3F-90D1-C553EE3F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DD42-326D-485D-B6BC-21E1E73C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9524-7953-4C24-BB2E-ACEB19CD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F8DD-C0F3-4976-BE76-28579B6E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9C21-1E76-406D-937E-5F29FB4D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E990-5A58-4EB4-99C9-56456ADA8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5E3D0-C66B-4758-B13B-60D43BF6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6AC23-694C-4256-AFE0-CE0BCE98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64126-59B2-468A-9DD5-7D7DEC9E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4AF0-124E-4E0F-9538-6FEDCC9F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6E3E8-5F1C-49E8-852F-CFB62EEC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AC4-DA05-47B8-BDCD-8CE9BED0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42C7A-C23A-40C2-AC1C-25069FAE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E3407-A278-4DA9-B578-7EFD8FD6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0909A-C858-4D51-929A-4811DE1E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B81F3-64FC-4219-887D-1D08C82A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D0E85-9B0C-4305-84BC-E7EB3766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C1457-2C56-4ED9-98CD-1A7D4137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CCA0F-2C6F-44B2-BEA3-577C2BEC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2ED8B-F00B-4199-B427-87EAAA44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748EF-2346-4939-8545-11A87E5C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5994-FE6E-450E-A9FF-525588E0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662-E3F5-4670-877D-C8A5EE79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B6CAA-1867-46FA-BCAB-7E63A344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9CC55-4A33-4B42-BF22-542109F5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3BF94-8E08-4E10-B610-A3FA007D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A98D0-582E-4D47-91D2-1CD32EAE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7426-FBE7-490A-B438-B2BF4294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D4215-AEA6-4638-9D94-0917D27E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50E13-E2E3-4CB1-9638-F3604725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2D048-122D-443A-893B-B68E3A16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FF639-72B9-4A6F-9CE2-2A684934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55CA0-E105-443E-A9BD-4E1523A3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CF78-E5CB-4D98-A60A-18D0E14A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F41A5-E383-41D6-8E6F-AEC21A18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8361B-FD4D-4AFD-8F95-5C6E13CC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B741F-6706-4370-B321-9D7A161D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3FCD0-B693-40C1-B3AD-CA82B73F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2CBAD-8A0B-417A-8C55-825F4FFC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46533-0373-4E55-91E0-AB06FB5E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5865B-0D4C-4B73-90D6-9FB5ACE5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C17B7-6A6E-4493-BA87-B9CA81F0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556BB-C006-4C02-A99B-F91E6A96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8F7CA-066A-4871-9D35-EE810AD4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268-642D-49A6-A415-3DA36E86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A6524-0F40-42C7-BF12-1D752A0E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8BD3C2-40E2-43D4-A202-73972F67A73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D4FCA3-FA6E-4A99-B83A-9C9373473E8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D84C85-1B60-48C2-8232-DF50B273534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53782-0A57-4206-8957-B464EC1B652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D745CC-D820-4429-9308-45611B41CDE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293E46-9527-4B89-8CDC-7EB8EC6C7C5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1921C2-306C-449C-B3E4-994E10397CF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81DE9F-367C-4ED8-B8F3-624268A77E4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468B54-CBAC-4DA4-B50C-A8FA7E06A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13A5-8246-44CD-97D0-49521C29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D289A0-49B6-4DA3-BF7D-AFD1F3C2E9B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1F0B4-0B77-4DF3-9119-1681055F6F5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3DE8B5-4F23-4AC3-929F-B1B08989CAF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4666D0-2BFF-443D-950B-DDF80490EE7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C91F44-8CB5-4141-96A5-4834D7650FF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132ECD-58F8-460C-9F06-8A6AEDCD995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D3E93A-6CE4-415E-AC02-FE317D409EC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6233D6-7911-4C73-A572-08D580B7BFF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284883-D333-4272-8DB4-EF29EA8C898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C226BE-8521-428E-9728-61CD6FBB1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88A-7B66-46A8-B4D5-0EDC55DC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088D92-2861-4CE3-B2B2-7BB4F6E8DA2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A2C9F0-DFC8-4C57-9EEE-0AF90907D40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EA7131-1484-4934-AFA1-B9DE70BE2EF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296E60-9512-4ED7-9FFE-E8F35CC41F8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BC98AB-AF2F-4D67-BC5D-E056F13CB7B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466847-99DD-479D-95E3-5E7D0C86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C73864-EAD8-42DE-96A6-DFB13F79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ACEFC3-59FB-4C61-A2FD-CE69DF31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A31901-D978-46FA-90EE-2B4432C7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6D2673-838E-4C03-9298-E7B65368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DB0-A9CC-4C07-B406-0DF6190F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3C5EAA-62B6-44AD-B806-561EC45D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A65739-0932-4516-B6A1-A9B5455C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5F099B-5E95-4D9F-B72A-2D0B9C5A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081092-C830-463F-8A48-0468C67B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514CFD-7C98-4CBD-8FBE-A8E3EA3B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9C1CD6-C7D5-483F-A1CE-DC513E07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315ED8-23CA-4344-A083-6DEC9DD5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8FEEB7-B9DB-40C9-A6AF-FC482CEE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CB93F8-17B8-45CA-8D81-54AF1513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C0357E-2200-47A1-BE2E-FAAF2935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5C201A2-755F-45DC-8A99-B3112B633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1170E6E-DB31-40E3-B670-48C75F7917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FE17DAA-A1E5-4ECE-AA6F-236B614859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4D633F2-625A-48DA-9E0C-F85B5EDD86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A58C454-CD91-4954-AD49-DEB29BFD4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602D265-C40D-4BBD-9CB5-DC330DFCC1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AA92C3D-E800-49CA-8D07-DE5ACC0783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07DB8F2-0E0F-49EA-BB01-11833ED87F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7933c"/>
                </a:solidFill>
                <a:latin typeface="Kalinga"/>
                <a:ea typeface="Kalinga"/>
              </a:rPr>
              <a:t>Monopoly</a:t>
            </a:r>
            <a:endParaRPr b="0" lang="en-US" sz="6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A8D1633-7FC5-4C8A-9B65-0899D3680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" descr="ftp://ftp.eppg.com/Sayre%20Micro%20images/Chapter%2010/SAYRE-MICRO-10-F10-1.jpg"/>
          <p:cNvPicPr/>
          <p:nvPr/>
        </p:nvPicPr>
        <p:blipFill>
          <a:blip r:embed="rId1"/>
          <a:stretch/>
        </p:blipFill>
        <p:spPr>
          <a:xfrm>
            <a:off x="0" y="824040"/>
            <a:ext cx="9144000" cy="3562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46040" y="4678200"/>
            <a:ext cx="802800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order to increase sales, a monopolist is forced to reduce price not just on the last units sold, but on the whole of its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2" descr="ftp://ftp.eppg.com/Sayre%20Micro%20images/Chapter%2010/SAYRE-MICRO-10-F10-2.jpg"/>
          <p:cNvPicPr/>
          <p:nvPr/>
        </p:nvPicPr>
        <p:blipFill>
          <a:blip r:embed="rId1"/>
          <a:stretch/>
        </p:blipFill>
        <p:spPr>
          <a:xfrm>
            <a:off x="439560" y="0"/>
            <a:ext cx="8036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72260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revenue is maximized when the marginal revenue is zer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onopolist will produce only where the demand is elasti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1B89878-855C-468D-849A-178EE5B1AC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643E9C5-BD47-4C37-BE40-EE4613940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882720" y="1233360"/>
            <a:ext cx="737856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monopolist was charging a price of $50 for its product and was selling 15 units. It has now lowered its price to $48 and is selling 16 units. What is the marginal revenue? What is the price elasticity of demand over this price range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4D5B69F-2EF8-4BF7-A8EA-CB8E5BD89D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882720" y="1244520"/>
            <a:ext cx="737856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monopolist was charging a price of $50 for its product and was selling 15 units. It has now lowered its price to $48 and is selling 16 units. What is the marginal revenue? What is the price elasticity of demand over this price range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10"/>
          <p:cNvSpPr/>
          <p:nvPr/>
        </p:nvSpPr>
        <p:spPr>
          <a:xfrm>
            <a:off x="925560" y="3252960"/>
            <a:ext cx="7154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Marginal revenue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:  $18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otal revenue at a price of $50 is $750 (15 x $5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otal revenue at a price of $48 is $768 (16 x $48)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extra unit produces extra total revenue of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18 ($768 – $75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Elasticity: e   =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% D Q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= 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1/15.5 x 100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=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6.5%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=  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1.59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% D P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2/49   x 10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4.1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Revenue Approach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aximum profit is where the difference between total revenue (TR) and total cost (TC) is greatest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ximum profit point is shown on the total profit curve, where it occurs at the highest point.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ximum profit point also occurs where the slope of TR (same as MR) equals the slope of TC (same as MC)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break-even points occur where total revenue and cost are the same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8AABFD1-2DB1-437A-B376-0255BD54EC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ximizing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" descr="ftp://ftp.eppg.com/Sayre%20Micro%20images/Chapter%2010/SAYRE-MICRO-10-T10-2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17348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C6DF1A6-7C97-4785-8994-59AD07BC95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2" descr="ftp://ftp.eppg.com/Sayre%20Micro%20images/Chapter%2010/SAYRE-MICRO-10-F10-3.jpg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534000"/>
          </a:xfrm>
          <a:prstGeom prst="rect">
            <a:avLst/>
          </a:prstGeom>
          <a:ln w="0">
            <a:noFill/>
          </a:ln>
        </p:spPr>
      </p:pic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73F8396-CA77-4345-ACE2-C23209DBC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60452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Revenue Approach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s are maximized (or losses minimized) at an output where M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me profit maximization rule as perfectly competitive firm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308146F-A2F7-431D-8BCC-90F3563A89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ximizing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DF169F9-2382-4361-96B8-C5D791B479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2" descr="ftp://ftp.eppg.com/Sayre%20Micro%20images/Chapter%2010/SAYRE-MICRO-10-T10-3.jpg"/>
          <p:cNvPicPr/>
          <p:nvPr/>
        </p:nvPicPr>
        <p:blipFill>
          <a:blip r:embed="rId1"/>
          <a:stretch/>
        </p:blipFill>
        <p:spPr>
          <a:xfrm>
            <a:off x="0" y="676440"/>
            <a:ext cx="9144000" cy="459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Monopol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1:  Define a monopoly, explain how they come into existence and why they must reduce their prices to sell more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2:  Understand how the profit-maximizing output and price are determined for a monopolist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3:  Explain five grounds on which monopolies can be criticized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4:  Explain the significant difference between monopoly and perfect competition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48061F7-0FA4-4D52-A00E-BF156533CD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862D787-8916-46F9-BBEF-48AF9B4210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2" descr="ftp://ftp.eppg.com/Sayre%20Micro%20images/Chapter%2010/SAYRE-MICRO-10-F10-4.jpg"/>
          <p:cNvPicPr/>
          <p:nvPr/>
        </p:nvPicPr>
        <p:blipFill>
          <a:blip r:embed="rId1"/>
          <a:stretch/>
        </p:blipFill>
        <p:spPr>
          <a:xfrm>
            <a:off x="0" y="110016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sts are not always profit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ends on costs – if AC curve is higher than the demand curve at all output levels, will have a lo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minimize loss using the profit maximization r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B477B16-B872-4204-8F67-7E7DC2307B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inimizing Los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720C4F2-754A-45D5-A731-085FD09915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2" descr="ftp://ftp.eppg.com/Sayre%20Micro%20images/Chapter%2010/SAYRE-MICRO-10-F10-5.jpg"/>
          <p:cNvPicPr/>
          <p:nvPr/>
        </p:nvPicPr>
        <p:blipFill>
          <a:blip r:embed="rId1"/>
          <a:stretch/>
        </p:blipFill>
        <p:spPr>
          <a:xfrm>
            <a:off x="0" y="1022400"/>
            <a:ext cx="9144000" cy="405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7C41D0C2-889F-49E9-9D30-386D53C90D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882720" y="1212840"/>
            <a:ext cx="7378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following table and indicate the break-even outputs and the profit maximizing output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861840" y="2087640"/>
          <a:ext cx="7569360" cy="3462120"/>
        </p:xfrm>
        <a:graphic>
          <a:graphicData uri="http://schemas.openxmlformats.org/drawingml/2006/table">
            <a:tbl>
              <a:tblPr/>
              <a:tblGrid>
                <a:gridCol w="1079640"/>
                <a:gridCol w="1222560"/>
                <a:gridCol w="1963440"/>
                <a:gridCol w="1704960"/>
                <a:gridCol w="159876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ce (=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Revenue (T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Costs (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Profit (T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2BD7B00-CDE7-4460-88B0-9DC11FDFB7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882720" y="1212840"/>
            <a:ext cx="7378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following table and indicate the break-even outputs and the profit maximizing output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914400" y="5572080"/>
            <a:ext cx="71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reak-even (TR=TC) occur a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ofit-maximizing output occurs at an output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861840" y="2087640"/>
          <a:ext cx="7569360" cy="3462120"/>
        </p:xfrm>
        <a:graphic>
          <a:graphicData uri="http://schemas.openxmlformats.org/drawingml/2006/table">
            <a:tbl>
              <a:tblPr/>
              <a:tblGrid>
                <a:gridCol w="1079640"/>
                <a:gridCol w="1222560"/>
                <a:gridCol w="1963440"/>
                <a:gridCol w="1704960"/>
                <a:gridCol w="159876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ce (=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Revenue (T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Costs (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Profit (T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0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le to make economic profits indefinite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 both productively and allocatively inefficien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 less and charge a higher price than a competitive industr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eating a more unequal distribution of income and wealth within societ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ing their power to practice price discrimin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36E05AD-29A9-416A-98AE-4B77F372A3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iticisms of Monopol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8676191-50E2-4843-BCF9-2086D450E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882720" y="1212840"/>
            <a:ext cx="737856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table shows the demand for hairc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was a single-price barber, what would be the total revenue for six haircuts?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barber was able to practice perfect price discrimination by charging each customer the maximum they would pay, what would be the total revenue for six haircu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519280" y="1662120"/>
          <a:ext cx="4105440" cy="2495520"/>
        </p:xfrm>
        <a:graphic>
          <a:graphicData uri="http://schemas.openxmlformats.org/drawingml/2006/table">
            <a:tbl>
              <a:tblPr/>
              <a:tblGrid>
                <a:gridCol w="1970280"/>
                <a:gridCol w="2135160"/>
              </a:tblGrid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7268887-F0A9-4A80-81DD-461A6664A2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882720" y="1212840"/>
            <a:ext cx="737856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table shows the demand for hairc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was a single-price barber, what would be the total revenue for six haircuts?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barber was able to practice perfect price discrimination by charging each customer the maximum they would pay, what would be the total revenue for six haircu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0"/>
          <p:cNvSpPr/>
          <p:nvPr/>
        </p:nvSpPr>
        <p:spPr>
          <a:xfrm>
            <a:off x="3827520" y="4538520"/>
            <a:ext cx="405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R $9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($15 x 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519280" y="1662120"/>
          <a:ext cx="4105440" cy="2495520"/>
        </p:xfrm>
        <a:graphic>
          <a:graphicData uri="http://schemas.openxmlformats.org/drawingml/2006/table">
            <a:tbl>
              <a:tblPr/>
              <a:tblGrid>
                <a:gridCol w="1970280"/>
                <a:gridCol w="2135160"/>
              </a:tblGrid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Box 8"/>
          <p:cNvSpPr/>
          <p:nvPr/>
        </p:nvSpPr>
        <p:spPr>
          <a:xfrm>
            <a:off x="1268280" y="5902200"/>
            <a:ext cx="631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R $105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($20 + $19 + $18 + $17 + $16 + $1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 charge higher prices than perfectly competitive firm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 produce lower outputs than perfectly competitive firms and these outputs are below economic capacity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, unlike perfectly competitive firms, may make economic profits in the short run and in the long ru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5171500-D4EC-4C29-9EE6-C6B701E191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604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erfect Competition v Monopo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6A17986-4442-4994-A3EB-F23571C08A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2" descr="ftp://ftp.eppg.com/Sayre%20Micro%20images/Chapter%2010/SAYRE-MICRO-10-F10-7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Monopol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5:  Explain three grounds on which monopolies can be defended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6:  Discuss ways that governments can change the behaviour of monopolies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91BA02C-9817-4EE4-8689-5501AC6322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D382000-7C0B-4359-9497-7FE5B43ECE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2" descr="ftp://ftp.eppg.com/Sayre%20Micro%20images/Chapter%2010/SAYRE-MICRO-10-F10-8.jpg"/>
          <p:cNvPicPr/>
          <p:nvPr/>
        </p:nvPicPr>
        <p:blipFill>
          <a:blip r:embed="rId1"/>
          <a:stretch/>
        </p:blipFill>
        <p:spPr>
          <a:xfrm>
            <a:off x="0" y="0"/>
            <a:ext cx="8102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131056B-3AD8-4F9E-9E6E-19634C6627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4954680" y="1403280"/>
            <a:ext cx="35193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competitive market, what is the equilibrium price and quantity?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monopolist, what is the equilibrium price and quant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2" descr="ftp://ftp.eppg.com/Sayre%20Micro%20images/Chapter%2010/SAYRE-MICRO-10-p316.jpg"/>
          <p:cNvPicPr/>
          <p:nvPr/>
        </p:nvPicPr>
        <p:blipFill>
          <a:blip r:embed="rId1"/>
          <a:stretch/>
        </p:blipFill>
        <p:spPr>
          <a:xfrm>
            <a:off x="382680" y="1468440"/>
            <a:ext cx="4471920" cy="437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8682233-BBCF-419B-80DE-785D86F38F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4954680" y="1403280"/>
            <a:ext cx="35193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competitive market, what is the equilibrium price and quantity?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monopolist, what is the equilibrium price and quant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10"/>
          <p:cNvSpPr/>
          <p:nvPr/>
        </p:nvSpPr>
        <p:spPr>
          <a:xfrm>
            <a:off x="5040360" y="2793960"/>
            <a:ext cx="358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Price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$3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; Quantity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3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2" descr="ftp://ftp.eppg.com/Sayre%20Micro%20images/Chapter%2010/SAYRE-MICRO-10-p316.jpg"/>
          <p:cNvPicPr/>
          <p:nvPr/>
        </p:nvPicPr>
        <p:blipFill>
          <a:blip r:embed="rId1"/>
          <a:stretch/>
        </p:blipFill>
        <p:spPr>
          <a:xfrm>
            <a:off x="382680" y="1468440"/>
            <a:ext cx="4471920" cy="4375080"/>
          </a:xfrm>
          <a:prstGeom prst="rect">
            <a:avLst/>
          </a:prstGeom>
          <a:ln w="0">
            <a:noFill/>
          </a:ln>
        </p:spPr>
      </p:pic>
      <p:sp>
        <p:nvSpPr>
          <p:cNvPr id="586" name="Straight Connector 9"/>
          <p:cNvSpPr/>
          <p:nvPr/>
        </p:nvSpPr>
        <p:spPr>
          <a:xfrm>
            <a:off x="1084320" y="1935000"/>
            <a:ext cx="1711440" cy="331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traight Connector 13"/>
          <p:cNvSpPr/>
          <p:nvPr/>
        </p:nvSpPr>
        <p:spPr>
          <a:xfrm flipV="1">
            <a:off x="2179800" y="2828880"/>
            <a:ext cx="0" cy="12542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14"/>
          <p:cNvSpPr/>
          <p:nvPr/>
        </p:nvSpPr>
        <p:spPr>
          <a:xfrm>
            <a:off x="2093760" y="2732040"/>
            <a:ext cx="181080" cy="18108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5"/>
          <p:cNvSpPr/>
          <p:nvPr/>
        </p:nvSpPr>
        <p:spPr>
          <a:xfrm>
            <a:off x="5049720" y="4846680"/>
            <a:ext cx="35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Price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$4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; Quantity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16"/>
          <p:cNvSpPr/>
          <p:nvPr/>
        </p:nvSpPr>
        <p:spPr>
          <a:xfrm>
            <a:off x="2714760" y="3341520"/>
            <a:ext cx="180720" cy="18108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capture large economies of scale in produc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engage in extensive research and development into new techniques of production and new product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attract high-quality staff by offering relatively high wages and good working condition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42FE437-E71D-47D4-A39E-C6AD9AC377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fence of Monopol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le producer who is able to produce at a lower cost than competing firms coul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ually in a market with large economies of sca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B424E5F-CD6D-491C-812E-7B6A340076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Natural 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2C2620A-A526-4303-A4E6-B2B4529589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2" descr="ftp://ftp.eppg.com/Sayre%20Micro%20images/Chapter%2010/SAYRE-MICRO-10-F10-9.jpg"/>
          <p:cNvPicPr/>
          <p:nvPr/>
        </p:nvPicPr>
        <p:blipFill>
          <a:blip r:embed="rId1"/>
          <a:srcRect l="0" t="0" r="27406" b="0"/>
          <a:stretch/>
        </p:blipFill>
        <p:spPr>
          <a:xfrm>
            <a:off x="0" y="638280"/>
            <a:ext cx="9144000" cy="542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s or services regarded as essential and therefore usually provided by governmen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on may well be costly and wasteful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AF8DFF4-6B20-4103-AD3C-CD5F82009A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ublic Utilit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F452940-4CFD-4C01-902F-D712401A3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5221440" y="1424160"/>
            <a:ext cx="3517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posite, suppose there are two competing rail companies, each with 50 % of the market. What would be the profit or loss for each if they both charged $1.50? 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2" descr="ftp://ftp.eppg.com/Sayre%20Micro%20images/Chapter%2010/SAYRE-MICRO-10-F10-9.jpg"/>
          <p:cNvPicPr/>
          <p:nvPr/>
        </p:nvPicPr>
        <p:blipFill>
          <a:blip r:embed="rId1"/>
          <a:srcRect l="10216" t="13536" r="38042" b="0"/>
          <a:stretch/>
        </p:blipFill>
        <p:spPr>
          <a:xfrm>
            <a:off x="201600" y="1222200"/>
            <a:ext cx="4937040" cy="355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568477E-2FF2-428C-BDEB-68D02D3A54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5221440" y="1424160"/>
            <a:ext cx="3517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posite, suppose there are two competing rail companies, each with 50 % of the market. What would be the profit or loss for each if they both charged $1.50? 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0"/>
          <p:cNvSpPr/>
          <p:nvPr/>
        </p:nvSpPr>
        <p:spPr>
          <a:xfrm>
            <a:off x="584280" y="4854600"/>
            <a:ext cx="819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t $1.50 the quantity demanded is 100 000, or 50 000 each.  The average cost of servicing 50 000 riders is $2.50.  This means that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ach company would lose $1.00 for each fare, for a total loss of $50 00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per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2" descr="ftp://ftp.eppg.com/Sayre%20Micro%20images/Chapter%2010/SAYRE-MICRO-10-F10-9.jpg"/>
          <p:cNvPicPr/>
          <p:nvPr/>
        </p:nvPicPr>
        <p:blipFill>
          <a:blip r:embed="rId1"/>
          <a:srcRect l="10216" t="13536" r="38042" b="0"/>
          <a:stretch/>
        </p:blipFill>
        <p:spPr>
          <a:xfrm>
            <a:off x="201600" y="1222200"/>
            <a:ext cx="4937040" cy="355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option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xing the monopoli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ment price setting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tion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0EFC93B-9AC9-44DD-9AA7-C87586A32E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Government Contro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onopol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arket in which a single firm (the monopolist) is the sole produc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ected from new competitors by barriers to entr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Barriers to Entr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stacles that make it difficult for new participants to enter a mark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73044E2-CC43-4811-9BBE-60DE350DC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ump sum Profits Tax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fects fixed cost but not variable cos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average cost but marginal cost is unaffec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put and price levels are unaffec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profit (due to higher costs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5CF1824-A198-4AB2-8EDB-6B7803F83F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axing the Monopoli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F420CDB-20D4-4702-945B-4569FA4803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4" descr="ftp://ftp.eppg.com/Sayre%20Micro%20images/Chapter%2010/SAYRE-MICRO-10-F10-10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0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57200" y="1679400"/>
            <a:ext cx="8229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onopoly Sales Tax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x on each unit sol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marginal co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 maximizing point shif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 of the tax is shifted to consumer in the form of higher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quantity is produc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st’s profit is reduc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48AF56F-DE66-4D8D-A044-3DFA3B7E76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axing the Monopoli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8F8765E-9611-4211-A70B-2FB261D7D8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2" descr="ftp://ftp.eppg.com/Sayre%20Micro%20images/Chapter%2010/SAYRE-MICRO-10-F10-11.jpg"/>
          <p:cNvPicPr/>
          <p:nvPr/>
        </p:nvPicPr>
        <p:blipFill>
          <a:blip r:embed="rId1"/>
          <a:stretch/>
        </p:blipFill>
        <p:spPr>
          <a:xfrm>
            <a:off x="0" y="1116000"/>
            <a:ext cx="9144000" cy="47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ocially Optimum Pr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ice that produces the best allocation of products (and therefore resources) from society’s point of view, that is, P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Fair-Return Pr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ce that guarantees that the firm will earn normal profits only, that is, where P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EAC0603-EDB0-4D7C-BF75-2AFC0EEB73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Government Price Setting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7CCF4DC-A5C6-407C-A492-C9ED8CEE61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ftp://ftp.eppg.com/Sayre%20Micro%20images/Chapter%2010/SAYRE-MICRO-10-F10-12.jpg"/>
          <p:cNvPicPr/>
          <p:nvPr/>
        </p:nvPicPr>
        <p:blipFill>
          <a:blip r:embed="rId1"/>
          <a:stretch/>
        </p:blipFill>
        <p:spPr>
          <a:xfrm>
            <a:off x="0" y="693720"/>
            <a:ext cx="8920080" cy="558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8BC4B9E-7054-41A6-948D-05886A89E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584280" y="1424160"/>
            <a:ext cx="3700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aph, in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is unregulat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the socially optimum pri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fair-retur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2" descr="ftp://ftp.eppg.com/Sayre%20Micro%20images/Chapter%2010/SAYRE-MICRO-10-p323.jpg"/>
          <p:cNvPicPr/>
          <p:nvPr/>
        </p:nvPicPr>
        <p:blipFill>
          <a:blip r:embed="rId1"/>
          <a:stretch/>
        </p:blipFill>
        <p:spPr>
          <a:xfrm>
            <a:off x="4221000" y="1604880"/>
            <a:ext cx="468000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247775D-50A6-43B1-AA94-CF5725158D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584280" y="1424160"/>
            <a:ext cx="3700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aph, in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is unregulat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the socially optimum pri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fair-retur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2" descr="MicroAK1_ST3"/>
          <p:cNvPicPr/>
          <p:nvPr/>
        </p:nvPicPr>
        <p:blipFill>
          <a:blip r:embed="rId1"/>
          <a:stretch/>
        </p:blipFill>
        <p:spPr>
          <a:xfrm>
            <a:off x="4125960" y="1573200"/>
            <a:ext cx="4592520" cy="346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7DA88481-D213-4A56-BFFE-39C09F6A82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ypes of barriers to entr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 maximization for a monopolis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iticisms of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ences of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ys that governments can control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955880"/>
            <a:ext cx="803736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echnical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uch as sole ownership of a resour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gal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uch as public franchise, licences, patents, and copyrigh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conomic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aused by economies of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A7DD7A3-D0E7-42A2-BA7A-36CBD5795D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arriers to Entr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E430409-0A55-4344-8B2E-045E681600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882720" y="1488960"/>
            <a:ext cx="73785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to the following industries is very difficult. What type of barrier to entry is involv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operating syst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aircraft manufactur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coast wild salmon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31C08F2-2E49-4882-9775-DC7DB441FA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882720" y="1488960"/>
            <a:ext cx="73785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to the following industries is very difficult. What type of barrier to entry is involv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operating syst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aircraft manufactur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coast wild salmon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1839960" y="296712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echnical barrier (sole ownership of a resour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8"/>
          <p:cNvSpPr/>
          <p:nvPr/>
        </p:nvSpPr>
        <p:spPr>
          <a:xfrm>
            <a:off x="1843200" y="368316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conomic barrier (economies of sca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11"/>
          <p:cNvSpPr/>
          <p:nvPr/>
        </p:nvSpPr>
        <p:spPr>
          <a:xfrm>
            <a:off x="1822320" y="441648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legal barrier (licence fee requ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57200" y="172260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le to set price rather than having to accept the market-determined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set either price or quantity sold, but not both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the monopolist is the industry, it faces the market demand for the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mand is a downward-sloping curv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decrease the price in order to sell m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B5819B2-6742-4BB5-81F9-8FF23574E5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F2CEABF-CC79-4CA8-803F-22C1E006AB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2" descr="ftp://ftp.eppg.com/Sayre%20Micro%20images/Chapter%2010/SAYRE-MICRO-10-T10-1.jpg"/>
          <p:cNvPicPr/>
          <p:nvPr/>
        </p:nvPicPr>
        <p:blipFill>
          <a:blip r:embed="rId1"/>
          <a:stretch/>
        </p:blipFill>
        <p:spPr>
          <a:xfrm>
            <a:off x="0" y="696960"/>
            <a:ext cx="9144000" cy="406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7:25Z</dcterms:modified>
  <cp:revision>313</cp:revision>
  <dc:subject/>
  <dc:title>Slide 1</dc:title>
</cp:coreProperties>
</file>