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74CB-5D0A-480C-9759-91CE82423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6D00-6D46-4D17-8E87-56848978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2FADB6-6A14-4BBB-8366-ED88A6BE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F0DA69-98F3-4DB5-AD79-8B9C38F5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2DD926-1529-4A1B-ADE0-75C070A6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009787-BC6B-4E4E-8510-C045A652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6CDE02-F4AE-4640-81D1-CD8A2DAA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6678B0-B578-4514-973E-D80BD0E5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96D1C4-5843-4B88-AE9B-1272979B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5C8BA9-686D-4A56-AE6B-470A3479F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4F361D-8BF5-4102-9B75-C8900F509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694E44-DECA-4212-B88F-148677DE4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6B6C-F81F-4BEA-AC32-271504583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CECAC0-D425-43C8-965B-B75CEAF5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1B5688-D9A0-42D5-AA2E-923B3BE9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5D2730-0A91-48B1-941B-DEECF816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970C81-DF8B-40F9-BB0F-8D2FDD66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771F44-AE49-4285-9DBE-97EF400D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36139E-396E-4ED9-B5E3-EF29A214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6706B6-B5D0-491B-8692-82599D3D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602353-8477-477C-9B0F-D61FD97E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F40F97-1CD2-41EF-BA41-CBCE6CEE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DBBD0D-0323-4143-8F1D-6411BC9E0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B080-BC20-4A27-8876-EED53C55F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882E82-8F4D-480D-9989-64FE5AB0C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D8AD-555B-4EF6-9BFD-6021E7AE7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F09C-F9C4-47D0-90BA-C483138C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1145-C2A9-4A5C-8FEA-ADD46B8F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F22F-9087-481E-818E-E4131A82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0673-FB5F-452A-85EA-48A82446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271E-1A3D-43A8-90DC-01080855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AB43-EB8D-431C-AFD5-E47F38F5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EAFE-6C07-4B5F-8BE4-A63DBC14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BE7D-123D-45EB-8F41-2199CFC3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C60B-83D5-449A-88D6-60D9AA53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715A-5CC2-4D4E-A4E3-2A221CFB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AE08-D09E-4043-B942-2ADC9E0C7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5439-9F18-4697-AF0E-6AD358344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0421E-5690-4798-9A48-D8750088D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012B9-B7B6-496D-9C44-93C1E355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32BF0-DB90-48A9-B98B-C8150219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3655A-4C34-4FF8-ADAA-B6A814E2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8DFAA-5140-4619-9232-5D1CFB1C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EEA0-0B78-4522-BA7A-4F032572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D0F39-69FF-46A1-AD72-0A9F5A1E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E6EC1-1FF5-4A3A-9C54-FD775524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0BD1F-50DD-4517-8E96-4425C333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D006D-44DC-4C50-AD71-21C7D5D6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0D1C6-C56A-4D8E-905E-FD030FE1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1D011-0580-4A7A-B1AB-6626BBCC0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E56AA-DE1B-44DB-9E29-B0A359DAE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C8DED-A1DD-49F2-976E-2D315D8BC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B7240-707C-4A16-A82E-75D98000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6C9AC-06C6-442B-81C2-B29C9359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FE2C-E594-402A-9226-29B9F19B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A32D9-8990-450C-A52F-A445D8AE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EC968-9580-45D8-9B1A-7976200C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137E2-B5FC-4A9F-A9B4-B911A01F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3687D-C298-496B-AC02-A0EC69BF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3C209-B277-4DEC-81F0-41B4A80E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12672-D3CD-45A4-A372-C5140B12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3246B-9455-4213-A971-CCB641AE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1D66A-E2E7-42CB-89A6-5D84F9816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E2994-2F32-4915-9AB4-2536EECAA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DCA31-25A3-4A52-B823-BFD4199F9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638F-B59A-4C5A-BBAE-02A4A01F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CFF2B-837F-44AC-8F89-2AD850E4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1D188-2342-4325-ACFE-3D735CAB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E4201-FB0E-4718-AA95-B25C753A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453A4-E154-4AB4-BE40-F8D5D9BA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1DF35-3E7C-4824-A014-EFE0FBC0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FC789-ADA7-4833-BEFC-A9507CDB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87C48-64D9-4D0D-BAC9-DC38816B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0830C-8F5E-4035-AAD3-35D50310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4D4C5-74DD-4A26-B1F7-B1A5D4BC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42975-5DA6-431C-8016-2F72E6FB8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889A-791D-4873-B11C-C8518356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B88AE-DCF1-4076-B467-73F2941D2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59125C-BCD8-466F-BE9F-53D9F8B4977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8C7704-1767-4F81-A4A9-53DD1A2C219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6BA062-4F8E-473F-BDA5-CC637514DEE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E816C0-0F45-47FB-A590-8729611008E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000087-C1B8-42A7-B8B7-BD10B306945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4BBEF9-82FA-4391-A423-61799A7C1FB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C9114B-9029-486C-9D64-DBC452D0EC6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5C004B-55C1-49C1-97AB-8A7B4508C98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4D86D8-9E65-447B-A6D0-C0A0BCB793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19E8-D052-4ED8-B00F-C3C77F8A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54F836-F7F6-411A-80E0-17773815E36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45AEED-17B3-4EEA-9B89-9ACC7D967C8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89E104-F6AD-4420-B6D7-ED936523F70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491CBE-3566-4AF0-843A-B5EF02C3C3C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E050C4-DF91-4425-9535-D47079B9EB4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1A2957-24BE-42FC-8D56-87B70E16A47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D6C164-37A7-4781-BD28-3F6470C8F75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F2908A-AC9F-47E8-9D8F-21F2AEAFA3D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E8266D-CB84-4BE2-8636-42733D5F717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8AEE0F-0A9E-403C-B9BC-2A7553AEC6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4DED-630A-4ABA-8585-4E4765A0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6AAF99-99D9-44C9-8566-AF0116502E1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FB9281-7367-4E00-A288-66E3EACBF9E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F65611-79BF-418C-B4C1-3700EBC6F4E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A1B3E2-897D-4BBF-935A-A59D4F4EFC5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514A5B-D942-411C-8EF4-D4DF1CD400F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8ED76F-EEAE-4614-82FB-4B6D4E85C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064AAF-95F7-42CC-8515-72DA1EE3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C6A6CF-30CB-4D2C-99F7-DD1EDAC7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11B500-E309-4DF6-B2FC-5182B088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695E35-4127-496B-9587-5845F620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1F57-D1BD-4553-AD87-C1C9C588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BB5D2C-AF63-4EDC-AB94-5AFE220B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F96F50-20B9-4748-8655-C1AE844B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FF6FBC-AE03-46B0-B039-60FDCD26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211D4F-C637-42A6-AFCD-26A66861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735507-F9D9-4E0D-BAC8-D1685B5C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9859A4-E328-4462-B43A-65D3B066B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0857D6-1DBE-48F7-87C2-769E300FE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878E5E-D073-4F4D-A481-510271CC4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C462BA-26F2-4A52-9ADE-6B898257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DE02F1-0365-41C1-B637-07295356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25E24750-2E26-49A0-96F8-663A31375A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468360" y="239220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arning Objec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7CD4E86F-DB29-4CD5-ADC6-966E3715C2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BA1BB6FF-AE02-483D-9643-F8C394E7FD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77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55186AC-2E2A-40F5-BD7C-EE7D818AEA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ED0A5C1-2D5B-4C02-B4FF-5C7BF6715B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2C8C9FB-CDC8-4C83-8FBD-037CC53CC9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6648357-180D-4757-9650-9AB14120EC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8B05052-5E3F-4B7E-BAFB-6E11E4736D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285720"/>
            <a:ext cx="7772400" cy="21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77933c"/>
                </a:solidFill>
                <a:latin typeface="Kalinga"/>
                <a:ea typeface="Kalinga"/>
              </a:rPr>
              <a:t>Monopoly</a:t>
            </a:r>
            <a:endParaRPr b="0" lang="en-US" sz="6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371600" y="28177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10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85C9AA9F-8DCF-48E4-901A-9BBF1FDF2A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2" descr="ftp://ftp.eppg.com/Sayre%20Micro%20images/Chapter%2010/SAYRE-MICRO-10-F10-1.jpg"/>
          <p:cNvPicPr/>
          <p:nvPr/>
        </p:nvPicPr>
        <p:blipFill>
          <a:blip r:embed="rId1"/>
          <a:stretch/>
        </p:blipFill>
        <p:spPr>
          <a:xfrm>
            <a:off x="0" y="824040"/>
            <a:ext cx="9144000" cy="35622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446040" y="4678200"/>
            <a:ext cx="802800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 order to increase sales, a monopolist is forced to reduce price not just on the last units sold, but on the whole of its outp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Picture 2" descr="ftp://ftp.eppg.com/Sayre%20Micro%20images/Chapter%2010/SAYRE-MICRO-10-F10-2.jpg"/>
          <p:cNvPicPr/>
          <p:nvPr/>
        </p:nvPicPr>
        <p:blipFill>
          <a:blip r:embed="rId1"/>
          <a:stretch/>
        </p:blipFill>
        <p:spPr>
          <a:xfrm>
            <a:off x="439560" y="0"/>
            <a:ext cx="80362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457200" y="1722600"/>
            <a:ext cx="82296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revenue is maximized when the marginal revenue is zero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monopolist will produce only where the demand is elastic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28FFF35A-47B2-44EC-B860-51EAEE16C9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onopo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DAD8B067-6ECF-4FB4-951F-8C217A0447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882720" y="1233360"/>
            <a:ext cx="7378560" cy="51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a monopolist was charging a price of $50 for its product and was selling 15 units. It has now lowered its price to $48 and is selling 16 units. What is the marginal revenue? What is the price elasticity of demand over this price range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9D879269-D122-49DD-B7AF-FA234CEEE2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882720" y="1244520"/>
            <a:ext cx="7378560" cy="51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a monopolist was charging a price of $50 for its product and was selling 15 units. It has now lowered its price to $48 and is selling 16 units. What is the marginal revenue? What is the price elasticity of demand over this price range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Box 10"/>
          <p:cNvSpPr/>
          <p:nvPr/>
        </p:nvSpPr>
        <p:spPr>
          <a:xfrm>
            <a:off x="925560" y="3252960"/>
            <a:ext cx="715464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Marginal revenue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:  $18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otal revenue at a price of $50 is $750 (15 x $50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otal revenue at a price of $48 is $768 (16 x $48) </a:t>
            </a:r>
            <a:br>
              <a:rPr sz="2400"/>
            </a:b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he extra unit produces extra total revenue of </a:t>
            </a:r>
            <a:br>
              <a:rPr sz="2400"/>
            </a:b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$18 ($768 – $750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Elasticity: e   =  </a:t>
            </a:r>
            <a:r>
              <a:rPr b="0" i="1" lang="en-GB" sz="2200" spc="-1" strike="noStrike" u="sng">
                <a:solidFill>
                  <a:srgbClr val="ff0000"/>
                </a:solidFill>
                <a:uFillTx/>
                <a:latin typeface="Times New Roman"/>
              </a:rPr>
              <a:t> % D Q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=   </a:t>
            </a:r>
            <a:r>
              <a:rPr b="0" i="1" lang="en-GB" sz="2200" spc="-1" strike="noStrike" u="sng">
                <a:solidFill>
                  <a:srgbClr val="ff0000"/>
                </a:solidFill>
                <a:uFillTx/>
                <a:latin typeface="Times New Roman"/>
              </a:rPr>
              <a:t> 1/15.5 x 100 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=  </a:t>
            </a:r>
            <a:r>
              <a:rPr b="0" i="1" lang="en-GB" sz="2200" spc="-1" strike="noStrike" u="sng">
                <a:solidFill>
                  <a:srgbClr val="ff0000"/>
                </a:solidFill>
                <a:uFillTx/>
                <a:latin typeface="Times New Roman"/>
              </a:rPr>
              <a:t> 6.5%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 =   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1.59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% D P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      2/49   x 100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      4.1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457200" y="1595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otal Revenue Approach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aximum profit is where the difference between total revenue (TR) and total cost (TC) is greatest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he maximum profit point is shown on the total profit curve, where it occurs at the highest point.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he maximum profit point also occurs where the slope of TR (same as MR) equals the slope of TC (same as MC)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he break-even points occur where total revenue and cost are the same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199307F7-DBB5-4837-90EB-90F7E4BDCF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ximizing Profi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2" descr="ftp://ftp.eppg.com/Sayre%20Micro%20images/Chapter%2010/SAYRE-MICRO-10-T10-2.jp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4173480"/>
          </a:xfrm>
          <a:prstGeom prst="rect">
            <a:avLst/>
          </a:prstGeom>
          <a:ln w="0">
            <a:noFill/>
          </a:ln>
        </p:spPr>
      </p:pic>
      <p:sp>
        <p:nvSpPr>
          <p:cNvPr id="5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98DBCFE6-A30F-4ABA-B992-CC5C2E750F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Picture 2" descr="ftp://ftp.eppg.com/Sayre%20Micro%20images/Chapter%2010/SAYRE-MICRO-10-F10-3.jpg"/>
          <p:cNvPicPr/>
          <p:nvPr/>
        </p:nvPicPr>
        <p:blipFill>
          <a:blip r:embed="rId1"/>
          <a:stretch/>
        </p:blipFill>
        <p:spPr>
          <a:xfrm>
            <a:off x="0" y="414360"/>
            <a:ext cx="9144000" cy="6534000"/>
          </a:xfrm>
          <a:prstGeom prst="rect">
            <a:avLst/>
          </a:prstGeom>
          <a:ln w="0">
            <a:noFill/>
          </a:ln>
        </p:spPr>
      </p:pic>
      <p:sp>
        <p:nvSpPr>
          <p:cNvPr id="5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C8DF59CA-7142-4F00-8F80-749753D601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457200" y="1604520"/>
            <a:ext cx="822960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Revenue Approach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fits are maximized (or losses minimized) at an output where M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C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me profit maximization rule as perfectly competitive firm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4ED06E5C-6C0B-4709-81F8-AA626D709C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ximizing Profi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B332D97C-5B5F-4EFF-86A2-438EA53615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Picture 2" descr="ftp://ftp.eppg.com/Sayre%20Micro%20images/Chapter%2010/SAYRE-MICRO-10-T10-3.jpg"/>
          <p:cNvPicPr/>
          <p:nvPr/>
        </p:nvPicPr>
        <p:blipFill>
          <a:blip r:embed="rId1"/>
          <a:stretch/>
        </p:blipFill>
        <p:spPr>
          <a:xfrm>
            <a:off x="0" y="676440"/>
            <a:ext cx="9144000" cy="4597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Monopoly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3030480"/>
            <a:ext cx="838188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LO1:  Define a monopoly, explain how they come into existence and why they must reduce their prices to sell more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LO2:  Understand how the profit-maximizing output and price are determined for a monopolist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LO3:  Explain five grounds on which monopolies can be criticized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LO4:  Explain the significant difference between monopoly and perfect competition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0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FB57F871-DF1F-4507-9747-98452CC438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E2F41130-55C3-458A-905F-84809CEE62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Picture 2" descr="ftp://ftp.eppg.com/Sayre%20Micro%20images/Chapter%2010/SAYRE-MICRO-10-F10-4.jpg"/>
          <p:cNvPicPr/>
          <p:nvPr/>
        </p:nvPicPr>
        <p:blipFill>
          <a:blip r:embed="rId1"/>
          <a:stretch/>
        </p:blipFill>
        <p:spPr>
          <a:xfrm>
            <a:off x="0" y="1100160"/>
            <a:ext cx="9144000" cy="4152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457200" y="1978200"/>
            <a:ext cx="8229600" cy="41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nopolists are not always profitab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pends on costs – if AC curve is higher than the demand curve at all output levels, will have a los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minimize loss using the profit maximization ru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3FC28095-43B2-4AE8-85E5-0DB892F728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inimizing Loss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A9A93D09-8A91-4EE9-8AA2-CDA20633BF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Picture 2" descr="ftp://ftp.eppg.com/Sayre%20Micro%20images/Chapter%2010/SAYRE-MICRO-10-F10-5.jpg"/>
          <p:cNvPicPr/>
          <p:nvPr/>
        </p:nvPicPr>
        <p:blipFill>
          <a:blip r:embed="rId1"/>
          <a:stretch/>
        </p:blipFill>
        <p:spPr>
          <a:xfrm>
            <a:off x="0" y="1022400"/>
            <a:ext cx="9144000" cy="405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92D7A60C-0EAD-413B-8711-DC52D209C0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882720" y="1212840"/>
            <a:ext cx="737856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the following table and indicate the break-even outputs and the profit maximizing output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861840" y="2087640"/>
          <a:ext cx="7569360" cy="3462120"/>
        </p:xfrm>
        <a:graphic>
          <a:graphicData uri="http://schemas.openxmlformats.org/drawingml/2006/table">
            <a:tbl>
              <a:tblPr/>
              <a:tblGrid>
                <a:gridCol w="1079640"/>
                <a:gridCol w="1222560"/>
                <a:gridCol w="1963440"/>
                <a:gridCol w="1704960"/>
                <a:gridCol w="1598760"/>
              </a:tblGrid>
              <a:tr h="57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rice (=A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Revenue (T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Costs (T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Profit (Tπ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$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$20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4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5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97159D0A-0D22-43FD-97AA-E36E3B0D1F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882720" y="1212840"/>
            <a:ext cx="737856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the following table and indicate the break-even outputs and the profit maximizing output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Box 10"/>
          <p:cNvSpPr/>
          <p:nvPr/>
        </p:nvSpPr>
        <p:spPr>
          <a:xfrm>
            <a:off x="914400" y="5572080"/>
            <a:ext cx="71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reak-even (TR=TC) occur a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7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.  </a:t>
            </a:r>
            <a:br>
              <a:rPr sz="2400"/>
            </a:b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rofit-maximizing output occurs at an output of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861840" y="2087640"/>
          <a:ext cx="7569360" cy="3462120"/>
        </p:xfrm>
        <a:graphic>
          <a:graphicData uri="http://schemas.openxmlformats.org/drawingml/2006/table">
            <a:tbl>
              <a:tblPr/>
              <a:tblGrid>
                <a:gridCol w="1079640"/>
                <a:gridCol w="1222560"/>
                <a:gridCol w="1963440"/>
                <a:gridCol w="1704960"/>
                <a:gridCol w="1598760"/>
              </a:tblGrid>
              <a:tr h="57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rice (=A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Revenue (T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Costs (T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Profit (Tπ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$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$20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‑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0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‑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1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2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3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4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‑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3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5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‑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457200" y="1978200"/>
            <a:ext cx="8229600" cy="41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le to make economic profits indefinitel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e both productively and allocatively inefficien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e less and charge a higher price than a competitive industr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reating a more unequal distribution of income and wealth within societ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ing their power to practice price discrimina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E3A546EF-679E-40A6-B44F-9DEF3AB629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riticisms of Monopoli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7C1C2C9D-0CE9-4981-9D0B-69C4067905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882720" y="1212840"/>
            <a:ext cx="7378560" cy="52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following table shows the demand for haircuts: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is was a single-price barber, what would be the total revenue for six haircuts?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is barber was able to practice perfect price discrimination by charging each customer the maximum they would pay, what would be the total revenue for six haircuts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2519280" y="1662120"/>
          <a:ext cx="4105440" cy="2495520"/>
        </p:xfrm>
        <a:graphic>
          <a:graphicData uri="http://schemas.openxmlformats.org/drawingml/2006/table">
            <a:tbl>
              <a:tblPr/>
              <a:tblGrid>
                <a:gridCol w="1970280"/>
                <a:gridCol w="2135160"/>
              </a:tblGrid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C3537C74-3B7D-45C6-9C81-0F2BF45B6B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3"/>
          <p:cNvSpPr/>
          <p:nvPr/>
        </p:nvSpPr>
        <p:spPr>
          <a:xfrm>
            <a:off x="882720" y="1212840"/>
            <a:ext cx="7378560" cy="52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following table shows the demand for haircuts: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is was a single-price barber, what would be the total revenue for six haircuts?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is barber was able to practice perfect price discrimination by charging each customer the maximum they would pay, what would be the total revenue for six haircuts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Box 10"/>
          <p:cNvSpPr/>
          <p:nvPr/>
        </p:nvSpPr>
        <p:spPr>
          <a:xfrm>
            <a:off x="3827520" y="4538520"/>
            <a:ext cx="405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TR $90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($15 x 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2519280" y="1662120"/>
          <a:ext cx="4105440" cy="2495520"/>
        </p:xfrm>
        <a:graphic>
          <a:graphicData uri="http://schemas.openxmlformats.org/drawingml/2006/table">
            <a:tbl>
              <a:tblPr/>
              <a:tblGrid>
                <a:gridCol w="1970280"/>
                <a:gridCol w="2135160"/>
              </a:tblGrid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TextBox 8"/>
          <p:cNvSpPr/>
          <p:nvPr/>
        </p:nvSpPr>
        <p:spPr>
          <a:xfrm>
            <a:off x="1268280" y="5902200"/>
            <a:ext cx="631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TR $105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 ($20 + $19 + $18 + $17 + $16 + $1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457200" y="1978200"/>
            <a:ext cx="8229600" cy="41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nopolies charge higher prices than perfectly competitive firm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nopolies produce lower outputs than perfectly competitive firms and these outputs are below economic capacity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nopolies, unlike perfectly competitive firms, may make economic profits in the short run and in the long run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6FBADA15-3D64-4A58-9759-08E49C98C6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4604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Perfect Competition v Monopoly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A0F5AE6F-808E-4122-AEBF-68A3959D00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2" descr="ftp://ftp.eppg.com/Sayre%20Micro%20images/Chapter%2010/SAYRE-MICRO-10-F10-7.jpg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432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Monopoly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3030480"/>
            <a:ext cx="838188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LO5:  Explain three grounds on which monopolies can be defended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LO6:  Discuss ways that governments can change the behaviour of monopolies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0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FC0D5EE3-5AF2-4CBD-B42E-9795DC2CA7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652BB2AC-19A5-431B-9951-D269C01349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2" descr="ftp://ftp.eppg.com/Sayre%20Micro%20images/Chapter%2010/SAYRE-MICRO-10-F10-8.jpg"/>
          <p:cNvPicPr/>
          <p:nvPr/>
        </p:nvPicPr>
        <p:blipFill>
          <a:blip r:embed="rId1"/>
          <a:stretch/>
        </p:blipFill>
        <p:spPr>
          <a:xfrm>
            <a:off x="0" y="0"/>
            <a:ext cx="81025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7672C8D5-8BFB-45AD-A4FC-C97780761A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4954680" y="1403280"/>
            <a:ext cx="3519360" cy="50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graph opposite depicts a competitive market, what is the equilibrium price and quantity? 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graph opposite depicts a monopolist, what is the equilibrium price and quantit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Picture 2" descr="ftp://ftp.eppg.com/Sayre%20Micro%20images/Chapter%2010/SAYRE-MICRO-10-p316.jpg"/>
          <p:cNvPicPr/>
          <p:nvPr/>
        </p:nvPicPr>
        <p:blipFill>
          <a:blip r:embed="rId1"/>
          <a:stretch/>
        </p:blipFill>
        <p:spPr>
          <a:xfrm>
            <a:off x="382680" y="1468440"/>
            <a:ext cx="4471920" cy="437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B28B40FB-6619-4ED0-9953-C09493E533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4954680" y="1403280"/>
            <a:ext cx="3519360" cy="50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graph opposite depicts a competitive market, what is the equilibrium price and quantity? 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graph opposite depicts a monopolist, what is the equilibrium price and quantit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Box 10"/>
          <p:cNvSpPr/>
          <p:nvPr/>
        </p:nvSpPr>
        <p:spPr>
          <a:xfrm>
            <a:off x="5040360" y="2793960"/>
            <a:ext cx="358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Price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:  $30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; Quantity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:  3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2" descr="ftp://ftp.eppg.com/Sayre%20Micro%20images/Chapter%2010/SAYRE-MICRO-10-p316.jpg"/>
          <p:cNvPicPr/>
          <p:nvPr/>
        </p:nvPicPr>
        <p:blipFill>
          <a:blip r:embed="rId1"/>
          <a:stretch/>
        </p:blipFill>
        <p:spPr>
          <a:xfrm>
            <a:off x="382680" y="1468440"/>
            <a:ext cx="4471920" cy="4375080"/>
          </a:xfrm>
          <a:prstGeom prst="rect">
            <a:avLst/>
          </a:prstGeom>
          <a:ln w="0">
            <a:noFill/>
          </a:ln>
        </p:spPr>
      </p:pic>
      <p:sp>
        <p:nvSpPr>
          <p:cNvPr id="586" name="Straight Connector 9"/>
          <p:cNvSpPr/>
          <p:nvPr/>
        </p:nvSpPr>
        <p:spPr>
          <a:xfrm>
            <a:off x="1084320" y="1935000"/>
            <a:ext cx="1711440" cy="331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Straight Connector 13"/>
          <p:cNvSpPr/>
          <p:nvPr/>
        </p:nvSpPr>
        <p:spPr>
          <a:xfrm flipV="1">
            <a:off x="2179800" y="2828880"/>
            <a:ext cx="0" cy="125424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14"/>
          <p:cNvSpPr/>
          <p:nvPr/>
        </p:nvSpPr>
        <p:spPr>
          <a:xfrm>
            <a:off x="2093760" y="2732040"/>
            <a:ext cx="181080" cy="181080"/>
          </a:xfrm>
          <a:prstGeom prst="ellipse">
            <a:avLst/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Box 15"/>
          <p:cNvSpPr/>
          <p:nvPr/>
        </p:nvSpPr>
        <p:spPr>
          <a:xfrm>
            <a:off x="5049720" y="4846680"/>
            <a:ext cx="358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Price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:  $40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; Quantity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:  2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16"/>
          <p:cNvSpPr/>
          <p:nvPr/>
        </p:nvSpPr>
        <p:spPr>
          <a:xfrm>
            <a:off x="2714760" y="3341520"/>
            <a:ext cx="180720" cy="181080"/>
          </a:xfrm>
          <a:prstGeom prst="ellipse">
            <a:avLst/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457200" y="1978200"/>
            <a:ext cx="8229600" cy="41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capture large economies of scale in production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engage in extensive research and development into new techniques of production and new product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attract high-quality staff by offering relatively high wages and good working condition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EB20EED8-31AA-4E58-8398-A37BD8E13E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fence of Monopoli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457200" y="1690200"/>
            <a:ext cx="82296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le producer who is able to produce at a lower cost than competing firms coul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ually in a market with large economies of sca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C926614B-F58C-4A4D-9F1F-AD270B279E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Natural Monopo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5B8D66E9-3271-4CFE-82DF-2E936BCDC7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Picture 2" descr="ftp://ftp.eppg.com/Sayre%20Micro%20images/Chapter%2010/SAYRE-MICRO-10-F10-9.jpg"/>
          <p:cNvPicPr/>
          <p:nvPr/>
        </p:nvPicPr>
        <p:blipFill>
          <a:blip r:embed="rId1"/>
          <a:srcRect l="0" t="0" r="27406" b="0"/>
          <a:stretch/>
        </p:blipFill>
        <p:spPr>
          <a:xfrm>
            <a:off x="0" y="638280"/>
            <a:ext cx="9144000" cy="5421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457200" y="1690200"/>
            <a:ext cx="82296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s or services regarded as essential and therefore usually provided by governmen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etition may well be costly and wasteful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65FCEE88-B0BB-4FD9-A9F4-3083B90700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ublic Utiliti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1E7B4CAE-1C74-4020-9F9B-7F52E77331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3"/>
          <p:cNvSpPr/>
          <p:nvPr/>
        </p:nvSpPr>
        <p:spPr>
          <a:xfrm>
            <a:off x="5221440" y="1424160"/>
            <a:ext cx="351792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10.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posite, suppose there are two competing rail companies, each with 50 % of the market. What would be the profit or loss for each if they both charged $1.50? </a:t>
            </a:r>
            <a:br>
              <a:rPr sz="2200"/>
            </a:b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2" descr="ftp://ftp.eppg.com/Sayre%20Micro%20images/Chapter%2010/SAYRE-MICRO-10-F10-9.jpg"/>
          <p:cNvPicPr/>
          <p:nvPr/>
        </p:nvPicPr>
        <p:blipFill>
          <a:blip r:embed="rId1"/>
          <a:srcRect l="10216" t="13536" r="38042" b="0"/>
          <a:stretch/>
        </p:blipFill>
        <p:spPr>
          <a:xfrm>
            <a:off x="201600" y="1222200"/>
            <a:ext cx="4937040" cy="355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BF3DDCA7-827D-4069-A1EC-3E482B1D31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3"/>
          <p:cNvSpPr/>
          <p:nvPr/>
        </p:nvSpPr>
        <p:spPr>
          <a:xfrm>
            <a:off x="5221440" y="1424160"/>
            <a:ext cx="351792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10.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posite, suppose there are two competing rail companies, each with 50 % of the market. What would be the profit or loss for each if they both charged $1.50? </a:t>
            </a:r>
            <a:br>
              <a:rPr sz="2200"/>
            </a:b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10"/>
          <p:cNvSpPr/>
          <p:nvPr/>
        </p:nvSpPr>
        <p:spPr>
          <a:xfrm>
            <a:off x="584280" y="4854600"/>
            <a:ext cx="819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At $1.50 the quantity demanded is 100 000, or 50 000 each.  The average cost of servicing 50 000 riders is $2.50.  This means that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each company would lose $1.00 for each fare, for a total loss of $50 000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per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Picture 2" descr="ftp://ftp.eppg.com/Sayre%20Micro%20images/Chapter%2010/SAYRE-MICRO-10-F10-9.jpg"/>
          <p:cNvPicPr/>
          <p:nvPr/>
        </p:nvPicPr>
        <p:blipFill>
          <a:blip r:embed="rId1"/>
          <a:srcRect l="10216" t="13536" r="38042" b="0"/>
          <a:stretch/>
        </p:blipFill>
        <p:spPr>
          <a:xfrm>
            <a:off x="201600" y="1222200"/>
            <a:ext cx="4937040" cy="355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457200" y="189180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options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xing the monopolis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vernment price setting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ationaliza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620BEB27-2008-4185-9062-6133A1C202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Government Control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7200" y="1595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onopoly 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market in which a single firm (the monopolist) is the sole producer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tected from new competitors by barriers to entry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Barriers to Entry 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bstacles that make it difficult for new participants to enter a marke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933BA36F-B1CC-46A5-B378-823FEC1746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onopo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457200" y="189180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Lump sum Profits Tax: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ffects fixed cost but not variable cos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reases average cost but marginal cost is unaffecte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utput and price levels are unaffecte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wer profit (due to higher costs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81A0DAAD-B404-41F2-8333-3E15128E53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axing the Monopoli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E36B04D7-1092-4C98-93A5-43F89FD629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Picture 4" descr="ftp://ftp.eppg.com/Sayre%20Micro%20images/Chapter%2010/SAYRE-MICRO-10-F10-10.jpg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01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457200" y="1679400"/>
            <a:ext cx="822960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onopoly Sales Tax: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x on each unit sol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reases marginal cos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fit maximizing point shif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rt of the tax is shifted to consumer in the form of higher pric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wer quantity is produce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nopolist’s profit is reduce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A0404A02-9115-4BCB-92E6-648E3DCA87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axing the Monopoli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61D09ADB-7A3E-4DFB-8095-2FBBA6BF15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Picture 2" descr="ftp://ftp.eppg.com/Sayre%20Micro%20images/Chapter%2010/SAYRE-MICRO-10-F10-11.jpg"/>
          <p:cNvPicPr/>
          <p:nvPr/>
        </p:nvPicPr>
        <p:blipFill>
          <a:blip r:embed="rId1"/>
          <a:stretch/>
        </p:blipFill>
        <p:spPr>
          <a:xfrm>
            <a:off x="0" y="1116000"/>
            <a:ext cx="9144000" cy="475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457200" y="1690200"/>
            <a:ext cx="82296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ocially Optimum Pric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price that produces the best allocation of products (and therefore resources) from society’s point of view, that is, P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C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Fair-Return Pric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ce that guarantees that the firm will earn normal profits only, that is, where P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C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C9396B73-7930-47BC-9C84-6B32E3EA01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Government Price Setting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63C4BD5D-2972-42D4-A6E1-F47D061EA8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Picture 2" descr="ftp://ftp.eppg.com/Sayre%20Micro%20images/Chapter%2010/SAYRE-MICRO-10-F10-12.jpg"/>
          <p:cNvPicPr/>
          <p:nvPr/>
        </p:nvPicPr>
        <p:blipFill>
          <a:blip r:embed="rId1"/>
          <a:stretch/>
        </p:blipFill>
        <p:spPr>
          <a:xfrm>
            <a:off x="0" y="693720"/>
            <a:ext cx="8920080" cy="558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0C782136-860E-4EE5-977D-EFF84B9B83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584280" y="1424160"/>
            <a:ext cx="370044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graph, indic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quantity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monopolist is unregulated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quantity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monopolist charges the socially optimum pric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quantity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monopolist charges fair-return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2" descr="ftp://ftp.eppg.com/Sayre%20Micro%20images/Chapter%2010/SAYRE-MICRO-10-p323.jpg"/>
          <p:cNvPicPr/>
          <p:nvPr/>
        </p:nvPicPr>
        <p:blipFill>
          <a:blip r:embed="rId1"/>
          <a:stretch/>
        </p:blipFill>
        <p:spPr>
          <a:xfrm>
            <a:off x="4221000" y="1604880"/>
            <a:ext cx="4680000" cy="345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9072DFE4-D62C-4384-B031-41D42D624E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3"/>
          <p:cNvSpPr/>
          <p:nvPr/>
        </p:nvSpPr>
        <p:spPr>
          <a:xfrm>
            <a:off x="584280" y="1424160"/>
            <a:ext cx="370044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graph, indic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quantity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monopolist is unregulated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quantity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monopolist charges the socially optimum pric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quantity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monopolist charges fair-return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6" name="Picture 2" descr="MicroAK1_ST3"/>
          <p:cNvPicPr/>
          <p:nvPr/>
        </p:nvPicPr>
        <p:blipFill>
          <a:blip r:embed="rId1"/>
          <a:stretch/>
        </p:blipFill>
        <p:spPr>
          <a:xfrm>
            <a:off x="4125960" y="1573200"/>
            <a:ext cx="4592520" cy="346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66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D4DCB200-0BAD-4259-9103-E7AF551EAF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Types of barriers to entry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fit maximization for a monopolis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riticisms of monopoli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fences of monopoli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ays that governments can control monopoli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0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57200" y="1955880"/>
            <a:ext cx="803736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echnical barrier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uch as sole ownership of a resour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gal barrier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uch as public franchise, licences, patents, and copyrigh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conomic barrier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aused by economies of scal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426B6C9C-D59E-4ED6-AE2D-E55EEA2318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Barriers to Entry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47FE4132-4C37-4B08-BA7D-1D9FE544C6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3"/>
          <p:cNvSpPr/>
          <p:nvPr/>
        </p:nvSpPr>
        <p:spPr>
          <a:xfrm>
            <a:off x="882720" y="1488960"/>
            <a:ext cx="737856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y into the following industries is very difficult. What type of barrier to entry is involved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operating system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aircraft manufacturi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st coast wild salmon fi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BCD0015E-27ED-45A9-9616-E4C98C45B2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882720" y="1488960"/>
            <a:ext cx="737856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y into the following industries is very difficult. What type of barrier to entry is involved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operating system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aircraft manufacturi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st coast wild salmon fi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Box 10"/>
          <p:cNvSpPr/>
          <p:nvPr/>
        </p:nvSpPr>
        <p:spPr>
          <a:xfrm>
            <a:off x="1839960" y="2967120"/>
            <a:ext cx="63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echnical barrier (sole ownership of a resourc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Box 8"/>
          <p:cNvSpPr/>
          <p:nvPr/>
        </p:nvSpPr>
        <p:spPr>
          <a:xfrm>
            <a:off x="1843200" y="3683160"/>
            <a:ext cx="63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economic barrier (economies of scal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Box 11"/>
          <p:cNvSpPr/>
          <p:nvPr/>
        </p:nvSpPr>
        <p:spPr>
          <a:xfrm>
            <a:off x="1822320" y="4416480"/>
            <a:ext cx="63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legal barrier (licence fee requi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457200" y="1722600"/>
            <a:ext cx="82296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le to set price rather than having to accept the market-determined pric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set either price or quantity sold, but not both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the monopolist is the industry, it faces the market demand for the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mand is a downward-sloping curv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st decrease the price in order to sell mor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24265AAA-C721-4773-8464-BDBEDC0FFE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onopo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676FA183-4F31-46CB-9231-9F0DDB8ECA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2" descr="ftp://ftp.eppg.com/Sayre%20Micro%20images/Chapter%2010/SAYRE-MICRO-10-T10-1.jpg"/>
          <p:cNvPicPr/>
          <p:nvPr/>
        </p:nvPicPr>
        <p:blipFill>
          <a:blip r:embed="rId1"/>
          <a:stretch/>
        </p:blipFill>
        <p:spPr>
          <a:xfrm>
            <a:off x="0" y="696960"/>
            <a:ext cx="9144000" cy="406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37:25Z</dcterms:modified>
  <cp:revision>313</cp:revision>
  <dc:subject/>
  <dc:title>Slide 1</dc:title>
</cp:coreProperties>
</file>