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10F-5A39-46A8-BB34-856FD3CE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239-EFE0-4D2A-AAC8-34FC419E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1DF5C9-62E9-4A87-A7D1-C0DAA616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37216-7304-491D-9007-A3401276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23BDE-AC91-46A2-8D1A-D08FDC04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9C27A-4D02-4EEA-8B1F-24E6796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E1912-D898-4CDD-9C03-54DDB0B5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521BB-4879-402A-822C-1FB226C5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FC500A-8A20-49B9-9337-3F6962F0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A277B-F0DD-4866-8D11-0CA0097A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540661-CF9A-4436-B287-EB7A9D16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2D902-A197-4059-BE6E-A3542484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F04-B449-49DD-9980-503D87EA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41BE7-E170-4ADB-9790-E972B521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97C5C-A361-4623-A1AF-C54ED893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B9F73-5BBE-4D76-AE12-50F1B6D9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7505A-463B-4588-B578-DB7C3BDD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169DC9-1A4D-4DCE-A7C7-81DFC21C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811BE-A3D2-40DA-B2F0-A2B7EBDB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25EA86-887B-46AB-9258-6A4D83E7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3E84F-D373-4847-89BE-7AE3E908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EB4708-CD8A-43A4-A509-44F4383C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08F758-1853-443A-9A88-5B72AE73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D24-F2A8-4175-B8A1-4BA47B83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6FEF8-CB73-4106-8B8A-47D95E84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1A6F-047C-4DFD-B7F2-ADA234EB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2831-8F91-4291-8703-D762B294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7461-DDFD-46F9-B932-F2162413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4A79-B1B1-4F4F-832D-FE43F76C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D51B-BD2E-4B94-B2EA-F965E449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BBFB-41F0-476E-8843-A4690924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C813-5287-4599-B4BA-4DD37A45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F12-7F54-47FD-B4BB-C2E7D5A2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0B24-6567-4E71-B445-7BB4CE04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78AA-2F3B-4B0E-9D07-69CC3D1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2B1B-882D-4830-9A16-7DEE37E1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F5B6-7321-4BA9-A6D4-A1068120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EA6A-3DE2-4534-B788-6BA1E685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4CCF-4BA2-454A-A884-D8F482AA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3280-E062-4EAA-BDE5-1E48FE9E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70CCC-F198-45F3-8401-A2DFBC52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1E55-BB5E-4223-9DAD-806F9042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4182-3FCA-44C3-814A-423E61A4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2B6E-625B-42E5-BDBB-B349013D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5D6E-CBE6-46B8-ACC4-D836A53F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3900-C486-45B7-9218-65F12D94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9161-3191-4393-9EB5-C9811C5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63F7-B7FB-4166-A32F-64691831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7F34-9FBD-491F-8240-EA757D7E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3812-4CA2-4B5D-AFD2-8E3A58E0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FF8C2-7EA2-4EF4-9C04-EFB1344D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F3E4-782F-4C26-BC95-B8187B42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10C4-A095-4767-8A20-C6B800D8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06617-1BFE-423B-8CF7-B3B25582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665-01AA-4469-BDE7-ECFDD129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574F4-513C-4714-B10F-0BAC5B7D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3260F-0D5E-46CF-8440-9C9ECA4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2CECD-D37A-4F4C-A12C-3FBD481A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B6AB-A994-43C4-A2CF-C1774E48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33C4-B9FE-43B0-AAA4-1AE4EE45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1FE42-2A70-4C96-8E10-D7CA5AF6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D262-BED7-4C19-B281-7EB52D8A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9B366-8EA1-431C-B0B0-F0D1048E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2520E-D5B7-4896-901F-48F2E06F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C80C-B0F7-4725-A97C-DA654FD2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271-EABE-4185-A626-A975519D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E183-F370-48E9-A77C-18F457B5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516EE-7817-4F24-8270-B4244B91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0772-1865-45B8-B768-0DF5E469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2A362-B311-4912-8A83-7FB2B510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B2B3B-B097-40CF-BB23-99AC7E49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EB916-876D-4A71-82EA-ACFAE76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883EC-48DC-41CA-97FD-E3E47DBD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A7295-5A6D-4982-A6E9-5CB69EB5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28F9-416D-482D-A5C2-97842490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D7C6A-B7BD-4D59-8AB7-48C17995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084-6468-4D5C-9C40-FD14485B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38A20-311C-48D7-B9AE-416E318B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116A0-1C5C-48EA-B512-4CF0D50C36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26975-5443-46F3-9C25-C4A21B949A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E2896F-A5AF-414F-A436-747BDB52E9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DB163-8CD0-4FB8-A279-16B325C859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86254-2022-4018-BB8A-38A37EE31B4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F17BFC-D173-47DB-AD58-1F33B1CEB7B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BC3C3-CC5A-462E-94A9-11372245E37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7ED87-3F99-46B8-80F0-69FB533E59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12A2E-477E-4091-8EDD-507B40A48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D9D-21F6-4023-AEE2-6AED7F1A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331AC-878A-4476-A799-D12F4DB41BE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30B88-0DB8-47DA-9E71-F81CC8A85F6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10C37D-4C4A-4BB1-B4B5-4359870758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B7C9C8-9655-473F-B926-5314E4A8B94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30FC9B-A8B0-48BA-AC63-4B22ED8D89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083522-5315-4418-8940-974C4106C1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81596-6D34-477F-9F88-F1BA9414273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D01EA4-5406-43AD-AD94-9F79AE644C2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6017FE-4116-45DE-9E89-E60AA197779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E21C63-74E3-4539-9844-8A9B4801A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661-4C8B-49A1-8497-93FC4405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73A026-0D9F-437A-92AC-7EB134E0403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FD5341-8ACA-4858-8A16-4F579F25F5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5E3F7C-A59B-418A-A0D4-49F56366137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C002DD-6223-4E39-956D-9D96495D17C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FEE0A1-DEA5-42CE-81E8-5451658424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FA90FA-A85B-42F6-B65F-ED8C4A4E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9DF518-CEAF-49AC-A9A9-15050B08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246C20-B20A-4EC2-B4B8-0040371A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5964EE-BD41-4B7F-997B-8A876863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6652D1-796E-442A-A4C0-4F127F31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9B9-BE03-4830-9938-0273E86A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06BA79-A066-4C6A-B077-B86ABE86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3055C5-C30B-4E4F-AD5A-3A977C6D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FBEC78-BD7C-472B-8401-64782366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8AFC7E-C3C6-4ED0-AEEB-03F401D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019CD4-677D-4283-9A95-D654149F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7BB1B-D655-407F-B38B-A4314665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53AF79-902D-4151-B725-F3C1407E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68574-406E-4D63-8FB7-00C14B19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1D385-4F30-4B17-AB0F-00F29D13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186DD-9EB5-4F6B-8FA6-25BB1FA9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5C3F412-C111-40BD-BE0D-F28699F1A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D90CFFB-3572-41D2-B996-7688CBE2F4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B4BBDA8-2C6A-40F5-A7BE-26544F4FFF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4F427CF-5F19-4E9B-B95F-301BDEFDD0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BEB3327-13F0-4CBC-A4EA-AB7E0E5616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BEFD62D-F1AD-467E-8C67-974A9AE73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0A4A052-B14E-4237-8E8B-A9027E51AA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44BFFCD-ADB7-414C-91A1-D2B3E08FD7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933c"/>
                </a:solidFill>
                <a:latin typeface="Kalinga"/>
                <a:ea typeface="Kalinga"/>
              </a:rPr>
              <a:t>A Firm’s Production Decisions and Costs in the Short Run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9E62DBA-B519-4C53-AA23-5561F3240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1119240" y="3487680"/>
            <a:ext cx="68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revenue: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10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explicit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6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plici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ages ($1500 X 12)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8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erest (8% X 200 000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99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otal economic profi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934C938-E9FB-473C-9EEC-E4FC520020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83920" y="1935000"/>
            <a:ext cx="81025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 Run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period of time in which at least one input in the production process is fix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utput of any productive proces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3AE1FFC-5D7C-401A-AE31-BD1B3646C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83920" y="1541160"/>
            <a:ext cx="8102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produc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a result of adding one mo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of in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Produc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 (or total output)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ed by the quantity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s used to produce that tota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6262560" y="24033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453360" y="2381400"/>
            <a:ext cx="1601640" cy="755640"/>
          </a:xfrm>
          <a:prstGeom prst="rect">
            <a:avLst/>
          </a:prstGeom>
          <a:ln w="0">
            <a:noFill/>
          </a:ln>
        </p:spPr>
      </p:pic>
      <p:sp>
        <p:nvSpPr>
          <p:cNvPr id="490" name="Rounded Rectangle 11"/>
          <p:cNvSpPr/>
          <p:nvPr/>
        </p:nvSpPr>
        <p:spPr>
          <a:xfrm>
            <a:off x="6265800" y="48099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570720" y="4836960"/>
            <a:ext cx="1328760" cy="73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012815A-2009-4CE6-BEA7-B5E0918FF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and Average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51040" y="2181240"/>
          <a:ext cx="7410240" cy="3962520"/>
        </p:xfrm>
        <a:graphic>
          <a:graphicData uri="http://schemas.openxmlformats.org/drawingml/2006/table">
            <a:tbl>
              <a:tblPr/>
              <a:tblGrid>
                <a:gridCol w="1506240"/>
                <a:gridCol w="1870200"/>
                <a:gridCol w="1986120"/>
                <a:gridCol w="204768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 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Return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more of a variable input is added to a fixed input in the production process, the resulting increase in output will, at some point, begin to diminish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vision of Labour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ing the production process into a series of specialized tasks, each done by a different wor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B786BE6-3775-4090-A350-431AE5AE44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Division of Labou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44480" y="1785960"/>
            <a:ext cx="7942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ility to fit the best person to the right job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d dexterity achieved when one worker focuses on a single opera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from not having to change to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gained by not moving from one operation to another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specialization can be developed around specific, discrete operation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F3CDCE3-E40E-4ABC-BC95-658D37E89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87CBF43-3787-4736-B248-B5110ABF9C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ftp://ftp.eppg.com/Sayre%20Micro%20images/Chapter%206/SAYRE-MICRO-6-F-6-1.jpg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1"/>
          <p:cNvSpPr/>
          <p:nvPr/>
        </p:nvSpPr>
        <p:spPr>
          <a:xfrm>
            <a:off x="264960" y="5560920"/>
            <a:ext cx="86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product will rise if marginal product exceeds it and will fall if marginal product is less th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55C5CD7-5B5E-4804-916F-DD9E448477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92041CD-8BC4-4F52-838E-DD209DB704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EFAD27D-D2CA-4639-A011-6F314FE28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83920" y="2115720"/>
            <a:ext cx="81025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relates the number of units produced to the amount of labour us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elate the number of units produced to dollar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depend on the level of production, i.e. how many workers and the level of total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how and why economists measure costs differently from accountants and distinguish between the accountants’ and economists’ views of profi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crucial relationship between productivity and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48CA5FD-D53F-4D2B-B934-7795F30FD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f all costs tha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variabl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as a result of produc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more unit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E5057EA-3BA2-4ED6-A322-3D90EF5736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5742000" y="4532400"/>
            <a:ext cx="279540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857920" y="4667400"/>
            <a:ext cx="2573280" cy="80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30652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variable cost divi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otal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CD062F5-B03A-4C82-A3FF-D24DE2DBD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5465880" y="2906640"/>
            <a:ext cx="279540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5518080" y="3019320"/>
            <a:ext cx="2648160" cy="8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st Data for a Fir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08FFBD3-3342-4AE5-9191-C10BB1C54E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38280" y="1488960"/>
          <a:ext cx="7899120" cy="4392720"/>
        </p:xfrm>
        <a:graphic>
          <a:graphicData uri="http://schemas.openxmlformats.org/drawingml/2006/table">
            <a:tbl>
              <a:tblPr/>
              <a:tblGrid>
                <a:gridCol w="1150920"/>
                <a:gridCol w="1201680"/>
                <a:gridCol w="1111320"/>
                <a:gridCol w="1127160"/>
                <a:gridCol w="1152360"/>
                <a:gridCol w="1192320"/>
                <a:gridCol w="963360"/>
              </a:tblGrid>
              <a:tr h="67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2132E36-BE87-41FE-8343-32226D9D2C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ftp://ftp.eppg.com/Sayre%20Micro%20images/Chapter%206/SAYRE-MICRO-6-F-6-2.jpg"/>
          <p:cNvPicPr/>
          <p:nvPr/>
        </p:nvPicPr>
        <p:blipFill>
          <a:blip r:embed="rId1"/>
          <a:stretch/>
        </p:blipFill>
        <p:spPr>
          <a:xfrm>
            <a:off x="0" y="0"/>
            <a:ext cx="8793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4"/>
          <p:cNvSpPr/>
          <p:nvPr/>
        </p:nvSpPr>
        <p:spPr>
          <a:xfrm>
            <a:off x="5391000" y="3870360"/>
            <a:ext cx="35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costs of production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eflection of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1F91209-75CA-47E9-8657-5A1A111802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21D5362-F7C4-43B2-BD08-5B33AEAF5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8C88A8F-EB18-4A38-876F-5D2E9B734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wo unit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f labour are employed (output equals 22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BCC77E4-785C-4251-BE59-6CD25AABF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(400 minus 3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Fixed Cost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that do no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Fixed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fixed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F914A5F-DF5B-4A19-BC4F-8EA8A41D71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ounded Rectangle 7"/>
          <p:cNvSpPr/>
          <p:nvPr/>
        </p:nvSpPr>
        <p:spPr>
          <a:xfrm>
            <a:off x="5294160" y="3936960"/>
            <a:ext cx="29149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443560" y="4062240"/>
            <a:ext cx="2616120" cy="8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both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 cost and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ed cos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Tot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851A6FC-D7FD-4D72-9C72-B7782A57A2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5241960" y="2838600"/>
            <a:ext cx="2913120" cy="83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V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ounded Rectangle 10"/>
          <p:cNvSpPr/>
          <p:nvPr/>
        </p:nvSpPr>
        <p:spPr>
          <a:xfrm>
            <a:off x="5245200" y="4578480"/>
            <a:ext cx="29131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294160" y="4657680"/>
            <a:ext cx="2810160" cy="9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important difference between fixed costs and variable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List and graph the seven specific cost definitions used by economi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Explain the meaning of increasing productivity and cutting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9FA8DCB-F3DD-4910-9EC0-39FA2376D9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EA52A45-4E8C-419F-B51B-19DA9D3E9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ftp://ftp.eppg.com/Sayre%20Micro%20images/Chapter%206/SAYRE-MICRO-6-p194.jpg"/>
          <p:cNvPicPr/>
          <p:nvPr/>
        </p:nvPicPr>
        <p:blipFill>
          <a:blip r:embed="rId1"/>
          <a:stretch/>
        </p:blipFill>
        <p:spPr>
          <a:xfrm>
            <a:off x="0" y="549360"/>
            <a:ext cx="9099720" cy="56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B0BF0BF-721A-45B3-8827-5B596965B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"/>
          <p:cNvSpPr/>
          <p:nvPr/>
        </p:nvSpPr>
        <p:spPr>
          <a:xfrm>
            <a:off x="414360" y="4741920"/>
            <a:ext cx="860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C and AVC curves reflect the division of labour as they decline and the law of diminishing returns as they 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s initially below AVC and ATC but then rises above each of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ntersects AVC and ATC at their minimum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C continuously dec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ftp://ftp.eppg.com/Sayre%20Micro%20images/Chapter%206/SAYRE-MICRO-6-F-6-3.jpg"/>
          <p:cNvPicPr/>
          <p:nvPr/>
        </p:nvPicPr>
        <p:blipFill>
          <a:blip r:embed="rId1"/>
          <a:stretch/>
        </p:blipFill>
        <p:spPr>
          <a:xfrm>
            <a:off x="0" y="425520"/>
            <a:ext cx="899460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5FD1286-5E09-40A8-8936-02D15E4FD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ftp://ftp.eppg.com/Sayre%20Micro%20images/Chapter%206/SAYRE-MICRO-6-F-6-4.jpg"/>
          <p:cNvPicPr/>
          <p:nvPr/>
        </p:nvPicPr>
        <p:blipFill>
          <a:blip r:embed="rId1"/>
          <a:stretch/>
        </p:blipFill>
        <p:spPr>
          <a:xfrm>
            <a:off x="0" y="474840"/>
            <a:ext cx="8994600" cy="579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70EACA0-C536-47E9-AF23-90B9EDE44A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ftp://ftp.eppg.com/Sayre%20Micro%20images/Chapter%206/SAYRE-MICRO-6-F-6-5.jpg"/>
          <p:cNvPicPr/>
          <p:nvPr/>
        </p:nvPicPr>
        <p:blipFill>
          <a:blip r:embed="rId1"/>
          <a:stretch/>
        </p:blipFill>
        <p:spPr>
          <a:xfrm>
            <a:off x="0" y="482760"/>
            <a:ext cx="90075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9D6FFF1-EB4B-4D9A-932A-F5F6C7478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7FE9F13-14E9-478B-9112-9997AEF414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9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3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utting Cos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879C88A-C5C2-4A8B-8EA7-CC80CD5FE9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83920" y="160488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tting costs involves a reduction in average costs rather than total cost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firm is assumed to be producing at the lowest possible cost for each output level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sts will decrease if: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price of either fixed or variable inputs decreases 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rginal product of a productive process increase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firm is operating at excess capacity, and then increases output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FD3E546-24BE-4C1E-87FA-6EA876245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ftp://ftp.eppg.com/Sayre%20Micro%20images/Chapter%206/SAYRE-MICRO-6-F-6-6.jpg"/>
          <p:cNvPicPr/>
          <p:nvPr/>
        </p:nvPicPr>
        <p:blipFill>
          <a:blip r:embed="rId1"/>
          <a:stretch/>
        </p:blipFill>
        <p:spPr>
          <a:xfrm>
            <a:off x="0" y="81756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C055CDA-3B01-48A3-A0ED-843AAB99D3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inction between implicit and explicit costs and the difference between normal and economic profi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, average product, and marginal produc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he division of labour and the law of diminishing retur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otal, variable, and fixed cos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P and M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B6745D1-EF86-4963-807D-6B261E7B4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AP and AV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C curve and AVC, AT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C, AVC, and ATC decrease if input prices fall or if productivity increa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capacity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occurs when ATC is at a minimum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is actually paid out in mone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m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does not require an actual expenditure of mone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EF3328A-3A78-4D0A-A5AB-FDD030123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 and Loss Statement </a:t>
            </a:r>
            <a:br>
              <a:rPr sz="32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B7EFC65-E9DD-4C2A-9AB4-1B0386E54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90480" y="1797120"/>
          <a:ext cx="8028000" cy="4476600"/>
        </p:xfrm>
        <a:graphic>
          <a:graphicData uri="http://schemas.openxmlformats.org/drawingml/2006/table">
            <a:tbl>
              <a:tblPr/>
              <a:tblGrid>
                <a:gridCol w="2679840"/>
                <a:gridCol w="191880"/>
                <a:gridCol w="2872080"/>
                <a:gridCol w="1008000"/>
                <a:gridCol w="1276200"/>
              </a:tblGrid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h sales (excluding sales ta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ed lab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9036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 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ing Profi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ty costs of $9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18252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 into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put in by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gridSpan="3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and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Profit or (Los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DE64BE2-EA5F-4DBA-A4A6-63887DB8C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ounded Rectangle 8"/>
          <p:cNvSpPr/>
          <p:nvPr/>
        </p:nvSpPr>
        <p:spPr>
          <a:xfrm>
            <a:off x="797040" y="2127240"/>
            <a:ext cx="763416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861840" y="2149560"/>
            <a:ext cx="75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pro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reven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explici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2"/>
          <p:cNvGrpSpPr/>
          <p:nvPr/>
        </p:nvGrpSpPr>
        <p:grpSpPr>
          <a:xfrm>
            <a:off x="822240" y="3490920"/>
            <a:ext cx="7662960" cy="857160"/>
            <a:chOff x="822240" y="3490920"/>
            <a:chExt cx="7662960" cy="857160"/>
          </a:xfrm>
        </p:grpSpPr>
        <p:sp>
          <p:nvSpPr>
            <p:cNvPr id="455" name="Rounded Rectangle 10"/>
            <p:cNvSpPr/>
            <p:nvPr/>
          </p:nvSpPr>
          <p:spPr>
            <a:xfrm>
              <a:off x="822240" y="3490920"/>
              <a:ext cx="763488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882360" y="3498840"/>
              <a:ext cx="760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c profi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revenu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cos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including implicit and explicit cos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944C307-83AA-4607-9CA4-5BDD69E983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" descr="ftp://ftp.eppg.com/Sayre%20Micro%20images/Chapter%206/SAYRE-MICRO-6-p183.jpg"/>
          <p:cNvPicPr/>
          <p:nvPr/>
        </p:nvPicPr>
        <p:blipFill>
          <a:blip r:embed="rId1"/>
          <a:stretch/>
        </p:blipFill>
        <p:spPr>
          <a:xfrm>
            <a:off x="552600" y="192240"/>
            <a:ext cx="7665840" cy="66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C04B4A9-3F4F-4DF1-B513-8A05ABB95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83920" y="1604520"/>
            <a:ext cx="8102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l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inimum profit that must be earned to keep the entrepreneur in that type of busines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nue over and above all costs, including normal profi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nk Cos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istorical costs of an asset that are unrecover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B62A13D-06A1-47CD-B9A9-3CC2367E6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1:01Z</dcterms:modified>
  <cp:revision>244</cp:revision>
  <dc:subject/>
  <dc:title>Slide 1</dc:title>
</cp:coreProperties>
</file>