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FE0-A18B-416D-971C-4092F84E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019-1C92-483C-881D-2E74ECCB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7F4D3-A149-48AB-A212-AE43020C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92FDA-6259-4344-B543-02AC5EBB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79A872-762C-46A7-B4DD-889F347B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36277-9F26-41A2-A255-E90FCDC8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E8458-586D-4657-A8EE-1250B56A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A267F-B433-4A2C-A766-781D5580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32B06-0D1C-4675-B7D8-7161817F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886A6-4D39-462A-8DBE-70B3E682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D8FE0-7948-41B3-9519-877CFD97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F985F-1553-4B14-B8DA-70861E82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94F-0122-44D2-AC82-42EBB861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49CF0-3B88-4134-AA65-FE5E121B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FE2EF-B414-479B-9961-CC31BCF8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084A4-8BD3-4953-8F5D-F178B3C3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B923A-630F-4D80-A1DA-A5F0415A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ECC47-130A-4D40-A3FF-71AD0A16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EDDCB-7FBF-4B1E-A126-BEB04079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C143FE-188F-4DE8-B2FF-5AA2D061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D0EB8-7496-4426-BA8D-DAA268C3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BEEBA-5ABF-4434-A84D-004A3E45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2DF60-3802-4F83-B20A-A6DCAF2D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B0A-271B-4966-9179-8B980249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D4F87-ADB1-4CCC-9BE3-DBB1B445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92AF-E604-4691-8271-BED69D9E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595D-6EF7-435B-A46E-5B8EA80A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E3C8-3374-421E-8374-AABF1435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AFD2-1DF3-43ED-953D-F5775CB2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D5F4-F5EC-462D-87C8-637EF3E7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CE18-81B7-42BC-B805-DB70F83D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F65E-91FD-4BAC-B63E-F2FE8530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851-65C2-4828-AF01-2C2CE5B7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EFB1-AAC9-425E-B73D-5A2A8345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34A4-CD93-4C1F-9EFE-7EA5CACF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74CC-9396-447B-BD5A-95C2A0E8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E641-47D9-4ADC-8DF8-D6C9421E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039D-971F-41A7-A253-9E060B01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BFDFD-A093-496D-9DF9-0D3D58CE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2022C-1396-42A2-BAF5-B4339965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4970-5E9A-44B6-A1AC-8B531BF7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A6575-9240-4CA6-B2E5-2300C24C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EE12B-928B-4234-89BE-1B0290E2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03B-C4A3-4AE4-9AC7-DDFD1EF8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76AD0-1A31-4793-B303-EE9622DE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2FF4B-03B0-4919-A23A-9A5AD234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D521-008A-4FF2-844F-2E36266C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C8667-B19B-45D8-B0FE-EBE0E83B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9F73-AE0C-4EA7-9AF0-FEE0CD52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FBA37-5D67-4A80-A2C3-6082135D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3D0DE-68AE-4511-9BF4-7F2BE723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F7A76-EA12-425A-BF82-14474C52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57FF3-B050-4CC8-B641-5E38CCFE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F573F-07B1-4EB0-BF62-0D5998E4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C78-3AFF-4026-9C42-C1A7106B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84584-21D0-4A0C-BAA8-4C125166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7C2D9-42F7-4C66-9618-1253A189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42848-C014-4EEB-B567-8FFB80A2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0F3D-0E02-46BE-A7E4-CD03069C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2F31B-FAD6-4A8A-AF75-BBBDE962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E2DFB-4B27-4AAC-8F73-BA7FC64D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AC14D-67DF-469C-8DBF-11F58FD7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33B16-29EC-405F-AA14-139120B6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BC53F-0CEE-48B3-A309-02FA5BE1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9ABA3-87C2-43B2-BBBC-C99F3386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CD5-2BBF-4EF0-834D-63BF4028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73FD4-F009-438A-AC6F-C3B443E7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B1C14-DE29-4C0A-8CE6-802F5DD5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BB9E8-E7F5-4DF5-9C76-EC08596C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57766-DF0C-409A-AF2A-8BD050C1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6637B-9B63-4453-AD3A-06675F97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82440-1ECF-4977-A58A-97560175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29100-E291-4790-B2AF-702EEDB0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17543-D38F-4E34-9DD2-4FB1BCA2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18EE8-04A6-4684-A439-825F646F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C1AAB-2AA3-42F2-A040-D4DA1648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D6E-14E7-49E4-9596-A7B5E3BF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FBE30-961E-4DD6-B173-F01CE1B1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7D43D6-0E26-4364-A569-B14F5A2F6D3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C4C49-C371-46B7-A2E1-EB114DD8494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8CEC0-0D24-4829-99F6-9BD9F0308FA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6157C-AC01-4143-9FDF-45029D13F5C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F7B402-973A-4398-8EA5-383E30BCDC3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6853A0-F51C-425A-8792-402CCDAA612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27434-E46D-41C9-9960-A9284BB1B26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9535E-749B-4906-B44A-FF7BAEDE4EC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BB7CE-607A-4B4F-B22C-A0B9B4E20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F3A-336C-4068-AC40-90AD9C5B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10FC9-C701-4182-AC72-B50446A1BBF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CBFCDC-ED21-4875-9D57-B4952BE9CA4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2347B-F44E-46AC-9CA8-AC826D4858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E733B2-E2C7-4A0A-B739-5A84F1F2FAA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FFDE55-EFE5-48C9-8C85-B288F752430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A05EBB-FCF5-4EEA-BC42-287FFD269FF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08489A-E807-4DB7-8C53-29C53A41ABE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638310-7652-43F3-ACCF-452952A244E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8DEF9B-FD13-41FE-9436-6D796D692F4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1E2590-E45E-4D45-A021-ACCDDBE88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A9C-7801-4E27-B79C-BE457F36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17604C-BB66-4663-805D-EBCA3B2B9F5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F48F55-1C62-4F49-B2A0-4BA05969436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145FD4-0E74-4EA2-9CD9-3B8048A33D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EC264A-E398-44B1-B6D1-4B169DF4BC1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C45401-4593-40B5-98B4-0845C2E7CCD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81AE28-49E5-41AB-8AE2-AD24605F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FAE841-6588-48B1-BBBF-AB76A7EC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6695A3-2444-4F8A-8D26-E873816A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8EA2A3-5577-4219-9CC2-D716D9D5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C78BB4-B351-48F0-B4C3-1F05FA3B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993-CDFE-4232-970E-BFCF23F2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3B5305-3516-4DE8-8826-60C37A36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BFD9DE-FA9C-477C-8F51-EF7CBB00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606DBF-1AAF-49FC-B9D9-2253AF0D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A913CC-E7C5-4663-A04E-89AFF8ED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9A56E2-C47B-4326-8B8F-849E2672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913E1E-09D8-403F-93B0-EC593C34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97AF79-2CF2-4E2B-95C0-F3C56519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6DB1B-6114-44A6-A949-BF474E11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95F8B-595B-4CC4-A305-0300C7E0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B3178-AB5E-4F1C-A67B-8810FBB0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CB2C57E-F8D1-4877-BE63-0D70931CA3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95D4B30-2021-4A0F-A4B5-FD9313BCD9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5F83378-FFCA-46B6-BC11-F030B9D35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D17F4B8-0D51-40CF-9654-12DB0CC7E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937933C-139D-41DF-B79D-28D35FF50A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E1C9801-2E83-47EB-8B82-ADA9E89B4C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140D82F-912B-4C06-ABA9-9AF9F5B017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AD1568B-FBA5-4B7D-B153-504944083F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933c"/>
                </a:solidFill>
                <a:latin typeface="Kalinga"/>
                <a:ea typeface="Kalinga"/>
              </a:rPr>
              <a:t>A Firm’s Production Decisions and Costs in the Short Run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006B34C-C736-494C-9C67-9AAE6A4EE8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di recently gave up a job that paid $1500 a month to open up his own convenience store. He works full time in the store which had total revenue of $105 000 last year. His total (explicit) costs amounted to $65 000. He reckons his store is now worth $200 000 and if he were to sell it and invest the proceeds in his dad’s supermarket he would earn an 8 percent annual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bdi’s economic profit during the ye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8"/>
          <p:cNvSpPr/>
          <p:nvPr/>
        </p:nvSpPr>
        <p:spPr>
          <a:xfrm>
            <a:off x="1119240" y="3487680"/>
            <a:ext cx="688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revenue: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$10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explicit cos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$6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mplicit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ages ($1500 X 12)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8 0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nterest (8% X 200 000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6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Cos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99 0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otal economic profit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6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1D741EC-AF35-4375-BB58-88E40BCBAE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83920" y="1935000"/>
            <a:ext cx="81025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hort Run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y period of time in which at least one input in the production process is fix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output of any productive proces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0B4A8B9-3D0A-4215-B0F9-9F2FA14D98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83920" y="1541160"/>
            <a:ext cx="81025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crease in total produc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a result of adding one mor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t of in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Product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product (or total output)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ed by the quantity of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puts used to produce that total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ounded Rectangle 10"/>
          <p:cNvSpPr/>
          <p:nvPr/>
        </p:nvSpPr>
        <p:spPr>
          <a:xfrm>
            <a:off x="6262560" y="2403360"/>
            <a:ext cx="1998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6453360" y="2381400"/>
            <a:ext cx="1601640" cy="755640"/>
          </a:xfrm>
          <a:prstGeom prst="rect">
            <a:avLst/>
          </a:prstGeom>
          <a:ln w="0">
            <a:noFill/>
          </a:ln>
        </p:spPr>
      </p:pic>
      <p:sp>
        <p:nvSpPr>
          <p:cNvPr id="490" name="Rounded Rectangle 11"/>
          <p:cNvSpPr/>
          <p:nvPr/>
        </p:nvSpPr>
        <p:spPr>
          <a:xfrm>
            <a:off x="6265800" y="4809960"/>
            <a:ext cx="1998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6570720" y="4836960"/>
            <a:ext cx="1328760" cy="73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AE6823A-D88E-402F-B207-5BBFBF94CC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and Average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51040" y="2181240"/>
          <a:ext cx="7410240" cy="3962520"/>
        </p:xfrm>
        <a:graphic>
          <a:graphicData uri="http://schemas.openxmlformats.org/drawingml/2006/table">
            <a:tbl>
              <a:tblPr/>
              <a:tblGrid>
                <a:gridCol w="1506240"/>
                <a:gridCol w="1870200"/>
                <a:gridCol w="1986120"/>
                <a:gridCol w="204768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 of 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585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aw of Diminishing Return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more of a variable input is added to a fixed input in the production process, the resulting increase in output will, at some point, begin to diminish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vision of Labour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ing the production process into a series of specialized tasks, each done by a different work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7B16BBA-F77D-406E-A42F-B2F4FC76A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Division of Labour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44480" y="1785960"/>
            <a:ext cx="79423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ility to fit the best person to the right job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d dexterity achieved when one worker focuses on a single operatio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savings from not having to change tool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savings gained by not moving from one operation to another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ine specialization can be developed around specific, discrete operation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48C4440-B622-42E3-9618-95A37754A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A7F2F4B-F115-4339-81E2-321888B97A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2" descr="ftp://ftp.eppg.com/Sayre%20Micro%20images/Chapter%206/SAYRE-MICRO-6-F-6-1.jpg"/>
          <p:cNvPicPr/>
          <p:nvPr/>
        </p:nvPicPr>
        <p:blipFill>
          <a:blip r:embed="rId1"/>
          <a:stretch/>
        </p:blipFill>
        <p:spPr>
          <a:xfrm>
            <a:off x="0" y="469800"/>
            <a:ext cx="9144000" cy="526284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1"/>
          <p:cNvSpPr/>
          <p:nvPr/>
        </p:nvSpPr>
        <p:spPr>
          <a:xfrm>
            <a:off x="264960" y="5560920"/>
            <a:ext cx="860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erage product will rise if marginal product exceeds it and will fall if marginal product is less tha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F3E29CC-E1AE-41CA-86AD-6DD3A3451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 the MPL and the APL for each unit of labour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457280" y="2413080"/>
          <a:ext cx="6240600" cy="3303360"/>
        </p:xfrm>
        <a:graphic>
          <a:graphicData uri="http://schemas.openxmlformats.org/drawingml/2006/table">
            <a:tbl>
              <a:tblPr/>
              <a:tblGrid>
                <a:gridCol w="1881360"/>
                <a:gridCol w="1638000"/>
                <a:gridCol w="1349640"/>
                <a:gridCol w="1371600"/>
              </a:tblGrid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 of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4A6F688-7925-4068-A693-DDF48B4A49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 the MPL and the APL for each unit of labour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457280" y="2413080"/>
          <a:ext cx="6240600" cy="3303360"/>
        </p:xfrm>
        <a:graphic>
          <a:graphicData uri="http://schemas.openxmlformats.org/drawingml/2006/table">
            <a:tbl>
              <a:tblPr/>
              <a:tblGrid>
                <a:gridCol w="1881360"/>
                <a:gridCol w="1638000"/>
                <a:gridCol w="1349640"/>
                <a:gridCol w="1371600"/>
              </a:tblGrid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 of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698D5EE-31D0-454C-B3CB-95C78692C0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583920" y="2115720"/>
            <a:ext cx="81025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relates the number of units produced to the amount of labour us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relate the number of units produced to dollar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depend on the level of production, i.e. how many workers and the level of total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Production Decisions and Costs 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in the Short Run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Understand how and why economists measure costs differently from accountants and distinguish between the accountants’ and economists’ views of profi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the crucial relationship between productivity and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924A223-4E11-4C91-971F-8D1450AB42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Variable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of all costs that vary with the level of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crease in total variabl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as a result of producing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more unit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55C2CCD-E68E-4005-8E41-47D1880F80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ounded Rectangle 7"/>
          <p:cNvSpPr/>
          <p:nvPr/>
        </p:nvSpPr>
        <p:spPr>
          <a:xfrm>
            <a:off x="5742000" y="4532400"/>
            <a:ext cx="279540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5857920" y="4667400"/>
            <a:ext cx="2573280" cy="80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2306520"/>
            <a:ext cx="82296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Variable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variable cost divide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total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10418F59-3B24-495F-9C95-80AD788EB0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ounded Rectangle 7"/>
          <p:cNvSpPr/>
          <p:nvPr/>
        </p:nvSpPr>
        <p:spPr>
          <a:xfrm>
            <a:off x="5465880" y="2906640"/>
            <a:ext cx="2795400" cy="106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5518080" y="3019320"/>
            <a:ext cx="2648160" cy="86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st Data for a Fir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A0A7361-41BB-4671-B3E1-94924E8A99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638280" y="1488960"/>
          <a:ext cx="7899120" cy="4392720"/>
        </p:xfrm>
        <a:graphic>
          <a:graphicData uri="http://schemas.openxmlformats.org/drawingml/2006/table">
            <a:tbl>
              <a:tblPr/>
              <a:tblGrid>
                <a:gridCol w="1150920"/>
                <a:gridCol w="1201680"/>
                <a:gridCol w="1111320"/>
                <a:gridCol w="1127160"/>
                <a:gridCol w="1152360"/>
                <a:gridCol w="1192320"/>
                <a:gridCol w="963360"/>
              </a:tblGrid>
              <a:tr h="674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 of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16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7A5995C8-AD20-4BBC-8A47-4D7EF94AC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2" descr="ftp://ftp.eppg.com/Sayre%20Micro%20images/Chapter%206/SAYRE-MICRO-6-F-6-2.jpg"/>
          <p:cNvPicPr/>
          <p:nvPr/>
        </p:nvPicPr>
        <p:blipFill>
          <a:blip r:embed="rId1"/>
          <a:stretch/>
        </p:blipFill>
        <p:spPr>
          <a:xfrm>
            <a:off x="0" y="0"/>
            <a:ext cx="8793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TextBox 4"/>
          <p:cNvSpPr/>
          <p:nvPr/>
        </p:nvSpPr>
        <p:spPr>
          <a:xfrm>
            <a:off x="5391000" y="3870360"/>
            <a:ext cx="35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iable costs of production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eflection of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B27CBFE-4A1C-4252-B99C-8A5F91D686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all units of labour cost the same, fill in the bl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s marginal cost at a minim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P of labour when 4 units of labour are 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88891B3-DDCE-4B3A-AED1-F4A90C377A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all units of labour cost the same, fill in the bl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32F9AFFC-8D5F-441E-BFC1-739350FDE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s marginal cost at a minim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wo unit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of labour are employed (output equals 22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5626AAD-474D-4A92-B87F-5F702B9A38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P of labour when 4 units of labour are 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(400 minus 3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otal and Average Total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99836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Fixed Cost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that do not vary with the level of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Fixed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fixed cost divided b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y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BDD7A32-CE8C-4BA9-8955-6BC1FBBE10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ounded Rectangle 7"/>
          <p:cNvSpPr/>
          <p:nvPr/>
        </p:nvSpPr>
        <p:spPr>
          <a:xfrm>
            <a:off x="5294160" y="3936960"/>
            <a:ext cx="291492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5443560" y="4062240"/>
            <a:ext cx="2616120" cy="87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otal and Average Total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99836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m of both tota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 cost and tota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xed cos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Total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cost divided b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1AC2B144-AC1C-4265-8A89-6675BA9FB6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ounded Rectangle 7"/>
          <p:cNvSpPr/>
          <p:nvPr/>
        </p:nvSpPr>
        <p:spPr>
          <a:xfrm>
            <a:off x="5241960" y="2838600"/>
            <a:ext cx="2913120" cy="83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V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ounded Rectangle 10"/>
          <p:cNvSpPr/>
          <p:nvPr/>
        </p:nvSpPr>
        <p:spPr>
          <a:xfrm>
            <a:off x="5245200" y="4578480"/>
            <a:ext cx="29131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5294160" y="4657680"/>
            <a:ext cx="2810160" cy="9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Production Decisions and Costs 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in the Short Run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the important difference between fixed costs and variable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List and graph the seven specific cost definitions used by economist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Explain the meaning of increasing productivity and cutting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32667E9-CF75-48DD-9B27-8690BF57E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45332E6-42A7-4306-BC73-1612BECF2F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ftp://ftp.eppg.com/Sayre%20Micro%20images/Chapter%206/SAYRE-MICRO-6-p194.jpg"/>
          <p:cNvPicPr/>
          <p:nvPr/>
        </p:nvPicPr>
        <p:blipFill>
          <a:blip r:embed="rId1"/>
          <a:stretch/>
        </p:blipFill>
        <p:spPr>
          <a:xfrm>
            <a:off x="0" y="549360"/>
            <a:ext cx="9099720" cy="569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B3EF0C2-8A9A-4244-A0BE-29D9221A08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"/>
          <p:cNvSpPr/>
          <p:nvPr/>
        </p:nvSpPr>
        <p:spPr>
          <a:xfrm>
            <a:off x="414360" y="4741920"/>
            <a:ext cx="8602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MC and AVC curves reflect the division of labour as they decline and the law of diminishing returns as they r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is initially below AVC and ATC but then rises above each of the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intersects AVC and ATC at their minimum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C continuously dec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2" descr="ftp://ftp.eppg.com/Sayre%20Micro%20images/Chapter%206/SAYRE-MICRO-6-F-6-3.jpg"/>
          <p:cNvPicPr/>
          <p:nvPr/>
        </p:nvPicPr>
        <p:blipFill>
          <a:blip r:embed="rId1"/>
          <a:stretch/>
        </p:blipFill>
        <p:spPr>
          <a:xfrm>
            <a:off x="0" y="425520"/>
            <a:ext cx="8994600" cy="42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A1569CA-8A6F-4FAD-8481-62565CF692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" descr="ftp://ftp.eppg.com/Sayre%20Micro%20images/Chapter%206/SAYRE-MICRO-6-F-6-4.jpg"/>
          <p:cNvPicPr/>
          <p:nvPr/>
        </p:nvPicPr>
        <p:blipFill>
          <a:blip r:embed="rId1"/>
          <a:stretch/>
        </p:blipFill>
        <p:spPr>
          <a:xfrm>
            <a:off x="0" y="474840"/>
            <a:ext cx="8994600" cy="579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FA3955F-3982-49AD-81F6-C1D674801F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" descr="ftp://ftp.eppg.com/Sayre%20Micro%20images/Chapter%206/SAYRE-MICRO-6-F-6-5.jpg"/>
          <p:cNvPicPr/>
          <p:nvPr/>
        </p:nvPicPr>
        <p:blipFill>
          <a:blip r:embed="rId1"/>
          <a:stretch/>
        </p:blipFill>
        <p:spPr>
          <a:xfrm>
            <a:off x="0" y="482760"/>
            <a:ext cx="9007560" cy="56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7EB9864F-1E7C-4B7C-8DC8-E3284BA0D5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 in the tabl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574560" y="2084400"/>
          <a:ext cx="8207640" cy="398628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  <a:gridCol w="1027080"/>
                <a:gridCol w="1025280"/>
                <a:gridCol w="1025640"/>
                <a:gridCol w="1027080"/>
                <a:gridCol w="1025640"/>
                <a:gridCol w="1025640"/>
              </a:tblGrid>
              <a:tr h="88596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1D00FBC5-B1F9-4FD7-B052-2FAFCCAB5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 in the tabl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74560" y="2084400"/>
          <a:ext cx="8207640" cy="398628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  <a:gridCol w="1027080"/>
                <a:gridCol w="1025280"/>
                <a:gridCol w="1025640"/>
                <a:gridCol w="1027080"/>
                <a:gridCol w="1025640"/>
                <a:gridCol w="1025640"/>
              </a:tblGrid>
              <a:tr h="88596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8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9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3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utting Cos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B34E0E6-F2BF-4A38-8026-FE38DE3328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83920" y="1604880"/>
            <a:ext cx="810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utting costs involves a reduction in average costs rather than total costs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firm is assumed to be producing at the lowest possible cost for each output level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sts will decrease if: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price of either fixed or variable inputs decreases 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rginal product of a productive process increases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firm is operating at excess capacity, and then increases output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977E408-E5CA-47D6-A1E4-41AB2CB9E1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2" descr="ftp://ftp.eppg.com/Sayre%20Micro%20images/Chapter%206/SAYRE-MICRO-6-F-6-6.jpg"/>
          <p:cNvPicPr/>
          <p:nvPr/>
        </p:nvPicPr>
        <p:blipFill>
          <a:blip r:embed="rId1"/>
          <a:stretch/>
        </p:blipFill>
        <p:spPr>
          <a:xfrm>
            <a:off x="0" y="817560"/>
            <a:ext cx="9136080" cy="51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5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72DD020-5CA3-42B0-9549-8C756C6276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tinction between implicit and explicit costs and the difference between normal and economic profit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product, average product, and marginal product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he division of labour and the law of diminishing return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otal, variable, and fixed cost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MP and M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5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3948195-2AA2-452F-A28D-5964B75F4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AP and AV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MC curve and AVC, AT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C, AVC, and ATC decrease if input prices fall or if productivity increa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capacity 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occurs when ATC is at a minimum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xplicit and Implicit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xplicit Cost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st that is actually paid out in money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mplicit Cost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st that does not require an actual expenditure of mone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1486C9E-697E-4914-89E6-D16498ECDF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xplicit and Implicit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 and Loss Statement </a:t>
            </a:r>
            <a:br>
              <a:rPr sz="32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AFAA660-BD1E-4D13-8EEF-72E9B3E95A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90480" y="1797120"/>
          <a:ext cx="8028000" cy="4476600"/>
        </p:xfrm>
        <a:graphic>
          <a:graphicData uri="http://schemas.openxmlformats.org/drawingml/2006/table">
            <a:tbl>
              <a:tblPr/>
              <a:tblGrid>
                <a:gridCol w="2679840"/>
                <a:gridCol w="191880"/>
                <a:gridCol w="2872080"/>
                <a:gridCol w="1008000"/>
                <a:gridCol w="1276200"/>
              </a:tblGrid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h sales (excluding sales ta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s and Suppl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ed lab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9036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reciation on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x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ing Profi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portunity costs of $96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18252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t into busi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 put in by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 gridSpan="3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xplicit and 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omic Profit or (Loss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ccounting v Economic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775C710F-2D4E-45D3-89C3-CD518B6212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ounded Rectangle 8"/>
          <p:cNvSpPr/>
          <p:nvPr/>
        </p:nvSpPr>
        <p:spPr>
          <a:xfrm>
            <a:off x="797040" y="2127240"/>
            <a:ext cx="7634160" cy="52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861840" y="2149560"/>
            <a:ext cx="75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ing prof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reven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explici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2"/>
          <p:cNvGrpSpPr/>
          <p:nvPr/>
        </p:nvGrpSpPr>
        <p:grpSpPr>
          <a:xfrm>
            <a:off x="822240" y="3490920"/>
            <a:ext cx="7662960" cy="857160"/>
            <a:chOff x="822240" y="3490920"/>
            <a:chExt cx="7662960" cy="857160"/>
          </a:xfrm>
        </p:grpSpPr>
        <p:sp>
          <p:nvSpPr>
            <p:cNvPr id="455" name="Rounded Rectangle 10"/>
            <p:cNvSpPr/>
            <p:nvPr/>
          </p:nvSpPr>
          <p:spPr>
            <a:xfrm>
              <a:off x="822240" y="3490920"/>
              <a:ext cx="7634880" cy="85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882360" y="3498840"/>
              <a:ext cx="760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onomic profi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tal revenu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tal cost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including implicit and explicit cos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7A9CD605-7209-4BB5-8C25-56290AE6EB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2" descr="ftp://ftp.eppg.com/Sayre%20Micro%20images/Chapter%206/SAYRE-MICRO-6-p183.jpg"/>
          <p:cNvPicPr/>
          <p:nvPr/>
        </p:nvPicPr>
        <p:blipFill>
          <a:blip r:embed="rId1"/>
          <a:stretch/>
        </p:blipFill>
        <p:spPr>
          <a:xfrm>
            <a:off x="552600" y="192240"/>
            <a:ext cx="7665840" cy="666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ccounting v Economic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06ACD77-949E-4BF5-AE0F-000DB74B8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83920" y="1604520"/>
            <a:ext cx="8102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Normal Profi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inimum profit that must be earned to keep the entrepreneur in that type of busines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c Profi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venue over and above all costs, including normal profi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nk Cost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istorical costs of an asset that are unrecover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1B3B0AA5-C3D9-4903-AC6A-4354A58866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i recently gave up a job that paid $1500 a month to open up his own convenience store. He works full time in the store which had total revenue of $105 000 last year. His total (explicit) costs amounted to $65 000. He reckons his store is now worth $200 000 and if he were to sell it and invest the proceeds in his dad’s supermarket he would earn an 8 percent annual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bdi’s economic profit during the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41:01Z</dcterms:modified>
  <cp:revision>244</cp:revision>
  <dc:subject/>
  <dc:title>Slide 1</dc:title>
</cp:coreProperties>
</file>