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4F78-D9D2-4FA9-8FF7-DBF6D4C4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AD9-B8C2-4C68-9F28-3271A9B8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C4BFB-C86E-4010-81B9-D9D8C0F1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00D93-A928-49A2-992D-A5114463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3BBEE-59EF-4123-B42F-4EF700A0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CB491-1949-4081-A93D-82CB1F70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0B134-FDF8-4D07-86E5-4D143FC9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88DF1-4920-43F7-BF9B-B57B4849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76A62-D095-4E2D-AC54-7794F671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8762A2-C265-4833-8B0B-CEE04F25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0DB3D-FFDC-4C4F-B9FE-D373A81A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F9824-E309-4EF2-B1E6-5A48850A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775-9DED-46C3-BE2F-33A8C1C3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209C8-245C-43A0-8A16-D71A4CB9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500D3-4356-4D50-B5B0-5ACB8C95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2791F1-B49C-4FF0-8292-071A6150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DCC9B-C769-4D4F-A712-13958A8C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4D5025-7769-46A2-96FD-D226DFE9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DB472D-08A2-4A3F-AD25-F1E03436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CC030E-C6CD-48E5-969E-3FA4B49C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347522-636B-42CA-9612-3ABA3D32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2A959-3D9B-443C-A740-0FD8D602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7E5E7A-F08A-43BF-A179-366F0AA1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88A-D620-4272-AAB2-EA64F958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5AAAB-8BE2-458B-AA7D-D7883121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6183-CC86-45F8-AF26-92498260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4A11-9FB2-4581-B54A-5C9FD3FF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A6B5-4D42-4030-8816-75933123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A349-4B43-413A-A268-7D1A342F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AEE1-CEFB-45BC-9976-F4779491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9CC2-A587-47E0-8BFA-960213E8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506E-466E-4D24-BDCC-8DC39A5F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BDC-1E3C-49E8-BF67-4716D04E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D14C-9547-474A-BF0C-FFE52701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D63F-E933-4388-8B8B-07855555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B530-7BF0-4D3A-ACFC-E24BCB82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EDA0-7086-468A-9926-82BE276A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973E-BF6C-437D-8312-BAF0E74F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8878B-7E63-4B46-AD07-94BE4FBB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68FF2-5F87-4CE0-BAD9-7740D814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C5349-A9FB-417D-AE40-400EC3FE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A09D8-D67A-4DF6-88E5-B23D9A63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6E04A-790C-4F5B-AC32-E04DCFAA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3CC-3ED3-4EE4-A620-FD5506F1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C4E55-ACA6-4481-96C2-85CFC75F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00569-50D6-4854-927A-BFE05BF4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B526B-AB12-42A5-B9E5-2D4F5619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44BA2-F63C-4B64-AE16-F17796B3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BEED9-187E-441E-A6B6-D77BF876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00E05-9267-446F-B26E-CF771EEB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68BCD-A30B-4AEA-B15C-BF68FC56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1B88F-4096-4E0C-B39D-38864515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35CD2-BBF8-42F8-8B3E-85711B87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98D35-4DE6-4A2C-8478-6142A04B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71D-574C-4C80-AEC8-6DA317AD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7A719-65E6-46B6-BAC4-A7A13783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DC477-B5AB-42E3-92DC-1A620F80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2A2B5-AF83-4041-AE3E-F9A8F741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C5063-A554-48DB-9EB0-38798B4B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7A0BF-6BB7-449D-88BD-5EAC9CEA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775D8-9445-41CC-9151-1CD91948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78DD3-41E6-4B8C-B507-4131BEFB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100E2-CC63-40DB-81E6-96DD2915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FAC24-F13B-4D02-8157-637D72EB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2BDEF-74EF-42F1-9800-C5044A7E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6AF5-B36F-4BF7-A247-ADF0F3B1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39622-97C1-45E0-B51C-E65CDB92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677E4-0617-4A47-AE91-9789AAEA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8E70C-EEBB-40ED-8CF6-C8B8EBCE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9932D-7880-41CD-81C5-D92F2E04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CF8F3-9CDC-4B01-ACBD-780E7E3B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09179-C382-4539-93D8-D076A305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2B4E4-EB34-495D-98BF-957832F2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C0A02-29AD-49FD-9AE8-A75B821A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5FE44-B0C8-42AA-B0B5-DD1E3F1D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CD17E-3BC5-4A5A-8212-3CEB6CE5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5F3-10F6-4038-8972-8A04B0C9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74828-5CE7-4B8F-B87F-2FA9CEC9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8A0D2A-8000-4497-B70F-B6417176BDA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E13E74-246C-4841-9EB7-46A28D9EDE9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A43F2E-99C3-4195-BD83-775F10967E1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BEB0AE-314E-4376-B6FC-537D4F67DA3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CC8141-161C-4946-8AC1-77E533D50E3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4F31D8-3EDA-47D1-9908-2AE9FC17A54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7BE22A-1A27-425A-9C52-427F9F2B3B0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BB9D7B-16B4-4C1A-BDB4-F35A66630C4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206BCB-7B80-4C57-A5D9-E3ED555E4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3F0-A2BA-4AC8-A50D-01AE101C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298979-FE9C-4D79-B600-0F6DA48999B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A72863-4A40-4683-92B2-F2D248120F4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6AD86E-D82E-4B87-8425-A008040DFD1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3C0267-C18C-4D2E-AFAD-2287E135B4D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AA004B-A240-4412-BA3F-42131D96681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D07750-4C30-4099-B761-6AAC63D4631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2EA33F-5997-44D1-B34E-E054637BBB3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34D816-F00D-4F5D-8A52-6F363C37B24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A12A08-E886-44C3-83F8-9FD150C5B16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838722-3623-4ABF-8BE2-8E1D56BC9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A57-ABDE-4C8F-BDE2-171D5E82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3D2836-30FC-436A-BDE9-BB1FE8FD578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9821C8-B7FA-416E-B4AF-03B860DD9D4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09FCDD-3742-4AB7-BF91-2ECFA634925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3CCA72-2AFA-4045-96D1-01533C21B28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F98770-591C-4588-804B-A9158CB0F61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AEE34C-9563-49B8-9887-E3150D22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9EE7E4-CE59-4156-A509-CC6F12BD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60A245-1206-4C89-A00F-1CF4FAB5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E86639-1300-45D0-A53B-9D99E5AF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024D93-7343-43CD-A47A-1A218E81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E5F-4A47-4599-A1D5-27C9A810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BF9C3B-F3D7-48D7-843C-356CEE0E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98FB4B-9978-4917-848E-3B62C291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1F7F4C-C58A-4997-AD37-3FB3770F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D12429-39F1-40A0-A516-024CCF5B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9F9359-1384-47CE-9900-E8605A53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71171C-B4BA-48A8-8BA6-39C14268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00182D-3910-4549-91E8-A9AAE1ED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EDE299-07F5-403A-B01A-A4B37433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14CE74-34D0-44D7-884D-F2A52359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91013-9DCA-4897-B9E1-4CAAD03F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0CD99A0-5B07-4E94-A05A-DCA9AAF735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00273FC-D318-45D7-98AC-83A6AC3AA3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5B1D04D-4BEA-4364-AC79-E907EFDE57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5D5EC2E-EF6C-4BF4-AA99-0E48D400F5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BD3F834-0263-4312-A724-CE55AD77CA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7F0D358-5492-4AFC-879A-EF3EF01007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4246173-84E4-4523-AAA7-BB80C63F7B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597E58C-9B46-4016-B7F0-FA26E9C84D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Consumer Choice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5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DCD65502-FA58-4A4D-A368-75CD316103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table, which shows Michelle’s utility for milksh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898560" y="2254320"/>
          <a:ext cx="7288200" cy="3932280"/>
        </p:xfrm>
        <a:graphic>
          <a:graphicData uri="http://schemas.openxmlformats.org/drawingml/2006/table">
            <a:tbl>
              <a:tblPr/>
              <a:tblGrid>
                <a:gridCol w="2438280"/>
                <a:gridCol w="2156040"/>
                <a:gridCol w="2693880"/>
              </a:tblGrid>
              <a:tr h="75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 (T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 (M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D12369A3-7447-40E9-B110-94ADFCD552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table, which shows Michelle’s utility for milksh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14"/>
          <p:cNvSpPr/>
          <p:nvPr/>
        </p:nvSpPr>
        <p:spPr>
          <a:xfrm>
            <a:off x="6611040" y="299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898560" y="2254320"/>
          <a:ext cx="7288200" cy="3932280"/>
        </p:xfrm>
        <a:graphic>
          <a:graphicData uri="http://schemas.openxmlformats.org/drawingml/2006/table">
            <a:tbl>
              <a:tblPr/>
              <a:tblGrid>
                <a:gridCol w="2438280"/>
                <a:gridCol w="2156040"/>
                <a:gridCol w="2693880"/>
              </a:tblGrid>
              <a:tr h="75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 (T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 (M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Box 8"/>
          <p:cNvSpPr/>
          <p:nvPr/>
        </p:nvSpPr>
        <p:spPr>
          <a:xfrm>
            <a:off x="6593040" y="3384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0"/>
          <p:cNvSpPr/>
          <p:nvPr/>
        </p:nvSpPr>
        <p:spPr>
          <a:xfrm>
            <a:off x="4162320" y="377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11"/>
          <p:cNvSpPr/>
          <p:nvPr/>
        </p:nvSpPr>
        <p:spPr>
          <a:xfrm>
            <a:off x="4176720" y="418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13"/>
          <p:cNvSpPr/>
          <p:nvPr/>
        </p:nvSpPr>
        <p:spPr>
          <a:xfrm>
            <a:off x="666360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Box 15"/>
          <p:cNvSpPr/>
          <p:nvPr/>
        </p:nvSpPr>
        <p:spPr>
          <a:xfrm>
            <a:off x="6646320" y="495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Box 16"/>
          <p:cNvSpPr/>
          <p:nvPr/>
        </p:nvSpPr>
        <p:spPr>
          <a:xfrm>
            <a:off x="4176720" y="535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17"/>
          <p:cNvSpPr/>
          <p:nvPr/>
        </p:nvSpPr>
        <p:spPr>
          <a:xfrm>
            <a:off x="4168800" y="5745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Optimal Purchasing R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58880"/>
            <a:ext cx="82296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rational consumer should purchase the product that yields the greatest marginal utility per doll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D91590B0-EA8B-44F2-9C03-A5210A6C5F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Group 9"/>
          <p:cNvGrpSpPr/>
          <p:nvPr/>
        </p:nvGrpSpPr>
        <p:grpSpPr>
          <a:xfrm>
            <a:off x="2487600" y="2881440"/>
            <a:ext cx="4125960" cy="1074600"/>
            <a:chOff x="2487600" y="2881440"/>
            <a:chExt cx="4125960" cy="1074600"/>
          </a:xfrm>
        </p:grpSpPr>
        <p:sp>
          <p:nvSpPr>
            <p:cNvPr id="499" name="Rounded Rectangle 8"/>
            <p:cNvSpPr/>
            <p:nvPr/>
          </p:nvSpPr>
          <p:spPr>
            <a:xfrm>
              <a:off x="2487600" y="2881440"/>
              <a:ext cx="4125960" cy="1074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1"/>
            <a:stretch/>
          </p:blipFill>
          <p:spPr>
            <a:xfrm>
              <a:off x="2944800" y="2987640"/>
              <a:ext cx="3268440" cy="90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2158920" y="4379760"/>
            <a:ext cx="4891320" cy="170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Optimal Purchasing R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807920"/>
            <a:ext cx="822960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order to maximize utility, a consumer should spend her budget so that $MU spent on all products is equ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32A75337-8266-41B4-992A-09870BD88F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Group 14"/>
          <p:cNvGrpSpPr/>
          <p:nvPr/>
        </p:nvGrpSpPr>
        <p:grpSpPr>
          <a:xfrm>
            <a:off x="2541600" y="3530520"/>
            <a:ext cx="4124160" cy="1073160"/>
            <a:chOff x="2541600" y="3530520"/>
            <a:chExt cx="4124160" cy="1073160"/>
          </a:xfrm>
        </p:grpSpPr>
        <p:sp>
          <p:nvSpPr>
            <p:cNvPr id="512" name="Rounded Rectangle 8"/>
            <p:cNvSpPr/>
            <p:nvPr/>
          </p:nvSpPr>
          <p:spPr>
            <a:xfrm>
              <a:off x="2541600" y="3530520"/>
              <a:ext cx="4124160" cy="107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1"/>
            <a:stretch/>
          </p:blipFill>
          <p:spPr>
            <a:xfrm>
              <a:off x="2690280" y="3636720"/>
              <a:ext cx="3848040" cy="89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32ECB03A-60EE-47CB-9A32-EBC84E6AC8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903240" y="317520"/>
          <a:ext cx="7326360" cy="2468520"/>
        </p:xfrm>
        <a:graphic>
          <a:graphicData uri="http://schemas.openxmlformats.org/drawingml/2006/table">
            <a:tbl>
              <a:tblPr/>
              <a:tblGrid>
                <a:gridCol w="1022400"/>
                <a:gridCol w="1100160"/>
                <a:gridCol w="1643040"/>
                <a:gridCol w="1057320"/>
                <a:gridCol w="901800"/>
                <a:gridCol w="1601640"/>
              </a:tblGrid>
              <a:tr h="26820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T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ECES OF PAS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 per $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ice = $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 per $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ice = $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914400" y="3013200"/>
          <a:ext cx="7315200" cy="3344760"/>
        </p:xfrm>
        <a:graphic>
          <a:graphicData uri="http://schemas.openxmlformats.org/drawingml/2006/table">
            <a:tbl>
              <a:tblPr/>
              <a:tblGrid>
                <a:gridCol w="1422360"/>
                <a:gridCol w="1117800"/>
                <a:gridCol w="1109520"/>
                <a:gridCol w="1319040"/>
                <a:gridCol w="1263960"/>
                <a:gridCol w="1082520"/>
              </a:tblGrid>
              <a:tr h="56592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rc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sp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$ Sp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36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f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36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x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8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e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2" name="Oval 15"/>
          <p:cNvSpPr/>
          <p:nvPr/>
        </p:nvSpPr>
        <p:spPr>
          <a:xfrm>
            <a:off x="7145280" y="11383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16"/>
          <p:cNvSpPr/>
          <p:nvPr/>
        </p:nvSpPr>
        <p:spPr>
          <a:xfrm>
            <a:off x="3565440" y="113040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17"/>
          <p:cNvSpPr/>
          <p:nvPr/>
        </p:nvSpPr>
        <p:spPr>
          <a:xfrm>
            <a:off x="7151760" y="1400040"/>
            <a:ext cx="563400" cy="30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18"/>
          <p:cNvSpPr/>
          <p:nvPr/>
        </p:nvSpPr>
        <p:spPr>
          <a:xfrm>
            <a:off x="3568680" y="1400040"/>
            <a:ext cx="563760" cy="30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19"/>
          <p:cNvSpPr/>
          <p:nvPr/>
        </p:nvSpPr>
        <p:spPr>
          <a:xfrm>
            <a:off x="7142040" y="16765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20"/>
          <p:cNvSpPr/>
          <p:nvPr/>
        </p:nvSpPr>
        <p:spPr>
          <a:xfrm>
            <a:off x="3557520" y="16765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21"/>
          <p:cNvSpPr/>
          <p:nvPr/>
        </p:nvSpPr>
        <p:spPr>
          <a:xfrm>
            <a:off x="3568680" y="195264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2"/>
          <p:cNvSpPr/>
          <p:nvPr/>
        </p:nvSpPr>
        <p:spPr>
          <a:xfrm>
            <a:off x="903240" y="358308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23"/>
          <p:cNvSpPr/>
          <p:nvPr/>
        </p:nvSpPr>
        <p:spPr>
          <a:xfrm>
            <a:off x="932040" y="386712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24"/>
          <p:cNvSpPr/>
          <p:nvPr/>
        </p:nvSpPr>
        <p:spPr>
          <a:xfrm>
            <a:off x="915840" y="4130640"/>
            <a:ext cx="7315200" cy="5684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25"/>
          <p:cNvSpPr/>
          <p:nvPr/>
        </p:nvSpPr>
        <p:spPr>
          <a:xfrm>
            <a:off x="912960" y="4684680"/>
            <a:ext cx="7315200" cy="5666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26"/>
          <p:cNvSpPr/>
          <p:nvPr/>
        </p:nvSpPr>
        <p:spPr>
          <a:xfrm>
            <a:off x="903240" y="5245200"/>
            <a:ext cx="7315200" cy="5666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7"/>
          <p:cNvSpPr/>
          <p:nvPr/>
        </p:nvSpPr>
        <p:spPr>
          <a:xfrm>
            <a:off x="930240" y="579924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8"/>
          <p:cNvSpPr/>
          <p:nvPr/>
        </p:nvSpPr>
        <p:spPr>
          <a:xfrm>
            <a:off x="912960" y="6076800"/>
            <a:ext cx="7315200" cy="27648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9A35D2DF-6895-48FA-A5E1-BFB5F52299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following marginal utilities and prices, which product would a rational consumer cho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914400" y="2541600"/>
          <a:ext cx="7358040" cy="1467000"/>
        </p:xfrm>
        <a:graphic>
          <a:graphicData uri="http://schemas.openxmlformats.org/drawingml/2006/table">
            <a:tbl>
              <a:tblPr/>
              <a:tblGrid>
                <a:gridCol w="2271600"/>
                <a:gridCol w="1271880"/>
                <a:gridCol w="1298520"/>
                <a:gridCol w="1217520"/>
                <a:gridCol w="1298520"/>
              </a:tblGrid>
              <a:tr h="60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e C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 D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EE691BC9-DC5C-4C2D-AA03-A44BA62CED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following marginal utilities and prices, which product would a rational consumer cho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914400" y="2541600"/>
          <a:ext cx="7358040" cy="1467000"/>
        </p:xfrm>
        <a:graphic>
          <a:graphicData uri="http://schemas.openxmlformats.org/drawingml/2006/table">
            <a:tbl>
              <a:tblPr/>
              <a:tblGrid>
                <a:gridCol w="2271600"/>
                <a:gridCol w="1271880"/>
                <a:gridCol w="1298520"/>
                <a:gridCol w="1217520"/>
                <a:gridCol w="1298520"/>
              </a:tblGrid>
              <a:tr h="60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e C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 D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Rectangle 1"/>
          <p:cNvSpPr/>
          <p:nvPr/>
        </p:nvSpPr>
        <p:spPr>
          <a:xfrm>
            <a:off x="606600" y="4093920"/>
            <a:ext cx="79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A rational consumer would choose an apple because it has the highest MU per $ as seen here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Apple   Beer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Ice Cream   Hot 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MU/Pric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8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7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   7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Theor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sights into Consumer Behaviour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s with low income elasticities (water, food) have the highest initial marginal utilities, will be purchased fir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ule applies only to the purchasing of the product, not to its repeated “consumption”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not compare utilities between peop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9D2FF970-6C43-4D85-B8D2-C7CF660D2A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and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09840"/>
            <a:ext cx="822960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kio’s Dollar Marginal Utili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mand Curve, Deriv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858C569E-6282-42CB-9C2F-804A7B89DC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851040" y="2178000"/>
          <a:ext cx="3571560" cy="2743200"/>
        </p:xfrm>
        <a:graphic>
          <a:graphicData uri="http://schemas.openxmlformats.org/drawingml/2006/table">
            <a:tbl>
              <a:tblPr/>
              <a:tblGrid>
                <a:gridCol w="2336760"/>
                <a:gridCol w="123480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nsum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5207040" y="2154240"/>
          <a:ext cx="2651040" cy="3657600"/>
        </p:xfrm>
        <a:graphic>
          <a:graphicData uri="http://schemas.openxmlformats.org/drawingml/2006/table">
            <a:tbl>
              <a:tblPr/>
              <a:tblGrid>
                <a:gridCol w="1285920"/>
                <a:gridCol w="13651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and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68F90E25-2547-492C-B863-0F37D284F4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2" descr="C:\Users\aholowinsky\Documents\McGrawHill\Sayre Micro Image Bank\Ch5\Fig5_2.bmp"/>
          <p:cNvPicPr/>
          <p:nvPr/>
        </p:nvPicPr>
        <p:blipFill>
          <a:blip r:embed="rId1"/>
          <a:stretch/>
        </p:blipFill>
        <p:spPr>
          <a:xfrm>
            <a:off x="0" y="1757520"/>
            <a:ext cx="9144000" cy="389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Consumer Choice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Explain the law of diminishing marginal utilit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Derive a consumers’ purchasing rule which ensures that satisfaction is maximize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Explain how marginal utility theory is applicable to real-world exampl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Provide a theoretical rationale for downward sloping demand curve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DCAB48BB-D950-4A3C-A683-16DD21F69D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amond Water Paradox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y is water (which has a very high value in use) inexpensive, while diamonds (which have a low value in use) expensive?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alue in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reflected in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tal util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f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alue in exchan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he price) is determined by i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rginal utilit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FDB632CC-87D5-4D65-BF32-68C4DEAE8D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difference between what a customer is willing to pay and the actual price of the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91E39431-536F-427E-8C04-90A2658B9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925560" y="2502000"/>
          <a:ext cx="7315200" cy="1708200"/>
        </p:xfrm>
        <a:graphic>
          <a:graphicData uri="http://schemas.openxmlformats.org/drawingml/2006/table">
            <a:tbl>
              <a:tblPr/>
              <a:tblGrid>
                <a:gridCol w="1347840"/>
                <a:gridCol w="987480"/>
                <a:gridCol w="792000"/>
                <a:gridCol w="2303640"/>
                <a:gridCol w="188424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ms of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Consumer Sur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nsumer Sur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Rectangle 8"/>
          <p:cNvSpPr/>
          <p:nvPr/>
        </p:nvSpPr>
        <p:spPr>
          <a:xfrm>
            <a:off x="1351080" y="4626000"/>
            <a:ext cx="64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 consumer surplus (MC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$M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690480" y="5307120"/>
            <a:ext cx="797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nsumer surplu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 un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5355FF3A-66A0-4108-9837-655F367BC6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7" descr="Fig5_3.bmp"/>
          <p:cNvPicPr/>
          <p:nvPr/>
        </p:nvPicPr>
        <p:blipFill>
          <a:blip r:embed="rId1"/>
          <a:stretch/>
        </p:blipFill>
        <p:spPr>
          <a:xfrm>
            <a:off x="0" y="1349280"/>
            <a:ext cx="9005760" cy="3949920"/>
          </a:xfrm>
          <a:prstGeom prst="rect">
            <a:avLst/>
          </a:prstGeom>
          <a:ln w="0">
            <a:noFill/>
          </a:ln>
        </p:spPr>
      </p:pic>
      <p:sp>
        <p:nvSpPr>
          <p:cNvPr id="586" name="TextBox 9"/>
          <p:cNvSpPr/>
          <p:nvPr/>
        </p:nvSpPr>
        <p:spPr>
          <a:xfrm>
            <a:off x="957600" y="5465880"/>
            <a:ext cx="72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surplus = ½ x (32-20) x (60,000-0) = $36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add up all consumer surpl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E12AC410-D786-45A0-AD5A-E78BEE3C8F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8" descr="Fig5_4.bmp"/>
          <p:cNvPicPr/>
          <p:nvPr/>
        </p:nvPicPr>
        <p:blipFill>
          <a:blip r:embed="rId1"/>
          <a:stretch/>
        </p:blipFill>
        <p:spPr>
          <a:xfrm>
            <a:off x="0" y="1901880"/>
            <a:ext cx="9144000" cy="364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FC835E79-11D7-4332-BFAC-53C8EC0262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partial units cannot be bought, what is the marginal consumer surplus for each unit bought, and what is the total consumer surplus if the price is $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2403360" y="2786040"/>
          <a:ext cx="4262400" cy="2093760"/>
        </p:xfrm>
        <a:graphic>
          <a:graphicData uri="http://schemas.openxmlformats.org/drawingml/2006/table">
            <a:tbl>
              <a:tblPr/>
              <a:tblGrid>
                <a:gridCol w="2140200"/>
                <a:gridCol w="2122200"/>
              </a:tblGrid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6D75C2C5-3D52-4657-8254-31808006D8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1"/>
          <p:cNvSpPr/>
          <p:nvPr/>
        </p:nvSpPr>
        <p:spPr>
          <a:xfrm>
            <a:off x="1351080" y="3772800"/>
            <a:ext cx="6432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Qty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Willing to pay    Actual Price    Marginal Surpl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1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9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8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7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6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otal consumer surplus =  $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2413080" y="1254240"/>
          <a:ext cx="4263840" cy="2095560"/>
        </p:xfrm>
        <a:graphic>
          <a:graphicData uri="http://schemas.openxmlformats.org/drawingml/2006/table">
            <a:tbl>
              <a:tblPr/>
              <a:tblGrid>
                <a:gridCol w="2139840"/>
                <a:gridCol w="2124000"/>
              </a:tblGrid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elling of an identical product at a different price to different custom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 reasons other than differences in the cost of produ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umers have different demands for the same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 therefore prepared to pay different pr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27BAAA8F-F74C-446A-8C6C-6160B66595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F563BA69-2E74-425E-ACC3-27DCD9905E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8" descr="Fig5_5.bmp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316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563840"/>
            <a:ext cx="8229600" cy="47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actice price discrimination, must: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groups of customers with different demand elasticit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parate them from the other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sure that those obtaining the lower prices cannot resell the produc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sure that the seller has control over the price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440B31B4-9B60-46B7-9C20-96AAB2AC6F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89197F87-98BF-4D08-9E0A-10B3D8B0B7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and for haircuts from seniors differs greatly from that from your other customer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) If you could only charge one price to all customers, which price would give you the greatest sales revenue?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) Suppose that you charged a different price for seniors. What prices would you charge each group in order to maximize your sales revenu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2052720" y="2093760"/>
          <a:ext cx="5021280" cy="2452680"/>
        </p:xfrm>
        <a:graphic>
          <a:graphicData uri="http://schemas.openxmlformats.org/drawingml/2006/table">
            <a:tbl>
              <a:tblPr/>
              <a:tblGrid>
                <a:gridCol w="1562040"/>
                <a:gridCol w="1673280"/>
                <a:gridCol w="1785960"/>
              </a:tblGrid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Consumer Choice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Understand why consumers generally value a product more than the price they pa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6: Understand why some sellers charge different prices to different consumers for the same product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13A01C6E-649A-44DB-A03A-5213114FA1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3876F9B4-9B62-46CB-B7EA-95F9A3622E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If you could only charge one price to all customers, which price would give you the greatest sales revenu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"/>
          <p:cNvSpPr/>
          <p:nvPr/>
        </p:nvSpPr>
        <p:spPr>
          <a:xfrm>
            <a:off x="690480" y="5006520"/>
            <a:ext cx="73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2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, which gives a total sales revenue of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925560" y="1360440"/>
          <a:ext cx="7315200" cy="2743200"/>
        </p:xfrm>
        <a:graphic>
          <a:graphicData uri="http://schemas.openxmlformats.org/drawingml/2006/table">
            <a:tbl>
              <a:tblPr/>
              <a:tblGrid>
                <a:gridCol w="1112760"/>
                <a:gridCol w="1192320"/>
                <a:gridCol w="1193760"/>
                <a:gridCol w="1271520"/>
                <a:gridCol w="1271520"/>
                <a:gridCol w="12733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EC8420F7-0B9C-4347-BB3A-9D1CAC3106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Suppose that you charged a different price for seniors. What prices would you charge each group to maximize your reven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"/>
          <p:cNvSpPr/>
          <p:nvPr/>
        </p:nvSpPr>
        <p:spPr>
          <a:xfrm>
            <a:off x="690480" y="5024160"/>
            <a:ext cx="730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0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to seniors (total revenue of $160).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8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(or $20) to the other customers (total revenue of $180).  (In total, then, the sales revenue would be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4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925560" y="1360440"/>
          <a:ext cx="7315200" cy="2743200"/>
        </p:xfrm>
        <a:graphic>
          <a:graphicData uri="http://schemas.openxmlformats.org/drawingml/2006/table">
            <a:tbl>
              <a:tblPr/>
              <a:tblGrid>
                <a:gridCol w="1112760"/>
                <a:gridCol w="1192320"/>
                <a:gridCol w="1193760"/>
                <a:gridCol w="1271520"/>
                <a:gridCol w="1271520"/>
                <a:gridCol w="12733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4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57F0E485-E158-46AB-9A3F-486201427F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arginal utility and total util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umers’ optimal purchasing rule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law of diminishing marginal utility and how it relates to a downward sloping demand cur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umer surplus and how to calculate i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Price discrimination and the conditions requir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tra or additional uni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Util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atisfaction or pleasure derived from the consumption of a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1FD5408A-EC03-4CE3-BAD5-7816A6B60C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4736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Utilit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mount of additional utility derived from the consumption of an extra unit of a produc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Util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m of the marginal utility from each uni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7B6746E4-3387-43E4-85B0-74045A51A8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2127240" y="3359160"/>
            <a:ext cx="4805280" cy="1074600"/>
            <a:chOff x="2127240" y="3359160"/>
            <a:chExt cx="4805280" cy="1074600"/>
          </a:xfrm>
        </p:grpSpPr>
        <p:sp>
          <p:nvSpPr>
            <p:cNvPr id="449" name="Rounded Rectangle 8"/>
            <p:cNvSpPr/>
            <p:nvPr/>
          </p:nvSpPr>
          <p:spPr>
            <a:xfrm>
              <a:off x="2127240" y="3359160"/>
              <a:ext cx="4805280" cy="1074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0" name="" descr=""/>
            <p:cNvPicPr/>
            <p:nvPr/>
          </p:nvPicPr>
          <p:blipFill>
            <a:blip r:embed="rId1"/>
            <a:stretch/>
          </p:blipFill>
          <p:spPr>
            <a:xfrm>
              <a:off x="2268000" y="3486600"/>
              <a:ext cx="4513680" cy="808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Utility applies when: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nsumer is behaving rationall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nsumer’s objective is maximum satisfa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rchases and consumption take place over a short period of ti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units purchased may sometimes be sets of ite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EF367036-8550-4C25-B771-A5460A14CD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785600"/>
            <a:ext cx="822960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5.1 Total Marginal Utilit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934FDF37-B23E-4F36-9934-E1E2C99C43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914400" y="2530440"/>
          <a:ext cx="7294680" cy="3073320"/>
        </p:xfrm>
        <a:graphic>
          <a:graphicData uri="http://schemas.openxmlformats.org/drawingml/2006/table">
            <a:tbl>
              <a:tblPr/>
              <a:tblGrid>
                <a:gridCol w="2195640"/>
                <a:gridCol w="2886120"/>
                <a:gridCol w="2212920"/>
              </a:tblGrid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ginal Utility (M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Utility (T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aw of Diminishing Marginal Utility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mount of additional utility decreases as successive units of a product are consum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D626E82A-2165-450F-89F7-AC491118ED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F5A2E2CC-EFBF-4C3A-A164-8F21D8BE17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8" descr="Fig5_1.bmp"/>
          <p:cNvPicPr/>
          <p:nvPr/>
        </p:nvPicPr>
        <p:blipFill>
          <a:blip r:embed="rId1"/>
          <a:stretch/>
        </p:blipFill>
        <p:spPr>
          <a:xfrm>
            <a:off x="0" y="855720"/>
            <a:ext cx="9144000" cy="546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40:41Z</dcterms:modified>
  <cp:revision>277</cp:revision>
  <dc:subject/>
  <dc:title>Slide 1</dc:title>
</cp:coreProperties>
</file>