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7E3-E64E-4D03-90A2-F0CFBAA0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04CA-1144-48F8-BA45-21FBFB51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DFA933-35DA-43F0-B35F-5EB03934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E8FCCE-664E-442C-8159-7799C43A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60FBAE-A59E-442E-90E4-60A1603E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C03486-4AF0-4474-AF88-9E68626D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1214F-D054-4F65-BFE5-89372D71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897C82-5A35-4ABF-AD2B-3CE0E927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C9CE34-611C-4387-AFEC-66CF6BCA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449E1B-8FA0-4D54-8271-35E2AFDF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0C0708-FD3E-467D-B68A-1962B9FC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C4BD5D-6323-4CF7-9F8B-0675C411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8EA-E291-40EB-85A1-27902AEF7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09058D-367A-4E49-8CDE-28EC808D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1E989-B21A-4035-99B6-E3A67002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25D30D-BEAD-4664-B4BD-007EB379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F19D49-49D7-4C38-BF8B-38797DE7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4EF73E-61A1-4DDC-B94C-214C7F67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BAD306-1DDD-4D9D-BE6D-2B2552AD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C4F629-302A-4E73-9755-D7B81AE2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0D13FF-9B61-47C7-BC4C-6A617FF7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76C50-C23A-4237-88EA-65FD005D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7B0AB1-825C-495D-ACE8-D5F7DD82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4E68-058C-4B2E-88C4-D186412A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99D37-AF25-45C4-850A-D7F1D19D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0C04-C938-4202-B7BD-ED73FB7F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AAA3-C7F4-4F9C-B6F1-A01EC07A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637A-AC7F-4076-97BB-66A9DAAE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C094-D762-4D73-8B43-5E791152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8B6D-6E26-4D2B-AE3C-B23C7F08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1F95-2E70-454E-936F-335F1CB0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9B15-D37E-45C0-9A0E-1E0AFE40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14BD-BA1C-483D-A300-CE54ED28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CEAC-CC85-48B8-A268-35BCC1EE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E6A0-6B06-484A-BCB2-B401F396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8B53-005B-4E48-A231-F0C23917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9D09-8208-4A62-82A1-E6291C71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3C93-0F45-4BF3-9E71-AD882AEF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61423-F277-483E-990F-99C68235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9B03E-883E-4B01-85CC-449665C5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1119B-2196-496F-9796-1076E6D1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5CFA7-8AE0-4A3C-86BC-DD8EA63E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ECA12-2FF3-4086-A403-5FE29DE7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6EE-3992-4A33-9E32-42F52372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C9A81-582F-4908-9075-7F610585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DCE69-9315-4D31-A76D-75BA6137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BA36A-6ED0-4AB0-97EA-AAA50A1E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1640C-2719-4165-BFC0-EE12F846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236B2-F369-4449-8608-8534203A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7EE52-F1AE-4E25-8D0C-CAC5ED2E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F3763-C42F-45E3-B8EF-AA6F7298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9288B-7750-4A6F-9C83-7D2DA1FE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788A8-7327-4D2D-B265-71E8C37C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24A1D-8D64-44CB-82EC-FD731649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BEC6-8EA1-4BB0-B3E3-BA09E830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D24B8-E18D-487F-BD80-1C9415DD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6AEB5-7449-47B6-A05A-2F6FE220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16446-95CE-4270-8F55-DD855C1E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208F0-683C-4E98-928D-0D8284BA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3A74C-8EF0-450D-88B8-980FFCB2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6673D-5AB6-483A-9E96-6D534D9E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900C5-BE9C-457C-9CC3-E49EC44C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2334D-8779-4E98-960D-BBB28737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4A27F-D719-4310-AE74-47766E49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69E41-F91C-4F0E-935E-47BF8373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B7C-83D2-407F-BC3F-E3E3022E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99757-5D6A-4E5B-982F-48E2E83B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D84BF-D70E-4D43-8178-469ED05E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848F5-2421-4045-A307-11469814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9C3C3-7871-4B4A-A800-B11EEB0C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06825-C645-4B32-9AB2-E738999E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49F49-7F27-446C-BE50-9343DC67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67828-3A9F-45DD-8FFF-C98F3B51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7096A-38AF-4E4C-98E6-779FEF50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2CD51-A6F7-4F90-B1D9-7C9F07318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81392-AD77-48E3-B88A-E1D26A77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99E3-77D0-48D4-AB2D-D5613FC5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9D164-2EB1-4EFA-AD15-BCE2458A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DDB84B-FC32-4308-BC11-56B4E38EFAE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580580-1E8A-4126-ABCB-104D3653B2A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CC421E-53DB-4108-9414-009B1402567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5B32C4-ED62-43C6-9D35-542FB9D7A99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4B8290-9814-4F52-B597-C9852D2631C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4F8F28-07CF-46C2-B2F8-13629224081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59F19A-FAE4-4801-96D4-59C61242A40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409351-78D5-40DD-9D78-E0B3544322F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4D2117-00C7-4F47-A3B8-AF79B9AA7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E63F-E26C-4D77-A9D6-5CCD2B31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511C22-2EF2-4B7D-ABAF-E70C217559D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6E28DA-79DE-4919-90A1-7A9959AF901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A364A1-E862-4329-AA49-82FAB8180E4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A3FD94-385E-44E9-A828-9DF64513168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456C54-6E2D-4DAA-8E79-CF0547798EA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1705B3-159B-47FD-B773-29412FFB987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23665E-44E6-4F69-AC5C-0DF92D342C3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C9EE59-1BA0-4AE7-92B9-CCEA5CF4E73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A039E2-A5BB-491B-A46F-5846920DFD6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CE124F-7E58-4BC6-B57D-F2DD75DED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48C2-7716-4787-B7D9-BD90EE79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DB93CB-086D-41F6-B6FE-C789DDAA457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93F52B-7F53-463F-83F6-4B1DAF5A5D7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65C8EB-79FC-4958-8FC1-EA770C54C75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06EE4F-E6CE-410D-9A5D-EC4D41959C8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BD65C1-9AE5-417D-B749-30717843B58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482052-F3E8-4FE8-8C47-22EA9A8C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4CAE10-6DAC-44B3-B5BC-3CF66F76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9D4251-B8C6-4C8C-9D32-3E3A0FFB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6B7AB3-2E79-4D7B-A6DD-74FE15E7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F0D94A-808D-44DD-BE13-7F6AEF33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3E1-4CBD-4D9F-86F7-D5A3FFF8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5D1BF3-E7BA-4174-8E40-55CDB9A9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B73084-44EC-4706-B5A2-526171D5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9160C7-4A7A-482A-BEB9-99B5A722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F7B9F4-1E86-461A-81FB-179B8D2E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EE914C-BEBB-4759-9D9B-E42D8723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408B6F-B8AE-43A3-9EFA-B575FD70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BA6A16-2006-4054-A3B0-3305D36A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72F3EF-6A65-4C13-BBCB-3180357E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5BAA58-B01B-4F22-9147-B3636C49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71C0BD-9499-40D1-8EEA-32AFFC12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C16346E-103B-48B2-8E22-28EA1B5EC0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94A8C13-9910-49A1-8319-36E22E7E80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91E3417-D287-4686-8328-C503C0E060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63932B5-09F9-4DE4-BC2F-211E9AEAF0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59B5CA2-4C80-43D8-B335-0CF42509F9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20BEBFC-0DBC-48D7-8520-4D79E3578D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CDB0C4B-9EFC-4875-9859-B79F2FC7C6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3BE6765-1E45-443B-8C6B-8B8E7BCA29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Consumer Choice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5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9CB08C08-7DC1-4DDF-93D5-9FBD375EFC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table, which shows Michelle’s utility for milksh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898560" y="2254320"/>
          <a:ext cx="7288200" cy="3932280"/>
        </p:xfrm>
        <a:graphic>
          <a:graphicData uri="http://schemas.openxmlformats.org/drawingml/2006/table">
            <a:tbl>
              <a:tblPr/>
              <a:tblGrid>
                <a:gridCol w="2438280"/>
                <a:gridCol w="2156040"/>
                <a:gridCol w="2693880"/>
              </a:tblGrid>
              <a:tr h="758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 (T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 (M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D0A81BEC-06F9-41A4-9F32-F2DD954ED8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table, which shows Michelle’s utility for milksh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14"/>
          <p:cNvSpPr/>
          <p:nvPr/>
        </p:nvSpPr>
        <p:spPr>
          <a:xfrm>
            <a:off x="6611040" y="299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898560" y="2254320"/>
          <a:ext cx="7288200" cy="3932280"/>
        </p:xfrm>
        <a:graphic>
          <a:graphicData uri="http://schemas.openxmlformats.org/drawingml/2006/table">
            <a:tbl>
              <a:tblPr/>
              <a:tblGrid>
                <a:gridCol w="2438280"/>
                <a:gridCol w="2156040"/>
                <a:gridCol w="2693880"/>
              </a:tblGrid>
              <a:tr h="758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 (T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 (M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Box 8"/>
          <p:cNvSpPr/>
          <p:nvPr/>
        </p:nvSpPr>
        <p:spPr>
          <a:xfrm>
            <a:off x="6593040" y="3384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0"/>
          <p:cNvSpPr/>
          <p:nvPr/>
        </p:nvSpPr>
        <p:spPr>
          <a:xfrm>
            <a:off x="4162320" y="3770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11"/>
          <p:cNvSpPr/>
          <p:nvPr/>
        </p:nvSpPr>
        <p:spPr>
          <a:xfrm>
            <a:off x="4176720" y="418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13"/>
          <p:cNvSpPr/>
          <p:nvPr/>
        </p:nvSpPr>
        <p:spPr>
          <a:xfrm>
            <a:off x="666360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Box 15"/>
          <p:cNvSpPr/>
          <p:nvPr/>
        </p:nvSpPr>
        <p:spPr>
          <a:xfrm>
            <a:off x="6646320" y="495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Box 16"/>
          <p:cNvSpPr/>
          <p:nvPr/>
        </p:nvSpPr>
        <p:spPr>
          <a:xfrm>
            <a:off x="4176720" y="535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17"/>
          <p:cNvSpPr/>
          <p:nvPr/>
        </p:nvSpPr>
        <p:spPr>
          <a:xfrm>
            <a:off x="4168800" y="5745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Optimal Purchasing R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58880"/>
            <a:ext cx="82296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rational consumer should purchase the product that yields the greatest marginal utility per doll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1B0F1466-244E-4A29-875E-75C3BBE7D5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Group 9"/>
          <p:cNvGrpSpPr/>
          <p:nvPr/>
        </p:nvGrpSpPr>
        <p:grpSpPr>
          <a:xfrm>
            <a:off x="2487600" y="2881440"/>
            <a:ext cx="4125960" cy="1074600"/>
            <a:chOff x="2487600" y="2881440"/>
            <a:chExt cx="4125960" cy="1074600"/>
          </a:xfrm>
        </p:grpSpPr>
        <p:sp>
          <p:nvSpPr>
            <p:cNvPr id="499" name="Rounded Rectangle 8"/>
            <p:cNvSpPr/>
            <p:nvPr/>
          </p:nvSpPr>
          <p:spPr>
            <a:xfrm>
              <a:off x="2487600" y="2881440"/>
              <a:ext cx="4125960" cy="1074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1"/>
            <a:stretch/>
          </p:blipFill>
          <p:spPr>
            <a:xfrm>
              <a:off x="2944800" y="2987640"/>
              <a:ext cx="3268440" cy="90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2158920" y="4379760"/>
            <a:ext cx="4891320" cy="170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Optimal Purchasing R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807920"/>
            <a:ext cx="822960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order to maximize utility, a consumer should spend her budget so that $MU spent on all products is equ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6408D8B0-C8A9-448C-9188-B2D1262C51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Group 14"/>
          <p:cNvGrpSpPr/>
          <p:nvPr/>
        </p:nvGrpSpPr>
        <p:grpSpPr>
          <a:xfrm>
            <a:off x="2541600" y="3530520"/>
            <a:ext cx="4124160" cy="1073160"/>
            <a:chOff x="2541600" y="3530520"/>
            <a:chExt cx="4124160" cy="1073160"/>
          </a:xfrm>
        </p:grpSpPr>
        <p:sp>
          <p:nvSpPr>
            <p:cNvPr id="512" name="Rounded Rectangle 8"/>
            <p:cNvSpPr/>
            <p:nvPr/>
          </p:nvSpPr>
          <p:spPr>
            <a:xfrm>
              <a:off x="2541600" y="3530520"/>
              <a:ext cx="4124160" cy="107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1"/>
            <a:stretch/>
          </p:blipFill>
          <p:spPr>
            <a:xfrm>
              <a:off x="2690280" y="3636720"/>
              <a:ext cx="3848040" cy="89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A4B2E558-2D0B-4336-A295-E93CB0B52B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903240" y="317520"/>
          <a:ext cx="7326360" cy="2468520"/>
        </p:xfrm>
        <a:graphic>
          <a:graphicData uri="http://schemas.openxmlformats.org/drawingml/2006/table">
            <a:tbl>
              <a:tblPr/>
              <a:tblGrid>
                <a:gridCol w="1022400"/>
                <a:gridCol w="1100160"/>
                <a:gridCol w="1643040"/>
                <a:gridCol w="1057320"/>
                <a:gridCol w="901800"/>
                <a:gridCol w="1601640"/>
              </a:tblGrid>
              <a:tr h="26820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T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ECES OF PAS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 per $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rice = $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 per $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rice = $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914400" y="3013200"/>
          <a:ext cx="7315200" cy="3344760"/>
        </p:xfrm>
        <a:graphic>
          <a:graphicData uri="http://schemas.openxmlformats.org/drawingml/2006/table">
            <a:tbl>
              <a:tblPr/>
              <a:tblGrid>
                <a:gridCol w="1422360"/>
                <a:gridCol w="1117800"/>
                <a:gridCol w="1109520"/>
                <a:gridCol w="1319040"/>
                <a:gridCol w="1263960"/>
                <a:gridCol w="1082520"/>
              </a:tblGrid>
              <a:tr h="56592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rc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sp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$ Sp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36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f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36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x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8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e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2" name="Oval 15"/>
          <p:cNvSpPr/>
          <p:nvPr/>
        </p:nvSpPr>
        <p:spPr>
          <a:xfrm>
            <a:off x="7145280" y="11383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16"/>
          <p:cNvSpPr/>
          <p:nvPr/>
        </p:nvSpPr>
        <p:spPr>
          <a:xfrm>
            <a:off x="3565440" y="113040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17"/>
          <p:cNvSpPr/>
          <p:nvPr/>
        </p:nvSpPr>
        <p:spPr>
          <a:xfrm>
            <a:off x="7151760" y="1400040"/>
            <a:ext cx="563400" cy="30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18"/>
          <p:cNvSpPr/>
          <p:nvPr/>
        </p:nvSpPr>
        <p:spPr>
          <a:xfrm>
            <a:off x="3568680" y="1400040"/>
            <a:ext cx="563760" cy="30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19"/>
          <p:cNvSpPr/>
          <p:nvPr/>
        </p:nvSpPr>
        <p:spPr>
          <a:xfrm>
            <a:off x="7142040" y="16765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20"/>
          <p:cNvSpPr/>
          <p:nvPr/>
        </p:nvSpPr>
        <p:spPr>
          <a:xfrm>
            <a:off x="3557520" y="16765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21"/>
          <p:cNvSpPr/>
          <p:nvPr/>
        </p:nvSpPr>
        <p:spPr>
          <a:xfrm>
            <a:off x="3568680" y="195264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22"/>
          <p:cNvSpPr/>
          <p:nvPr/>
        </p:nvSpPr>
        <p:spPr>
          <a:xfrm>
            <a:off x="903240" y="358308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23"/>
          <p:cNvSpPr/>
          <p:nvPr/>
        </p:nvSpPr>
        <p:spPr>
          <a:xfrm>
            <a:off x="932040" y="386712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24"/>
          <p:cNvSpPr/>
          <p:nvPr/>
        </p:nvSpPr>
        <p:spPr>
          <a:xfrm>
            <a:off x="915840" y="4130640"/>
            <a:ext cx="7315200" cy="5684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25"/>
          <p:cNvSpPr/>
          <p:nvPr/>
        </p:nvSpPr>
        <p:spPr>
          <a:xfrm>
            <a:off x="912960" y="4684680"/>
            <a:ext cx="7315200" cy="5666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26"/>
          <p:cNvSpPr/>
          <p:nvPr/>
        </p:nvSpPr>
        <p:spPr>
          <a:xfrm>
            <a:off x="903240" y="5245200"/>
            <a:ext cx="7315200" cy="5666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7"/>
          <p:cNvSpPr/>
          <p:nvPr/>
        </p:nvSpPr>
        <p:spPr>
          <a:xfrm>
            <a:off x="930240" y="579924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28"/>
          <p:cNvSpPr/>
          <p:nvPr/>
        </p:nvSpPr>
        <p:spPr>
          <a:xfrm>
            <a:off x="912960" y="6076800"/>
            <a:ext cx="7315200" cy="27648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36B833A4-6CBA-4317-913F-7C5E3E4EB1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e following marginal utilities and prices, which product would a rational consumer cho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914400" y="2541600"/>
          <a:ext cx="7358040" cy="1467000"/>
        </p:xfrm>
        <a:graphic>
          <a:graphicData uri="http://schemas.openxmlformats.org/drawingml/2006/table">
            <a:tbl>
              <a:tblPr/>
              <a:tblGrid>
                <a:gridCol w="2271600"/>
                <a:gridCol w="1271880"/>
                <a:gridCol w="1298520"/>
                <a:gridCol w="1217520"/>
                <a:gridCol w="1298520"/>
              </a:tblGrid>
              <a:tr h="60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e C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 D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8676B99D-2D72-402A-AF77-EA6EF794ED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e following marginal utilities and prices, which product would a rational consumer cho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914400" y="2541600"/>
          <a:ext cx="7358040" cy="1467000"/>
        </p:xfrm>
        <a:graphic>
          <a:graphicData uri="http://schemas.openxmlformats.org/drawingml/2006/table">
            <a:tbl>
              <a:tblPr/>
              <a:tblGrid>
                <a:gridCol w="2271600"/>
                <a:gridCol w="1271880"/>
                <a:gridCol w="1298520"/>
                <a:gridCol w="1217520"/>
                <a:gridCol w="1298520"/>
              </a:tblGrid>
              <a:tr h="60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e C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 D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Rectangle 1"/>
          <p:cNvSpPr/>
          <p:nvPr/>
        </p:nvSpPr>
        <p:spPr>
          <a:xfrm>
            <a:off x="606600" y="4093920"/>
            <a:ext cx="79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A rational consumer would choose an apple because it has the highest MU per $ as seen here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Apple   Beer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Ice Cream   Hot 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MU/Pric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8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7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   7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Theor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sights into Consumer Behaviour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s with low income elasticities (water, food) have the highest initial marginal utilities, will be purchased fir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ule applies only to the purchasing of the product, not to its repeated “consumption”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not compare utilities between peop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F2D424D6-CE74-4ED0-9C7C-171D2F2671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and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509840"/>
            <a:ext cx="822960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kio’s Dollar Marginal Utili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mand Curve, Deriv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B44FA818-1068-4454-8612-E5FDBCAF3F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851040" y="2178000"/>
          <a:ext cx="3571560" cy="2743200"/>
        </p:xfrm>
        <a:graphic>
          <a:graphicData uri="http://schemas.openxmlformats.org/drawingml/2006/table">
            <a:tbl>
              <a:tblPr/>
              <a:tblGrid>
                <a:gridCol w="2336760"/>
                <a:gridCol w="123480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nsum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5207040" y="2154240"/>
          <a:ext cx="2651040" cy="3657600"/>
        </p:xfrm>
        <a:graphic>
          <a:graphicData uri="http://schemas.openxmlformats.org/drawingml/2006/table">
            <a:tbl>
              <a:tblPr/>
              <a:tblGrid>
                <a:gridCol w="1285920"/>
                <a:gridCol w="13651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and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B9B47049-BFA9-47CF-8C30-ED8936D5F5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2" descr="C:\Users\aholowinsky\Documents\McGrawHill\Sayre Micro Image Bank\Ch5\Fig5_2.bmp"/>
          <p:cNvPicPr/>
          <p:nvPr/>
        </p:nvPicPr>
        <p:blipFill>
          <a:blip r:embed="rId1"/>
          <a:stretch/>
        </p:blipFill>
        <p:spPr>
          <a:xfrm>
            <a:off x="0" y="1757520"/>
            <a:ext cx="9144000" cy="389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Consumer Choice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Explain the law of diminishing marginal utilit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Derive a consumers’ purchasing rule which ensures that satisfaction is maximize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Explain how marginal utility theory is applicable to real-world exampl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Provide a theoretical rationale for downward sloping demand curve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2A00938E-61C4-408C-A76B-13F0536940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amond Water Paradox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y is water (which has a very high value in use) inexpensive, while diamonds (which have a low value in use) expensive?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alue in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reflected in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tal util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f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alue in exchan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he price) is determined by it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rginal utilit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C32C621E-BC88-4E35-9911-611D6DDDF8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difference between what a customer is willing to pay and the actual price of the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3A954785-0866-47E8-A986-928CE662A6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925560" y="2502000"/>
          <a:ext cx="7315200" cy="1708200"/>
        </p:xfrm>
        <a:graphic>
          <a:graphicData uri="http://schemas.openxmlformats.org/drawingml/2006/table">
            <a:tbl>
              <a:tblPr/>
              <a:tblGrid>
                <a:gridCol w="1347840"/>
                <a:gridCol w="987480"/>
                <a:gridCol w="792000"/>
                <a:gridCol w="2303640"/>
                <a:gridCol w="188424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ms of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Consumer Sur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nsumer Sur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Rectangle 8"/>
          <p:cNvSpPr/>
          <p:nvPr/>
        </p:nvSpPr>
        <p:spPr>
          <a:xfrm>
            <a:off x="1351080" y="4626000"/>
            <a:ext cx="64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 consumer surplus (MC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$M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690480" y="5307120"/>
            <a:ext cx="797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nsumer surplu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 un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3CA3B1F5-0BE6-41D1-B345-088F02D513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7" descr="Fig5_3.bmp"/>
          <p:cNvPicPr/>
          <p:nvPr/>
        </p:nvPicPr>
        <p:blipFill>
          <a:blip r:embed="rId1"/>
          <a:stretch/>
        </p:blipFill>
        <p:spPr>
          <a:xfrm>
            <a:off x="0" y="1349280"/>
            <a:ext cx="9005760" cy="3949920"/>
          </a:xfrm>
          <a:prstGeom prst="rect">
            <a:avLst/>
          </a:prstGeom>
          <a:ln w="0">
            <a:noFill/>
          </a:ln>
        </p:spPr>
      </p:pic>
      <p:sp>
        <p:nvSpPr>
          <p:cNvPr id="586" name="TextBox 9"/>
          <p:cNvSpPr/>
          <p:nvPr/>
        </p:nvSpPr>
        <p:spPr>
          <a:xfrm>
            <a:off x="957600" y="5465880"/>
            <a:ext cx="72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surplus = ½ x (32-20) x (60,000-0) = $36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add up all consumer surpl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760C1D8E-432C-4A86-8DC1-D20504A18C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8" descr="Fig5_4.bmp"/>
          <p:cNvPicPr/>
          <p:nvPr/>
        </p:nvPicPr>
        <p:blipFill>
          <a:blip r:embed="rId1"/>
          <a:stretch/>
        </p:blipFill>
        <p:spPr>
          <a:xfrm>
            <a:off x="0" y="1901880"/>
            <a:ext cx="9144000" cy="364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5207BC17-DDEF-494B-948E-1DBBC4F08F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partial units cannot be bought, what is the marginal consumer surplus for each unit bought, and what is the total consumer surplus if the price is $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2403360" y="2786040"/>
          <a:ext cx="4262400" cy="2093760"/>
        </p:xfrm>
        <a:graphic>
          <a:graphicData uri="http://schemas.openxmlformats.org/drawingml/2006/table">
            <a:tbl>
              <a:tblPr/>
              <a:tblGrid>
                <a:gridCol w="2140200"/>
                <a:gridCol w="2122200"/>
              </a:tblGrid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89B2A5C8-0B4D-4E03-8CDB-8359DB25EF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1"/>
          <p:cNvSpPr/>
          <p:nvPr/>
        </p:nvSpPr>
        <p:spPr>
          <a:xfrm>
            <a:off x="1351080" y="3772800"/>
            <a:ext cx="6432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Qty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Willing to pay    Actual Price    Marginal Surpl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1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9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8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7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6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otal consumer surplus =  $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2413080" y="1254240"/>
          <a:ext cx="4263840" cy="2095560"/>
        </p:xfrm>
        <a:graphic>
          <a:graphicData uri="http://schemas.openxmlformats.org/drawingml/2006/table">
            <a:tbl>
              <a:tblPr/>
              <a:tblGrid>
                <a:gridCol w="2139840"/>
                <a:gridCol w="2124000"/>
              </a:tblGrid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elling of an identical product at a different price to different custom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 reasons other than differences in the cost of produ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umers have different demands for the same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 therefore prepared to pay different pr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9648F468-118C-4A1A-B1C0-884F7B138A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C6A44CD0-E24D-409E-8D55-661EF1635F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8" descr="Fig5_5.bmp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316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563840"/>
            <a:ext cx="8229600" cy="47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actice price discrimination, must: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groups of customers with different demand elasticit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parate them from the other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sure that those obtaining the lower prices cannot resell the produc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sure that the seller has control over the price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18F16FEA-F30F-47D6-8E06-AB8B1EE2E2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E2AE7D48-76E4-4093-BCF7-A0AD90BDDE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and for haircuts from seniors differs greatly from that from your other customer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) If you could only charge one price to all customers, which price would give you the greatest sales revenue?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) Suppose that you charged a different price for seniors. What prices would you charge each group in order to maximize your sales revenu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2052720" y="2093760"/>
          <a:ext cx="5021280" cy="2452680"/>
        </p:xfrm>
        <a:graphic>
          <a:graphicData uri="http://schemas.openxmlformats.org/drawingml/2006/table">
            <a:tbl>
              <a:tblPr/>
              <a:tblGrid>
                <a:gridCol w="1562040"/>
                <a:gridCol w="1673280"/>
                <a:gridCol w="1785960"/>
              </a:tblGrid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Consumer Choice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Understand why consumers generally value a product more than the price they pa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6: Understand why some sellers charge different prices to different consumers for the same product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B7436E07-562B-443C-97F7-539BBD610B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0DD75A8C-B86C-4E58-8D87-9E54C836D4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If you could only charge one price to all customers, which price would give you the greatest sales revenu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1"/>
          <p:cNvSpPr/>
          <p:nvPr/>
        </p:nvSpPr>
        <p:spPr>
          <a:xfrm>
            <a:off x="690480" y="5006520"/>
            <a:ext cx="73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2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, which gives a total sales revenue of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925560" y="1360440"/>
          <a:ext cx="7315200" cy="2743200"/>
        </p:xfrm>
        <a:graphic>
          <a:graphicData uri="http://schemas.openxmlformats.org/drawingml/2006/table">
            <a:tbl>
              <a:tblPr/>
              <a:tblGrid>
                <a:gridCol w="1112760"/>
                <a:gridCol w="1192320"/>
                <a:gridCol w="1193760"/>
                <a:gridCol w="1271520"/>
                <a:gridCol w="1271520"/>
                <a:gridCol w="12733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B42AFAFE-13A3-4AA7-ACBE-3D9FCF9573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Suppose that you charged a different price for seniors. What prices would you charge each group to maximize your reven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"/>
          <p:cNvSpPr/>
          <p:nvPr/>
        </p:nvSpPr>
        <p:spPr>
          <a:xfrm>
            <a:off x="690480" y="5024160"/>
            <a:ext cx="730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0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to seniors (total revenue of $160).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8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(or $20) to the other customers (total revenue of $180).  (In total, then, the sales revenue would be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4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925560" y="1360440"/>
          <a:ext cx="7315200" cy="2743200"/>
        </p:xfrm>
        <a:graphic>
          <a:graphicData uri="http://schemas.openxmlformats.org/drawingml/2006/table">
            <a:tbl>
              <a:tblPr/>
              <a:tblGrid>
                <a:gridCol w="1112760"/>
                <a:gridCol w="1192320"/>
                <a:gridCol w="1193760"/>
                <a:gridCol w="1271520"/>
                <a:gridCol w="1271520"/>
                <a:gridCol w="12733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4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EEDC087B-0128-41DF-BE5F-87F78B60AA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arginal utility and total util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umers’ optimal purchasing rule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law of diminishing marginal utility and how it relates to a downward sloping demand cur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umer surplus and how to calculate i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Price discrimination and the conditions requir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tra or additional uni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Util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atisfaction or pleasure derived from the consumption of a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EB2CB1F5-3F9D-4806-BDA9-8C02598188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4736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Utilit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mount of additional utility derived from the consumption of an extra unit of a produc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Util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m of the marginal utility from each uni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F20ED3B3-D080-444F-A870-8B4095D4B3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2127240" y="3359160"/>
            <a:ext cx="4805280" cy="1074600"/>
            <a:chOff x="2127240" y="3359160"/>
            <a:chExt cx="4805280" cy="1074600"/>
          </a:xfrm>
        </p:grpSpPr>
        <p:sp>
          <p:nvSpPr>
            <p:cNvPr id="449" name="Rounded Rectangle 8"/>
            <p:cNvSpPr/>
            <p:nvPr/>
          </p:nvSpPr>
          <p:spPr>
            <a:xfrm>
              <a:off x="2127240" y="3359160"/>
              <a:ext cx="4805280" cy="1074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0" name="" descr=""/>
            <p:cNvPicPr/>
            <p:nvPr/>
          </p:nvPicPr>
          <p:blipFill>
            <a:blip r:embed="rId1"/>
            <a:stretch/>
          </p:blipFill>
          <p:spPr>
            <a:xfrm>
              <a:off x="2268000" y="3486600"/>
              <a:ext cx="4513680" cy="808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Utility applies when: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nsumer is behaving rationall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nsumer’s objective is maximum satisfa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rchases and consumption take place over a short period of ti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units purchased may sometimes be sets of ite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4D3416D7-2747-486A-87FA-72E4426FD2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785600"/>
            <a:ext cx="822960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5.1 Total Marginal Utilit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BD3C2CF8-9ECD-4A96-A64D-71979A296A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914400" y="2530440"/>
          <a:ext cx="7294680" cy="3073320"/>
        </p:xfrm>
        <a:graphic>
          <a:graphicData uri="http://schemas.openxmlformats.org/drawingml/2006/table">
            <a:tbl>
              <a:tblPr/>
              <a:tblGrid>
                <a:gridCol w="2195640"/>
                <a:gridCol w="2886120"/>
                <a:gridCol w="2212920"/>
              </a:tblGrid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ginal Utility (M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Utility (T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aw of Diminishing Marginal Utility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mount of additional utility decreases as successive units of a product are consum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74AB2F41-0E3E-43C4-95CE-0ADF010401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1ACC24D6-0C4B-492F-9CAD-EC8517EDAD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8" descr="Fig5_1.bmp"/>
          <p:cNvPicPr/>
          <p:nvPr/>
        </p:nvPicPr>
        <p:blipFill>
          <a:blip r:embed="rId1"/>
          <a:stretch/>
        </p:blipFill>
        <p:spPr>
          <a:xfrm>
            <a:off x="0" y="855720"/>
            <a:ext cx="9144000" cy="546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40:41Z</dcterms:modified>
  <cp:revision>277</cp:revision>
  <dc:subject/>
  <dc:title>Slide 1</dc:title>
</cp:coreProperties>
</file>