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wmf" ContentType="image/x-wmf"/>
  <Override PartName="/ppt/media/image3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2B4A-1776-4274-977E-643898A3F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9A64-1341-43FE-B65D-AAC68E86B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C2BA15-8B9B-4837-821C-D3F641810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9E2627-3DD8-4DF4-9E82-E9CDCBAE5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EEF675-1767-4651-B78C-BB78C024C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F180E3-C1BF-4C38-969F-E6EE7D6E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A98095-223B-4923-9650-DA7ADB40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FC8C6D-DD14-449D-A1AB-067A51DE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B67C34-8FF2-42CD-9B7C-1FCE57C76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13F700-B79D-45E6-B7A5-2C0C5E65F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24C63E-D650-4DF8-9A85-059209B2C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9DBB35-7FDB-4E4D-8EA6-CC2D31124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FF12-F664-4C91-9044-666A8C380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C8BCFD-A005-4DFE-BD61-09BAC9985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69A407-DD52-4BB7-8C5F-8A9F408DB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1B08D9-3FB1-4136-A9FC-101E7A5AD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4214AB-F829-4F1F-8064-D28A7B91E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18C1E4-5415-4E12-BA4C-8380FDCA6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256173-5CFB-4963-905F-56F71C9F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D35A90-D70B-4DF0-91AD-FDC2FB24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62DF18-297E-4CAC-8017-7AD39526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1C74FD-7A7F-4404-81F9-93966842C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2751F8-3A9E-40CE-9C88-7A2F6A12D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7B09-036E-4EA2-8F13-C571466EF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251E64-5A43-4EB3-B5D6-C0AACB6D8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8CE80-EBEA-49C6-9900-9E6B6B359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1A684-0E59-4865-AD79-15F485C59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7821C-8775-4E1B-AC8D-8DF7DA60A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1C165-4CAF-41D7-895F-700221758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53C62-D3BC-4933-A336-E274E2381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3E829-D54A-4C93-B284-AABCF0AFC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D2BA2-07D5-44D2-AFAD-8308BBBD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0417-C50E-4D73-B10D-C7E4E62A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081EC-98B1-4BC3-B3F4-953580DA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A9CC0-A4A5-462C-B09C-F1A1CB0C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408B3-1056-42D9-894D-60354523E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6D8B3-2C2D-49F3-BFC7-F86CE78CD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2D4FD-EE38-408C-9CD7-7E09CD143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C1719-1CAC-4237-9D87-460938DF0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8811D-5B5D-4A59-A599-5E0AD1389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E8763-2618-4F3E-B0F1-516E2685A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11DF5-A4F2-40B0-AE7E-2E5270D9A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B7FCD-ED00-4F1E-8451-C6739DFA2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A62D-7436-4567-9909-A57EC443C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2B8E1-55FF-4F21-9126-F9E4B735C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8A4FC-DB47-4A22-ADCB-37FFB0F0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6BCC0-D986-411B-B0F6-F564132C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999C7-A1D6-465E-9EE1-F76EAE15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1B501-65ED-4DC6-9B9C-BDE472C46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7A394-BE87-4167-9D23-BE760774B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4F8E8-3825-478B-B027-628799116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DE254-7E74-41EE-8937-64E46916D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419F3-7EE9-45B1-A26D-8448F41BC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07027-6658-4BE1-830E-F327801A1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33E8-105E-4433-9C80-24DCD8E09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61A66-88D2-4023-8F5F-6ABF00B61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910FB-188B-4A84-81FC-318980F58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34541-A5DE-4D05-9672-BF7EA91A4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D94E9-E37F-433E-871F-E1D4F38F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F8DB2-9DAC-4CD4-9E37-2156D9DA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1508D-D86F-41BA-85CD-E7A33D61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3B729-099A-465D-95ED-478059FE5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F0235-60A2-438F-AF99-468209B63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88E3A-3477-43C9-9E42-358C89C1B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3E183-DEC3-40F2-8692-CCA1D56D2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BFCE-685B-4364-AB63-C845BBE8F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3BE64-77CB-49FB-8C94-28F1FF13C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6A2E4-0574-4C53-AC6A-2552AF68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E5BB5-4FB8-44AA-8113-1F4F546F9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49C35-0534-4328-842D-F51B1BE6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226D7-6BED-42D2-A89E-31F658EC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47F50-358B-41D5-B722-1C43074E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5638B-E47E-4D1A-9AB1-3A1EC7B6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669B0-5910-4FA1-AC4A-43B97AD2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DE755-8E2E-422F-B1E2-DF8125E7F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AF43D-F861-4907-8367-DCABEB11E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4498-7BFF-4123-87E6-10D75B54C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DA9F1-EA91-479F-A43E-521DED4EE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5F7589-FDA2-403E-AA5C-ECBF3DCFD16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93448A-05F0-4D15-8415-05E9D01F5D1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D3BB5C-0534-42D6-93CC-CA5B910ED04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762106-80E0-469D-AA7C-F758D64A8BA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24497E-7C24-4D6C-BC33-7F38966C41A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C62526-B788-4539-8143-75D5306AD47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D3247A-1DB9-4EAF-80D9-3FC0B11C955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B1B382-BBE5-48F0-B853-CA21CBC4730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469799-37BA-4817-8595-AF0E0695F0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FFD3-21DE-4F56-A854-5BC50D73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E7B1F8-F237-4F5E-A724-5E057AAE5CD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322770-C344-49AB-A4F1-03CDDD44FE2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0A3EA5-75B7-423A-9AEA-F99A496ED83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693DF92-3121-48B6-8280-79E6E530668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6168B3-1C6B-473C-B767-DC873E9253B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A465096-039B-46D3-BCE7-9047B6EB7A2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A7883F-BED3-4A48-BB36-CF9436EDC74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B48BA17-5F2F-49F5-8AA7-6981935CD27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F8634A7-71AB-4879-A578-10BD5E96171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F74EBEB-A641-4B80-810D-D5CACC0B23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AE92-9D02-4953-AB76-3EB38077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054D1BE-9DE9-4A67-B86A-A26833C9918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A0C4454-A720-495D-9AD3-DE076FAD6DE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CA5BABB-ED7F-4AB5-8F46-2ECCCF8BD6A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D667F1-7FCC-4A02-BDF8-F8BA02F864A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1BB5952-CE8D-4270-BAF0-40BBA484984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561F407-24EB-48DA-9D86-A81AA4DB1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B136F6C-24CB-444E-9F54-F1F1FF09B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F2FD850-2406-4D5F-B33D-0DCBA34B6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4AE41F5-850E-47AD-8B9E-E19203A96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95613D-8E87-4469-96A6-149EB757A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52DA-31D7-4832-976C-49409BA0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AE815BC-980E-4DB0-9531-224A326CC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EF22852-9329-493B-B0D6-FF6F928D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A246D0E-63EB-4E44-906F-272C9791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73BD84C-BCEA-409B-AA43-25038EE6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A6D62A4-AEA0-4D37-AA79-CE425470D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13FCF1-37FD-420B-98AD-86459CC64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2A8C2C1-B02F-4594-8D5F-96D5E2CF4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0ECFD6-7B8F-4C9B-840D-6CC52583F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5F0FD7-141C-441C-BB32-BADCA211F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214853-E5CA-4A40-9542-AB5050261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 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6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18465199-2EEF-403C-9196-024DE96077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aholowinsky\Documents\McGrawHill\Sayre_MICRO_0070385467_72dpi.jpg"/>
          <p:cNvPicPr/>
          <p:nvPr/>
        </p:nvPicPr>
        <p:blipFill>
          <a:blip r:embed="rId2"/>
          <a:srcRect l="329" t="8890" r="0" b="76669"/>
          <a:stretch/>
        </p:blipFill>
        <p:spPr>
          <a:xfrm>
            <a:off x="3048120" y="838080"/>
            <a:ext cx="4038480" cy="695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aholowinsky\Documents\McGrawHill\Sayre_MICRO_0070385467_72dpi.jpg"/>
          <p:cNvPicPr/>
          <p:nvPr/>
        </p:nvPicPr>
        <p:blipFill>
          <a:blip r:embed="rId3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43" name="Straight Connector 9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Straight Connector 10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Box 11"/>
          <p:cNvSpPr/>
          <p:nvPr/>
        </p:nvSpPr>
        <p:spPr>
          <a:xfrm>
            <a:off x="5562720" y="1828800"/>
            <a:ext cx="293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7933c"/>
                </a:solidFill>
                <a:latin typeface="Kalinga"/>
                <a:ea typeface="Kalinga"/>
              </a:rPr>
              <a:t>SAYRE  |  MORRIS      </a:t>
            </a:r>
            <a:r>
              <a:rPr b="1" lang="en-US" sz="1100" spc="-1" strike="noStrike">
                <a:solidFill>
                  <a:srgbClr val="fa4160"/>
                </a:solidFill>
                <a:latin typeface="Kalinga"/>
                <a:ea typeface="Kalinga"/>
              </a:rPr>
              <a:t>Seventh Edi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58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88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17"/>
          <p:cNvSpPr/>
          <p:nvPr/>
        </p:nvSpPr>
        <p:spPr>
          <a:xfrm>
            <a:off x="468360" y="2392200"/>
            <a:ext cx="47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earning Objectiv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1598FBC2-955B-43D9-82F9-E221F4B77B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133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44C7F04F-AD6C-498A-874D-8DB1CEC659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1987560"/>
            <a:ext cx="3859200" cy="2595600"/>
          </a:xfrm>
          <a:prstGeom prst="rect">
            <a:avLst/>
          </a:prstGeom>
          <a:ln w="0">
            <a:noFill/>
          </a:ln>
        </p:spPr>
      </p:pic>
      <p:sp>
        <p:nvSpPr>
          <p:cNvPr id="177" name="Straight Connector 9"/>
          <p:cNvSpPr/>
          <p:nvPr/>
        </p:nvSpPr>
        <p:spPr>
          <a:xfrm>
            <a:off x="0" y="198612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traight Connector 10"/>
          <p:cNvSpPr/>
          <p:nvPr/>
        </p:nvSpPr>
        <p:spPr>
          <a:xfrm>
            <a:off x="0" y="4591080"/>
            <a:ext cx="9144000" cy="792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D3E3B31B-1808-4F2D-B23D-E4160548EF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60D8C1B8-DB7B-4238-91CA-2FEB554CB8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B5776F98-E016-4CB8-90D4-92B580C627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0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A9B440FB-9490-4142-A730-5E0D15E2B6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C5C7517E-26DE-4F7D-AA6F-8493E4FCB1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657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7933c"/>
                </a:solidFill>
                <a:latin typeface="Kalinga"/>
                <a:ea typeface="Kalinga"/>
              </a:rPr>
              <a:t>Consumer Choice </a:t>
            </a:r>
            <a:endParaRPr b="0" lang="en-US" sz="4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Kalinga"/>
                <a:ea typeface="Kalinga"/>
              </a:rPr>
              <a:t>CHAPTER 5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33BE2555-7198-4440-8287-FA041D61F6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Rectangle 3"/>
          <p:cNvSpPr/>
          <p:nvPr/>
        </p:nvSpPr>
        <p:spPr>
          <a:xfrm>
            <a:off x="457200" y="1498680"/>
            <a:ext cx="8458200" cy="49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 the table, which shows Michelle’s utility for milkshak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898560" y="2254320"/>
          <a:ext cx="7288200" cy="3932280"/>
        </p:xfrm>
        <a:graphic>
          <a:graphicData uri="http://schemas.openxmlformats.org/drawingml/2006/table">
            <a:tbl>
              <a:tblPr/>
              <a:tblGrid>
                <a:gridCol w="2438280"/>
                <a:gridCol w="2156040"/>
                <a:gridCol w="2693880"/>
              </a:tblGrid>
              <a:tr h="758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Utility (TU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ginal Utility (MU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7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7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7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2D25BFB4-26DA-4033-B9D9-0BBD83614D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Rectangle 3"/>
          <p:cNvSpPr/>
          <p:nvPr/>
        </p:nvSpPr>
        <p:spPr>
          <a:xfrm>
            <a:off x="457200" y="1498680"/>
            <a:ext cx="8458200" cy="49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 the table, which shows Michelle’s utility for milkshak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Box 14"/>
          <p:cNvSpPr/>
          <p:nvPr/>
        </p:nvSpPr>
        <p:spPr>
          <a:xfrm>
            <a:off x="6611040" y="2998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898560" y="2254320"/>
          <a:ext cx="7288200" cy="3932280"/>
        </p:xfrm>
        <a:graphic>
          <a:graphicData uri="http://schemas.openxmlformats.org/drawingml/2006/table">
            <a:tbl>
              <a:tblPr/>
              <a:tblGrid>
                <a:gridCol w="2438280"/>
                <a:gridCol w="2156040"/>
                <a:gridCol w="2693880"/>
              </a:tblGrid>
              <a:tr h="758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Utility (TU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ginal Utility (MU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7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7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7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5" name="TextBox 8"/>
          <p:cNvSpPr/>
          <p:nvPr/>
        </p:nvSpPr>
        <p:spPr>
          <a:xfrm>
            <a:off x="6593040" y="3384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Box 10"/>
          <p:cNvSpPr/>
          <p:nvPr/>
        </p:nvSpPr>
        <p:spPr>
          <a:xfrm>
            <a:off x="4162320" y="3770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Box 11"/>
          <p:cNvSpPr/>
          <p:nvPr/>
        </p:nvSpPr>
        <p:spPr>
          <a:xfrm>
            <a:off x="4176720" y="4189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Box 13"/>
          <p:cNvSpPr/>
          <p:nvPr/>
        </p:nvSpPr>
        <p:spPr>
          <a:xfrm>
            <a:off x="6663600" y="4572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Box 15"/>
          <p:cNvSpPr/>
          <p:nvPr/>
        </p:nvSpPr>
        <p:spPr>
          <a:xfrm>
            <a:off x="6646320" y="495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Box 16"/>
          <p:cNvSpPr/>
          <p:nvPr/>
        </p:nvSpPr>
        <p:spPr>
          <a:xfrm>
            <a:off x="4176720" y="5359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Box 17"/>
          <p:cNvSpPr/>
          <p:nvPr/>
        </p:nvSpPr>
        <p:spPr>
          <a:xfrm>
            <a:off x="4168800" y="57452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Optimal Purchasing Rul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57200" y="1658880"/>
            <a:ext cx="8229600" cy="46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rational consumer should purchase the product that yields the greatest marginal utility per dollar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EC9D188B-C031-4146-A7C1-77E5CD34FD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Group 9"/>
          <p:cNvGrpSpPr/>
          <p:nvPr/>
        </p:nvGrpSpPr>
        <p:grpSpPr>
          <a:xfrm>
            <a:off x="2487600" y="2881440"/>
            <a:ext cx="4125960" cy="1074600"/>
            <a:chOff x="2487600" y="2881440"/>
            <a:chExt cx="4125960" cy="1074600"/>
          </a:xfrm>
        </p:grpSpPr>
        <p:sp>
          <p:nvSpPr>
            <p:cNvPr id="499" name="Rounded Rectangle 8"/>
            <p:cNvSpPr/>
            <p:nvPr/>
          </p:nvSpPr>
          <p:spPr>
            <a:xfrm>
              <a:off x="2487600" y="2881440"/>
              <a:ext cx="4125960" cy="1074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0" name="" descr=""/>
            <p:cNvPicPr/>
            <p:nvPr/>
          </p:nvPicPr>
          <p:blipFill>
            <a:blip r:embed="rId1"/>
            <a:stretch/>
          </p:blipFill>
          <p:spPr>
            <a:xfrm>
              <a:off x="2944800" y="2987640"/>
              <a:ext cx="3268440" cy="90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2158920" y="4379760"/>
            <a:ext cx="4891320" cy="1702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Optimal Purchasing Rul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57200" y="1807920"/>
            <a:ext cx="8229600" cy="45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 order to maximize utility, a consumer should spend her budget so that $MU spent on all products is equa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905EF416-1FC8-496B-9EA7-EFCF82B006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Group 14"/>
          <p:cNvGrpSpPr/>
          <p:nvPr/>
        </p:nvGrpSpPr>
        <p:grpSpPr>
          <a:xfrm>
            <a:off x="2541600" y="3530520"/>
            <a:ext cx="4124160" cy="1073160"/>
            <a:chOff x="2541600" y="3530520"/>
            <a:chExt cx="4124160" cy="1073160"/>
          </a:xfrm>
        </p:grpSpPr>
        <p:sp>
          <p:nvSpPr>
            <p:cNvPr id="512" name="Rounded Rectangle 8"/>
            <p:cNvSpPr/>
            <p:nvPr/>
          </p:nvSpPr>
          <p:spPr>
            <a:xfrm>
              <a:off x="2541600" y="3530520"/>
              <a:ext cx="4124160" cy="1073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3" name="" descr=""/>
            <p:cNvPicPr/>
            <p:nvPr/>
          </p:nvPicPr>
          <p:blipFill>
            <a:blip r:embed="rId1"/>
            <a:stretch/>
          </p:blipFill>
          <p:spPr>
            <a:xfrm>
              <a:off x="2690280" y="3636720"/>
              <a:ext cx="3848040" cy="890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054E7817-B1A1-4479-8AA5-5E8BF68605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903240" y="317520"/>
          <a:ext cx="7326360" cy="2468520"/>
        </p:xfrm>
        <a:graphic>
          <a:graphicData uri="http://schemas.openxmlformats.org/drawingml/2006/table">
            <a:tbl>
              <a:tblPr/>
              <a:tblGrid>
                <a:gridCol w="1022400"/>
                <a:gridCol w="1100160"/>
                <a:gridCol w="1643040"/>
                <a:gridCol w="1057320"/>
                <a:gridCol w="901800"/>
                <a:gridCol w="1601640"/>
              </a:tblGrid>
              <a:tr h="268200">
                <a:tc grid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T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IECES OF PAS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 per $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price = $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 per $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price = $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1" name=""/>
          <p:cNvGraphicFramePr/>
          <p:nvPr/>
        </p:nvGraphicFramePr>
        <p:xfrm>
          <a:off x="914400" y="3013200"/>
          <a:ext cx="7315200" cy="3344760"/>
        </p:xfrm>
        <a:graphic>
          <a:graphicData uri="http://schemas.openxmlformats.org/drawingml/2006/table">
            <a:tbl>
              <a:tblPr/>
              <a:tblGrid>
                <a:gridCol w="1422360"/>
                <a:gridCol w="1117800"/>
                <a:gridCol w="1109520"/>
                <a:gridCol w="1319040"/>
                <a:gridCol w="1263960"/>
                <a:gridCol w="1082520"/>
              </a:tblGrid>
              <a:tr h="56592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rch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du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sp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 $ Sp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ginal ut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ut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260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rs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rst pas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368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on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rst lat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i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ond pas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ur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ond lat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f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ird pas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368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x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ird lat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188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ven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urth lat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22" name="Oval 15"/>
          <p:cNvSpPr/>
          <p:nvPr/>
        </p:nvSpPr>
        <p:spPr>
          <a:xfrm>
            <a:off x="7145280" y="1138320"/>
            <a:ext cx="563760" cy="307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Oval 16"/>
          <p:cNvSpPr/>
          <p:nvPr/>
        </p:nvSpPr>
        <p:spPr>
          <a:xfrm>
            <a:off x="3565440" y="1130400"/>
            <a:ext cx="563760" cy="307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Oval 17"/>
          <p:cNvSpPr/>
          <p:nvPr/>
        </p:nvSpPr>
        <p:spPr>
          <a:xfrm>
            <a:off x="7151760" y="1400040"/>
            <a:ext cx="563400" cy="308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Oval 18"/>
          <p:cNvSpPr/>
          <p:nvPr/>
        </p:nvSpPr>
        <p:spPr>
          <a:xfrm>
            <a:off x="3568680" y="1400040"/>
            <a:ext cx="563760" cy="308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Oval 19"/>
          <p:cNvSpPr/>
          <p:nvPr/>
        </p:nvSpPr>
        <p:spPr>
          <a:xfrm>
            <a:off x="7142040" y="1676520"/>
            <a:ext cx="563760" cy="307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Oval 20"/>
          <p:cNvSpPr/>
          <p:nvPr/>
        </p:nvSpPr>
        <p:spPr>
          <a:xfrm>
            <a:off x="3557520" y="1676520"/>
            <a:ext cx="563760" cy="307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Oval 21"/>
          <p:cNvSpPr/>
          <p:nvPr/>
        </p:nvSpPr>
        <p:spPr>
          <a:xfrm>
            <a:off x="3568680" y="1952640"/>
            <a:ext cx="563760" cy="307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22"/>
          <p:cNvSpPr/>
          <p:nvPr/>
        </p:nvSpPr>
        <p:spPr>
          <a:xfrm>
            <a:off x="903240" y="3583080"/>
            <a:ext cx="7315200" cy="276120"/>
          </a:xfrm>
          <a:prstGeom prst="rect">
            <a:avLst/>
          </a:prstGeom>
          <a:solidFill>
            <a:srgbClr val="ffff00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Rectangle 23"/>
          <p:cNvSpPr/>
          <p:nvPr/>
        </p:nvSpPr>
        <p:spPr>
          <a:xfrm>
            <a:off x="932040" y="3867120"/>
            <a:ext cx="7315200" cy="276120"/>
          </a:xfrm>
          <a:prstGeom prst="rect">
            <a:avLst/>
          </a:prstGeom>
          <a:solidFill>
            <a:srgbClr val="ffff00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24"/>
          <p:cNvSpPr/>
          <p:nvPr/>
        </p:nvSpPr>
        <p:spPr>
          <a:xfrm>
            <a:off x="915840" y="4130640"/>
            <a:ext cx="7315200" cy="568440"/>
          </a:xfrm>
          <a:prstGeom prst="rect">
            <a:avLst/>
          </a:prstGeom>
          <a:solidFill>
            <a:srgbClr val="ffff00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Rectangle 25"/>
          <p:cNvSpPr/>
          <p:nvPr/>
        </p:nvSpPr>
        <p:spPr>
          <a:xfrm>
            <a:off x="912960" y="4684680"/>
            <a:ext cx="7315200" cy="566640"/>
          </a:xfrm>
          <a:prstGeom prst="rect">
            <a:avLst/>
          </a:prstGeom>
          <a:solidFill>
            <a:srgbClr val="ffff00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26"/>
          <p:cNvSpPr/>
          <p:nvPr/>
        </p:nvSpPr>
        <p:spPr>
          <a:xfrm>
            <a:off x="903240" y="5245200"/>
            <a:ext cx="7315200" cy="566640"/>
          </a:xfrm>
          <a:prstGeom prst="rect">
            <a:avLst/>
          </a:prstGeom>
          <a:solidFill>
            <a:srgbClr val="ffff00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Rectangle 27"/>
          <p:cNvSpPr/>
          <p:nvPr/>
        </p:nvSpPr>
        <p:spPr>
          <a:xfrm>
            <a:off x="930240" y="5799240"/>
            <a:ext cx="7315200" cy="276120"/>
          </a:xfrm>
          <a:prstGeom prst="rect">
            <a:avLst/>
          </a:prstGeom>
          <a:solidFill>
            <a:srgbClr val="ffff00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28"/>
          <p:cNvSpPr/>
          <p:nvPr/>
        </p:nvSpPr>
        <p:spPr>
          <a:xfrm>
            <a:off x="912960" y="6076800"/>
            <a:ext cx="7315200" cy="276480"/>
          </a:xfrm>
          <a:prstGeom prst="rect">
            <a:avLst/>
          </a:prstGeom>
          <a:solidFill>
            <a:srgbClr val="ffff00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DB69C5B9-F884-44E0-9B1C-F05A7A2332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457200" y="1498680"/>
            <a:ext cx="8458200" cy="49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the following marginal utilities and prices, which product would a rational consumer choo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1" name=""/>
          <p:cNvGraphicFramePr/>
          <p:nvPr/>
        </p:nvGraphicFramePr>
        <p:xfrm>
          <a:off x="914400" y="2541600"/>
          <a:ext cx="7358040" cy="1467000"/>
        </p:xfrm>
        <a:graphic>
          <a:graphicData uri="http://schemas.openxmlformats.org/drawingml/2006/table">
            <a:tbl>
              <a:tblPr/>
              <a:tblGrid>
                <a:gridCol w="2271600"/>
                <a:gridCol w="1271880"/>
                <a:gridCol w="1298520"/>
                <a:gridCol w="1217520"/>
                <a:gridCol w="1298520"/>
              </a:tblGrid>
              <a:tr h="604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ce Cre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t Do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ginal Ut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320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4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3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EF9CFFFF-C81E-41A5-9298-510160BB9C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Rectangle 3"/>
          <p:cNvSpPr/>
          <p:nvPr/>
        </p:nvSpPr>
        <p:spPr>
          <a:xfrm>
            <a:off x="457200" y="1498680"/>
            <a:ext cx="8458200" cy="49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the following marginal utilities and prices, which product would a rational consumer choo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7" name=""/>
          <p:cNvGraphicFramePr/>
          <p:nvPr/>
        </p:nvGraphicFramePr>
        <p:xfrm>
          <a:off x="914400" y="2541600"/>
          <a:ext cx="7358040" cy="1467000"/>
        </p:xfrm>
        <a:graphic>
          <a:graphicData uri="http://schemas.openxmlformats.org/drawingml/2006/table">
            <a:tbl>
              <a:tblPr/>
              <a:tblGrid>
                <a:gridCol w="2271600"/>
                <a:gridCol w="1271880"/>
                <a:gridCol w="1298520"/>
                <a:gridCol w="1217520"/>
                <a:gridCol w="1298520"/>
              </a:tblGrid>
              <a:tr h="604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ce Cre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t Do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ginal Ut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320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4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3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8" name="Rectangle 1"/>
          <p:cNvSpPr/>
          <p:nvPr/>
        </p:nvSpPr>
        <p:spPr>
          <a:xfrm>
            <a:off x="606600" y="4093920"/>
            <a:ext cx="792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A rational consumer would choose an apple because it has the highest MU per $ as seen here: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Apple   Beer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Ice Cream   Hot D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MU/Price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   80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   75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      70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   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ginal Utility Theor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57200" y="1860480"/>
            <a:ext cx="8229600" cy="44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Insights into Consumer Behaviour 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ducts with low income elasticities (water, food) have the highest initial marginal utilities, will be purchased firs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ule applies only to the purchasing of the product, not to its repeated “consumption”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nnot compare utilities between peopl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1D732131-A65C-4282-9069-116C507D6A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ginal Utility and 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457200" y="1509840"/>
            <a:ext cx="8229600" cy="48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kio’s Dollar Marginal Utilit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mand Curve, Derive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4003D6BA-4142-4E34-8ABC-CDBE357791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851040" y="2178000"/>
          <a:ext cx="3571560" cy="2743200"/>
        </p:xfrm>
        <a:graphic>
          <a:graphicData uri="http://schemas.openxmlformats.org/drawingml/2006/table">
            <a:tbl>
              <a:tblPr/>
              <a:tblGrid>
                <a:gridCol w="2336760"/>
                <a:gridCol w="1234800"/>
              </a:tblGrid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onsum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M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0" name=""/>
          <p:cNvGraphicFramePr/>
          <p:nvPr/>
        </p:nvGraphicFramePr>
        <p:xfrm>
          <a:off x="5207040" y="2154240"/>
          <a:ext cx="2651040" cy="3657600"/>
        </p:xfrm>
        <a:graphic>
          <a:graphicData uri="http://schemas.openxmlformats.org/drawingml/2006/table">
            <a:tbl>
              <a:tblPr/>
              <a:tblGrid>
                <a:gridCol w="1285920"/>
                <a:gridCol w="1365120"/>
              </a:tblGrid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 Demand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ginal Utility and 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457200" y="132840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2646723F-DCEB-4986-957F-221FCA186B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Picture 2" descr="C:\Users\aholowinsky\Documents\McGrawHill\Sayre Micro Image Bank\Ch5\Fig5_2.bmp"/>
          <p:cNvPicPr/>
          <p:nvPr/>
        </p:nvPicPr>
        <p:blipFill>
          <a:blip r:embed="rId1"/>
          <a:stretch/>
        </p:blipFill>
        <p:spPr>
          <a:xfrm>
            <a:off x="0" y="1757520"/>
            <a:ext cx="9144000" cy="3897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Kalinga"/>
              </a:rPr>
              <a:t>Consumer Choice </a:t>
            </a:r>
            <a:endParaRPr b="0" lang="en-US" sz="3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2944800"/>
            <a:ext cx="8381880" cy="34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1:  Explain the law of diminishing marginal utility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2:  Derive a consumers’ purchasing rule which ensures that satisfaction is maximized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3:  Explain how marginal utility theory is applicable to real-world examples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4: Provide a theoretical rationale for downward sloping demand curves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5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30A3953B-80C6-4F49-8745-D8B957C2DD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iamond Water Paradox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57200" y="1382400"/>
            <a:ext cx="8229600" cy="49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y is water (which has a very high value in use) inexpensive, while diamonds (which have a low value in use) expensive?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alue in u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reflected in 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otal util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f a produc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alue in exchang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the price) is determined by it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arginal utilit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BC8CF137-DEE1-4C76-980F-B232F1B80F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Consumer Surplus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57200" y="1382400"/>
            <a:ext cx="8229600" cy="49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difference between what a customer is willing to pay and the actual price of the produc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A5558031-992E-4885-B574-49D48FE3C0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7" name=""/>
          <p:cNvGraphicFramePr/>
          <p:nvPr/>
        </p:nvGraphicFramePr>
        <p:xfrm>
          <a:off x="925560" y="2502000"/>
          <a:ext cx="7315200" cy="1708200"/>
        </p:xfrm>
        <a:graphic>
          <a:graphicData uri="http://schemas.openxmlformats.org/drawingml/2006/table">
            <a:tbl>
              <a:tblPr/>
              <a:tblGrid>
                <a:gridCol w="1347840"/>
                <a:gridCol w="987480"/>
                <a:gridCol w="792000"/>
                <a:gridCol w="2303640"/>
                <a:gridCol w="1884240"/>
              </a:tblGrid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ms of Wa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ginal Consumer Surpl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Consumer Surpl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r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9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9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052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o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i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052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ur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8" name="Rectangle 8"/>
          <p:cNvSpPr/>
          <p:nvPr/>
        </p:nvSpPr>
        <p:spPr>
          <a:xfrm>
            <a:off x="1351080" y="4626000"/>
            <a:ext cx="64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 consumer surplus (MCS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$MU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9"/>
          <p:cNvSpPr/>
          <p:nvPr/>
        </p:nvSpPr>
        <p:spPr>
          <a:xfrm>
            <a:off x="690480" y="5307120"/>
            <a:ext cx="797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consumer surplu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 uni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C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C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C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C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Consumer Surplu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7200" y="132840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E45BB431-62E1-4845-AE54-98CCFF2C25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Picture 7" descr="Fig5_3.bmp"/>
          <p:cNvPicPr/>
          <p:nvPr/>
        </p:nvPicPr>
        <p:blipFill>
          <a:blip r:embed="rId1"/>
          <a:stretch/>
        </p:blipFill>
        <p:spPr>
          <a:xfrm>
            <a:off x="0" y="1349280"/>
            <a:ext cx="9005760" cy="3949920"/>
          </a:xfrm>
          <a:prstGeom prst="rect">
            <a:avLst/>
          </a:prstGeom>
          <a:ln w="0">
            <a:noFill/>
          </a:ln>
        </p:spPr>
      </p:pic>
      <p:sp>
        <p:nvSpPr>
          <p:cNvPr id="586" name="TextBox 9"/>
          <p:cNvSpPr/>
          <p:nvPr/>
        </p:nvSpPr>
        <p:spPr>
          <a:xfrm>
            <a:off x="957600" y="5465880"/>
            <a:ext cx="72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umer surplus = ½ x (32-20) x (60,000-0) = $36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add up all consumer surpl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Consumer Surplu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457200" y="132840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00B71E9F-A53E-442F-8477-6CB049D9D0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Picture 8" descr="Fig5_4.bmp"/>
          <p:cNvPicPr/>
          <p:nvPr/>
        </p:nvPicPr>
        <p:blipFill>
          <a:blip r:embed="rId1"/>
          <a:stretch/>
        </p:blipFill>
        <p:spPr>
          <a:xfrm>
            <a:off x="0" y="1901880"/>
            <a:ext cx="9144000" cy="3649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E206C7C4-790E-46B7-B6F7-6BB8C1715D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3"/>
          <p:cNvSpPr/>
          <p:nvPr/>
        </p:nvSpPr>
        <p:spPr>
          <a:xfrm>
            <a:off x="457200" y="1403280"/>
            <a:ext cx="845820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ing partial units cannot be bought, what is the marginal consumer surplus for each unit bought, and what is the total consumer surplus if the price is $6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2403360" y="2786040"/>
          <a:ext cx="4262400" cy="2093760"/>
        </p:xfrm>
        <a:graphic>
          <a:graphicData uri="http://schemas.openxmlformats.org/drawingml/2006/table">
            <a:tbl>
              <a:tblPr/>
              <a:tblGrid>
                <a:gridCol w="2140200"/>
                <a:gridCol w="2122200"/>
              </a:tblGrid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77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F1C2C743-3592-431F-8336-34C77DD920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3"/>
          <p:cNvSpPr/>
          <p:nvPr/>
        </p:nvSpPr>
        <p:spPr>
          <a:xfrm>
            <a:off x="457200" y="1403280"/>
            <a:ext cx="845820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ectangle 1"/>
          <p:cNvSpPr/>
          <p:nvPr/>
        </p:nvSpPr>
        <p:spPr>
          <a:xfrm>
            <a:off x="1351080" y="3772800"/>
            <a:ext cx="6432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Qty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Willing to pay    Actual Price    Marginal Surpl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000" spc="-1" strike="noStrike" baseline="30000">
                <a:solidFill>
                  <a:srgbClr val="ff0000"/>
                </a:solidFill>
                <a:latin typeface="Times New Roman"/>
              </a:rPr>
              <a:t>st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$10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$6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$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Times New Roman"/>
              </a:rPr>
              <a:t>nd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  9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6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$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GB" sz="2000" spc="-1" strike="noStrike" baseline="30000">
                <a:solidFill>
                  <a:srgbClr val="ff0000"/>
                </a:solidFill>
                <a:latin typeface="Times New Roman"/>
              </a:rPr>
              <a:t>rd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  8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6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$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GB" sz="2000" spc="-1" strike="noStrike" baseline="30000">
                <a:solidFill>
                  <a:srgbClr val="ff0000"/>
                </a:solidFill>
                <a:latin typeface="Times New Roman"/>
              </a:rPr>
              <a:t>th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  7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6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$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GB" sz="2000" spc="-1" strike="noStrike" baseline="30000">
                <a:solidFill>
                  <a:srgbClr val="ff0000"/>
                </a:solidFill>
                <a:latin typeface="Times New Roman"/>
              </a:rPr>
              <a:t>th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  6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6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 u="sng">
                <a:solidFill>
                  <a:srgbClr val="ff0000"/>
                </a:solidFill>
                <a:uFillTx/>
                <a:latin typeface="Times New Roman"/>
              </a:rPr>
              <a:t> 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Total consumer surplus =  $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5" name=""/>
          <p:cNvGraphicFramePr/>
          <p:nvPr/>
        </p:nvGraphicFramePr>
        <p:xfrm>
          <a:off x="2413080" y="1254240"/>
          <a:ext cx="4263840" cy="2095560"/>
        </p:xfrm>
        <a:graphic>
          <a:graphicData uri="http://schemas.openxmlformats.org/drawingml/2006/table">
            <a:tbl>
              <a:tblPr/>
              <a:tblGrid>
                <a:gridCol w="2139840"/>
                <a:gridCol w="2124000"/>
              </a:tblGrid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95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Discrimination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457200" y="1382400"/>
            <a:ext cx="8229600" cy="49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elling of an identical product at a different price to different customer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 reasons other than differences in the cost of production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sumers have different demands for the same produc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e therefore prepared to pay different prices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6289226C-5F3D-48A8-ABA4-EBDD92F5F5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Discrimination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0C80B086-91D8-423C-8510-6390BC8805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5" name="Picture 8" descr="Fig5_5.bmp"/>
          <p:cNvPicPr/>
          <p:nvPr/>
        </p:nvPicPr>
        <p:blipFill>
          <a:blip r:embed="rId1"/>
          <a:stretch/>
        </p:blipFill>
        <p:spPr>
          <a:xfrm>
            <a:off x="0" y="1847880"/>
            <a:ext cx="9144000" cy="3162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Discrimination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457200" y="1563840"/>
            <a:ext cx="8229600" cy="47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practice price discrimination, must:</a:t>
            </a:r>
            <a:br>
              <a:rPr sz="28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dentify groups of customers with different demand elasticitie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parate them from the other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sure that those obtaining the lower prices cannot resell the product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sure that the seller has control over the price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67B08FE7-27E9-46DC-B037-C9102E5FA3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E12FD976-8633-493A-9E16-6D99ECA2AC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3"/>
          <p:cNvSpPr/>
          <p:nvPr/>
        </p:nvSpPr>
        <p:spPr>
          <a:xfrm>
            <a:off x="457200" y="1308240"/>
            <a:ext cx="845820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mand for haircuts from seniors differs greatly from that from your other customers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) If you could only charge one price to all customers, which price would give you the greatest sales revenue?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) Suppose that you charged a different price for seniors. What prices would you charge each group in order to maximize your sales revenue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6" name=""/>
          <p:cNvGraphicFramePr/>
          <p:nvPr/>
        </p:nvGraphicFramePr>
        <p:xfrm>
          <a:off x="2052720" y="2093760"/>
          <a:ext cx="5021280" cy="2452680"/>
        </p:xfrm>
        <a:graphic>
          <a:graphicData uri="http://schemas.openxmlformats.org/drawingml/2006/table">
            <a:tbl>
              <a:tblPr/>
              <a:tblGrid>
                <a:gridCol w="1562040"/>
                <a:gridCol w="1673280"/>
                <a:gridCol w="1785960"/>
              </a:tblGrid>
              <a:tr h="3157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d Seni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d Oth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Kalinga"/>
              </a:rPr>
              <a:t>Consumer Choice </a:t>
            </a:r>
            <a:endParaRPr b="0" lang="en-US" sz="3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2944800"/>
            <a:ext cx="8381880" cy="34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5: Understand why consumers generally value a product more than the price they pay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6: Understand why some sellers charge different prices to different consumers for the same product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5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89829784-B963-454F-9ACE-C1B4E6C7EF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BEE62783-4EA2-43DA-8719-97ABCE5106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3"/>
          <p:cNvSpPr/>
          <p:nvPr/>
        </p:nvSpPr>
        <p:spPr>
          <a:xfrm>
            <a:off x="457200" y="1308240"/>
            <a:ext cx="845820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 If you could only charge one price to all customers, which price would give you the greatest sales revenue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Rectangle 1"/>
          <p:cNvSpPr/>
          <p:nvPr/>
        </p:nvSpPr>
        <p:spPr>
          <a:xfrm>
            <a:off x="690480" y="5006520"/>
            <a:ext cx="73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$12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, which gives a total sales revenue of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$3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3" name=""/>
          <p:cNvGraphicFramePr/>
          <p:nvPr/>
        </p:nvGraphicFramePr>
        <p:xfrm>
          <a:off x="925560" y="1360440"/>
          <a:ext cx="7315200" cy="2743200"/>
        </p:xfrm>
        <a:graphic>
          <a:graphicData uri="http://schemas.openxmlformats.org/drawingml/2006/table">
            <a:tbl>
              <a:tblPr/>
              <a:tblGrid>
                <a:gridCol w="1112760"/>
                <a:gridCol w="1192320"/>
                <a:gridCol w="1193760"/>
                <a:gridCol w="1271520"/>
                <a:gridCol w="1271520"/>
                <a:gridCol w="1273320"/>
              </a:tblGrid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d Seni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d Oth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 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5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5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5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CD393202-A191-4C2C-B5B6-72F2448025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Rectangle 3"/>
          <p:cNvSpPr/>
          <p:nvPr/>
        </p:nvSpPr>
        <p:spPr>
          <a:xfrm>
            <a:off x="457200" y="1308240"/>
            <a:ext cx="845820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) Suppose that you charged a different price for seniors. What prices would you charge each group to maximize your revenu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Rectangle 1"/>
          <p:cNvSpPr/>
          <p:nvPr/>
        </p:nvSpPr>
        <p:spPr>
          <a:xfrm>
            <a:off x="690480" y="5024160"/>
            <a:ext cx="730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$10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to seniors (total revenue of $160). 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$18 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(or $20) to the other customers (total revenue of $180).  (In total, then, the sales revenue would be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$340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0" name=""/>
          <p:cNvGraphicFramePr/>
          <p:nvPr/>
        </p:nvGraphicFramePr>
        <p:xfrm>
          <a:off x="925560" y="1360440"/>
          <a:ext cx="7315200" cy="2743200"/>
        </p:xfrm>
        <a:graphic>
          <a:graphicData uri="http://schemas.openxmlformats.org/drawingml/2006/table">
            <a:tbl>
              <a:tblPr/>
              <a:tblGrid>
                <a:gridCol w="1112760"/>
                <a:gridCol w="1192320"/>
                <a:gridCol w="1193760"/>
                <a:gridCol w="1271520"/>
                <a:gridCol w="1271520"/>
                <a:gridCol w="1273320"/>
              </a:tblGrid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d Seni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d Oth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 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5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5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5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Kalinga"/>
            </a:endParaRPr>
          </a:p>
        </p:txBody>
      </p:sp>
      <p:sp>
        <p:nvSpPr>
          <p:cNvPr id="642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119CC97B-A02F-403A-90EA-CF4E4DC041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6840" y="2509920"/>
            <a:ext cx="8381880" cy="36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Marginal utility and total utility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Consumers’ optimal purchasing rule 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The law of diminishing marginal utility and how it relates to a downward sloping demand curve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Consumer surplus and how to calculate it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Price discrimination and the conditions required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5 Summary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iminishing Marginal Utilit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7200" y="1860480"/>
            <a:ext cx="8229600" cy="44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arginal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tra or additional unit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Utility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atisfaction or pleasure derived from the consumption of a produc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21B1DEAE-5E02-42A7-80F9-C7A4753464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iminishing Marginal Utilit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647360"/>
            <a:ext cx="822960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arginal Utility 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mount of additional utility derived from the consumption of an extra unit of a product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Total Utility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um of the marginal utility from each uni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451C45CA-63F4-4E25-BD48-F9B8286167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9"/>
          <p:cNvGrpSpPr/>
          <p:nvPr/>
        </p:nvGrpSpPr>
        <p:grpSpPr>
          <a:xfrm>
            <a:off x="2127240" y="3359160"/>
            <a:ext cx="4805280" cy="1074600"/>
            <a:chOff x="2127240" y="3359160"/>
            <a:chExt cx="4805280" cy="1074600"/>
          </a:xfrm>
        </p:grpSpPr>
        <p:sp>
          <p:nvSpPr>
            <p:cNvPr id="449" name="Rounded Rectangle 8"/>
            <p:cNvSpPr/>
            <p:nvPr/>
          </p:nvSpPr>
          <p:spPr>
            <a:xfrm>
              <a:off x="2127240" y="3359160"/>
              <a:ext cx="4805280" cy="1074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0" name="" descr=""/>
            <p:cNvPicPr/>
            <p:nvPr/>
          </p:nvPicPr>
          <p:blipFill>
            <a:blip r:embed="rId1"/>
            <a:stretch/>
          </p:blipFill>
          <p:spPr>
            <a:xfrm>
              <a:off x="2268000" y="3486600"/>
              <a:ext cx="4513680" cy="808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iminishing Marginal Utilit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860480"/>
            <a:ext cx="8229600" cy="44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arginal Utility applies when: 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onsumer is behaving rationally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onsumer’s objective is maximum satisfaction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urchases and consumption take place over a short period of tim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units purchased may sometimes be sets of items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ADECFA53-51C7-4073-B974-EC085C286D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iminishing Marginal Utilit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785600"/>
            <a:ext cx="8229600" cy="45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5.1 Total Marginal Utility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37484ABA-58B4-4B11-ABA8-E4F561BD76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914400" y="2530440"/>
          <a:ext cx="7294680" cy="3073320"/>
        </p:xfrm>
        <a:graphic>
          <a:graphicData uri="http://schemas.openxmlformats.org/drawingml/2006/table">
            <a:tbl>
              <a:tblPr/>
              <a:tblGrid>
                <a:gridCol w="2195640"/>
                <a:gridCol w="2886120"/>
                <a:gridCol w="2212920"/>
              </a:tblGrid>
              <a:tr h="384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ginal Utility (MU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Utility (TU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84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iminishing Marginal Utilit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57200" y="1860480"/>
            <a:ext cx="8229600" cy="44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Law of Diminishing Marginal Utility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mount of additional utility decreases as successive units of a product are consumed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E94F3238-E0F2-4EAE-AA93-0D13CF1D2B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34B28C26-EEF0-4725-A116-26685AAAB4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1" name="Picture 8" descr="Fig5_1.bmp"/>
          <p:cNvPicPr/>
          <p:nvPr/>
        </p:nvPicPr>
        <p:blipFill>
          <a:blip r:embed="rId1"/>
          <a:stretch/>
        </p:blipFill>
        <p:spPr>
          <a:xfrm>
            <a:off x="0" y="855720"/>
            <a:ext cx="9144000" cy="5465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6T00:16:49Z</dcterms:created>
  <dc:creator>aholowinsky</dc:creator>
  <dc:description/>
  <dc:language>en-US</dc:language>
  <cp:lastModifiedBy>mark_banit</cp:lastModifiedBy>
  <dcterms:modified xsi:type="dcterms:W3CDTF">2012-04-24T12:40:41Z</dcterms:modified>
  <cp:revision>277</cp:revision>
  <dc:subject/>
  <dc:title>Slide 1</dc:title>
</cp:coreProperties>
</file>