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A30-E243-4F53-8D14-23823069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BE0-181E-4F2E-9889-528378C5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5A770-093B-4ACC-9AAC-CA34E7A9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E0B73-3164-478D-B507-62479ABD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5DBC2-D5AD-4F0B-A236-94770F51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2F003-E215-446F-8302-5C8C109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FF517-677D-4C78-B6BC-3AE25F6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9A9D3-AF5C-4F7D-A2B1-6851D3F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A3C14-3801-4892-870A-202C2E5C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6CE10-5269-43E1-B809-00387190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A27A5-0518-4E6E-86F6-A2B7059B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E3D3D-7150-4E58-BB52-2B4296FBB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D20-2A4A-4CDF-9077-B3784F3C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9ADFB-038F-4E0F-BB34-20507CC52A9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0665F-1B70-4AC0-A2D3-8786B08C83C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F5325-0A6D-409F-AB8A-69E48F9C487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8B19E-B3FD-4A32-AF85-0FF49642B7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83CE1-9755-465B-8548-8AACBD8076F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E51C7-EDE6-4A38-B503-B8A6D03828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62D90-F675-4112-B893-197CA11DB0C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071F3-EF64-465E-9625-2E1CC88971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C3E2F-E675-4A66-B954-F29F23C266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F3A42-9E1F-405F-A3EB-A93975808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07E-AC17-4753-B12D-06E44BD0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BB0CE-0191-4306-AD47-27B31B578E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48AA1-EA28-4934-9028-869984F0B5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D9EB3B-5D61-424C-AD09-D04E5CDC0FB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CFC975-1B58-4CBA-A4E5-C70C2B20D2F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51B170-CF2B-465A-9569-8E4958C1D8E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726441-B3A4-4046-AE33-ED29553360A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A3BBF5-B2CC-4959-96AF-99540B2160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F6E46B-5EDC-4545-994D-759359D227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CB9795-797C-4576-99AB-E1E61A1CA14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B3B7B7-0222-465C-A59E-A80F83B57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A928-950C-43D2-91D7-602F9C69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0E0393-A96F-4DB1-8874-E0DC9091A7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D1E7EA-18D5-48EA-9A5D-3E84412D06C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934E76-B5BD-447E-B7E2-6502AC980A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067D-CBBA-440B-9177-F44C25E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BFD-5D9C-4D52-923E-F330450A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3033-070B-4F1A-97C7-13ADEA7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5DDC-9DF1-4500-B09E-DC9CC3A7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D88C-3511-4613-8809-85F702F2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8C4C-1C03-4C29-870A-2F1E5D3B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73E-A4EF-405A-912E-69A60733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E47F-667D-4482-B63C-DE17BC6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C12A-F349-4498-87E3-0F2D71E1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FC2D-ECA0-4609-AE11-9C5C431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5932-5F64-48EA-BA16-AC5C24B7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0F94-2954-459D-A90A-22365EBF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42C0-08DF-43CC-94AF-6189D9C6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DD2B-D0FA-4DB9-BCF8-DBF94B4A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E8AC-50D9-42CB-9846-576D6307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BE53-B7C6-494D-948D-B755DA4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937F-D709-42D5-80DA-D81285B2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35C-B866-45BD-86DA-EEC94614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15AF-46E5-4AA0-B655-CCC75DB0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F278-CAA1-41AB-85C2-6935069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5CB8-56A4-4EA5-B315-2F7428B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B11D-852F-4A72-B656-A7A07B4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3FE7-9888-4092-802F-FB1FF88A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F58D-25C8-414B-B79B-8C9316BE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83FF-E8EB-4017-B296-A358DB31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AA4C-5FD9-48D2-8DDC-56B3BFA1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804FF-05AC-4980-B853-FE3478B8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CCBDF-D328-4542-9683-16932253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0D7-67EB-47C5-B20D-361FCC0C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9BD8A-244A-4052-B2D6-9654FDF8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900D-1F40-43CC-9E2F-79275F60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2827E-B413-4070-81D0-C424D536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A882F-72BB-4B9D-9BFD-509A02B7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6F99-8D57-48E2-AEA6-4AEF5AE1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57D0-5877-4C3A-9DAC-EC347AE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5B43-9ED3-4EC7-B130-766BE922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87A8-DDBE-4F32-B3EF-486DF579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8CFE-F1D3-454C-878F-CC238FD8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4114-C754-48C0-A01D-313619AC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5BE-CD87-4FF3-A82E-C63C4598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676FE-B5DF-4F39-8FD7-90EBD5B1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3199-BB4A-4BC8-BE1D-DABF4FE6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9C35-978D-4B97-A40C-57C307EB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9EEB9-1E1A-4E33-8436-251B52B1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6939-A8E8-4B30-8741-E276CD1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9BCB4-71F6-45EB-A9F3-A7E74232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0838-637B-4697-86D9-4D6ED97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B10C7-D25F-4429-8920-C3DF340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81D8-A5C7-4254-813C-5855C62C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84D22-0CFE-4AA0-A660-F5025E67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D4C-DADB-431B-BE03-A3C9A34A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3462-42FB-4FFF-B947-782556C3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45683-09CD-454E-B04D-E0684C7F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C561-02D8-46E6-A0AC-7F18D430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065E-A651-45A1-80FA-60E4D1F0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7CB37-7B88-4B0A-A588-024D3EE2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E6E38-D17E-4C6B-9ACD-D854971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2F866-F301-4C81-ACE5-756BA8D7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8FC53-C7D2-444A-9516-340181EE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9B197-F773-4818-BFC6-EE56072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9D94-A386-4CE0-8B60-9EA0DBD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9C0-7703-43DA-A3F4-4462BB9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1FB6-A6D2-42E3-8C1D-D30E9492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A9051-1CAF-46DE-B115-A10CE0C1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87A3F-E026-4241-925A-5453AB74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F2093-61D2-4D4C-93A1-28FE6549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7CBC-C5B1-4C1D-AAED-33EA35DB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03210-6BB2-4F77-9325-DA9F41A6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F964D-9936-4B43-A357-68E4F5A9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06FC3-3D3E-4000-B85D-B95A35F1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70AEA-2A3F-4A0A-83CF-038DFD36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8F5F9-BA6B-469F-9129-FDB44668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DA2-C2BB-4601-AD2C-8BC1B853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78621-1A3C-4643-83D8-F47D6589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CAE65-51ED-4219-A325-FE1C6015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9A29-62C3-4C1E-A054-E46818DE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F9AA5-B1BA-4D39-A2D5-687CACAD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ED21-4E41-4DC4-A484-73A8DD7E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807FA-3824-4C57-A62B-3F6C9AB2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608EF-3D61-411E-9EB4-7D56AF01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F8021-D3B9-40C8-A780-9AC4BFF8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529B-DA4E-4C5A-A2A4-713FCE5B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F8312-11DC-4C3F-958D-89FBED0D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CF8-4BE1-44D5-AF10-53CCEFE8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6F592-407E-4F92-99DE-7841CE14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9BD2D-FCFF-494E-92AD-0F39F3C3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E767B-084C-46C8-9592-4F130D42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C15E0-D252-4F8F-AC3B-ADF9D7E6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2C030-BBD6-4B66-9592-7B3A4D41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2B7DD-36E8-4888-937F-9A494042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C4151-4A71-47F6-8ACA-2DAA5E99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781B3-4221-45D0-8D58-49F55B22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281A0-FB3C-48C5-8235-C2195907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E5075-6843-4E21-ABFB-CE5F900B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1E70B4E-99CD-4100-B5EE-9D47F625847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66EA204-28C8-4B5F-B6D5-E0E6F81FC20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E06E465-95FE-41AE-9DAC-7F5F950DA5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0885846-F3B8-4BC3-8EEC-12E1B81217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E3C51BE3-7E26-4BBF-B24C-2FD7A2120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1F55E42A-4818-4EE7-9AC3-A2F0A7381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9A8E762D-94E6-46DD-9F6B-AB769E0C6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0D861ADB-46E9-44BC-BA92-EEAC53D36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84211A24-56C5-4517-8879-2DCE87CD7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Introduc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ubtitle 2"/>
          <p:cNvSpPr/>
          <p:nvPr/>
        </p:nvSpPr>
        <p:spPr>
          <a:xfrm>
            <a:off x="1365120" y="5043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6"/>
          <p:cNvSpPr/>
          <p:nvPr/>
        </p:nvSpPr>
        <p:spPr>
          <a:xfrm flipV="1">
            <a:off x="1539720" y="3567240"/>
            <a:ext cx="3122640" cy="93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8"/>
          <p:cNvSpPr/>
          <p:nvPr/>
        </p:nvSpPr>
        <p:spPr>
          <a:xfrm flipH="1">
            <a:off x="4647960" y="355752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26"/>
          <p:cNvSpPr/>
          <p:nvPr/>
        </p:nvSpPr>
        <p:spPr>
          <a:xfrm flipV="1">
            <a:off x="1546200" y="3159000"/>
            <a:ext cx="2617920" cy="79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28"/>
          <p:cNvSpPr/>
          <p:nvPr/>
        </p:nvSpPr>
        <p:spPr>
          <a:xfrm flipH="1">
            <a:off x="4194000" y="3141720"/>
            <a:ext cx="648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26"/>
          <p:cNvSpPr/>
          <p:nvPr/>
        </p:nvSpPr>
        <p:spPr>
          <a:xfrm flipV="1">
            <a:off x="1554120" y="2760480"/>
            <a:ext cx="2157480" cy="61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28"/>
          <p:cNvSpPr/>
          <p:nvPr/>
        </p:nvSpPr>
        <p:spPr>
          <a:xfrm>
            <a:off x="3711600" y="2743200"/>
            <a:ext cx="223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47"/>
          <p:cNvCxnSpPr/>
          <p:nvPr/>
        </p:nvCxnSpPr>
        <p:spPr>
          <a:xfrm flipH="1">
            <a:off x="4762080" y="2100240"/>
            <a:ext cx="634320" cy="12787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0" name="Rectangle 49"/>
          <p:cNvSpPr/>
          <p:nvPr/>
        </p:nvSpPr>
        <p:spPr>
          <a:xfrm>
            <a:off x="5495760" y="1814400"/>
            <a:ext cx="272448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502240" y="2271600"/>
            <a:ext cx="272412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1"/>
          <p:cNvCxnSpPr/>
          <p:nvPr/>
        </p:nvCxnSpPr>
        <p:spPr>
          <a:xfrm flipH="1">
            <a:off x="4381200" y="2539080"/>
            <a:ext cx="1023120" cy="501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3" name="Rectangle 55"/>
          <p:cNvSpPr/>
          <p:nvPr/>
        </p:nvSpPr>
        <p:spPr>
          <a:xfrm>
            <a:off x="5492880" y="2741760"/>
            <a:ext cx="274140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56"/>
          <p:cNvCxnSpPr/>
          <p:nvPr/>
        </p:nvCxnSpPr>
        <p:spPr>
          <a:xfrm flipH="1" flipV="1">
            <a:off x="3879000" y="2755080"/>
            <a:ext cx="1531080" cy="23580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5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3259DA1-07C6-4858-9420-6DFF9EAA5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51"/>
          <p:cNvCxnSpPr/>
          <p:nvPr/>
        </p:nvCxnSpPr>
        <p:spPr>
          <a:xfrm flipV="1">
            <a:off x="4614840" y="3849480"/>
            <a:ext cx="310320" cy="2973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58" name="TextBox 33"/>
          <p:cNvSpPr/>
          <p:nvPr/>
        </p:nvSpPr>
        <p:spPr>
          <a:xfrm>
            <a:off x="2093760" y="39765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17BA4E7-5E7C-409E-942F-9EFB9B9EF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Rectangle 52"/>
          <p:cNvSpPr/>
          <p:nvPr/>
        </p:nvSpPr>
        <p:spPr>
          <a:xfrm>
            <a:off x="5495760" y="1839960"/>
            <a:ext cx="2724480" cy="90324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53"/>
          <p:cNvSpPr/>
          <p:nvPr/>
        </p:nvSpPr>
        <p:spPr>
          <a:xfrm rot="5400000">
            <a:off x="8099280" y="2174760"/>
            <a:ext cx="609480" cy="285840"/>
          </a:xfrm>
          <a:custGeom>
            <a:avLst/>
            <a:gdLst>
              <a:gd name="textAreaLeft" fmla="*/ 125640 w 609480"/>
              <a:gd name="textAreaRight" fmla="*/ 448200 w 6094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3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4" y="16200"/>
                </a:lnTo>
                <a:lnTo>
                  <a:pt x="17520" y="16200"/>
                </a:lnTo>
                <a:arcTo wR="8902" hR="21600" stAng="-1924114" swAng="-3272646"/>
                <a:lnTo>
                  <a:pt x="10167" y="219"/>
                </a:lnTo>
                <a:arcTo wR="8902" hR="21600" stAng="-5603240" swAng="-5196760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240"/>
                <a:lnTo>
                  <a:pt x="10167" y="219"/>
                </a:lnTo>
                <a:arcTo wR="8902" hR="21600" stAng="-5603240" swAng="-5196760"/>
                <a:close/>
              </a:path>
            </a:pathLst>
          </a:cu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85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8CF2567-DE2B-4987-B952-34EFF7DA2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own Arrow 54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611" name="Down Arrow 60"/>
          <p:cNvSpPr/>
          <p:nvPr/>
        </p:nvSpPr>
        <p:spPr>
          <a:xfrm rot="5400000">
            <a:off x="4227120" y="520236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Rounded Rectangle 29"/>
          <p:cNvGrpSpPr/>
          <p:nvPr/>
        </p:nvGrpSpPr>
        <p:grpSpPr>
          <a:xfrm>
            <a:off x="5505480" y="1994040"/>
            <a:ext cx="3084480" cy="2906640"/>
            <a:chOff x="5505480" y="1994040"/>
            <a:chExt cx="3084480" cy="2906640"/>
          </a:xfrm>
        </p:grpSpPr>
        <p:pic>
          <p:nvPicPr>
            <p:cNvPr id="615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5505480" y="1994040"/>
              <a:ext cx="308448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699160" y="2168640"/>
              <a:ext cx="26985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demanded decrea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demand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BB857BB-BE60-437A-B09C-BCDA7D90F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ffect of a price change on real income, and therefore on quantity deman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a6a6"/>
                </a:solidFill>
                <a:latin typeface="Times New Roman"/>
              </a:rPr>
              <a:t>Real inco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easured in terms of the goods and services it will buy</a:t>
            </a:r>
            <a:br>
              <a:rPr sz="2800"/>
            </a:b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income will increase if prices fa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CF2D7D4-A0F8-44A8-9E41-716056C09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bstitution of one product for another as a result of a change in their relative p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5FD4A42-46A8-4CF1-9AEB-2F0DA4DF6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demand for a product or service from all consumer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549E205-E9BC-4346-84C0-E2CFD288B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87320" y="1397160"/>
          <a:ext cx="7543800" cy="4983120"/>
        </p:xfrm>
        <a:graphic>
          <a:graphicData uri="http://schemas.openxmlformats.org/drawingml/2006/table">
            <a:tbl>
              <a:tblPr/>
              <a:tblGrid>
                <a:gridCol w="1371600"/>
                <a:gridCol w="1524240"/>
                <a:gridCol w="1352520"/>
                <a:gridCol w="1501560"/>
                <a:gridCol w="1793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demand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i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TextBox 7"/>
          <p:cNvSpPr/>
          <p:nvPr/>
        </p:nvSpPr>
        <p:spPr>
          <a:xfrm>
            <a:off x="7099200" y="3005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099200" y="3637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7099200" y="4356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7132680" y="504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7132680" y="572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3728520" y="302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068440" y="303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668124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43A9F9D-16DB-4145-A73D-A250154066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"/>
          <p:cNvGrpSpPr/>
          <p:nvPr/>
        </p:nvGrpSpPr>
        <p:grpSpPr>
          <a:xfrm>
            <a:off x="2666880" y="1981080"/>
            <a:ext cx="1981440" cy="2872440"/>
            <a:chOff x="2666880" y="1981080"/>
            <a:chExt cx="1981440" cy="2872440"/>
          </a:xfrm>
        </p:grpSpPr>
        <p:sp>
          <p:nvSpPr>
            <p:cNvPr id="654" name="Line 8"/>
            <p:cNvSpPr/>
            <p:nvPr/>
          </p:nvSpPr>
          <p:spPr>
            <a:xfrm>
              <a:off x="2666880" y="1981080"/>
              <a:ext cx="914400" cy="2438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3"/>
            <p:cNvSpPr/>
            <p:nvPr/>
          </p:nvSpPr>
          <p:spPr>
            <a:xfrm>
              <a:off x="3276360" y="4343400"/>
              <a:ext cx="13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OMI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0"/>
          <p:cNvGrpSpPr/>
          <p:nvPr/>
        </p:nvGrpSpPr>
        <p:grpSpPr>
          <a:xfrm>
            <a:off x="2514600" y="1905120"/>
            <a:ext cx="2590920" cy="2719800"/>
            <a:chOff x="2514600" y="1905120"/>
            <a:chExt cx="2590920" cy="2719800"/>
          </a:xfrm>
        </p:grpSpPr>
        <p:sp>
          <p:nvSpPr>
            <p:cNvPr id="664" name="Text Box 35"/>
            <p:cNvSpPr/>
            <p:nvPr/>
          </p:nvSpPr>
          <p:spPr>
            <a:xfrm>
              <a:off x="4114800" y="41148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J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39"/>
            <p:cNvGrpSpPr/>
            <p:nvPr/>
          </p:nvGrpSpPr>
          <p:grpSpPr>
            <a:xfrm>
              <a:off x="2514600" y="1905120"/>
              <a:ext cx="1752840" cy="2590920"/>
              <a:chOff x="2514600" y="1905120"/>
              <a:chExt cx="1752840" cy="259092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2971800" y="251460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1"/>
              <p:cNvSpPr/>
              <p:nvPr/>
            </p:nvSpPr>
            <p:spPr>
              <a:xfrm>
                <a:off x="3429000" y="3124440"/>
                <a:ext cx="38088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2"/>
              <p:cNvSpPr/>
              <p:nvPr/>
            </p:nvSpPr>
            <p:spPr>
              <a:xfrm>
                <a:off x="3810240" y="3733920"/>
                <a:ext cx="457200" cy="762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"/>
              <p:cNvSpPr/>
              <p:nvPr/>
            </p:nvSpPr>
            <p:spPr>
              <a:xfrm>
                <a:off x="2514600" y="190512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36"/>
          <p:cNvGrpSpPr/>
          <p:nvPr/>
        </p:nvGrpSpPr>
        <p:grpSpPr>
          <a:xfrm>
            <a:off x="2894040" y="1980720"/>
            <a:ext cx="231840" cy="2745360"/>
            <a:chOff x="2894040" y="1980720"/>
            <a:chExt cx="231840" cy="2745360"/>
          </a:xfrm>
        </p:grpSpPr>
        <p:sp>
          <p:nvSpPr>
            <p:cNvPr id="671" name="Straight Connector 28"/>
            <p:cNvSpPr/>
            <p:nvPr/>
          </p:nvSpPr>
          <p:spPr>
            <a:xfrm flipV="1">
              <a:off x="3124440" y="3201840"/>
              <a:ext cx="1440" cy="15242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30"/>
            <p:cNvSpPr/>
            <p:nvPr/>
          </p:nvSpPr>
          <p:spPr>
            <a:xfrm flipV="1">
              <a:off x="2894040" y="1980720"/>
              <a:ext cx="1440" cy="12193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traight Connector 32"/>
            <p:cNvSpPr/>
            <p:nvPr/>
          </p:nvSpPr>
          <p:spPr>
            <a:xfrm>
              <a:off x="2895480" y="3200400"/>
              <a:ext cx="228960" cy="14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35"/>
          <p:cNvSpPr/>
          <p:nvPr/>
        </p:nvSpPr>
        <p:spPr>
          <a:xfrm>
            <a:off x="28954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984807"/>
                </a:solidFill>
                <a:latin typeface="Times New Roman"/>
              </a:rPr>
              <a:t>AB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1"/>
          <p:cNvGrpSpPr/>
          <p:nvPr/>
        </p:nvGrpSpPr>
        <p:grpSpPr>
          <a:xfrm>
            <a:off x="3429000" y="1904760"/>
            <a:ext cx="3962520" cy="3101040"/>
            <a:chOff x="3429000" y="1904760"/>
            <a:chExt cx="3962520" cy="3101040"/>
          </a:xfrm>
        </p:grpSpPr>
        <p:sp>
          <p:nvSpPr>
            <p:cNvPr id="676" name="Line 21"/>
            <p:cNvSpPr/>
            <p:nvPr/>
          </p:nvSpPr>
          <p:spPr>
            <a:xfrm flipH="1" flipV="1">
              <a:off x="3429000" y="1904760"/>
              <a:ext cx="91440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3"/>
            <p:cNvSpPr/>
            <p:nvPr/>
          </p:nvSpPr>
          <p:spPr>
            <a:xfrm flipH="1" flipV="1">
              <a:off x="5486040" y="3276720"/>
              <a:ext cx="53316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34"/>
            <p:cNvSpPr/>
            <p:nvPr/>
          </p:nvSpPr>
          <p:spPr>
            <a:xfrm flipH="1" flipV="1">
              <a:off x="6019560" y="4114440"/>
              <a:ext cx="68580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36"/>
            <p:cNvSpPr/>
            <p:nvPr/>
          </p:nvSpPr>
          <p:spPr>
            <a:xfrm>
              <a:off x="6096240" y="449568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 flipH="1" flipV="1">
              <a:off x="4343040" y="2514600"/>
              <a:ext cx="114300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8"/>
          <p:cNvSpPr/>
          <p:nvPr/>
        </p:nvSpPr>
        <p:spPr>
          <a:xfrm>
            <a:off x="3633840" y="11700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demand is the horizontal summation of all individual de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2D7DC73-E574-4808-9996-FA9C0DA2D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D89E1E1-7E08-4618-983B-C691A9A67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term marke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the concept of equilibrium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30F55F9-2805-4BFC-8ADA-C633DB6E9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 Box 51"/>
          <p:cNvSpPr/>
          <p:nvPr/>
        </p:nvSpPr>
        <p:spPr>
          <a:xfrm>
            <a:off x="7556400" y="374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"/>
          <p:cNvSpPr/>
          <p:nvPr/>
        </p:nvSpPr>
        <p:spPr>
          <a:xfrm>
            <a:off x="375012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545184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4"/>
          <p:cNvSpPr/>
          <p:nvPr/>
        </p:nvSpPr>
        <p:spPr>
          <a:xfrm>
            <a:off x="7064640" y="372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1"/>
          <p:cNvSpPr/>
          <p:nvPr/>
        </p:nvSpPr>
        <p:spPr>
          <a:xfrm>
            <a:off x="755640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69360" y="48132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7543800" y="53211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1"/>
          <p:cNvSpPr/>
          <p:nvPr/>
        </p:nvSpPr>
        <p:spPr>
          <a:xfrm>
            <a:off x="7556400" y="581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B12D27F-5545-427A-9FEF-152FE093F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producers are willing and able to suppl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1E15CDD-1AE6-415A-8318-B5B750053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96880" y="1587240"/>
            <a:ext cx="81532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</a:t>
            </a: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quantities supplied p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riod of time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the supply sched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9C72F04-2489-4B09-B080-145AA41D08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939960" y="1917720"/>
          <a:ext cx="7238880" cy="34750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95DED5E-C44C-4036-A478-6BF57E76C7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5486400" y="1371600"/>
          <a:ext cx="2743200" cy="27432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26"/>
          <p:cNvSpPr/>
          <p:nvPr/>
        </p:nvSpPr>
        <p:spPr>
          <a:xfrm>
            <a:off x="1539720" y="3576600"/>
            <a:ext cx="822600" cy="1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8"/>
          <p:cNvSpPr/>
          <p:nvPr/>
        </p:nvSpPr>
        <p:spPr>
          <a:xfrm flipH="1">
            <a:off x="2358720" y="356544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8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26"/>
          <p:cNvSpPr/>
          <p:nvPr/>
        </p:nvSpPr>
        <p:spPr>
          <a:xfrm flipV="1">
            <a:off x="1546200" y="3156120"/>
            <a:ext cx="126828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28"/>
          <p:cNvSpPr/>
          <p:nvPr/>
        </p:nvSpPr>
        <p:spPr>
          <a:xfrm flipH="1">
            <a:off x="2803320" y="3181320"/>
            <a:ext cx="612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0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6"/>
          <p:cNvSpPr/>
          <p:nvPr/>
        </p:nvSpPr>
        <p:spPr>
          <a:xfrm flipV="1">
            <a:off x="1554120" y="2751120"/>
            <a:ext cx="1690560" cy="158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traight Connector 28"/>
          <p:cNvSpPr/>
          <p:nvPr/>
        </p:nvSpPr>
        <p:spPr>
          <a:xfrm>
            <a:off x="3234600" y="2774880"/>
            <a:ext cx="205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7"/>
          <p:cNvCxnSpPr/>
          <p:nvPr/>
        </p:nvCxnSpPr>
        <p:spPr>
          <a:xfrm flipH="1">
            <a:off x="2560680" y="2099160"/>
            <a:ext cx="2835720" cy="1446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47" name="Rectangle 49"/>
          <p:cNvSpPr/>
          <p:nvPr/>
        </p:nvSpPr>
        <p:spPr>
          <a:xfrm>
            <a:off x="5486400" y="1827360"/>
            <a:ext cx="272412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0"/>
          <p:cNvSpPr/>
          <p:nvPr/>
        </p:nvSpPr>
        <p:spPr>
          <a:xfrm>
            <a:off x="5486400" y="2268360"/>
            <a:ext cx="272556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51"/>
          <p:cNvCxnSpPr/>
          <p:nvPr/>
        </p:nvCxnSpPr>
        <p:spPr>
          <a:xfrm flipH="1">
            <a:off x="3036240" y="2539080"/>
            <a:ext cx="2367720" cy="6166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0" name="Rectangle 55"/>
          <p:cNvSpPr/>
          <p:nvPr/>
        </p:nvSpPr>
        <p:spPr>
          <a:xfrm>
            <a:off x="5479920" y="2732040"/>
            <a:ext cx="2743200" cy="45900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56"/>
          <p:cNvCxnSpPr/>
          <p:nvPr/>
        </p:nvCxnSpPr>
        <p:spPr>
          <a:xfrm flipH="1" flipV="1">
            <a:off x="3450600" y="2790360"/>
            <a:ext cx="1959480" cy="2008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412DF19-4812-4E43-989E-9DB281949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51"/>
          <p:cNvCxnSpPr/>
          <p:nvPr/>
        </p:nvCxnSpPr>
        <p:spPr>
          <a:xfrm flipH="1" flipV="1">
            <a:off x="3521880" y="2607840"/>
            <a:ext cx="421560" cy="3499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72" name="TextBox 33"/>
          <p:cNvSpPr/>
          <p:nvPr/>
        </p:nvSpPr>
        <p:spPr>
          <a:xfrm>
            <a:off x="3897720" y="27766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022A761-1857-48EC-A613-70A761194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Rounded Rectangle 23"/>
          <p:cNvGrpSpPr/>
          <p:nvPr/>
        </p:nvGrpSpPr>
        <p:grpSpPr>
          <a:xfrm>
            <a:off x="4511520" y="1932120"/>
            <a:ext cx="3407040" cy="2279520"/>
            <a:chOff x="4511520" y="1932120"/>
            <a:chExt cx="3407040" cy="2279520"/>
          </a:xfrm>
        </p:grpSpPr>
        <p:pic>
          <p:nvPicPr>
            <p:cNvPr id="799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4511520" y="1932120"/>
              <a:ext cx="3407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4676760" y="2075040"/>
              <a:ext cx="304020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supplied (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) increa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supply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Down Arrow 28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Straight Arrow Connector 29"/>
          <p:cNvCxnSpPr/>
          <p:nvPr/>
        </p:nvCxnSpPr>
        <p:spPr>
          <a:xfrm flipV="1">
            <a:off x="2095200" y="2920680"/>
            <a:ext cx="445320" cy="3945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03" name="Down Arrow 30"/>
          <p:cNvSpPr/>
          <p:nvPr/>
        </p:nvSpPr>
        <p:spPr>
          <a:xfrm rot="16200000">
            <a:off x="2436840" y="518292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391480" y="36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000600" y="309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775BB9D-CF51-407F-BAC8-89C507BD86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Supply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Up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s are motivated by prof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 price means more profit, more suppliers are willing to produce the produc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ise as more is produced, so higher prices required to supply mo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26B5523-6BE3-4A36-90E7-8ED61572E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supply from all producers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rizontal summation of each individual producer’s supply curv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are all making a simila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no preference as to which supplier or product they u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71513D6-287A-4DAF-81F0-6A3B68BFB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031760" y="1417680"/>
          <a:ext cx="7123320" cy="4983120"/>
        </p:xfrm>
        <a:graphic>
          <a:graphicData uri="http://schemas.openxmlformats.org/drawingml/2006/table">
            <a:tbl>
              <a:tblPr/>
              <a:tblGrid>
                <a:gridCol w="1700280"/>
                <a:gridCol w="1887480"/>
                <a:gridCol w="1675080"/>
                <a:gridCol w="18604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b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re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Box 3"/>
          <p:cNvSpPr/>
          <p:nvPr/>
        </p:nvSpPr>
        <p:spPr>
          <a:xfrm>
            <a:off x="4823280" y="29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6639120" y="298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1D78814-4846-4997-9383-6771662DB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demand and supply determine price and quantity trad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E13EAB3-BA8B-45F0-A597-112539BC2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"/>
          <p:cNvSpPr/>
          <p:nvPr/>
        </p:nvSpPr>
        <p:spPr>
          <a:xfrm flipH="1">
            <a:off x="2819520" y="1981080"/>
            <a:ext cx="838080" cy="2438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3"/>
          <p:cNvSpPr/>
          <p:nvPr/>
        </p:nvSpPr>
        <p:spPr>
          <a:xfrm>
            <a:off x="3733920" y="159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9"/>
          <p:cNvGrpSpPr/>
          <p:nvPr/>
        </p:nvGrpSpPr>
        <p:grpSpPr>
          <a:xfrm>
            <a:off x="3657240" y="1523880"/>
            <a:ext cx="3200760" cy="2895840"/>
            <a:chOff x="3657240" y="1523880"/>
            <a:chExt cx="3200760" cy="2895840"/>
          </a:xfrm>
        </p:grpSpPr>
        <p:sp>
          <p:nvSpPr>
            <p:cNvPr id="841" name="Text Box 35"/>
            <p:cNvSpPr/>
            <p:nvPr/>
          </p:nvSpPr>
          <p:spPr>
            <a:xfrm>
              <a:off x="5638680" y="15238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 flipH="1">
              <a:off x="3657240" y="1981080"/>
              <a:ext cx="2667240" cy="2438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37"/>
            <p:cNvSpPr/>
            <p:nvPr/>
          </p:nvSpPr>
          <p:spPr>
            <a:xfrm>
              <a:off x="5029200" y="1523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40"/>
          <p:cNvGrpSpPr/>
          <p:nvPr/>
        </p:nvGrpSpPr>
        <p:grpSpPr>
          <a:xfrm>
            <a:off x="4114800" y="1487520"/>
            <a:ext cx="4724280" cy="2932200"/>
            <a:chOff x="4114800" y="1487520"/>
            <a:chExt cx="4724280" cy="2932200"/>
          </a:xfrm>
        </p:grpSpPr>
        <p:sp>
          <p:nvSpPr>
            <p:cNvPr id="845" name="Line 34"/>
            <p:cNvSpPr/>
            <p:nvPr/>
          </p:nvSpPr>
          <p:spPr>
            <a:xfrm flipH="1">
              <a:off x="4114800" y="2057400"/>
              <a:ext cx="36576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36"/>
            <p:cNvSpPr/>
            <p:nvPr/>
          </p:nvSpPr>
          <p:spPr>
            <a:xfrm>
              <a:off x="7543800" y="152424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38"/>
            <p:cNvSpPr/>
            <p:nvPr/>
          </p:nvSpPr>
          <p:spPr>
            <a:xfrm>
              <a:off x="7010280" y="148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Supply Cur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"/>
          <p:cNvSpPr/>
          <p:nvPr/>
        </p:nvSpPr>
        <p:spPr>
          <a:xfrm>
            <a:off x="3398760" y="4646520"/>
            <a:ext cx="507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supply is the total quantity of all producers at each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914B1C5-3627-477B-9BEF-A137E8374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574280"/>
            <a:ext cx="82296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chanism that allows buyers and sellers to exchange products or serv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quilibrium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quantity demanded equals quantity suppli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either a shortage nor a surplu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Rounded Rectangle 3"/>
          <p:cNvGrpSpPr/>
          <p:nvPr/>
        </p:nvGrpSpPr>
        <p:grpSpPr>
          <a:xfrm>
            <a:off x="3365640" y="5162400"/>
            <a:ext cx="2419200" cy="1019160"/>
            <a:chOff x="3365640" y="5162400"/>
            <a:chExt cx="2419200" cy="1019160"/>
          </a:xfrm>
        </p:grpSpPr>
        <p:pic>
          <p:nvPicPr>
            <p:cNvPr id="85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365640" y="5162400"/>
              <a:ext cx="241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3468600" y="5246640"/>
              <a:ext cx="2217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D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= 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S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7E4C1E4-5058-4C72-ADEF-B4BFA616C0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"/>
          <p:cNvSpPr/>
          <p:nvPr/>
        </p:nvSpPr>
        <p:spPr>
          <a:xfrm>
            <a:off x="8065080" y="1494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. 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rplu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reat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above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ag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below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D9E7B28-F3BC-4E6D-BFA2-FD55614436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755640" y="1417680"/>
          <a:ext cx="7709040" cy="4983120"/>
        </p:xfrm>
        <a:graphic>
          <a:graphicData uri="http://schemas.openxmlformats.org/drawingml/2006/table">
            <a:tbl>
              <a:tblPr/>
              <a:tblGrid>
                <a:gridCol w="1838160"/>
                <a:gridCol w="1787760"/>
                <a:gridCol w="1913040"/>
                <a:gridCol w="2170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/ Surp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Text Box 51"/>
          <p:cNvSpPr/>
          <p:nvPr/>
        </p:nvSpPr>
        <p:spPr>
          <a:xfrm>
            <a:off x="6934320" y="3011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4642560" y="2820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8"/>
          <p:cNvSpPr/>
          <p:nvPr/>
        </p:nvSpPr>
        <p:spPr>
          <a:xfrm>
            <a:off x="6386760" y="3002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7023240" y="366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1"/>
          <p:cNvSpPr/>
          <p:nvPr/>
        </p:nvSpPr>
        <p:spPr>
          <a:xfrm>
            <a:off x="7224840" y="435456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1"/>
          <p:cNvSpPr/>
          <p:nvPr/>
        </p:nvSpPr>
        <p:spPr>
          <a:xfrm>
            <a:off x="6862680" y="5045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1"/>
          <p:cNvSpPr/>
          <p:nvPr/>
        </p:nvSpPr>
        <p:spPr>
          <a:xfrm>
            <a:off x="685332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568FE50-4B73-4973-9AC2-29B36982C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28"/>
          <p:cNvSpPr/>
          <p:nvPr/>
        </p:nvSpPr>
        <p:spPr>
          <a:xfrm flipH="1" flipV="1">
            <a:off x="1990800" y="3482640"/>
            <a:ext cx="2187360" cy="4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70EDBB7-78EE-4FE5-98A7-A4252359A73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28"/>
          <p:cNvSpPr/>
          <p:nvPr/>
        </p:nvSpPr>
        <p:spPr>
          <a:xfrm flipH="1">
            <a:off x="4176720" y="3646440"/>
            <a:ext cx="1440" cy="20876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Rounded Rectangle 21"/>
          <p:cNvGrpSpPr/>
          <p:nvPr/>
        </p:nvGrpSpPr>
        <p:grpSpPr>
          <a:xfrm>
            <a:off x="5694480" y="2481120"/>
            <a:ext cx="2747880" cy="1462320"/>
            <a:chOff x="5694480" y="2481120"/>
            <a:chExt cx="2747880" cy="1462320"/>
          </a:xfrm>
        </p:grpSpPr>
        <p:pic>
          <p:nvPicPr>
            <p:cNvPr id="891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94480" y="2481120"/>
              <a:ext cx="2747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818320" y="2585880"/>
              <a:ext cx="2484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 market is in equilibrium when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4068720" y="335772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hortag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F33D629-1984-4704-81D6-EC39A78C6E1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09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low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l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8"/>
          <p:cNvSpPr/>
          <p:nvPr/>
        </p:nvSpPr>
        <p:spPr>
          <a:xfrm flipH="1" flipV="1">
            <a:off x="1973160" y="4199040"/>
            <a:ext cx="290664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8"/>
          <p:cNvSpPr/>
          <p:nvPr/>
        </p:nvSpPr>
        <p:spPr>
          <a:xfrm>
            <a:off x="3433680" y="417816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8"/>
          <p:cNvSpPr/>
          <p:nvPr/>
        </p:nvSpPr>
        <p:spPr>
          <a:xfrm>
            <a:off x="4925880" y="420372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3"/>
          <p:cNvSpPr/>
          <p:nvPr/>
        </p:nvSpPr>
        <p:spPr>
          <a:xfrm>
            <a:off x="1215360" y="3921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"/>
          <p:cNvSpPr/>
          <p:nvPr/>
        </p:nvSpPr>
        <p:spPr>
          <a:xfrm>
            <a:off x="325620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471708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4681440" y="609912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3105000" y="60879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3"/>
          <p:cNvSpPr/>
          <p:nvPr/>
        </p:nvSpPr>
        <p:spPr>
          <a:xfrm>
            <a:off x="4805280" y="40734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8"/>
          <p:cNvSpPr/>
          <p:nvPr/>
        </p:nvSpPr>
        <p:spPr>
          <a:xfrm>
            <a:off x="3324240" y="405936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eft-Right Arrow 34"/>
          <p:cNvSpPr/>
          <p:nvPr/>
        </p:nvSpPr>
        <p:spPr>
          <a:xfrm>
            <a:off x="3476520" y="4551480"/>
            <a:ext cx="1403280" cy="6271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E0EF8E6-7560-4368-8B83-C92D2DA7A720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37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high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g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586E82F-43BC-4A88-9A20-466D7527C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Text Box 51"/>
          <p:cNvSpPr/>
          <p:nvPr/>
        </p:nvSpPr>
        <p:spPr>
          <a:xfrm>
            <a:off x="6694560" y="3533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6676920" y="4057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6670800" y="4572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1"/>
          <p:cNvSpPr/>
          <p:nvPr/>
        </p:nvSpPr>
        <p:spPr>
          <a:xfrm>
            <a:off x="6999120" y="5092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1"/>
          <p:cNvSpPr/>
          <p:nvPr/>
        </p:nvSpPr>
        <p:spPr>
          <a:xfrm>
            <a:off x="6627960" y="56149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CAFD6AD-E8DD-4F1F-AF7B-834AA2C82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urplus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drop the price to sell excess stoc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drop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in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fa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513D884-F785-4BC9-A5CE-BF4EAF39E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206172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C1D5155-7F83-4DAC-9855-21A3FAF6C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2D28C9E-26AF-49E8-9146-6C8799AC01A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E0D631D-A61F-4A3B-8361-3B18A6DDC8E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Rounded Rectangle 21"/>
          <p:cNvGrpSpPr/>
          <p:nvPr/>
        </p:nvGrpSpPr>
        <p:grpSpPr>
          <a:xfrm>
            <a:off x="5602320" y="2004840"/>
            <a:ext cx="3316320" cy="2994120"/>
            <a:chOff x="5602320" y="2004840"/>
            <a:chExt cx="3316320" cy="2994120"/>
          </a:xfrm>
        </p:grpSpPr>
        <p:pic>
          <p:nvPicPr>
            <p:cNvPr id="101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02320" y="2004840"/>
              <a:ext cx="33163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5805360" y="2185920"/>
              <a:ext cx="286704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drop price to sell ex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uyers buy more at lower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supply less at lower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ack to equilibrium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28"/>
          <p:cNvSpPr/>
          <p:nvPr/>
        </p:nvSpPr>
        <p:spPr>
          <a:xfrm flipH="1">
            <a:off x="2001960" y="3086280"/>
            <a:ext cx="259560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28"/>
          <p:cNvSpPr/>
          <p:nvPr/>
        </p:nvSpPr>
        <p:spPr>
          <a:xfrm flipH="1">
            <a:off x="3745080" y="3073320"/>
            <a:ext cx="1440" cy="26877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28"/>
          <p:cNvSpPr/>
          <p:nvPr/>
        </p:nvSpPr>
        <p:spPr>
          <a:xfrm>
            <a:off x="4571280" y="3086280"/>
            <a:ext cx="28440" cy="2689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eft-Right Arrow 34"/>
          <p:cNvSpPr/>
          <p:nvPr/>
        </p:nvSpPr>
        <p:spPr>
          <a:xfrm>
            <a:off x="3733920" y="4635360"/>
            <a:ext cx="850680" cy="470160"/>
          </a:xfrm>
          <a:prstGeom prst="leftRightArrow">
            <a:avLst>
              <a:gd name="adj1" fmla="val 50000"/>
              <a:gd name="adj2" fmla="val 49958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Down Arrow 36"/>
          <p:cNvSpPr/>
          <p:nvPr/>
        </p:nvSpPr>
        <p:spPr>
          <a:xfrm>
            <a:off x="3911760" y="2502000"/>
            <a:ext cx="54612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Straight Arrow Connector 37"/>
          <p:cNvCxnSpPr/>
          <p:nvPr/>
        </p:nvCxnSpPr>
        <p:spPr>
          <a:xfrm flipH="1">
            <a:off x="4681080" y="2996280"/>
            <a:ext cx="411840" cy="384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27" name="Straight Arrow Connector 39"/>
          <p:cNvCxnSpPr/>
          <p:nvPr/>
        </p:nvCxnSpPr>
        <p:spPr>
          <a:xfrm>
            <a:off x="3262680" y="2971440"/>
            <a:ext cx="445320" cy="4453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028" name="Oval 41"/>
          <p:cNvSpPr/>
          <p:nvPr/>
        </p:nvSpPr>
        <p:spPr>
          <a:xfrm>
            <a:off x="4078440" y="335124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eft-Right Arrow 43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hortage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ers bid up the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rise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de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increas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8449425-54CD-466B-8F45-69A7DF4D5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8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"/>
          <p:cNvSpPr/>
          <p:nvPr/>
        </p:nvSpPr>
        <p:spPr>
          <a:xfrm flipH="1" flipV="1">
            <a:off x="4130280" y="2854440"/>
            <a:ext cx="1560600" cy="23637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5"/>
          <p:cNvSpPr/>
          <p:nvPr/>
        </p:nvSpPr>
        <p:spPr>
          <a:xfrm>
            <a:off x="3220560" y="2708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4311000" y="274176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3650400" y="5929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1117440" y="38671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7"/>
          <p:cNvSpPr/>
          <p:nvPr/>
        </p:nvSpPr>
        <p:spPr>
          <a:xfrm>
            <a:off x="47124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27"/>
          <p:cNvCxnSpPr/>
          <p:nvPr/>
        </p:nvCxnSpPr>
        <p:spPr>
          <a:xfrm>
            <a:off x="1746360" y="4093920"/>
            <a:ext cx="4450320" cy="1476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arrow" w="med"/>
          </a:ln>
        </p:spPr>
      </p:cxnSp>
      <p:cxnSp>
        <p:nvCxnSpPr>
          <p:cNvPr id="1047" name="Straight Arrow Connector 31"/>
          <p:cNvCxnSpPr>
            <a:endCxn id="1043" idx="0"/>
          </p:cNvCxnSpPr>
          <p:nvPr/>
        </p:nvCxnSpPr>
        <p:spPr>
          <a:xfrm flipH="1">
            <a:off x="3867840" y="4134960"/>
            <a:ext cx="9000" cy="17946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8" name="Straight Arrow Connector 34"/>
          <p:cNvCxnSpPr/>
          <p:nvPr/>
        </p:nvCxnSpPr>
        <p:spPr>
          <a:xfrm>
            <a:off x="4926600" y="4135320"/>
            <a:ext cx="3960" cy="17820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49" name="Text Box 19"/>
          <p:cNvSpPr/>
          <p:nvPr/>
        </p:nvSpPr>
        <p:spPr>
          <a:xfrm>
            <a:off x="905400" y="1371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9"/>
          <p:cNvSpPr/>
          <p:nvPr/>
        </p:nvSpPr>
        <p:spPr>
          <a:xfrm>
            <a:off x="6978960" y="5742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Rounded Rectangle 21"/>
          <p:cNvGrpSpPr/>
          <p:nvPr/>
        </p:nvGrpSpPr>
        <p:grpSpPr>
          <a:xfrm>
            <a:off x="5065560" y="1768320"/>
            <a:ext cx="3687840" cy="1870200"/>
            <a:chOff x="5065560" y="1768320"/>
            <a:chExt cx="3687840" cy="1870200"/>
          </a:xfrm>
        </p:grpSpPr>
        <p:pic>
          <p:nvPicPr>
            <p:cNvPr id="105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065560" y="1768320"/>
              <a:ext cx="368784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5216400" y="1889280"/>
              <a:ext cx="339732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re quantity is demanded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t each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used by a factor other than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Down Arrow 23"/>
          <p:cNvSpPr/>
          <p:nvPr/>
        </p:nvSpPr>
        <p:spPr>
          <a:xfrm rot="16200000">
            <a:off x="3801960" y="3171240"/>
            <a:ext cx="368280" cy="43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 flipH="1" flipV="1">
            <a:off x="3086280" y="2874960"/>
            <a:ext cx="1506240" cy="2341440"/>
          </a:xfrm>
          <a:prstGeom prst="line">
            <a:avLst/>
          </a:prstGeom>
          <a:ln cap="sq" w="57240">
            <a:solidFill>
              <a:srgbClr val="ff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26"/>
          <p:cNvCxnSpPr/>
          <p:nvPr/>
        </p:nvCxnSpPr>
        <p:spPr>
          <a:xfrm flipV="1">
            <a:off x="1758600" y="4101480"/>
            <a:ext cx="2166120" cy="540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arrow" w="med"/>
          </a:ln>
        </p:spPr>
      </p:cxnSp>
      <p:sp>
        <p:nvSpPr>
          <p:cNvPr id="105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0208826-3E47-4852-984E-A9024778601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1. Consumer preferenc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astes change, demand chang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Consumer incom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ormal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rises, less when income fall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ferior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falls, less when income ris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43EF19D-9DCC-4A10-B656-3A6E2EEBE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are related if a change in the price of one product causes a change in demand for the othe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 types of related product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010F4F0-6E25-4859-8C45-17809EE5F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itute Produc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 products that can be substituted for each o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increased demand for the related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8FF9F0D-1DDF-4EE4-9987-708A00DE7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 Product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d to be bought toge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a decrease in demand for related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1DFF606-BCF1-48CC-8D07-A4B1D836C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447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Expectations of future prices, income, availabilit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prices or incomes expected to rise, consumers buy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goods expected to be scarcer, buy more now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5. Population size, income, and age distribution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in population or incomes cause increase in deman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age distribution affect demand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D7BE87F-EA3D-446E-9722-23A6F277C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569150E-F930-449F-8A46-392FDC478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l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be willing to purchas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ability to pay for 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4C5E3C2-8716-4DDD-8D3B-EA4ECFACF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4" name="TextBox 5"/>
          <p:cNvSpPr/>
          <p:nvPr/>
        </p:nvSpPr>
        <p:spPr>
          <a:xfrm>
            <a:off x="5549760" y="4795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beer f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"/>
          <p:cNvSpPr/>
          <p:nvPr/>
        </p:nvSpPr>
        <p:spPr>
          <a:xfrm>
            <a:off x="5067360" y="5613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nuts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CE396B6-3A69-4979-80C1-E698CE3E6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n In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59D67F5-A1CB-49E5-A203-D47C4B13BAAE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9"/>
          <p:cNvSpPr/>
          <p:nvPr/>
        </p:nvSpPr>
        <p:spPr>
          <a:xfrm>
            <a:off x="398304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0"/>
          <p:cNvSpPr/>
          <p:nvPr/>
        </p:nvSpPr>
        <p:spPr>
          <a:xfrm>
            <a:off x="52783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3"/>
          <p:cNvSpPr/>
          <p:nvPr/>
        </p:nvSpPr>
        <p:spPr>
          <a:xfrm>
            <a:off x="1768320" y="1447920"/>
            <a:ext cx="0" cy="438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"/>
          <p:cNvSpPr/>
          <p:nvPr/>
        </p:nvSpPr>
        <p:spPr>
          <a:xfrm flipV="1">
            <a:off x="1768320" y="5825880"/>
            <a:ext cx="5626080" cy="61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5"/>
          <p:cNvSpPr/>
          <p:nvPr/>
        </p:nvSpPr>
        <p:spPr>
          <a:xfrm>
            <a:off x="2133720" y="1828800"/>
            <a:ext cx="3911400" cy="387504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"/>
          <p:cNvSpPr/>
          <p:nvPr/>
        </p:nvSpPr>
        <p:spPr>
          <a:xfrm flipV="1">
            <a:off x="2211480" y="2179440"/>
            <a:ext cx="460512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7"/>
          <p:cNvSpPr/>
          <p:nvPr/>
        </p:nvSpPr>
        <p:spPr>
          <a:xfrm>
            <a:off x="3097080" y="1447920"/>
            <a:ext cx="3916440" cy="392112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7100280" y="5186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6902280" y="19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0"/>
          <p:cNvSpPr/>
          <p:nvPr/>
        </p:nvSpPr>
        <p:spPr>
          <a:xfrm>
            <a:off x="6033240" y="5262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5"/>
          <p:cNvSpPr/>
          <p:nvPr/>
        </p:nvSpPr>
        <p:spPr>
          <a:xfrm>
            <a:off x="4194000" y="3997440"/>
            <a:ext cx="0" cy="1827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5032440" y="3387600"/>
            <a:ext cx="0" cy="243540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8"/>
          <p:cNvSpPr/>
          <p:nvPr/>
        </p:nvSpPr>
        <p:spPr>
          <a:xfrm flipH="1">
            <a:off x="1755360" y="3387600"/>
            <a:ext cx="318924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1"/>
          <p:cNvSpPr/>
          <p:nvPr/>
        </p:nvSpPr>
        <p:spPr>
          <a:xfrm>
            <a:off x="1064520" y="3049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2"/>
          <p:cNvSpPr/>
          <p:nvPr/>
        </p:nvSpPr>
        <p:spPr>
          <a:xfrm>
            <a:off x="1096920" y="3691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4"/>
          <p:cNvSpPr/>
          <p:nvPr/>
        </p:nvSpPr>
        <p:spPr>
          <a:xfrm flipV="1">
            <a:off x="3427560" y="2900520"/>
            <a:ext cx="9921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29"/>
          <p:cNvSpPr/>
          <p:nvPr/>
        </p:nvSpPr>
        <p:spPr>
          <a:xfrm>
            <a:off x="5486400" y="388620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48211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33"/>
          <p:cNvSpPr/>
          <p:nvPr/>
        </p:nvSpPr>
        <p:spPr>
          <a:xfrm rot="16200000">
            <a:off x="4647960" y="3581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6"/>
          <p:cNvSpPr/>
          <p:nvPr/>
        </p:nvSpPr>
        <p:spPr>
          <a:xfrm>
            <a:off x="4952880" y="3276720"/>
            <a:ext cx="152640" cy="15228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7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8"/>
          <p:cNvSpPr/>
          <p:nvPr/>
        </p:nvSpPr>
        <p:spPr>
          <a:xfrm>
            <a:off x="4114800" y="3809880"/>
            <a:ext cx="15228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30"/>
          <p:cNvSpPr/>
          <p:nvPr/>
        </p:nvSpPr>
        <p:spPr>
          <a:xfrm flipH="1" flipV="1">
            <a:off x="1830240" y="3895200"/>
            <a:ext cx="23623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traight Connector 32"/>
          <p:cNvSpPr/>
          <p:nvPr/>
        </p:nvSpPr>
        <p:spPr>
          <a:xfrm>
            <a:off x="4267080" y="388620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Rounded Rectangle 29"/>
          <p:cNvGrpSpPr/>
          <p:nvPr/>
        </p:nvGrpSpPr>
        <p:grpSpPr>
          <a:xfrm>
            <a:off x="6132600" y="2693880"/>
            <a:ext cx="2871720" cy="1871640"/>
            <a:chOff x="6132600" y="2693880"/>
            <a:chExt cx="2871720" cy="1871640"/>
          </a:xfrm>
        </p:grpSpPr>
        <p:pic>
          <p:nvPicPr>
            <p:cNvPr id="1126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717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increases, a shortage is created and price ri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34"/>
          <p:cNvSpPr/>
          <p:nvPr/>
        </p:nvSpPr>
        <p:spPr>
          <a:xfrm>
            <a:off x="4368960" y="4356000"/>
            <a:ext cx="109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4"/>
          <p:cNvSpPr/>
          <p:nvPr/>
        </p:nvSpPr>
        <p:spPr>
          <a:xfrm flipV="1">
            <a:off x="888840" y="3286080"/>
            <a:ext cx="14400" cy="68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 De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0CD0210-C286-4059-8F4E-BEA01E7C11C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313128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436392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1309680" y="1325520"/>
            <a:ext cx="0" cy="4384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1309680" y="5710320"/>
            <a:ext cx="5548320" cy="4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7"/>
          <p:cNvSpPr/>
          <p:nvPr/>
        </p:nvSpPr>
        <p:spPr>
          <a:xfrm>
            <a:off x="1576440" y="1600200"/>
            <a:ext cx="3911400" cy="387504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8"/>
          <p:cNvSpPr/>
          <p:nvPr/>
        </p:nvSpPr>
        <p:spPr>
          <a:xfrm flipV="1">
            <a:off x="1752480" y="2057040"/>
            <a:ext cx="460548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2638440" y="1325520"/>
            <a:ext cx="3916440" cy="3921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6639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6443280" y="178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2"/>
          <p:cNvSpPr/>
          <p:nvPr/>
        </p:nvSpPr>
        <p:spPr>
          <a:xfrm>
            <a:off x="5496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3"/>
          <p:cNvSpPr/>
          <p:nvPr/>
        </p:nvSpPr>
        <p:spPr>
          <a:xfrm>
            <a:off x="3811680" y="3875040"/>
            <a:ext cx="0" cy="182736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4"/>
          <p:cNvSpPr/>
          <p:nvPr/>
        </p:nvSpPr>
        <p:spPr>
          <a:xfrm>
            <a:off x="4573440" y="326556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5"/>
          <p:cNvSpPr/>
          <p:nvPr/>
        </p:nvSpPr>
        <p:spPr>
          <a:xfrm flipH="1">
            <a:off x="1296720" y="3798720"/>
            <a:ext cx="239076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 flipH="1">
            <a:off x="1296720" y="3265560"/>
            <a:ext cx="318924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7"/>
          <p:cNvSpPr/>
          <p:nvPr/>
        </p:nvSpPr>
        <p:spPr>
          <a:xfrm>
            <a:off x="627120" y="2927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8"/>
          <p:cNvSpPr/>
          <p:nvPr/>
        </p:nvSpPr>
        <p:spPr>
          <a:xfrm>
            <a:off x="611280" y="356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2838600" y="2732040"/>
            <a:ext cx="1063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3276720" y="327672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4"/>
          <p:cNvSpPr/>
          <p:nvPr/>
        </p:nvSpPr>
        <p:spPr>
          <a:xfrm>
            <a:off x="355896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Rounded Rectangle 23"/>
          <p:cNvGrpSpPr/>
          <p:nvPr/>
        </p:nvGrpSpPr>
        <p:grpSpPr>
          <a:xfrm>
            <a:off x="6132600" y="2693880"/>
            <a:ext cx="2822400" cy="1871640"/>
            <a:chOff x="6132600" y="2693880"/>
            <a:chExt cx="2822400" cy="1871640"/>
          </a:xfrm>
        </p:grpSpPr>
        <p:pic>
          <p:nvPicPr>
            <p:cNvPr id="1154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224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decreases, a surplus is created and price dro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Line 24"/>
          <p:cNvSpPr/>
          <p:nvPr/>
        </p:nvSpPr>
        <p:spPr>
          <a:xfrm flipH="1">
            <a:off x="439200" y="3157560"/>
            <a:ext cx="11160" cy="723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A2E710A-F4A4-4756-BEDF-ECC111065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5"/>
          <p:cNvGrpSpPr/>
          <p:nvPr/>
        </p:nvGrpSpPr>
        <p:grpSpPr>
          <a:xfrm>
            <a:off x="5092560" y="2932920"/>
            <a:ext cx="1752840" cy="475560"/>
            <a:chOff x="5092560" y="2932920"/>
            <a:chExt cx="1752840" cy="475560"/>
          </a:xfrm>
        </p:grpSpPr>
        <p:sp>
          <p:nvSpPr>
            <p:cNvPr id="1167" name="TextBox 7"/>
            <p:cNvSpPr/>
            <p:nvPr/>
          </p:nvSpPr>
          <p:spPr>
            <a:xfrm>
              <a:off x="5092560" y="3009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8" name="Straight Arrow Connector 9"/>
            <p:cNvCxnSpPr/>
            <p:nvPr/>
          </p:nvCxnSpPr>
          <p:spPr>
            <a:xfrm flipV="1">
              <a:off x="542916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69" name="Straight Arrow Connector 11"/>
            <p:cNvCxnSpPr/>
            <p:nvPr/>
          </p:nvCxnSpPr>
          <p:spPr>
            <a:xfrm flipV="1">
              <a:off x="59299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0" name="Straight Arrow Connector 12"/>
            <p:cNvCxnSpPr/>
            <p:nvPr/>
          </p:nvCxnSpPr>
          <p:spPr>
            <a:xfrm flipV="1">
              <a:off x="64645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1" name="Group 36"/>
          <p:cNvGrpSpPr/>
          <p:nvPr/>
        </p:nvGrpSpPr>
        <p:grpSpPr>
          <a:xfrm>
            <a:off x="2133720" y="3936960"/>
            <a:ext cx="1752480" cy="398880"/>
            <a:chOff x="2133720" y="3936960"/>
            <a:chExt cx="1752480" cy="398880"/>
          </a:xfrm>
        </p:grpSpPr>
        <p:sp>
          <p:nvSpPr>
            <p:cNvPr id="1172" name="TextBox 21"/>
            <p:cNvSpPr/>
            <p:nvPr/>
          </p:nvSpPr>
          <p:spPr>
            <a:xfrm>
              <a:off x="2133720" y="3936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3" name="Straight Arrow Connector 22"/>
            <p:cNvCxnSpPr/>
            <p:nvPr/>
          </p:nvCxnSpPr>
          <p:spPr>
            <a:xfrm>
              <a:off x="25138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4" name="Straight Arrow Connector 23"/>
            <p:cNvCxnSpPr/>
            <p:nvPr/>
          </p:nvCxnSpPr>
          <p:spPr>
            <a:xfrm>
              <a:off x="29710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5" name="Straight Arrow Connector 24"/>
            <p:cNvCxnSpPr/>
            <p:nvPr/>
          </p:nvCxnSpPr>
          <p:spPr>
            <a:xfrm flipH="1">
              <a:off x="3504240" y="3936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6" name="Group 37"/>
          <p:cNvGrpSpPr/>
          <p:nvPr/>
        </p:nvGrpSpPr>
        <p:grpSpPr>
          <a:xfrm>
            <a:off x="7391520" y="4304520"/>
            <a:ext cx="1752480" cy="475560"/>
            <a:chOff x="7391520" y="4304520"/>
            <a:chExt cx="1752480" cy="475560"/>
          </a:xfrm>
        </p:grpSpPr>
        <p:sp>
          <p:nvSpPr>
            <p:cNvPr id="1177" name="TextBox 13"/>
            <p:cNvSpPr/>
            <p:nvPr/>
          </p:nvSpPr>
          <p:spPr>
            <a:xfrm>
              <a:off x="7391520" y="4381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8" name="Straight Arrow Connector 14"/>
            <p:cNvCxnSpPr/>
            <p:nvPr/>
          </p:nvCxnSpPr>
          <p:spPr>
            <a:xfrm flipV="1">
              <a:off x="7728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9" name="Straight Arrow Connector 15"/>
            <p:cNvCxnSpPr/>
            <p:nvPr/>
          </p:nvCxnSpPr>
          <p:spPr>
            <a:xfrm flipV="1">
              <a:off x="822888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0" name="Straight Arrow Connector 16"/>
            <p:cNvCxnSpPr/>
            <p:nvPr/>
          </p:nvCxnSpPr>
          <p:spPr>
            <a:xfrm flipV="1">
              <a:off x="8763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1" name="Group 38"/>
          <p:cNvGrpSpPr/>
          <p:nvPr/>
        </p:nvGrpSpPr>
        <p:grpSpPr>
          <a:xfrm>
            <a:off x="2755800" y="5218920"/>
            <a:ext cx="1752840" cy="475560"/>
            <a:chOff x="2755800" y="5218920"/>
            <a:chExt cx="1752840" cy="475560"/>
          </a:xfrm>
        </p:grpSpPr>
        <p:sp>
          <p:nvSpPr>
            <p:cNvPr id="1182" name="TextBox 17"/>
            <p:cNvSpPr/>
            <p:nvPr/>
          </p:nvSpPr>
          <p:spPr>
            <a:xfrm>
              <a:off x="2755800" y="5295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8"/>
            <p:cNvCxnSpPr/>
            <p:nvPr/>
          </p:nvCxnSpPr>
          <p:spPr>
            <a:xfrm flipV="1">
              <a:off x="310392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4" name="Straight Arrow Connector 19"/>
            <p:cNvCxnSpPr/>
            <p:nvPr/>
          </p:nvCxnSpPr>
          <p:spPr>
            <a:xfrm flipV="1">
              <a:off x="35931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5" name="Straight Arrow Connector 20"/>
            <p:cNvCxnSpPr/>
            <p:nvPr/>
          </p:nvCxnSpPr>
          <p:spPr>
            <a:xfrm flipV="1">
              <a:off x="41277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6" name="Group 39"/>
          <p:cNvGrpSpPr/>
          <p:nvPr/>
        </p:nvGrpSpPr>
        <p:grpSpPr>
          <a:xfrm>
            <a:off x="5880240" y="5803920"/>
            <a:ext cx="1752480" cy="398880"/>
            <a:chOff x="5880240" y="5803920"/>
            <a:chExt cx="1752480" cy="398880"/>
          </a:xfrm>
        </p:grpSpPr>
        <p:sp>
          <p:nvSpPr>
            <p:cNvPr id="1187" name="TextBox 25"/>
            <p:cNvSpPr/>
            <p:nvPr/>
          </p:nvSpPr>
          <p:spPr>
            <a:xfrm>
              <a:off x="5880240" y="5803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6"/>
            <p:cNvCxnSpPr/>
            <p:nvPr/>
          </p:nvCxnSpPr>
          <p:spPr>
            <a:xfrm>
              <a:off x="62604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9" name="Straight Arrow Connector 27"/>
            <p:cNvCxnSpPr/>
            <p:nvPr/>
          </p:nvCxnSpPr>
          <p:spPr>
            <a:xfrm>
              <a:off x="67176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0" name="Straight Arrow Connector 28"/>
            <p:cNvCxnSpPr/>
            <p:nvPr/>
          </p:nvCxnSpPr>
          <p:spPr>
            <a:xfrm flipH="1">
              <a:off x="7250760" y="580392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9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9464962-F576-4302-9E35-32F8151BB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1595520"/>
            <a:ext cx="8458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ices of Productive Resour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price of a productive resource increases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 Business Tax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business taxes rise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 Technolog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mprovement in technology leads to a fall in the cost of production and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990D533-8F19-411D-9CE0-21C542998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0520" y="1584000"/>
            <a:ext cx="80773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 Prices of Substitutes in Production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ncrease in the price of one product will cause a drop in the supply of products that are substitutes in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5.  Future Expectation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expected future prices will lead to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6.  Number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ecrease in the number of suppliers will reduce market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46D2603-6D5B-44E6-A819-67A686A81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n In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F41A674A-5570-4BF6-ADD0-0D7E12E31B9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3652920" y="395460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1"/>
          <p:cNvSpPr/>
          <p:nvPr/>
        </p:nvSpPr>
        <p:spPr>
          <a:xfrm flipH="1">
            <a:off x="1752120" y="3873600"/>
            <a:ext cx="396252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4"/>
          <p:cNvSpPr/>
          <p:nvPr/>
        </p:nvSpPr>
        <p:spPr>
          <a:xfrm>
            <a:off x="52592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5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6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7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8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9"/>
          <p:cNvSpPr/>
          <p:nvPr/>
        </p:nvSpPr>
        <p:spPr>
          <a:xfrm>
            <a:off x="1090440" y="3703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0"/>
          <p:cNvSpPr/>
          <p:nvPr/>
        </p:nvSpPr>
        <p:spPr>
          <a:xfrm>
            <a:off x="1090440" y="437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4649760" y="3503520"/>
            <a:ext cx="15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1976400" y="4010040"/>
            <a:ext cx="4680" cy="48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8"/>
          <p:cNvSpPr/>
          <p:nvPr/>
        </p:nvSpPr>
        <p:spPr>
          <a:xfrm>
            <a:off x="5715000" y="396252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5490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Rounded Rectangle 27"/>
          <p:cNvGrpSpPr/>
          <p:nvPr/>
        </p:nvGrpSpPr>
        <p:grpSpPr>
          <a:xfrm>
            <a:off x="6224760" y="3693960"/>
            <a:ext cx="2700000" cy="1878120"/>
            <a:chOff x="6224760" y="3693960"/>
            <a:chExt cx="2700000" cy="1878120"/>
          </a:xfrm>
        </p:grpSpPr>
        <p:pic>
          <p:nvPicPr>
            <p:cNvPr id="1227" name="Rounded Rectangle 27" descr=""/>
            <p:cNvPicPr/>
            <p:nvPr/>
          </p:nvPicPr>
          <p:blipFill>
            <a:blip r:embed="rId1"/>
            <a:stretch/>
          </p:blipFill>
          <p:spPr>
            <a:xfrm>
              <a:off x="6224760" y="3693960"/>
              <a:ext cx="270000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6372360" y="3819600"/>
              <a:ext cx="240660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increases, a surplus is created and price fa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2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 De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BD3DB833-D52F-4532-A9C7-1CB38D909B0E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2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2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2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2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28"/>
          <p:cNvSpPr/>
          <p:nvPr/>
        </p:nvSpPr>
        <p:spPr>
          <a:xfrm>
            <a:off x="3652920" y="3954600"/>
            <a:ext cx="4680" cy="191268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2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31"/>
          <p:cNvSpPr/>
          <p:nvPr/>
        </p:nvSpPr>
        <p:spPr>
          <a:xfrm flipH="1">
            <a:off x="1676520" y="3886200"/>
            <a:ext cx="195552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2"/>
          <p:cNvSpPr/>
          <p:nvPr/>
        </p:nvSpPr>
        <p:spPr>
          <a:xfrm>
            <a:off x="51829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3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4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5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6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37"/>
          <p:cNvSpPr/>
          <p:nvPr/>
        </p:nvSpPr>
        <p:spPr>
          <a:xfrm>
            <a:off x="1090440" y="3657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8"/>
          <p:cNvSpPr/>
          <p:nvPr/>
        </p:nvSpPr>
        <p:spPr>
          <a:xfrm>
            <a:off x="1090440" y="43434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39"/>
          <p:cNvSpPr/>
          <p:nvPr/>
        </p:nvSpPr>
        <p:spPr>
          <a:xfrm>
            <a:off x="4724280" y="350532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41"/>
          <p:cNvSpPr/>
          <p:nvPr/>
        </p:nvSpPr>
        <p:spPr>
          <a:xfrm flipH="1" flipV="1">
            <a:off x="1980720" y="3962160"/>
            <a:ext cx="1800" cy="5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Rounded Rectangle 23"/>
          <p:cNvGrpSpPr/>
          <p:nvPr/>
        </p:nvGrpSpPr>
        <p:grpSpPr>
          <a:xfrm>
            <a:off x="6516720" y="3456000"/>
            <a:ext cx="2262240" cy="2305080"/>
            <a:chOff x="6516720" y="3456000"/>
            <a:chExt cx="2262240" cy="2305080"/>
          </a:xfrm>
        </p:grpSpPr>
        <p:pic>
          <p:nvPicPr>
            <p:cNvPr id="1252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516720" y="3456000"/>
              <a:ext cx="22622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83400" y="3597120"/>
              <a:ext cx="193680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decreases, a shortage is created and price 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Line 29"/>
          <p:cNvSpPr/>
          <p:nvPr/>
        </p:nvSpPr>
        <p:spPr>
          <a:xfrm>
            <a:off x="2346480" y="459576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0B3109D-93DC-402D-8A5F-2E310BF93F8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eriod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sures quantities in a specific time period, e.g. a week / month / year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D0A59F1-FADE-45DF-A277-FF1647EB6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CAC15FA-064D-4EB3-B10A-9C792DF5C9E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7"/>
          <p:cNvSpPr/>
          <p:nvPr/>
        </p:nvSpPr>
        <p:spPr>
          <a:xfrm>
            <a:off x="7391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8"/>
          <p:cNvSpPr/>
          <p:nvPr/>
        </p:nvSpPr>
        <p:spPr>
          <a:xfrm>
            <a:off x="73915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9"/>
          <p:cNvSpPr/>
          <p:nvPr/>
        </p:nvSpPr>
        <p:spPr>
          <a:xfrm>
            <a:off x="73915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60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1"/>
          <p:cNvSpPr/>
          <p:nvPr/>
        </p:nvSpPr>
        <p:spPr>
          <a:xfrm>
            <a:off x="73915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62"/>
          <p:cNvSpPr/>
          <p:nvPr/>
        </p:nvSpPr>
        <p:spPr>
          <a:xfrm>
            <a:off x="73915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63"/>
          <p:cNvSpPr/>
          <p:nvPr/>
        </p:nvSpPr>
        <p:spPr>
          <a:xfrm>
            <a:off x="73915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2"/>
          <p:cNvSpPr/>
          <p:nvPr/>
        </p:nvSpPr>
        <p:spPr>
          <a:xfrm>
            <a:off x="31240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3"/>
          <p:cNvSpPr/>
          <p:nvPr/>
        </p:nvSpPr>
        <p:spPr>
          <a:xfrm>
            <a:off x="525780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4"/>
          <p:cNvSpPr/>
          <p:nvPr/>
        </p:nvSpPr>
        <p:spPr>
          <a:xfrm>
            <a:off x="10666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5"/>
          <p:cNvSpPr/>
          <p:nvPr/>
        </p:nvSpPr>
        <p:spPr>
          <a:xfrm>
            <a:off x="735336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6"/>
          <p:cNvSpPr/>
          <p:nvPr/>
        </p:nvSpPr>
        <p:spPr>
          <a:xfrm>
            <a:off x="1066680" y="235908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7"/>
          <p:cNvSpPr/>
          <p:nvPr/>
        </p:nvSpPr>
        <p:spPr>
          <a:xfrm>
            <a:off x="312408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7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E1166CE-B5B6-4B8F-BA75-5D740AC79FA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pSp>
        <p:nvGrpSpPr>
          <p:cNvPr id="1293" name="Group 35"/>
          <p:cNvGrpSpPr/>
          <p:nvPr/>
        </p:nvGrpSpPr>
        <p:grpSpPr>
          <a:xfrm>
            <a:off x="7391520" y="1358280"/>
            <a:ext cx="1752480" cy="475560"/>
            <a:chOff x="7391520" y="1358280"/>
            <a:chExt cx="1752480" cy="475560"/>
          </a:xfrm>
        </p:grpSpPr>
        <p:sp>
          <p:nvSpPr>
            <p:cNvPr id="1294" name="TextBox 7"/>
            <p:cNvSpPr/>
            <p:nvPr/>
          </p:nvSpPr>
          <p:spPr>
            <a:xfrm>
              <a:off x="7391520" y="1434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5" name="Straight Arrow Connector 8"/>
            <p:cNvCxnSpPr/>
            <p:nvPr/>
          </p:nvCxnSpPr>
          <p:spPr>
            <a:xfrm flipH="1">
              <a:off x="7724880" y="143460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6" name="Straight Arrow Connector 9"/>
            <p:cNvCxnSpPr/>
            <p:nvPr/>
          </p:nvCxnSpPr>
          <p:spPr>
            <a:xfrm flipV="1">
              <a:off x="8228880" y="135828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7" name="Straight Arrow Connector 10"/>
            <p:cNvCxnSpPr/>
            <p:nvPr/>
          </p:nvCxnSpPr>
          <p:spPr>
            <a:xfrm flipH="1">
              <a:off x="8762040" y="1434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98" name="Group 41"/>
          <p:cNvGrpSpPr/>
          <p:nvPr/>
        </p:nvGrpSpPr>
        <p:grpSpPr>
          <a:xfrm>
            <a:off x="6718320" y="1905840"/>
            <a:ext cx="1752480" cy="403920"/>
            <a:chOff x="6718320" y="1905840"/>
            <a:chExt cx="1752480" cy="403920"/>
          </a:xfrm>
        </p:grpSpPr>
        <p:sp>
          <p:nvSpPr>
            <p:cNvPr id="1299" name="TextBox 15"/>
            <p:cNvSpPr/>
            <p:nvPr/>
          </p:nvSpPr>
          <p:spPr>
            <a:xfrm>
              <a:off x="6718320" y="1910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0" name="Straight Arrow Connector 16"/>
            <p:cNvCxnSpPr/>
            <p:nvPr/>
          </p:nvCxnSpPr>
          <p:spPr>
            <a:xfrm flipV="1">
              <a:off x="7040160" y="1905840"/>
              <a:ext cx="2160" cy="36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1" name="Straight Arrow Connector 17"/>
            <p:cNvCxnSpPr/>
            <p:nvPr/>
          </p:nvCxnSpPr>
          <p:spPr>
            <a:xfrm>
              <a:off x="7555680" y="1929600"/>
              <a:ext cx="1440" cy="324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2" name="Straight Arrow Connector 18"/>
            <p:cNvCxnSpPr/>
            <p:nvPr/>
          </p:nvCxnSpPr>
          <p:spPr>
            <a:xfrm flipH="1" flipV="1">
              <a:off x="8089560" y="194868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3" name="Group 53"/>
          <p:cNvGrpSpPr/>
          <p:nvPr/>
        </p:nvGrpSpPr>
        <p:grpSpPr>
          <a:xfrm>
            <a:off x="6400800" y="2367720"/>
            <a:ext cx="1752480" cy="475560"/>
            <a:chOff x="6400800" y="2367720"/>
            <a:chExt cx="1752480" cy="475560"/>
          </a:xfrm>
        </p:grpSpPr>
        <p:sp>
          <p:nvSpPr>
            <p:cNvPr id="1304" name="TextBox 19"/>
            <p:cNvSpPr/>
            <p:nvPr/>
          </p:nvSpPr>
          <p:spPr>
            <a:xfrm>
              <a:off x="6400800" y="2444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5" name="Straight Arrow Connector 20"/>
            <p:cNvCxnSpPr/>
            <p:nvPr/>
          </p:nvCxnSpPr>
          <p:spPr>
            <a:xfrm flipH="1">
              <a:off x="6734160" y="244404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21"/>
            <p:cNvCxnSpPr/>
            <p:nvPr/>
          </p:nvCxnSpPr>
          <p:spPr>
            <a:xfrm flipV="1">
              <a:off x="7238160" y="23677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22"/>
            <p:cNvCxnSpPr/>
            <p:nvPr/>
          </p:nvCxnSpPr>
          <p:spPr>
            <a:xfrm flipH="1">
              <a:off x="7771320" y="244440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8" name="Group 52"/>
          <p:cNvGrpSpPr/>
          <p:nvPr/>
        </p:nvGrpSpPr>
        <p:grpSpPr>
          <a:xfrm>
            <a:off x="7162920" y="5707800"/>
            <a:ext cx="1752480" cy="475560"/>
            <a:chOff x="7162920" y="5707800"/>
            <a:chExt cx="1752480" cy="475560"/>
          </a:xfrm>
        </p:grpSpPr>
        <p:sp>
          <p:nvSpPr>
            <p:cNvPr id="1309" name="TextBox 31"/>
            <p:cNvSpPr/>
            <p:nvPr/>
          </p:nvSpPr>
          <p:spPr>
            <a:xfrm>
              <a:off x="7162920" y="5784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0" name="Straight Arrow Connector 32"/>
            <p:cNvCxnSpPr/>
            <p:nvPr/>
          </p:nvCxnSpPr>
          <p:spPr>
            <a:xfrm flipH="1">
              <a:off x="7496280" y="578412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1" name="Straight Arrow Connector 33"/>
            <p:cNvCxnSpPr/>
            <p:nvPr/>
          </p:nvCxnSpPr>
          <p:spPr>
            <a:xfrm flipV="1">
              <a:off x="8000280" y="570780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2" name="Straight Arrow Connector 34"/>
            <p:cNvCxnSpPr/>
            <p:nvPr/>
          </p:nvCxnSpPr>
          <p:spPr>
            <a:xfrm flipH="1">
              <a:off x="8533440" y="578448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3" name="Group 42"/>
          <p:cNvGrpSpPr/>
          <p:nvPr/>
        </p:nvGrpSpPr>
        <p:grpSpPr>
          <a:xfrm>
            <a:off x="2832120" y="3594240"/>
            <a:ext cx="1752480" cy="403200"/>
            <a:chOff x="2832120" y="3594240"/>
            <a:chExt cx="1752480" cy="403200"/>
          </a:xfrm>
        </p:grpSpPr>
        <p:sp>
          <p:nvSpPr>
            <p:cNvPr id="1314" name="TextBox 43"/>
            <p:cNvSpPr/>
            <p:nvPr/>
          </p:nvSpPr>
          <p:spPr>
            <a:xfrm>
              <a:off x="2832120" y="35985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5" name="Straight Arrow Connector 44"/>
            <p:cNvCxnSpPr/>
            <p:nvPr/>
          </p:nvCxnSpPr>
          <p:spPr>
            <a:xfrm flipV="1">
              <a:off x="3153960" y="359424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6" name="Straight Arrow Connector 45"/>
            <p:cNvCxnSpPr/>
            <p:nvPr/>
          </p:nvCxnSpPr>
          <p:spPr>
            <a:xfrm>
              <a:off x="3669480" y="361764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7" name="Straight Arrow Connector 46"/>
            <p:cNvCxnSpPr/>
            <p:nvPr/>
          </p:nvCxnSpPr>
          <p:spPr>
            <a:xfrm flipH="1" flipV="1">
              <a:off x="4203360" y="363636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8" name="Group 47"/>
          <p:cNvGrpSpPr/>
          <p:nvPr/>
        </p:nvGrpSpPr>
        <p:grpSpPr>
          <a:xfrm>
            <a:off x="6222960" y="4470480"/>
            <a:ext cx="1752480" cy="403200"/>
            <a:chOff x="6222960" y="4470480"/>
            <a:chExt cx="1752480" cy="403200"/>
          </a:xfrm>
        </p:grpSpPr>
        <p:sp>
          <p:nvSpPr>
            <p:cNvPr id="1319" name="TextBox 48"/>
            <p:cNvSpPr/>
            <p:nvPr/>
          </p:nvSpPr>
          <p:spPr>
            <a:xfrm>
              <a:off x="6222960" y="4474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0" name="Straight Arrow Connector 49"/>
            <p:cNvCxnSpPr/>
            <p:nvPr/>
          </p:nvCxnSpPr>
          <p:spPr>
            <a:xfrm flipV="1">
              <a:off x="6544800" y="447048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1" name="Straight Arrow Connector 50"/>
            <p:cNvCxnSpPr/>
            <p:nvPr/>
          </p:nvCxnSpPr>
          <p:spPr>
            <a:xfrm>
              <a:off x="7060320" y="449388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2" name="Straight Arrow Connector 51"/>
            <p:cNvCxnSpPr/>
            <p:nvPr/>
          </p:nvCxnSpPr>
          <p:spPr>
            <a:xfrm flipH="1" flipV="1">
              <a:off x="7594200" y="451260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323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EF68FA2-1168-4E59-BBAC-20B16F558060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demand vs quantity demand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supply vs quantity suppli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term “market”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equilibrium price and quant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determinants of demand and suppl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change in demand or a change in suppl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y demand and supply determine price, not the reverse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62D89AB-5E47-4C5B-A6FB-57A27E1B1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arious pr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ws relationship between quantity &amp;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is the most important determinan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teris paribus” – all else remains the sa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72AF0E5-ACB8-4393-8E13-752735CAF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quantities demanded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a demand sched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EADBFB9-7DF9-4CF9-9ED1-B393B8CAD7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143000" y="1676520"/>
          <a:ext cx="6934320" cy="4065480"/>
        </p:xfrm>
        <a:graphic>
          <a:graphicData uri="http://schemas.openxmlformats.org/drawingml/2006/table">
            <a:tbl>
              <a:tblPr/>
              <a:tblGrid>
                <a:gridCol w="2971800"/>
                <a:gridCol w="396252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FD712FD-1D2A-4574-9E21-178C67332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26Z</dcterms:modified>
  <cp:revision>173</cp:revision>
  <dc:subject/>
  <dc:title>Slide 1</dc:title>
</cp:coreProperties>
</file>