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67C-B1D9-4C7F-BCB9-D7AADE21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72FF-4CCC-4A72-85B2-A272DA25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F4F07-319D-4D86-8E45-9B6F0A0A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764273-18CD-4FEB-94C2-DFAF75F9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44D38-400C-41F2-AC81-C27E80A1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E8C26-632B-49DC-9FED-05EFD00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ED9B0-D559-436E-A557-2D12E20C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BA153-7C6F-413F-ADAE-12E0FCF5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76E31-6CAF-4DB6-A124-2B9C982A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83149-77BB-459E-9020-39B01ED0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E42CE-96E7-4B2F-94D2-A16DDEA1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E69F9-3B34-46F0-A737-7BA8A290C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92B-78CC-46F6-B79A-0D342B1F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280030-2148-449D-A292-581A7939FC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D919A-EFF9-4A34-9EBF-C9FC9354967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C48E5-5162-48DA-811B-0F97AA71723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6B22FB-E406-4DC5-A82C-F817E2BF58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687F6-A706-42C5-A489-BCAD487E6F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F46B9-AE14-4E85-A4E9-AD760B90C8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16BA1-E41D-4C6B-B9CE-7DD71825219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23C9BA-5D5B-4818-8483-70BDCAA8091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B288CE-E751-49A0-8E81-B4AFB798A33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69D4C5-72E9-476F-83CA-A62C4B53D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C5F7-EE95-4D6B-BC6A-8306379B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52327-B502-487B-9990-ECCEBCE41A6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AB7F87-9371-4F31-B555-37E291B5EE2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F83DFF-A442-444D-8207-8875299043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DCDB18-E758-444D-9189-2515C514330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6FD05C-8346-407E-9FE9-45B596C9B49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A9D32F-D1F1-4D5B-BB13-5FDEF71BA9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09E076-C6FF-4DD1-9895-3D33285CF8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35FA6A-08BA-4F0D-ABA6-A5B4965A77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D231A2-1497-4409-9747-168370CA2CD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22FB32-E9D6-4B1C-96B4-098206008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904C-A6D3-42D6-B9CA-3F829578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E21B3C-D0E4-4142-9324-05A63D55D1E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7D5CE1-B529-48C5-8288-59F3E7D36C1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65941E-D092-4F7D-A9BE-E26816E2B3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CB4D-F597-4C9E-A2E3-69B928A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B1A2-CC02-43D0-91DF-C23432E0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FB4A-B02D-4114-8321-D440D909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2DD4-11A1-4046-B67C-C8C80271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A219-DE9F-43E6-8A7F-E7403AB7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B483-BFA1-4318-9440-8E67717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93F9-7C29-425B-9F23-D51E0522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686F-663D-4AF7-909D-FA926A60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64F4-D50F-4932-B45D-7DBF1D0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BFE3-FCB7-4BDC-947C-1BD9F2BB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6AE2-0215-4541-A838-7BDC218D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28AE-B345-4A85-BEC6-80943BA2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DFF76-88A2-4945-9281-AEA1148A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4088-F673-42E0-A5E8-D4F15C41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EF28-4721-4353-B478-333F12FF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294C-8BC1-41BC-BB74-F71DE0FA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74C9-1BB7-430A-8AAA-6A13F0B3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B00-404F-4118-AD12-12797658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C453-57A2-4E1E-9049-E0EEA0CC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8B00E-E79D-483A-A8C5-E15C440B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166B1-0D1C-4C4D-BE88-9E7EDA18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C4967-31ED-45E6-8005-0CA6070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6B386-2E08-4000-B6D5-A587E1D8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67EE0-E65D-4289-8E6E-C9743166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10263-628C-4AEA-B52E-910DB48A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68173-2207-45DF-8A46-2AAD9B76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5AF3-A960-49BD-82A4-B4C204F2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3C813-86BE-4F4A-94C4-01A8203B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3EE-5772-4FC7-9E06-F9417B42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1609-A88E-4F86-81A9-BBAF5F25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D226-064C-4A10-8A03-249A4E03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92002-146F-433F-B58B-E4562F29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D260-276C-4E3E-B715-A93BA7ED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E3BAA-FB11-40AE-97DA-1A4FCE4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4273-317F-42F8-AB46-E50E10D7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CE42-3B25-464C-B07E-0E78A765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DAB5A-E1F3-4366-8A85-96AE5035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B27CD-172A-4884-97EC-78F1FF82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D0F2F-2D2A-40DB-A69A-6BAB86B3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5A0C-D5A0-408E-9E8D-76EFA490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564E1-D0B7-460A-9627-F73EE4AB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F376-404E-4897-9435-F74C7E0D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1AFA-14A3-44E4-950A-B9A6894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ED0F-C572-4F2D-BBC6-80AC1D07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FC96E-BD27-4925-9F87-2774ADC4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31AC6-7F1D-413F-B417-7488D2F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FB4B4-3D10-40E3-A88A-E8B49D24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F6C0-7820-4724-802C-4A83900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EC961-3579-4943-9259-19E8FAEF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4AE6B-A8B7-4A16-9FE7-73F4F61E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576-1BFC-4AE9-A52A-C098AE8B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C7B0E-E2B3-4FF3-934E-C9058605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0A652-5295-45E5-9464-CE01C21C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58772-2AAB-4A27-9A72-6D1F5251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87C7C-DC8A-4145-9C92-5E980B65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786F8-3EEF-4848-AA91-EF224DD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5924-8BBB-462A-B9D9-846B63F1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ABEA2-6586-4C26-859F-5BD3D761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985D3-7525-41DD-A98F-411DB15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C276D-0A8E-45F2-92AF-CF39EC26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F08C-47CB-4010-A598-43FAC808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1C0-E13C-485F-A309-EA6F6CA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C756F-79E1-423D-9063-53F1B134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16131-96F8-42D5-8B9D-2CBAD7B0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89C84-4629-4642-82EF-E3289D07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13D23-E4FD-4BA5-B9A7-CBFC1976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D9981-7EA9-4BD0-B32A-4EA3D9C4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C1B9-BCF2-4334-8EE5-6FDEDF79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CAC5B-1239-4DF4-93CB-7BF211C0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57031-A4E7-432D-8EB1-CD802B35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F3CDD-A637-4E38-893E-1EF2CABB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4FAC3-3E5C-4464-AE8C-C6667E06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D25-067D-413C-B7C0-24605E6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218C7-125A-4F7A-90EC-D5CB493E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84CB9-1A2B-4C51-B2A4-8F7DDE1C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EEF73-A997-4184-BEBE-3B5B856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C1C5E-F18F-4030-BDEC-6CFD2F81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8B4E2-FCF2-4C8B-8213-A7A93DB3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40D9C-2214-4475-B596-6A7D4367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2F9F7-F5D7-48B8-9388-EEF13D25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B8767-4E9D-4F88-A7D6-B142B509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BCDF7-2ECD-4CFD-B4F6-2BB99AB4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AD8A-3C1B-4399-8F18-EBC7C3FB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CF5-4062-4493-8F15-9E4F8DA4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971CA-73C0-448E-BD0A-D1120480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46EBF-DE7F-41A7-8286-7B84494F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89FD5-7D3F-421C-987F-BF0B88D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7DCC7-9BA3-47B0-A401-EF494A2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EBC2C-D949-4ECF-A47C-159B7774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C8760-02D0-4D9B-A15C-D5F13158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105CC-0446-42D1-9545-CF32875B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6691D-EE1D-487C-847E-6CE05D17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2516E-7CD9-44FD-A0A8-18C409C3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3942B-67CA-4B06-8EC6-3E98F072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8FE7C54-77E8-45B9-B17E-B02D2975ECC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666D34B-AB1A-4FDC-BB9C-BEBA2AB749A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0F69CE0-0A63-438D-9846-EC7A2D5D7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FC8426D-8A12-485A-AA8F-3B9B627E3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72F272A9-711A-4CA6-B87D-C8CE6A109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1DD94F35-18C7-481D-B307-0CE3531B47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12282848-2EAD-4B53-AF01-31382990ED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9FE96074-5128-4352-B499-EC1D3E797C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26824BF1-F66E-4261-80FA-E145982F2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Introduc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ubtitle 2"/>
          <p:cNvSpPr/>
          <p:nvPr/>
        </p:nvSpPr>
        <p:spPr>
          <a:xfrm>
            <a:off x="1365120" y="5043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6"/>
          <p:cNvSpPr/>
          <p:nvPr/>
        </p:nvSpPr>
        <p:spPr>
          <a:xfrm flipV="1">
            <a:off x="1539720" y="3567240"/>
            <a:ext cx="3122640" cy="93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8"/>
          <p:cNvSpPr/>
          <p:nvPr/>
        </p:nvSpPr>
        <p:spPr>
          <a:xfrm flipH="1">
            <a:off x="4647960" y="355752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26"/>
          <p:cNvSpPr/>
          <p:nvPr/>
        </p:nvSpPr>
        <p:spPr>
          <a:xfrm flipV="1">
            <a:off x="1546200" y="3159000"/>
            <a:ext cx="2617920" cy="79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28"/>
          <p:cNvSpPr/>
          <p:nvPr/>
        </p:nvSpPr>
        <p:spPr>
          <a:xfrm flipH="1">
            <a:off x="4194000" y="3141720"/>
            <a:ext cx="648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26"/>
          <p:cNvSpPr/>
          <p:nvPr/>
        </p:nvSpPr>
        <p:spPr>
          <a:xfrm flipV="1">
            <a:off x="1554120" y="2760480"/>
            <a:ext cx="2157480" cy="61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28"/>
          <p:cNvSpPr/>
          <p:nvPr/>
        </p:nvSpPr>
        <p:spPr>
          <a:xfrm>
            <a:off x="3711600" y="2743200"/>
            <a:ext cx="223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7"/>
          <p:cNvCxnSpPr/>
          <p:nvPr/>
        </p:nvCxnSpPr>
        <p:spPr>
          <a:xfrm flipH="1">
            <a:off x="4762080" y="2100240"/>
            <a:ext cx="634320" cy="12787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0" name="Rectangle 49"/>
          <p:cNvSpPr/>
          <p:nvPr/>
        </p:nvSpPr>
        <p:spPr>
          <a:xfrm>
            <a:off x="5495760" y="1814400"/>
            <a:ext cx="272448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502240" y="2271600"/>
            <a:ext cx="272412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1"/>
          <p:cNvCxnSpPr/>
          <p:nvPr/>
        </p:nvCxnSpPr>
        <p:spPr>
          <a:xfrm flipH="1">
            <a:off x="4381200" y="2539080"/>
            <a:ext cx="1023120" cy="501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3" name="Rectangle 55"/>
          <p:cNvSpPr/>
          <p:nvPr/>
        </p:nvSpPr>
        <p:spPr>
          <a:xfrm>
            <a:off x="5492880" y="2741760"/>
            <a:ext cx="274140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56"/>
          <p:cNvCxnSpPr/>
          <p:nvPr/>
        </p:nvCxnSpPr>
        <p:spPr>
          <a:xfrm flipH="1" flipV="1">
            <a:off x="3879000" y="2755080"/>
            <a:ext cx="1531080" cy="23580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5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506D5FA-2A30-4394-9694-5339C22E0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51"/>
          <p:cNvCxnSpPr/>
          <p:nvPr/>
        </p:nvCxnSpPr>
        <p:spPr>
          <a:xfrm flipV="1">
            <a:off x="4614840" y="3849480"/>
            <a:ext cx="310320" cy="2973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58" name="TextBox 33"/>
          <p:cNvSpPr/>
          <p:nvPr/>
        </p:nvSpPr>
        <p:spPr>
          <a:xfrm>
            <a:off x="2093760" y="3976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5474342-9217-4990-B4CF-1168A684BC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52"/>
          <p:cNvSpPr/>
          <p:nvPr/>
        </p:nvSpPr>
        <p:spPr>
          <a:xfrm>
            <a:off x="5495760" y="1839960"/>
            <a:ext cx="2724480" cy="90324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53"/>
          <p:cNvSpPr/>
          <p:nvPr/>
        </p:nvSpPr>
        <p:spPr>
          <a:xfrm rot="5400000">
            <a:off x="8099280" y="2174760"/>
            <a:ext cx="609480" cy="285840"/>
          </a:xfrm>
          <a:custGeom>
            <a:avLst/>
            <a:gdLst>
              <a:gd name="textAreaLeft" fmla="*/ 125640 w 609480"/>
              <a:gd name="textAreaRight" fmla="*/ 448200 w 6094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3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4" y="16200"/>
                </a:lnTo>
                <a:lnTo>
                  <a:pt x="17520" y="16200"/>
                </a:lnTo>
                <a:arcTo wR="8902" hR="21600" stAng="-1924114" swAng="-3272646"/>
                <a:lnTo>
                  <a:pt x="10167" y="219"/>
                </a:lnTo>
                <a:arcTo wR="8902" hR="21600" stAng="-5603240" swAng="-5196760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240"/>
                <a:lnTo>
                  <a:pt x="10167" y="219"/>
                </a:lnTo>
                <a:arcTo wR="8902" hR="21600" stAng="-5603240" swAng="-5196760"/>
                <a:close/>
              </a:path>
            </a:pathLst>
          </a:cu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85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5B61A98-0A93-4DAA-B006-8EC5F5F18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54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611" name="Down Arrow 60"/>
          <p:cNvSpPr/>
          <p:nvPr/>
        </p:nvSpPr>
        <p:spPr>
          <a:xfrm rot="5400000">
            <a:off x="4227120" y="520236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ounded Rectangle 29"/>
          <p:cNvGrpSpPr/>
          <p:nvPr/>
        </p:nvGrpSpPr>
        <p:grpSpPr>
          <a:xfrm>
            <a:off x="5505480" y="1994040"/>
            <a:ext cx="3084480" cy="2906640"/>
            <a:chOff x="5505480" y="1994040"/>
            <a:chExt cx="3084480" cy="2906640"/>
          </a:xfrm>
        </p:grpSpPr>
        <p:pic>
          <p:nvPicPr>
            <p:cNvPr id="615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5505480" y="1994040"/>
              <a:ext cx="308448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699160" y="2168640"/>
              <a:ext cx="26985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demanded decrea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demand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022CA61-F05E-46DE-9FCF-44E2210797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ffect of a price change on real income, and therefore on quantity deman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a6a6"/>
                </a:solidFill>
                <a:latin typeface="Times New Roman"/>
              </a:rPr>
              <a:t>Real inco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easured in terms of the goods and services it will buy</a:t>
            </a:r>
            <a:br>
              <a:rPr sz="2800"/>
            </a:b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income will increase if prices fa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3920528-1D86-41E6-BA63-C0A9BFB76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bstitution of one product for another as a result of a change in their relative p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B69DC57-190D-48F6-BD63-2ABC3B178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demand for a product or service from all consumer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B4FB58F-4DFF-4BD5-B719-7F1F5E8A6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7320" y="1397160"/>
          <a:ext cx="7543800" cy="4983120"/>
        </p:xfrm>
        <a:graphic>
          <a:graphicData uri="http://schemas.openxmlformats.org/drawingml/2006/table">
            <a:tbl>
              <a:tblPr/>
              <a:tblGrid>
                <a:gridCol w="1371600"/>
                <a:gridCol w="1524240"/>
                <a:gridCol w="1352520"/>
                <a:gridCol w="1501560"/>
                <a:gridCol w="1793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demand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i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TextBox 7"/>
          <p:cNvSpPr/>
          <p:nvPr/>
        </p:nvSpPr>
        <p:spPr>
          <a:xfrm>
            <a:off x="7099200" y="3005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099200" y="363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7099200" y="435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7132680" y="504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7132680" y="572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3728520" y="30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68440" y="303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668124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CDC89E6-B8B0-488F-BF07-BC98A9D5B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"/>
          <p:cNvGrpSpPr/>
          <p:nvPr/>
        </p:nvGrpSpPr>
        <p:grpSpPr>
          <a:xfrm>
            <a:off x="2666880" y="1981080"/>
            <a:ext cx="1981440" cy="2872440"/>
            <a:chOff x="2666880" y="1981080"/>
            <a:chExt cx="1981440" cy="2872440"/>
          </a:xfrm>
        </p:grpSpPr>
        <p:sp>
          <p:nvSpPr>
            <p:cNvPr id="654" name="Line 8"/>
            <p:cNvSpPr/>
            <p:nvPr/>
          </p:nvSpPr>
          <p:spPr>
            <a:xfrm>
              <a:off x="2666880" y="1981080"/>
              <a:ext cx="914400" cy="2438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3"/>
            <p:cNvSpPr/>
            <p:nvPr/>
          </p:nvSpPr>
          <p:spPr>
            <a:xfrm>
              <a:off x="3276360" y="4343400"/>
              <a:ext cx="13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OMI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0"/>
          <p:cNvGrpSpPr/>
          <p:nvPr/>
        </p:nvGrpSpPr>
        <p:grpSpPr>
          <a:xfrm>
            <a:off x="2514600" y="1905120"/>
            <a:ext cx="2590920" cy="2719800"/>
            <a:chOff x="2514600" y="1905120"/>
            <a:chExt cx="2590920" cy="2719800"/>
          </a:xfrm>
        </p:grpSpPr>
        <p:sp>
          <p:nvSpPr>
            <p:cNvPr id="664" name="Text Box 35"/>
            <p:cNvSpPr/>
            <p:nvPr/>
          </p:nvSpPr>
          <p:spPr>
            <a:xfrm>
              <a:off x="4114800" y="41148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J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9"/>
            <p:cNvGrpSpPr/>
            <p:nvPr/>
          </p:nvGrpSpPr>
          <p:grpSpPr>
            <a:xfrm>
              <a:off x="2514600" y="1905120"/>
              <a:ext cx="1752840" cy="2590920"/>
              <a:chOff x="2514600" y="1905120"/>
              <a:chExt cx="1752840" cy="259092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2971800" y="251460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1"/>
              <p:cNvSpPr/>
              <p:nvPr/>
            </p:nvSpPr>
            <p:spPr>
              <a:xfrm>
                <a:off x="3429000" y="3124440"/>
                <a:ext cx="38088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2"/>
              <p:cNvSpPr/>
              <p:nvPr/>
            </p:nvSpPr>
            <p:spPr>
              <a:xfrm>
                <a:off x="3810240" y="3733920"/>
                <a:ext cx="457200" cy="762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"/>
              <p:cNvSpPr/>
              <p:nvPr/>
            </p:nvSpPr>
            <p:spPr>
              <a:xfrm>
                <a:off x="2514600" y="190512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36"/>
          <p:cNvGrpSpPr/>
          <p:nvPr/>
        </p:nvGrpSpPr>
        <p:grpSpPr>
          <a:xfrm>
            <a:off x="2894040" y="1980720"/>
            <a:ext cx="231840" cy="2745360"/>
            <a:chOff x="2894040" y="1980720"/>
            <a:chExt cx="231840" cy="2745360"/>
          </a:xfrm>
        </p:grpSpPr>
        <p:sp>
          <p:nvSpPr>
            <p:cNvPr id="671" name="Straight Connector 28"/>
            <p:cNvSpPr/>
            <p:nvPr/>
          </p:nvSpPr>
          <p:spPr>
            <a:xfrm flipV="1">
              <a:off x="3124440" y="3201840"/>
              <a:ext cx="1440" cy="15242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30"/>
            <p:cNvSpPr/>
            <p:nvPr/>
          </p:nvSpPr>
          <p:spPr>
            <a:xfrm flipV="1">
              <a:off x="2894040" y="1980720"/>
              <a:ext cx="1440" cy="12193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traight Connector 32"/>
            <p:cNvSpPr/>
            <p:nvPr/>
          </p:nvSpPr>
          <p:spPr>
            <a:xfrm>
              <a:off x="2895480" y="3200400"/>
              <a:ext cx="228960" cy="14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35"/>
          <p:cNvSpPr/>
          <p:nvPr/>
        </p:nvSpPr>
        <p:spPr>
          <a:xfrm>
            <a:off x="28954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984807"/>
                </a:solidFill>
                <a:latin typeface="Times New Roman"/>
              </a:rPr>
              <a:t>AB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3429000" y="1904760"/>
            <a:ext cx="3962520" cy="3101040"/>
            <a:chOff x="3429000" y="1904760"/>
            <a:chExt cx="3962520" cy="3101040"/>
          </a:xfrm>
        </p:grpSpPr>
        <p:sp>
          <p:nvSpPr>
            <p:cNvPr id="676" name="Line 21"/>
            <p:cNvSpPr/>
            <p:nvPr/>
          </p:nvSpPr>
          <p:spPr>
            <a:xfrm flipH="1" flipV="1">
              <a:off x="3429000" y="1904760"/>
              <a:ext cx="91440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3"/>
            <p:cNvSpPr/>
            <p:nvPr/>
          </p:nvSpPr>
          <p:spPr>
            <a:xfrm flipH="1" flipV="1">
              <a:off x="5486040" y="3276720"/>
              <a:ext cx="53316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34"/>
            <p:cNvSpPr/>
            <p:nvPr/>
          </p:nvSpPr>
          <p:spPr>
            <a:xfrm flipH="1" flipV="1">
              <a:off x="6019560" y="4114440"/>
              <a:ext cx="68580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36"/>
            <p:cNvSpPr/>
            <p:nvPr/>
          </p:nvSpPr>
          <p:spPr>
            <a:xfrm>
              <a:off x="6096240" y="44956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H="1" flipV="1">
              <a:off x="4343040" y="2514600"/>
              <a:ext cx="114300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8"/>
          <p:cNvSpPr/>
          <p:nvPr/>
        </p:nvSpPr>
        <p:spPr>
          <a:xfrm>
            <a:off x="3633840" y="11700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demand is the horizontal summation of all individual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CAF21B3-670E-4704-A351-E9DD4BF8D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E5A17AC-7C7F-4490-942F-CC466C53C8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term marke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the concept of equilibrium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52DC2E7-3E94-4E54-907F-1124B87BBF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51"/>
          <p:cNvSpPr/>
          <p:nvPr/>
        </p:nvSpPr>
        <p:spPr>
          <a:xfrm>
            <a:off x="7556400" y="374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375012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545184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7064640" y="372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1"/>
          <p:cNvSpPr/>
          <p:nvPr/>
        </p:nvSpPr>
        <p:spPr>
          <a:xfrm>
            <a:off x="755640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69360" y="48132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7543800" y="53211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7556400" y="581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20C9A8D-4F11-414F-890E-447B96A0B4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producers are willing and able to suppl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4120996-52D2-4931-A234-FAE1ACB3F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96880" y="1587240"/>
            <a:ext cx="8153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</a:t>
            </a: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quantities supplied p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riod of time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the supply sched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E718816-B2B0-4897-9AD6-444ED0F5F8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939960" y="1917720"/>
          <a:ext cx="7238880" cy="34750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2DCBA7B-CBB5-4B4A-B288-CD255FD932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486400" y="1371600"/>
          <a:ext cx="2743200" cy="27432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1539720" y="3576600"/>
            <a:ext cx="822600" cy="1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8"/>
          <p:cNvSpPr/>
          <p:nvPr/>
        </p:nvSpPr>
        <p:spPr>
          <a:xfrm flipH="1">
            <a:off x="2358720" y="356544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6"/>
          <p:cNvSpPr/>
          <p:nvPr/>
        </p:nvSpPr>
        <p:spPr>
          <a:xfrm flipV="1">
            <a:off x="1546200" y="3156120"/>
            <a:ext cx="126828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8"/>
          <p:cNvSpPr/>
          <p:nvPr/>
        </p:nvSpPr>
        <p:spPr>
          <a:xfrm flipH="1">
            <a:off x="2803320" y="3181320"/>
            <a:ext cx="612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0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6"/>
          <p:cNvSpPr/>
          <p:nvPr/>
        </p:nvSpPr>
        <p:spPr>
          <a:xfrm flipV="1">
            <a:off x="1554120" y="2751120"/>
            <a:ext cx="1690560" cy="158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28"/>
          <p:cNvSpPr/>
          <p:nvPr/>
        </p:nvSpPr>
        <p:spPr>
          <a:xfrm>
            <a:off x="3234600" y="2774880"/>
            <a:ext cx="205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7"/>
          <p:cNvCxnSpPr/>
          <p:nvPr/>
        </p:nvCxnSpPr>
        <p:spPr>
          <a:xfrm flipH="1">
            <a:off x="2560680" y="2099160"/>
            <a:ext cx="2835720" cy="1446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47" name="Rectangle 49"/>
          <p:cNvSpPr/>
          <p:nvPr/>
        </p:nvSpPr>
        <p:spPr>
          <a:xfrm>
            <a:off x="5486400" y="1827360"/>
            <a:ext cx="272412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0"/>
          <p:cNvSpPr/>
          <p:nvPr/>
        </p:nvSpPr>
        <p:spPr>
          <a:xfrm>
            <a:off x="5486400" y="2268360"/>
            <a:ext cx="272556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51"/>
          <p:cNvCxnSpPr/>
          <p:nvPr/>
        </p:nvCxnSpPr>
        <p:spPr>
          <a:xfrm flipH="1">
            <a:off x="3036240" y="2539080"/>
            <a:ext cx="2367720" cy="6166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0" name="Rectangle 55"/>
          <p:cNvSpPr/>
          <p:nvPr/>
        </p:nvSpPr>
        <p:spPr>
          <a:xfrm>
            <a:off x="5479920" y="2732040"/>
            <a:ext cx="2743200" cy="45900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56"/>
          <p:cNvCxnSpPr/>
          <p:nvPr/>
        </p:nvCxnSpPr>
        <p:spPr>
          <a:xfrm flipH="1" flipV="1">
            <a:off x="3450600" y="2790360"/>
            <a:ext cx="1959480" cy="2008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FE867C2-313B-4F7B-9A81-CA0384CC1A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51"/>
          <p:cNvCxnSpPr/>
          <p:nvPr/>
        </p:nvCxnSpPr>
        <p:spPr>
          <a:xfrm flipH="1" flipV="1">
            <a:off x="3521880" y="2607840"/>
            <a:ext cx="421560" cy="3499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72" name="TextBox 33"/>
          <p:cNvSpPr/>
          <p:nvPr/>
        </p:nvSpPr>
        <p:spPr>
          <a:xfrm>
            <a:off x="3897720" y="27766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61A0255-38DA-4A07-88D8-7CA80596C9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Rounded Rectangle 23"/>
          <p:cNvGrpSpPr/>
          <p:nvPr/>
        </p:nvGrpSpPr>
        <p:grpSpPr>
          <a:xfrm>
            <a:off x="4511520" y="1932120"/>
            <a:ext cx="3407040" cy="2279520"/>
            <a:chOff x="4511520" y="1932120"/>
            <a:chExt cx="3407040" cy="2279520"/>
          </a:xfrm>
        </p:grpSpPr>
        <p:pic>
          <p:nvPicPr>
            <p:cNvPr id="799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4511520" y="1932120"/>
              <a:ext cx="3407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676760" y="2075040"/>
              <a:ext cx="304020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supplied (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) increa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supply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Down Arrow 28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Arrow Connector 29"/>
          <p:cNvCxnSpPr/>
          <p:nvPr/>
        </p:nvCxnSpPr>
        <p:spPr>
          <a:xfrm flipV="1">
            <a:off x="2095200" y="2920680"/>
            <a:ext cx="445320" cy="3945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03" name="Down Arrow 30"/>
          <p:cNvSpPr/>
          <p:nvPr/>
        </p:nvSpPr>
        <p:spPr>
          <a:xfrm rot="16200000">
            <a:off x="2436840" y="518292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391480" y="36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000600" y="30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83A11DF-FA17-4061-B706-3C337A8F70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Supply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Up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 are motivated by prof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 price means more profit, more suppliers are willing to produce the produc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ise as more is produced, so higher prices required to supply mo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5F28422-BEC4-4DAB-9391-C05BA89D8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supply from all producers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rizontal summation of each individual producer’s supply curv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are all making a simila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no preference as to which supplier or product they u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54B97DA-166C-4985-ABB0-FD62E8D23C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031760" y="1417680"/>
          <a:ext cx="7123320" cy="4983120"/>
        </p:xfrm>
        <a:graphic>
          <a:graphicData uri="http://schemas.openxmlformats.org/drawingml/2006/table">
            <a:tbl>
              <a:tblPr/>
              <a:tblGrid>
                <a:gridCol w="1700280"/>
                <a:gridCol w="1887480"/>
                <a:gridCol w="1675080"/>
                <a:gridCol w="18604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b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re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Box 3"/>
          <p:cNvSpPr/>
          <p:nvPr/>
        </p:nvSpPr>
        <p:spPr>
          <a:xfrm>
            <a:off x="4823280" y="29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6639120" y="298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BF04D29-3DE9-463C-8866-F66C617551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demand and supply determine price and quantity trad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00243C6-1868-445B-8996-DFB741B25F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 flipH="1">
            <a:off x="2819520" y="1981080"/>
            <a:ext cx="838080" cy="2438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3733920" y="159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9"/>
          <p:cNvGrpSpPr/>
          <p:nvPr/>
        </p:nvGrpSpPr>
        <p:grpSpPr>
          <a:xfrm>
            <a:off x="3657240" y="1523880"/>
            <a:ext cx="3200760" cy="2895840"/>
            <a:chOff x="3657240" y="1523880"/>
            <a:chExt cx="3200760" cy="2895840"/>
          </a:xfrm>
        </p:grpSpPr>
        <p:sp>
          <p:nvSpPr>
            <p:cNvPr id="841" name="Text Box 35"/>
            <p:cNvSpPr/>
            <p:nvPr/>
          </p:nvSpPr>
          <p:spPr>
            <a:xfrm>
              <a:off x="5638680" y="15238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 flipH="1">
              <a:off x="3657240" y="1981080"/>
              <a:ext cx="2667240" cy="2438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37"/>
            <p:cNvSpPr/>
            <p:nvPr/>
          </p:nvSpPr>
          <p:spPr>
            <a:xfrm>
              <a:off x="5029200" y="1523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40"/>
          <p:cNvGrpSpPr/>
          <p:nvPr/>
        </p:nvGrpSpPr>
        <p:grpSpPr>
          <a:xfrm>
            <a:off x="4114800" y="1487520"/>
            <a:ext cx="4724280" cy="2932200"/>
            <a:chOff x="4114800" y="1487520"/>
            <a:chExt cx="4724280" cy="2932200"/>
          </a:xfrm>
        </p:grpSpPr>
        <p:sp>
          <p:nvSpPr>
            <p:cNvPr id="845" name="Line 34"/>
            <p:cNvSpPr/>
            <p:nvPr/>
          </p:nvSpPr>
          <p:spPr>
            <a:xfrm flipH="1">
              <a:off x="4114800" y="2057400"/>
              <a:ext cx="36576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6"/>
            <p:cNvSpPr/>
            <p:nvPr/>
          </p:nvSpPr>
          <p:spPr>
            <a:xfrm>
              <a:off x="7543800" y="152424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38"/>
            <p:cNvSpPr/>
            <p:nvPr/>
          </p:nvSpPr>
          <p:spPr>
            <a:xfrm>
              <a:off x="7010280" y="148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Supply Cur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"/>
          <p:cNvSpPr/>
          <p:nvPr/>
        </p:nvSpPr>
        <p:spPr>
          <a:xfrm>
            <a:off x="3398760" y="4646520"/>
            <a:ext cx="50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supply is the total quantity of all producers at each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302CC93-88D1-4FFE-A6C1-5BB8E1736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57428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chanism that allows buyers and sellers to exchange products or serv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quilibrium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quantity demanded equals quantity suppli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either a shortage nor a surplu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Rounded Rectangle 3"/>
          <p:cNvGrpSpPr/>
          <p:nvPr/>
        </p:nvGrpSpPr>
        <p:grpSpPr>
          <a:xfrm>
            <a:off x="3365640" y="5162400"/>
            <a:ext cx="2419200" cy="1019160"/>
            <a:chOff x="3365640" y="5162400"/>
            <a:chExt cx="2419200" cy="1019160"/>
          </a:xfrm>
        </p:grpSpPr>
        <p:pic>
          <p:nvPicPr>
            <p:cNvPr id="85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365640" y="5162400"/>
              <a:ext cx="241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3468600" y="5246640"/>
              <a:ext cx="221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D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= 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B1F767D-CF71-46C1-829F-1DA1EC43C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8065080" y="1494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. 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rplu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reat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above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ag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below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966E1CA-BC2B-4633-8681-D98FD96BC4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55640" y="1417680"/>
          <a:ext cx="7709040" cy="4983120"/>
        </p:xfrm>
        <a:graphic>
          <a:graphicData uri="http://schemas.openxmlformats.org/drawingml/2006/table">
            <a:tbl>
              <a:tblPr/>
              <a:tblGrid>
                <a:gridCol w="1838160"/>
                <a:gridCol w="1787760"/>
                <a:gridCol w="1913040"/>
                <a:gridCol w="2170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/ Sur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Text Box 51"/>
          <p:cNvSpPr/>
          <p:nvPr/>
        </p:nvSpPr>
        <p:spPr>
          <a:xfrm>
            <a:off x="6934320" y="3011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4642560" y="2820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8"/>
          <p:cNvSpPr/>
          <p:nvPr/>
        </p:nvSpPr>
        <p:spPr>
          <a:xfrm>
            <a:off x="6386760" y="3002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7023240" y="366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7224840" y="435456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6862680" y="504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1"/>
          <p:cNvSpPr/>
          <p:nvPr/>
        </p:nvSpPr>
        <p:spPr>
          <a:xfrm>
            <a:off x="685332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2250E08-C0DB-4389-944A-D19464520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28"/>
          <p:cNvSpPr/>
          <p:nvPr/>
        </p:nvSpPr>
        <p:spPr>
          <a:xfrm flipH="1" flipV="1">
            <a:off x="1990800" y="3482640"/>
            <a:ext cx="2187360" cy="4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AAD86D5-6944-40CE-BAE7-A6E1C3F9DD4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28"/>
          <p:cNvSpPr/>
          <p:nvPr/>
        </p:nvSpPr>
        <p:spPr>
          <a:xfrm flipH="1">
            <a:off x="4176720" y="3646440"/>
            <a:ext cx="1440" cy="20876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Rounded Rectangle 21"/>
          <p:cNvGrpSpPr/>
          <p:nvPr/>
        </p:nvGrpSpPr>
        <p:grpSpPr>
          <a:xfrm>
            <a:off x="5694480" y="2481120"/>
            <a:ext cx="2747880" cy="1462320"/>
            <a:chOff x="5694480" y="2481120"/>
            <a:chExt cx="2747880" cy="1462320"/>
          </a:xfrm>
        </p:grpSpPr>
        <p:pic>
          <p:nvPicPr>
            <p:cNvPr id="891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94480" y="2481120"/>
              <a:ext cx="2747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818320" y="2585880"/>
              <a:ext cx="2484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 market is in equilibrium when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4068720" y="335772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hortag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BF37CDD-420E-4949-B1D9-6A586D9ED5B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09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low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l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8"/>
          <p:cNvSpPr/>
          <p:nvPr/>
        </p:nvSpPr>
        <p:spPr>
          <a:xfrm flipH="1" flipV="1">
            <a:off x="1973160" y="4199040"/>
            <a:ext cx="290664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8"/>
          <p:cNvSpPr/>
          <p:nvPr/>
        </p:nvSpPr>
        <p:spPr>
          <a:xfrm>
            <a:off x="3433680" y="417816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8"/>
          <p:cNvSpPr/>
          <p:nvPr/>
        </p:nvSpPr>
        <p:spPr>
          <a:xfrm>
            <a:off x="4925880" y="420372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1215360" y="3921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"/>
          <p:cNvSpPr/>
          <p:nvPr/>
        </p:nvSpPr>
        <p:spPr>
          <a:xfrm>
            <a:off x="325620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471708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4681440" y="609912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3105000" y="60879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3"/>
          <p:cNvSpPr/>
          <p:nvPr/>
        </p:nvSpPr>
        <p:spPr>
          <a:xfrm>
            <a:off x="4805280" y="40734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"/>
          <p:cNvSpPr/>
          <p:nvPr/>
        </p:nvSpPr>
        <p:spPr>
          <a:xfrm>
            <a:off x="3324240" y="405936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eft-Right Arrow 34"/>
          <p:cNvSpPr/>
          <p:nvPr/>
        </p:nvSpPr>
        <p:spPr>
          <a:xfrm>
            <a:off x="3476520" y="4551480"/>
            <a:ext cx="140328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327FB96-9943-4CC4-B1B3-75576A5FDE4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37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high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g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7B3B80E-6F56-4E47-8B8E-CFDF1FFC6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Text Box 51"/>
          <p:cNvSpPr/>
          <p:nvPr/>
        </p:nvSpPr>
        <p:spPr>
          <a:xfrm>
            <a:off x="6694560" y="3533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6676920" y="405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6670800" y="4572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1"/>
          <p:cNvSpPr/>
          <p:nvPr/>
        </p:nvSpPr>
        <p:spPr>
          <a:xfrm>
            <a:off x="6999120" y="5092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1"/>
          <p:cNvSpPr/>
          <p:nvPr/>
        </p:nvSpPr>
        <p:spPr>
          <a:xfrm>
            <a:off x="6627960" y="5614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F611B3D-9B77-4348-9116-82E4C13B36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urplus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drop the price to sell excess stoc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drop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in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fa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4BEAE85-D5DC-4369-8945-347B8D562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206172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D5EDE96-A422-4A37-9F89-63FC9BC28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B3B7B88-7C57-4DE2-8318-AB12997EF90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5CB88A0-6C47-4898-B26C-C9C1DA2B1100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Rounded Rectangle 21"/>
          <p:cNvGrpSpPr/>
          <p:nvPr/>
        </p:nvGrpSpPr>
        <p:grpSpPr>
          <a:xfrm>
            <a:off x="5602320" y="2004840"/>
            <a:ext cx="3316320" cy="2994120"/>
            <a:chOff x="5602320" y="2004840"/>
            <a:chExt cx="3316320" cy="2994120"/>
          </a:xfrm>
        </p:grpSpPr>
        <p:pic>
          <p:nvPicPr>
            <p:cNvPr id="101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02320" y="2004840"/>
              <a:ext cx="33163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5805360" y="2185920"/>
              <a:ext cx="286704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drop price to sell ex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uyers buy more at lower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supply less at lower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ack to equilibriu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28"/>
          <p:cNvSpPr/>
          <p:nvPr/>
        </p:nvSpPr>
        <p:spPr>
          <a:xfrm flipH="1">
            <a:off x="2001960" y="3086280"/>
            <a:ext cx="259560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28"/>
          <p:cNvSpPr/>
          <p:nvPr/>
        </p:nvSpPr>
        <p:spPr>
          <a:xfrm flipH="1">
            <a:off x="3745080" y="3073320"/>
            <a:ext cx="1440" cy="26877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28"/>
          <p:cNvSpPr/>
          <p:nvPr/>
        </p:nvSpPr>
        <p:spPr>
          <a:xfrm>
            <a:off x="4571280" y="3086280"/>
            <a:ext cx="28440" cy="2689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eft-Right Arrow 34"/>
          <p:cNvSpPr/>
          <p:nvPr/>
        </p:nvSpPr>
        <p:spPr>
          <a:xfrm>
            <a:off x="3733920" y="4635360"/>
            <a:ext cx="850680" cy="470160"/>
          </a:xfrm>
          <a:prstGeom prst="leftRightArrow">
            <a:avLst>
              <a:gd name="adj1" fmla="val 50000"/>
              <a:gd name="adj2" fmla="val 49958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Down Arrow 36"/>
          <p:cNvSpPr/>
          <p:nvPr/>
        </p:nvSpPr>
        <p:spPr>
          <a:xfrm>
            <a:off x="3911760" y="2502000"/>
            <a:ext cx="54612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Straight Arrow Connector 37"/>
          <p:cNvCxnSpPr/>
          <p:nvPr/>
        </p:nvCxnSpPr>
        <p:spPr>
          <a:xfrm flipH="1">
            <a:off x="4681080" y="2996280"/>
            <a:ext cx="411840" cy="384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27" name="Straight Arrow Connector 39"/>
          <p:cNvCxnSpPr/>
          <p:nvPr/>
        </p:nvCxnSpPr>
        <p:spPr>
          <a:xfrm>
            <a:off x="3262680" y="2971440"/>
            <a:ext cx="445320" cy="4453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028" name="Oval 41"/>
          <p:cNvSpPr/>
          <p:nvPr/>
        </p:nvSpPr>
        <p:spPr>
          <a:xfrm>
            <a:off x="4078440" y="335124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eft-Right Arrow 43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hortage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ers bid up the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rise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de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increas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B477DF7-CB8D-468C-A293-633CC1C9B7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8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 flipH="1" flipV="1">
            <a:off x="4130280" y="2854440"/>
            <a:ext cx="1560600" cy="23637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5"/>
          <p:cNvSpPr/>
          <p:nvPr/>
        </p:nvSpPr>
        <p:spPr>
          <a:xfrm>
            <a:off x="3220560" y="2708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4311000" y="274176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3650400" y="59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1117440" y="3867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7"/>
          <p:cNvSpPr/>
          <p:nvPr/>
        </p:nvSpPr>
        <p:spPr>
          <a:xfrm>
            <a:off x="47124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27"/>
          <p:cNvCxnSpPr/>
          <p:nvPr/>
        </p:nvCxnSpPr>
        <p:spPr>
          <a:xfrm>
            <a:off x="1746360" y="4093920"/>
            <a:ext cx="4450320" cy="1476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7" name="Straight Arrow Connector 31"/>
          <p:cNvCxnSpPr>
            <a:endCxn id="1043" idx="0"/>
          </p:cNvCxnSpPr>
          <p:nvPr/>
        </p:nvCxnSpPr>
        <p:spPr>
          <a:xfrm flipH="1">
            <a:off x="3867840" y="4134960"/>
            <a:ext cx="9000" cy="17946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8" name="Straight Arrow Connector 34"/>
          <p:cNvCxnSpPr/>
          <p:nvPr/>
        </p:nvCxnSpPr>
        <p:spPr>
          <a:xfrm>
            <a:off x="4926600" y="4135320"/>
            <a:ext cx="3960" cy="17820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49" name="Text Box 19"/>
          <p:cNvSpPr/>
          <p:nvPr/>
        </p:nvSpPr>
        <p:spPr>
          <a:xfrm>
            <a:off x="905400" y="1371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9"/>
          <p:cNvSpPr/>
          <p:nvPr/>
        </p:nvSpPr>
        <p:spPr>
          <a:xfrm>
            <a:off x="6978960" y="5742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Rounded Rectangle 21"/>
          <p:cNvGrpSpPr/>
          <p:nvPr/>
        </p:nvGrpSpPr>
        <p:grpSpPr>
          <a:xfrm>
            <a:off x="5065560" y="1768320"/>
            <a:ext cx="3687840" cy="1870200"/>
            <a:chOff x="5065560" y="1768320"/>
            <a:chExt cx="3687840" cy="1870200"/>
          </a:xfrm>
        </p:grpSpPr>
        <p:pic>
          <p:nvPicPr>
            <p:cNvPr id="105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065560" y="1768320"/>
              <a:ext cx="368784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5216400" y="1889280"/>
              <a:ext cx="339732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re quantity is demanded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t each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used by a factor other than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Down Arrow 23"/>
          <p:cNvSpPr/>
          <p:nvPr/>
        </p:nvSpPr>
        <p:spPr>
          <a:xfrm rot="16200000">
            <a:off x="3801960" y="3171240"/>
            <a:ext cx="368280" cy="43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 flipH="1" flipV="1">
            <a:off x="3086280" y="2874960"/>
            <a:ext cx="1506240" cy="2341440"/>
          </a:xfrm>
          <a:prstGeom prst="line">
            <a:avLst/>
          </a:prstGeom>
          <a:ln cap="sq" w="57240">
            <a:solidFill>
              <a:srgbClr val="ff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26"/>
          <p:cNvCxnSpPr/>
          <p:nvPr/>
        </p:nvCxnSpPr>
        <p:spPr>
          <a:xfrm flipV="1">
            <a:off x="1758600" y="4101480"/>
            <a:ext cx="2166120" cy="540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5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075F526-8BF4-4903-8769-45A2EA92056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1. Consumer preferenc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astes change, demand chang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Consumer incom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rmal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rises, less when income fall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rior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falls, less when income ris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86F835E-7AC5-4D22-927B-E9425A038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are related if a change in the price of one product causes a change in demand for the othe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 types of related product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707FD2B-74FA-455A-9EBC-9D14F7B551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itute Produc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 products that can be substituted for each o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increased demand for the related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8B9110A-95D5-4186-9086-912825C7F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Product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d to be bought toge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a decrease in demand for related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9D239FD-34C1-48BC-B674-4A72F2DEB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447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Expectations of future prices, income, availabilit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prices or incomes expected to rise, consumers buy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goods expected to be scarcer, buy more now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5. Population size, income, and age distribution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in population or incomes cause increase in deman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age distribution affect demand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C425ED9-B66B-4610-B870-0B1D6C183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08EB946-FB3C-45E3-9C95-29A202E78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l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be willing to purchas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ability to pay for 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CEE8858-D957-4669-AAFA-2CC918DC0C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4" name="TextBox 5"/>
          <p:cNvSpPr/>
          <p:nvPr/>
        </p:nvSpPr>
        <p:spPr>
          <a:xfrm>
            <a:off x="5549760" y="4795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beer f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5067360" y="5613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nuts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5E73A25-EC63-4FDB-9834-39B0ECFD9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n In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56897AD-EFD8-4572-8296-59BA729FA37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9"/>
          <p:cNvSpPr/>
          <p:nvPr/>
        </p:nvSpPr>
        <p:spPr>
          <a:xfrm>
            <a:off x="398304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0"/>
          <p:cNvSpPr/>
          <p:nvPr/>
        </p:nvSpPr>
        <p:spPr>
          <a:xfrm>
            <a:off x="52783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3"/>
          <p:cNvSpPr/>
          <p:nvPr/>
        </p:nvSpPr>
        <p:spPr>
          <a:xfrm>
            <a:off x="1768320" y="1447920"/>
            <a:ext cx="0" cy="438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"/>
          <p:cNvSpPr/>
          <p:nvPr/>
        </p:nvSpPr>
        <p:spPr>
          <a:xfrm flipV="1">
            <a:off x="1768320" y="5825880"/>
            <a:ext cx="5626080" cy="61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5"/>
          <p:cNvSpPr/>
          <p:nvPr/>
        </p:nvSpPr>
        <p:spPr>
          <a:xfrm>
            <a:off x="2133720" y="1828800"/>
            <a:ext cx="3911400" cy="387504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 flipV="1">
            <a:off x="2211480" y="2179440"/>
            <a:ext cx="460512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7"/>
          <p:cNvSpPr/>
          <p:nvPr/>
        </p:nvSpPr>
        <p:spPr>
          <a:xfrm>
            <a:off x="3097080" y="1447920"/>
            <a:ext cx="3916440" cy="392112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100280" y="5186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6902280" y="19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033240" y="5262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5"/>
          <p:cNvSpPr/>
          <p:nvPr/>
        </p:nvSpPr>
        <p:spPr>
          <a:xfrm>
            <a:off x="4194000" y="3997440"/>
            <a:ext cx="0" cy="1827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032440" y="3387600"/>
            <a:ext cx="0" cy="243540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8"/>
          <p:cNvSpPr/>
          <p:nvPr/>
        </p:nvSpPr>
        <p:spPr>
          <a:xfrm flipH="1">
            <a:off x="1755360" y="3387600"/>
            <a:ext cx="318924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1"/>
          <p:cNvSpPr/>
          <p:nvPr/>
        </p:nvSpPr>
        <p:spPr>
          <a:xfrm>
            <a:off x="1064520" y="3049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2"/>
          <p:cNvSpPr/>
          <p:nvPr/>
        </p:nvSpPr>
        <p:spPr>
          <a:xfrm>
            <a:off x="1096920" y="369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3427560" y="2900520"/>
            <a:ext cx="9921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5486400" y="388620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48211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33"/>
          <p:cNvSpPr/>
          <p:nvPr/>
        </p:nvSpPr>
        <p:spPr>
          <a:xfrm rot="16200000">
            <a:off x="4647960" y="3581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6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7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8"/>
          <p:cNvSpPr/>
          <p:nvPr/>
        </p:nvSpPr>
        <p:spPr>
          <a:xfrm>
            <a:off x="4114800" y="3809880"/>
            <a:ext cx="15228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30"/>
          <p:cNvSpPr/>
          <p:nvPr/>
        </p:nvSpPr>
        <p:spPr>
          <a:xfrm flipH="1" flipV="1">
            <a:off x="1830240" y="3895200"/>
            <a:ext cx="23623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traight Connector 32"/>
          <p:cNvSpPr/>
          <p:nvPr/>
        </p:nvSpPr>
        <p:spPr>
          <a:xfrm>
            <a:off x="4267080" y="3886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Rounded Rectangle 29"/>
          <p:cNvGrpSpPr/>
          <p:nvPr/>
        </p:nvGrpSpPr>
        <p:grpSpPr>
          <a:xfrm>
            <a:off x="6132600" y="2693880"/>
            <a:ext cx="2871720" cy="1871640"/>
            <a:chOff x="6132600" y="2693880"/>
            <a:chExt cx="2871720" cy="1871640"/>
          </a:xfrm>
        </p:grpSpPr>
        <p:pic>
          <p:nvPicPr>
            <p:cNvPr id="1126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717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increases, a shortage is created and price ri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34"/>
          <p:cNvSpPr/>
          <p:nvPr/>
        </p:nvSpPr>
        <p:spPr>
          <a:xfrm>
            <a:off x="4368960" y="4356000"/>
            <a:ext cx="109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888840" y="3286080"/>
            <a:ext cx="14400" cy="68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 De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3EEBF87-88CF-4C10-B7D1-F0B8DF40050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313128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436392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1309680" y="1325520"/>
            <a:ext cx="0" cy="4384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1309680" y="5710320"/>
            <a:ext cx="5548320" cy="4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7"/>
          <p:cNvSpPr/>
          <p:nvPr/>
        </p:nvSpPr>
        <p:spPr>
          <a:xfrm>
            <a:off x="1576440" y="1600200"/>
            <a:ext cx="3911400" cy="387504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8"/>
          <p:cNvSpPr/>
          <p:nvPr/>
        </p:nvSpPr>
        <p:spPr>
          <a:xfrm flipV="1">
            <a:off x="1752480" y="2057040"/>
            <a:ext cx="460548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2638440" y="1325520"/>
            <a:ext cx="3916440" cy="3921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6639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6443280" y="178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5496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3"/>
          <p:cNvSpPr/>
          <p:nvPr/>
        </p:nvSpPr>
        <p:spPr>
          <a:xfrm>
            <a:off x="3811680" y="3875040"/>
            <a:ext cx="0" cy="182736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"/>
          <p:cNvSpPr/>
          <p:nvPr/>
        </p:nvSpPr>
        <p:spPr>
          <a:xfrm>
            <a:off x="4573440" y="326556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5"/>
          <p:cNvSpPr/>
          <p:nvPr/>
        </p:nvSpPr>
        <p:spPr>
          <a:xfrm flipH="1">
            <a:off x="1296720" y="3798720"/>
            <a:ext cx="239076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 flipH="1">
            <a:off x="1296720" y="3265560"/>
            <a:ext cx="318924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"/>
          <p:cNvSpPr/>
          <p:nvPr/>
        </p:nvSpPr>
        <p:spPr>
          <a:xfrm>
            <a:off x="627120" y="2927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8"/>
          <p:cNvSpPr/>
          <p:nvPr/>
        </p:nvSpPr>
        <p:spPr>
          <a:xfrm>
            <a:off x="611280" y="356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2838600" y="2732040"/>
            <a:ext cx="1063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3276720" y="327672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4"/>
          <p:cNvSpPr/>
          <p:nvPr/>
        </p:nvSpPr>
        <p:spPr>
          <a:xfrm>
            <a:off x="355896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Rounded Rectangle 23"/>
          <p:cNvGrpSpPr/>
          <p:nvPr/>
        </p:nvGrpSpPr>
        <p:grpSpPr>
          <a:xfrm>
            <a:off x="6132600" y="2693880"/>
            <a:ext cx="2822400" cy="1871640"/>
            <a:chOff x="6132600" y="2693880"/>
            <a:chExt cx="2822400" cy="1871640"/>
          </a:xfrm>
        </p:grpSpPr>
        <p:pic>
          <p:nvPicPr>
            <p:cNvPr id="1154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224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decreases, a surplus is created and price dro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Line 24"/>
          <p:cNvSpPr/>
          <p:nvPr/>
        </p:nvSpPr>
        <p:spPr>
          <a:xfrm flipH="1">
            <a:off x="439200" y="3157560"/>
            <a:ext cx="11160" cy="723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CC03F3C-D926-4121-84AC-06F382188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5"/>
          <p:cNvGrpSpPr/>
          <p:nvPr/>
        </p:nvGrpSpPr>
        <p:grpSpPr>
          <a:xfrm>
            <a:off x="5092560" y="2932920"/>
            <a:ext cx="1752840" cy="475560"/>
            <a:chOff x="5092560" y="2932920"/>
            <a:chExt cx="1752840" cy="475560"/>
          </a:xfrm>
        </p:grpSpPr>
        <p:sp>
          <p:nvSpPr>
            <p:cNvPr id="1167" name="TextBox 7"/>
            <p:cNvSpPr/>
            <p:nvPr/>
          </p:nvSpPr>
          <p:spPr>
            <a:xfrm>
              <a:off x="5092560" y="3009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8" name="Straight Arrow Connector 9"/>
            <p:cNvCxnSpPr/>
            <p:nvPr/>
          </p:nvCxnSpPr>
          <p:spPr>
            <a:xfrm flipV="1">
              <a:off x="542916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69" name="Straight Arrow Connector 11"/>
            <p:cNvCxnSpPr/>
            <p:nvPr/>
          </p:nvCxnSpPr>
          <p:spPr>
            <a:xfrm flipV="1">
              <a:off x="59299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0" name="Straight Arrow Connector 12"/>
            <p:cNvCxnSpPr/>
            <p:nvPr/>
          </p:nvCxnSpPr>
          <p:spPr>
            <a:xfrm flipV="1">
              <a:off x="64645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1" name="Group 36"/>
          <p:cNvGrpSpPr/>
          <p:nvPr/>
        </p:nvGrpSpPr>
        <p:grpSpPr>
          <a:xfrm>
            <a:off x="2133720" y="3936960"/>
            <a:ext cx="1752480" cy="398880"/>
            <a:chOff x="2133720" y="3936960"/>
            <a:chExt cx="1752480" cy="398880"/>
          </a:xfrm>
        </p:grpSpPr>
        <p:sp>
          <p:nvSpPr>
            <p:cNvPr id="1172" name="TextBox 21"/>
            <p:cNvSpPr/>
            <p:nvPr/>
          </p:nvSpPr>
          <p:spPr>
            <a:xfrm>
              <a:off x="2133720" y="393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Straight Arrow Connector 22"/>
            <p:cNvCxnSpPr/>
            <p:nvPr/>
          </p:nvCxnSpPr>
          <p:spPr>
            <a:xfrm>
              <a:off x="25138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4" name="Straight Arrow Connector 23"/>
            <p:cNvCxnSpPr/>
            <p:nvPr/>
          </p:nvCxnSpPr>
          <p:spPr>
            <a:xfrm>
              <a:off x="29710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5" name="Straight Arrow Connector 24"/>
            <p:cNvCxnSpPr/>
            <p:nvPr/>
          </p:nvCxnSpPr>
          <p:spPr>
            <a:xfrm flipH="1">
              <a:off x="3504240" y="3936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6" name="Group 37"/>
          <p:cNvGrpSpPr/>
          <p:nvPr/>
        </p:nvGrpSpPr>
        <p:grpSpPr>
          <a:xfrm>
            <a:off x="7391520" y="4304520"/>
            <a:ext cx="1752480" cy="475560"/>
            <a:chOff x="7391520" y="4304520"/>
            <a:chExt cx="1752480" cy="475560"/>
          </a:xfrm>
        </p:grpSpPr>
        <p:sp>
          <p:nvSpPr>
            <p:cNvPr id="1177" name="TextBox 13"/>
            <p:cNvSpPr/>
            <p:nvPr/>
          </p:nvSpPr>
          <p:spPr>
            <a:xfrm>
              <a:off x="7391520" y="4381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8" name="Straight Arrow Connector 14"/>
            <p:cNvCxnSpPr/>
            <p:nvPr/>
          </p:nvCxnSpPr>
          <p:spPr>
            <a:xfrm flipV="1">
              <a:off x="7728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9" name="Straight Arrow Connector 15"/>
            <p:cNvCxnSpPr/>
            <p:nvPr/>
          </p:nvCxnSpPr>
          <p:spPr>
            <a:xfrm flipV="1">
              <a:off x="822888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0" name="Straight Arrow Connector 16"/>
            <p:cNvCxnSpPr/>
            <p:nvPr/>
          </p:nvCxnSpPr>
          <p:spPr>
            <a:xfrm flipV="1">
              <a:off x="8763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1" name="Group 38"/>
          <p:cNvGrpSpPr/>
          <p:nvPr/>
        </p:nvGrpSpPr>
        <p:grpSpPr>
          <a:xfrm>
            <a:off x="2755800" y="5218920"/>
            <a:ext cx="1752840" cy="475560"/>
            <a:chOff x="2755800" y="5218920"/>
            <a:chExt cx="1752840" cy="475560"/>
          </a:xfrm>
        </p:grpSpPr>
        <p:sp>
          <p:nvSpPr>
            <p:cNvPr id="1182" name="TextBox 17"/>
            <p:cNvSpPr/>
            <p:nvPr/>
          </p:nvSpPr>
          <p:spPr>
            <a:xfrm>
              <a:off x="2755800" y="5295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8"/>
            <p:cNvCxnSpPr/>
            <p:nvPr/>
          </p:nvCxnSpPr>
          <p:spPr>
            <a:xfrm flipV="1">
              <a:off x="310392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4" name="Straight Arrow Connector 19"/>
            <p:cNvCxnSpPr/>
            <p:nvPr/>
          </p:nvCxnSpPr>
          <p:spPr>
            <a:xfrm flipV="1">
              <a:off x="35931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5" name="Straight Arrow Connector 20"/>
            <p:cNvCxnSpPr/>
            <p:nvPr/>
          </p:nvCxnSpPr>
          <p:spPr>
            <a:xfrm flipV="1">
              <a:off x="41277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6" name="Group 39"/>
          <p:cNvGrpSpPr/>
          <p:nvPr/>
        </p:nvGrpSpPr>
        <p:grpSpPr>
          <a:xfrm>
            <a:off x="5880240" y="5803920"/>
            <a:ext cx="1752480" cy="398880"/>
            <a:chOff x="5880240" y="5803920"/>
            <a:chExt cx="1752480" cy="398880"/>
          </a:xfrm>
        </p:grpSpPr>
        <p:sp>
          <p:nvSpPr>
            <p:cNvPr id="1187" name="TextBox 25"/>
            <p:cNvSpPr/>
            <p:nvPr/>
          </p:nvSpPr>
          <p:spPr>
            <a:xfrm>
              <a:off x="5880240" y="5803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6"/>
            <p:cNvCxnSpPr/>
            <p:nvPr/>
          </p:nvCxnSpPr>
          <p:spPr>
            <a:xfrm>
              <a:off x="62604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9" name="Straight Arrow Connector 27"/>
            <p:cNvCxnSpPr/>
            <p:nvPr/>
          </p:nvCxnSpPr>
          <p:spPr>
            <a:xfrm>
              <a:off x="67176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0" name="Straight Arrow Connector 28"/>
            <p:cNvCxnSpPr/>
            <p:nvPr/>
          </p:nvCxnSpPr>
          <p:spPr>
            <a:xfrm flipH="1">
              <a:off x="7250760" y="580392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9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1B25662-7826-4BFF-AB58-FECF0BEB79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595520"/>
            <a:ext cx="8458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ices of Productive Resour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price of a productive resource increases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 Business Tax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business taxes rise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 Technolog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mprovement in technology leads to a fall in the cost of production and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97D2FF0-D54C-47B7-B9D5-EF00291A5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0520" y="1584000"/>
            <a:ext cx="80773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 Prices of Substitutes in Production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ncrease in the price of one product will cause a drop in the supply of products that are substitutes in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5.  Future Expectation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expected future prices will lead to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6.  Number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ecrease in the number of suppliers will reduce market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B3EF132-10E6-4FBC-B667-78813BA46D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n In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9C697433-053E-4DFF-9405-D3D45FBAE34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652920" y="395460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1"/>
          <p:cNvSpPr/>
          <p:nvPr/>
        </p:nvSpPr>
        <p:spPr>
          <a:xfrm flipH="1">
            <a:off x="1752120" y="3873600"/>
            <a:ext cx="396252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4"/>
          <p:cNvSpPr/>
          <p:nvPr/>
        </p:nvSpPr>
        <p:spPr>
          <a:xfrm>
            <a:off x="52592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6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"/>
          <p:cNvSpPr/>
          <p:nvPr/>
        </p:nvSpPr>
        <p:spPr>
          <a:xfrm>
            <a:off x="1090440" y="3703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0"/>
          <p:cNvSpPr/>
          <p:nvPr/>
        </p:nvSpPr>
        <p:spPr>
          <a:xfrm>
            <a:off x="1090440" y="437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4649760" y="3503520"/>
            <a:ext cx="15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1976400" y="4010040"/>
            <a:ext cx="4680" cy="48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5715000" y="396252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5490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Rounded Rectangle 27"/>
          <p:cNvGrpSpPr/>
          <p:nvPr/>
        </p:nvGrpSpPr>
        <p:grpSpPr>
          <a:xfrm>
            <a:off x="6224760" y="3693960"/>
            <a:ext cx="2700000" cy="1878120"/>
            <a:chOff x="6224760" y="3693960"/>
            <a:chExt cx="2700000" cy="1878120"/>
          </a:xfrm>
        </p:grpSpPr>
        <p:pic>
          <p:nvPicPr>
            <p:cNvPr id="1227" name="Rounded Rectangle 27" descr=""/>
            <p:cNvPicPr/>
            <p:nvPr/>
          </p:nvPicPr>
          <p:blipFill>
            <a:blip r:embed="rId1"/>
            <a:stretch/>
          </p:blipFill>
          <p:spPr>
            <a:xfrm>
              <a:off x="6224760" y="3693960"/>
              <a:ext cx="270000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6372360" y="3819600"/>
              <a:ext cx="240660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increases, a surplus is created and price fa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 De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0812B674-AC9F-401D-A852-EC88C4F543A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3652920" y="3954600"/>
            <a:ext cx="4680" cy="191268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31"/>
          <p:cNvSpPr/>
          <p:nvPr/>
        </p:nvSpPr>
        <p:spPr>
          <a:xfrm flipH="1">
            <a:off x="1676520" y="3886200"/>
            <a:ext cx="195552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2"/>
          <p:cNvSpPr/>
          <p:nvPr/>
        </p:nvSpPr>
        <p:spPr>
          <a:xfrm>
            <a:off x="51829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3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4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5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6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7"/>
          <p:cNvSpPr/>
          <p:nvPr/>
        </p:nvSpPr>
        <p:spPr>
          <a:xfrm>
            <a:off x="1090440" y="3657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8"/>
          <p:cNvSpPr/>
          <p:nvPr/>
        </p:nvSpPr>
        <p:spPr>
          <a:xfrm>
            <a:off x="1090440" y="43434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9"/>
          <p:cNvSpPr/>
          <p:nvPr/>
        </p:nvSpPr>
        <p:spPr>
          <a:xfrm>
            <a:off x="4724280" y="3505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 flipH="1" flipV="1">
            <a:off x="1980720" y="3962160"/>
            <a:ext cx="1800" cy="5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Rounded Rectangle 23"/>
          <p:cNvGrpSpPr/>
          <p:nvPr/>
        </p:nvGrpSpPr>
        <p:grpSpPr>
          <a:xfrm>
            <a:off x="6516720" y="3456000"/>
            <a:ext cx="2262240" cy="2305080"/>
            <a:chOff x="6516720" y="3456000"/>
            <a:chExt cx="2262240" cy="2305080"/>
          </a:xfrm>
        </p:grpSpPr>
        <p:pic>
          <p:nvPicPr>
            <p:cNvPr id="1252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516720" y="3456000"/>
              <a:ext cx="22622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83400" y="3597120"/>
              <a:ext cx="193680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decreases, a shortage is created and price 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Line 29"/>
          <p:cNvSpPr/>
          <p:nvPr/>
        </p:nvSpPr>
        <p:spPr>
          <a:xfrm>
            <a:off x="2346480" y="459576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CF14793-19C1-40AD-8C62-79E90E14BE0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eriod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sures quantities in a specific time period, e.g. a week / month / year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48AF0B7-F2D7-4588-BCC5-E0696252F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5B85F63-3AB6-4890-9781-C128DBD66EC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7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8"/>
          <p:cNvSpPr/>
          <p:nvPr/>
        </p:nvSpPr>
        <p:spPr>
          <a:xfrm>
            <a:off x="73915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9"/>
          <p:cNvSpPr/>
          <p:nvPr/>
        </p:nvSpPr>
        <p:spPr>
          <a:xfrm>
            <a:off x="73915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60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1"/>
          <p:cNvSpPr/>
          <p:nvPr/>
        </p:nvSpPr>
        <p:spPr>
          <a:xfrm>
            <a:off x="73915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2"/>
          <p:cNvSpPr/>
          <p:nvPr/>
        </p:nvSpPr>
        <p:spPr>
          <a:xfrm>
            <a:off x="73915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63"/>
          <p:cNvSpPr/>
          <p:nvPr/>
        </p:nvSpPr>
        <p:spPr>
          <a:xfrm>
            <a:off x="73915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2"/>
          <p:cNvSpPr/>
          <p:nvPr/>
        </p:nvSpPr>
        <p:spPr>
          <a:xfrm>
            <a:off x="31240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3"/>
          <p:cNvSpPr/>
          <p:nvPr/>
        </p:nvSpPr>
        <p:spPr>
          <a:xfrm>
            <a:off x="525780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4"/>
          <p:cNvSpPr/>
          <p:nvPr/>
        </p:nvSpPr>
        <p:spPr>
          <a:xfrm>
            <a:off x="10666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5"/>
          <p:cNvSpPr/>
          <p:nvPr/>
        </p:nvSpPr>
        <p:spPr>
          <a:xfrm>
            <a:off x="735336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6"/>
          <p:cNvSpPr/>
          <p:nvPr/>
        </p:nvSpPr>
        <p:spPr>
          <a:xfrm>
            <a:off x="1066680" y="235908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7"/>
          <p:cNvSpPr/>
          <p:nvPr/>
        </p:nvSpPr>
        <p:spPr>
          <a:xfrm>
            <a:off x="312408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7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AE94EC7-A9F6-4667-A251-CE6B5E92581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pSp>
        <p:nvGrpSpPr>
          <p:cNvPr id="1293" name="Group 35"/>
          <p:cNvGrpSpPr/>
          <p:nvPr/>
        </p:nvGrpSpPr>
        <p:grpSpPr>
          <a:xfrm>
            <a:off x="7391520" y="1358280"/>
            <a:ext cx="1752480" cy="475560"/>
            <a:chOff x="7391520" y="1358280"/>
            <a:chExt cx="1752480" cy="475560"/>
          </a:xfrm>
        </p:grpSpPr>
        <p:sp>
          <p:nvSpPr>
            <p:cNvPr id="1294" name="TextBox 7"/>
            <p:cNvSpPr/>
            <p:nvPr/>
          </p:nvSpPr>
          <p:spPr>
            <a:xfrm>
              <a:off x="7391520" y="1434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Straight Arrow Connector 8"/>
            <p:cNvCxnSpPr/>
            <p:nvPr/>
          </p:nvCxnSpPr>
          <p:spPr>
            <a:xfrm flipH="1">
              <a:off x="7724880" y="143460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6" name="Straight Arrow Connector 9"/>
            <p:cNvCxnSpPr/>
            <p:nvPr/>
          </p:nvCxnSpPr>
          <p:spPr>
            <a:xfrm flipV="1">
              <a:off x="8228880" y="135828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7" name="Straight Arrow Connector 10"/>
            <p:cNvCxnSpPr/>
            <p:nvPr/>
          </p:nvCxnSpPr>
          <p:spPr>
            <a:xfrm flipH="1">
              <a:off x="8762040" y="1434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98" name="Group 41"/>
          <p:cNvGrpSpPr/>
          <p:nvPr/>
        </p:nvGrpSpPr>
        <p:grpSpPr>
          <a:xfrm>
            <a:off x="6718320" y="1905840"/>
            <a:ext cx="1752480" cy="403920"/>
            <a:chOff x="6718320" y="1905840"/>
            <a:chExt cx="1752480" cy="403920"/>
          </a:xfrm>
        </p:grpSpPr>
        <p:sp>
          <p:nvSpPr>
            <p:cNvPr id="1299" name="TextBox 15"/>
            <p:cNvSpPr/>
            <p:nvPr/>
          </p:nvSpPr>
          <p:spPr>
            <a:xfrm>
              <a:off x="6718320" y="1910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0" name="Straight Arrow Connector 16"/>
            <p:cNvCxnSpPr/>
            <p:nvPr/>
          </p:nvCxnSpPr>
          <p:spPr>
            <a:xfrm flipV="1">
              <a:off x="7040160" y="1905840"/>
              <a:ext cx="2160" cy="36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1" name="Straight Arrow Connector 17"/>
            <p:cNvCxnSpPr/>
            <p:nvPr/>
          </p:nvCxnSpPr>
          <p:spPr>
            <a:xfrm>
              <a:off x="7555680" y="1929600"/>
              <a:ext cx="1440" cy="324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2" name="Straight Arrow Connector 18"/>
            <p:cNvCxnSpPr/>
            <p:nvPr/>
          </p:nvCxnSpPr>
          <p:spPr>
            <a:xfrm flipH="1" flipV="1">
              <a:off x="8089560" y="194868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3" name="Group 53"/>
          <p:cNvGrpSpPr/>
          <p:nvPr/>
        </p:nvGrpSpPr>
        <p:grpSpPr>
          <a:xfrm>
            <a:off x="6400800" y="2367720"/>
            <a:ext cx="1752480" cy="475560"/>
            <a:chOff x="6400800" y="2367720"/>
            <a:chExt cx="1752480" cy="475560"/>
          </a:xfrm>
        </p:grpSpPr>
        <p:sp>
          <p:nvSpPr>
            <p:cNvPr id="1304" name="TextBox 19"/>
            <p:cNvSpPr/>
            <p:nvPr/>
          </p:nvSpPr>
          <p:spPr>
            <a:xfrm>
              <a:off x="6400800" y="2444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5" name="Straight Arrow Connector 20"/>
            <p:cNvCxnSpPr/>
            <p:nvPr/>
          </p:nvCxnSpPr>
          <p:spPr>
            <a:xfrm flipH="1">
              <a:off x="6734160" y="244404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21"/>
            <p:cNvCxnSpPr/>
            <p:nvPr/>
          </p:nvCxnSpPr>
          <p:spPr>
            <a:xfrm flipV="1">
              <a:off x="7238160" y="23677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22"/>
            <p:cNvCxnSpPr/>
            <p:nvPr/>
          </p:nvCxnSpPr>
          <p:spPr>
            <a:xfrm flipH="1">
              <a:off x="7771320" y="244440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8" name="Group 52"/>
          <p:cNvGrpSpPr/>
          <p:nvPr/>
        </p:nvGrpSpPr>
        <p:grpSpPr>
          <a:xfrm>
            <a:off x="7162920" y="5707800"/>
            <a:ext cx="1752480" cy="475560"/>
            <a:chOff x="7162920" y="5707800"/>
            <a:chExt cx="1752480" cy="475560"/>
          </a:xfrm>
        </p:grpSpPr>
        <p:sp>
          <p:nvSpPr>
            <p:cNvPr id="1309" name="TextBox 31"/>
            <p:cNvSpPr/>
            <p:nvPr/>
          </p:nvSpPr>
          <p:spPr>
            <a:xfrm>
              <a:off x="7162920" y="5784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Straight Arrow Connector 32"/>
            <p:cNvCxnSpPr/>
            <p:nvPr/>
          </p:nvCxnSpPr>
          <p:spPr>
            <a:xfrm flipH="1">
              <a:off x="7496280" y="578412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1" name="Straight Arrow Connector 33"/>
            <p:cNvCxnSpPr/>
            <p:nvPr/>
          </p:nvCxnSpPr>
          <p:spPr>
            <a:xfrm flipV="1">
              <a:off x="8000280" y="570780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2" name="Straight Arrow Connector 34"/>
            <p:cNvCxnSpPr/>
            <p:nvPr/>
          </p:nvCxnSpPr>
          <p:spPr>
            <a:xfrm flipH="1">
              <a:off x="8533440" y="578448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3" name="Group 42"/>
          <p:cNvGrpSpPr/>
          <p:nvPr/>
        </p:nvGrpSpPr>
        <p:grpSpPr>
          <a:xfrm>
            <a:off x="2832120" y="3594240"/>
            <a:ext cx="1752480" cy="403200"/>
            <a:chOff x="2832120" y="3594240"/>
            <a:chExt cx="1752480" cy="403200"/>
          </a:xfrm>
        </p:grpSpPr>
        <p:sp>
          <p:nvSpPr>
            <p:cNvPr id="1314" name="TextBox 43"/>
            <p:cNvSpPr/>
            <p:nvPr/>
          </p:nvSpPr>
          <p:spPr>
            <a:xfrm>
              <a:off x="2832120" y="3598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5" name="Straight Arrow Connector 44"/>
            <p:cNvCxnSpPr/>
            <p:nvPr/>
          </p:nvCxnSpPr>
          <p:spPr>
            <a:xfrm flipV="1">
              <a:off x="3153960" y="359424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6" name="Straight Arrow Connector 45"/>
            <p:cNvCxnSpPr/>
            <p:nvPr/>
          </p:nvCxnSpPr>
          <p:spPr>
            <a:xfrm>
              <a:off x="3669480" y="361764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7" name="Straight Arrow Connector 46"/>
            <p:cNvCxnSpPr/>
            <p:nvPr/>
          </p:nvCxnSpPr>
          <p:spPr>
            <a:xfrm flipH="1" flipV="1">
              <a:off x="4203360" y="363636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8" name="Group 47"/>
          <p:cNvGrpSpPr/>
          <p:nvPr/>
        </p:nvGrpSpPr>
        <p:grpSpPr>
          <a:xfrm>
            <a:off x="6222960" y="4470480"/>
            <a:ext cx="1752480" cy="403200"/>
            <a:chOff x="6222960" y="4470480"/>
            <a:chExt cx="1752480" cy="403200"/>
          </a:xfrm>
        </p:grpSpPr>
        <p:sp>
          <p:nvSpPr>
            <p:cNvPr id="1319" name="TextBox 48"/>
            <p:cNvSpPr/>
            <p:nvPr/>
          </p:nvSpPr>
          <p:spPr>
            <a:xfrm>
              <a:off x="6222960" y="4474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0" name="Straight Arrow Connector 49"/>
            <p:cNvCxnSpPr/>
            <p:nvPr/>
          </p:nvCxnSpPr>
          <p:spPr>
            <a:xfrm flipV="1">
              <a:off x="6544800" y="447048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1" name="Straight Arrow Connector 50"/>
            <p:cNvCxnSpPr/>
            <p:nvPr/>
          </p:nvCxnSpPr>
          <p:spPr>
            <a:xfrm>
              <a:off x="7060320" y="449388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2" name="Straight Arrow Connector 51"/>
            <p:cNvCxnSpPr/>
            <p:nvPr/>
          </p:nvCxnSpPr>
          <p:spPr>
            <a:xfrm flipH="1" flipV="1">
              <a:off x="7594200" y="451260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323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D00E66A-2EA9-43C6-BFF6-F276C69C219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demand vs quantity demand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supply vs quantity suppli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term “market”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equilibrium price and quant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determinants of demand and suppl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change in demand or a change in suppl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y demand and supply determine price, not the reverse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05A6044-D959-45C2-9CD9-EBD109EF1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arious pr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ws relationship between quantity &amp;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is the most important determinan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teris paribus” – all else remains the sa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562B533-B657-4F52-815A-A0EB4E854A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quantities demanded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a demand sched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D971B0D-55C8-4848-8EDF-B1F7DA158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43000" y="1676520"/>
          <a:ext cx="6934320" cy="4065480"/>
        </p:xfrm>
        <a:graphic>
          <a:graphicData uri="http://schemas.openxmlformats.org/drawingml/2006/table">
            <a:tbl>
              <a:tblPr/>
              <a:tblGrid>
                <a:gridCol w="2971800"/>
                <a:gridCol w="396252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06A0D97-162E-4462-8DAA-8DD0EB177E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26Z</dcterms:modified>
  <cp:revision>173</cp:revision>
  <dc:subject/>
  <dc:title>Slide 1</dc:title>
</cp:coreProperties>
</file>