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1AD7E-CAA8-4377-AEDC-BC98260DB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7F19B-EB79-44B4-BEB5-9AE3E1D4D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32CB5E9-6A41-4A3D-9156-500ACFB2550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41C0FD3-BB43-4B6E-8B56-C93EF97E956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A8DC639-5756-4D2C-87A3-AA2E7E24597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D046D5D-126E-492B-AE1E-0B80A6B0F75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5805AD6-1179-40B8-A5BB-B51E6DC0507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F4AA51D-B8FF-4F7B-9F97-13F6E34B307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CD1917D-2752-4A49-A774-63BA17B5325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733FEF6C-5DA7-4D87-B1BD-B708606944E7}"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0AE2C1AB-B3C2-4E47-B273-A854EBBF13A4}"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20CADFEE-D824-40D4-9685-831D1810694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90F56-9149-4E41-802D-7B00855A7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51E1253-E8E4-4EE6-9952-ECF1FA77EBB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E49DB63-AA2F-4DC1-A7B6-6437B03727D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820FB29-C9F3-4B32-B531-519C02ADC3C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65D2450-31A3-47BC-90F6-10DFCBAEE2B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9B6F31F-4B75-42FA-A966-1380A4D625C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889E8C6-2893-49D0-B706-8FBA8552059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CD63519-9CA3-443A-A7BF-C2E0E8B302A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250F2ED-0DF9-41EF-9C12-3616D193668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54DFFAE-DFBF-4AF9-81E6-A891441C13B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F3C7E18-205C-4B1B-931A-B4E7E23D43E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6A84A-273A-4AE2-843D-F22F48682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16D72FCD-FA4C-4973-BA30-6B2231AF91F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34E6BF-DADF-4BAF-B77B-E07DDD1751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24DCE-8C7D-4FD9-978D-2EBE8BFC1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B0A01-FE0C-497D-9196-A480233B5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E15B7-B95B-40A6-BDEB-5A4B7E437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CFBEE-4DF8-4A66-9E27-75CC5C7C3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C3C3C-960F-4EAB-8769-B00DEA52E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452CD-D6CF-44E7-B7BC-EA39EC756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E5D40-4DEF-4945-94D0-D0DB56EF2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629F6-BB4A-4731-A091-7FD12456D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1A8DD-1090-4E68-8040-2B252F7C0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DA8C3-CD65-43FD-9EF6-0851887F3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466353-EBF1-4D9A-BD02-9F13A72EE2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C9D8C0-4501-4C15-9621-272731BE18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252C98-FB34-46B3-B5CE-2261E53870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7E11CC-C23F-4193-9215-E351947CFD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48D060-FFF0-4439-8337-4A02073E5F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DA404A-D880-4360-86D3-65EA45B6F1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DE9EE8-1988-49C4-B91B-1128BD4DC4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58C30-CECD-4B70-83CB-A7DD20E26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A7B384-23EE-420D-A2CE-59D59EB87C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CCB9EB-B295-44F7-B20A-9DA620CAA1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375FBF-8FFC-4466-A2F1-1279964722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2F129E-691C-463D-9AB7-AD0FD738C2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574817-FEF5-4330-AE9D-EA6B9F2E2F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8F4F3A-8746-441B-ADE3-4E8BE047E7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A140ED-D207-4369-AE6F-8440271D4B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78C2C0-5DBD-4FCC-A79A-71D6A4B6BE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0DA846-72B8-47F6-889A-71FCF3981B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4AA850-43DD-4EE5-A9FD-6742C3585A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9CB9F-1DD0-48DD-8E80-319804CA4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561C89-8F00-412D-9EE6-B7F76AB145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B82D36-30F5-4DC8-BF50-B0638B90D7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80BCC7-A7A2-452E-ADF4-F31DAEFCF2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83A476-2386-48D5-A3A5-F91AF3DE06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006B1A-27CC-42A7-A656-E81E3F1821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92B5C1-F2D9-48B0-9E8E-DAD552959B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809A62-2F73-458D-9A6E-99C75A38D5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4C2B4C-5946-403B-BF5B-0BA73156FA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350F70-4898-4588-82D2-1759FF6FA1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C00FFB-D8B4-4FB6-B490-C2DC429FAB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FA40A-E79A-485E-AA47-5E0B489EF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398854-9F1A-4EC6-B677-BDBCD9A80C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0AB527-57F4-424F-AD2B-7021833536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87F485-9455-4451-AA52-DACD48E5C6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7E1FF0-E153-485A-9844-568ACBEC94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394BEE-0A8A-4AFF-A524-B3D584A545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D2A887-79C7-4080-B4C2-5FC5CFDE4A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0F4110-B48A-4BA2-BC6A-6D61BC5406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6B2CE9-116C-4E75-A868-15353FC94D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6374C7-6540-4AB9-A56F-B8F8E2AD93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CBEBD3-5C2F-424A-823D-0B601F1D89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A6CE7-6E20-4E14-8A04-9DA7E23A0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B04C70-5F28-4F52-98FF-EBB4B1DA43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FE12630-AA9E-4C49-BADD-9AA5C88BAD1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FF42D99-CFCB-4175-854F-9841BC05970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542DAFA-550E-4CB0-9210-F125A7DA781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B4B1DD4-6390-42C3-8F4A-3E05F9EA0D9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CA3E9CB-6129-4488-9D8C-BD3A600F08B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55A7986-6D87-4F19-8961-E439E697FF7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62A7C09-0B35-4917-947D-8FB8EBB7C52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0F76FB8-834B-4837-9AFA-51E3CF1EA7D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4236EAD-CDB1-4E87-9975-D4B7307DEE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90F74-DE45-430A-A538-790FE5425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FF652FA-00FE-487C-95B8-13CA3D4966A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34DE627-910A-4D87-B465-5EF18464E09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852E687-F971-4184-8D52-065B01BC699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2530BF29-C76A-4B09-B6F4-4490C9A1130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5235EDC-4361-4EF6-B5F2-1E2B89AF7ED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E4301DD-D559-414C-8703-9897EC1BFBA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1492B21-82C6-4170-8529-92FD4E6BF4F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C52EEFF-E0C1-49D9-8518-61836E35317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0252FAC-CB9F-4BAD-B1E2-5CA1CB7CFB2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676790D-79AE-4616-9207-7F09F2D868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01732-544D-4B8D-A4E4-EB1E4F7FB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FCCC67A-3949-4894-84FB-AF4F2AA6355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4DAE467-D0A2-4D48-9569-C48D3809C28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0CC02DF-63F0-49D6-83DF-32927391604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82AEA43-36FE-4A92-8C1F-330B8480165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D610AB6-0267-430A-8239-697CC26828B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8A0BD661-C30A-42B4-874F-1D752B833D86}"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AB9C466-8D8F-4470-8EFB-D7C94EE6E72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A145157-3868-4292-AC13-7AA0A16E5E5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BC49755-B9C2-4F72-B438-E7DACFDE855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B99BDA0-652F-4D9C-AC5A-02A7C23350B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8B80D-D632-470F-B192-30BA95501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9219F51-1348-49BC-B5F1-F97F38F204C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C73B819-DA8E-45F1-8648-3D7426BE4D4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F4BB8B2-EF3E-4749-A12F-80DE61498FD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4576CA5-CEA0-4D83-AE2D-499F665C821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F156261-BEBC-4F45-B4AF-F318D9D4D34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C2C18AE6-CAA7-49E3-B519-B741C59A174D}"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545F15B6-F429-42EB-AD4E-704C976DB35A}"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9EAE0B5-F9A0-472B-B6E5-A8272E8489B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C8F0675-D41E-46D3-84C2-3F0B17159B4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108423E-2FA1-49E1-82FB-C1C62B66A6B6}"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 name="PlaceHolder 3"/>
          <p:cNvSpPr>
            <a:spLocks noGrp="1"/>
          </p:cNvSpPr>
          <p:nvPr>
            <p:ph type="dt" idx="1"/>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84" name="PlaceHolder 3"/>
          <p:cNvSpPr>
            <a:spLocks noGrp="1"/>
          </p:cNvSpPr>
          <p:nvPr>
            <p:ph type="dt" idx="26"/>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86"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04E7C428-242D-478C-AF3D-1D1D84F991F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aholowinsky\Documents\McGrawHill\Sayre_MICRO_0070385467_72dpi.jpg"/>
          <p:cNvPicPr/>
          <p:nvPr/>
        </p:nvPicPr>
        <p:blipFill>
          <a:blip r:embed="rId2"/>
          <a:srcRect l="329" t="8890" r="0" b="76669"/>
          <a:stretch/>
        </p:blipFill>
        <p:spPr>
          <a:xfrm>
            <a:off x="3048120" y="838080"/>
            <a:ext cx="4038480" cy="695520"/>
          </a:xfrm>
          <a:prstGeom prst="rect">
            <a:avLst/>
          </a:prstGeom>
          <a:ln w="0">
            <a:noFill/>
          </a:ln>
        </p:spPr>
      </p:pic>
      <p:pic>
        <p:nvPicPr>
          <p:cNvPr id="42" name="Picture 2" descr="C:\Users\aholowinsky\Documents\McGrawHill\Sayre_MICRO_0070385467_72dpi.jpg"/>
          <p:cNvPicPr/>
          <p:nvPr/>
        </p:nvPicPr>
        <p:blipFill>
          <a:blip r:embed="rId3"/>
          <a:srcRect l="329" t="32673" r="0" b="12287"/>
          <a:stretch/>
        </p:blipFill>
        <p:spPr>
          <a:xfrm>
            <a:off x="0" y="533520"/>
            <a:ext cx="2590920" cy="1682640"/>
          </a:xfrm>
          <a:prstGeom prst="rect">
            <a:avLst/>
          </a:prstGeom>
          <a:ln w="0">
            <a:noFill/>
          </a:ln>
        </p:spPr>
      </p:pic>
      <p:sp>
        <p:nvSpPr>
          <p:cNvPr id="43" name="Straight Connector 9"/>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Straight Connector 10"/>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5" name="TextBox 11"/>
          <p:cNvSpPr/>
          <p:nvPr/>
        </p:nvSpPr>
        <p:spPr>
          <a:xfrm>
            <a:off x="5562720" y="1828800"/>
            <a:ext cx="2931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7933c"/>
                </a:solidFill>
                <a:latin typeface="Kalinga"/>
                <a:ea typeface="Kalinga"/>
              </a:rPr>
              <a:t>SAYRE  |  MORRIS      </a:t>
            </a:r>
            <a:r>
              <a:rPr b="1" lang="en-US" sz="1100" spc="-1" strike="noStrike">
                <a:solidFill>
                  <a:srgbClr val="fa4160"/>
                </a:solidFill>
                <a:latin typeface="Kalinga"/>
                <a:ea typeface="Kalinga"/>
              </a:rPr>
              <a:t>Seventh Edition </a:t>
            </a:r>
            <a:endParaRPr b="0" lang="en-US" sz="11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48" name="PlaceHolder 3"/>
          <p:cNvSpPr>
            <a:spLocks noGrp="1"/>
          </p:cNvSpPr>
          <p:nvPr>
            <p:ph type="dt" idx="4"/>
          </p:nvPr>
        </p:nvSpPr>
        <p:spPr>
          <a:xfrm>
            <a:off x="456840" y="6356520"/>
            <a:ext cx="2584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88"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0" name="TextBox 17"/>
          <p:cNvSpPr/>
          <p:nvPr/>
        </p:nvSpPr>
        <p:spPr>
          <a:xfrm>
            <a:off x="468360" y="2392200"/>
            <a:ext cx="479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arning Objectives: </a:t>
            </a:r>
            <a:endParaRPr b="0" lang="en-US" sz="28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93" name="PlaceHolder 3"/>
          <p:cNvSpPr>
            <a:spLocks noGrp="1"/>
          </p:cNvSpPr>
          <p:nvPr>
            <p:ph type="dt" idx="7"/>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341D9345-57B4-4DAC-B50F-AE933D1C58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133"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37" name="PlaceHolder 3"/>
          <p:cNvSpPr>
            <a:spLocks noGrp="1"/>
          </p:cNvSpPr>
          <p:nvPr>
            <p:ph type="dt" idx="10"/>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13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61B73DB2-9D6C-4B26-B3A0-A93B172AD7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2" descr="C:\Users\aholowinsky\Documents\McGrawHill\Sayre_MICRO_0070385467_72dpi.jpg"/>
          <p:cNvPicPr/>
          <p:nvPr/>
        </p:nvPicPr>
        <p:blipFill>
          <a:blip r:embed="rId2"/>
          <a:srcRect l="329" t="32673" r="0" b="12287"/>
          <a:stretch/>
        </p:blipFill>
        <p:spPr>
          <a:xfrm>
            <a:off x="0" y="1987560"/>
            <a:ext cx="3859200" cy="2595600"/>
          </a:xfrm>
          <a:prstGeom prst="rect">
            <a:avLst/>
          </a:prstGeom>
          <a:ln w="0">
            <a:noFill/>
          </a:ln>
        </p:spPr>
      </p:pic>
      <p:sp>
        <p:nvSpPr>
          <p:cNvPr id="177" name="Straight Connector 9"/>
          <p:cNvSpPr/>
          <p:nvPr/>
        </p:nvSpPr>
        <p:spPr>
          <a:xfrm>
            <a:off x="0" y="198612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Straight Connector 10"/>
          <p:cNvSpPr/>
          <p:nvPr/>
        </p:nvSpPr>
        <p:spPr>
          <a:xfrm>
            <a:off x="0" y="4591080"/>
            <a:ext cx="9144000" cy="7920"/>
          </a:xfrm>
          <a:prstGeom prst="line">
            <a:avLst/>
          </a:prstGeom>
          <a:ln w="25560">
            <a:solidFill>
              <a:srgbClr val="77933c"/>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81" name="PlaceHolder 3"/>
          <p:cNvSpPr>
            <a:spLocks noGrp="1"/>
          </p:cNvSpPr>
          <p:nvPr>
            <p:ph type="dt" idx="1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18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0BD55A2C-705F-4E9C-8983-9725406BD13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22"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223"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DE109A2F-13E9-4705-B2F9-6C28ABBA28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62" name="PlaceHolder 3"/>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263" name="PlaceHolder 4"/>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AA559AC4-3FA1-4596-AE14-31905BAEED9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02" name="PlaceHolder 3"/>
          <p:cNvSpPr>
            <a:spLocks noGrp="1"/>
          </p:cNvSpPr>
          <p:nvPr>
            <p:ph type="dt" idx="20"/>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04" name="PlaceHolder 5"/>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C73DB6F4-A349-4245-AF56-EDD353D466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43" name="PlaceHolder 3"/>
          <p:cNvSpPr>
            <a:spLocks noGrp="1"/>
          </p:cNvSpPr>
          <p:nvPr>
            <p:ph type="dt" idx="2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45"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24DA35A2-B0DC-4259-8791-2D857B3CDA9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3285720"/>
            <a:ext cx="7772400" cy="21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7933c"/>
                </a:solidFill>
                <a:latin typeface="Kalinga"/>
                <a:ea typeface="Kalinga"/>
              </a:rPr>
              <a:t>An Evaluation of </a:t>
            </a:r>
            <a:br>
              <a:rPr sz="4800"/>
            </a:br>
            <a:r>
              <a:rPr b="1" lang="en-US" sz="4800" spc="-1" strike="noStrike">
                <a:solidFill>
                  <a:srgbClr val="77933c"/>
                </a:solidFill>
                <a:latin typeface="Kalinga"/>
                <a:ea typeface="Kalinga"/>
              </a:rPr>
              <a:t>Competitive Markets</a:t>
            </a:r>
            <a:endParaRPr b="0" lang="en-US" sz="4800" spc="-1" strike="noStrike">
              <a:solidFill>
                <a:srgbClr val="000000"/>
              </a:solidFill>
              <a:latin typeface="Kalinga"/>
            </a:endParaRPr>
          </a:p>
        </p:txBody>
      </p:sp>
      <p:sp>
        <p:nvSpPr>
          <p:cNvPr id="424" name="PlaceHolder 2"/>
          <p:cNvSpPr>
            <a:spLocks noGrp="1"/>
          </p:cNvSpPr>
          <p:nvPr>
            <p:ph type="subTitle"/>
          </p:nvPr>
        </p:nvSpPr>
        <p:spPr>
          <a:xfrm>
            <a:off x="1371600" y="2817720"/>
            <a:ext cx="6400800" cy="4572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a6a6"/>
                </a:solidFill>
                <a:latin typeface="Kalinga"/>
                <a:ea typeface="Kalinga"/>
              </a:rPr>
              <a:t>CHAPTER 9</a:t>
            </a:r>
            <a:endParaRPr b="0" lang="en-US" sz="2000" spc="-1" strike="noStrike">
              <a:solidFill>
                <a:srgbClr val="000000"/>
              </a:solidFill>
              <a:latin typeface="Kalinga"/>
            </a:endParaRPr>
          </a:p>
        </p:txBody>
      </p:sp>
      <p:sp>
        <p:nvSpPr>
          <p:cNvPr id="4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1</a:t>
            </a:r>
            <a:endParaRPr b="0" lang="en-US" sz="1200" spc="-1" strike="noStrike">
              <a:solidFill>
                <a:srgbClr val="000000"/>
              </a:solidFill>
              <a:latin typeface="Arial"/>
            </a:endParaRPr>
          </a:p>
        </p:txBody>
      </p:sp>
      <p:sp>
        <p:nvSpPr>
          <p:cNvPr id="4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314233C0-B874-4811-BD59-5847F3CF8BA2}"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6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69"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Arial"/>
            </a:endParaRPr>
          </a:p>
        </p:txBody>
      </p:sp>
      <p:sp>
        <p:nvSpPr>
          <p:cNvPr id="470" name="TextBox 7"/>
          <p:cNvSpPr/>
          <p:nvPr/>
        </p:nvSpPr>
        <p:spPr>
          <a:xfrm>
            <a:off x="488880" y="5294160"/>
            <a:ext cx="820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the long run, perfectly competitive markets achieve productive and allocative efficiency, and mazimize economic surplus </a:t>
            </a:r>
            <a:endParaRPr b="0" lang="en-US" sz="2400" spc="-1" strike="noStrike">
              <a:solidFill>
                <a:srgbClr val="000000"/>
              </a:solidFill>
              <a:latin typeface="Arial"/>
            </a:endParaRPr>
          </a:p>
        </p:txBody>
      </p:sp>
      <p:pic>
        <p:nvPicPr>
          <p:cNvPr id="471" name="Picture 2" descr="ftp://ftp.eppg.com/Sayre%20Micro%20images/Chapter%209/SAYRE-MICRO-9-F9-4.jpg"/>
          <p:cNvPicPr/>
          <p:nvPr/>
        </p:nvPicPr>
        <p:blipFill>
          <a:blip r:embed="rId1"/>
          <a:stretch/>
        </p:blipFill>
        <p:spPr>
          <a:xfrm>
            <a:off x="0" y="623880"/>
            <a:ext cx="9144000" cy="4405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57200" y="1828440"/>
            <a:ext cx="8229600" cy="4297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Four Strengths of a Competitive Market</a:t>
            </a:r>
            <a:br>
              <a:rPr sz="3200"/>
            </a:br>
            <a:endParaRPr b="0" lang="en-US" sz="3200" spc="-1" strike="noStrike">
              <a:solidFill>
                <a:srgbClr val="000000"/>
              </a:solidFill>
              <a:latin typeface="Kalinga"/>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ximizes economic surplus because both productive and allocative efficiency is achieved </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es this automatically (is costless) </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ncourages innovation</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motes economic freedom</a:t>
            </a:r>
            <a:endParaRPr b="0" i="1" lang="en-US" sz="2800" spc="-1" strike="noStrike">
              <a:solidFill>
                <a:srgbClr val="000000"/>
              </a:solidFill>
              <a:latin typeface="Times New Roman"/>
            </a:endParaRPr>
          </a:p>
        </p:txBody>
      </p:sp>
      <p:sp>
        <p:nvSpPr>
          <p:cNvPr id="4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21C93777-3820-417A-AD13-418678BEF3BC}"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7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7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Arial"/>
            </a:endParaRPr>
          </a:p>
        </p:txBody>
      </p:sp>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Perfect Competition</a:t>
            </a:r>
            <a:endParaRPr b="0" lang="en-US" sz="4400" spc="-1" strike="noStrike">
              <a:solidFill>
                <a:srgbClr val="000000"/>
              </a:solidFill>
              <a:latin typeface="Kaling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DAA647A3-040D-42F0-B172-6401A565268D}"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7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80" name="Rectangle 3"/>
          <p:cNvSpPr/>
          <p:nvPr/>
        </p:nvSpPr>
        <p:spPr>
          <a:xfrm>
            <a:off x="457200" y="1265400"/>
            <a:ext cx="8458200" cy="513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following grap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what output(s) is the firm productively effic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what output(s) is the firm allocatively effic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481"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pic>
        <p:nvPicPr>
          <p:cNvPr id="482" name="Picture 2" descr="ftp://ftp.eppg.com/Sayre%20Micro%20images/Chapter%209/SAYRE-MICRO-9-p276.jpg"/>
          <p:cNvPicPr/>
          <p:nvPr/>
        </p:nvPicPr>
        <p:blipFill>
          <a:blip r:embed="rId1"/>
          <a:stretch/>
        </p:blipFill>
        <p:spPr>
          <a:xfrm>
            <a:off x="2498760" y="2523960"/>
            <a:ext cx="4170240" cy="29530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F53D0CD6-9127-4E66-874B-350C574862EC}"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8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86" name="Rectangle 3"/>
          <p:cNvSpPr/>
          <p:nvPr/>
        </p:nvSpPr>
        <p:spPr>
          <a:xfrm>
            <a:off x="893880" y="1265400"/>
            <a:ext cx="8021520" cy="513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following grap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what output(s) is the firm productively effic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what output(s) is the firm allocatively effic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487"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sp>
        <p:nvSpPr>
          <p:cNvPr id="488" name="TextBox 6"/>
          <p:cNvSpPr/>
          <p:nvPr/>
        </p:nvSpPr>
        <p:spPr>
          <a:xfrm>
            <a:off x="985680" y="5506920"/>
            <a:ext cx="718344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Productively efficient output:  Q</a:t>
            </a:r>
            <a:r>
              <a:rPr b="0" i="1" lang="en-GB" sz="2400" spc="-1" strike="noStrike" baseline="-25000">
                <a:solidFill>
                  <a:srgbClr val="ff0000"/>
                </a:solidFill>
                <a:latin typeface="Times New Roman"/>
              </a:rPr>
              <a:t>1 </a:t>
            </a:r>
            <a:r>
              <a:rPr b="0" i="1" lang="en-GB" sz="2400" spc="-1" strike="noStrike">
                <a:solidFill>
                  <a:srgbClr val="ff0000"/>
                </a:solidFill>
                <a:latin typeface="Times New Roman"/>
              </a:rPr>
              <a:t>(where P = lowest A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Allocatively efficient output:  Q</a:t>
            </a:r>
            <a:r>
              <a:rPr b="0" i="1" lang="en-GB" sz="2400" spc="-1" strike="noStrike" baseline="-25000">
                <a:solidFill>
                  <a:srgbClr val="ff0000"/>
                </a:solidFill>
                <a:latin typeface="Times New Roman"/>
              </a:rPr>
              <a:t>2</a:t>
            </a:r>
            <a:r>
              <a:rPr b="0" i="1" lang="en-GB" sz="2400" spc="-1" strike="noStrike">
                <a:solidFill>
                  <a:srgbClr val="ff0000"/>
                </a:solidFill>
                <a:latin typeface="Times New Roman"/>
              </a:rPr>
              <a:t> (where P = MC)</a:t>
            </a:r>
            <a:endParaRPr b="0" lang="en-US" sz="2400" spc="-1" strike="noStrike">
              <a:solidFill>
                <a:srgbClr val="000000"/>
              </a:solidFill>
              <a:latin typeface="Arial"/>
            </a:endParaRPr>
          </a:p>
        </p:txBody>
      </p:sp>
      <p:pic>
        <p:nvPicPr>
          <p:cNvPr id="489" name="Picture 2" descr="ftp://ftp.eppg.com/Sayre%20Micro%20images/Chapter%209/SAYRE-MICRO-9-p276.jpg"/>
          <p:cNvPicPr/>
          <p:nvPr/>
        </p:nvPicPr>
        <p:blipFill>
          <a:blip r:embed="rId1"/>
          <a:stretch/>
        </p:blipFill>
        <p:spPr>
          <a:xfrm>
            <a:off x="2498760" y="2523960"/>
            <a:ext cx="4170240" cy="29530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7933c"/>
                </a:solidFill>
                <a:latin typeface="Kalinga"/>
              </a:rPr>
              <a:t>An Evaluation of Competitive Markets</a:t>
            </a:r>
            <a:endParaRPr b="0" lang="en-US" sz="2900" spc="-1" strike="noStrike">
              <a:solidFill>
                <a:srgbClr val="000000"/>
              </a:solidFill>
              <a:latin typeface="Kalinga"/>
            </a:endParaRPr>
          </a:p>
        </p:txBody>
      </p:sp>
      <p:sp>
        <p:nvSpPr>
          <p:cNvPr id="428" name="PlaceHolder 2"/>
          <p:cNvSpPr>
            <a:spLocks noGrp="1"/>
          </p:cNvSpPr>
          <p:nvPr>
            <p:ph/>
          </p:nvPr>
        </p:nvSpPr>
        <p:spPr>
          <a:xfrm>
            <a:off x="456840" y="3030480"/>
            <a:ext cx="8381880" cy="3379680"/>
          </a:xfrm>
          <a:prstGeom prst="rect">
            <a:avLst/>
          </a:prstGeom>
          <a:noFill/>
          <a:ln w="0">
            <a:noFill/>
          </a:ln>
        </p:spPr>
        <p:txBody>
          <a:bodyPr anchor="t">
            <a:normAutofit/>
          </a:bodyPr>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Times New Roman"/>
              </a:rPr>
              <a:t>LO1:  Explain how perfectly competitive markets encourage technological improvement and growth in the size of firms</a:t>
            </a: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Times New Roman"/>
              </a:rPr>
              <a:t>LO2:  Explain the benefits of perfectly competitive markets</a:t>
            </a: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Times New Roman"/>
              </a:rPr>
              <a:t>LO3:  Understand the five reasons why perfect competition might fail to achieve desirable results </a:t>
            </a: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Times New Roman"/>
              </a:rPr>
              <a:t>LO4:  Understand how governments try to deal with external costs, such as pollution </a:t>
            </a: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Times New Roman"/>
              </a:rPr>
              <a:t>LO5:  Understand how governments try to deal with external benefits, such as education</a:t>
            </a: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Kalinga"/>
            </a:endParaRPr>
          </a:p>
        </p:txBody>
      </p:sp>
      <p:sp>
        <p:nvSpPr>
          <p:cNvPr id="429"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9 </a:t>
            </a:r>
            <a:endParaRPr b="0" lang="en-US" sz="1700" spc="-1" strike="noStrike">
              <a:solidFill>
                <a:srgbClr val="000000"/>
              </a:solidFill>
              <a:latin typeface="Kalinga"/>
            </a:endParaRPr>
          </a:p>
        </p:txBody>
      </p:sp>
      <p:sp>
        <p:nvSpPr>
          <p:cNvPr id="43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CA89B4EA-F1C1-4956-93F5-BD0A4FFD1A1A}"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31"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849320"/>
            <a:ext cx="8229600" cy="4276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Laissez-faire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economic doctrine that holds that an economy works best with the minimum amount of government intervention</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A37C6D94-3571-497E-8671-346786D05AF0}"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3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3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Competitive Markets</a:t>
            </a:r>
            <a:endParaRPr b="0" lang="en-US" sz="4400" spc="-1" strike="noStrike">
              <a:solidFill>
                <a:srgbClr val="000000"/>
              </a:solidFill>
              <a:latin typeface="Kaling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FDFFEE8B-04E7-4594-9B84-60EA3664624C}"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3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39"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pic>
        <p:nvPicPr>
          <p:cNvPr id="440" name="Picture 4" descr="ftp://ftp.eppg.com/Sayre%20Micro%20images/Chapter%209/SAYRE-MICRO-9-F9-2.jpg"/>
          <p:cNvPicPr/>
          <p:nvPr/>
        </p:nvPicPr>
        <p:blipFill>
          <a:blip r:embed="rId1"/>
          <a:stretch/>
        </p:blipFill>
        <p:spPr>
          <a:xfrm>
            <a:off x="0" y="844560"/>
            <a:ext cx="9148680" cy="47163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C27AA460-3931-4383-9C04-A12669A547AD}"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4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43"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pic>
        <p:nvPicPr>
          <p:cNvPr id="444" name="Picture 2" descr="ftp://ftp.eppg.com/Sayre%20Micro%20images/Chapter%209/SAYRE-MICRO-9-F9-3.jpg"/>
          <p:cNvPicPr/>
          <p:nvPr/>
        </p:nvPicPr>
        <p:blipFill>
          <a:blip r:embed="rId1"/>
          <a:stretch/>
        </p:blipFill>
        <p:spPr>
          <a:xfrm>
            <a:off x="0" y="852480"/>
            <a:ext cx="9144000" cy="4203720"/>
          </a:xfrm>
          <a:prstGeom prst="rect">
            <a:avLst/>
          </a:prstGeom>
          <a:ln w="0">
            <a:noFill/>
          </a:ln>
        </p:spPr>
      </p:pic>
      <p:sp>
        <p:nvSpPr>
          <p:cNvPr id="445" name="TextBox 7"/>
          <p:cNvSpPr/>
          <p:nvPr/>
        </p:nvSpPr>
        <p:spPr>
          <a:xfrm>
            <a:off x="787320" y="5284800"/>
            <a:ext cx="781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 the long run, in perfectly competitive markets, equilibrium price will be equal to LR and SR average costs (at their minimums) and also to MC </a:t>
            </a:r>
            <a:endParaRPr b="0" lang="en-US" sz="2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5A932B3D-F982-43B6-BD33-44CF381BFDC3}"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4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49" name="Rectangle 3"/>
          <p:cNvSpPr/>
          <p:nvPr/>
        </p:nvSpPr>
        <p:spPr>
          <a:xfrm>
            <a:off x="882720" y="1488960"/>
            <a:ext cx="7378560" cy="491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ctly why should a firm downsize if it is suffering diseconomies of sca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45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EAB77447-9EBB-4146-B4E0-950762F46279}"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54" name="Rectangle 3"/>
          <p:cNvSpPr/>
          <p:nvPr/>
        </p:nvSpPr>
        <p:spPr>
          <a:xfrm>
            <a:off x="882720" y="1488960"/>
            <a:ext cx="7378560" cy="491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ctly why should a firm downsize if it is suffering diseconomies of sca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455"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sp>
        <p:nvSpPr>
          <p:cNvPr id="456" name="TextBox 10"/>
          <p:cNvSpPr/>
          <p:nvPr/>
        </p:nvSpPr>
        <p:spPr>
          <a:xfrm>
            <a:off x="903240" y="2478240"/>
            <a:ext cx="7326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If a firm is suffering diseconomies of scale, it is operating at a scale too large for this type of industry and is therefore experiencing high average costs (brought about by the high bureaucratic costs associated with big corporations). It could produce at lower average costs if it could reduce the size of its operations.</a:t>
            </a:r>
            <a:endParaRPr b="0" lang="en-US" sz="24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457200" y="1690200"/>
            <a:ext cx="8229600" cy="44355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roductive Efficienc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duction of an output at the lowest possible average cost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ductive efficiency is where P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minimum AC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Allocative Efficienc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allocation of resources to the goods and services that society values most</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llocative efficiency occurs where P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MC</a:t>
            </a:r>
            <a:endParaRPr b="0" i="1" lang="en-US" sz="2800" spc="-1" strike="noStrike">
              <a:solidFill>
                <a:srgbClr val="000000"/>
              </a:solidFill>
              <a:latin typeface="Times New Roman"/>
            </a:endParaRPr>
          </a:p>
        </p:txBody>
      </p:sp>
      <p:sp>
        <p:nvSpPr>
          <p:cNvPr id="4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B2ADA478-365C-4828-B3D4-71E9E13CAD8E}"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5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6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Arial"/>
            </a:endParaRPr>
          </a:p>
        </p:txBody>
      </p:sp>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Benefits of Perfect Competition</a:t>
            </a:r>
            <a:endParaRPr b="0" lang="en-US" sz="4000" spc="-1" strike="noStrike">
              <a:solidFill>
                <a:srgbClr val="000000"/>
              </a:solidFill>
              <a:latin typeface="Kaling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690200"/>
            <a:ext cx="8229600" cy="4435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roducer Surplus</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difference between the amount that producers would be willing to accept for each unit of output and the price they receive when the output is sold</a:t>
            </a:r>
            <a:br>
              <a:rPr sz="2800"/>
            </a:br>
            <a:r>
              <a:rPr b="0" i="1" lang="en-US" sz="2800" spc="-1" strike="noStrike">
                <a:solidFill>
                  <a:srgbClr val="000000"/>
                </a:solidFill>
                <a:latin typeface="Times New Roman"/>
              </a:rPr>
              <a:t> </a:t>
            </a:r>
            <a:endParaRPr b="0" i="1"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Economic Surplus</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summation of consumer surplus and producer surplus</a:t>
            </a:r>
            <a:endParaRPr b="0" i="1" lang="en-US" sz="2800" spc="-1" strike="noStrike">
              <a:solidFill>
                <a:srgbClr val="000000"/>
              </a:solidFill>
              <a:latin typeface="Times New Roman"/>
            </a:endParaRPr>
          </a:p>
        </p:txBody>
      </p:sp>
      <p:sp>
        <p:nvSpPr>
          <p:cNvPr id="4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54B5B481-9028-42B1-8B25-DBF3E507A710}"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6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Arial"/>
            </a:endParaRPr>
          </a:p>
        </p:txBody>
      </p:sp>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Benefits of Perfect Competition</a:t>
            </a:r>
            <a:endParaRPr b="0" lang="en-US" sz="4000" spc="-1" strike="noStrike">
              <a:solidFill>
                <a:srgbClr val="000000"/>
              </a:solidFill>
              <a:latin typeface="Kaling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6T00:16:49Z</dcterms:created>
  <dc:creator>aholowinsky</dc:creator>
  <dc:description/>
  <dc:language>en-US</dc:language>
  <cp:lastModifiedBy>Vince</cp:lastModifiedBy>
  <dcterms:modified xsi:type="dcterms:W3CDTF">2012-09-05T23:08:42Z</dcterms:modified>
  <cp:revision>287</cp:revision>
  <dc:subject/>
  <dc:title>Slide 1</dc:title>
</cp:coreProperties>
</file>