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7DA81-156C-4C9A-8B29-006048A0A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A464A-C86E-4347-93EF-224091D04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D374635-4F0E-4759-9435-4328C0DCAF7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9AD0372-62D4-4C0B-B8EF-E63753FEBCF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A0D06E9-38F3-4908-AD8F-2AC6F45F44C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C6509E7-EA2A-4D8C-BCB1-46894F15C25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0AD9BC0-E1FF-439E-A987-4EA3DD05C41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06585EB-670D-4099-9B2D-C7EE60DF5BD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6A7EC89-B9B0-44A9-92D5-9C4A8CC7D94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8D5E4E0-ABDD-4EDE-A7B5-63F073081D9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278F236-66B6-4ED1-991E-3156C8FFDE9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A800F6B8-75D7-4482-9B75-7379BB8154E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101EB-AF10-4ED4-94DC-7B91E8E57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664A0EB-4305-419F-8DC5-4E031B9B8C1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629CB6D-A740-43CC-8A62-0F7ACF7E685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21EF300-F1D0-4A41-8888-C306A5B53BD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1EA32B1-ED30-430F-A9F4-146C1C844C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839CBAB-7DE1-431E-B19F-8211E937FA1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EBC67E6-60A8-4FC7-93F9-156B8587D40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92DD6FE-6F3C-4D04-B2D7-5674814D15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18DB06E-4442-472E-A412-8DF79FBA219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B7E2B77-EA69-4CA3-B5EB-C0F597E80D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6E469DD-3B27-4BAC-B7FC-F336A37DDEB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E0E7B-8DED-4E9E-8926-6E76B7309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8D3D7E4-A71F-4675-B957-E3BB869DC6D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95911-F68C-4F69-9464-AF524FC20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C326B-650A-4D2C-8B5C-615DA86A4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40E75-7542-45D4-81E2-36DDD7268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70F5B-8508-4ADE-86C3-C706FE196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CDA0B-E796-4D1D-8268-BAE349B46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C5F46-5323-4437-A73E-A4E47DA8B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E257C-26E4-4760-81DC-C4CE3AA8F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4F751-2A8B-405B-ABE2-FE4006D3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D60CD-CFE4-4A47-A000-385FB3C33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B8AC0-6C52-44F3-AB5B-E22B08C70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A4655-8735-48CB-978E-B5206E687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1FC03-5381-4F78-A0FF-08BD1C3DAD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ADC8C-B42C-4302-881A-523F7F603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0851C-6504-4126-895C-F680FEDC0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A06996-7AC8-4ADC-819A-CCE912C979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063DD-65DA-4003-BC4D-55FB73D8BB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D9C47D-DCC6-4957-A476-079DDF73E4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217904-7A49-4FCE-9DA1-CDE053077C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0774-7077-4FAC-BCCD-06255713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6983E0-47C3-4897-8AF4-21A95C901F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EF189-DC91-492D-9B59-10CC3AB772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FD7E3-A731-4F45-89F3-6D3541D2C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C9D31-F08F-4207-AEC2-6CAA061A1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7BA4D-928F-4753-93E6-C6DB9AF36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666D96-2BFF-4C3E-B761-DE2D67D1F0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8A3125-B6BA-44F8-A6B3-88F9A0A3AB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D24792-2392-46D4-B8A2-11C8B131AA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13669-32A2-46EA-95B8-DCBFD50C45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49B4D-33FE-4CE2-9EBB-BBE4E6619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B481-77CC-411F-A476-EF8B6A264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543538-158F-4FCF-88A9-42A3AB98B9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398CB-33AF-46A4-9AE8-A383925A0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79067-7E60-4E8E-B822-06DBB2932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74AE8-D35E-478F-B048-1AC59C2F1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19A7E2-B2D7-4FDE-BF34-F84772566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47378-574E-4299-95F4-787F3004E1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521C0-B5FC-42AF-A8E0-08AD4C616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8C4DBE-0403-4D38-880C-1F2DA50DA9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7331DA-E0F4-4426-AEAD-279C8BB30D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D1CDB9-6082-4465-BCDC-E78FB6FBD2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46C1-F693-4451-B23B-CB7935E28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8F720-2D2E-42EA-87E4-479DAE01B5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3D5751-AEC8-469B-99F5-B4817A5F5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7A2CC-1C13-4278-BEA4-DC80DD7DA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E96EE-C93B-40A4-8A57-15CED0B61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AA5E84-B806-44DF-9805-9A16F46CD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E8524-4E80-410A-8F6A-7DD214BF2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357ED-3981-4465-91AB-A9DE887699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CF182-1B4C-4BE5-AB05-36231069F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DA2F7-1446-4D1F-A03E-7B245740C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D943A1-681F-4EA6-90D1-10C31484FB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A16F2-07E9-44E8-934D-B029DF402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D3F6B5-91B7-4634-8960-F1368E2194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00ACAAC-9266-47A1-809E-F876C3C528C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8F1D936-CC22-410A-A0D1-079CD1F6DD1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32AB670-C262-488E-9167-D87921B31B5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7872A6-8B24-4EB5-BD45-5246625E25E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3C40E6D-A391-4FAA-823E-C84F6785AD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01F7975-CB29-49A6-B03D-806395492AA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833B50-BF8F-48EF-A78D-F0FE2DCF6A5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CAAA02-0709-4945-846A-624A9312155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BD7F5A-5421-4D2A-B466-7F0E7994FB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06B87-D7D9-4389-AEA5-A4824FFF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C4158F-5821-4B8A-8FB5-DF70AC36445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62A1CE9-7420-47B9-B9CF-5EB1763FDEF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B0A9074-57FF-4D46-98B0-80572928D3F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9475058-1DA7-4805-AA38-10CE81B8CA2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73AB5D1-D98D-49B5-A60F-6D5B0A2F793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71F22F-45F7-4FC6-A73A-C9B2D740828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C16B845-86AC-4819-B23E-A81E39557BF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36212E6-3F16-48D8-B921-DF6E2B717A4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0D041CD-7999-4125-9902-C574BADCEB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521D234-A328-462E-B69E-5CDEE6CF42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B69E9-D65C-4957-8200-B9E5B2646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F6A8FF1-90BB-4014-A5A1-B3E73CEBDFD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84A25EF-F962-41E6-8FA6-63CABFFBAE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307476F-FBA0-48E7-9C4D-C9CF98CEDF6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42D8848-1038-440B-90A8-B6B0AFC6B51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CF4C647-47AC-404C-8DB6-CDEC175FB6A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8829DB5-9861-4218-841A-2B03C11972C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155A4B4-79A0-442A-80D2-0DF1FFBC61A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B6D78A0-7BAD-4E3F-AAB1-CF8FA78C150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972162D-9C60-45CD-83D4-A63C7DA4B5B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DFC4A1D-6368-4BD0-B308-B740170C8E2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B8357-DE2B-4F97-9627-D3F3637CB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D2874E4-5D27-4610-9927-E58579CA45F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11AF48B-A01D-4F05-8BD5-A10D5755A28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AFFF9E5-9D7A-4710-89F7-E6C365EFD45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623EAB5-559B-42A8-82DB-68D2178328D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7504313-923C-4190-B94D-74F45892178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52FBE57-9CEE-410E-92B0-C0DCBAC5402A}"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6074C8E-A26D-44EA-9C78-BD1976C22A8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EF5C8E6-8A9B-4ACF-938E-15CA16FBC2B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4189D90-AFFB-42BC-8366-550F8D1C0B3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6AA4D4B-56FB-44D5-8B40-27EB403F064E}"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B51272E-1680-46E4-B2F8-498E9CFA10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7CF643A-A63C-4369-AF0D-1189BCCE3AF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F463825A-70CA-4EE8-8982-242D8CAE45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F6931DCB-2A48-4D25-98AE-78FEE9D3DB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F45E6D8D-EF7D-4651-9346-CF7CA961C4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13BA87DC-06F1-4FD9-956F-DE034CF321D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7B28BA89-998F-400A-BC1B-74AED1E1D2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3B582C5-443D-4606-9FA3-243EE1387B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An Evaluation of </a:t>
            </a:r>
            <a:br>
              <a:rPr sz="4800"/>
            </a:br>
            <a:r>
              <a:rPr b="1" lang="en-US" sz="4800" spc="-1" strike="noStrike">
                <a:solidFill>
                  <a:srgbClr val="77933c"/>
                </a:solidFill>
                <a:latin typeface="Kalinga"/>
                <a:ea typeface="Kalinga"/>
              </a:rPr>
              <a:t>Competitive Markets</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9</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1</a:t>
            </a:r>
            <a:endParaRPr b="0" lang="en-US" sz="1200" spc="-1" strike="noStrike">
              <a:solidFill>
                <a:srgbClr val="000000"/>
              </a:solidFill>
              <a:latin typeface="Arial"/>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C305D8FC-6153-48F0-A351-F0FCACCD984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0" name="TextBox 7"/>
          <p:cNvSpPr/>
          <p:nvPr/>
        </p:nvSpPr>
        <p:spPr>
          <a:xfrm>
            <a:off x="488880" y="52941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long run, perfectly competitive markets achieve productive and allocative efficiency, and mazimize economic surplus </a:t>
            </a:r>
            <a:endParaRPr b="0" lang="en-US" sz="2400" spc="-1" strike="noStrike">
              <a:solidFill>
                <a:srgbClr val="000000"/>
              </a:solidFill>
              <a:latin typeface="Arial"/>
            </a:endParaRPr>
          </a:p>
        </p:txBody>
      </p:sp>
      <p:pic>
        <p:nvPicPr>
          <p:cNvPr id="471" name="Picture 2" descr="ftp://ftp.eppg.com/Sayre%20Micro%20images/Chapter%209/SAYRE-MICRO-9-F9-4.jpg"/>
          <p:cNvPicPr/>
          <p:nvPr/>
        </p:nvPicPr>
        <p:blipFill>
          <a:blip r:embed="rId1"/>
          <a:stretch/>
        </p:blipFill>
        <p:spPr>
          <a:xfrm>
            <a:off x="0" y="623880"/>
            <a:ext cx="9144000" cy="4405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Four Strengths of a Competitive Market</a:t>
            </a:r>
            <a:br>
              <a:rPr sz="3200"/>
            </a:br>
            <a:endParaRPr b="0" lang="en-US" sz="3200" spc="-1" strike="noStrike">
              <a:solidFill>
                <a:srgbClr val="000000"/>
              </a:solidFill>
              <a:latin typeface="Kalinga"/>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ximizes economic surplus because both productive and allocative efficiency is achieved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this automatically (is costless)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innovatio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motes economic freedom</a:t>
            </a:r>
            <a:endParaRPr b="0" i="1" lang="en-US" sz="2800" spc="-1" strike="noStrike">
              <a:solidFill>
                <a:srgbClr val="000000"/>
              </a:solidFill>
              <a:latin typeface="Times New Roman"/>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B9267432-3B3A-47B2-A57C-B312DB5F2311}"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7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erfect Competition</a:t>
            </a:r>
            <a:endParaRPr b="0" lang="en-US" sz="4400" spc="-1" strike="noStrike">
              <a:solidFill>
                <a:srgbClr val="000000"/>
              </a:solidFill>
              <a:latin typeface="Kaling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BD435201-F9A7-414D-9970-F3F6018BA77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0" name="Rectangle 3"/>
          <p:cNvSpPr/>
          <p:nvPr/>
        </p:nvSpPr>
        <p:spPr>
          <a:xfrm>
            <a:off x="457200" y="1265400"/>
            <a:ext cx="845820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1"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82"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36100A63-56D6-41F0-A052-9A37569B9A58}"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6" name="Rectangle 3"/>
          <p:cNvSpPr/>
          <p:nvPr/>
        </p:nvSpPr>
        <p:spPr>
          <a:xfrm>
            <a:off x="893880" y="1265400"/>
            <a:ext cx="802152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7"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88" name="TextBox 6"/>
          <p:cNvSpPr/>
          <p:nvPr/>
        </p:nvSpPr>
        <p:spPr>
          <a:xfrm>
            <a:off x="985680" y="5506920"/>
            <a:ext cx="718344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roductively efficient output:  Q</a:t>
            </a:r>
            <a:r>
              <a:rPr b="0" i="1" lang="en-GB" sz="2400" spc="-1" strike="noStrike" baseline="-25000">
                <a:solidFill>
                  <a:srgbClr val="ff0000"/>
                </a:solidFill>
                <a:latin typeface="Times New Roman"/>
              </a:rPr>
              <a:t>1 </a:t>
            </a:r>
            <a:r>
              <a:rPr b="0" i="1" lang="en-GB" sz="2400" spc="-1" strike="noStrike">
                <a:solidFill>
                  <a:srgbClr val="ff0000"/>
                </a:solidFill>
                <a:latin typeface="Times New Roman"/>
              </a:rPr>
              <a:t>(where P = lowest A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Allocatively efficient output:  Q</a:t>
            </a:r>
            <a:r>
              <a:rPr b="0" i="1" lang="en-GB" sz="2400" spc="-1" strike="noStrike" baseline="-25000">
                <a:solidFill>
                  <a:srgbClr val="ff0000"/>
                </a:solidFill>
                <a:latin typeface="Times New Roman"/>
              </a:rPr>
              <a:t>2</a:t>
            </a:r>
            <a:r>
              <a:rPr b="0" i="1" lang="en-GB" sz="2400" spc="-1" strike="noStrike">
                <a:solidFill>
                  <a:srgbClr val="ff0000"/>
                </a:solidFill>
                <a:latin typeface="Times New Roman"/>
              </a:rPr>
              <a:t> (where P = MC)</a:t>
            </a:r>
            <a:endParaRPr b="0" lang="en-US" sz="2400" spc="-1" strike="noStrike">
              <a:solidFill>
                <a:srgbClr val="000000"/>
              </a:solidFill>
              <a:latin typeface="Arial"/>
            </a:endParaRPr>
          </a:p>
        </p:txBody>
      </p:sp>
      <p:pic>
        <p:nvPicPr>
          <p:cNvPr id="489"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7933c"/>
                </a:solidFill>
                <a:latin typeface="Kalinga"/>
              </a:rPr>
              <a:t>An Evaluation of Competitive Markets</a:t>
            </a:r>
            <a:endParaRPr b="0" lang="en-US" sz="29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1:  Explain how perfectly competitive markets encourage technological improvement and growth in the size of firm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2:  Explain the benefits of perfectly competitive market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3:  Understand the five reasons why perfect competition might fail to achieve desirable results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4:  Understand how governments try to deal with external costs, such as pollution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5:  Understand how governments try to deal with external benefits, such as education</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9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1A9D662C-C648-488D-9BCF-5DC0ABDFD1DB}"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849320"/>
            <a:ext cx="8229600" cy="427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Laissez-fair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conomic doctrine that holds that an economy works best with the minimum amount of government intervention</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33F12C0D-7824-4E92-B08D-658C6CEB814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mpetitive Markets</a:t>
            </a:r>
            <a:endParaRPr b="0" lang="en-US" sz="4400" spc="-1" strike="noStrike">
              <a:solidFill>
                <a:srgbClr val="000000"/>
              </a:solidFill>
              <a:latin typeface="Kaling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D9749CCA-6675-450F-984E-03F5F9ABC9C5}"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0" name="Picture 4" descr="ftp://ftp.eppg.com/Sayre%20Micro%20images/Chapter%209/SAYRE-MICRO-9-F9-2.jpg"/>
          <p:cNvPicPr/>
          <p:nvPr/>
        </p:nvPicPr>
        <p:blipFill>
          <a:blip r:embed="rId1"/>
          <a:stretch/>
        </p:blipFill>
        <p:spPr>
          <a:xfrm>
            <a:off x="0" y="844560"/>
            <a:ext cx="9148680" cy="4716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FDF03282-AEA4-4158-B120-2D0BA60A7CAE}"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4" name="Picture 2" descr="ftp://ftp.eppg.com/Sayre%20Micro%20images/Chapter%209/SAYRE-MICRO-9-F9-3.jpg"/>
          <p:cNvPicPr/>
          <p:nvPr/>
        </p:nvPicPr>
        <p:blipFill>
          <a:blip r:embed="rId1"/>
          <a:stretch/>
        </p:blipFill>
        <p:spPr>
          <a:xfrm>
            <a:off x="0" y="852480"/>
            <a:ext cx="9144000" cy="4203720"/>
          </a:xfrm>
          <a:prstGeom prst="rect">
            <a:avLst/>
          </a:prstGeom>
          <a:ln w="0">
            <a:noFill/>
          </a:ln>
        </p:spPr>
      </p:pic>
      <p:sp>
        <p:nvSpPr>
          <p:cNvPr id="445" name="TextBox 7"/>
          <p:cNvSpPr/>
          <p:nvPr/>
        </p:nvSpPr>
        <p:spPr>
          <a:xfrm>
            <a:off x="787320" y="5284800"/>
            <a:ext cx="781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long run, in perfectly competitive markets, equilibrium price will be equal to LR and SR average costs (at their minimums) and also to MC </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B46C3CF1-CF5A-4A13-B538-D467A3CC359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9"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C6E426D9-329F-494E-9EE9-C66ABFA6B8A9}"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54"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56" name="TextBox 10"/>
          <p:cNvSpPr/>
          <p:nvPr/>
        </p:nvSpPr>
        <p:spPr>
          <a:xfrm>
            <a:off x="903240" y="2478240"/>
            <a:ext cx="732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If a firm is suffering diseconomies of scale, it is operating at a scale too large for this type of industry and is therefore experiencing high average costs (brought about by the high bureaucratic costs associated with big corporations). It could produce at lower average costs if it could reduce the size of its operations.</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690200"/>
            <a:ext cx="8229600" cy="4435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on of an output at the lowest possible average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ve efficiency i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inimum AC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lloca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llocation of resources to the goods and services that society values most</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ocative efficiency occur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C</a:t>
            </a:r>
            <a:endParaRPr b="0" i="1" lang="en-US" sz="2800" spc="-1" strike="noStrike">
              <a:solidFill>
                <a:srgbClr val="000000"/>
              </a:solidFill>
              <a:latin typeface="Times New Roman"/>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0780C27E-3A49-4081-901F-73664223DFC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90200"/>
            <a:ext cx="8229600" cy="44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er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ifference between the amount that producers would be willing to accept for each unit of output and the price they receive when the output is sold</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Economic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ummation of consumer surplus and producer surplus</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461C1D42-495C-47F5-BFE2-09300D76E0D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Vince</cp:lastModifiedBy>
  <dcterms:modified xsi:type="dcterms:W3CDTF">2012-09-05T23:08:42Z</dcterms:modified>
  <cp:revision>287</cp:revision>
  <dc:subject/>
  <dc:title>Slide 1</dc:title>
</cp:coreProperties>
</file>