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51AE8-B001-4CF0-AC9E-CFD6E135E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0288C-D567-4D5C-85BC-5F98DF97F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DC0A6EB-A09F-443B-8B43-FF99E7BDF15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165EF39-884E-40DF-951B-75E38FF9273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A37B7F8-6BD3-484A-A912-5C9F895F725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194F777-4A87-4845-BBF2-5CCDF2DCA11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E6678DC-9BB0-42EE-A8F6-5CE2A939ED7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FEFE351-88E5-432D-84E8-61F2793D2F1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FE47D1D-5B96-4B60-8E9C-8268FF0C43B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FBFDCDF3-DCE8-4A37-A7CD-069F254E46EF}"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52153D8-2354-48A1-A45F-BEBBE884F555}"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63FBD583-3D80-4DF6-AC1B-8361616BAA2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DB1A3-89DF-4C02-8C76-AE8706B00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478D622-DE91-4DCA-8896-F76CE202DC8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EA3AC2F-6DEE-4740-AC85-F07FA4109FA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DB6C18E-0D83-453D-84A2-65A2509C8EE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8AB14AA-7280-4D6C-9D50-C920442B423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117B127-552B-41B4-AD12-7FEB5528D42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465BEAE-5875-499D-AACF-C293058487D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376DEF4-2AA6-4544-8446-230A8E62207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FCC4C96-2A53-4E31-A35D-8EDB752976A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14C5182-FC44-4AD7-BB49-4A864DF9A72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BF86F90B-B8A2-4985-AA31-DD6685FB26B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95BB9-1A7B-4F8C-9D3A-112D26743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A8E796D5-1FD8-4E19-BB5A-C487941CE16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217823-BECB-4CFC-AF15-9C009F9956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BE63F-CA97-4987-AA9F-E7E8195DAF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2A44E-D868-4F9F-B460-59A65E19C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CC4CA-2B5F-401B-8DFA-1DD02D342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336EC-CC8D-4589-BE21-FF6ED959F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1795D-9D4F-49AE-89EE-DCC80398C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97CAE-17B6-4DC6-B458-FB406ACB1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10499-A334-45AB-8D00-FCB002EB5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0C2CD-5B51-4F56-8D50-CE7F3B999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46D8D-8B31-4BFC-8237-1E046D10B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E4F5B-0F0B-4C04-90E0-73970D360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CEDE07-D2E3-434D-96DB-0A2B4973AF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51C568-E6FA-4610-BBAE-36E5DDEE4D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C884B8-C655-4DB1-BDCB-2FFEDBF0B9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B9B89E-B12E-4C64-B0C7-788F9D969F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049E85-A8E3-43D7-B81C-4E92ED8B62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62EC57-483A-4328-AB3D-6A2A8058F4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27BDD1-7C2D-48DA-A07A-3B739DE8A3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C4580-E069-4351-A48C-0E707FECB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79D468-41CB-433E-9F4D-A5B59EC5E2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77426E-FBBF-4087-935F-AAFC36C1A4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F016E0-9B57-497D-AB94-081BE0E1AA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06F492-9453-4442-B1FF-C520A7093F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BAE991-57D2-4841-9A83-81DE326628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C9A01E-0482-4F6B-8DFF-7408F4D93E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3464D1-BF1F-499A-805E-30197BE33D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CD33C6-CA35-4847-B3EF-30503C9B7A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6AB574-A13F-419E-897F-4FA5A807E4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A71998-52A1-4095-A740-A63BB22965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548FF-D174-43E3-9527-8BD81A312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01721D-E65D-4D8C-87BB-A07FC22D37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D500AB-0D93-4389-BD24-A5A122AB9E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BCB80E-5347-4923-9068-83F4EFB583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AD0A51-3950-40EB-9797-0EE77FD5FF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A3049F-4C23-4A6F-8628-DAC2E6AA64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9BBA6D-5A40-41E6-9F3A-9D6257D981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5A169B-F13D-4FBF-BBDE-99ACA58DA7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259377-75F4-4732-B312-4801FADA1F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1049FD-95EA-4AD1-A59A-92B26A46E9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0FD48C-4514-4A02-AFE9-B83D8E9985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6AB64-7293-4875-8153-9C5322DD0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77018B-80EE-4477-9867-4DAF464D82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30019F-1A63-42F7-89F8-74D2F910D5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0C3B18-C061-4D99-B4AD-B402658A86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60010A-03D1-41CC-9500-2F37616CD5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3F6E35-7248-4A58-BABA-EF0908FB05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4B5148-0F87-4EF8-AC41-99BE3361B4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B75BD7-0BF5-420A-972F-3C5180E845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BB9E9F-001C-465A-A558-52003BFAF2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B64FAE-28AE-4DC3-9BE0-BF4108173F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F3F6E4-36E8-486E-90F6-F52ED9663A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4F3E2-E9A2-4812-A59C-00A22B33E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2A4C41-B202-4A2A-B8DB-07FFF2C77E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B532474-6E9E-49B5-859A-A5D9CDA057F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D73D962-8FA4-493C-ADE2-01415CD2015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1CD016D-BE24-4D9C-AA14-A073F29DCBD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0C5FBF4-3F62-4D93-B36B-CDECD029CCB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046ADF5-C5F5-442A-9E8A-78A4BA4818A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D3DE640-299E-41B0-B1C1-A661014EA70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8E74A09-6C62-45F0-B101-8D69F6BD81A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7964F74-DD84-4E63-96BD-2FDDD06F4AB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30A1133-AE99-4F9D-8AF0-1B2DFEF91D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8898A-31C4-4996-8DF0-D15EC7377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B3F961F-133F-48B9-A6B6-326AE7BB06B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ECFC4A1-156F-435D-A3E9-98D8C890246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98C2C24-BE76-4926-8E97-4E0B7FB19E2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819616E-F197-4417-97D6-3ED6884072E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D4A94CB-48B6-4E7F-B8C2-C504BB82923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88DD9D3-3023-4E0B-8C96-CA60B25CC83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99934F5-7F7E-4E4C-A9CD-7B47359D35C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6C268FC-28CA-4058-BCBB-B91E7D3491A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930A33D-73C9-44DB-BBD3-F16E2D71840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619489A-C7C9-40F1-96DB-CF1670EEA4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DCBF5-37D3-47D8-9C18-D1EADBC21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6713ACD-DA74-43D3-8A87-E3EE52AC5E5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788CC32-8B31-47CA-ABE2-E17AD230C6A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895A89B-3898-4F51-BE71-822E706ABE3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80AA69D-5CC0-4D87-B884-3E2B1418940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8528599-C664-4E33-82AF-7F06CC33E9A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ABE307E-D6C5-4F65-87F8-457FBA3235D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FA7C165-ADD3-47D6-9338-F5AFFF83325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EE8386F-1BB0-4642-BFC8-259C601DF82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F4D98CF-EDB4-4B2C-B1A7-FFA42145407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9DB08F8-1146-4804-9D75-455EE9607EC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02439-0064-4AF0-B7EC-F7D436850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B9D2D75-A87A-4E4C-B02F-1D95E4D2C15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535B9A5-D10D-4228-9CF1-62CBBD9CD47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9732B33-AC90-4E41-B50A-948926B581F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9D674D4-CA5F-4625-ADA7-A8EEEAE85B5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CF925BF-1ED8-4D2D-AFF9-46A1727F673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90BBEFC-0FAB-48FA-A7D6-C01AF119C55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BB92EC7-E1F1-4AC0-91CE-DAB834D1220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05650A55-71ED-4447-B26D-C6388239CAD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39DDB47-FE71-472C-A4EF-8E9E909C12A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935DA86-AA65-4EA8-8023-0AC1E134895F}"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 name="PlaceHolder 3"/>
          <p:cNvSpPr>
            <a:spLocks noGrp="1"/>
          </p:cNvSpPr>
          <p:nvPr>
            <p:ph type="dt" idx="1"/>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84" name="PlaceHolder 3"/>
          <p:cNvSpPr>
            <a:spLocks noGrp="1"/>
          </p:cNvSpPr>
          <p:nvPr>
            <p:ph type="dt" idx="26"/>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86"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41F77025-FB05-478F-93E5-EC5371A60E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aholowinsky\Documents\McGrawHill\Sayre_MICRO_0070385467_72dpi.jpg"/>
          <p:cNvPicPr/>
          <p:nvPr/>
        </p:nvPicPr>
        <p:blipFill>
          <a:blip r:embed="rId2"/>
          <a:srcRect l="329" t="8890" r="0" b="76669"/>
          <a:stretch/>
        </p:blipFill>
        <p:spPr>
          <a:xfrm>
            <a:off x="3048120" y="838080"/>
            <a:ext cx="4038480" cy="695520"/>
          </a:xfrm>
          <a:prstGeom prst="rect">
            <a:avLst/>
          </a:prstGeom>
          <a:ln w="0">
            <a:noFill/>
          </a:ln>
        </p:spPr>
      </p:pic>
      <p:pic>
        <p:nvPicPr>
          <p:cNvPr id="42" name="Picture 2" descr="C:\Users\aholowinsky\Documents\McGrawHill\Sayre_MICRO_0070385467_72dpi.jpg"/>
          <p:cNvPicPr/>
          <p:nvPr/>
        </p:nvPicPr>
        <p:blipFill>
          <a:blip r:embed="rId3"/>
          <a:srcRect l="329" t="32673" r="0" b="12287"/>
          <a:stretch/>
        </p:blipFill>
        <p:spPr>
          <a:xfrm>
            <a:off x="0" y="533520"/>
            <a:ext cx="2590920" cy="1682640"/>
          </a:xfrm>
          <a:prstGeom prst="rect">
            <a:avLst/>
          </a:prstGeom>
          <a:ln w="0">
            <a:noFill/>
          </a:ln>
        </p:spPr>
      </p:pic>
      <p:sp>
        <p:nvSpPr>
          <p:cNvPr id="43" name="Straight Connector 9"/>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Straight Connector 10"/>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5" name="TextBox 11"/>
          <p:cNvSpPr/>
          <p:nvPr/>
        </p:nvSpPr>
        <p:spPr>
          <a:xfrm>
            <a:off x="5562720" y="1828800"/>
            <a:ext cx="2931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7933c"/>
                </a:solidFill>
                <a:latin typeface="Kalinga"/>
                <a:ea typeface="Kalinga"/>
              </a:rPr>
              <a:t>SAYRE  |  MORRIS      </a:t>
            </a:r>
            <a:r>
              <a:rPr b="1" lang="en-US" sz="1100" spc="-1" strike="noStrike">
                <a:solidFill>
                  <a:srgbClr val="fa4160"/>
                </a:solidFill>
                <a:latin typeface="Kalinga"/>
                <a:ea typeface="Kalinga"/>
              </a:rPr>
              <a:t>Seventh Edition </a:t>
            </a:r>
            <a:endParaRPr b="0" lang="en-US" sz="11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48" name="PlaceHolder 3"/>
          <p:cNvSpPr>
            <a:spLocks noGrp="1"/>
          </p:cNvSpPr>
          <p:nvPr>
            <p:ph type="dt" idx="4"/>
          </p:nvPr>
        </p:nvSpPr>
        <p:spPr>
          <a:xfrm>
            <a:off x="456840" y="6356520"/>
            <a:ext cx="2584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88"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0" name="TextBox 17"/>
          <p:cNvSpPr/>
          <p:nvPr/>
        </p:nvSpPr>
        <p:spPr>
          <a:xfrm>
            <a:off x="468360" y="2392200"/>
            <a:ext cx="479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arning Objectives: </a:t>
            </a:r>
            <a:endParaRPr b="0" lang="en-US" sz="28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93" name="PlaceHolder 3"/>
          <p:cNvSpPr>
            <a:spLocks noGrp="1"/>
          </p:cNvSpPr>
          <p:nvPr>
            <p:ph type="dt" idx="7"/>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6CB4B79B-C3A7-4F06-A9FD-B660C32167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133"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37" name="PlaceHolder 3"/>
          <p:cNvSpPr>
            <a:spLocks noGrp="1"/>
          </p:cNvSpPr>
          <p:nvPr>
            <p:ph type="dt" idx="10"/>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3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A7E5DBE0-8C45-43B7-9820-12A9DFB52B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2" descr="C:\Users\aholowinsky\Documents\McGrawHill\Sayre_MICRO_0070385467_72dpi.jpg"/>
          <p:cNvPicPr/>
          <p:nvPr/>
        </p:nvPicPr>
        <p:blipFill>
          <a:blip r:embed="rId2"/>
          <a:srcRect l="329" t="32673" r="0" b="12287"/>
          <a:stretch/>
        </p:blipFill>
        <p:spPr>
          <a:xfrm>
            <a:off x="0" y="1987560"/>
            <a:ext cx="3859200" cy="2595600"/>
          </a:xfrm>
          <a:prstGeom prst="rect">
            <a:avLst/>
          </a:prstGeom>
          <a:ln w="0">
            <a:noFill/>
          </a:ln>
        </p:spPr>
      </p:pic>
      <p:sp>
        <p:nvSpPr>
          <p:cNvPr id="177" name="Straight Connector 9"/>
          <p:cNvSpPr/>
          <p:nvPr/>
        </p:nvSpPr>
        <p:spPr>
          <a:xfrm>
            <a:off x="0" y="198612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10"/>
          <p:cNvSpPr/>
          <p:nvPr/>
        </p:nvSpPr>
        <p:spPr>
          <a:xfrm>
            <a:off x="0" y="4591080"/>
            <a:ext cx="9144000" cy="7920"/>
          </a:xfrm>
          <a:prstGeom prst="line">
            <a:avLst/>
          </a:prstGeom>
          <a:ln w="25560">
            <a:solidFill>
              <a:srgbClr val="77933c"/>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81" name="PlaceHolder 3"/>
          <p:cNvSpPr>
            <a:spLocks noGrp="1"/>
          </p:cNvSpPr>
          <p:nvPr>
            <p:ph type="dt" idx="1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8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881DA589-5DB0-4313-BD41-52B7215CF6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22"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23"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E0D66C6B-7E47-4F3C-90BF-7C4EAA4C48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62" name="PlaceHolder 3"/>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63" name="PlaceHolder 4"/>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4FE8FFB3-A39D-4BC7-AFEF-377481F35C9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02" name="PlaceHolder 3"/>
          <p:cNvSpPr>
            <a:spLocks noGrp="1"/>
          </p:cNvSpPr>
          <p:nvPr>
            <p:ph type="dt" idx="20"/>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04"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B08B835F-41F2-48E3-8720-99C8F03232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43" name="PlaceHolder 3"/>
          <p:cNvSpPr>
            <a:spLocks noGrp="1"/>
          </p:cNvSpPr>
          <p:nvPr>
            <p:ph type="dt" idx="2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45"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C63FCEE9-57A7-47E3-B8B2-6F71103DC87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285720"/>
            <a:ext cx="7772400" cy="21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7933c"/>
                </a:solidFill>
                <a:latin typeface="Kalinga"/>
                <a:ea typeface="Kalinga"/>
              </a:rPr>
              <a:t>An Evaluation of </a:t>
            </a:r>
            <a:br>
              <a:rPr sz="4800"/>
            </a:br>
            <a:r>
              <a:rPr b="1" lang="en-US" sz="4800" spc="-1" strike="noStrike">
                <a:solidFill>
                  <a:srgbClr val="77933c"/>
                </a:solidFill>
                <a:latin typeface="Kalinga"/>
                <a:ea typeface="Kalinga"/>
              </a:rPr>
              <a:t>Competitive Markets</a:t>
            </a:r>
            <a:endParaRPr b="0" lang="en-US" sz="4800" spc="-1" strike="noStrike">
              <a:solidFill>
                <a:srgbClr val="000000"/>
              </a:solidFill>
              <a:latin typeface="Kalinga"/>
            </a:endParaRPr>
          </a:p>
        </p:txBody>
      </p:sp>
      <p:sp>
        <p:nvSpPr>
          <p:cNvPr id="424" name="PlaceHolder 2"/>
          <p:cNvSpPr>
            <a:spLocks noGrp="1"/>
          </p:cNvSpPr>
          <p:nvPr>
            <p:ph type="subTitle"/>
          </p:nvPr>
        </p:nvSpPr>
        <p:spPr>
          <a:xfrm>
            <a:off x="1371600" y="2817720"/>
            <a:ext cx="6400800" cy="4572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CHAPTER 9</a:t>
            </a:r>
            <a:endParaRPr b="0" lang="en-US" sz="2000" spc="-1" strike="noStrike">
              <a:solidFill>
                <a:srgbClr val="000000"/>
              </a:solidFill>
              <a:latin typeface="Kalinga"/>
            </a:endParaRPr>
          </a:p>
        </p:txBody>
      </p:sp>
      <p:sp>
        <p:nvSpPr>
          <p:cNvPr id="4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1</a:t>
            </a:r>
            <a:endParaRPr b="0" lang="en-US" sz="1200" spc="-1" strike="noStrike">
              <a:solidFill>
                <a:srgbClr val="000000"/>
              </a:solidFill>
              <a:latin typeface="Arial"/>
            </a:endParaRPr>
          </a:p>
        </p:txBody>
      </p:sp>
      <p:sp>
        <p:nvSpPr>
          <p:cNvPr id="4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595AA0F0-78BF-4536-9259-08690643757C}"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69"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Arial"/>
            </a:endParaRPr>
          </a:p>
        </p:txBody>
      </p:sp>
      <p:sp>
        <p:nvSpPr>
          <p:cNvPr id="470" name="TextBox 7"/>
          <p:cNvSpPr/>
          <p:nvPr/>
        </p:nvSpPr>
        <p:spPr>
          <a:xfrm>
            <a:off x="488880" y="529416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the long run, perfectly competitive markets achieve productive and allocative efficiency, and mazimize economic surplus </a:t>
            </a:r>
            <a:endParaRPr b="0" lang="en-US" sz="2400" spc="-1" strike="noStrike">
              <a:solidFill>
                <a:srgbClr val="000000"/>
              </a:solidFill>
              <a:latin typeface="Arial"/>
            </a:endParaRPr>
          </a:p>
        </p:txBody>
      </p:sp>
      <p:pic>
        <p:nvPicPr>
          <p:cNvPr id="471" name="Picture 2" descr="ftp://ftp.eppg.com/Sayre%20Micro%20images/Chapter%209/SAYRE-MICRO-9-F9-4.jpg"/>
          <p:cNvPicPr/>
          <p:nvPr/>
        </p:nvPicPr>
        <p:blipFill>
          <a:blip r:embed="rId1"/>
          <a:stretch/>
        </p:blipFill>
        <p:spPr>
          <a:xfrm>
            <a:off x="0" y="623880"/>
            <a:ext cx="9144000" cy="4405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57200" y="1828440"/>
            <a:ext cx="8229600" cy="4297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Four Strengths of a Competitive Market</a:t>
            </a:r>
            <a:br>
              <a:rPr sz="3200"/>
            </a:br>
            <a:endParaRPr b="0" lang="en-US" sz="3200" spc="-1" strike="noStrike">
              <a:solidFill>
                <a:srgbClr val="000000"/>
              </a:solidFill>
              <a:latin typeface="Kalinga"/>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ximizes economic surplus because both productive and allocative efficiency is achieved </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es this automatically (is costless) </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courages innovation</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motes economic freedom</a:t>
            </a:r>
            <a:endParaRPr b="0" i="1" lang="en-US" sz="2800" spc="-1" strike="noStrike">
              <a:solidFill>
                <a:srgbClr val="000000"/>
              </a:solidFill>
              <a:latin typeface="Times New Roman"/>
            </a:endParaRPr>
          </a:p>
        </p:txBody>
      </p:sp>
      <p:sp>
        <p:nvSpPr>
          <p:cNvPr id="4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C54FC15B-E6C2-46EB-99FC-AC283ACD2F8C}"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7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7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Arial"/>
            </a:endParaRPr>
          </a:p>
        </p:txBody>
      </p:sp>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Perfect Competition</a:t>
            </a:r>
            <a:endParaRPr b="0" lang="en-US" sz="4400" spc="-1" strike="noStrike">
              <a:solidFill>
                <a:srgbClr val="000000"/>
              </a:solidFill>
              <a:latin typeface="Kaling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E98B3860-0331-489B-8C06-F666CD779DC7}"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7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80" name="Rectangle 3"/>
          <p:cNvSpPr/>
          <p:nvPr/>
        </p:nvSpPr>
        <p:spPr>
          <a:xfrm>
            <a:off x="457200" y="1265400"/>
            <a:ext cx="8458200" cy="513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following grap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what output(s) is the firm productively effic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what output(s) is the firm allocatively effic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81"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pic>
        <p:nvPicPr>
          <p:cNvPr id="482" name="Picture 2" descr="ftp://ftp.eppg.com/Sayre%20Micro%20images/Chapter%209/SAYRE-MICRO-9-p276.jpg"/>
          <p:cNvPicPr/>
          <p:nvPr/>
        </p:nvPicPr>
        <p:blipFill>
          <a:blip r:embed="rId1"/>
          <a:stretch/>
        </p:blipFill>
        <p:spPr>
          <a:xfrm>
            <a:off x="2498760" y="2523960"/>
            <a:ext cx="4170240" cy="29530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B1DC99BD-9D81-40EE-AA84-D6249A8BBEBD}"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8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86" name="Rectangle 3"/>
          <p:cNvSpPr/>
          <p:nvPr/>
        </p:nvSpPr>
        <p:spPr>
          <a:xfrm>
            <a:off x="893880" y="1265400"/>
            <a:ext cx="8021520" cy="513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following grap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what output(s) is the firm productively effic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what output(s) is the firm allocatively effic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87"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sp>
        <p:nvSpPr>
          <p:cNvPr id="488" name="TextBox 6"/>
          <p:cNvSpPr/>
          <p:nvPr/>
        </p:nvSpPr>
        <p:spPr>
          <a:xfrm>
            <a:off x="985680" y="5506920"/>
            <a:ext cx="718344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Productively efficient output:  Q</a:t>
            </a:r>
            <a:r>
              <a:rPr b="0" i="1" lang="en-GB" sz="2400" spc="-1" strike="noStrike" baseline="-25000">
                <a:solidFill>
                  <a:srgbClr val="ff0000"/>
                </a:solidFill>
                <a:latin typeface="Times New Roman"/>
              </a:rPr>
              <a:t>1 </a:t>
            </a:r>
            <a:r>
              <a:rPr b="0" i="1" lang="en-GB" sz="2400" spc="-1" strike="noStrike">
                <a:solidFill>
                  <a:srgbClr val="ff0000"/>
                </a:solidFill>
                <a:latin typeface="Times New Roman"/>
              </a:rPr>
              <a:t>(where P = lowest A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Allocatively efficient output:  Q</a:t>
            </a:r>
            <a:r>
              <a:rPr b="0" i="1" lang="en-GB" sz="2400" spc="-1" strike="noStrike" baseline="-25000">
                <a:solidFill>
                  <a:srgbClr val="ff0000"/>
                </a:solidFill>
                <a:latin typeface="Times New Roman"/>
              </a:rPr>
              <a:t>2</a:t>
            </a:r>
            <a:r>
              <a:rPr b="0" i="1" lang="en-GB" sz="2400" spc="-1" strike="noStrike">
                <a:solidFill>
                  <a:srgbClr val="ff0000"/>
                </a:solidFill>
                <a:latin typeface="Times New Roman"/>
              </a:rPr>
              <a:t> (where P = MC)</a:t>
            </a:r>
            <a:endParaRPr b="0" lang="en-US" sz="2400" spc="-1" strike="noStrike">
              <a:solidFill>
                <a:srgbClr val="000000"/>
              </a:solidFill>
              <a:latin typeface="Arial"/>
            </a:endParaRPr>
          </a:p>
        </p:txBody>
      </p:sp>
      <p:pic>
        <p:nvPicPr>
          <p:cNvPr id="489" name="Picture 2" descr="ftp://ftp.eppg.com/Sayre%20Micro%20images/Chapter%209/SAYRE-MICRO-9-p276.jpg"/>
          <p:cNvPicPr/>
          <p:nvPr/>
        </p:nvPicPr>
        <p:blipFill>
          <a:blip r:embed="rId1"/>
          <a:stretch/>
        </p:blipFill>
        <p:spPr>
          <a:xfrm>
            <a:off x="2498760" y="2523960"/>
            <a:ext cx="4170240" cy="29530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7933c"/>
                </a:solidFill>
                <a:latin typeface="Kalinga"/>
              </a:rPr>
              <a:t>An Evaluation of Competitive Markets</a:t>
            </a:r>
            <a:endParaRPr b="0" lang="en-US" sz="2900" spc="-1" strike="noStrike">
              <a:solidFill>
                <a:srgbClr val="000000"/>
              </a:solidFill>
              <a:latin typeface="Kalinga"/>
            </a:endParaRPr>
          </a:p>
        </p:txBody>
      </p:sp>
      <p:sp>
        <p:nvSpPr>
          <p:cNvPr id="428" name="PlaceHolder 2"/>
          <p:cNvSpPr>
            <a:spLocks noGrp="1"/>
          </p:cNvSpPr>
          <p:nvPr>
            <p:ph/>
          </p:nvPr>
        </p:nvSpPr>
        <p:spPr>
          <a:xfrm>
            <a:off x="456840" y="3030480"/>
            <a:ext cx="8381880" cy="3379680"/>
          </a:xfrm>
          <a:prstGeom prst="rect">
            <a:avLst/>
          </a:prstGeom>
          <a:noFill/>
          <a:ln w="0">
            <a:noFill/>
          </a:ln>
        </p:spPr>
        <p:txBody>
          <a:bodyPr anchor="t">
            <a:normAutofit/>
          </a:bodyPr>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1:  Explain how perfectly competitive markets encourage technological improvement and growth in the size of firms</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2:  Explain the benefits of perfectly competitive markets</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3:  Understand the five reasons why perfect competition might fail to achieve desirable results </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4:  Understand how governments try to deal with external costs, such as pollution </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5:  Understand how governments try to deal with external benefits, such as education</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alinga"/>
            </a:endParaRPr>
          </a:p>
        </p:txBody>
      </p:sp>
      <p:sp>
        <p:nvSpPr>
          <p:cNvPr id="429"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9 </a:t>
            </a:r>
            <a:endParaRPr b="0" lang="en-US" sz="1700" spc="-1" strike="noStrike">
              <a:solidFill>
                <a:srgbClr val="000000"/>
              </a:solidFill>
              <a:latin typeface="Kalinga"/>
            </a:endParaRPr>
          </a:p>
        </p:txBody>
      </p:sp>
      <p:sp>
        <p:nvSpPr>
          <p:cNvPr id="43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ACEFB72A-EF7B-44FD-98FA-200E6C27E269}"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31"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849320"/>
            <a:ext cx="8229600" cy="4276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Laissez-fair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economic doctrine that holds that an economy works best with the minimum amount of government intervention</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D49A41CF-7849-4268-9087-BC377C7D61D6}"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3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3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Competitive Markets</a:t>
            </a:r>
            <a:endParaRPr b="0" lang="en-US" sz="4400" spc="-1" strike="noStrike">
              <a:solidFill>
                <a:srgbClr val="000000"/>
              </a:solidFill>
              <a:latin typeface="Kaling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18251A1C-FA83-4B02-82DB-2C7373AD6E2A}"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3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39"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pic>
        <p:nvPicPr>
          <p:cNvPr id="440" name="Picture 4" descr="ftp://ftp.eppg.com/Sayre%20Micro%20images/Chapter%209/SAYRE-MICRO-9-F9-2.jpg"/>
          <p:cNvPicPr/>
          <p:nvPr/>
        </p:nvPicPr>
        <p:blipFill>
          <a:blip r:embed="rId1"/>
          <a:stretch/>
        </p:blipFill>
        <p:spPr>
          <a:xfrm>
            <a:off x="0" y="844560"/>
            <a:ext cx="9148680" cy="47163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6508DEC3-C17B-45DA-98CF-BB5116803874}"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4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pic>
        <p:nvPicPr>
          <p:cNvPr id="444" name="Picture 2" descr="ftp://ftp.eppg.com/Sayre%20Micro%20images/Chapter%209/SAYRE-MICRO-9-F9-3.jpg"/>
          <p:cNvPicPr/>
          <p:nvPr/>
        </p:nvPicPr>
        <p:blipFill>
          <a:blip r:embed="rId1"/>
          <a:stretch/>
        </p:blipFill>
        <p:spPr>
          <a:xfrm>
            <a:off x="0" y="852480"/>
            <a:ext cx="9144000" cy="4203720"/>
          </a:xfrm>
          <a:prstGeom prst="rect">
            <a:avLst/>
          </a:prstGeom>
          <a:ln w="0">
            <a:noFill/>
          </a:ln>
        </p:spPr>
      </p:pic>
      <p:sp>
        <p:nvSpPr>
          <p:cNvPr id="445" name="TextBox 7"/>
          <p:cNvSpPr/>
          <p:nvPr/>
        </p:nvSpPr>
        <p:spPr>
          <a:xfrm>
            <a:off x="787320" y="5284800"/>
            <a:ext cx="781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 the long run, in perfectly competitive markets, equilibrium price will be equal to LR and SR average costs (at their minimums) and also to MC </a:t>
            </a:r>
            <a:endParaRPr b="0" lang="en-US" sz="2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222AED74-C1F2-4911-A874-03103962127F}"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49" name="Rectangle 3"/>
          <p:cNvSpPr/>
          <p:nvPr/>
        </p:nvSpPr>
        <p:spPr>
          <a:xfrm>
            <a:off x="882720" y="1488960"/>
            <a:ext cx="7378560" cy="491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ly why should a firm downsize if it is suffering diseconomies of sca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5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A4B1DE53-5E02-494E-8F42-0FCBBF770257}"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54" name="Rectangle 3"/>
          <p:cNvSpPr/>
          <p:nvPr/>
        </p:nvSpPr>
        <p:spPr>
          <a:xfrm>
            <a:off x="882720" y="1488960"/>
            <a:ext cx="7378560" cy="491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ly why should a firm downsize if it is suffering diseconomies of sca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5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sp>
        <p:nvSpPr>
          <p:cNvPr id="456" name="TextBox 10"/>
          <p:cNvSpPr/>
          <p:nvPr/>
        </p:nvSpPr>
        <p:spPr>
          <a:xfrm>
            <a:off x="903240" y="2478240"/>
            <a:ext cx="7326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If a firm is suffering diseconomies of scale, it is operating at a scale too large for this type of industry and is therefore experiencing high average costs (brought about by the high bureaucratic costs associated with big corporations). It could produce at lower average costs if it could reduce the size of its operations.</a:t>
            </a:r>
            <a:endParaRPr b="0" lang="en-US" sz="24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457200" y="1690200"/>
            <a:ext cx="8229600" cy="44355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oductive Efficienc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ion of an output at the lowest possible average cost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ive efficiency is where P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minimum AC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Allocative Efficienc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allocation of resources to the goods and services that society values most</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llocative efficiency occurs where P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MC</a:t>
            </a:r>
            <a:endParaRPr b="0" i="1" lang="en-US" sz="2800" spc="-1" strike="noStrike">
              <a:solidFill>
                <a:srgbClr val="000000"/>
              </a:solidFill>
              <a:latin typeface="Times New Roman"/>
            </a:endParaRPr>
          </a:p>
        </p:txBody>
      </p:sp>
      <p:sp>
        <p:nvSpPr>
          <p:cNvPr id="4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3131FC42-9807-49B2-9C79-367CD79682FD}"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5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6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Arial"/>
            </a:endParaRPr>
          </a:p>
        </p:txBody>
      </p:sp>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Benefits of Perfect Competition</a:t>
            </a:r>
            <a:endParaRPr b="0" lang="en-US" sz="4000" spc="-1" strike="noStrike">
              <a:solidFill>
                <a:srgbClr val="000000"/>
              </a:solidFill>
              <a:latin typeface="Kaling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690200"/>
            <a:ext cx="8229600" cy="4435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oducer Surplus</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difference between the amount that producers would be willing to accept for each unit of output and the price they receive when the output is sold</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Economic Surplus</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summation of consumer surplus and producer surplus</a:t>
            </a:r>
            <a:endParaRPr b="0" i="1" lang="en-US" sz="2800" spc="-1" strike="noStrike">
              <a:solidFill>
                <a:srgbClr val="000000"/>
              </a:solidFill>
              <a:latin typeface="Times New Roman"/>
            </a:endParaRPr>
          </a:p>
        </p:txBody>
      </p:sp>
      <p:sp>
        <p:nvSpPr>
          <p:cNvPr id="4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6009F8A0-B092-45BF-A8B4-DB6B1223B81E}"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6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Arial"/>
            </a:endParaRPr>
          </a:p>
        </p:txBody>
      </p:sp>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Benefits of Perfect Competition</a:t>
            </a:r>
            <a:endParaRPr b="0" lang="en-US" sz="4000" spc="-1" strike="noStrike">
              <a:solidFill>
                <a:srgbClr val="000000"/>
              </a:solidFill>
              <a:latin typeface="Kaling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6T00:16:49Z</dcterms:created>
  <dc:creator>aholowinsky</dc:creator>
  <dc:description/>
  <dc:language>en-US</dc:language>
  <cp:lastModifiedBy>Vince</cp:lastModifiedBy>
  <dcterms:modified xsi:type="dcterms:W3CDTF">2012-09-05T23:08:42Z</dcterms:modified>
  <cp:revision>287</cp:revision>
  <dc:subject/>
  <dc:title>Slide 1</dc:title>
</cp:coreProperties>
</file>