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C2F9D-CE18-4813-9928-02E86CBA0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79785-B775-4C32-AA60-829FC3F35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59140B0-17BF-4166-B76F-4F22B5B9B5D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0B8302E-9E04-4E1A-B263-0E94D02C566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11E2034-4347-4C36-9E40-B8C922D68CF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476F7F3-3D88-4CD3-B9A9-A38282A9AE4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3FA8C68-47B4-472A-9F41-B6FF2E61616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F1DFCF6-15DC-4A8C-868C-26C0D3C9D43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6D73B46-2793-4F1F-AB58-FB0CAB82E98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5C655C6-48FF-4ED3-8A6B-6E59F761982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C298F39-404A-4090-A16A-6EDA011BA9B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99643E8-4E0E-4F8E-8E7F-43B7574CCA1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0C0C8-309E-4EBA-A790-32E4EF59DB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0DE42BC-CF63-4DDC-84F5-0D112BF3848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D8CECA7-7B8B-45E7-87F6-0F2F41588CF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EC48134-9F5F-4E6D-A826-EF31F6F3157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80A9BF8-A4F5-4823-A16B-796F26F8CFD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98F0A5D-7EFB-4ADD-8E6A-9E7D47132A1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68CFFCE-74B9-450C-A1BC-3E0109D2B58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7AE0B89-D4DF-4F1C-95AC-50145594F6D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7139377-6EFA-4C29-BB84-5213AEA99FD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0B64A1F-3800-48F4-9B0F-616E7B706D3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62CF8838-FD7A-40BA-8765-EF0A83139BB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2F394-6459-4C24-9B29-2E0A1B4FC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22AF5A0-F779-4F9D-9DA1-7EC985022BA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C194B-BD37-460D-85A6-2334671815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8D6D5-69D7-4D1D-947C-A4C0D5D1D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28815-E1A8-432F-8245-A18486AD0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6C85F-A63F-4243-8BA3-8BAB98823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36656-C78D-4994-AFE5-66F2E3B17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26B6A-A1DF-49BA-8A88-2EDB6DF15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23095-F7DC-4357-B3F9-73F7F0C86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CAA61-881C-4106-80BD-96EFD2C94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0261E-A9B3-4B88-9102-AEFBDC4A8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B9150-40D8-4F1C-AE2F-BE04F2136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CE082-27D3-45A4-9CF7-CA47BE410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61446-A018-405C-A99F-B0FF2AE96C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0A580-9BCC-46AD-80A0-78F9CDE85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281381-0C23-4235-A9FC-EEA1C4493C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EF56EC-EA56-431F-8CEB-73D05E6953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4A3324-9A43-4E1C-AC97-BD4DB94D1A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FF8142-0169-420E-A9E7-7947482AC2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F0992A-EE7F-4645-8DA8-FF56F038DA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54DF3-4EA6-4907-A60B-9DC49FFCD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1CA18C-953A-44F9-8A6C-1F9134725C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65DD9-C27E-4CFB-9FA3-002248E78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D049F-682B-4EAA-A57B-0EDF1936F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B6AA9-0D17-4817-9573-C9E8064FAD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2BDEB6-1E20-4A95-B440-6E431A0AC9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F887B5-7ADF-4F03-85F7-60D10E018A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BC6D18-CE4F-486B-85E5-1C1D6463F5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025F3B-7680-4A7C-BA86-04149BFBA0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7D2339-0F56-48B5-8125-5E9E2081FA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58F76F-A4DC-4994-8497-22DADAB1DD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CE591-AE44-4B0A-AC25-6BCB5C2F2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152109-8AF3-488D-827F-82AB50F7C2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5255E9-0F35-45FF-9FEF-122FE02430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18EFF1-0D52-4231-B945-5356D0CA90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4E21DE-6478-4DEB-BAFC-A453D7551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4D4CB-CA71-4E87-A9C1-102F930C87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D9A3E2-A9F1-434E-84FA-4C53FBBD7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36FB3A-A50E-4CB1-B00A-6A3EA0388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6FCA14-187C-467C-8E8D-96C67EC709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C93058-6970-4D85-83F6-59CA45AA7C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890047-493A-4709-92AA-7813E08D65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C7F23-0A41-44F9-8E19-FDC6A33E5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002A19-9EB1-4B7B-A7F3-4C1BF28BD7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773E07-7E72-4A97-9199-03E17AA071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2B3A34-091A-4408-8707-8BA7A84DF8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DDB942-BC05-444A-B914-EFFEC7E48F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C55EFE-F5C7-4BEC-863A-0732349B78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4D6836-2A2D-47F1-AAF7-9B5CD3EB16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5A1D20-6A31-45A8-8639-C0D97E9C7F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30782-D66F-449A-A511-B9A1F439AE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7802C7-FD46-457E-8B0D-03E31DA901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93C396-3FBF-4128-9EBA-DC49928AB3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2147F-C1AC-4E07-BFEE-1507E6FFF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E131B7-F2C7-499B-8C22-8ADFA1CADD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74967B9A-A624-41E7-9491-ABF4A8523E9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4307550-E503-454F-B33C-1DB933EC14F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B50E183-F42F-476D-8EB3-413D395DFCA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0029402-96BA-4588-AD72-D308B51E412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66435EF-DE85-4993-90D7-725CBF0AF2B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47BED7B-ABBA-422F-A7C9-5BF4C311062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91C86C8-E936-4B34-9B70-114A5437627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C6454F3-BB66-4043-9298-249C2007995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5FE0EF-DB80-417A-89E7-7B01E33AAA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9DBA4-8673-445D-8ADE-8B85D30F6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98FE39C-B2C4-43BD-A412-BD707ACDCC9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039463A-8426-4E3B-9D2F-87E0DF70773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1CD0675-E9E2-458D-B7CB-5359392FF5D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D66F0A8-70F0-465D-AEAA-C9303273FCB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0E1927F-2A33-497E-863E-EA2EAC92634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772BBEF-56C0-4B0A-B92D-589C6DCA4B9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D262479-974F-4403-8E8B-DD74638B6CC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E3CFBCD-C7AD-4FAC-A342-AD0DCE85FAD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891AE7B-F2C3-42FE-9CCE-ABD3546BD6C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CC114E0-693A-40C7-A130-B6D96FD171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A8B75-8F36-4FF8-8745-465F26610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2AB9C6D-014C-4B04-A740-A2C68D658E9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A3436A0-AF9E-495D-819F-F210A467FFD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80A91FF-3A37-48B1-8F79-A0C3747BC99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6BDF9DF-7BC7-4BD8-90BC-576397751EA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D2AD7D6-B4BC-4D2E-8C59-7FBC2B4BE6B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366FA08-266E-4030-87DB-59C03CD448E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EC64CA0-46A5-4334-8013-E3BA9185BD8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F7EC529-A197-489B-A1B9-077B8F4E813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71DB869-E05B-4DC7-89B0-EF3AB90170D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993DB3A-72FD-4AFC-90C2-6667983C392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3FD8C-55D3-4988-9A58-0AEFD23A5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621A3EA-FF97-4034-8173-D8742212C16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0EEE770-02EE-403D-B0C1-726E190D145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B0E72F1-65E6-479E-920E-2D86E5B4FA5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B82DF2D-0855-4A76-A851-360B54011FE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CBDBE48-A3A9-4FF8-BB9C-10DC9C14BA4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B6EC7C1-9D5C-4837-AA06-D0F2C570B2E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6FED7C7-3D90-453F-A479-093C7DA3A27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278BB3E-FA71-4A6B-975A-E7E353F71BB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09D932C-2590-4237-95C8-C07A364EDE9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EDA05C6-B60A-4CD7-B507-8A17B9DC6E7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84" name="PlaceHolder 3"/>
          <p:cNvSpPr>
            <a:spLocks noGrp="1"/>
          </p:cNvSpPr>
          <p:nvPr>
            <p:ph type="dt" idx="2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86"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0C91E3A4-B75F-4FCF-8B89-6093474C71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0" name="TextBox 17"/>
          <p:cNvSpPr/>
          <p:nvPr/>
        </p:nvSpPr>
        <p:spPr>
          <a:xfrm>
            <a:off x="468360" y="2392200"/>
            <a:ext cx="479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arning Objectives: </a:t>
            </a:r>
            <a:endParaRPr b="0" lang="en-US" sz="28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3"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AA69260A-10D4-4926-B45D-8727116BE8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133"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7" name="PlaceHolder 3"/>
          <p:cNvSpPr>
            <a:spLocks noGrp="1"/>
          </p:cNvSpPr>
          <p:nvPr>
            <p:ph type="dt" idx="10"/>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9D3672C3-FFAE-43E5-9674-7C678DDE168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77"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81"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AEBB4C33-531C-4388-AD1B-16D5C4F15D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22"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23"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A4566A9E-98F9-4BA9-8A5B-9CCDADEBAC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AC1E67FC-99F5-4877-BAA4-6E9B2B4EEE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2" name="PlaceHolder 3"/>
          <p:cNvSpPr>
            <a:spLocks noGrp="1"/>
          </p:cNvSpPr>
          <p:nvPr>
            <p:ph type="dt" idx="2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04"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436171C4-FACA-442B-BA33-69FDAFF5D2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3" name="PlaceHolder 3"/>
          <p:cNvSpPr>
            <a:spLocks noGrp="1"/>
          </p:cNvSpPr>
          <p:nvPr>
            <p:ph type="dt" idx="2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45"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4897F800-044B-4C45-9CBC-0236DD65DF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285720"/>
            <a:ext cx="7772400" cy="21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933c"/>
                </a:solidFill>
                <a:latin typeface="Kalinga"/>
                <a:ea typeface="Kalinga"/>
              </a:rPr>
              <a:t>An Evaluation of </a:t>
            </a:r>
            <a:br>
              <a:rPr sz="4800"/>
            </a:br>
            <a:r>
              <a:rPr b="1" lang="en-US" sz="4800" spc="-1" strike="noStrike">
                <a:solidFill>
                  <a:srgbClr val="77933c"/>
                </a:solidFill>
                <a:latin typeface="Kalinga"/>
                <a:ea typeface="Kalinga"/>
              </a:rPr>
              <a:t>Competitive Markets</a:t>
            </a:r>
            <a:endParaRPr b="0" lang="en-US" sz="4800" spc="-1" strike="noStrike">
              <a:solidFill>
                <a:srgbClr val="000000"/>
              </a:solidFill>
              <a:latin typeface="Kalinga"/>
            </a:endParaRPr>
          </a:p>
        </p:txBody>
      </p:sp>
      <p:sp>
        <p:nvSpPr>
          <p:cNvPr id="424" name="PlaceHolder 2"/>
          <p:cNvSpPr>
            <a:spLocks noGrp="1"/>
          </p:cNvSpPr>
          <p:nvPr>
            <p:ph type="subTitle"/>
          </p:nvPr>
        </p:nvSpPr>
        <p:spPr>
          <a:xfrm>
            <a:off x="1371600" y="281772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9</a:t>
            </a:r>
            <a:endParaRPr b="0" lang="en-US" sz="2000" spc="-1" strike="noStrike">
              <a:solidFill>
                <a:srgbClr val="000000"/>
              </a:solidFill>
              <a:latin typeface="Kalinga"/>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1</a:t>
            </a:r>
            <a:endParaRPr b="0" lang="en-US" sz="1200" spc="-1" strike="noStrike">
              <a:solidFill>
                <a:srgbClr val="000000"/>
              </a:solidFill>
              <a:latin typeface="Arial"/>
            </a:endParaRPr>
          </a:p>
        </p:txBody>
      </p:sp>
      <p:sp>
        <p:nvSpPr>
          <p:cNvPr id="4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D15EAB5C-4C62-46F3-8E22-27D379629B4C}"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9"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70" name="TextBox 7"/>
          <p:cNvSpPr/>
          <p:nvPr/>
        </p:nvSpPr>
        <p:spPr>
          <a:xfrm>
            <a:off x="488880" y="52941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e long run, perfectly competitive markets achieve productive and allocative efficiency, and mazimize economic surplus </a:t>
            </a:r>
            <a:endParaRPr b="0" lang="en-US" sz="2400" spc="-1" strike="noStrike">
              <a:solidFill>
                <a:srgbClr val="000000"/>
              </a:solidFill>
              <a:latin typeface="Arial"/>
            </a:endParaRPr>
          </a:p>
        </p:txBody>
      </p:sp>
      <p:pic>
        <p:nvPicPr>
          <p:cNvPr id="471" name="Picture 2" descr="ftp://ftp.eppg.com/Sayre%20Micro%20images/Chapter%209/SAYRE-MICRO-9-F9-4.jpg"/>
          <p:cNvPicPr/>
          <p:nvPr/>
        </p:nvPicPr>
        <p:blipFill>
          <a:blip r:embed="rId1"/>
          <a:stretch/>
        </p:blipFill>
        <p:spPr>
          <a:xfrm>
            <a:off x="0" y="623880"/>
            <a:ext cx="9144000" cy="4405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828440"/>
            <a:ext cx="8229600" cy="429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Four Strengths of a Competitive Market</a:t>
            </a:r>
            <a:br>
              <a:rPr sz="3200"/>
            </a:br>
            <a:endParaRPr b="0" lang="en-US" sz="3200" spc="-1" strike="noStrike">
              <a:solidFill>
                <a:srgbClr val="000000"/>
              </a:solidFill>
              <a:latin typeface="Kalinga"/>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ximizes economic surplus because both productive and allocative efficiency is achieved </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this automatically (is costless) </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courages innovation</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motes economic freedom</a:t>
            </a:r>
            <a:endParaRPr b="0" i="1" lang="en-US" sz="2800" spc="-1" strike="noStrike">
              <a:solidFill>
                <a:srgbClr val="000000"/>
              </a:solidFill>
              <a:latin typeface="Times New Roman"/>
            </a:endParaRPr>
          </a:p>
        </p:txBody>
      </p:sp>
      <p:sp>
        <p:nvSpPr>
          <p:cNvPr id="4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6328D43E-6BD5-4831-A0A5-F61A69C6E627}"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7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Perfect Competition</a:t>
            </a:r>
            <a:endParaRPr b="0" lang="en-US" sz="4400" spc="-1" strike="noStrike">
              <a:solidFill>
                <a:srgbClr val="000000"/>
              </a:solidFill>
              <a:latin typeface="Kaling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D6D79973-21FB-4664-BD25-991F699F0EF8}"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80" name="Rectangle 3"/>
          <p:cNvSpPr/>
          <p:nvPr/>
        </p:nvSpPr>
        <p:spPr>
          <a:xfrm>
            <a:off x="457200" y="1265400"/>
            <a:ext cx="8458200" cy="513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following grap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produc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alloca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81"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82" name="Picture 2" descr="ftp://ftp.eppg.com/Sayre%20Micro%20images/Chapter%209/SAYRE-MICRO-9-p276.jpg"/>
          <p:cNvPicPr/>
          <p:nvPr/>
        </p:nvPicPr>
        <p:blipFill>
          <a:blip r:embed="rId1"/>
          <a:stretch/>
        </p:blipFill>
        <p:spPr>
          <a:xfrm>
            <a:off x="2498760" y="2523960"/>
            <a:ext cx="4170240" cy="29530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704B7BB0-9118-47B4-83C1-C602694F40CD}"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8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86" name="Rectangle 3"/>
          <p:cNvSpPr/>
          <p:nvPr/>
        </p:nvSpPr>
        <p:spPr>
          <a:xfrm>
            <a:off x="893880" y="1265400"/>
            <a:ext cx="8021520" cy="513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following grap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produc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what output(s) is the firm allocatively effic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87"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88" name="TextBox 6"/>
          <p:cNvSpPr/>
          <p:nvPr/>
        </p:nvSpPr>
        <p:spPr>
          <a:xfrm>
            <a:off x="985680" y="5506920"/>
            <a:ext cx="718344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Productively efficient output:  Q</a:t>
            </a:r>
            <a:r>
              <a:rPr b="0" i="1" lang="en-GB" sz="2400" spc="-1" strike="noStrike" baseline="-25000">
                <a:solidFill>
                  <a:srgbClr val="ff0000"/>
                </a:solidFill>
                <a:latin typeface="Times New Roman"/>
              </a:rPr>
              <a:t>1 </a:t>
            </a:r>
            <a:r>
              <a:rPr b="0" i="1" lang="en-GB" sz="2400" spc="-1" strike="noStrike">
                <a:solidFill>
                  <a:srgbClr val="ff0000"/>
                </a:solidFill>
                <a:latin typeface="Times New Roman"/>
              </a:rPr>
              <a:t>(where P = lowest A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Allocatively efficient output:  Q</a:t>
            </a:r>
            <a:r>
              <a:rPr b="0" i="1" lang="en-GB" sz="2400" spc="-1" strike="noStrike" baseline="-25000">
                <a:solidFill>
                  <a:srgbClr val="ff0000"/>
                </a:solidFill>
                <a:latin typeface="Times New Roman"/>
              </a:rPr>
              <a:t>2</a:t>
            </a:r>
            <a:r>
              <a:rPr b="0" i="1" lang="en-GB" sz="2400" spc="-1" strike="noStrike">
                <a:solidFill>
                  <a:srgbClr val="ff0000"/>
                </a:solidFill>
                <a:latin typeface="Times New Roman"/>
              </a:rPr>
              <a:t> (where P = MC)</a:t>
            </a:r>
            <a:endParaRPr b="0" lang="en-US" sz="2400" spc="-1" strike="noStrike">
              <a:solidFill>
                <a:srgbClr val="000000"/>
              </a:solidFill>
              <a:latin typeface="Arial"/>
            </a:endParaRPr>
          </a:p>
        </p:txBody>
      </p:sp>
      <p:pic>
        <p:nvPicPr>
          <p:cNvPr id="489" name="Picture 2" descr="ftp://ftp.eppg.com/Sayre%20Micro%20images/Chapter%209/SAYRE-MICRO-9-p276.jpg"/>
          <p:cNvPicPr/>
          <p:nvPr/>
        </p:nvPicPr>
        <p:blipFill>
          <a:blip r:embed="rId1"/>
          <a:stretch/>
        </p:blipFill>
        <p:spPr>
          <a:xfrm>
            <a:off x="2498760" y="2523960"/>
            <a:ext cx="4170240" cy="2953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77933c"/>
                </a:solidFill>
                <a:latin typeface="Kalinga"/>
              </a:rPr>
              <a:t>An Evaluation of Competitive Markets</a:t>
            </a:r>
            <a:endParaRPr b="0" lang="en-US" sz="2900" spc="-1" strike="noStrike">
              <a:solidFill>
                <a:srgbClr val="000000"/>
              </a:solidFill>
              <a:latin typeface="Kalinga"/>
            </a:endParaRPr>
          </a:p>
        </p:txBody>
      </p:sp>
      <p:sp>
        <p:nvSpPr>
          <p:cNvPr id="428"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1:  Explain how perfectly competitive markets encourage technological improvement and growth in the size of firms</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2:  Explain the benefits of perfectly competitive markets</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3:  Understand the five reasons why perfect competition might fail to achieve desirable results </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4:  Understand how governments try to deal with external costs, such as pollution </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Times New Roman"/>
              </a:rPr>
              <a:t>LO5:  Understand how governments try to deal with external benefits, such as education</a:t>
            </a: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p:txBody>
      </p:sp>
      <p:sp>
        <p:nvSpPr>
          <p:cNvPr id="429"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9 </a:t>
            </a:r>
            <a:endParaRPr b="0" lang="en-US" sz="1700" spc="-1" strike="noStrike">
              <a:solidFill>
                <a:srgbClr val="000000"/>
              </a:solidFill>
              <a:latin typeface="Kalinga"/>
            </a:endParaRPr>
          </a:p>
        </p:txBody>
      </p:sp>
      <p:sp>
        <p:nvSpPr>
          <p:cNvPr id="4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7CEA18A2-BDEF-4454-8D70-B04CA8A8C850}"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849320"/>
            <a:ext cx="8229600" cy="4276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Laissez-fair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economic doctrine that holds that an economy works best with the minimum amount of government intervention</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547D3BCE-805B-407B-9A86-BE4AAA88C5D4}"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3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mpetitive Markets</a:t>
            </a:r>
            <a:endParaRPr b="0" lang="en-US" sz="4400" spc="-1" strike="noStrike">
              <a:solidFill>
                <a:srgbClr val="000000"/>
              </a:solidFill>
              <a:latin typeface="Kaling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7C077801-4E46-4656-A601-0BA2C8E60C8F}"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39"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40" name="Picture 4" descr="ftp://ftp.eppg.com/Sayre%20Micro%20images/Chapter%209/SAYRE-MICRO-9-F9-2.jpg"/>
          <p:cNvPicPr/>
          <p:nvPr/>
        </p:nvPicPr>
        <p:blipFill>
          <a:blip r:embed="rId1"/>
          <a:stretch/>
        </p:blipFill>
        <p:spPr>
          <a:xfrm>
            <a:off x="0" y="844560"/>
            <a:ext cx="9148680" cy="47163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CA9EFB9A-D237-47DF-B5DC-389CEF410C56}"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4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pic>
        <p:nvPicPr>
          <p:cNvPr id="444" name="Picture 2" descr="ftp://ftp.eppg.com/Sayre%20Micro%20images/Chapter%209/SAYRE-MICRO-9-F9-3.jpg"/>
          <p:cNvPicPr/>
          <p:nvPr/>
        </p:nvPicPr>
        <p:blipFill>
          <a:blip r:embed="rId1"/>
          <a:stretch/>
        </p:blipFill>
        <p:spPr>
          <a:xfrm>
            <a:off x="0" y="852480"/>
            <a:ext cx="9144000" cy="4203720"/>
          </a:xfrm>
          <a:prstGeom prst="rect">
            <a:avLst/>
          </a:prstGeom>
          <a:ln w="0">
            <a:noFill/>
          </a:ln>
        </p:spPr>
      </p:pic>
      <p:sp>
        <p:nvSpPr>
          <p:cNvPr id="445" name="TextBox 7"/>
          <p:cNvSpPr/>
          <p:nvPr/>
        </p:nvSpPr>
        <p:spPr>
          <a:xfrm>
            <a:off x="787320" y="5284800"/>
            <a:ext cx="781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the long run, in perfectly competitive markets, equilibrium price will be equal to LR and SR average costs (at their minimums) and also to MC </a:t>
            </a:r>
            <a:endParaRPr b="0" lang="en-US" sz="2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549415E6-19F3-42AE-8E36-6552DE2E029C}"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49" name="Rectangle 3"/>
          <p:cNvSpPr/>
          <p:nvPr/>
        </p:nvSpPr>
        <p:spPr>
          <a:xfrm>
            <a:off x="882720" y="1488960"/>
            <a:ext cx="7378560" cy="491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ly why should a firm downsize if it is suffering diseconomies of sca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5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3454C986-29C2-45D9-8F2E-520E182DA553}"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54" name="Rectangle 3"/>
          <p:cNvSpPr/>
          <p:nvPr/>
        </p:nvSpPr>
        <p:spPr>
          <a:xfrm>
            <a:off x="882720" y="1488960"/>
            <a:ext cx="7378560" cy="491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ly why should a firm downsize if it is suffering diseconomies of sca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Arial"/>
            </a:endParaRPr>
          </a:p>
        </p:txBody>
      </p:sp>
      <p:sp>
        <p:nvSpPr>
          <p:cNvPr id="456" name="TextBox 10"/>
          <p:cNvSpPr/>
          <p:nvPr/>
        </p:nvSpPr>
        <p:spPr>
          <a:xfrm>
            <a:off x="903240" y="2478240"/>
            <a:ext cx="732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If a firm is suffering diseconomies of scale, it is operating at a scale too large for this type of industry and is therefore experiencing high average costs (brought about by the high bureaucratic costs associated with big corporations). It could produce at lower average costs if it could reduce the size of its operations.</a:t>
            </a:r>
            <a:endParaRPr b="0" lang="en-US" sz="24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457200" y="1690200"/>
            <a:ext cx="8229600" cy="44355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tive Efficienc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ion of an output at the lowest possible average cost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ive efficiency is where P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minimum AC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Allocative Efficienc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llocation of resources to the goods and services that society values most</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locative efficiency occurs where P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MC</a:t>
            </a:r>
            <a:endParaRPr b="0" i="1" lang="en-US" sz="2800" spc="-1" strike="noStrike">
              <a:solidFill>
                <a:srgbClr val="000000"/>
              </a:solidFill>
              <a:latin typeface="Times New Roman"/>
            </a:endParaRPr>
          </a:p>
        </p:txBody>
      </p:sp>
      <p:sp>
        <p:nvSpPr>
          <p:cNvPr id="4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347362A1-7F9D-40DD-89EF-FDD6745CC140}"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Benefits of Perfect Competition</a:t>
            </a:r>
            <a:endParaRPr b="0" lang="en-US" sz="4000" spc="-1" strike="noStrike">
              <a:solidFill>
                <a:srgbClr val="000000"/>
              </a:solidFill>
              <a:latin typeface="Kaling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690200"/>
            <a:ext cx="8229600" cy="4435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er Surplus</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difference between the amount that producers would be willing to accept for each unit of output and the price they receive when the output is sold</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Economic Surplus</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ummation of consumer surplus and producer surplus</a:t>
            </a:r>
            <a:endParaRPr b="0" i="1" lang="en-US" sz="2800" spc="-1" strike="noStrike">
              <a:solidFill>
                <a:srgbClr val="000000"/>
              </a:solidFill>
              <a:latin typeface="Times New Roman"/>
            </a:endParaRPr>
          </a:p>
        </p:txBody>
      </p:sp>
      <p:sp>
        <p:nvSpPr>
          <p:cNvPr id="4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9-</a:t>
            </a:r>
            <a:fld id="{EE985629-D948-4F9F-B398-0ED70E560A92}"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
        <p:nvSpPr>
          <p:cNvPr id="4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Arial"/>
            </a:endParaRPr>
          </a:p>
        </p:txBody>
      </p:sp>
      <p:sp>
        <p:nvSpPr>
          <p:cNvPr id="4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Arial"/>
            </a:endParaRPr>
          </a:p>
        </p:txBody>
      </p:sp>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Benefits of Perfect Competition</a:t>
            </a:r>
            <a:endParaRPr b="0" lang="en-US" sz="4000" spc="-1" strike="noStrike">
              <a:solidFill>
                <a:srgbClr val="000000"/>
              </a:solidFill>
              <a:latin typeface="Kaling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Vince</cp:lastModifiedBy>
  <dcterms:modified xsi:type="dcterms:W3CDTF">2012-09-05T23:08:42Z</dcterms:modified>
  <cp:revision>287</cp:revision>
  <dc:subject/>
  <dc:title>Slide 1</dc:title>
</cp:coreProperties>
</file>