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AF67-C16E-4C5C-9469-CFD0BF5E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42C9-DE4C-46A0-9AB8-716898E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AE8A-06C2-4E07-81FB-88FD264E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A19F-4721-4004-826B-703FB6B5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62B8-F562-43D7-88B3-56755267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239B-8EDF-4920-80EB-BA1B068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874A-F0BB-4D94-8EF6-8661800C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1661-5A83-48B9-BE1E-DE040521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3A54-BDCA-40B2-8D74-3F811BD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07ED-B6F8-4E54-81A9-325DD1AE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37FB-3C6A-4BDF-85AB-548E854C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5C4B-428E-4835-B8BC-09FBCE58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AC39-BAD9-4A2C-B957-536D1C73A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191592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4: Buying a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A comm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fair market value of the company’s assets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owner’s cost of current inventory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pprox. 90% of what appear to be good accounts receivable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 percentage of the company’s net income before taxes as goodwill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roximate Value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Store – 15% of annual sales +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care Centre – 2-3 times annual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tal Practice – 60-70% of annual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st Shop – 34% of annual sales plu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aurant (non-franchised) – 30-45% of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cy – 40-60% of annual com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own Co. 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150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ss sal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on finan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etax in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7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xes at 2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ofit after t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4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deprec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working capital inves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(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capital expendi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djusted free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value of discounted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excess machin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Value of the Brown Co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33840"/>
            <a:ext cx="87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5040" y="6000840"/>
            <a:ext cx="9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Key Points to Consider in 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720" y="1851120"/>
            <a:ext cx="8079120" cy="454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4920" y="2346480"/>
            <a:ext cx="698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ke your time and verify the information you are given before you commit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fall in love with the business before you do your ho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careful not to pay too much for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a business within an industry you know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based on the return on investment, not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use all your cash for the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vestigate before you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ystems View of Family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04800"/>
            <a:ext cx="3543480" cy="3048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52720"/>
            <a:ext cx="3448080" cy="30481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71760" y="3009960"/>
            <a:ext cx="3448080" cy="3048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552920"/>
            <a:ext cx="1467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4591080"/>
            <a:ext cx="14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24200"/>
            <a:ext cx="180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5960" y="3295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38760" y="331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3000" y="470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3943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Between a Business System and a Famil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1800" y="1771560"/>
            <a:ext cx="8477280" cy="4794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960" y="2171880"/>
            <a:ext cx="36766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product goods/services profit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prev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based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temporary an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authority and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114640"/>
            <a:ext cx="401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1080" y="2133720"/>
            <a:ext cx="40003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nurture offspring into competent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uncon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generational stage/birth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You Prepare for Running the Family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600" y="2190600"/>
            <a:ext cx="7810200" cy="441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5320" y="243828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of your interest in being involved in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sponsibility for your pers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outside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lationships with individuals who are part of the business’s curre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family f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44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8240" y="2882880"/>
            <a:ext cx="6480" cy="138276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08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10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3600" y="2070000"/>
            <a:ext cx="0" cy="358164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889360" y="1682640"/>
            <a:ext cx="3238560" cy="585720"/>
            <a:chOff x="2889360" y="1682640"/>
            <a:chExt cx="3238560" cy="585720"/>
          </a:xfrm>
        </p:grpSpPr>
        <p:sp>
          <p:nvSpPr>
            <p:cNvPr id="49" name=""/>
            <p:cNvSpPr/>
            <p:nvPr/>
          </p:nvSpPr>
          <p:spPr>
            <a:xfrm>
              <a:off x="2889360" y="168264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38360" y="1749600"/>
              <a:ext cx="2141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an existing 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75320" y="2330280"/>
            <a:ext cx="3266640" cy="381240"/>
            <a:chOff x="2875320" y="2330280"/>
            <a:chExt cx="3266640" cy="381240"/>
          </a:xfrm>
        </p:grpSpPr>
        <p:sp>
          <p:nvSpPr>
            <p:cNvPr id="52" name=""/>
            <p:cNvSpPr/>
            <p:nvPr/>
          </p:nvSpPr>
          <p:spPr>
            <a:xfrm>
              <a:off x="2889360" y="233028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75320" y="2403360"/>
              <a:ext cx="326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can you find a business to bu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12720" y="4400640"/>
            <a:ext cx="4193280" cy="406440"/>
            <a:chOff x="2412720" y="4400640"/>
            <a:chExt cx="4193280" cy="406440"/>
          </a:xfrm>
        </p:grpSpPr>
        <p:sp>
          <p:nvSpPr>
            <p:cNvPr id="55" name=""/>
            <p:cNvSpPr/>
            <p:nvPr/>
          </p:nvSpPr>
          <p:spPr>
            <a:xfrm>
              <a:off x="2425680" y="4400640"/>
              <a:ext cx="4165560" cy="4064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2720" y="4491000"/>
              <a:ext cx="419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e all the aspects of the potential acqui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25680" y="5035680"/>
            <a:ext cx="4165560" cy="393480"/>
            <a:chOff x="2425680" y="5035680"/>
            <a:chExt cx="4165560" cy="393480"/>
          </a:xfrm>
        </p:grpSpPr>
        <p:sp>
          <p:nvSpPr>
            <p:cNvPr id="58" name=""/>
            <p:cNvSpPr/>
            <p:nvPr/>
          </p:nvSpPr>
          <p:spPr>
            <a:xfrm>
              <a:off x="2425680" y="5035680"/>
              <a:ext cx="4165560" cy="39348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6360" y="5102280"/>
              <a:ext cx="264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ermine an appropriate 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8240" y="3086280"/>
            <a:ext cx="7480440" cy="952200"/>
            <a:chOff x="768240" y="3086280"/>
            <a:chExt cx="7480440" cy="952200"/>
          </a:xfrm>
        </p:grpSpPr>
        <p:grpSp>
          <p:nvGrpSpPr>
            <p:cNvPr id="61" name=""/>
            <p:cNvGrpSpPr/>
            <p:nvPr/>
          </p:nvGrpSpPr>
          <p:grpSpPr>
            <a:xfrm>
              <a:off x="3841920" y="3086280"/>
              <a:ext cx="1257120" cy="952200"/>
              <a:chOff x="3841920" y="3086280"/>
              <a:chExt cx="1257120" cy="952200"/>
            </a:xfrm>
          </p:grpSpPr>
          <p:sp>
            <p:nvSpPr>
              <p:cNvPr id="62" name=""/>
              <p:cNvSpPr/>
              <p:nvPr/>
            </p:nvSpPr>
            <p:spPr>
              <a:xfrm>
                <a:off x="38419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07080" y="3090960"/>
                <a:ext cx="11282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oker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l est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g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68240" y="3086280"/>
              <a:ext cx="1257480" cy="952200"/>
              <a:chOff x="768240" y="3086280"/>
              <a:chExt cx="1257480" cy="952200"/>
            </a:xfrm>
          </p:grpSpPr>
          <p:sp>
            <p:nvSpPr>
              <p:cNvPr id="65" name=""/>
              <p:cNvSpPr/>
              <p:nvPr/>
            </p:nvSpPr>
            <p:spPr>
              <a:xfrm>
                <a:off x="76824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71640" y="3197160"/>
                <a:ext cx="8524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o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343240" y="3086280"/>
              <a:ext cx="1257120" cy="952200"/>
              <a:chOff x="2343240" y="3086280"/>
              <a:chExt cx="1257120" cy="952200"/>
            </a:xfrm>
          </p:grpSpPr>
          <p:sp>
            <p:nvSpPr>
              <p:cNvPr id="68" name=""/>
              <p:cNvSpPr/>
              <p:nvPr/>
            </p:nvSpPr>
            <p:spPr>
              <a:xfrm>
                <a:off x="234324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87160" y="3090960"/>
                <a:ext cx="11696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wspap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tr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oci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427720" y="3086280"/>
              <a:ext cx="1257120" cy="952200"/>
              <a:chOff x="5427720" y="3086280"/>
              <a:chExt cx="1257120" cy="952200"/>
            </a:xfrm>
          </p:grpSpPr>
          <p:sp>
            <p:nvSpPr>
              <p:cNvPr id="71" name=""/>
              <p:cNvSpPr/>
              <p:nvPr/>
            </p:nvSpPr>
            <p:spPr>
              <a:xfrm>
                <a:off x="54277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7440" y="3090960"/>
                <a:ext cx="12380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wye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a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ot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fessiona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991200" y="3086280"/>
              <a:ext cx="1257480" cy="952200"/>
              <a:chOff x="6991200" y="3086280"/>
              <a:chExt cx="1257480" cy="952200"/>
            </a:xfrm>
          </p:grpSpPr>
          <p:sp>
            <p:nvSpPr>
              <p:cNvPr id="74" name=""/>
              <p:cNvSpPr/>
              <p:nvPr/>
            </p:nvSpPr>
            <p:spPr>
              <a:xfrm>
                <a:off x="699120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85600" y="3197160"/>
                <a:ext cx="869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676600" y="5867280"/>
            <a:ext cx="3663360" cy="622440"/>
            <a:chOff x="2676600" y="5867280"/>
            <a:chExt cx="3663360" cy="622440"/>
          </a:xfrm>
        </p:grpSpPr>
        <p:grpSp>
          <p:nvGrpSpPr>
            <p:cNvPr id="77" name=""/>
            <p:cNvGrpSpPr/>
            <p:nvPr/>
          </p:nvGrpSpPr>
          <p:grpSpPr>
            <a:xfrm>
              <a:off x="2676600" y="5867280"/>
              <a:ext cx="1508040" cy="622440"/>
              <a:chOff x="2676600" y="5867280"/>
              <a:chExt cx="1508040" cy="622440"/>
            </a:xfrm>
          </p:grpSpPr>
          <p:sp>
            <p:nvSpPr>
              <p:cNvPr id="78" name=""/>
              <p:cNvSpPr/>
              <p:nvPr/>
            </p:nvSpPr>
            <p:spPr>
              <a:xfrm>
                <a:off x="271296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76600" y="5919840"/>
                <a:ext cx="1508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asse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813920" y="5867280"/>
              <a:ext cx="1526040" cy="622440"/>
              <a:chOff x="4813920" y="5867280"/>
              <a:chExt cx="1526040" cy="622440"/>
            </a:xfrm>
          </p:grpSpPr>
          <p:sp>
            <p:nvSpPr>
              <p:cNvPr id="81" name=""/>
              <p:cNvSpPr/>
              <p:nvPr/>
            </p:nvSpPr>
            <p:spPr>
              <a:xfrm>
                <a:off x="485928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3920" y="5919840"/>
                <a:ext cx="1526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sh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1244520" y="2860560"/>
            <a:ext cx="6545520" cy="18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3600" y="4267080"/>
            <a:ext cx="6512040" cy="972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664240"/>
            <a:ext cx="2171880" cy="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40920" y="2870280"/>
            <a:ext cx="3240" cy="2826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3240" y="211140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787880" y="2887560"/>
            <a:ext cx="1800" cy="2304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54840" y="28875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03240" y="2884320"/>
            <a:ext cx="1800" cy="236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82960" y="2870280"/>
            <a:ext cx="1440" cy="2602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5672160"/>
            <a:ext cx="17640" cy="245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608800" y="56577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5400" y="4168800"/>
            <a:ext cx="3240" cy="2761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03240" y="485136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1200" y="2171880"/>
            <a:ext cx="7962840" cy="4362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495520"/>
            <a:ext cx="7334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duce th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of a successful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proven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has a product 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developed a clien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relations have already bee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equipment i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ften be acquired at a goo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720" y="2171880"/>
            <a:ext cx="7924680" cy="43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62320"/>
            <a:ext cx="7143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facilities may be old and obso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/management rela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sonnel may be unprod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may contain a large amount of “dead”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poor quality 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condition and relations with financial institu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inherit any ill will that may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less freedom to define the nature of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Where to Find a Busines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028960"/>
            <a:ext cx="7056720" cy="455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 In your present busines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 From direct, indepen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 Through business broker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ther midd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 Through confidential adv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 From other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00160" y="1682640"/>
            <a:ext cx="5410440" cy="3936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2000" y="1879200"/>
            <a:ext cx="429264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to Net Worth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ss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to Inventory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Collec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6040" y="2934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85840" y="907920"/>
            <a:ext cx="6946920" cy="5613480"/>
            <a:chOff x="1185840" y="907920"/>
            <a:chExt cx="6946920" cy="5613480"/>
          </a:xfrm>
        </p:grpSpPr>
        <p:grpSp>
          <p:nvGrpSpPr>
            <p:cNvPr id="109" name=""/>
            <p:cNvGrpSpPr/>
            <p:nvPr/>
          </p:nvGrpSpPr>
          <p:grpSpPr>
            <a:xfrm>
              <a:off x="1185840" y="907920"/>
              <a:ext cx="6946920" cy="5613480"/>
              <a:chOff x="1185840" y="907920"/>
              <a:chExt cx="6946920" cy="56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1185840" y="907920"/>
                <a:ext cx="6946920" cy="5613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81360" y="936720"/>
                <a:ext cx="416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CAMPBELL C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LANCE SHEET AS OF DEC. 31, 200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88600" y="1471680"/>
                <a:ext cx="6585840" cy="50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000s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receiv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58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xed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chine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25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pment and fixtur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8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fixed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7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Assets (C = A + B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ABILITIES AND 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Liabilities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ng-Term Liabili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**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ong-term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3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pital invest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tained earning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owner’s equit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 and Owner’s Equity (F = D + E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70600" y="36576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600" y="37209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600" y="52833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0600" y="601992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63882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600" y="631188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71800" y="6494400"/>
            <a:ext cx="349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ebt is due within 12 month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Debt is due after 1 ye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7320" y="474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3080" y="1204920"/>
            <a:ext cx="6997680" cy="5313240"/>
            <a:chOff x="973080" y="1204920"/>
            <a:chExt cx="6997680" cy="5313240"/>
          </a:xfrm>
        </p:grpSpPr>
        <p:sp>
          <p:nvSpPr>
            <p:cNvPr id="123" name=""/>
            <p:cNvSpPr/>
            <p:nvPr/>
          </p:nvSpPr>
          <p:spPr>
            <a:xfrm>
              <a:off x="973080" y="1204920"/>
              <a:ext cx="6997680" cy="5313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3680" y="1297080"/>
              <a:ext cx="4984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CAMPBELL C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TATEMENT FOR YEAR ENDING DEC. 31, 200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0600" y="1943280"/>
              <a:ext cx="6124320" cy="44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000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ss sa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42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Retur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Sal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42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sol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ginn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s: Net purcha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2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avail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End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ss Profit (C = A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B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13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ling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2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ve expens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 salar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 administrative expen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Administrative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 Before Income Tax (F = C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D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8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Tax (G = 25% of F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Profit (G = F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G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3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37120" y="38894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41576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7120" y="420516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7120" y="5532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7120" y="6378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120" y="632952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0720" y="2025720"/>
            <a:ext cx="8293320" cy="312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97080"/>
            <a:ext cx="381024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Shee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a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2196720"/>
            <a:ext cx="4195800" cy="27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nings-Base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zation of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Future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2:22Z</dcterms:modified>
  <cp:revision>64</cp:revision>
  <dc:subject/>
  <dc:title>Figure 1.1 The Components of Successful Entrepreneurial Ventures</dc:title>
</cp:coreProperties>
</file>