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0281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953D88-8F90-49DF-BC1B-993064275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57D610-A7AF-4DDD-A773-3F5B1C2BD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0DE3AC-3A2C-4429-8D34-D3034229F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2859D2-748C-408E-85AF-891CD7328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CCD032-5688-4C6A-8030-04BD4E7F0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2F42F4-A8B9-431F-BD0F-0F83C3145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77ED80-FF23-421A-91E0-D6121FDF7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C21DE9-48EB-4336-A35D-1DB9CE6B2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B6EB54-1D41-493E-8501-2063419B8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50BD7C-01D5-4E8B-8B50-CE439E34D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D7FA90-0126-4847-AFBA-761AC768B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2AA12C-C495-43DD-8356-FC0695218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720960" y="6438600"/>
            <a:ext cx="3911760" cy="266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AAC0E-3AC8-4C7A-9CC1-ECAAC3C67A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00,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50880" y="1915920"/>
            <a:ext cx="7772400" cy="1143000"/>
          </a:xfrm>
          <a:prstGeom prst="rect">
            <a:avLst/>
          </a:prstGeom>
          <a:solidFill>
            <a:srgbClr val="ffdbff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Times New Roman"/>
              </a:rPr>
              <a:t>Stage 4: Buying a Busin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termining an Appropriate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ice to Pay for a Busin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ule of Thumb: A common approa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(The fair market value of the company’s assets) 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(the owner’s cost of current inventory) 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(approx. 90% of what appear to be good accounts receivable) 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(a percentage of the company’s net income before taxes as goodwill)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Approximate Value of th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termining an Appropriate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ice to Pay for a Busin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ccfed8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ule of Thumb: Some examp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ook Store – 15% of annual sales + invent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aycare Centre – 2-3 times annual cash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ntal Practice – 60-70% of annual reven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lorist Shop – 34% of annual sales plus invent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staurant (non-franchised) – 30-45% of annual s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ravel Agency – 40-60% of annual commis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24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Brown Co. Valu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5315040"/>
          </a:xfrm>
          <a:prstGeom prst="rect">
            <a:avLst/>
          </a:prstGeom>
          <a:solidFill>
            <a:srgbClr val="ffffcc"/>
          </a:solidFill>
          <a:ln w="5724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come before taxe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$100,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cess salar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50,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on financing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25,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justed pretax incom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175,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axes at 20%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(35,00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justed profit after tax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140,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us depreciatio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25,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ss working capital invest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(5,00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ss capital expenditure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(35,00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tal adjusted free cash flow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$125,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esent value of discounted cash flow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$750,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us excess machiner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50,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otal Value of the Brown Co.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$800,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4533840"/>
            <a:ext cx="8766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315040" y="6000840"/>
            <a:ext cx="9716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26880"/>
            <a:ext cx="7772400" cy="1425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Times New Roman"/>
              </a:rPr>
              <a:t>Key Points to Consider in Buying a Busi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69720" y="1851120"/>
            <a:ext cx="8079120" cy="454824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934920" y="2346480"/>
            <a:ext cx="6986880" cy="37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Take your time and verify the information you are given before you commit yoursel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Don’t fall in love with the business before you do your ho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Be careful not to pay too much for goodwi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Buy a business within an industry you know we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Buy based on the return on investment, not the pr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Don’t use all your cash for the purch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Investigate before you bu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 Systems View of Family Busine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286000" y="1504800"/>
            <a:ext cx="3543480" cy="304812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990720" y="2952720"/>
            <a:ext cx="3448080" cy="3048120"/>
          </a:xfrm>
          <a:prstGeom prst="ellipse">
            <a:avLst/>
          </a:prstGeom>
          <a:solidFill>
            <a:srgbClr val="66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371760" y="3009960"/>
            <a:ext cx="3448080" cy="304812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81480" y="4552920"/>
            <a:ext cx="1467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wnershi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104840" y="4591080"/>
            <a:ext cx="14097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mi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276720" y="1924200"/>
            <a:ext cx="18097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si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685960" y="3295800"/>
            <a:ext cx="60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838760" y="331488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753000" y="4705200"/>
            <a:ext cx="47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790800" y="3943440"/>
            <a:ext cx="36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ifferences Between a Business System and a Family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61800" y="1771560"/>
            <a:ext cx="8477280" cy="47944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23960" y="2171880"/>
            <a:ext cx="3676680" cy="44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SINESS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sk-based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ssion: To product goods/services profitab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etency prevai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eptance is based on perform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s are temporary and contractu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wer: Based on authority and influ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591080" y="2114640"/>
            <a:ext cx="40194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591080" y="2133720"/>
            <a:ext cx="4000320" cy="37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MILY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motion-based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ssion: To nurture offspring into competent adul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quality ru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eptance is uncondi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s are perman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wer: Based on generational stage/birth or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How Can You Prepare for Running the Family Busines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52600" y="2190600"/>
            <a:ext cx="7810200" cy="441972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95320" y="2438280"/>
            <a:ext cx="720108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ll others of your interest in being involved in the family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ke responsibility for your personal develo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in experience outside the family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relationships with individuals who are part of the business’s current 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oid family feu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744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uying a Busi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788240" y="2882880"/>
            <a:ext cx="6480" cy="1382760"/>
          </a:xfrm>
          <a:prstGeom prst="line">
            <a:avLst/>
          </a:prstGeom>
          <a:ln w="255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58080" y="2895480"/>
            <a:ext cx="0" cy="1346400"/>
          </a:xfrm>
          <a:prstGeom prst="line">
            <a:avLst/>
          </a:prstGeom>
          <a:ln w="255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984400" y="2895480"/>
            <a:ext cx="0" cy="1346400"/>
          </a:xfrm>
          <a:prstGeom prst="line">
            <a:avLst/>
          </a:prstGeom>
          <a:ln w="255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251000" y="2895480"/>
            <a:ext cx="0" cy="1346400"/>
          </a:xfrm>
          <a:prstGeom prst="line">
            <a:avLst/>
          </a:prstGeom>
          <a:ln w="255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503600" y="2070000"/>
            <a:ext cx="0" cy="3581640"/>
          </a:xfrm>
          <a:prstGeom prst="line">
            <a:avLst/>
          </a:prstGeom>
          <a:ln w="255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2889360" y="1682640"/>
            <a:ext cx="3238560" cy="585720"/>
            <a:chOff x="2889360" y="1682640"/>
            <a:chExt cx="3238560" cy="585720"/>
          </a:xfrm>
        </p:grpSpPr>
        <p:sp>
          <p:nvSpPr>
            <p:cNvPr id="49" name=""/>
            <p:cNvSpPr/>
            <p:nvPr/>
          </p:nvSpPr>
          <p:spPr>
            <a:xfrm>
              <a:off x="2889360" y="1682640"/>
              <a:ext cx="3238560" cy="381240"/>
            </a:xfrm>
            <a:prstGeom prst="roundRect">
              <a:avLst>
                <a:gd name="adj" fmla="val 12495"/>
              </a:avLst>
            </a:prstGeom>
            <a:solidFill>
              <a:srgbClr val="99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438360" y="1749600"/>
              <a:ext cx="214164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uy an existing busine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2875320" y="2330280"/>
            <a:ext cx="3266640" cy="381240"/>
            <a:chOff x="2875320" y="2330280"/>
            <a:chExt cx="3266640" cy="381240"/>
          </a:xfrm>
        </p:grpSpPr>
        <p:sp>
          <p:nvSpPr>
            <p:cNvPr id="52" name=""/>
            <p:cNvSpPr/>
            <p:nvPr/>
          </p:nvSpPr>
          <p:spPr>
            <a:xfrm>
              <a:off x="2889360" y="2330280"/>
              <a:ext cx="3238560" cy="381240"/>
            </a:xfrm>
            <a:prstGeom prst="roundRect">
              <a:avLst>
                <a:gd name="adj" fmla="val 12495"/>
              </a:avLst>
            </a:prstGeom>
            <a:solidFill>
              <a:srgbClr val="99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875320" y="2403360"/>
              <a:ext cx="32666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here can you find a business to buy?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2412720" y="4400640"/>
            <a:ext cx="4193280" cy="406440"/>
            <a:chOff x="2412720" y="4400640"/>
            <a:chExt cx="4193280" cy="406440"/>
          </a:xfrm>
        </p:grpSpPr>
        <p:sp>
          <p:nvSpPr>
            <p:cNvPr id="55" name=""/>
            <p:cNvSpPr/>
            <p:nvPr/>
          </p:nvSpPr>
          <p:spPr>
            <a:xfrm>
              <a:off x="2425680" y="4400640"/>
              <a:ext cx="4165560" cy="406440"/>
            </a:xfrm>
            <a:prstGeom prst="roundRect">
              <a:avLst>
                <a:gd name="adj" fmla="val 12495"/>
              </a:avLst>
            </a:prstGeom>
            <a:solidFill>
              <a:srgbClr val="99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412720" y="4491000"/>
              <a:ext cx="41932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valuate all the aspects of the potential acquisi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2425680" y="5035680"/>
            <a:ext cx="4165560" cy="393480"/>
            <a:chOff x="2425680" y="5035680"/>
            <a:chExt cx="4165560" cy="393480"/>
          </a:xfrm>
        </p:grpSpPr>
        <p:sp>
          <p:nvSpPr>
            <p:cNvPr id="58" name=""/>
            <p:cNvSpPr/>
            <p:nvPr/>
          </p:nvSpPr>
          <p:spPr>
            <a:xfrm>
              <a:off x="2425680" y="5035680"/>
              <a:ext cx="4165560" cy="393480"/>
            </a:xfrm>
            <a:prstGeom prst="roundRect">
              <a:avLst>
                <a:gd name="adj" fmla="val 12495"/>
              </a:avLst>
            </a:prstGeom>
            <a:solidFill>
              <a:srgbClr val="99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186360" y="5102280"/>
              <a:ext cx="26449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etermine an appropriate pri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768240" y="3086280"/>
            <a:ext cx="7480440" cy="952200"/>
            <a:chOff x="768240" y="3086280"/>
            <a:chExt cx="7480440" cy="952200"/>
          </a:xfrm>
        </p:grpSpPr>
        <p:grpSp>
          <p:nvGrpSpPr>
            <p:cNvPr id="61" name=""/>
            <p:cNvGrpSpPr/>
            <p:nvPr/>
          </p:nvGrpSpPr>
          <p:grpSpPr>
            <a:xfrm>
              <a:off x="3841920" y="3086280"/>
              <a:ext cx="1257120" cy="952200"/>
              <a:chOff x="3841920" y="3086280"/>
              <a:chExt cx="1257120" cy="952200"/>
            </a:xfrm>
          </p:grpSpPr>
          <p:sp>
            <p:nvSpPr>
              <p:cNvPr id="62" name=""/>
              <p:cNvSpPr/>
              <p:nvPr/>
            </p:nvSpPr>
            <p:spPr>
              <a:xfrm>
                <a:off x="3841920" y="3086280"/>
                <a:ext cx="1257120" cy="952200"/>
              </a:xfrm>
              <a:prstGeom prst="roundRect">
                <a:avLst>
                  <a:gd name="adj" fmla="val 12495"/>
                </a:avLst>
              </a:prstGeom>
              <a:solidFill>
                <a:srgbClr val="99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3907080" y="3090960"/>
                <a:ext cx="1128240" cy="94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Busines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brokers an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real estate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agent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" name=""/>
            <p:cNvGrpSpPr/>
            <p:nvPr/>
          </p:nvGrpSpPr>
          <p:grpSpPr>
            <a:xfrm>
              <a:off x="768240" y="3086280"/>
              <a:ext cx="1257480" cy="952200"/>
              <a:chOff x="768240" y="3086280"/>
              <a:chExt cx="1257480" cy="952200"/>
            </a:xfrm>
          </p:grpSpPr>
          <p:sp>
            <p:nvSpPr>
              <p:cNvPr id="65" name=""/>
              <p:cNvSpPr/>
              <p:nvPr/>
            </p:nvSpPr>
            <p:spPr>
              <a:xfrm>
                <a:off x="768240" y="3086280"/>
                <a:ext cx="1257480" cy="952200"/>
              </a:xfrm>
              <a:prstGeom prst="roundRect">
                <a:avLst>
                  <a:gd name="adj" fmla="val 12495"/>
                </a:avLst>
              </a:prstGeom>
              <a:solidFill>
                <a:srgbClr val="99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971640" y="3197160"/>
                <a:ext cx="852480" cy="73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Curren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jo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contact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" name=""/>
            <p:cNvGrpSpPr/>
            <p:nvPr/>
          </p:nvGrpSpPr>
          <p:grpSpPr>
            <a:xfrm>
              <a:off x="2343240" y="3086280"/>
              <a:ext cx="1257120" cy="952200"/>
              <a:chOff x="2343240" y="3086280"/>
              <a:chExt cx="1257120" cy="952200"/>
            </a:xfrm>
          </p:grpSpPr>
          <p:sp>
            <p:nvSpPr>
              <p:cNvPr id="68" name=""/>
              <p:cNvSpPr/>
              <p:nvPr/>
            </p:nvSpPr>
            <p:spPr>
              <a:xfrm>
                <a:off x="2343240" y="3086280"/>
                <a:ext cx="1257120" cy="952200"/>
              </a:xfrm>
              <a:prstGeom prst="roundRect">
                <a:avLst>
                  <a:gd name="adj" fmla="val 12495"/>
                </a:avLst>
              </a:prstGeom>
              <a:solidFill>
                <a:srgbClr val="99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387160" y="3090960"/>
                <a:ext cx="1169640" cy="94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Local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newspaper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and trad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association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" name=""/>
            <p:cNvGrpSpPr/>
            <p:nvPr/>
          </p:nvGrpSpPr>
          <p:grpSpPr>
            <a:xfrm>
              <a:off x="5427720" y="3086280"/>
              <a:ext cx="1257120" cy="952200"/>
              <a:chOff x="5427720" y="3086280"/>
              <a:chExt cx="1257120" cy="952200"/>
            </a:xfrm>
          </p:grpSpPr>
          <p:sp>
            <p:nvSpPr>
              <p:cNvPr id="71" name=""/>
              <p:cNvSpPr/>
              <p:nvPr/>
            </p:nvSpPr>
            <p:spPr>
              <a:xfrm>
                <a:off x="5427720" y="3086280"/>
                <a:ext cx="1257120" cy="952200"/>
              </a:xfrm>
              <a:prstGeom prst="roundRect">
                <a:avLst>
                  <a:gd name="adj" fmla="val 12495"/>
                </a:avLst>
              </a:prstGeom>
              <a:solidFill>
                <a:srgbClr val="99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5437440" y="3090960"/>
                <a:ext cx="1238040" cy="94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Lawyers,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accountant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and othe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professional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" name=""/>
            <p:cNvGrpSpPr/>
            <p:nvPr/>
          </p:nvGrpSpPr>
          <p:grpSpPr>
            <a:xfrm>
              <a:off x="6991200" y="3086280"/>
              <a:ext cx="1257480" cy="952200"/>
              <a:chOff x="6991200" y="3086280"/>
              <a:chExt cx="1257480" cy="952200"/>
            </a:xfrm>
          </p:grpSpPr>
          <p:sp>
            <p:nvSpPr>
              <p:cNvPr id="74" name=""/>
              <p:cNvSpPr/>
              <p:nvPr/>
            </p:nvSpPr>
            <p:spPr>
              <a:xfrm>
                <a:off x="6991200" y="3086280"/>
                <a:ext cx="1257480" cy="952200"/>
              </a:xfrm>
              <a:prstGeom prst="roundRect">
                <a:avLst>
                  <a:gd name="adj" fmla="val 12495"/>
                </a:avLst>
              </a:prstGeom>
              <a:solidFill>
                <a:srgbClr val="99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185600" y="3197160"/>
                <a:ext cx="869400" cy="73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You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personal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network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" name=""/>
          <p:cNvGrpSpPr/>
          <p:nvPr/>
        </p:nvGrpSpPr>
        <p:grpSpPr>
          <a:xfrm>
            <a:off x="2676600" y="5867280"/>
            <a:ext cx="3663360" cy="622440"/>
            <a:chOff x="2676600" y="5867280"/>
            <a:chExt cx="3663360" cy="622440"/>
          </a:xfrm>
        </p:grpSpPr>
        <p:grpSp>
          <p:nvGrpSpPr>
            <p:cNvPr id="77" name=""/>
            <p:cNvGrpSpPr/>
            <p:nvPr/>
          </p:nvGrpSpPr>
          <p:grpSpPr>
            <a:xfrm>
              <a:off x="2676600" y="5867280"/>
              <a:ext cx="1508040" cy="622440"/>
              <a:chOff x="2676600" y="5867280"/>
              <a:chExt cx="1508040" cy="622440"/>
            </a:xfrm>
          </p:grpSpPr>
          <p:sp>
            <p:nvSpPr>
              <p:cNvPr id="78" name=""/>
              <p:cNvSpPr/>
              <p:nvPr/>
            </p:nvSpPr>
            <p:spPr>
              <a:xfrm>
                <a:off x="2712960" y="5867280"/>
                <a:ext cx="1435320" cy="622440"/>
              </a:xfrm>
              <a:prstGeom prst="roundRect">
                <a:avLst>
                  <a:gd name="adj" fmla="val 12495"/>
                </a:avLst>
              </a:prstGeom>
              <a:solidFill>
                <a:srgbClr val="99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2676600" y="5919840"/>
                <a:ext cx="1508040" cy="51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Purchase asset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of busines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4813920" y="5867280"/>
              <a:ext cx="1526040" cy="622440"/>
              <a:chOff x="4813920" y="5867280"/>
              <a:chExt cx="1526040" cy="622440"/>
            </a:xfrm>
          </p:grpSpPr>
          <p:sp>
            <p:nvSpPr>
              <p:cNvPr id="81" name=""/>
              <p:cNvSpPr/>
              <p:nvPr/>
            </p:nvSpPr>
            <p:spPr>
              <a:xfrm>
                <a:off x="4859280" y="5867280"/>
                <a:ext cx="1435320" cy="622440"/>
              </a:xfrm>
              <a:prstGeom prst="roundRect">
                <a:avLst>
                  <a:gd name="adj" fmla="val 12495"/>
                </a:avLst>
              </a:prstGeom>
              <a:solidFill>
                <a:srgbClr val="99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813920" y="5919840"/>
                <a:ext cx="1526040" cy="51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Purchase share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of busines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3" name=""/>
          <p:cNvSpPr/>
          <p:nvPr/>
        </p:nvSpPr>
        <p:spPr>
          <a:xfrm>
            <a:off x="1244520" y="2860560"/>
            <a:ext cx="6545520" cy="1800"/>
          </a:xfrm>
          <a:prstGeom prst="line">
            <a:avLst/>
          </a:prstGeom>
          <a:ln w="255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263600" y="4267080"/>
            <a:ext cx="6512040" cy="9720"/>
          </a:xfrm>
          <a:prstGeom prst="line">
            <a:avLst/>
          </a:prstGeom>
          <a:ln w="255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422520" y="5664240"/>
            <a:ext cx="2171880" cy="0"/>
          </a:xfrm>
          <a:prstGeom prst="line">
            <a:avLst/>
          </a:prstGeom>
          <a:ln w="255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1240920" y="2870280"/>
            <a:ext cx="3240" cy="282600"/>
          </a:xfrm>
          <a:prstGeom prst="line">
            <a:avLst/>
          </a:prstGeom>
          <a:ln w="25560">
            <a:solidFill>
              <a:srgbClr val="ff6633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4503240" y="2111400"/>
            <a:ext cx="1800" cy="236520"/>
          </a:xfrm>
          <a:prstGeom prst="line">
            <a:avLst/>
          </a:prstGeom>
          <a:ln w="25560">
            <a:solidFill>
              <a:srgbClr val="ff6633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7787880" y="2887560"/>
            <a:ext cx="1800" cy="230400"/>
          </a:xfrm>
          <a:prstGeom prst="line">
            <a:avLst/>
          </a:prstGeom>
          <a:ln w="25560">
            <a:solidFill>
              <a:srgbClr val="ff6633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6054840" y="2887560"/>
            <a:ext cx="1440" cy="236520"/>
          </a:xfrm>
          <a:prstGeom prst="line">
            <a:avLst/>
          </a:prstGeom>
          <a:ln w="25560">
            <a:solidFill>
              <a:srgbClr val="ff6633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4503240" y="2884320"/>
            <a:ext cx="1800" cy="236880"/>
          </a:xfrm>
          <a:prstGeom prst="line">
            <a:avLst/>
          </a:prstGeom>
          <a:ln w="25560">
            <a:solidFill>
              <a:srgbClr val="ff6633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2982960" y="2870280"/>
            <a:ext cx="1440" cy="260280"/>
          </a:xfrm>
          <a:prstGeom prst="line">
            <a:avLst/>
          </a:prstGeom>
          <a:ln w="25560">
            <a:solidFill>
              <a:srgbClr val="ff6633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411360" y="5672160"/>
            <a:ext cx="17640" cy="245880"/>
          </a:xfrm>
          <a:prstGeom prst="line">
            <a:avLst/>
          </a:prstGeom>
          <a:ln w="25560">
            <a:solidFill>
              <a:srgbClr val="ff6633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5608800" y="5657760"/>
            <a:ext cx="1440" cy="236520"/>
          </a:xfrm>
          <a:prstGeom prst="line">
            <a:avLst/>
          </a:prstGeom>
          <a:ln w="25560">
            <a:solidFill>
              <a:srgbClr val="ff6633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505400" y="4168800"/>
            <a:ext cx="3240" cy="276120"/>
          </a:xfrm>
          <a:prstGeom prst="line">
            <a:avLst/>
          </a:prstGeom>
          <a:ln w="25560">
            <a:solidFill>
              <a:srgbClr val="ff6633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4503240" y="4851360"/>
            <a:ext cx="1800" cy="236520"/>
          </a:xfrm>
          <a:prstGeom prst="line">
            <a:avLst/>
          </a:prstGeom>
          <a:ln w="25560">
            <a:solidFill>
              <a:srgbClr val="ff6633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vantages of Buying an Established Busin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81200" y="2171880"/>
            <a:ext cx="7962840" cy="4362120"/>
          </a:xfrm>
          <a:prstGeom prst="rect">
            <a:avLst/>
          </a:prstGeom>
          <a:solidFill>
            <a:srgbClr val="66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143000" y="2495520"/>
            <a:ext cx="7334280" cy="36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reduce the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reases the likelihood of a successful op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s a proven lo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ready has a product or serv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s already developed a cliente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ancial relations have already been establish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duction equipment is already avail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often be acquired at a good pr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advantages of Buying an Established Busin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66720" y="2171880"/>
            <a:ext cx="7924680" cy="43621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09800" y="2362320"/>
            <a:ext cx="714348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ysical facilities may be old and obsole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on/management relations may be po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ent personnel may be unproduct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entory may contain a large amount of “dead” st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y have poor quality accounts receiv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ation may be po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ncial condition and relations with financial institutions may be po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may inherit any ill will that may exi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have less freedom to define the nature of the busi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Times New Roman"/>
              </a:rPr>
              <a:t>Where to Find a Business to Bu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58760" y="2028960"/>
            <a:ext cx="7056720" cy="455904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1. In your present business activ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2. From direct, independent conta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3. Through business brokers an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other middlem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4. Through confidential advis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5. From other sour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2000160" y="1682640"/>
            <a:ext cx="5410440" cy="3936960"/>
          </a:xfrm>
          <a:prstGeom prst="rect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atio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502000" y="1879200"/>
            <a:ext cx="4292640" cy="367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urrent Rat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uick Rat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bt to Net Worth Rat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ross Profit to Sales Rat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et Profit to Sales Rat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turn on Ass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ales to Inventory Rat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verage Collection Peri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6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2" dur="1" fill="hold"/>
                                  <p:tgtEl>
                                    <p:spTgt spid="106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16040" y="293400"/>
            <a:ext cx="7772400" cy="770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 of a Simplified Balance She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1185840" y="907920"/>
            <a:ext cx="6946920" cy="5613480"/>
            <a:chOff x="1185840" y="907920"/>
            <a:chExt cx="6946920" cy="5613480"/>
          </a:xfrm>
        </p:grpSpPr>
        <p:grpSp>
          <p:nvGrpSpPr>
            <p:cNvPr id="109" name=""/>
            <p:cNvGrpSpPr/>
            <p:nvPr/>
          </p:nvGrpSpPr>
          <p:grpSpPr>
            <a:xfrm>
              <a:off x="1185840" y="907920"/>
              <a:ext cx="6946920" cy="5613480"/>
              <a:chOff x="1185840" y="907920"/>
              <a:chExt cx="6946920" cy="5613480"/>
            </a:xfrm>
          </p:grpSpPr>
          <p:sp>
            <p:nvSpPr>
              <p:cNvPr id="110" name=""/>
              <p:cNvSpPr/>
              <p:nvPr/>
            </p:nvSpPr>
            <p:spPr>
              <a:xfrm>
                <a:off x="1185840" y="907920"/>
                <a:ext cx="6946920" cy="5613480"/>
              </a:xfrm>
              <a:prstGeom prst="rect">
                <a:avLst/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2781360" y="936720"/>
                <a:ext cx="4164120" cy="51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THE CAMPBELL CO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BALANCE SHEET AS OF DEC. 31, 200Y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1488600" y="1471680"/>
                <a:ext cx="6585840" cy="501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r" pos="4118040"/>
                    <a:tab algn="r" pos="5032440"/>
                    <a:tab algn="r" pos="59450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ASSETS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(000s)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r" pos="4118040"/>
                    <a:tab algn="r" pos="5032440"/>
                    <a:tab algn="r" pos="59450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Current Asset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r" pos="4118040"/>
                    <a:tab algn="r" pos="5032440"/>
                    <a:tab algn="r" pos="59450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ash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$ 2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r" pos="4118040"/>
                    <a:tab algn="r" pos="5032440"/>
                    <a:tab algn="r" pos="59450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ccounts receivable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5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r" pos="4118040"/>
                    <a:tab algn="r" pos="5032440"/>
                    <a:tab algn="r" pos="59450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Inventory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2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    8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r" pos="4118040"/>
                    <a:tab algn="r" pos="5032440"/>
                    <a:tab algn="r" pos="59450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Total current assets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$ 158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(A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r" pos="4118040"/>
                    <a:tab algn="r" pos="5032440"/>
                    <a:tab algn="r" pos="59450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Fixed Asset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r" pos="4118040"/>
                    <a:tab algn="r" pos="5032440"/>
                    <a:tab algn="r" pos="59450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Machinery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$ 4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r" pos="4118040"/>
                    <a:tab algn="r" pos="5032440"/>
                    <a:tab algn="r" pos="59450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Less: Accumulated depreciation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0" lang="en-US" sz="12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   25</a:t>
                </a:r>
                <a:r>
                  <a:rPr b="0" lang="en-US" sz="12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	</a:t>
                </a:r>
                <a:r>
                  <a:rPr b="0" lang="en-US" sz="12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   1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r" pos="4118040"/>
                    <a:tab algn="r" pos="5032440"/>
                    <a:tab algn="r" pos="59450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quipment and fixtures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3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r" pos="4118040"/>
                    <a:tab algn="r" pos="5032440"/>
                    <a:tab algn="r" pos="59450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Less: Accumulated depreciation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2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   18</a:t>
                </a:r>
                <a:r>
                  <a:rPr b="0" lang="en-US" sz="12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	</a:t>
                </a:r>
                <a:r>
                  <a:rPr b="0" lang="en-US" sz="12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   1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r" pos="4118040"/>
                    <a:tab algn="r" pos="5032440"/>
                    <a:tab algn="r" pos="59450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Total fixed assets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12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27 </a:t>
                </a:r>
                <a:r>
                  <a:rPr b="0" lang="en-US" sz="12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 </a:t>
                </a:r>
                <a:r>
                  <a:rPr b="1" lang="en-US" sz="12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(B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r" pos="4118040"/>
                    <a:tab algn="r" pos="5032440"/>
                    <a:tab algn="r" pos="59450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Total Assets (C = A + B)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$ 185  (C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r" pos="4118040"/>
                    <a:tab algn="r" pos="5032440"/>
                    <a:tab algn="r" pos="59450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r" pos="4118040"/>
                    <a:tab algn="r" pos="5032440"/>
                    <a:tab algn="r" pos="59450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LIABILITIES AND OWNER’S EQUIT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r" pos="4118040"/>
                    <a:tab algn="r" pos="5032440"/>
                    <a:tab algn="r" pos="59450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Current Liabilities*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r" pos="4118040"/>
                    <a:tab algn="r" pos="5032440"/>
                    <a:tab algn="r" pos="59450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ccounts payable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$ 6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r" pos="4118040"/>
                    <a:tab algn="r" pos="5032440"/>
                    <a:tab algn="r" pos="59450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Notes payable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2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   3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r" pos="4118040"/>
                    <a:tab algn="r" pos="5032440"/>
                    <a:tab algn="r" pos="59450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Total current liabilities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9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r" pos="4118040"/>
                    <a:tab algn="r" pos="5032440"/>
                    <a:tab algn="r" pos="59450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Long-Term Liabilitie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r" pos="4118040"/>
                    <a:tab algn="r" pos="5032440"/>
                    <a:tab algn="r" pos="59450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Notes payable**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2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$ 4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r" pos="4118040"/>
                    <a:tab algn="r" pos="5032440"/>
                    <a:tab algn="r" pos="59450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Total long-term liabilities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2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   4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r" pos="4118040"/>
                    <a:tab algn="r" pos="5032440"/>
                    <a:tab algn="r" pos="59450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Total liabilities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$ 135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(D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r" pos="4118040"/>
                    <a:tab algn="r" pos="5032440"/>
                    <a:tab algn="r" pos="59450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r" pos="4118040"/>
                    <a:tab algn="r" pos="5032440"/>
                    <a:tab algn="r" pos="59450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OWNER’S EQUIT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r" pos="4118040"/>
                    <a:tab algn="r" pos="5032440"/>
                    <a:tab algn="r" pos="59450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apital investment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2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r" pos="4118040"/>
                    <a:tab algn="r" pos="5032440"/>
                    <a:tab algn="r" pos="59450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etained earnings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2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   3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r" pos="4118040"/>
                    <a:tab algn="r" pos="5032440"/>
                    <a:tab algn="r" pos="59450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Total owner’s equity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 50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(E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70000"/>
                  </a:lnSpc>
                  <a:tabLst>
                    <a:tab algn="l" pos="0"/>
                    <a:tab algn="l" pos="457200"/>
                    <a:tab algn="l" pos="914400"/>
                    <a:tab algn="r" pos="4118040"/>
                    <a:tab algn="r" pos="5032440"/>
                    <a:tab algn="r" pos="59450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r" pos="4118040"/>
                    <a:tab algn="r" pos="5032440"/>
                    <a:tab algn="r" pos="59450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Total Liabilities and Owner’s Equity (F = D + E)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$ 185  (F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r" pos="4118040"/>
                    <a:tab algn="r" pos="5032440"/>
                    <a:tab algn="r" pos="59450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6870600" y="3657600"/>
              <a:ext cx="660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870600" y="3720960"/>
              <a:ext cx="660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70600" y="5283360"/>
              <a:ext cx="660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870600" y="6019920"/>
              <a:ext cx="660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870600" y="6388200"/>
              <a:ext cx="660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870600" y="6311880"/>
              <a:ext cx="660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1171800" y="6494400"/>
            <a:ext cx="349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* Debt is due within 12 months.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** Debt is due after 1 year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805360" y="658188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87320" y="474840"/>
            <a:ext cx="7772400" cy="698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 of a Simplified Income Stat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973080" y="1204920"/>
            <a:ext cx="6997680" cy="5313240"/>
            <a:chOff x="973080" y="1204920"/>
            <a:chExt cx="6997680" cy="5313240"/>
          </a:xfrm>
        </p:grpSpPr>
        <p:sp>
          <p:nvSpPr>
            <p:cNvPr id="123" name=""/>
            <p:cNvSpPr/>
            <p:nvPr/>
          </p:nvSpPr>
          <p:spPr>
            <a:xfrm>
              <a:off x="973080" y="1204920"/>
              <a:ext cx="6997680" cy="531324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173680" y="1297080"/>
              <a:ext cx="498420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HE CAMPBELL CO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NCOME STATEMENT FOR YEAR ENDING DEC. 31, 200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560600" y="1943280"/>
              <a:ext cx="6124320" cy="443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r" pos="3656160"/>
                  <a:tab algn="dec" pos="4686480"/>
                  <a:tab algn="r" pos="54849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000s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r" pos="3656160"/>
                  <a:tab algn="dec" pos="4686480"/>
                  <a:tab algn="r" pos="54849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ross sales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$ 428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r" pos="3656160"/>
                  <a:tab algn="dec" pos="4686480"/>
                  <a:tab algn="r" pos="54849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ess: Returns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     3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r" pos="3656160"/>
                  <a:tab algn="dec" pos="4686480"/>
                  <a:tab algn="r" pos="54849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et Sales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$ 425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(A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457200"/>
                  <a:tab algn="r" pos="3656160"/>
                  <a:tab algn="dec" pos="4686480"/>
                  <a:tab algn="r" pos="54849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r" pos="3656160"/>
                  <a:tab algn="dec" pos="4686480"/>
                  <a:tab algn="r" pos="54849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st of goods sold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r" pos="3656160"/>
                  <a:tab algn="dec" pos="4686480"/>
                  <a:tab algn="r" pos="54849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Beginning inventory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$  7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r" pos="3656160"/>
                  <a:tab algn="dec" pos="4686480"/>
                  <a:tab algn="r" pos="54849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lus: Net purchases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  29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r" pos="3656160"/>
                  <a:tab algn="dec" pos="4686480"/>
                  <a:tab algn="r" pos="54849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st of goods available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7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r" pos="3656160"/>
                  <a:tab algn="dec" pos="4686480"/>
                  <a:tab algn="r" pos="54849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ess: Ending inventory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    8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r" pos="3656160"/>
                  <a:tab algn="dec" pos="4686480"/>
                  <a:tab algn="r" pos="54849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ost of Goods Sold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292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(B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457200"/>
                  <a:tab algn="r" pos="3656160"/>
                  <a:tab algn="dec" pos="4686480"/>
                  <a:tab algn="r" pos="54849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r" pos="3656160"/>
                  <a:tab algn="dec" pos="4686480"/>
                  <a:tab algn="r" pos="54849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Gross Profit (C = A 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B)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$ 133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(C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457200"/>
                  <a:tab algn="r" pos="3656160"/>
                  <a:tab algn="dec" pos="4686480"/>
                  <a:tab algn="r" pos="54849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r" pos="3656160"/>
                  <a:tab algn="dec" pos="4686480"/>
                  <a:tab algn="r" pos="54849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elling Expenses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$   29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(D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r" pos="3656160"/>
                  <a:tab algn="dec" pos="4686480"/>
                  <a:tab algn="r" pos="54849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dministrative expenses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r" pos="3656160"/>
                  <a:tab algn="dec" pos="4686480"/>
                  <a:tab algn="r" pos="54849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ffice salaries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$  6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r" pos="3656160"/>
                  <a:tab algn="dec" pos="4686480"/>
                  <a:tab algn="r" pos="54849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terest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r" pos="3656160"/>
                  <a:tab algn="dec" pos="4686480"/>
                  <a:tab algn="r" pos="54849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epreciation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r" pos="3656160"/>
                  <a:tab algn="dec" pos="4686480"/>
                  <a:tab algn="r" pos="54849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ther administrative expenses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      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r" pos="3656160"/>
                  <a:tab algn="dec" pos="4686480"/>
                  <a:tab algn="r" pos="54849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otal Administrative Expenses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86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(E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457200"/>
                  <a:tab algn="r" pos="3656160"/>
                  <a:tab algn="dec" pos="4686480"/>
                  <a:tab algn="r" pos="54849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r" pos="3656160"/>
                  <a:tab algn="dec" pos="4686480"/>
                  <a:tab algn="r" pos="54849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rofit Before Income Tax (F = C 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D 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E)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$   18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(F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457200"/>
                  <a:tab algn="r" pos="3656160"/>
                  <a:tab algn="dec" pos="4686480"/>
                  <a:tab algn="r" pos="54849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r" pos="3656160"/>
                  <a:tab algn="dec" pos="4686480"/>
                  <a:tab algn="r" pos="54849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ncome Tax (G = 25% of F)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4.5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(G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457200"/>
                  <a:tab algn="r" pos="3656160"/>
                  <a:tab algn="dec" pos="4686480"/>
                  <a:tab algn="r" pos="54849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r" pos="3656160"/>
                  <a:tab algn="dec" pos="4686480"/>
                  <a:tab algn="r" pos="54849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et Profit (G = F 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G)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$   13.5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(H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937120" y="3889440"/>
              <a:ext cx="528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937120" y="4157640"/>
              <a:ext cx="528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937120" y="4205160"/>
              <a:ext cx="528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937120" y="5532480"/>
              <a:ext cx="528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937120" y="6378480"/>
              <a:ext cx="528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937120" y="6329520"/>
              <a:ext cx="528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50720" y="2025720"/>
            <a:ext cx="8293320" cy="3124080"/>
          </a:xfrm>
          <a:prstGeom prst="rect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termining an Appropriate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ice to Pay for a Busin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09480" y="2197080"/>
            <a:ext cx="3810240" cy="28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alance Sheet Metho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 Book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ified Book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quidation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571640" y="2196720"/>
            <a:ext cx="4195800" cy="273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arnings-Based Metho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pitalization of Earni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ounted Future Earni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ounted Cash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  <p:animClr clrSpc="rgb">
                                <p:cBhvr>
                                  <p:cTn id="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  <p:animClr clrSpc="rgb">
                                <p:cBhvr>
                                  <p:cTn id="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  <p:animClr clrSpc="rgb">
                                <p:cBhvr>
                                  <p:cTn id="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7" dur="1" fill="hold"/>
                                  <p:tgtEl>
                                    <p:spTgt spid="13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  <p:animClr clrSpc="rgb">
                                <p:cBhvr>
                                  <p:cTn id="98" dur="1" fill="hold"/>
                                  <p:tgtEl>
                                    <p:spTgt spid="13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  <p:animClr clrSpc="rgb">
                                <p:cBhvr>
                                  <p:cTn id="99" dur="1" fill="hold"/>
                                  <p:tgtEl>
                                    <p:spTgt spid="13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  <p:animClr clrSpc="rgb">
                                <p:cBhvr>
                                  <p:cTn id="100" dur="1" fill="hold"/>
                                  <p:tgtEl>
                                    <p:spTgt spid="13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5-05T03:10:40Z</dcterms:created>
  <dc:creator>Chris Spafford</dc:creator>
  <dc:description/>
  <dc:language>en-US</dc:language>
  <cp:lastModifiedBy>lori_mclellan</cp:lastModifiedBy>
  <cp:lastPrinted>2002-04-30T04:11:37Z</cp:lastPrinted>
  <dcterms:modified xsi:type="dcterms:W3CDTF">2008-02-12T15:52:22Z</dcterms:modified>
  <cp:revision>64</cp:revision>
  <dc:subject/>
  <dc:title>Figure 1.1 The Components of Successful Entrepreneurial Ventures</dc:title>
</cp:coreProperties>
</file>