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3209-AABC-4DD4-AF57-9982D467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7FEF-8AC9-40D6-84CE-2E13470D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D573-74B7-4AEF-90BC-A9A5A067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F25D-047E-4C5A-95B1-11E5F878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D0664-CD96-43E7-8C94-DC9E1386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E1D6-E06A-4033-B835-7A1D0888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1CA6-AF18-442F-930B-A5D6374A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1F17-55CE-4601-92E9-D7346FD0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221E-F56D-454E-B619-39837116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B611-C3C4-4346-94F1-09A6E7AE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302F-CF36-40C8-9A10-B82A12B1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5EEC-204F-46A5-828C-52E5FD23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A5D3-0A63-4B0B-91CA-91433C2C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880" y="191592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4: Buying a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A commo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fair market value of the company’s assets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the owner’s cost of current inventory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pprox. 90% of what appear to be good accounts receivable)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a percentage of the company’s net income before taxes as goodwill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pproximate Value of th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of Thumb: Som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Store – 15% of annual sales +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care Centre – 2-3 times annual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tal Practice – 60-70% of annual rev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st Shop – 34% of annual sales plu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taurant (non-franchised) – 30-45% of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vel Agency – 40-60% of annual com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24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own Co. 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31504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ome before tax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ess sal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on financ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etax inco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7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xes at 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ed profit after t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14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depreci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working capital inves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(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capital expenditur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35,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djusted free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125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value of discounted cash f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$7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s excess machine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Value of the Brown Co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8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4533840"/>
            <a:ext cx="876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15040" y="6000840"/>
            <a:ext cx="9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688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Key Points to Consider in 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720" y="1851120"/>
            <a:ext cx="8079120" cy="4548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4920" y="2346480"/>
            <a:ext cx="6986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ake your time and verify the information you are given before you commit your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fall in love with the business before you do your ho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 careful not to pay too much for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a business within an industry you know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y based on the return on investment, not the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n’t use all your cash for the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vestigate before you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ystems View of Family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04800"/>
            <a:ext cx="3543480" cy="30481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952720"/>
            <a:ext cx="3448080" cy="304812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71760" y="3009960"/>
            <a:ext cx="3448080" cy="30481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4552920"/>
            <a:ext cx="1467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04840" y="4591080"/>
            <a:ext cx="140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24200"/>
            <a:ext cx="1809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5960" y="3295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38760" y="331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3000" y="47052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394344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ferences Between a Business System and a Family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1800" y="1771560"/>
            <a:ext cx="8477280" cy="4794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3960" y="2171880"/>
            <a:ext cx="36766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product goods/services profit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y prev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based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temporary and contr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authority and infl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1080" y="2114640"/>
            <a:ext cx="401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1080" y="2133720"/>
            <a:ext cx="40003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L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tion-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: To nurture offspring into competent ad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ity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is uncon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are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: Based on generational stage/birt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Can You Prepare for Running the Family Busine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600" y="2190600"/>
            <a:ext cx="7810200" cy="4419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5320" y="2438280"/>
            <a:ext cx="720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 others of your interest in being involved in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responsibility for your perso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experience outside the family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relationships with individuals who are part of the business’s curren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family f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44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ying a Bus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88240" y="2882880"/>
            <a:ext cx="6480" cy="138276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5808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44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1000" y="2895480"/>
            <a:ext cx="0" cy="13464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3600" y="2070000"/>
            <a:ext cx="0" cy="358164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889360" y="1682640"/>
            <a:ext cx="3238560" cy="585720"/>
            <a:chOff x="2889360" y="1682640"/>
            <a:chExt cx="3238560" cy="585720"/>
          </a:xfrm>
        </p:grpSpPr>
        <p:sp>
          <p:nvSpPr>
            <p:cNvPr id="49" name=""/>
            <p:cNvSpPr/>
            <p:nvPr/>
          </p:nvSpPr>
          <p:spPr>
            <a:xfrm>
              <a:off x="2889360" y="168264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38360" y="1749600"/>
              <a:ext cx="2141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uy an existing 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75320" y="2330280"/>
            <a:ext cx="3266640" cy="381240"/>
            <a:chOff x="2875320" y="2330280"/>
            <a:chExt cx="3266640" cy="381240"/>
          </a:xfrm>
        </p:grpSpPr>
        <p:sp>
          <p:nvSpPr>
            <p:cNvPr id="52" name=""/>
            <p:cNvSpPr/>
            <p:nvPr/>
          </p:nvSpPr>
          <p:spPr>
            <a:xfrm>
              <a:off x="2889360" y="2330280"/>
              <a:ext cx="3238560" cy="3812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75320" y="2403360"/>
              <a:ext cx="3266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re can you find a business to buy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12720" y="4400640"/>
            <a:ext cx="4193280" cy="406440"/>
            <a:chOff x="2412720" y="4400640"/>
            <a:chExt cx="4193280" cy="406440"/>
          </a:xfrm>
        </p:grpSpPr>
        <p:sp>
          <p:nvSpPr>
            <p:cNvPr id="55" name=""/>
            <p:cNvSpPr/>
            <p:nvPr/>
          </p:nvSpPr>
          <p:spPr>
            <a:xfrm>
              <a:off x="2425680" y="4400640"/>
              <a:ext cx="4165560" cy="40644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2720" y="4491000"/>
              <a:ext cx="4193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valuate all the aspects of the potential acqui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425680" y="5035680"/>
            <a:ext cx="4165560" cy="393480"/>
            <a:chOff x="2425680" y="5035680"/>
            <a:chExt cx="4165560" cy="393480"/>
          </a:xfrm>
        </p:grpSpPr>
        <p:sp>
          <p:nvSpPr>
            <p:cNvPr id="58" name=""/>
            <p:cNvSpPr/>
            <p:nvPr/>
          </p:nvSpPr>
          <p:spPr>
            <a:xfrm>
              <a:off x="2425680" y="5035680"/>
              <a:ext cx="4165560" cy="393480"/>
            </a:xfrm>
            <a:prstGeom prst="roundRect">
              <a:avLst>
                <a:gd name="adj" fmla="val 12495"/>
              </a:avLst>
            </a:prstGeom>
            <a:solidFill>
              <a:srgbClr val="99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6360" y="5102280"/>
              <a:ext cx="264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termine an appropriate pr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8240" y="3086280"/>
            <a:ext cx="7480440" cy="952200"/>
            <a:chOff x="768240" y="3086280"/>
            <a:chExt cx="7480440" cy="952200"/>
          </a:xfrm>
        </p:grpSpPr>
        <p:grpSp>
          <p:nvGrpSpPr>
            <p:cNvPr id="61" name=""/>
            <p:cNvGrpSpPr/>
            <p:nvPr/>
          </p:nvGrpSpPr>
          <p:grpSpPr>
            <a:xfrm>
              <a:off x="3841920" y="3086280"/>
              <a:ext cx="1257120" cy="952200"/>
              <a:chOff x="3841920" y="3086280"/>
              <a:chExt cx="1257120" cy="952200"/>
            </a:xfrm>
          </p:grpSpPr>
          <p:sp>
            <p:nvSpPr>
              <p:cNvPr id="62" name=""/>
              <p:cNvSpPr/>
              <p:nvPr/>
            </p:nvSpPr>
            <p:spPr>
              <a:xfrm>
                <a:off x="38419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07080" y="3090960"/>
                <a:ext cx="11282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okers 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l estate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g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68240" y="3086280"/>
              <a:ext cx="1257480" cy="952200"/>
              <a:chOff x="768240" y="3086280"/>
              <a:chExt cx="1257480" cy="952200"/>
            </a:xfrm>
          </p:grpSpPr>
          <p:sp>
            <p:nvSpPr>
              <p:cNvPr id="65" name=""/>
              <p:cNvSpPr/>
              <p:nvPr/>
            </p:nvSpPr>
            <p:spPr>
              <a:xfrm>
                <a:off x="76824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71640" y="3197160"/>
                <a:ext cx="85248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urr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o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343240" y="3086280"/>
              <a:ext cx="1257120" cy="952200"/>
              <a:chOff x="2343240" y="3086280"/>
              <a:chExt cx="1257120" cy="952200"/>
            </a:xfrm>
          </p:grpSpPr>
          <p:sp>
            <p:nvSpPr>
              <p:cNvPr id="68" name=""/>
              <p:cNvSpPr/>
              <p:nvPr/>
            </p:nvSpPr>
            <p:spPr>
              <a:xfrm>
                <a:off x="234324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87160" y="3090960"/>
                <a:ext cx="11696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o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wspap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tra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ssoci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427720" y="3086280"/>
              <a:ext cx="1257120" cy="952200"/>
              <a:chOff x="5427720" y="3086280"/>
              <a:chExt cx="1257120" cy="952200"/>
            </a:xfrm>
          </p:grpSpPr>
          <p:sp>
            <p:nvSpPr>
              <p:cNvPr id="71" name=""/>
              <p:cNvSpPr/>
              <p:nvPr/>
            </p:nvSpPr>
            <p:spPr>
              <a:xfrm>
                <a:off x="5427720" y="3086280"/>
                <a:ext cx="125712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37440" y="3090960"/>
                <a:ext cx="123804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Lawye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ccounta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nd oth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fessiona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6991200" y="3086280"/>
              <a:ext cx="1257480" cy="952200"/>
              <a:chOff x="6991200" y="3086280"/>
              <a:chExt cx="1257480" cy="952200"/>
            </a:xfrm>
          </p:grpSpPr>
          <p:sp>
            <p:nvSpPr>
              <p:cNvPr id="74" name=""/>
              <p:cNvSpPr/>
              <p:nvPr/>
            </p:nvSpPr>
            <p:spPr>
              <a:xfrm>
                <a:off x="6991200" y="3086280"/>
                <a:ext cx="1257480" cy="95220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85600" y="3197160"/>
                <a:ext cx="86940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You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676600" y="5867280"/>
            <a:ext cx="3663360" cy="622440"/>
            <a:chOff x="2676600" y="5867280"/>
            <a:chExt cx="3663360" cy="622440"/>
          </a:xfrm>
        </p:grpSpPr>
        <p:grpSp>
          <p:nvGrpSpPr>
            <p:cNvPr id="77" name=""/>
            <p:cNvGrpSpPr/>
            <p:nvPr/>
          </p:nvGrpSpPr>
          <p:grpSpPr>
            <a:xfrm>
              <a:off x="2676600" y="5867280"/>
              <a:ext cx="1508040" cy="622440"/>
              <a:chOff x="2676600" y="5867280"/>
              <a:chExt cx="1508040" cy="622440"/>
            </a:xfrm>
          </p:grpSpPr>
          <p:sp>
            <p:nvSpPr>
              <p:cNvPr id="78" name=""/>
              <p:cNvSpPr/>
              <p:nvPr/>
            </p:nvSpPr>
            <p:spPr>
              <a:xfrm>
                <a:off x="271296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676600" y="5919840"/>
                <a:ext cx="1508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asse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4813920" y="5867280"/>
              <a:ext cx="1526040" cy="622440"/>
              <a:chOff x="4813920" y="5867280"/>
              <a:chExt cx="1526040" cy="622440"/>
            </a:xfrm>
          </p:grpSpPr>
          <p:sp>
            <p:nvSpPr>
              <p:cNvPr id="81" name=""/>
              <p:cNvSpPr/>
              <p:nvPr/>
            </p:nvSpPr>
            <p:spPr>
              <a:xfrm>
                <a:off x="4859280" y="5867280"/>
                <a:ext cx="1435320" cy="62244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813920" y="5919840"/>
                <a:ext cx="15260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urchase sh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of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1244520" y="2860560"/>
            <a:ext cx="6545520" cy="180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63600" y="4267080"/>
            <a:ext cx="6512040" cy="972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2520" y="5664240"/>
            <a:ext cx="2171880" cy="0"/>
          </a:xfrm>
          <a:prstGeom prst="line">
            <a:avLst/>
          </a:prstGeom>
          <a:ln w="255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40920" y="2870280"/>
            <a:ext cx="3240" cy="2826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3240" y="211140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787880" y="2887560"/>
            <a:ext cx="1800" cy="23040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054840" y="28875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503240" y="2884320"/>
            <a:ext cx="1800" cy="236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982960" y="2870280"/>
            <a:ext cx="1440" cy="2602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5672160"/>
            <a:ext cx="17640" cy="24588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608800" y="5657760"/>
            <a:ext cx="144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05400" y="4168800"/>
            <a:ext cx="3240" cy="2761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503240" y="4851360"/>
            <a:ext cx="1800" cy="236520"/>
          </a:xfrm>
          <a:prstGeom prst="line">
            <a:avLst/>
          </a:prstGeom>
          <a:ln w="25560">
            <a:solidFill>
              <a:srgbClr val="ff66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1200" y="2171880"/>
            <a:ext cx="7962840" cy="436212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495520"/>
            <a:ext cx="7334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duce th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the likelihood of a successful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proven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ready has a product o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lready developed a clien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relations have already been esta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equipment is alread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often be acquired at a goo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advantages of Buying an Establishe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6720" y="2171880"/>
            <a:ext cx="7924680" cy="4362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9800" y="2362320"/>
            <a:ext cx="7143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facilities may be old and obsol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/management rela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personnel may be un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may contain a large amount of “dead” st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have poor quality accounts receiv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condition and relations with financial institutions may be p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inherit any ill will that may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less freedom to define the nature of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Where to Find a Busines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8760" y="2028960"/>
            <a:ext cx="7056720" cy="455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 In your present business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 From direct, independent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 Through business broker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ther middle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 Through confidential adv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 From other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00160" y="1682640"/>
            <a:ext cx="5410440" cy="3936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tio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2000" y="1879200"/>
            <a:ext cx="4292640" cy="36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ck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bt to Net Worth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ss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 Profit to Sales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es to Inventory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Collection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6040" y="2934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Balance 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185840" y="907920"/>
            <a:ext cx="6946920" cy="5613480"/>
            <a:chOff x="1185840" y="907920"/>
            <a:chExt cx="6946920" cy="5613480"/>
          </a:xfrm>
        </p:grpSpPr>
        <p:grpSp>
          <p:nvGrpSpPr>
            <p:cNvPr id="109" name=""/>
            <p:cNvGrpSpPr/>
            <p:nvPr/>
          </p:nvGrpSpPr>
          <p:grpSpPr>
            <a:xfrm>
              <a:off x="1185840" y="907920"/>
              <a:ext cx="6946920" cy="5613480"/>
              <a:chOff x="1185840" y="907920"/>
              <a:chExt cx="6946920" cy="56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1185840" y="907920"/>
                <a:ext cx="6946920" cy="5613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81360" y="936720"/>
                <a:ext cx="4164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HE CAMPBELL CO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ALANCE SHEET AS OF DEC. 31, 200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88600" y="1471680"/>
                <a:ext cx="6585840" cy="50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SSET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000s)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receiv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Invento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 8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58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A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Fixed Ass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achiner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25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quipment and fixtur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ss: Accumulated depreci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8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fixed asset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7 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1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(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Assets (C = A + B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C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IABILITIES AND 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urrent Liabilities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count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$ 6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current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ong-Term Liabili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Notes payable**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$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ong-term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3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D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WNER’S EQU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apital invest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tained earning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  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otal owner’s equi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5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otal Liabilities and Owner’s Equity (F = D + E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$ 185  (F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r" pos="4118040"/>
                    <a:tab algn="r" pos="5032440"/>
                    <a:tab algn="r" pos="594504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6870600" y="36576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0600" y="37209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70600" y="528336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70600" y="601992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600" y="638820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600" y="6311880"/>
              <a:ext cx="66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171800" y="6494400"/>
            <a:ext cx="349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ebt is due within 12 month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Debt is due after 1 ye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87320" y="47484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a Simplified 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73080" y="1204920"/>
            <a:ext cx="6997680" cy="5313240"/>
            <a:chOff x="973080" y="1204920"/>
            <a:chExt cx="6997680" cy="5313240"/>
          </a:xfrm>
        </p:grpSpPr>
        <p:sp>
          <p:nvSpPr>
            <p:cNvPr id="123" name=""/>
            <p:cNvSpPr/>
            <p:nvPr/>
          </p:nvSpPr>
          <p:spPr>
            <a:xfrm>
              <a:off x="973080" y="1204920"/>
              <a:ext cx="6997680" cy="5313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73680" y="1297080"/>
              <a:ext cx="4984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HE CAMPBELL C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COME STATEMENT FOR YEAR ENDING DEC. 31, 200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60600" y="1943280"/>
              <a:ext cx="6124320" cy="443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000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ss sal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428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Retur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Sal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42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sold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ginn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us: Net purcha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2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st of goods avail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s: Ending invento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st of Goods Sol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9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oss Profit (C = A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B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133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ling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2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ve expens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ice salari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$ 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preci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 administrative expens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otal Administrative Expenses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fit Before Income Tax (F = C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D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8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come Tax (G = 25% of F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r" pos="3656160"/>
                  <a:tab algn="dec" pos="4686480"/>
                  <a:tab algn="r" pos="54849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t Profit (G = F 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G)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   13.5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37120" y="38894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37120" y="415764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7120" y="420516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37120" y="5532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37120" y="637848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37120" y="6329520"/>
              <a:ext cx="52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0720" y="2025720"/>
            <a:ext cx="8293320" cy="3124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ing an Appropria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ce to Pay for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197080"/>
            <a:ext cx="38102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Sheet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Book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atio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1640" y="2196720"/>
            <a:ext cx="4195800" cy="27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rnings-Base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zation of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Future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ed 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8" dur="1" fill="hold"/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99" dur="1" fill="hold"/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00" dur="1" fill="hold"/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2:22Z</dcterms:modified>
  <cp:revision>64</cp:revision>
  <dc:subject/>
  <dc:title>Figure 1.1 The Components of Successful Entrepreneurial Ventures</dc:title>
</cp:coreProperties>
</file>