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E0D00-0A6C-4F0A-ABE4-FB381005A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A5389-B9C6-4F0B-A87E-F9018FAC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6C105-B148-4B32-9177-5486B8226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2C0FE-B25F-40A2-83C5-7BE961736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D236B-EF6E-47DC-A13A-A173C090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81BED-C003-404C-95F0-52B73FED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1E609-53D0-4193-8703-0A083B65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7471F-F206-449D-9E01-C96F03B1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80E49-D92B-495D-951D-7843B544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A62F3-1D9F-453B-87E4-161070FB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86B8F-4190-4EBC-9311-82BA1EFD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6479F-25FB-4F3A-99B9-C267774A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20960" y="6438600"/>
            <a:ext cx="3911760" cy="26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8B58-A523-41B1-8064-9FC053698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0,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9440" y="1985760"/>
            <a:ext cx="7772400" cy="1143000"/>
          </a:xfrm>
          <a:prstGeom prst="rect">
            <a:avLst/>
          </a:prstGeom>
          <a:solidFill>
            <a:srgbClr val="ffdb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Stage 5: Considering a Franch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98400" y="45864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Sampling of Canadian Franchis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99960" y="1003320"/>
            <a:ext cx="8477280" cy="5321160"/>
            <a:chOff x="399960" y="1003320"/>
            <a:chExt cx="8477280" cy="5321160"/>
          </a:xfrm>
        </p:grpSpPr>
        <p:sp>
          <p:nvSpPr>
            <p:cNvPr id="121" name=""/>
            <p:cNvSpPr/>
            <p:nvPr/>
          </p:nvSpPr>
          <p:spPr>
            <a:xfrm>
              <a:off x="399960" y="1003320"/>
              <a:ext cx="8191800" cy="532116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2000" y="1859040"/>
              <a:ext cx="8140680" cy="43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Boston Pizza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45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7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            2.5%        $650-75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ollar Rent-a-Car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5-100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8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$60-25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Great Canadia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ollar Store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15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10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olly Maid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14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6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14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                 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lus $4,000 W.C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airy Queen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anada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2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35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450-1,20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e Care Hom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Health Services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1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40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10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cDonald’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staurant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f Canada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34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771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45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7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600-80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including rent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ervice fe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nd advertising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idas Muffler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3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25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225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omino’s Pizza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6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25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.5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15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econd Cu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offee Co.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25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9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300-35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im Hortons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45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553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50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350-40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hred-It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55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.5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35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3960" y="1095120"/>
              <a:ext cx="84232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1828800"/>
                  <a:tab algn="ctr" pos="3149640"/>
                  <a:tab algn="ctr" pos="4229280"/>
                  <a:tab algn="ctr" pos="5207040"/>
                  <a:tab algn="ctr" pos="6172200"/>
                  <a:tab algn="ctr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mber of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pproxim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1828800"/>
                  <a:tab algn="ctr" pos="3149640"/>
                  <a:tab algn="ctr" pos="4229280"/>
                  <a:tab algn="ctr" pos="5207040"/>
                  <a:tab algn="ctr" pos="6172200"/>
                  <a:tab algn="ctr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f Owned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ranchisees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vestment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its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/Dealers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itial Fee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oyalty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dvertising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quir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06440" y="1834920"/>
              <a:ext cx="819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88080" y="6394320"/>
            <a:ext cx="4813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Adapted from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he 2004 Franchise Annua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Info Franchise News Inc.,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66720" y="28584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oes It Cost to Open a Franchise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oey’s Only Seafood Restaur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3080" y="1467000"/>
            <a:ext cx="8286480" cy="51624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640" y="1542960"/>
            <a:ext cx="7734240" cy="457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nchise f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$25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ing promotion f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$3,000-5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sehold improve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$152-197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wa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$12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rniture, fixtures and kitchen equipment     $115-13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cellaneo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$5,000-15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od and suppl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$9,000-12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and pre-opening expen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$4,000-11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osi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$4-1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Estimated Cost to Op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329-417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98480" y="1442880"/>
            <a:ext cx="7527960" cy="3957840"/>
          </a:xfrm>
          <a:prstGeom prst="rect">
            <a:avLst/>
          </a:prstGeom>
          <a:solidFill>
            <a:srgbClr val="ffdb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479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rends in Franchi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17720" y="1766880"/>
            <a:ext cx="7192800" cy="35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creasing emphasis on senior ca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hild care and educ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echnical suppor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et ca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Home improv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itn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staura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3" dur="1" fill="hold"/>
                                  <p:tgtEl>
                                    <p:spTgt spid="13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Considering the Franchise Op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fed8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r own research, and take your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be afraid to cold-call current franchisees and ask all kinds of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to talk to former franchisees whose business went u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lk to knowledgeable people in the franchise 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an experienced franchise lawyer review your con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do decide to go ahead, assume that nothing will ever again work the way you are used 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82480"/>
            <a:ext cx="7772400" cy="7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ested in a Franchi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151000" y="1617840"/>
            <a:ext cx="4564080" cy="4624200"/>
            <a:chOff x="2151000" y="1617840"/>
            <a:chExt cx="4564080" cy="4624200"/>
          </a:xfrm>
        </p:grpSpPr>
        <p:grpSp>
          <p:nvGrpSpPr>
            <p:cNvPr id="44" name=""/>
            <p:cNvGrpSpPr/>
            <p:nvPr/>
          </p:nvGrpSpPr>
          <p:grpSpPr>
            <a:xfrm>
              <a:off x="2227320" y="1617840"/>
              <a:ext cx="4411440" cy="545760"/>
              <a:chOff x="2227320" y="1617840"/>
              <a:chExt cx="4411440" cy="545760"/>
            </a:xfrm>
          </p:grpSpPr>
          <p:sp>
            <p:nvSpPr>
              <p:cNvPr id="45" name=""/>
              <p:cNvSpPr/>
              <p:nvPr/>
            </p:nvSpPr>
            <p:spPr>
              <a:xfrm>
                <a:off x="2227320" y="1617840"/>
                <a:ext cx="4411440" cy="54576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521520" y="1738440"/>
                <a:ext cx="18234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onsider a franchis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" name=""/>
            <p:cNvGrpSpPr/>
            <p:nvPr/>
          </p:nvGrpSpPr>
          <p:grpSpPr>
            <a:xfrm>
              <a:off x="2227320" y="3362400"/>
              <a:ext cx="4411440" cy="546120"/>
              <a:chOff x="2227320" y="3362400"/>
              <a:chExt cx="4411440" cy="546120"/>
            </a:xfrm>
          </p:grpSpPr>
          <p:sp>
            <p:nvSpPr>
              <p:cNvPr id="48" name=""/>
              <p:cNvSpPr/>
              <p:nvPr/>
            </p:nvSpPr>
            <p:spPr>
              <a:xfrm>
                <a:off x="2227320" y="3362400"/>
                <a:ext cx="4411440" cy="54612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157920" y="3483000"/>
                <a:ext cx="2548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inding a franchised busines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2227320" y="4138560"/>
              <a:ext cx="4411440" cy="546120"/>
              <a:chOff x="2227320" y="4138560"/>
              <a:chExt cx="4411440" cy="546120"/>
            </a:xfrm>
          </p:grpSpPr>
          <p:sp>
            <p:nvSpPr>
              <p:cNvPr id="51" name=""/>
              <p:cNvSpPr/>
              <p:nvPr/>
            </p:nvSpPr>
            <p:spPr>
              <a:xfrm>
                <a:off x="2227320" y="4138560"/>
                <a:ext cx="4411440" cy="54612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933280" y="4259160"/>
                <a:ext cx="29984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heck out the franchise opportunit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2227320" y="4924440"/>
              <a:ext cx="4411440" cy="546120"/>
              <a:chOff x="2227320" y="4924440"/>
              <a:chExt cx="4411440" cy="546120"/>
            </a:xfrm>
          </p:grpSpPr>
          <p:sp>
            <p:nvSpPr>
              <p:cNvPr id="54" name=""/>
              <p:cNvSpPr/>
              <p:nvPr/>
            </p:nvSpPr>
            <p:spPr>
              <a:xfrm>
                <a:off x="2227320" y="4924440"/>
                <a:ext cx="4411440" cy="54612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03720" y="5045040"/>
                <a:ext cx="40575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valuate disclosure and other legal requiremen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2227320" y="5695920"/>
              <a:ext cx="4411440" cy="546120"/>
              <a:chOff x="2227320" y="5695920"/>
              <a:chExt cx="4411440" cy="546120"/>
            </a:xfrm>
          </p:grpSpPr>
          <p:sp>
            <p:nvSpPr>
              <p:cNvPr id="57" name=""/>
              <p:cNvSpPr/>
              <p:nvPr/>
            </p:nvSpPr>
            <p:spPr>
              <a:xfrm>
                <a:off x="2227320" y="5695920"/>
                <a:ext cx="4411440" cy="54612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032280" y="5816520"/>
                <a:ext cx="28018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s a franchised business for you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2151000" y="2459160"/>
              <a:ext cx="4564080" cy="601560"/>
              <a:chOff x="2151000" y="2459160"/>
              <a:chExt cx="4564080" cy="60156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3754440" y="2459160"/>
                <a:ext cx="1324080" cy="601560"/>
                <a:chOff x="3754440" y="2459160"/>
                <a:chExt cx="1324080" cy="60156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3754440" y="2459160"/>
                  <a:ext cx="1324080" cy="60156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99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3961440" y="2500200"/>
                  <a:ext cx="91044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rea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ranchis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" name=""/>
              <p:cNvGrpSpPr/>
              <p:nvPr/>
            </p:nvGrpSpPr>
            <p:grpSpPr>
              <a:xfrm>
                <a:off x="2151000" y="2459160"/>
                <a:ext cx="1324080" cy="601560"/>
                <a:chOff x="2151000" y="2459160"/>
                <a:chExt cx="1324080" cy="60156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2151000" y="2459160"/>
                  <a:ext cx="1324080" cy="60156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99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274120" y="2500200"/>
                  <a:ext cx="107820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ingle-unit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ranchis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5391000" y="2459160"/>
                <a:ext cx="1324080" cy="601560"/>
                <a:chOff x="5391000" y="2459160"/>
                <a:chExt cx="1324080" cy="60156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5391000" y="2459160"/>
                  <a:ext cx="1324080" cy="60156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99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5598000" y="2500200"/>
                  <a:ext cx="91044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Master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ranchis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9" name=""/>
            <p:cNvSpPr/>
            <p:nvPr/>
          </p:nvSpPr>
          <p:spPr>
            <a:xfrm>
              <a:off x="2822400" y="2266920"/>
              <a:ext cx="3238560" cy="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13040" y="3200400"/>
              <a:ext cx="3238560" cy="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427640" y="2158920"/>
              <a:ext cx="4680" cy="30492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32320" y="5473800"/>
              <a:ext cx="0" cy="24120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32320" y="4699080"/>
              <a:ext cx="0" cy="26676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32320" y="3898800"/>
              <a:ext cx="0" cy="26676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32320" y="3060720"/>
              <a:ext cx="0" cy="31752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01880" y="2255760"/>
              <a:ext cx="1800" cy="23328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070680" y="3073320"/>
              <a:ext cx="0" cy="11448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806560" y="3073320"/>
              <a:ext cx="0" cy="11448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9520" y="2284560"/>
              <a:ext cx="1440" cy="23328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92280" y="1542960"/>
            <a:ext cx="7835760" cy="4851360"/>
          </a:xfrm>
          <a:prstGeom prst="rect">
            <a:avLst/>
          </a:prstGeom>
          <a:solidFill>
            <a:srgbClr val="ccfed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1360" y="68544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tages of Franchi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8840" y="1802880"/>
            <a:ext cx="76327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s you to compete through the use of a well-known trademark or trade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ranchisor may provide you with with assistance in such areas as site selection, equipment purchasing, national advertising, bookkeeping, the acquisition of supplies and materials, business counseling and employee trai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duced risk of fail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be able to take advantage of large-scale, centralized buy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have access to special financing and credit arrang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opportunity to acquire a proven system that has already been developed, tested and refi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56120" y="6581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" dur="1" fill="hold"/>
                                  <p:tgtEl>
                                    <p:spTgt spid="8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57160" y="1301760"/>
            <a:ext cx="7365960" cy="46353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9160" y="41868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dvantages of Franchi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7023240" cy="43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high degree of control which franchisors exercise over their franchise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ractually required to report regularly to the franchisor and subject to frequent inspection and constant supervi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cost of the services provided to you by the franchisor is based on your total sales revenue, not your profit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ranchisor may add a mark-up to the supplies and equipment you are required to buy from them, thereby increasing your operating co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pay the franchisor an initial franchise fee as well as periodic royalty payments and advertising contribu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400160" y="6054840"/>
            <a:ext cx="997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29400" y="65167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5" dur="1" fill="hold"/>
                                  <p:tgtEl>
                                    <p:spTgt spid="8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44560" y="2050920"/>
            <a:ext cx="7518240" cy="19306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93760" y="2303640"/>
            <a:ext cx="701028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benefits available through franchising may not always materializ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rmination policies of many franchisors give franchisees little or no security in many ca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38880" y="560520"/>
            <a:ext cx="5032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dvantages of Franchi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05360" y="65419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6" dur="1" fill="hold"/>
                                  <p:tgtEl>
                                    <p:spTgt spid="9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ypes of Franch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920880" y="1987560"/>
            <a:ext cx="3441600" cy="1371600"/>
            <a:chOff x="920880" y="1987560"/>
            <a:chExt cx="3441600" cy="1371600"/>
          </a:xfrm>
        </p:grpSpPr>
        <p:sp>
          <p:nvSpPr>
            <p:cNvPr id="95" name=""/>
            <p:cNvSpPr/>
            <p:nvPr/>
          </p:nvSpPr>
          <p:spPr>
            <a:xfrm>
              <a:off x="920880" y="1987560"/>
              <a:ext cx="3441600" cy="137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75680" y="2262240"/>
              <a:ext cx="3132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 Distrib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rrang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920880" y="3892680"/>
            <a:ext cx="3441600" cy="1371600"/>
            <a:chOff x="920880" y="3892680"/>
            <a:chExt cx="3441600" cy="1371600"/>
          </a:xfrm>
        </p:grpSpPr>
        <p:sp>
          <p:nvSpPr>
            <p:cNvPr id="98" name=""/>
            <p:cNvSpPr/>
            <p:nvPr/>
          </p:nvSpPr>
          <p:spPr>
            <a:xfrm>
              <a:off x="920880" y="3892680"/>
              <a:ext cx="3441600" cy="137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13280" y="4167360"/>
              <a:ext cx="2656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usiness Form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ranchi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631480" y="3598920"/>
            <a:ext cx="2701800" cy="1959480"/>
            <a:chOff x="5631480" y="3598920"/>
            <a:chExt cx="2701800" cy="1959480"/>
          </a:xfrm>
        </p:grpSpPr>
        <p:sp>
          <p:nvSpPr>
            <p:cNvPr id="101" name=""/>
            <p:cNvSpPr/>
            <p:nvPr/>
          </p:nvSpPr>
          <p:spPr>
            <a:xfrm>
              <a:off x="5632200" y="3598920"/>
              <a:ext cx="2701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ngle-unit franch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632560" y="4348080"/>
              <a:ext cx="1954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rea franch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31480" y="5160960"/>
              <a:ext cx="2208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ster franch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V="1">
            <a:off x="4457880" y="3780000"/>
            <a:ext cx="1218960" cy="72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83080" y="4648320"/>
            <a:ext cx="1219320" cy="723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08640" y="4572000"/>
            <a:ext cx="116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924200" y="1504800"/>
            <a:ext cx="4775040" cy="4343400"/>
          </a:xfrm>
          <a:prstGeom prst="rect">
            <a:avLst/>
          </a:prstGeom>
          <a:solidFill>
            <a:srgbClr val="ffdb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2056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op 10 Franchise Organizations in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171880" y="1619280"/>
            <a:ext cx="4279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bw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unkin Donu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Jackson Hewitt Tax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7-Eleven In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UPS Store/Mail Box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mino’s Pizz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iffy Lube Int’l In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nic Drive-In Restaura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cDonald’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pa John’s Int’l In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0" dur="1" fill="hold"/>
                                  <p:tgtEl>
                                    <p:spTgt spid="109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23920" y="1530360"/>
            <a:ext cx="6883560" cy="4724280"/>
          </a:xfrm>
          <a:prstGeom prst="rect">
            <a:avLst/>
          </a:prstGeom>
          <a:solidFill>
            <a:srgbClr val="ccfed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3200" y="5457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icles in a Typical Franchise Agre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07880" y="1688760"/>
            <a:ext cx="63752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full initial costs and what they co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of the franchisor’s trademarks by the franchis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censing fe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nd purchase or lease requir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uilding construction or renovation requir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quipment nee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 training provi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rting inventory requir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motional fees or allowan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of operations manu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oyalties pay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17400" y="6245280"/>
            <a:ext cx="997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05360" y="6581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0" dur="1" fill="hold"/>
                                  <p:tgtEl>
                                    <p:spTgt spid="112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23920" y="1619280"/>
            <a:ext cx="6883560" cy="4533840"/>
          </a:xfrm>
          <a:prstGeom prst="rect">
            <a:avLst/>
          </a:prstGeom>
          <a:solidFill>
            <a:srgbClr val="ccfed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55600" y="1765440"/>
            <a:ext cx="6819840" cy="42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34308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ther payments that must be made to the franchis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going training requir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operative advertising fe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urance requir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est charges on financ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quirements regarding purchasing supplies from the franchisor and pri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trictions that apply to competition with other franchise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rms covering termination, renewal rights, sale of the franchise and similar topic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49120" y="458640"/>
            <a:ext cx="7125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icles in a Typical Franchise Agre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90840" y="28440"/>
            <a:ext cx="2611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lide 5.6B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uilding a D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0" dur="1" fill="hold"/>
                                  <p:tgtEl>
                                    <p:spTgt spid="11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03:10:40Z</dcterms:created>
  <dc:creator>Chris Spafford</dc:creator>
  <dc:description/>
  <dc:language>en-US</dc:language>
  <cp:lastModifiedBy>lori_mclellan</cp:lastModifiedBy>
  <cp:lastPrinted>2002-04-30T04:11:37Z</cp:lastPrinted>
  <dcterms:modified xsi:type="dcterms:W3CDTF">2008-02-12T15:54:24Z</dcterms:modified>
  <cp:revision>64</cp:revision>
  <dc:subject/>
  <dc:title>Figure 1.1 The Components of Successful Entrepreneurial Ventures</dc:title>
</cp:coreProperties>
</file>