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5D54-0806-42EA-BD38-D3851F98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6CD4-D242-47F9-A189-E5EBEAC0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0284-305E-4206-9A1F-90C5C1C2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F672-14EC-4952-983F-A79EDBBB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11D6-946D-44EA-B712-E8A88F84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3B28-4938-494C-9437-8997F3E4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BC25-E56E-473D-8E4F-D0D5C378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9400-3FE3-4390-A38C-92A04961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D243-E9DB-4B6E-B488-7A66FB78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DE1C-7BA8-4133-9AEF-9A94DA43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91A4-0A3D-435F-B370-E3D856A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F0BB-F519-4352-A7CC-5AB0344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AC7E-414D-4F90-B14A-993EF45A8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9440" y="198576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5: Considering a Franch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8400" y="45864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ing of Canadian Franch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1003320"/>
            <a:ext cx="8477280" cy="5321160"/>
            <a:chOff x="399960" y="1003320"/>
            <a:chExt cx="8477280" cy="5321160"/>
          </a:xfrm>
        </p:grpSpPr>
        <p:sp>
          <p:nvSpPr>
            <p:cNvPr id="121" name=""/>
            <p:cNvSpPr/>
            <p:nvPr/>
          </p:nvSpPr>
          <p:spPr>
            <a:xfrm>
              <a:off x="399960" y="1003320"/>
              <a:ext cx="8191800" cy="5321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000" y="1859040"/>
              <a:ext cx="8140680" cy="43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ston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2.5%        $650-7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Rent-a-Ca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-10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$60-2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Canadi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Stor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lly Maid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us $4,000 W.C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airy Quee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0-1,2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e Care Ho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cDonald’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taura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34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600-8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including ren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 fe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advertising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das Muffle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25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mino’s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ond Cu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ffee Co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0-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 Horton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53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-4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red-It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60" y="1095120"/>
              <a:ext cx="8423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rox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Owne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hisee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Deale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Fe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t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440" y="1834920"/>
              <a:ext cx="819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080" y="6394320"/>
            <a:ext cx="481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2004 Franchise Ann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nfo Franchise News Inc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28584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It Cost to Open a Franchi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y’s Only Seafood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" y="1467000"/>
            <a:ext cx="8286480" cy="5162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542960"/>
            <a:ext cx="773424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hise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motion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$3,000-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hold improv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152-19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w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, fixtures and kitchen equipment     $115-13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5,000-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suppl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9,000-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nd pre-opening expen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4,000-1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4-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stimated Cost to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29-41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8480" y="1442880"/>
            <a:ext cx="7527960" cy="395784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7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rends in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720" y="1766880"/>
            <a:ext cx="7192800" cy="35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reasing emphasis on senior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ild care and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t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ome improv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taur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Considering the Franchise 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own research, and take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afraid to cold-call current franchisees and ask all kind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talk to former franchisees whose business went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knowledgeable people in the franchis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experienced franchise lawyer review your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decide to go ahead, assume that nothing will ever again work the way you are used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ed in a Franchi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1617840"/>
            <a:ext cx="4564080" cy="4624200"/>
            <a:chOff x="2151000" y="1617840"/>
            <a:chExt cx="4564080" cy="4624200"/>
          </a:xfrm>
        </p:grpSpPr>
        <p:grpSp>
          <p:nvGrpSpPr>
            <p:cNvPr id="44" name=""/>
            <p:cNvGrpSpPr/>
            <p:nvPr/>
          </p:nvGrpSpPr>
          <p:grpSpPr>
            <a:xfrm>
              <a:off x="2227320" y="1617840"/>
              <a:ext cx="4411440" cy="545760"/>
              <a:chOff x="2227320" y="1617840"/>
              <a:chExt cx="4411440" cy="545760"/>
            </a:xfrm>
          </p:grpSpPr>
          <p:sp>
            <p:nvSpPr>
              <p:cNvPr id="45" name=""/>
              <p:cNvSpPr/>
              <p:nvPr/>
            </p:nvSpPr>
            <p:spPr>
              <a:xfrm>
                <a:off x="2227320" y="1617840"/>
                <a:ext cx="4411440" cy="54576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21520" y="1738440"/>
                <a:ext cx="1823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sider a franchi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227320" y="3362400"/>
              <a:ext cx="4411440" cy="546120"/>
              <a:chOff x="2227320" y="3362400"/>
              <a:chExt cx="4411440" cy="546120"/>
            </a:xfrm>
          </p:grpSpPr>
          <p:sp>
            <p:nvSpPr>
              <p:cNvPr id="48" name=""/>
              <p:cNvSpPr/>
              <p:nvPr/>
            </p:nvSpPr>
            <p:spPr>
              <a:xfrm>
                <a:off x="2227320" y="336240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57920" y="3483000"/>
                <a:ext cx="25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ding a franchised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227320" y="4138560"/>
              <a:ext cx="4411440" cy="546120"/>
              <a:chOff x="2227320" y="4138560"/>
              <a:chExt cx="4411440" cy="546120"/>
            </a:xfrm>
          </p:grpSpPr>
          <p:sp>
            <p:nvSpPr>
              <p:cNvPr id="51" name=""/>
              <p:cNvSpPr/>
              <p:nvPr/>
            </p:nvSpPr>
            <p:spPr>
              <a:xfrm>
                <a:off x="2227320" y="413856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33280" y="4259160"/>
                <a:ext cx="2998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ck out the franchise opportun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227320" y="4924440"/>
              <a:ext cx="4411440" cy="546120"/>
              <a:chOff x="2227320" y="4924440"/>
              <a:chExt cx="4411440" cy="546120"/>
            </a:xfrm>
          </p:grpSpPr>
          <p:sp>
            <p:nvSpPr>
              <p:cNvPr id="54" name=""/>
              <p:cNvSpPr/>
              <p:nvPr/>
            </p:nvSpPr>
            <p:spPr>
              <a:xfrm>
                <a:off x="2227320" y="492444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03720" y="5045040"/>
                <a:ext cx="4057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aluate disclosure and other legal requir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27320" y="5695920"/>
              <a:ext cx="4411440" cy="546120"/>
              <a:chOff x="2227320" y="5695920"/>
              <a:chExt cx="4411440" cy="546120"/>
            </a:xfrm>
          </p:grpSpPr>
          <p:sp>
            <p:nvSpPr>
              <p:cNvPr id="57" name=""/>
              <p:cNvSpPr/>
              <p:nvPr/>
            </p:nvSpPr>
            <p:spPr>
              <a:xfrm>
                <a:off x="2227320" y="569592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32280" y="5816520"/>
                <a:ext cx="280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a franchised business for you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151000" y="2459160"/>
              <a:ext cx="4564080" cy="601560"/>
              <a:chOff x="2151000" y="2459160"/>
              <a:chExt cx="4564080" cy="6015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754440" y="2459160"/>
                <a:ext cx="1324080" cy="601560"/>
                <a:chOff x="3754440" y="2459160"/>
                <a:chExt cx="1324080" cy="6015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75444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96144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re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151000" y="2459160"/>
                <a:ext cx="1324080" cy="601560"/>
                <a:chOff x="2151000" y="2459160"/>
                <a:chExt cx="1324080" cy="6015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15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74120" y="2500200"/>
                  <a:ext cx="10782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ngle-unit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391000" y="2459160"/>
                <a:ext cx="1324080" cy="601560"/>
                <a:chOff x="5391000" y="2459160"/>
                <a:chExt cx="1324080" cy="6015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39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59800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st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2822400" y="226692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3040" y="320040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7640" y="2158920"/>
              <a:ext cx="4680" cy="3049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32320" y="5473800"/>
              <a:ext cx="0" cy="24120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2320" y="469908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2320" y="389880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2320" y="3060720"/>
              <a:ext cx="0" cy="3175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01880" y="2255760"/>
              <a:ext cx="180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7068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656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9520" y="2284560"/>
              <a:ext cx="144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2280" y="1542960"/>
            <a:ext cx="7835760" cy="485136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18028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you to compete through the use of a well-known trademark or trad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provide you with with assistance in such areas as site selection, equipment purchasing, national advertising, bookkeeping, the acquisition of supplies and materials, business counseling and employee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d risk of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able to take advantage of large-scale, centralized bu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have access to special financing and credit arrang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pportunity to acquire a proven system that has already been developed, tested and r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612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57160" y="1301760"/>
            <a:ext cx="7365960" cy="4635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9160" y="4186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023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igh degree of control which franchisors exercise over thei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ually required to report regularly to the franchisor and subject to frequent inspection and constant super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st of the services provided to you by the franchisor is based on your total sales revenue, not your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add a mark-up to the supplies and equipment you are required to buy from them, thereby increasing your operating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pay the franchisor an initial franchise fee as well as periodic royalty payments and advertising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00160" y="605484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9400" y="651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4560" y="2050920"/>
            <a:ext cx="7518240" cy="193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3760" y="2303640"/>
            <a:ext cx="7010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enefits available through franchising may not always material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 policies of many franchisors give franchisees little or no security in many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880" y="560520"/>
            <a:ext cx="503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05360" y="6541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Franch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20880" y="1987560"/>
            <a:ext cx="3441600" cy="1371600"/>
            <a:chOff x="920880" y="1987560"/>
            <a:chExt cx="3441600" cy="1371600"/>
          </a:xfrm>
        </p:grpSpPr>
        <p:sp>
          <p:nvSpPr>
            <p:cNvPr id="95" name=""/>
            <p:cNvSpPr/>
            <p:nvPr/>
          </p:nvSpPr>
          <p:spPr>
            <a:xfrm>
              <a:off x="920880" y="198756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5680" y="2262240"/>
              <a:ext cx="31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20880" y="3892680"/>
            <a:ext cx="3441600" cy="1371600"/>
            <a:chOff x="920880" y="3892680"/>
            <a:chExt cx="3441600" cy="1371600"/>
          </a:xfrm>
        </p:grpSpPr>
        <p:sp>
          <p:nvSpPr>
            <p:cNvPr id="98" name=""/>
            <p:cNvSpPr/>
            <p:nvPr/>
          </p:nvSpPr>
          <p:spPr>
            <a:xfrm>
              <a:off x="920880" y="389268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3280" y="4167360"/>
              <a:ext cx="265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anch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631480" y="3598920"/>
            <a:ext cx="2701800" cy="1959480"/>
            <a:chOff x="5631480" y="3598920"/>
            <a:chExt cx="2701800" cy="1959480"/>
          </a:xfrm>
        </p:grpSpPr>
        <p:sp>
          <p:nvSpPr>
            <p:cNvPr id="101" name=""/>
            <p:cNvSpPr/>
            <p:nvPr/>
          </p:nvSpPr>
          <p:spPr>
            <a:xfrm>
              <a:off x="5632200" y="3598920"/>
              <a:ext cx="270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le-unit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2560" y="4348080"/>
              <a:ext cx="195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ea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1480" y="5160960"/>
              <a:ext cx="2208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ter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457880" y="3780000"/>
            <a:ext cx="1218960" cy="72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3080" y="4648320"/>
            <a:ext cx="1219320" cy="72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8640" y="4572000"/>
            <a:ext cx="116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24200" y="1504800"/>
            <a:ext cx="4775040" cy="434340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p 10 Franchise Organizations in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71880" y="161928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kin Don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Jackson Hewitt Tax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-Eleven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S Store/Mail Bo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o’s Piz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ffy Lube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ic Drive-In Restaur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pa John’s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23920" y="1530360"/>
            <a:ext cx="6883560" cy="472428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3200" y="5457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07880" y="1688760"/>
            <a:ext cx="6375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ll initial costs and what they c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the franchisor’s trademarks by the franchis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 purchase or leas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construction or renovation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pmen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training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ventory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ional fees or allow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operations ma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yalties pay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7400" y="624528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23920" y="1619280"/>
            <a:ext cx="6883560" cy="453384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5600" y="1765440"/>
            <a:ext cx="681984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payments that must be made to the franch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going train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perative adverti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uranc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charges on fina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ments regarding purchasing supplies from the franchisor and pr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ions that apply to competition with othe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s covering termination, renewal rights, sale of the franchise and simila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120" y="458640"/>
            <a:ext cx="712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0840" y="28440"/>
            <a:ext cx="26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5.6B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ding a D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4:24Z</dcterms:modified>
  <cp:revision>64</cp:revision>
  <dc:subject/>
  <dc:title>Figure 1.1 The Components of Successful Entrepreneurial Ventures</dc:title>
</cp:coreProperties>
</file>