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CFF0-B0E9-481B-8B4D-847621E2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2F3F-A7F4-4BC1-B41B-7578BD4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562C-D2CC-4792-B08B-D1BC7CA8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CE45-412C-4996-BDF3-B183D31A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6890-A6E0-423A-8BD6-43EA2376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67D7-647C-4064-8BE5-5496B126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1CC5-1B87-466E-AB69-6C8E89F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E0B4-145E-43F3-B057-705336B1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A82D-F150-4FE4-833B-737E1CB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301E-C614-4472-9F15-5EFC502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946A-A687-4327-83B0-36DD63C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F64-C0C9-4CC6-9A7D-8E63DEA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0960" y="6438600"/>
            <a:ext cx="3911760" cy="26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7EC8-FC6C-4A4C-A3BA-DE74F5AF8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0,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9440" y="1985760"/>
            <a:ext cx="7772400" cy="1143000"/>
          </a:xfrm>
          <a:prstGeom prst="rect">
            <a:avLst/>
          </a:prstGeom>
          <a:solidFill>
            <a:srgbClr val="ffdb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Stage 5: Considering a Franch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98400" y="45864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ampling of Canadian Franchi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960" y="1003320"/>
            <a:ext cx="8477280" cy="5321160"/>
            <a:chOff x="399960" y="1003320"/>
            <a:chExt cx="8477280" cy="5321160"/>
          </a:xfrm>
        </p:grpSpPr>
        <p:sp>
          <p:nvSpPr>
            <p:cNvPr id="121" name=""/>
            <p:cNvSpPr/>
            <p:nvPr/>
          </p:nvSpPr>
          <p:spPr>
            <a:xfrm>
              <a:off x="399960" y="1003320"/>
              <a:ext cx="8191800" cy="532116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000" y="1859040"/>
              <a:ext cx="8140680" cy="43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oston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2.5%        $650-7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Rent-a-Ca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-10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$60-2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eat Canadia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llar Stor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olly Maid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4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us $4,000 W.C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airy Quee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0-1,2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e Care Ho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Health Service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cDonald’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staurants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Canad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34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71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4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7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600-8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including ren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rvice fe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nd advertising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das Muffler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3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25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omino’s Pizza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1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ond C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ffee Co.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9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00-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im Hortons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553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-40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ctr" pos="457200"/>
                  <a:tab algn="r" pos="1943280"/>
                  <a:tab algn="r" pos="3251160"/>
                  <a:tab algn="r" pos="4521240"/>
                  <a:tab algn="r" pos="4753080"/>
                  <a:tab algn="ctr" pos="5253120"/>
                  <a:tab algn="r" pos="6283440"/>
                  <a:tab algn="r" pos="777384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hred-It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55,000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5%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$350,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60" y="1095120"/>
              <a:ext cx="8423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roxim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828800"/>
                  <a:tab algn="ctr" pos="3149640"/>
                  <a:tab algn="ctr" pos="4229280"/>
                  <a:tab algn="ctr" pos="5207040"/>
                  <a:tab algn="ctr" pos="6172200"/>
                  <a:tab algn="ctr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Owne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nchisee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vestmen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Dealer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itial Fee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t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ertisin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6440" y="1834920"/>
              <a:ext cx="8191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080" y="6394320"/>
            <a:ext cx="4813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Adapted fro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he 2004 Franchise Annua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nfo Franchise News Inc.,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28584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oes It Cost to Open a Franchi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y’s Only Seafood Resta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" y="1467000"/>
            <a:ext cx="8286480" cy="51624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542960"/>
            <a:ext cx="7734240" cy="45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2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promotion f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$3,000-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hold improv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152-19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wa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$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rniture, fixtures and kitchen equipment     $115-13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cellane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5,000-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suppl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9,000-1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and pre-opening expen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$4,000-1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os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4-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Estimated Cost to 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329-41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98480" y="1442880"/>
            <a:ext cx="7527960" cy="395784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479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rends in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720" y="1766880"/>
            <a:ext cx="7192800" cy="35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reasing emphasis on senior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ild care and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et ca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ome improv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staur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Considering the Franchise 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fed8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your own research, and take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be afraid to cold-call current franchisees and ask all kinds of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talk to former franchisees whose business went u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to knowledgeable people in the franchise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n experienced franchise lawyer review your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do decide to go ahead, assume that nothing will ever again work the way you are used 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ed in a Franchi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51000" y="1617840"/>
            <a:ext cx="4564080" cy="4624200"/>
            <a:chOff x="2151000" y="1617840"/>
            <a:chExt cx="4564080" cy="4624200"/>
          </a:xfrm>
        </p:grpSpPr>
        <p:grpSp>
          <p:nvGrpSpPr>
            <p:cNvPr id="44" name=""/>
            <p:cNvGrpSpPr/>
            <p:nvPr/>
          </p:nvGrpSpPr>
          <p:grpSpPr>
            <a:xfrm>
              <a:off x="2227320" y="1617840"/>
              <a:ext cx="4411440" cy="545760"/>
              <a:chOff x="2227320" y="1617840"/>
              <a:chExt cx="4411440" cy="545760"/>
            </a:xfrm>
          </p:grpSpPr>
          <p:sp>
            <p:nvSpPr>
              <p:cNvPr id="45" name=""/>
              <p:cNvSpPr/>
              <p:nvPr/>
            </p:nvSpPr>
            <p:spPr>
              <a:xfrm>
                <a:off x="2227320" y="1617840"/>
                <a:ext cx="4411440" cy="54576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521520" y="1738440"/>
                <a:ext cx="18234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sider a franchi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2227320" y="3362400"/>
              <a:ext cx="4411440" cy="546120"/>
              <a:chOff x="2227320" y="3362400"/>
              <a:chExt cx="4411440" cy="546120"/>
            </a:xfrm>
          </p:grpSpPr>
          <p:sp>
            <p:nvSpPr>
              <p:cNvPr id="48" name=""/>
              <p:cNvSpPr/>
              <p:nvPr/>
            </p:nvSpPr>
            <p:spPr>
              <a:xfrm>
                <a:off x="2227320" y="336240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157920" y="3483000"/>
                <a:ext cx="2548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inding a franchised busin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2227320" y="4138560"/>
              <a:ext cx="4411440" cy="546120"/>
              <a:chOff x="2227320" y="4138560"/>
              <a:chExt cx="4411440" cy="546120"/>
            </a:xfrm>
          </p:grpSpPr>
          <p:sp>
            <p:nvSpPr>
              <p:cNvPr id="51" name=""/>
              <p:cNvSpPr/>
              <p:nvPr/>
            </p:nvSpPr>
            <p:spPr>
              <a:xfrm>
                <a:off x="2227320" y="413856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33280" y="4259160"/>
                <a:ext cx="2998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eck out the franchise opportun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2227320" y="4924440"/>
              <a:ext cx="4411440" cy="546120"/>
              <a:chOff x="2227320" y="4924440"/>
              <a:chExt cx="4411440" cy="546120"/>
            </a:xfrm>
          </p:grpSpPr>
          <p:sp>
            <p:nvSpPr>
              <p:cNvPr id="54" name=""/>
              <p:cNvSpPr/>
              <p:nvPr/>
            </p:nvSpPr>
            <p:spPr>
              <a:xfrm>
                <a:off x="2227320" y="492444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03720" y="5045040"/>
                <a:ext cx="40575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valuate disclosure and other legal requireme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227320" y="5695920"/>
              <a:ext cx="4411440" cy="546120"/>
              <a:chOff x="2227320" y="5695920"/>
              <a:chExt cx="4411440" cy="546120"/>
            </a:xfrm>
          </p:grpSpPr>
          <p:sp>
            <p:nvSpPr>
              <p:cNvPr id="57" name=""/>
              <p:cNvSpPr/>
              <p:nvPr/>
            </p:nvSpPr>
            <p:spPr>
              <a:xfrm>
                <a:off x="2227320" y="5695920"/>
                <a:ext cx="4411440" cy="546120"/>
              </a:xfrm>
              <a:prstGeom prst="roundRect">
                <a:avLst>
                  <a:gd name="adj" fmla="val 12495"/>
                </a:avLst>
              </a:prstGeom>
              <a:solidFill>
                <a:srgbClr val="99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32280" y="5816520"/>
                <a:ext cx="28018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Is a franchised business for you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151000" y="2459160"/>
              <a:ext cx="4564080" cy="601560"/>
              <a:chOff x="2151000" y="2459160"/>
              <a:chExt cx="4564080" cy="6015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754440" y="2459160"/>
                <a:ext cx="1324080" cy="601560"/>
                <a:chOff x="3754440" y="2459160"/>
                <a:chExt cx="1324080" cy="6015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375444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96144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re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151000" y="2459160"/>
                <a:ext cx="1324080" cy="601560"/>
                <a:chOff x="2151000" y="2459160"/>
                <a:chExt cx="1324080" cy="6015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15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274120" y="2500200"/>
                  <a:ext cx="10782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ingle-unit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391000" y="2459160"/>
                <a:ext cx="1324080" cy="601560"/>
                <a:chOff x="5391000" y="2459160"/>
                <a:chExt cx="1324080" cy="6015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5391000" y="2459160"/>
                  <a:ext cx="1324080" cy="601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99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598000" y="2500200"/>
                  <a:ext cx="91044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st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ranchis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" name=""/>
            <p:cNvSpPr/>
            <p:nvPr/>
          </p:nvSpPr>
          <p:spPr>
            <a:xfrm>
              <a:off x="2822400" y="226692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3040" y="3200400"/>
              <a:ext cx="3238560" cy="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27640" y="2158920"/>
              <a:ext cx="4680" cy="3049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2320" y="5473800"/>
              <a:ext cx="0" cy="24120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2320" y="469908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2320" y="3898800"/>
              <a:ext cx="0" cy="26676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32320" y="3060720"/>
              <a:ext cx="0" cy="31752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01880" y="2255760"/>
              <a:ext cx="180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7068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06560" y="3073320"/>
              <a:ext cx="0" cy="1144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9520" y="2284560"/>
              <a:ext cx="1440" cy="233280"/>
            </a:xfrm>
            <a:prstGeom prst="line">
              <a:avLst/>
            </a:prstGeom>
            <a:ln w="25560">
              <a:solidFill>
                <a:srgbClr val="ff66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92280" y="1542960"/>
            <a:ext cx="7835760" cy="485136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1360" y="68544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1802880"/>
            <a:ext cx="763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s you to compete through the use of a well-known trademark or trad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provide you with with assistance in such areas as site selection, equipment purchasing, national advertising, bookkeeping, the acquisition of supplies and materials, business counseling and employee trai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d risk of fail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be able to take advantage of large-scale, centralized buy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have access to special financing and credit arrang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opportunity to acquire a proven system that has already been developed, tested and r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612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57160" y="1301760"/>
            <a:ext cx="7365960" cy="4635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9160" y="4186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0232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high degree of control which franchisors exercise over thei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actually required to report regularly to the franchisor and subject to frequent inspection and constant super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ost of the services provided to you by the franchisor is based on your total sales revenue, not your profit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anchisor may add a mark-up to the supplies and equipment you are required to buy from them, thereby increasing your operating c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pay the franchisor an initial franchise fee as well as periodic royalty payments and advertising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00160" y="605484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29400" y="651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44560" y="2050920"/>
            <a:ext cx="7518240" cy="19306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3760" y="2303640"/>
            <a:ext cx="7010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benefits available through franchising may not always material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ination policies of many franchisors give franchisees little or no security in many c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880" y="560520"/>
            <a:ext cx="5032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 of Franch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05360" y="65419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" dur="1" fill="hold"/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es of Franch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20880" y="1987560"/>
            <a:ext cx="3441600" cy="1371600"/>
            <a:chOff x="920880" y="1987560"/>
            <a:chExt cx="3441600" cy="1371600"/>
          </a:xfrm>
        </p:grpSpPr>
        <p:sp>
          <p:nvSpPr>
            <p:cNvPr id="95" name=""/>
            <p:cNvSpPr/>
            <p:nvPr/>
          </p:nvSpPr>
          <p:spPr>
            <a:xfrm>
              <a:off x="920880" y="198756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5680" y="2262240"/>
              <a:ext cx="3132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t Distrib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rang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20880" y="3892680"/>
            <a:ext cx="3441600" cy="1371600"/>
            <a:chOff x="920880" y="3892680"/>
            <a:chExt cx="3441600" cy="1371600"/>
          </a:xfrm>
        </p:grpSpPr>
        <p:sp>
          <p:nvSpPr>
            <p:cNvPr id="98" name=""/>
            <p:cNvSpPr/>
            <p:nvPr/>
          </p:nvSpPr>
          <p:spPr>
            <a:xfrm>
              <a:off x="920880" y="3892680"/>
              <a:ext cx="3441600" cy="137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13280" y="4167360"/>
              <a:ext cx="265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siness Form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ranchi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631480" y="3598920"/>
            <a:ext cx="2701800" cy="1959480"/>
            <a:chOff x="5631480" y="3598920"/>
            <a:chExt cx="2701800" cy="1959480"/>
          </a:xfrm>
        </p:grpSpPr>
        <p:sp>
          <p:nvSpPr>
            <p:cNvPr id="101" name=""/>
            <p:cNvSpPr/>
            <p:nvPr/>
          </p:nvSpPr>
          <p:spPr>
            <a:xfrm>
              <a:off x="5632200" y="3598920"/>
              <a:ext cx="2701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ngle-unit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32560" y="4348080"/>
              <a:ext cx="1954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rea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1480" y="5160960"/>
              <a:ext cx="2208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ster franch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4457880" y="3780000"/>
            <a:ext cx="1218960" cy="72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83080" y="4648320"/>
            <a:ext cx="1219320" cy="723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8640" y="4572000"/>
            <a:ext cx="116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24200" y="1504800"/>
            <a:ext cx="4775040" cy="4343400"/>
          </a:xfrm>
          <a:prstGeom prst="rect">
            <a:avLst/>
          </a:prstGeom>
          <a:solidFill>
            <a:srgbClr val="ffdb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2056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op 10 Franchise Organizations in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71880" y="161928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kin Donu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ackson Hewitt Tax Serv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-Eleven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UPS Store/Mail Bo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mino’s Piz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iffy Lube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nic Drive-In Restaur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cDonald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0"/>
                <a:tab algn="dec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pa John’s Int’l In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23920" y="1530360"/>
            <a:ext cx="6883560" cy="472428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3200" y="5457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07880" y="1688760"/>
            <a:ext cx="6375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ull initial costs and what they cov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the franchisor’s trademarks by the franchis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cen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d purchase or leas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construction or renovation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ipmen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 training provi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ing inventory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motional fees or allowa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f operations man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yalties pay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7400" y="6245280"/>
            <a:ext cx="99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05360" y="6581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0" dur="1" fill="hold"/>
                                  <p:tgtEl>
                                    <p:spTgt spid="11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23920" y="1619280"/>
            <a:ext cx="6883560" cy="4533840"/>
          </a:xfrm>
          <a:prstGeom prst="rect">
            <a:avLst/>
          </a:prstGeom>
          <a:solidFill>
            <a:srgbClr val="ccfed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55600" y="1765440"/>
            <a:ext cx="6819840" cy="42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payments that must be made to the franch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going train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operative advertising f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urance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charges on financ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irements regarding purchasing supplies from the franchisor and pr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trictions that apply to competition with other franchis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s covering termination, renewal rights, sale of the franchise and similar top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9120" y="458640"/>
            <a:ext cx="712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icles in a Typical Franchise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90840" y="28440"/>
            <a:ext cx="26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5.6B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uilding a D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03:10:40Z</dcterms:created>
  <dc:creator>Chris Spafford</dc:creator>
  <dc:description/>
  <dc:language>en-US</dc:language>
  <cp:lastModifiedBy>lori_mclellan</cp:lastModifiedBy>
  <cp:lastPrinted>2002-04-30T04:11:37Z</cp:lastPrinted>
  <dcterms:modified xsi:type="dcterms:W3CDTF">2008-02-12T15:54:24Z</dcterms:modified>
  <cp:revision>64</cp:revision>
  <dc:subject/>
  <dc:title>Figure 1.1 The Components of Successful Entrepreneurial Ventures</dc:title>
</cp:coreProperties>
</file>