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1004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1004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6A013B6-5EA3-407C-A69D-1EE12E44B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6CD9731-B308-48A5-8311-AD570BAC0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5051466-9871-43BD-81BC-3CA5E1D7C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2F361D5-B1B8-4138-96EF-B8095B223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F530A13-9F51-47F7-8B84-B6408EE3F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3609EBC-F4CB-441E-93E0-F97E2ED84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9912769-A717-4F42-9ACD-9ED204AA5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6FBCDA4-19FC-4761-B41D-CFDF18C7A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2EFA76B-7998-47AD-8981-E3F3BE0DE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6A00843-8B24-45FB-B916-62EEBA318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5F14357-C72B-46C0-A6A4-8416CFC37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88EBE90-C9E9-4C2A-923A-B4647407F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8FF4257-303D-428E-9B41-DC0422FE0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6CB3AA0-5D4E-4371-94FF-7664949AE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D322F55-8D74-4DE4-880F-AF6CE716C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71240" y="4371480"/>
            <a:ext cx="613404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2CB3-D51D-4020-8E7D-97734D37D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136F-569E-4389-A010-9DF6182A6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DD15-DD23-43D3-99BB-E9BDC9EC3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0EC7-6959-4B19-B947-EDE0750F3D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0256-B604-4B20-BF0F-0EAFF1E0B1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81F69-B3E6-49E1-AEAC-DBC5A14E6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D6D6-1F4B-4A6D-AE6A-0A386EDF0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95F0-BD7A-464C-B48E-5466B194F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4DAE-0563-4BB3-9717-8D20EA255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53C6-DBD9-4E23-93CE-BC1B654DC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3F4E-42AB-4743-B356-BB7B21739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8A6A-7884-42BE-8CA9-E69CC89D7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4A1A-7043-41A0-8C58-FA7F17D64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792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67C9-EF60-4D79-A738-513DC724C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Performa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ough Training and Development, 5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Presentation prepa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acey Starrett, M. Ed, CH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chool of Human Resource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York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0E93-D53A-4D43-8C9A-092435BAC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Employee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in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knowledge &amp; skills, higher self-efficacy, feel more useful, have more positive attitudes towards their job and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in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earnings, more marketable, greater job security, and enhanced promotion pro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B919-2B9C-43EE-B968-82D3D92D5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57360"/>
            <a:ext cx="5567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Societal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ucated popul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s to create educated and skilled work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of liv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pendant on productivity and productivity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1-10.jpg"/>
          <p:cNvPicPr/>
          <p:nvPr/>
        </p:nvPicPr>
        <p:blipFill>
          <a:blip r:embed="rId1"/>
          <a:stretch/>
        </p:blipFill>
        <p:spPr>
          <a:xfrm>
            <a:off x="5214960" y="171468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A40E-FC0E-4831-B35A-06C5CBD0A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pSp>
        <p:nvGrpSpPr>
          <p:cNvPr id="104" name="Diagram 5"/>
          <p:cNvGrpSpPr/>
          <p:nvPr/>
        </p:nvGrpSpPr>
        <p:grpSpPr>
          <a:xfrm>
            <a:off x="2935440" y="1844640"/>
            <a:ext cx="3906720" cy="3368880"/>
            <a:chOff x="2935440" y="1844640"/>
            <a:chExt cx="3906720" cy="3368880"/>
          </a:xfrm>
        </p:grpSpPr>
        <p:sp>
          <p:nvSpPr>
            <p:cNvPr id="105" name="_s2052"/>
            <p:cNvSpPr/>
            <p:nvPr/>
          </p:nvSpPr>
          <p:spPr>
            <a:xfrm>
              <a:off x="2935440" y="2789280"/>
              <a:ext cx="2424240" cy="2424240"/>
            </a:xfrm>
            <a:prstGeom prst="donut">
              <a:avLst>
                <a:gd name="adj" fmla="val 166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2053"/>
            <p:cNvSpPr/>
            <p:nvPr/>
          </p:nvSpPr>
          <p:spPr>
            <a:xfrm>
              <a:off x="6196320" y="29210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cietal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2054"/>
            <p:cNvSpPr/>
            <p:nvPr/>
          </p:nvSpPr>
          <p:spPr>
            <a:xfrm>
              <a:off x="3338640" y="3192480"/>
              <a:ext cx="1616040" cy="161604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2055"/>
            <p:cNvSpPr/>
            <p:nvPr/>
          </p:nvSpPr>
          <p:spPr>
            <a:xfrm>
              <a:off x="6196320" y="23828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ganization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2056"/>
            <p:cNvSpPr/>
            <p:nvPr/>
          </p:nvSpPr>
          <p:spPr>
            <a:xfrm>
              <a:off x="3743640" y="3597120"/>
              <a:ext cx="807840" cy="808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2057"/>
            <p:cNvSpPr/>
            <p:nvPr/>
          </p:nvSpPr>
          <p:spPr>
            <a:xfrm>
              <a:off x="6196320" y="1844640"/>
              <a:ext cx="64584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mployee Benef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D304-88F8-410E-A787-B055CFB50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in Canada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hours of training: 25/year (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expenditure $852/employee (2006) down slightly from $914 in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annual training expenditure: $4.9 million across all industries (20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BDAF-630A-48F5-A5DF-F2972543F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vestment or </a:t>
            </a: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xpense?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31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ranks 2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t of 60 countries in ranking of employee training as a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ed as cost or expense results in limited/required 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ed as investment is part of organization’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n five companies invests more than 3% of payroll in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iabank = $47m, BMO = $1800/employ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4D5D-FAB8-44A8-8377-EC7BDE63C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Quebec Training Law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d in 1995  - “1% or training la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payroll training tax 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$1m invest minimum 1% or pay equivalent to gov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 report on impact of law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effect on way training is structured, organized and deli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rates incr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llaboration in promoting learning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ffect on medium sized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1119-702E-46C3-8E8F-8E11ED415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26" name="Picture 4" descr="F1-1"/>
          <p:cNvPicPr/>
          <p:nvPr/>
        </p:nvPicPr>
        <p:blipFill>
          <a:blip r:embed="rId1"/>
          <a:stretch/>
        </p:blipFill>
        <p:spPr>
          <a:xfrm>
            <a:off x="228600" y="144792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5677-2304-42BE-A2C1-237C604C3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vironmental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 competi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bour mark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50840" indent="-53316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cial clima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1-16.jpg"/>
          <p:cNvPicPr/>
          <p:nvPr/>
        </p:nvPicPr>
        <p:blipFill>
          <a:blip r:embed="rId1"/>
          <a:stretch/>
        </p:blipFill>
        <p:spPr>
          <a:xfrm>
            <a:off x="5357880" y="2071800"/>
            <a:ext cx="32860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06B6-F5AC-430E-8073-0CD626C06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Organizational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1-17.jpg"/>
          <p:cNvPicPr/>
          <p:nvPr/>
        </p:nvPicPr>
        <p:blipFill>
          <a:blip r:embed="rId1"/>
          <a:stretch/>
        </p:blipFill>
        <p:spPr>
          <a:xfrm>
            <a:off x="4357800" y="2286000"/>
            <a:ext cx="29653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E6E3-0BDC-4C43-84D2-E111AA5F5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ontext of Training &amp; Developm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Human Resources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unctional areas of HR work together to create an H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n by organizational strategy and SH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what constitutes a High Performance Work System (HP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 to a Strategic Model of Training an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6454-4FA2-4E7E-8CD9-75FBA7E63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On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Training and Development Pro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1-1.jpg"/>
          <p:cNvPicPr/>
          <p:nvPr/>
        </p:nvPicPr>
        <p:blipFill>
          <a:blip r:embed="rId1"/>
          <a:stretch/>
        </p:blipFill>
        <p:spPr>
          <a:xfrm>
            <a:off x="3643200" y="3500280"/>
            <a:ext cx="2041560" cy="26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1119-4E56-425C-8746-D6D335C79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Strategic Model of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Training &amp;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siness strategy will influence the HRM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in turn, the HRM strategy will influence the strategy for learning an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eads to the decisions on the type of training and development activities and programs that will be necess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depicted in Fig. 1.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0765-8E73-44EB-A4D9-69434AEB1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Strategic Model of</a:t>
            </a:r>
            <a:br>
              <a:rPr sz="3600"/>
            </a:b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Training &amp; Development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276720" y="1916280"/>
            <a:ext cx="293040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4572000" y="355284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367920" y="569916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Figure 1.2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3276720" y="2952720"/>
            <a:ext cx="293040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M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2413080" y="4057560"/>
            <a:ext cx="489564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and Training Strate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2124000" y="5113440"/>
            <a:ext cx="5472360" cy="45972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5dbeef"/>
              </a:gs>
            </a:gsLst>
            <a:lin ang="5400000"/>
          </a:gra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and Development Progr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31"/>
          <p:cNvSpPr/>
          <p:nvPr/>
        </p:nvSpPr>
        <p:spPr>
          <a:xfrm>
            <a:off x="4572000" y="24922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32"/>
          <p:cNvSpPr/>
          <p:nvPr/>
        </p:nvSpPr>
        <p:spPr>
          <a:xfrm>
            <a:off x="4572000" y="463248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00ff"/>
          </a:soli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C6CD-0301-4A59-B227-8300131C7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ional Systems Design Mode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159" name="Picture 6" descr="F1-2jpg"/>
          <p:cNvPicPr/>
          <p:nvPr/>
        </p:nvPicPr>
        <p:blipFill>
          <a:blip r:embed="rId1"/>
          <a:stretch/>
        </p:blipFill>
        <p:spPr>
          <a:xfrm>
            <a:off x="380880" y="1981080"/>
            <a:ext cx="8001000" cy="37339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460080" y="545292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.3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CC78-D4D4-4E84-83D3-A494B5393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7361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ional and scientific model of T&amp;D process consisting of 3 major step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needs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design and deliver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534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evalu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  <a:tab algn="l" pos="7959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with performance gap or itch (probl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  <a:tab algn="l" pos="7613640"/>
                <a:tab algn="l" pos="7959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D model is the basis for rest of the cour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59C1-AA6D-4536-B195-B0FB1782B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the training and development proce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&amp;D plays important role in effectiveness and competitiveness of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investment in human capital, with dividends for the individual, the organization, and society at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raining in Canada is discussed with added emphasis on the Quebec Training Law and its effectiveness since its in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1C3F-E672-4B0C-9557-CE3A40622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training and development is increased when linked to SHRM; aligned with other HR practices (and a HPWS); and tied to an organization’s business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s instructional systems design (ISD)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concepts to be addressed in subsequent chapters, such as needs analysis, training design and delivery, and the evaluation of training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E5C9-B31C-4C1A-9EEC-8CE03538F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699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meaning of performance management, training, development, and human resources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organization, employee, and societal benefits of T&amp;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current state of T&amp;D in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environmental and organizational context of T&amp;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meaning of strategic human resources management and strategic T&amp;D, and high performance work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nstructional systems design model of T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DF11-58F7-44D5-BA30-C2014E8B9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and Development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s on a daily basis require us or someone else to demonstrate effective perform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 of these situations varies from minor to extremely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performance often comes from some form of education, learning, training, o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link between effective performance and individual and organizational effective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1B6E-B88B-468D-9F37-25BF9AB63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cess of establishing performance expectations with employ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ing interventions and programs to improve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ing success of interventions and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1-4.jpg"/>
          <p:cNvPicPr/>
          <p:nvPr/>
        </p:nvPicPr>
        <p:blipFill>
          <a:blip r:embed="rId1"/>
          <a:stretch/>
        </p:blipFill>
        <p:spPr>
          <a:xfrm>
            <a:off x="3286080" y="4500720"/>
            <a:ext cx="2517840" cy="18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474E-3605-452A-BC61-819444629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40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Diagram 5"/>
          <p:cNvGrpSpPr/>
          <p:nvPr/>
        </p:nvGrpSpPr>
        <p:grpSpPr>
          <a:xfrm>
            <a:off x="2670120" y="2565360"/>
            <a:ext cx="3577320" cy="3600000"/>
            <a:chOff x="2670120" y="2565360"/>
            <a:chExt cx="3577320" cy="3600000"/>
          </a:xfrm>
        </p:grpSpPr>
        <p:sp>
          <p:nvSpPr>
            <p:cNvPr id="73" name="_s1028"/>
            <p:cNvSpPr/>
            <p:nvPr/>
          </p:nvSpPr>
          <p:spPr>
            <a:xfrm>
              <a:off x="3450960" y="2565360"/>
              <a:ext cx="2014200" cy="2560320"/>
            </a:xfrm>
            <a:custGeom>
              <a:avLst/>
              <a:gdLst>
                <a:gd name="textAreaLeft" fmla="*/ 0 w 2014200"/>
                <a:gd name="textAreaRight" fmla="*/ 2014560 w 2014200"/>
                <a:gd name="textAreaTop" fmla="*/ 0 h 2560320"/>
                <a:gd name="textAreaBottom" fmla="*/ 2560680 h 256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1029"/>
            <p:cNvSpPr/>
            <p:nvPr/>
          </p:nvSpPr>
          <p:spPr>
            <a:xfrm rot="7200000">
              <a:off x="3454560" y="3445200"/>
              <a:ext cx="2560680" cy="2014200"/>
            </a:xfrm>
            <a:custGeom>
              <a:avLst/>
              <a:gdLst>
                <a:gd name="textAreaLeft" fmla="*/ 0 w 2560680"/>
                <a:gd name="textAreaRight" fmla="*/ 2561040 w 256068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1030"/>
            <p:cNvSpPr/>
            <p:nvPr/>
          </p:nvSpPr>
          <p:spPr>
            <a:xfrm rot="14400000">
              <a:off x="2901600" y="3447000"/>
              <a:ext cx="2560680" cy="2014200"/>
            </a:xfrm>
            <a:custGeom>
              <a:avLst/>
              <a:gdLst>
                <a:gd name="textAreaLeft" fmla="*/ 0 w 2560680"/>
                <a:gd name="textAreaRight" fmla="*/ 2561040 w 256068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031"/>
            <p:cNvSpPr/>
            <p:nvPr/>
          </p:nvSpPr>
          <p:spPr>
            <a:xfrm>
              <a:off x="5008680" y="3032280"/>
              <a:ext cx="808920" cy="10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stablis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xpecta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1032"/>
            <p:cNvSpPr/>
            <p:nvPr/>
          </p:nvSpPr>
          <p:spPr>
            <a:xfrm>
              <a:off x="4053240" y="5137560"/>
              <a:ext cx="808560" cy="102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nterven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_s1033"/>
            <p:cNvSpPr/>
            <p:nvPr/>
          </p:nvSpPr>
          <p:spPr>
            <a:xfrm>
              <a:off x="3097080" y="3034080"/>
              <a:ext cx="808560" cy="10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onitor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ucce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724B-5620-41D2-A8FE-8D874A69B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e set of interventions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cquisition of KSAs to improve performance in one’s current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cquisition of KSAs required to perform future job responsibilities and in the long-term achievement of individual career goals and organizational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CC7E-B9CD-4FDA-B7FC-7E7EE537F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Term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64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Resources Developmen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atic and planned activities that are designed by an organization to provide employees with an opportunity to learn necessary skills to meet current and future job dem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F9AB-1616-4F36-8E3D-4199C1AA1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Benefits of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35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benef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organizational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 recruitment and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1-8.jpg"/>
          <p:cNvPicPr/>
          <p:nvPr/>
        </p:nvPicPr>
        <p:blipFill>
          <a:blip r:embed="rId1"/>
          <a:stretch/>
        </p:blipFill>
        <p:spPr>
          <a:xfrm>
            <a:off x="5786280" y="1428840"/>
            <a:ext cx="2862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> Saks/Haccoun 5ed</dc:description>
  <dc:language>en-US</dc:language>
  <cp:lastModifiedBy>Karina</cp:lastModifiedBy>
  <dcterms:modified xsi:type="dcterms:W3CDTF">2009-10-30T18:15:30Z</dcterms:modified>
  <cp:revision>125</cp:revision>
  <dc:subject/>
  <dc:title>Ch1  PPT Slides</dc:title>
</cp:coreProperties>
</file>