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1004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10040" y="890064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0234D21-0AD2-42E0-ADD7-6840060D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7C24AA-05A3-44D2-B555-1BDF76E29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2AFA474-320B-477B-8D58-4344A8E46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1021FF-DFDD-4B49-BEC8-A5D294DF3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64B8A5E-BF99-4462-8A23-94431752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DAF00AD-DC9F-4865-94EC-FB1C92479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671BC1-9AE9-4DF7-99B5-6ADA112A3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EA7ECC-DD44-4910-A5F9-345ACFA1B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07D07F-575F-4FA2-B7B7-62324B675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F3B024-F909-4502-BE58-2DD852E2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CFFCBF-EF85-4030-BF25-85D9D86D0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842B4B-7BA8-49C4-964B-2C5095EF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F5A4057-9480-4BA8-8420-6442F990A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14416C-342C-4AE6-83C6-3C7DA1B5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D6C5CA-A31C-4AC4-894B-B90A2552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DFED7D-23E2-48F8-87CE-A5C18714A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1470F58-0DD1-448C-9294-60ED4911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7E2E818-20D6-4DD2-A172-F886D277C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06BA52-0054-43EE-A6F2-888148C0A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3C2805-3188-4278-91C3-1D5A8423F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7F057A-4451-4FDB-8862-CD0427D7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C5D464-FCB2-44EE-AC4C-15074FF6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7A22B5F-EC7B-495A-B05F-7E8E5880E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0CD41C-CAB2-4313-A462-9ED3FC33F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1D3D29-6A5B-4159-93B1-4C4E5EF6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4010040" y="8901000"/>
            <a:ext cx="30672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69DC696-43EC-4AFE-BC37-30CB11505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36520" y="4371480"/>
            <a:ext cx="660384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CBDF-EBD7-4C04-AE5A-7CA1B33EA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A188-9C79-4C11-AE8D-EB3DF5BD6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B111-ABFB-4FE4-94D2-2021548BB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88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57520" y="15998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24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88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57520" y="4107240"/>
            <a:ext cx="287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71C3-23A4-4850-9AB2-96E0DF298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E3EB9-0126-4E9C-9CDA-AC3C1B6FE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5BE4-2679-4EEA-89AF-80037FE95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2713-1482-4C8A-88E6-35F3B9735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F59C-FE3B-4650-B512-9296583A4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C832-5142-4FA9-9E34-FF8E662E7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2453-5290-451A-9CC1-45DEBDAE11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6640" y="41072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633F-205E-483E-96CD-803F46526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599840"/>
            <a:ext cx="4350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240" y="4107240"/>
            <a:ext cx="8915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7ADE-875E-4A2A-A31E-A1D9B7DB9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700B-C018-40D1-8E3F-9D6469B1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9F00-919D-4229-8734-3DCE5A61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Two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967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2-1.jpg"/>
          <p:cNvPicPr/>
          <p:nvPr/>
        </p:nvPicPr>
        <p:blipFill>
          <a:blip r:embed="rId1"/>
          <a:stretch/>
        </p:blipFill>
        <p:spPr>
          <a:xfrm>
            <a:off x="2357280" y="2857680"/>
            <a:ext cx="426744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CA53-8852-44BB-B213-3027C063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167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 of what is known; a body of truths, information, and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und in the minds of employees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ansferred and stored in system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2-10.jpg"/>
          <p:cNvPicPr/>
          <p:nvPr/>
        </p:nvPicPr>
        <p:blipFill>
          <a:blip r:embed="rId1"/>
          <a:stretch/>
        </p:blipFill>
        <p:spPr>
          <a:xfrm>
            <a:off x="3714840" y="3786120"/>
            <a:ext cx="34765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426-ED8C-49F7-99CB-5DB0E4587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91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just information! It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ormation that has been ed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ut into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alyzed in a way that makes it meaningful, and therefore valuable to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96DE-B3E7-451B-8824-F46B44E6E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can be grouped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ngs that you can buy or trade, such as patents or copyrights and other forms of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written into procedures                           or coded into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ansferred fairly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28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0% of corporate                           knowledg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-12.jpg"/>
          <p:cNvPicPr/>
          <p:nvPr/>
        </p:nvPicPr>
        <p:blipFill>
          <a:blip r:embed="rId1"/>
          <a:stretch/>
        </p:blipFill>
        <p:spPr>
          <a:xfrm>
            <a:off x="6286680" y="3357720"/>
            <a:ext cx="2571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A111-57ED-4124-B201-66DE0DF6A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Knowledg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cit Knowled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able wisdom learned from experience and insight that has been defined as intuition, know how, little tricks, and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% of corporat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impossible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known example: decision-making behaviour of dealers in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E73D-7F68-4D32-9C3B-EB0F88C05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n organization’s knowledge, experience, relationships, process discoveries, innovations, market presence, and community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2-14.jpg"/>
          <p:cNvPicPr/>
          <p:nvPr/>
        </p:nvPicPr>
        <p:blipFill>
          <a:blip r:embed="rId1"/>
          <a:stretch/>
        </p:blipFill>
        <p:spPr>
          <a:xfrm>
            <a:off x="2714760" y="3714840"/>
            <a:ext cx="35240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859A-783A-48F5-95E1-E7C7501DD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like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source of innovation and wealth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as to be formalized, captured, and leveraged to produce a more highly valued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like other assets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t grows wit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recognized by many organizations as a valuable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C66B-284B-4320-8EAC-2641CB29B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Knowledge, skills, and abilities of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ew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ntellectu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2-16.jpg"/>
          <p:cNvPicPr/>
          <p:nvPr/>
        </p:nvPicPr>
        <p:blipFill>
          <a:blip r:embed="rId1"/>
          <a:stretch/>
        </p:blipFill>
        <p:spPr>
          <a:xfrm>
            <a:off x="2714760" y="3143160"/>
            <a:ext cx="3443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D17-604F-40E8-99F8-68F8DFC8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ypes of Intellectual Capital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Formal systems and informal relationships that allow employees to communicate, solve problems, and make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rganization’s relationships with suppliers, customers, and competitors that influence how they d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66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er Capit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Value of an organization’s relationships with its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824B-E58E-40C8-8048-84DF30ADE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Intellectual Capital – Tying it all Together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s more investments are made in human capital, the employees are more capable &amp; committed to increasing renewal &amp; structural capital, leading to more productive relationship capital, resulting in better financial performance.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2-18.jpg"/>
          <p:cNvPicPr/>
          <p:nvPr/>
        </p:nvPicPr>
        <p:blipFill>
          <a:blip r:embed="rId1"/>
          <a:stretch/>
        </p:blipFill>
        <p:spPr>
          <a:xfrm>
            <a:off x="3143160" y="4000680"/>
            <a:ext cx="3429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3499-452C-42B4-93C4-473E4928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nvolves the creation, collection, storage, distribution, &amp; application of compiled ‘know what’ and ‘know 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403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ment/Infrastructure refers to systems and structures that integrate people, processes,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E270-2031-45B5-8258-6638FE9AB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organizational learning and describe a learning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five disciplines and the principles of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our dimensions critical for creating and sustaining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and give examples of explicit and taci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eaning and types of intellectual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0C9A-3D57-4DF1-96F9-825A45E05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Management  Practic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sure that important knowledg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available to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2-20.jpg"/>
          <p:cNvPicPr/>
          <p:nvPr/>
        </p:nvPicPr>
        <p:blipFill>
          <a:blip r:embed="rId1"/>
          <a:stretch/>
        </p:blipFill>
        <p:spPr>
          <a:xfrm>
            <a:off x="4218120" y="2286000"/>
            <a:ext cx="4925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DED4-E08E-473E-9FA8-64B0C3D81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Knowledg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Environmen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individuals, teams, depart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includes sources of information from other organizations, customers, industry watch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80FD-4E35-4AE5-8846-D0A46B27F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Formal learning (training and developm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art of the knowledge-acquisi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3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Informal lear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imately 70 % of how employee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ial &amp; err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taneous, immediate and task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4B4-7B12-41C8-A26D-BC74229D5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2349360"/>
          <a:ext cx="8380440" cy="3845160"/>
        </p:xfrm>
        <a:graphic>
          <a:graphicData uri="http://schemas.openxmlformats.org/drawingml/2006/table">
            <a:tbl>
              <a:tblPr/>
              <a:tblGrid>
                <a:gridCol w="1504800"/>
                <a:gridCol w="3778560"/>
                <a:gridCol w="3097080"/>
              </a:tblGrid>
              <a:tr h="52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organiz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 by lear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 between learning and use of knowledge acqui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ing used immediately on-the-jo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ly 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tructur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com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pecifi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 Box 73"/>
          <p:cNvSpPr/>
          <p:nvPr/>
        </p:nvSpPr>
        <p:spPr>
          <a:xfrm>
            <a:off x="395280" y="155736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Comparing Formal and Informal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E565-7F90-42EE-BC40-B249A2E96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9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ommunities of Pract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people with common interests and concerns who meet regularly to share their experience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each other and identify new approaches for working and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social and people learn from each other while working on the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7067-52D7-432C-AE7B-35BE0A14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Acquisition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ccording to Wenger and Lave, Communities of Practice have three characterist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(shared inter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(interaction, discussion, sha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4003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(practitioners with resources to sh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345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informal, self-organizing, and form naturally but they can be created, fostered, and nurtur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FE9-B5DB-49B9-A504-540924DFB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Interpret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ntal models are deeply engrained assumptions, generalizations, or images that influence how we understand the world and how we tak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 effective way to develop shared mental models is to establish teams to stimulate work-related learning, solving re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7C35-E908-4527-B9DB-257C0F16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Knowledge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ving ideas requires a different set of ski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quires systems for shar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nd Communication Technology (I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codification of knowledge; that is, its transformation into information that can be easily trans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03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roposals, spreadsheets, presentations, specifications,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ACD-5326-4DA5-8B12-F90F71D0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Dissemin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729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tranet: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ical component for managing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mployee questions can be answered in hours instead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42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be like an instant c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2-28.jpg"/>
          <p:cNvPicPr/>
          <p:nvPr/>
        </p:nvPicPr>
        <p:blipFill>
          <a:blip r:embed="rId1"/>
          <a:stretch/>
        </p:blipFill>
        <p:spPr>
          <a:xfrm>
            <a:off x="5429160" y="4214880"/>
            <a:ext cx="30625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5EA-F9D8-4BF0-BE21-E5F519050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Knowledge Reten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nowledge repositories are inventories of knowledge that organizations compile and store, which can be easily retriev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positories are more informal lists of lessons learned, white papers,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have links to the originator of th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are based on computer technology: oral histories transcribed, video taped presentation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73DF-7016-487D-8470-F5DAA7DE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knowledge management and how knowledge is acquired, interpreted, disseminated, and retained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formal learning and describe how organizations can facilita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mmunities of practice and describe what organizations can do to creat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multilevel systems model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organizational learning  and training and development are conn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1EA-3A2A-4F87-B677-58B654B1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23"/>
          <p:cNvSpPr/>
          <p:nvPr/>
        </p:nvSpPr>
        <p:spPr>
          <a:xfrm>
            <a:off x="2209680" y="335268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2209680" y="5029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20"/>
          <p:cNvSpPr/>
          <p:nvPr/>
        </p:nvSpPr>
        <p:spPr>
          <a:xfrm>
            <a:off x="2209680" y="1600200"/>
            <a:ext cx="4572000" cy="1143000"/>
          </a:xfrm>
          <a:prstGeom prst="ellipse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br>
              <a:rPr sz="4000"/>
            </a:b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3429000" y="2666880"/>
            <a:ext cx="485640" cy="762120"/>
          </a:xfrm>
          <a:prstGeom prst="upArrow">
            <a:avLst>
              <a:gd name="adj1" fmla="val 50000"/>
              <a:gd name="adj2" fmla="val 3923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6"/>
          <p:cNvSpPr/>
          <p:nvPr/>
        </p:nvSpPr>
        <p:spPr>
          <a:xfrm>
            <a:off x="4800600" y="2743200"/>
            <a:ext cx="485640" cy="671400"/>
          </a:xfrm>
          <a:prstGeom prst="down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7"/>
          <p:cNvSpPr/>
          <p:nvPr/>
        </p:nvSpPr>
        <p:spPr>
          <a:xfrm>
            <a:off x="3476520" y="4419720"/>
            <a:ext cx="486000" cy="685800"/>
          </a:xfrm>
          <a:prstGeom prst="upArrow">
            <a:avLst>
              <a:gd name="adj1" fmla="val 50000"/>
              <a:gd name="adj2" fmla="val 3527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800600" y="4495680"/>
            <a:ext cx="485640" cy="595440"/>
          </a:xfrm>
          <a:prstGeom prst="downArrow">
            <a:avLst>
              <a:gd name="adj1" fmla="val 50000"/>
              <a:gd name="adj2" fmla="val 30652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155160" y="4767120"/>
            <a:ext cx="210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Figure 2.1 in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9228-60FF-40D9-83CE-A6BC719EC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Multilevel Systems Mode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ation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environment for learning and the acquisition and exchange of knowledge and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 level learning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pportunity for groups to interact, communicate, and share inform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Individual leve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viduals must have formal and informal opportunities for learning. Learning and the transfer of knowledge and information must be reward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2750-DAD1-413E-B487-F69458D09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 and T&amp;D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 Between Organizational Learning and Training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&amp; Development is an important element of organization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rganizations exceed other organizations in terms of both training practices and expendi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organizational learning is individu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B800-E020-418E-9D8D-9AC0B088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&amp;D and 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90920" y="184644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2590920" y="4876920"/>
            <a:ext cx="380988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556000" y="3363840"/>
            <a:ext cx="3816360" cy="1143000"/>
          </a:xfrm>
          <a:prstGeom prst="rect">
            <a:avLst/>
          </a:prstGeom>
          <a:gradFill rotWithShape="0">
            <a:gsLst>
              <a:gs pos="0">
                <a:srgbClr val="5dbeef"/>
              </a:gs>
              <a:gs pos="100000">
                <a:srgbClr val="99ff66"/>
              </a:gs>
            </a:gsLst>
            <a:lin ang="18900000"/>
          </a:gradFill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AutoShape 11"/>
          <p:cNvCxnSpPr>
            <a:stCxn id="198" idx="3"/>
            <a:endCxn id="199" idx="3"/>
          </p:cNvCxnSpPr>
          <p:nvPr/>
        </p:nvCxnSpPr>
        <p:spPr>
          <a:xfrm flipH="1" flipV="1">
            <a:off x="6379560" y="3935160"/>
            <a:ext cx="29160" cy="1513440"/>
          </a:xfrm>
          <a:prstGeom prst="bentConnector3">
            <a:avLst>
              <a:gd name="adj1" fmla="val -77125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01" name="AutoShape 12"/>
          <p:cNvCxnSpPr>
            <a:stCxn id="198" idx="3"/>
            <a:endCxn id="197" idx="3"/>
          </p:cNvCxnSpPr>
          <p:nvPr/>
        </p:nvCxnSpPr>
        <p:spPr>
          <a:xfrm flipV="1">
            <a:off x="6408720" y="2417400"/>
            <a:ext cx="2160" cy="3031200"/>
          </a:xfrm>
          <a:prstGeom prst="bentConnector3">
            <a:avLst>
              <a:gd name="adj1" fmla="val 13900000"/>
            </a:avLst>
          </a:prstGeom>
          <a:ln w="255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02" name="Line 14"/>
          <p:cNvSpPr/>
          <p:nvPr/>
        </p:nvSpPr>
        <p:spPr>
          <a:xfrm>
            <a:off x="4356000" y="2997360"/>
            <a:ext cx="0" cy="36036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356000" y="4508640"/>
            <a:ext cx="0" cy="3603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72E5-303E-4D5B-A7C3-DB16A841D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736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eaning and importance of learning in organizations and the management of knowledge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five disciplines and principles of a learning organization were described as well as four dimensions necessary for creating and sustaining a learning organiz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fferent types of knowledge in organizations and intellectual capital were discuss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Knowledge management practices were describ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ultilevel systems model was described and connection of organizational learning to training and develop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1AB7-9B2E-414D-90E7-366E23FFE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Organizational Learning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56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of creating, sharing, diffusing, and applying knowledge in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imply a focus on current needs or deficiencies, but a look to continuous l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406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a Learning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2-4.jpg"/>
          <p:cNvPicPr/>
          <p:nvPr/>
        </p:nvPicPr>
        <p:blipFill>
          <a:blip r:embed="rId1"/>
          <a:stretch/>
        </p:blipFill>
        <p:spPr>
          <a:xfrm>
            <a:off x="5715000" y="1571760"/>
            <a:ext cx="308124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F305-67B5-4F3F-8BD5-2E79EFE24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07680"/>
            <a:ext cx="8807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An organization that acquires, organizes, and shares information &amp; knowledge, and uses new information and knowledge to change its behaviour in order to achieve its objectives and improve its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3952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transform itself by acquiring and disseminating new knowledge and skills throughout th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EFC7-4543-4C8F-9823-41579FCC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enhanced capacity to learn, adapt, and change its cult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Has ability to make sense of, and respond to, surround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results in continual improvement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successful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2-6.jpg"/>
          <p:cNvPicPr/>
          <p:nvPr/>
        </p:nvPicPr>
        <p:blipFill>
          <a:blip r:embed="rId1"/>
          <a:stretch/>
        </p:blipFill>
        <p:spPr>
          <a:xfrm>
            <a:off x="5786280" y="3571920"/>
            <a:ext cx="1717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7687-B267-480D-B6C0-4556102E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he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ve Discip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Shared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625760" indent="-7113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Th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0C29-FAC5-4516-8DF8-D7E74494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Principle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verybody considered a lea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ople learn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part of a chang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ous formal and informal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2-8.jpg"/>
          <p:cNvPicPr/>
          <p:nvPr/>
        </p:nvPicPr>
        <p:blipFill>
          <a:blip r:embed="rId1"/>
          <a:stretch/>
        </p:blipFill>
        <p:spPr>
          <a:xfrm>
            <a:off x="5143680" y="3000240"/>
            <a:ext cx="36511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00E5-5364-47D7-BA9E-56C900E80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2438280" y="6248520"/>
            <a:ext cx="4800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Key Dimensions of a Learning Organizat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Learning Systems/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479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Knowledge Management/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According to Conference Board of Canada - Table 2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30T18:16:27Z</dcterms:modified>
  <cp:revision>194</cp:revision>
  <dc:subject>Saks and Haccoun 5 ed</dc:subject>
  <dc:title>Ch 2</dc:title>
</cp:coreProperties>
</file>