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DBA2-3473-4122-8BC1-B3681DADD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FF8E-3210-4408-B320-1DA4CA842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707A-0EBE-49FD-A4F3-D12A97C90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6B69-A752-40AD-96EB-1C086A62B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76C2-F88B-4C0C-9477-8744B490B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87E7-6F86-4EA8-AFD1-AD934CE98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ED59-5B04-43DE-BF96-E4FEE8E3F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6BBB-1837-400D-9857-3CFDEC8BB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6249-E807-4694-AA92-1FDE23FCB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FA99-B498-4A63-BF36-4FBA1FCD0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3ACE-8CC0-4C90-8A68-4A5646093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34CA-67F9-4501-85DC-FD0A16427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4BE8-B2C5-4C9D-BFE5-C0CBEE63E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8332-DE38-433B-BF22-E2D9E0869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C069-5402-4D5A-A469-D66DF7A674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576C-C57C-4150-A5B3-457A6377E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08A0-49E6-46F2-A696-F5C5932E2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C75D-6CA6-427A-A2BA-54B78269E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FF96-DEEA-4658-8C44-7BC211BE0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87F6-A7D5-4DA5-B0F3-43850E0B5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75F6-4243-4D80-8311-AA052E29E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D664-64CB-4934-A1DD-BA9BE9638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82EC-2219-4240-97C9-6CFF1B461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0D8E-0E33-4D62-A042-0CFDE45FC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94DC-83DD-4ACC-96C4-87186046E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A709-0C06-4223-B6DA-476DF2BF8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9593-99F0-452B-92AA-C499245C2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096A-7E3E-4605-9F62-2E77B7F1A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8C21-0823-42DC-BDE2-414D41848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0146-24C0-467F-B2E9-68870B13C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BC3F-CBF2-428F-B991-876972327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F2B5-FEE1-4E55-B582-4FC8B8C37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D12F-1E0D-4712-BE4D-3F6C6D365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3370-2534-4BCA-83CB-25329B794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197D-FBF1-40BF-A37F-2EACBDF31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383B-415E-4852-8382-80071C41C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A551-763E-4D01-B8A5-DBED8046A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3971-8A8C-483F-8AA7-F1C8025A4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7090-4AAC-406F-8E24-34F82697A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DD9E-2F61-4B67-8744-51A11754B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703E-AE44-434E-A864-E79431BD0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5623-06AD-43A1-A6B9-D31724F7C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E165-B113-4A1F-8E72-AB3097E11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0366-C902-4E3A-8998-656603B06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534C-B3F6-4C12-92C5-B20C2EA0D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67C6-15FD-41AB-B169-CB3A7FA6B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D5AF-C060-485D-9D40-4F377C984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2E60-C708-4450-8F87-AE6D137A0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D256-40D9-4B4E-B720-0CFB26674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FCBA-5A29-4E35-82E2-19616456E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71E7-2B2F-467C-AE8E-944331A3A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AD39-11B3-47EC-9CA3-9EB66E939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BCE2-3E0E-4EEB-A43C-8A5C5866F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Tilley, Paul (C'ville)</cp:lastModifiedBy>
  <dcterms:modified xsi:type="dcterms:W3CDTF">2013-11-13T13:03:33Z</dcterms:modified>
  <cp:revision>326</cp:revision>
  <dc:subject/>
  <dc:title>Chapter 8</dc:title>
</cp:coreProperties>
</file>