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6E0B-C438-491D-A4F7-4947B8AB8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95C7-74A2-4B6D-B448-53E8384C7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A9D2-52DE-4B20-8768-3B4BC94E4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E137-180E-4697-B131-636EE1FB3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0723-304D-4336-8F9E-A02544BCB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D032-2167-4019-90D0-5340B46BC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52AC-9ED8-423D-8F76-68EEF7553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461F-F73D-46FA-8C3C-4EAA98689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E665-2DF6-43EB-AC19-D226F7C8E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F972-D529-436F-A8A9-4A9DB14A1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5911-C58B-4116-A58B-D0154F1DBA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6D45-982E-44D2-96D4-A990D75C8C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91D1-3944-4DD6-8AB3-139D65F89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4A47-A9FF-402A-B63C-E9BA91A98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DF0C-96C4-42D5-A7F6-EAAA75B2C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9B1F-3B4D-4355-8F6E-33BD4DF29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0872-ED58-48F8-BFF1-C46960585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F781-5894-45B9-BA90-4D2C22DA8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5713-8E20-42E3-97D9-953EE6460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4071-36A4-4BB8-8ABF-6C6DD2F32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324120"/>
            <a:ext cx="4953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9531-6D9D-4F5A-8081-466B7B176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l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705720" y="22096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11-2.jpg"/>
          <p:cNvPicPr/>
          <p:nvPr/>
        </p:nvPicPr>
        <p:blipFill>
          <a:blip r:embed="rId1"/>
          <a:stretch/>
        </p:blipFill>
        <p:spPr>
          <a:xfrm>
            <a:off x="5638680" y="1523880"/>
            <a:ext cx="28450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9282-E1D9-4E9F-BA4A-59E3AA0AC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valuations may be distinguished from each other with respec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undamental purpose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1-4.jpg"/>
          <p:cNvPicPr/>
          <p:nvPr/>
        </p:nvPicPr>
        <p:blipFill>
          <a:blip r:embed="rId1"/>
          <a:stretch/>
        </p:blipFill>
        <p:spPr>
          <a:xfrm>
            <a:off x="3352680" y="4343400"/>
            <a:ext cx="2560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4DAE-CF01-48E8-B987-123F2430B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perceptions, learning and behaviour at the conclusion of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sessing psychological forces that operat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about the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-49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climate and learning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CECE-B8F8-4314-BCB7-8F58100E6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 purpose of the e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rmative: provide data about various aspects of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mmative: provide data about worthiness or effectiveness of a training progra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criptive: provide information that describes the trainee once they have completed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usal: provide information to determine if training caused the post-training behavi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7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0C97-573C-4940-A0CF-A3814378C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’s Hierarchic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ldest, best known, and most frequently used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Four Levels of Training E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1: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2: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3: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4: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1-5.jpg"/>
          <p:cNvPicPr/>
          <p:nvPr/>
        </p:nvPicPr>
        <p:blipFill>
          <a:blip r:embed="rId1"/>
          <a:stretch/>
        </p:blipFill>
        <p:spPr>
          <a:xfrm>
            <a:off x="5410080" y="3809880"/>
            <a:ext cx="3581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7B44-157E-48D0-964D-C723AB11F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rkpatrick’s Model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vides a systematic framework for assess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our levels are presented in a hierarchy with each level providing more important information than the preceding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assumes all levels are positively related to each other; have causal effect on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ributions of Kirkpatrick model not to be underestimated; clear, simple, demystified evaluation and provide impetus fo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A7E5-6FE2-446F-8AEF-2B89EC4AF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re is general agreement that the four levels are important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tcomes to be assessed  there are some critiqu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ubt about the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ufficiently 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rkpatrick requires all training evaluations to rely on the same variables and outcom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0934-BB4B-41B5-AD26-F36EA5387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involves the measurement of four types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ganizatio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8296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2E1E-54A2-4F92-BBDE-FD66F9BE9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A model improves on Kirkpatrick’s model in three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a greater number of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are causally related to training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variables with greater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COMA model is relatively new so too early to determine its value; also its focus is on factors that impact transfer only;  and it does not specify how evaluations should be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F5A6-50B3-4DF2-8C65-0F1FA4449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specifies the target, focus, and methods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11-6.jpg"/>
          <p:cNvPicPr/>
          <p:nvPr/>
        </p:nvPicPr>
        <p:blipFill>
          <a:blip r:embed="rId1"/>
          <a:stretch/>
        </p:blipFill>
        <p:spPr>
          <a:xfrm>
            <a:off x="2514600" y="3429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C5D4-FC3B-4AD6-9ABB-7C61C9495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oes further than either of the two preceding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target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it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ggest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neral to any evaluati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lexibility: guided by target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2E8B-578D-4ADB-B303-EC03E4DC8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raining evaluation and the main reasons for conducting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barriers to evaluation and the factors that affect whether or not an evaluation is condu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types of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odels of training evaluation and the relationship among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1113-29FD-4546-BCE4-8326EA437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COMA, the DBE model is recent and will need to be tested more 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models require specialized knowledge to complete the evaluation; this can limit their use in organizations without this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ton and colleagues’ Learning Transfer System Inventory (seen in Ch 10) provides a more gener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ing Today 11.2 for more on its use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2FD4-B233-41DA-BC2E-3604F7FB8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requires data be collected on important aspects of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variables have been identified in the three models of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complete list of variables is presented in Table 11.1 and Table 11.2 shows sample questions and formats for measuring each type of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817B-A70D-440D-BFA3-ADD67C854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d/anticipate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950800" y="5105520"/>
            <a:ext cx="2155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1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11-7.jpg"/>
          <p:cNvPicPr/>
          <p:nvPr/>
        </p:nvPicPr>
        <p:blipFill>
          <a:blip r:embed="rId1"/>
          <a:stretch/>
        </p:blipFill>
        <p:spPr>
          <a:xfrm>
            <a:off x="5013360" y="1447920"/>
            <a:ext cx="413064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72BF-ECCC-4EB7-86A3-DFF7609C8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ffective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rainees’ likes and dislike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Utility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he perceived usefulnes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11-8.jpg"/>
          <p:cNvPicPr/>
          <p:nvPr/>
        </p:nvPicPr>
        <p:blipFill>
          <a:blip r:embed="rId1"/>
          <a:stretch/>
        </p:blipFill>
        <p:spPr>
          <a:xfrm>
            <a:off x="5943600" y="3276720"/>
            <a:ext cx="3106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AC04-53DB-4D85-95C4-C0F153E84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outcomes can be measur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eclarative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acquisition of facts and information, and is by far the most frequently assessed learning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dural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organization of facts and information into a smooth behavioural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B552-21DC-4040-A2ED-645D7BD00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haviours can be measured using three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652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duction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11-9.jpg"/>
          <p:cNvPicPr/>
          <p:nvPr/>
        </p:nvPicPr>
        <p:blipFill>
          <a:blip r:embed="rId1"/>
          <a:stretch/>
        </p:blipFill>
        <p:spPr>
          <a:xfrm>
            <a:off x="5365800" y="29718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96DF-0FCE-4BB1-A7C6-60D560252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types of motivation in the training con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apply the skill on-the-job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s to the beliefs that trainees have about their ability to perform the behaviours that were taught in a training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1F00-066A-476E-9D95-2180E74FE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ived and/or Anticipate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wo important measures of support 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45720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Perceiv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  which the trainee reports receiving              support in attempts to transfer the           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Anticipat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which the trainee expects to supported             in attempts to transfer the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1-10.jpg"/>
          <p:cNvPicPr/>
          <p:nvPr/>
        </p:nvPicPr>
        <p:blipFill>
          <a:blip r:embed="rId1"/>
          <a:stretch/>
        </p:blipFill>
        <p:spPr>
          <a:xfrm>
            <a:off x="6997680" y="2057400"/>
            <a:ext cx="1998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A908-6529-47F2-B7FC-007BDBE68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scales designed to measure per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 climate: can be assessed via a questionnaire that identifies eight sets of “cu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learning culture: can be assessed via questionnaire presented in Trainer’s Notebook 4.1 in chapter 4 of your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73644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64D5-4423-474F-AF2E-8E1249C77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6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ransfer climate cures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o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ci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ask and structur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o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11-11.jpg"/>
          <p:cNvPicPr/>
          <p:nvPr/>
        </p:nvPicPr>
        <p:blipFill>
          <a:blip r:embed="rId1"/>
          <a:stretch/>
        </p:blipFill>
        <p:spPr>
          <a:xfrm>
            <a:off x="6248520" y="2057400"/>
            <a:ext cx="2222280" cy="14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11-12.jpg"/>
          <p:cNvPicPr/>
          <p:nvPr/>
        </p:nvPicPr>
        <p:blipFill>
          <a:blip r:embed="rId2"/>
          <a:stretch/>
        </p:blipFill>
        <p:spPr>
          <a:xfrm>
            <a:off x="6400800" y="3581280"/>
            <a:ext cx="2135160" cy="1436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11-13.jpg"/>
          <p:cNvPicPr/>
          <p:nvPr/>
        </p:nvPicPr>
        <p:blipFill>
          <a:blip r:embed="rId3"/>
          <a:stretch/>
        </p:blipFill>
        <p:spPr>
          <a:xfrm>
            <a:off x="6858000" y="5029200"/>
            <a:ext cx="17906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97A0-20FC-46EE-AE56-351749FB0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ain variables to measure in a training evaluation and how they are measu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different types of designs for training evaluation, as well as their requirements, limits, and when they should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75D3-ED94-4558-8419-C6D88E10E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information consist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ard data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sults that can be measured objectively (i.e., number of items s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ults that are assessed through perceptions and judgments (i.e., attitu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turn on Expecta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ment of a training program’s ability to meet manageri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E164-166F-4302-8A48-9F2EF3C43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ner with which the data collection is organized and how the data will be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data collection designs compare the trained person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11-14.jpg"/>
          <p:cNvPicPr/>
          <p:nvPr/>
        </p:nvPicPr>
        <p:blipFill>
          <a:blip r:embed="rId1"/>
          <a:stretch/>
        </p:blipFill>
        <p:spPr>
          <a:xfrm>
            <a:off x="4892760" y="1905120"/>
            <a:ext cx="42512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BD4E-E48D-440C-8582-02697111C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on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omparison is made to a standard and not to another group of (untrained)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 and when the assignment of people to the training group and the non-training group is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Quasi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, but when the assignment of people to the training group and the non-training group is not ran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08D5-CD3D-4F96-9BDF-31F0948E3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Types of Evaluation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A: The single group post-only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B: The single group pre-post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C: The time series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Design D: The single group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E: The pre-post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F: The time-series design with comparison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G: The internal referencing strategy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of the above are non-experiment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*Casual Models: experimental or quasi-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**Hybrid design that permits some conclusions drawn from caus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3C5F-9A22-4838-BD1C-C5B119CA7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97" name="Picture 5" descr="p344.jpg"/>
          <p:cNvPicPr/>
          <p:nvPr/>
        </p:nvPicPr>
        <p:blipFill>
          <a:blip r:embed="rId1"/>
          <a:stretch/>
        </p:blipFill>
        <p:spPr>
          <a:xfrm>
            <a:off x="1600200" y="175248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E4C4-28B8-4D17-8982-0ABB0D638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638680" y="34290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V="1">
            <a:off x="6095880" y="29718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21400" y="5192640"/>
            <a:ext cx="39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Single Group Post-onl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4941000" y="5175360"/>
            <a:ext cx="39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Single Group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EC9E-79D4-4A75-8770-27DCF0969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28954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89960" y="5192640"/>
            <a:ext cx="27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328000" y="5175360"/>
            <a:ext cx="28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 Single Group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5"/>
          <p:cNvSpPr/>
          <p:nvPr/>
        </p:nvSpPr>
        <p:spPr>
          <a:xfrm>
            <a:off x="22860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6"/>
          <p:cNvSpPr/>
          <p:nvPr/>
        </p:nvSpPr>
        <p:spPr>
          <a:xfrm>
            <a:off x="6858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7"/>
          <p:cNvSpPr/>
          <p:nvPr/>
        </p:nvSpPr>
        <p:spPr>
          <a:xfrm>
            <a:off x="12952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18"/>
          <p:cNvCxnSpPr>
            <a:stCxn id="227" idx="6"/>
            <a:endCxn id="228" idx="2"/>
          </p:cNvCxnSpPr>
          <p:nvPr/>
        </p:nvCxnSpPr>
        <p:spPr>
          <a:xfrm>
            <a:off x="11426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AutoShape 19"/>
          <p:cNvCxnSpPr>
            <a:stCxn id="226" idx="6"/>
            <a:endCxn id="219" idx="2"/>
          </p:cNvCxnSpPr>
          <p:nvPr/>
        </p:nvCxnSpPr>
        <p:spPr>
          <a:xfrm>
            <a:off x="27428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Line 20"/>
          <p:cNvSpPr/>
          <p:nvPr/>
        </p:nvSpPr>
        <p:spPr>
          <a:xfrm flipV="1">
            <a:off x="17524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7391520" y="32767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22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3B41-0CE8-488D-B474-16D9E52F7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66360" y="519264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5334120" y="5175360"/>
            <a:ext cx="28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paris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7696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0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2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76960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70866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54864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34"/>
          <p:cNvSpPr/>
          <p:nvPr/>
        </p:nvSpPr>
        <p:spPr>
          <a:xfrm>
            <a:off x="60958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35"/>
          <p:cNvCxnSpPr>
            <a:stCxn id="258" idx="6"/>
            <a:endCxn id="259" idx="2"/>
          </p:cNvCxnSpPr>
          <p:nvPr/>
        </p:nvCxnSpPr>
        <p:spPr>
          <a:xfrm>
            <a:off x="59432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AutoShape 36"/>
          <p:cNvCxnSpPr>
            <a:stCxn id="257" idx="6"/>
            <a:endCxn id="256" idx="2"/>
          </p:cNvCxnSpPr>
          <p:nvPr/>
        </p:nvCxnSpPr>
        <p:spPr>
          <a:xfrm>
            <a:off x="75434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" name="Line 37"/>
          <p:cNvSpPr/>
          <p:nvPr/>
        </p:nvSpPr>
        <p:spPr>
          <a:xfrm flipV="1">
            <a:off x="65530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708660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601992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AutoShape 41"/>
          <p:cNvCxnSpPr>
            <a:stCxn id="265" idx="3"/>
            <a:endCxn id="264" idx="1"/>
          </p:cNvCxnSpPr>
          <p:nvPr/>
        </p:nvCxnSpPr>
        <p:spPr>
          <a:xfrm>
            <a:off x="5867280" y="430488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AutoShape 42"/>
          <p:cNvCxnSpPr>
            <a:stCxn id="263" idx="3"/>
            <a:endCxn id="249" idx="1"/>
          </p:cNvCxnSpPr>
          <p:nvPr/>
        </p:nvCxnSpPr>
        <p:spPr>
          <a:xfrm>
            <a:off x="7543440" y="43048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Line 43"/>
          <p:cNvSpPr/>
          <p:nvPr/>
        </p:nvSpPr>
        <p:spPr>
          <a:xfrm>
            <a:off x="65530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5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6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8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CDE1-B6AC-4415-8893-FC44DE416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89080" y="51926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: Internal Referenc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4648320" y="32004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3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5107680" y="318456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raining on 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5117400" y="36417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raining on Ir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6"/>
          <p:cNvSpPr/>
          <p:nvPr/>
        </p:nvSpPr>
        <p:spPr>
          <a:xfrm>
            <a:off x="4572000" y="3048120"/>
            <a:ext cx="3200400" cy="11430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0C9E-0D07-4A6B-A8F4-235CE69A7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s about which data collection design to use need to be considered in the training design 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f a trainer wants to have pre- and post data collection it will need to be factored into the design and administration of the program at the design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01EB-6D0E-47CB-8C0C-E52EF50B8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4" name="Picture 4" descr="F1-2jpg"/>
          <p:cNvPicPr/>
          <p:nvPr/>
        </p:nvPicPr>
        <p:blipFill>
          <a:blip r:embed="rId1"/>
          <a:stretch/>
        </p:blipFill>
        <p:spPr>
          <a:xfrm>
            <a:off x="1143000" y="2362320"/>
            <a:ext cx="693432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9640-E488-44A4-AACB-B03B46DDF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urposes for evaluating training programs was as well as the barriers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odels of training (Kirkpatrick, COMA, and DBE) were presented, critiqued and contr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d that Kirkpatrick model is most frequently used, yet has som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required for an evaluation as well as methods and techniques required to measu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ypes of data collections designs were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influencing choice of data collection designs were discu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5A1F-4D75-4787-A9BF-69BF420FA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is the third step of the ISD model and consists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aluation criteria (what is being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design (how it will be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ncepts are covered in the next two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as a specific and important role to play in the effective evaluation of training and the completion of the ISD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7CBF-F93A-46F7-ABE2-80123C990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What is Training Evaluation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 to assess the value - the worthiness - of training programs to employees and to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1-3.jpg"/>
          <p:cNvPicPr/>
          <p:nvPr/>
        </p:nvPicPr>
        <p:blipFill>
          <a:blip r:embed="rId1"/>
          <a:stretch/>
        </p:blipFill>
        <p:spPr>
          <a:xfrm>
            <a:off x="4719600" y="2209680"/>
            <a:ext cx="44244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990D-5ED5-40D4-AE5F-A61C098E5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single procedure; a continuum of techniques, methods, and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s from simple to elaborate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elaborate the procedure, the more complete the results, yet usually the more costly (time, re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elect the procedure based on what makes sense and what can add value within resourc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E177-0B08-40A9-95B1-50A9DEFE0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y Conduct Training Evaluations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managers in identifying what, and who, should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st-benefits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training program has achieved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e strengths and weaknesses of a program and pinpoint needed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and reinforce the valu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1A94-19F9-42A1-B4CD-B7776B03F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arriers to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arriers fall into two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pecialized knowledge and can be intimi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ata collection can be costly and time 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reveal ineffectivenes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28:06Z</dcterms:modified>
  <cp:revision>374</cp:revision>
  <dc:subject/>
  <dc:title>Ch 11</dc:title>
</cp:coreProperties>
</file>