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7C7C-25A4-4498-9239-6F609A6D8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7A8E-1ECC-4ABC-8ED7-4253DB7F4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5528-8916-4F9B-98A9-501A2AC9C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659C-DFC7-4E3E-A14D-0B0C8D0EC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594B-1BC2-467A-99AE-619BB5360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8217-3FF0-4AE6-A0C1-EBE59A84E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EA7C-EE83-4687-96EF-D7074BDD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8047-F79E-4B76-9436-E1918A69E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60E2-0AF5-447B-8898-3B6928385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38D0-5F73-4A65-9E6B-AC5667279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9A77-8261-4663-A1B5-A62E0EE547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B828-93C8-4196-B101-95EF3295B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B9E3-C7B0-48A5-8673-10857811A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90C8-6C80-4DCF-9615-23613C84D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ABEB-E385-4F4B-801A-5160A2BFB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587C-DA59-4151-97A4-737F3966E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5DA9-C2FE-4B41-BB44-9BB07D7FB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2E9C-DECB-4D2B-91C0-53903EC02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BF9C-1F3F-40B3-9EB5-2884ED959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EB3A-C837-4293-A64D-D19C5D5E4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324120"/>
            <a:ext cx="4953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E0D3-3679-48AC-821F-A3AA174D6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l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705720" y="22096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11-2.jpg"/>
          <p:cNvPicPr/>
          <p:nvPr/>
        </p:nvPicPr>
        <p:blipFill>
          <a:blip r:embed="rId1"/>
          <a:stretch/>
        </p:blipFill>
        <p:spPr>
          <a:xfrm>
            <a:off x="5638680" y="1523880"/>
            <a:ext cx="28450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8465-65DC-4002-B7BE-D0A0939B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valuations may be distinguished from each other with respec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undamental purpose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1-4.jpg"/>
          <p:cNvPicPr/>
          <p:nvPr/>
        </p:nvPicPr>
        <p:blipFill>
          <a:blip r:embed="rId1"/>
          <a:stretch/>
        </p:blipFill>
        <p:spPr>
          <a:xfrm>
            <a:off x="3352680" y="434340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76D4-4C29-4598-B997-290F9F5CF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perceptions, learning and behaviour at the conclusion of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ing psychological forces that operat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about th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-49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climate and 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E5E4-87BF-47AC-9914-9C2AA924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purpose of the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mative: provide data about various aspects of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mmative: provide data about worthiness or effectiveness of a training progra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criptive: provide information that describes the trainee once they have completed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usal: provide information to determine if training caused the post-training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E84F-02FE-440A-9F46-BA0FCA33C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’s Hierarchic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ldest, best known, and most frequently used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Four Levels of Training 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1: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2: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3: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4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1-5.jpg"/>
          <p:cNvPicPr/>
          <p:nvPr/>
        </p:nvPicPr>
        <p:blipFill>
          <a:blip r:embed="rId1"/>
          <a:stretch/>
        </p:blipFill>
        <p:spPr>
          <a:xfrm>
            <a:off x="5410080" y="3809880"/>
            <a:ext cx="3581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98C3-FAC9-44C4-96C9-5E985BC29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rkpatrick’s Model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s a systematic framework for assess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our levels are presented in a hierarchy with each level providing more important information than the preceding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assumes all levels are positively related to each other; have causal effect on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ributions of Kirkpatrick model not to be underestimated; clear, simple, demystified evaluation and provide impetus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DD15-0851-4E7E-AA14-5D9AD8FD0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 is general agreement that the four levels are important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tcomes to be assessed  there are some critiqu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ubt about the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ufficiently 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rkpatrick requires all training evaluations to rely on the same variables and outcom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07FB-5B1C-4445-B6B5-887296D6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involves the measurement of four types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ganizatio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82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98B8-BE49-4B1A-8EED-476EB6B7C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A model improves on Kirkpatrick’s model in three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a greater number of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are causally related to training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variables with greater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OMA model is relatively new so too early to determine its value; also its focus is on factors that impact transfer only;  and it does not specify how evaluations should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126F-8632-4D47-B85D-041FD1DD8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specifies the target, focus, and methods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11-6.jpg"/>
          <p:cNvPicPr/>
          <p:nvPr/>
        </p:nvPicPr>
        <p:blipFill>
          <a:blip r:embed="rId1"/>
          <a:stretch/>
        </p:blipFill>
        <p:spPr>
          <a:xfrm>
            <a:off x="2514600" y="3429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553-5757-4ECD-94A7-5B6C5BA56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oes further than either of the two preceding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target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it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ggest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neral to any evaluati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lexibility: guided by target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75C1-834E-4055-8D7B-D0DAB97C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raining evaluation and the main reasons for conducting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barriers to evaluation and the factors that affect whether or not an evaluation is condu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types of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odels of training evaluation and the relationship amo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FB7A-D5BC-422F-A891-B07E05A2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COMA, the DBE model is recent and will need to be tested more 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models require specialized knowledge to complete the evaluation; this can limit their use in organizations without this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ton and colleagues’ Learning Transfer System Inventory (seen in Ch 10) provides a more gener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ing Today 11.2 for more on its use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AC24-67A5-46C5-BA76-96269792E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requires data be collected on important aspects of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variables have been identified in the three models of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complete list of variables is presented in Table 11.1 and Table 11.2 shows sample questions and formats for measuring each type of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AB41-2811-40D6-AA6A-272743B82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/anticipat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950800" y="5105520"/>
            <a:ext cx="2155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1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11-7.jpg"/>
          <p:cNvPicPr/>
          <p:nvPr/>
        </p:nvPicPr>
        <p:blipFill>
          <a:blip r:embed="rId1"/>
          <a:stretch/>
        </p:blipFill>
        <p:spPr>
          <a:xfrm>
            <a:off x="5013360" y="1447920"/>
            <a:ext cx="413064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043B-4826-4BE3-8344-2B29CCFAE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ffective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rainees’ likes and dislike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tility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he perceived usefulnes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11-8.jpg"/>
          <p:cNvPicPr/>
          <p:nvPr/>
        </p:nvPicPr>
        <p:blipFill>
          <a:blip r:embed="rId1"/>
          <a:stretch/>
        </p:blipFill>
        <p:spPr>
          <a:xfrm>
            <a:off x="5943600" y="3276720"/>
            <a:ext cx="3106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5758-1E81-4324-AA17-89C2E1DF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outcomes can be measu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eclarative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acquisition of facts and information, and is by far the most frequently assessed learning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dural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organization of facts and information into a smooth behavioural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2D02-76D1-4FDA-8953-83F1B547D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haviours can be measured using three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652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duction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11-9.jpg"/>
          <p:cNvPicPr/>
          <p:nvPr/>
        </p:nvPicPr>
        <p:blipFill>
          <a:blip r:embed="rId1"/>
          <a:stretch/>
        </p:blipFill>
        <p:spPr>
          <a:xfrm>
            <a:off x="5365800" y="29718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5670-6776-4908-A6DF-7E09B82DE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types of motivation in the training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apply the skill on-the-job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s to the beliefs that trainees have about their ability to perform the behaviours that were taught in a train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D8F8-2A67-478E-8B25-5A8D3A1D5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ived and/or Anticipate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wo important measures of support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45720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erceiv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  which the trainee reports receiving              support in attempts to transfer the           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Anticipat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which the trainee expects to supported             in attempts to transfer the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1-10.jpg"/>
          <p:cNvPicPr/>
          <p:nvPr/>
        </p:nvPicPr>
        <p:blipFill>
          <a:blip r:embed="rId1"/>
          <a:stretch/>
        </p:blipFill>
        <p:spPr>
          <a:xfrm>
            <a:off x="6997680" y="2057400"/>
            <a:ext cx="1998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841E-97CF-4225-BF97-DD2418BA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scales designed to measure per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 climate: can be assessed via a questionnaire that identifies eight sets of “c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learning culture: can be assessed via questionnaire presented in Trainer’s Notebook 4.1 in chapter 4 of your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73644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9B22-4737-483F-8F73-04A0A7207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6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ransfer climate cures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ci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ask and structur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o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11-11.jpg"/>
          <p:cNvPicPr/>
          <p:nvPr/>
        </p:nvPicPr>
        <p:blipFill>
          <a:blip r:embed="rId1"/>
          <a:stretch/>
        </p:blipFill>
        <p:spPr>
          <a:xfrm>
            <a:off x="6248520" y="2057400"/>
            <a:ext cx="2222280" cy="14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1-12.jpg"/>
          <p:cNvPicPr/>
          <p:nvPr/>
        </p:nvPicPr>
        <p:blipFill>
          <a:blip r:embed="rId2"/>
          <a:stretch/>
        </p:blipFill>
        <p:spPr>
          <a:xfrm>
            <a:off x="6400800" y="3581280"/>
            <a:ext cx="2135160" cy="1436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11-13.jpg"/>
          <p:cNvPicPr/>
          <p:nvPr/>
        </p:nvPicPr>
        <p:blipFill>
          <a:blip r:embed="rId3"/>
          <a:stretch/>
        </p:blipFill>
        <p:spPr>
          <a:xfrm>
            <a:off x="6858000" y="5029200"/>
            <a:ext cx="1790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A9B4-E494-42C8-81FE-C6AF0734F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ain variables to measure in a training evaluation and how they are meas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different types of designs for training evaluation, as well as their requirements, limits, and when they should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5B67-EB5B-4532-A7A0-91066E56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information consis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rd data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sults that can be measured objectively (i.e., number of items s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s that are assessed through perceptions and judgments (i.e., attitu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turn on Expecta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ment of a training program’s ability to meet manageri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042D-E0A7-4404-BC0A-E88E2562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ner with which the data collection is organized and how the data will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data collection designs compare the trained person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11-14.jpg"/>
          <p:cNvPicPr/>
          <p:nvPr/>
        </p:nvPicPr>
        <p:blipFill>
          <a:blip r:embed="rId1"/>
          <a:stretch/>
        </p:blipFill>
        <p:spPr>
          <a:xfrm>
            <a:off x="4892760" y="1905120"/>
            <a:ext cx="42512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F5B9-7313-4A08-AFBC-4EB1ADF11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n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omparison is made to a standard and not to another group of (untrained)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 and when the assignment of people to the training group and the non-training group is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Quasi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, but when the assignment of people to the training group and the non-training group is not ran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C7C0-C427-492B-B642-051DF1608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Types of Evaluation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A: The single group post-only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B: The single group pre-post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C: The time series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Design D: The single group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E: The pre-post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F: The time-series design with comparison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G: The internal referencing strategy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of the above are non-experiment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*Casual Models: experimental or quasi-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**Hybrid design that permits some conclusions drawn from caus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2854-8B3A-4F3E-9ACC-A64C565F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97" name="Picture 5" descr="p344.jpg"/>
          <p:cNvPicPr/>
          <p:nvPr/>
        </p:nvPicPr>
        <p:blipFill>
          <a:blip r:embed="rId1"/>
          <a:stretch/>
        </p:blipFill>
        <p:spPr>
          <a:xfrm>
            <a:off x="1600200" y="175248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75F4-C726-4C8E-8469-AFD01EFFB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638680" y="34290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6095880" y="29718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21400" y="5192640"/>
            <a:ext cx="39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Single Group Post-onl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4941000" y="5175360"/>
            <a:ext cx="39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Single Group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6590-B87E-4031-A9B3-9A7456D93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28954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89960" y="519264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328000" y="517536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 Single Group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5"/>
          <p:cNvSpPr/>
          <p:nvPr/>
        </p:nvSpPr>
        <p:spPr>
          <a:xfrm>
            <a:off x="22860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6858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7"/>
          <p:cNvSpPr/>
          <p:nvPr/>
        </p:nvSpPr>
        <p:spPr>
          <a:xfrm>
            <a:off x="12952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18"/>
          <p:cNvCxnSpPr>
            <a:stCxn id="227" idx="6"/>
            <a:endCxn id="228" idx="2"/>
          </p:cNvCxnSpPr>
          <p:nvPr/>
        </p:nvCxnSpPr>
        <p:spPr>
          <a:xfrm>
            <a:off x="11426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19"/>
          <p:cNvCxnSpPr>
            <a:stCxn id="226" idx="6"/>
            <a:endCxn id="219" idx="2"/>
          </p:cNvCxnSpPr>
          <p:nvPr/>
        </p:nvCxnSpPr>
        <p:spPr>
          <a:xfrm>
            <a:off x="27428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Line 20"/>
          <p:cNvSpPr/>
          <p:nvPr/>
        </p:nvSpPr>
        <p:spPr>
          <a:xfrm flipV="1">
            <a:off x="17524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7391520" y="32767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2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FAB5-E1C7-4B85-B463-A2E9A7AEC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66360" y="519264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334120" y="5175360"/>
            <a:ext cx="28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aris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7696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76960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70866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54864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60958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35"/>
          <p:cNvCxnSpPr>
            <a:stCxn id="258" idx="6"/>
            <a:endCxn id="259" idx="2"/>
          </p:cNvCxnSpPr>
          <p:nvPr/>
        </p:nvCxnSpPr>
        <p:spPr>
          <a:xfrm>
            <a:off x="59432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AutoShape 36"/>
          <p:cNvCxnSpPr>
            <a:stCxn id="257" idx="6"/>
            <a:endCxn id="256" idx="2"/>
          </p:cNvCxnSpPr>
          <p:nvPr/>
        </p:nvCxnSpPr>
        <p:spPr>
          <a:xfrm>
            <a:off x="75434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Line 37"/>
          <p:cNvSpPr/>
          <p:nvPr/>
        </p:nvSpPr>
        <p:spPr>
          <a:xfrm flipV="1">
            <a:off x="65530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708660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601992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41"/>
          <p:cNvCxnSpPr>
            <a:stCxn id="265" idx="3"/>
            <a:endCxn id="264" idx="1"/>
          </p:cNvCxnSpPr>
          <p:nvPr/>
        </p:nvCxnSpPr>
        <p:spPr>
          <a:xfrm>
            <a:off x="5867280" y="430488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AutoShape 42"/>
          <p:cNvCxnSpPr>
            <a:stCxn id="263" idx="3"/>
            <a:endCxn id="249" idx="1"/>
          </p:cNvCxnSpPr>
          <p:nvPr/>
        </p:nvCxnSpPr>
        <p:spPr>
          <a:xfrm>
            <a:off x="7543440" y="43048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Line 43"/>
          <p:cNvSpPr/>
          <p:nvPr/>
        </p:nvSpPr>
        <p:spPr>
          <a:xfrm>
            <a:off x="65530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8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50AF-0A14-4C8D-876A-4D6157DD8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89080" y="51926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Internal Referenc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4648320" y="32004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5107680" y="3184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raining on 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5117400" y="36417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raining on Ir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6"/>
          <p:cNvSpPr/>
          <p:nvPr/>
        </p:nvSpPr>
        <p:spPr>
          <a:xfrm>
            <a:off x="4572000" y="3048120"/>
            <a:ext cx="3200400" cy="11430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ABEA-B7AC-40CB-B4E9-D80E2FC18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about which data collection design to use need to be considered in the training desig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f a trainer wants to have pre- and post data collection it will need to be factored into the design and administration of the program at the design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930-3193-4400-8ABE-7932F8F9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4" name="Picture 4" descr="F1-2jpg"/>
          <p:cNvPicPr/>
          <p:nvPr/>
        </p:nvPicPr>
        <p:blipFill>
          <a:blip r:embed="rId1"/>
          <a:stretch/>
        </p:blipFill>
        <p:spPr>
          <a:xfrm>
            <a:off x="1143000" y="2362320"/>
            <a:ext cx="69343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57FE-0C53-4259-9743-25481B12A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urposes for evaluating training programs was as well as the barriers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dels of training (Kirkpatrick, COMA, and DBE) were presented, critiqued and contr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that Kirkpatrick model is most frequently used, yet has som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required for an evaluation as well as methods and techniques required to measu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ypes of data collections designs we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influencing choice of data collection designs were discu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6E33-D746-48A8-A818-EF1E1ACAB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is the third step of the ISD model and consists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criteria (what is being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design (how it will be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ncepts are covered in the next two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as a specific and important role to play in the effective evaluation of training and the completion of the ISD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BC37-72AE-4A2F-A46C-E809EE6A6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What is Training Evaluation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to assess the value - the worthiness - of training programs to employees and to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1-3.jpg"/>
          <p:cNvPicPr/>
          <p:nvPr/>
        </p:nvPicPr>
        <p:blipFill>
          <a:blip r:embed="rId1"/>
          <a:stretch/>
        </p:blipFill>
        <p:spPr>
          <a:xfrm>
            <a:off x="4719600" y="2209680"/>
            <a:ext cx="44244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97A7-E9F1-488B-BF74-B661E803B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single procedure; a continuum of techniques, methods, and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s from simple to elaborate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elaborate the procedure, the more complete the results, yet usually the more costly (time,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elect the procedure based on what makes sense and what can add value within resourc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B280-EE25-4505-A5A0-025085882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y Conduct Training Evaluations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managers in identifying what, and who, should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st-benefits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raining program has achieved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strengths and weaknesses of a program and pinpoint need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and reinforce the valu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D188-C6D7-4A4D-B44C-C74090003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arriers to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arriers fall into two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pecialized knowledge and can be intim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ta collection can be costly and time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reveal ineffectivenes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28:06Z</dcterms:modified>
  <cp:revision>374</cp:revision>
  <dc:subject/>
  <dc:title>Ch 11</dc:title>
</cp:coreProperties>
</file>