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F15E6-9790-42E0-AC74-0AFFEDF11A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E4571-39A4-4FB7-B9F4-FC60A816CA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19ED2-21BB-4474-96FD-0FDC69AAB9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CD2E1-DF5D-4734-B90D-CB5F35D32F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D7669-2F7F-48A4-B070-620871FE03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B5E69-42B7-466A-9C51-3FC4C550B0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732BC-C425-4B8B-90E2-1D7BD4EEBD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DE21D-2976-456E-A6CF-1DABCF2AAD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18A3A-5784-42FD-971C-AD3DA8F039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61CB6-AFDB-451E-ABB0-90A88DF899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107240"/>
            <a:ext cx="8763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2C685-1040-42D7-8327-5F7B48D180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7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8880" y="1599840"/>
            <a:ext cx="427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107240"/>
            <a:ext cx="427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18880" y="4107240"/>
            <a:ext cx="427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D3650-925C-4CD4-82C0-B98B6AB9A7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282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1400" y="1599840"/>
            <a:ext cx="282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54200" y="1599840"/>
            <a:ext cx="282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107240"/>
            <a:ext cx="282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1400" y="4107240"/>
            <a:ext cx="282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54200" y="4107240"/>
            <a:ext cx="282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7B79F-2778-4192-9E46-F2D5951D87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E3280-379D-43A2-9F78-5BA98E7EBE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925E6-9BF1-4D6A-985D-CB40C8C168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7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18880" y="1599840"/>
            <a:ext cx="427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8EEDE-B928-4FD2-8F00-FB19F70ABD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EFD05-5A34-4181-B007-A8ADE68589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124080" y="-36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4BAAF-52A6-47C7-9A87-5C394F43CB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7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8880" y="1599840"/>
            <a:ext cx="427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107240"/>
            <a:ext cx="427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470C5-1A33-4BF6-AF3F-AF2320D71A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7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8880" y="1599840"/>
            <a:ext cx="427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18880" y="4107240"/>
            <a:ext cx="427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D4261-C90D-4742-8F92-98DA6372AB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7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8880" y="1599840"/>
            <a:ext cx="427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107240"/>
            <a:ext cx="8763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CEDAA-16AA-4579-A00F-5766CE75E6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E15EA-1B55-4C1C-9D4E-44E160043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8564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54B92-F7C6-4093-ABA8-554356894D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ooter Placeholder 5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hapter Twelv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 Costs and Benefits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f Train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12-1.jpg"/>
          <p:cNvPicPr/>
          <p:nvPr/>
        </p:nvPicPr>
        <p:blipFill>
          <a:blip r:embed="rId1"/>
          <a:stretch/>
        </p:blipFill>
        <p:spPr>
          <a:xfrm>
            <a:off x="2666880" y="3429000"/>
            <a:ext cx="3942000" cy="26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A1B0C-0266-4DBD-B3C0-E9FA04B8C5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ooter Placeholder 5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Return on </a:t>
            </a:r>
            <a:br>
              <a:rPr sz="4000"/>
            </a:b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Investment (ROI)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A comparison of the cost of a training program relative to its benef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his involves dividing the net benefit by the cost of the training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turn on Investment = </a:t>
            </a:r>
            <a:r>
              <a:rPr b="0" lang="en-CA" sz="2800" spc="-1" strike="noStrike" u="sng">
                <a:solidFill>
                  <a:srgbClr val="000000"/>
                </a:solidFill>
                <a:uFillTx/>
                <a:latin typeface="Arial"/>
              </a:rPr>
              <a:t>Benefits-Cost of the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st of the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D13AB-7912-4693-9188-94417BA5E2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Footer Placeholder 6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Utility Analysi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307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 method to forecast the financial benefits that result from human resource programs such as training and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12-4.jpg"/>
          <p:cNvPicPr/>
          <p:nvPr/>
        </p:nvPicPr>
        <p:blipFill>
          <a:blip r:embed="rId1"/>
          <a:stretch/>
        </p:blipFill>
        <p:spPr>
          <a:xfrm>
            <a:off x="4495680" y="2133720"/>
            <a:ext cx="4448160" cy="33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64E34-6395-4B17-B140-EEF73BCCB5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Footer Placeholder 4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Utility Analysi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ortant factors to consider in calculating the utility of  training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287880" indent="0">
              <a:spcBef>
                <a:spcPts val="349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211400" indent="-5781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ffectiveness (effect siz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1400" indent="-5781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tandard deviation of job performance in dollars of untrained employ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1400" indent="-5781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umber of employees tra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1400" indent="-5781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uration training benefits will l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552E3-320A-41A3-A7E2-19515EC1D3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Footer Placeholder 4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Utility Analysi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Utility of a training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8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l-GR" sz="3400" spc="-1" strike="noStrike">
                <a:solidFill>
                  <a:srgbClr val="000000"/>
                </a:solidFill>
                <a:latin typeface="Arial"/>
                <a:ea typeface="Times New Roman"/>
              </a:rPr>
              <a:t>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Times New Roman"/>
              </a:rPr>
              <a:t>U = (T)(N)(d</a:t>
            </a:r>
            <a:r>
              <a:rPr b="0" lang="en-US" sz="3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Times New Roman"/>
              </a:rPr>
              <a:t>)(SDy) – (N)(C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31"/>
          <p:cNvSpPr/>
          <p:nvPr/>
        </p:nvSpPr>
        <p:spPr>
          <a:xfrm>
            <a:off x="210960" y="3429000"/>
            <a:ext cx="9022320" cy="23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499"/>
              </a:spcAft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utility, or dollar value of the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number of years the training has a continued effect on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number of people tra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effect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D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standard deviation of job performance in dollars of the untrained grou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cost of training each employ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F1A22-4A60-4BFA-BA60-2BBC1DC5DD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Footer Placeholder 5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Break-even Analysi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53452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inding the value at which benefits equal costs and utility is equal to z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7"/>
          <p:cNvSpPr txBox="1"/>
          <p:nvPr/>
        </p:nvSpPr>
        <p:spPr>
          <a:xfrm>
            <a:off x="2133720" y="3855960"/>
            <a:ext cx="3189240" cy="102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Utility =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8" name="Picture 7" descr="12-5.jpg"/>
          <p:cNvPicPr/>
          <p:nvPr/>
        </p:nvPicPr>
        <p:blipFill>
          <a:blip r:embed="rId1"/>
          <a:stretch/>
        </p:blipFill>
        <p:spPr>
          <a:xfrm>
            <a:off x="5486400" y="2971800"/>
            <a:ext cx="266400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221B7-D431-4CF8-BFAD-A08A7DAE2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4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Credibility of Estimat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ing not an exact sc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ptions and judgements have to be m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 to ensure there is credibility in process of determining cost-effectiven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ment and clients must perceive benefits estimates as credible, believable, and accep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ers need to be wary of promising more than they can realistically deliver; manage 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03B44-20C1-457A-8EC8-22159329D0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Footer Placeholder 4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Credibility of Estimat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creasing credibility of benefit estim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927600" indent="0">
              <a:spcBef>
                <a:spcPts val="349"/>
              </a:spcBef>
              <a:buNone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50800" indent="-7110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ake a conservative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50800" indent="-7110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Use credible and reliable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50800" indent="-7110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xplain approaches and assum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50800" indent="-7110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ults must appear reali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50800" indent="-7110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Use hard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6090120" y="5148360"/>
            <a:ext cx="271836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 Trainers Notebook 12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C8768-094F-4022-A56A-1A78D1F295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Footer Placeholder 4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Instructional Systems Design Model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three stages of the ISD model have now been describ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ritical elements are identifying, developing, delivering, and evaluating training within the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ilure to manage any of the critical elements will have negative impacts on the training and the achievement of the training related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40B34-DFC0-4E36-A5AC-D6CDC3A333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Footer Placeholder 4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s and approaches for calculating costs and benefits of training programs were descri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fferences between cost-effectiveness, cost- benefit analysis  were discussed as were examples of the calculation of costs, benefits, net benefit, BCR and RO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ce of this information for budgeting and comparing costs, and training evaluation were highligh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lternative approach - Utility analysis -  was descri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mportance of credibility when estimating the financial benefits of training was discu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12C7E-2C73-46FA-98CB-232151C5A6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991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ain why trainers should calculate the costs and benefits of training and development progra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ribe the different approaches for costing training progra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ribe the difference between cost-effectiveness and cost-benefit evalu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ribe how to calculate the benefits of training progra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95A21-2C30-4A5D-B040-D8663E2C8A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ribe how to conduct a net benefit analysis, benefit-cost ratio, and return on invest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e utility analysis and describe how to calculate the utility of training progra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cuss the importance of credibility when estimating the benefits of training progra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AA703-C390-4A1E-BF05-0ADF7F2FC8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Footer Placeholder 5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sting Training Progra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510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he process of identifying all the expenditures used in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A critical element in the ISD model both in the design and evaluation s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12-2.jpg"/>
          <p:cNvPicPr/>
          <p:nvPr/>
        </p:nvPicPr>
        <p:blipFill>
          <a:blip r:embed="rId1"/>
          <a:stretch/>
        </p:blipFill>
        <p:spPr>
          <a:xfrm>
            <a:off x="5138640" y="2362320"/>
            <a:ext cx="4005360" cy="26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D2AAF-D6D7-44CE-AACD-A273EBA55A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Footer Placeholder 4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sting Approach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sting Approa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ording to s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03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s analysis, program development, delivery and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ording to nature or kind of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03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ve cost categories: direct costs, indirect costs, development costs, overhead costs, and trainee compen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0AF1A-3796-40F9-8B3D-2315BBC276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Footer Placeholder 4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mparing the Costs of Training Progra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Table 12.4 demonstrates some important aspects of costing and comparing training program alternativ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506600" indent="-711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sting sheets can be modified to meet an organization’s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506600" indent="-711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evel of detail varies according to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506600" indent="-711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re is choice regarding what to incl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506600" indent="-711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dentifies the cheapest o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8C119-77B4-4495-B19D-722C4E0B6E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Footer Placeholder 4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Benefits of </a:t>
            </a:r>
            <a:br>
              <a:rPr sz="4000"/>
            </a:b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aining Progra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Cost-effectiveness evaluation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: A comparison of the monetary cost of training to the benefit of training in monetary 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Cost-benefit evaluation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: A comparison of the cost of training in monetary terms to the benefits of training in non-monetary 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EBA1B-E00E-49CB-8CA2-8E4EC136EC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Footer Placeholder 4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Benefits of </a:t>
            </a:r>
            <a:br>
              <a:rPr sz="4000"/>
            </a:b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aining Progra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Net benefit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: the estimated value of the performance improvement minus the cost of improving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Benefit Cost Ratio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: the benefit divided by the cost of the training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535FA-7700-43C4-9C7B-1E681D5F70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Footer Placeholder 4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Benefits of </a:t>
            </a:r>
            <a:br>
              <a:rPr sz="4000"/>
            </a:b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aining Progra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12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y have cost effectiveness and want to determine cost benefit.  Will have to convert  measures to monetary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2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75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tep 1:  Focus on a single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75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tep 2:  Determine a value for each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75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tep 3:  Calculate the change i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75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tep 4:  Obtain an annual am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75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tep 5:  Determine the annual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75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7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See Trainer’s Notebook 12.1 for more det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0:55:57Z</dcterms:created>
  <dc:creator>Tracey A. Starrett</dc:creator>
  <dc:description/>
  <dc:language>en-US</dc:language>
  <cp:lastModifiedBy>Karina</cp:lastModifiedBy>
  <dcterms:modified xsi:type="dcterms:W3CDTF">2009-10-30T17:36:25Z</dcterms:modified>
  <cp:revision>376</cp:revision>
  <dc:subject/>
  <dc:title>Ch 12</dc:title>
</cp:coreProperties>
</file>