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BDE1-D092-4472-BB28-C82E9B42C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F819-9ABF-4415-A284-AE4E00206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8E04-125D-450D-9293-2AF930F22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DBE7-A123-4916-95E2-1E028CAC7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DF50-0AE1-4917-8CF6-4AD2C46AB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D11E-038E-426E-970B-2399B92E5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BFF4-8B37-4CEF-B5D3-EA481354D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2698-89EE-4531-8108-5C7BB69F1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3316-1BCD-49D1-9401-5DC561CD5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A1DB-E5C5-417B-8777-9744BA5D2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5078-8746-48E8-B4C7-C95B3A425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AA8A-CEAD-4A2F-BC11-8329E61DF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C1E5-5B03-4AAB-B15A-DF8E705BDD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6CA12-C1DD-4367-AD87-5A81A9D9A4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03D0-194A-4A18-8633-47F3BA87E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1AE7-B595-4F80-9060-61D553EDD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F2C92-1387-435E-8ABF-CBC51395D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1978E-8B49-420E-86D9-8911ADBFF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F672-7BA7-4E1E-809C-01F94851F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BCA5-B585-4B92-9633-30F6AB60E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6C34-000C-4A5E-A31D-EB2776E23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ECFD-4730-4A68-85BB-E28A3A034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40D3-791F-4AAF-A752-661BF947F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welv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osts and Benefit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 Trai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2-1.jpg"/>
          <p:cNvPicPr/>
          <p:nvPr/>
        </p:nvPicPr>
        <p:blipFill>
          <a:blip r:embed="rId1"/>
          <a:stretch/>
        </p:blipFill>
        <p:spPr>
          <a:xfrm>
            <a:off x="2666880" y="3429000"/>
            <a:ext cx="39420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82AA-A2B1-4B68-A7A4-71EF5C295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Return on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Investment (ROI)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comparison of the cost of a training program relative to its benef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is involves dividing the net benefit by the cost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turn on Investment =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Benefits-Cost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F9AD-20A0-4B68-9B76-A94BBDEE4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6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307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ethod to forecast the financial benefits that result from human resource programs such as train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12-4.jpg"/>
          <p:cNvPicPr/>
          <p:nvPr/>
        </p:nvPicPr>
        <p:blipFill>
          <a:blip r:embed="rId1"/>
          <a:stretch/>
        </p:blipFill>
        <p:spPr>
          <a:xfrm>
            <a:off x="4495680" y="2133720"/>
            <a:ext cx="444816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5D5F-980C-4175-992D-AD5320669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t factors to consider in calculating the utility of 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87880" indent="0">
              <a:spcBef>
                <a:spcPts val="349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ness (effect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ndard deviation of job performance in dollars of untrained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 employees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uration training benefits will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2482-5FED-444F-887E-BA60DA9BD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tility of a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U = (T)(N)(d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)(SDy) – (N)(C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1"/>
          <p:cNvSpPr/>
          <p:nvPr/>
        </p:nvSpPr>
        <p:spPr>
          <a:xfrm>
            <a:off x="210960" y="3429000"/>
            <a:ext cx="902232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tility, or dollar value of th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years the training has a continued effect o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people tr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ffec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tandard deviation of job performance in dollars of the untrained gro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ost of training each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8E68-94EB-48B6-9F57-9F3E1FCAF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Break-even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nding the value at which benefits equal costs and utility is equal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2133720" y="3855960"/>
            <a:ext cx="318924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Utility =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7" descr="12-5.jpg"/>
          <p:cNvPicPr/>
          <p:nvPr/>
        </p:nvPicPr>
        <p:blipFill>
          <a:blip r:embed="rId1"/>
          <a:stretch/>
        </p:blipFill>
        <p:spPr>
          <a:xfrm>
            <a:off x="5486400" y="297180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7195-A86D-4B50-BA29-E6A774CEF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Credibility of Estimat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ing not an exact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 and judgements have to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ensure there is credibility in process of determining cost-effective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and clients must perceive benefits estimates as credible, believable, and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s need to be wary of promising more than they can realistically deliver; manage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86FB-1106-415B-9351-C7674D8FA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Credibility of Estimat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credibility of benefit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927600" indent="0">
              <a:spcBef>
                <a:spcPts val="349"/>
              </a:spcBef>
              <a:buNone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ke a conservativ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credible and reliabl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ain approaches and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ults must appear rea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har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090120" y="5148360"/>
            <a:ext cx="27183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s Notebook 1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0F16-ACD2-46EF-A4C2-F84FA6409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stages of the ISD model have now been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elements are identifying, developing, delivering, and evaluating training within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manage any of the critical elements will have negative impacts on the training and the achievement of the training related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3384-96A8-436D-A89E-6E5769505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and approaches for calculating costs and benefits of training programs were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s between cost-effectiveness, cost- benefit analysis  were discussed as were examples of the calculation of costs, benefits, net benefit, BCR and R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e of this information for budgeting and comparing costs, and training evaluation wer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approach - Utility analysis -  was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ce of credibility when estimating the financial benefits of training was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3637-752E-491F-A531-3434D102F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trainers should calculate the costs and benefits of training and development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t approaches for costing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ce between cost-effectiveness and cost-benefit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calculate the benefits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512C-EEA2-45C4-B061-DBA7CE7E5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conduct a net benefit analysis, benefit-cost ratio, and return on inves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utility analysis and describe how to calculate the utility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importance of credibility when estimating the benefits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4F7A-68AD-4A57-BF07-8981D2C42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sting 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process of identifying all the expenditures used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critical element in the ISD model both in the design and evaluation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2-2.jpg"/>
          <p:cNvPicPr/>
          <p:nvPr/>
        </p:nvPicPr>
        <p:blipFill>
          <a:blip r:embed="rId1"/>
          <a:stretch/>
        </p:blipFill>
        <p:spPr>
          <a:xfrm>
            <a:off x="5138640" y="2362320"/>
            <a:ext cx="40053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5FB3-4299-4B7D-AEB2-218AEA9F3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sting Approach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ng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alysis, program development, delivery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nature or kind of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cost categories: direct costs, indirect costs, development costs, overhead costs, and trainee comp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1A16-D97D-46C3-84CE-2F809C7F9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aring the Costs of 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able 12.4 demonstrates some important aspects of costing and comparing training program altern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ing sheets can be modified to meet an organization’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of detail varies according to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re is choice regarding wha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the cheapest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F1EF-D110-4425-A622-65CA5DF49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st-effectiveness evalu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A comparison of the monetary cost of training to the benefit of training in monet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st-benefit evalu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A comparison of the cost of training in monetary terms to the benefits of training in non-monet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675B-815B-45A2-8C66-6735963F4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et benefi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the estimated value of the performance improvement minus the cost of improv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enefit Cost Ratio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the benefit divided by the cost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1F3C-6FAB-47D5-85C5-31ACF8B7F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1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y have cost effectiveness and want to determine cost benefit.  Will have to convert  measures to monetar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1:  Focus on a singl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2:  Determine a value for each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3:  Calculate the change i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4:  Obtain an annual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5:  Determine the annu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e Trainer’s Notebook 12.1 for more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36:25Z</dcterms:modified>
  <cp:revision>376</cp:revision>
  <dc:subject/>
  <dc:title>Ch 12</dc:title>
</cp:coreProperties>
</file>