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B9F3-B99B-4B48-B4B3-68C7CAE5C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6759-08FC-4F63-9BA0-C0B5E7049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596F-6FCD-45F4-939A-28128440B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3570-4037-4DA7-B0F6-EDD50A71F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8889-A0D1-4022-BD0F-155AF7F8A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FB6A-9244-4DF1-BFF6-AD9DB17C4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E727-2055-47AA-9DCE-B9A0C3810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F8DF-FB1D-4CD7-863F-12C465631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CD57-1416-477A-B01F-18102DB2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4B1F-494F-4AD5-B017-8050D6116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82FA-2F8C-4C5B-BF1F-9590F326B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1682-3011-4DF9-ABEC-965E704EF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6F82-00A4-4CD6-A93C-747E8BA3F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E22D-A11E-4A8E-9250-9D41F803B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BF03-1A38-4B85-8559-1E747D5A7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DE78-E45B-4E3B-85A0-28B6469E0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36B8-4113-4984-829B-759567876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B9A7-B16E-485F-9509-4559D19F77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9F09-4247-4FA4-8A56-618204CC8E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AB72-A88E-4EB6-A506-1A13EC2B8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79CE-2854-44E4-99FD-C036006A0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B3DD-218E-4A31-A582-E87634818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6CD4-F04F-41F8-985C-DB7564FD4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F6BB-D125-4246-B7A1-CEF94FD7A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102BD-F369-42DE-A120-CD7ED56F30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9BCD-D1A8-4F35-BF98-35B5CA7D7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DAA0-8124-4359-BE0A-E4B5E6BFA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93FD-7FBE-422E-9E66-CB7167E79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ourt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14-1.jpg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28B4-4700-443B-9E01-F4F932884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refers to the relationships that managers develop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can provide leadership to help to attain group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liaisons within and outside th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figureh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6CE2-6314-4020-AAA5-50113D668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. Informat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onitor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seminate information to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a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C19D-5C00-4973-91B7-6D4EDD115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. Decis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ake decisions about people, goals, and the means to atta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is capacity they act as entrepreneur, resource allocator, negotiator and trouble-sho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4-6.jpg"/>
          <p:cNvPicPr/>
          <p:nvPr/>
        </p:nvPicPr>
        <p:blipFill>
          <a:blip r:embed="rId1"/>
          <a:stretch/>
        </p:blipFill>
        <p:spPr>
          <a:xfrm>
            <a:off x="5219640" y="1752480"/>
            <a:ext cx="39243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C068-D738-4C33-8DBC-42DF4B03A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Functions of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4-7.jpg"/>
          <p:cNvPicPr/>
          <p:nvPr/>
        </p:nvPicPr>
        <p:blipFill>
          <a:blip r:embed="rId1"/>
          <a:stretch/>
        </p:blipFill>
        <p:spPr>
          <a:xfrm>
            <a:off x="5029200" y="2362320"/>
            <a:ext cx="332892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5424-191E-4C46-A524-066DC03F5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the activities of the organization and its members are monitored to ensure they contribute positively to the attainment of organization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systems that ensure that the efforts of individuals working on major tasks are efficiently and effectively coordinated and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15A8-1C08-439D-A80B-910604B0F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ng the direction towards which the efforts of individuals are to be direc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luencing the actions of others such that these actions are coordinated to produce the desired outco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ng as a role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piring a shared vi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llenging the status quo and                                encouraging others to do 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gnizing contribu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F146-C034-4D6F-BB45-30B7CD51E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Management Skill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set of actions that individuals perform and that lead to certain outcom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bal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time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le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m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086000" y="5637240"/>
            <a:ext cx="1727640" cy="368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abl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14-8.jpg"/>
          <p:cNvPicPr/>
          <p:nvPr/>
        </p:nvPicPr>
        <p:blipFill>
          <a:blip r:embed="rId1"/>
          <a:stretch/>
        </p:blipFill>
        <p:spPr>
          <a:xfrm>
            <a:off x="5513400" y="1600200"/>
            <a:ext cx="36306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667F-4ED9-4DF3-A13B-A4A7DA7E8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motional Intelligen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bility to manage your own and others’ emotions and your relationship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Five set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or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9A12-DAB8-498E-8B6B-5AA6D9B59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management development programs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kill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pplication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14-9.jpg"/>
          <p:cNvPicPr/>
          <p:nvPr/>
        </p:nvPicPr>
        <p:blipFill>
          <a:blip r:embed="rId1"/>
          <a:stretch/>
        </p:blipFill>
        <p:spPr>
          <a:xfrm>
            <a:off x="5943600" y="2209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93DE-BCBD-4140-B9B5-36453589F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trengths and weaknesses of managers relative to the specific skills to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s to training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managers’ learning and behavioural sty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EB13-8880-48ED-A737-3C9D7CE85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anagement and management development and explain how it is different from employe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in, roles, functions, and critical skills of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emotional intelligence and its relevance f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odels of management skil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use of error-management training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ntent of management skills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A768-F7B7-4CF1-B111-145F275C2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cquisition (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ead of being taught specific procedures or steps, managers learn how to recognize the need for the skill in a diverse number of circumsta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involves group discussion of opportunities, obstacles, and strategies pertaining to skill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learning principles, not specific approach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712880" indent="-39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ive is to promote procedur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D368-4B54-4617-A78D-32E1D0FE4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erves three fundamental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s learning and shifts learning from the declarative to the procedural learning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trainees’ interest, attention and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468D-5D64-4887-BB85-8E6DB9D77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pplication on the Job (Trans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raining managers                              establish specific plans for the                   application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s, coaching and                      reinforcement are frequently                      required to ensur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14-10.jpg"/>
          <p:cNvPicPr/>
          <p:nvPr/>
        </p:nvPicPr>
        <p:blipFill>
          <a:blip r:embed="rId1"/>
          <a:stretch/>
        </p:blipFill>
        <p:spPr>
          <a:xfrm>
            <a:off x="6324480" y="228600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A118-225C-4B0F-862F-092C7BA0B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 Training for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has been found to be more effective when trainee has to generalize learning to new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for jobs that require-problem solving skills, where reproduction of learned behaviour is not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jobs require constant adaptation to an ever-changing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must be able to use new skills flexibly in a variety of contexts (adaptive expert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more effective in producing adaptive expertise and therefore advisable to consider for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BD38-9790-477A-9BA2-14750A8D3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Content of Management Development Program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skills can be organized in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problem solving and decision making, planning, and performanc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using Excel, PowerPoint, knowing tax la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communication, managing conflict and st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016B-472B-4BE9-96F7-B4352103F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training methods tend to rely on highly informational and highly experientia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al and focused on the principles and applications of the skill or techniques being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s, readings, informative videos, and group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s that include skill practice exercises that actively engage and involve the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lays, active exercises, and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procedural knowledge &amp; boosts self-eff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29D4-723A-4E0E-BF6D-E4922FB18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 and experiential components are present in mos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the two is not always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school DVD is mostly 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door education is mostly experi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general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A0FA-6188-435B-9774-47C2E6EBD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quisition of a broad range of managerial knowledge and general conceptual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conducted by colleges and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BA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nd case studies key 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3A52-A6B1-412B-AF7D-6488DA64A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nd activities designed to                              develop specific manager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lassroom based and Outdoor wilderness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teamwork and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designed to provide individuals with managerial learning experiences on-the-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Job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56E7-2ECA-47E8-9A09-074CF3DAD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coaching characteristic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listeners, empathy, interest in helping                           people achieve thei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to “feel” the mood of learner,                                            know when to listen and when to challenge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learner use his/her previous knowledge and experience to develop his /her own perspective, understanding, and styles in dealing with the problems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79D8-C040-429A-A756-60DE0786A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t type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outdoor wilderness training programs and their effectiveness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job rotation and coaching and discuss the characteristics of great coaches, the five conditions that are necessary to ensure the development of managers, and the challenges of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research on the effectivenes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C4D9-D0BE-48DB-92C5-28AFBD5B6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es are maximally helpful when they structure their efforts to help managers devel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their own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and caring about changing the ways in which they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resources/best practices for dealing with complex decisions and situations and by exploring alternative ways of dealing with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CCCF-3D2F-4BD0-B798-5D1C13DFA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worl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opportunities to implement, on a day-to-day basis, the little changes that should be made and to develop the critical perspective needed to assess what works, what does not, and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ing the manager to demonstrate the new skills and knowledge through commitment to specific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773A-782F-4CCE-BCF1-D43F3541D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hieve these objectives, coaches face a number of challen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 must act to gain trust of “coache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confidentiality, discretion, hone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developing trust it becomes easier for coach to provid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pplying new skills is fraught with obstacles and hurdles that can discourage the use of new skills, a coach needs to be attentive to these situations and help managerial pers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elf-effic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e obstacles as “problems” rather than fail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mo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D562-AE27-4D71-8733-95669662C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47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es who are in a position to do so sometimes intervene elsewhere in the organization to remov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aches in better position to do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s have shown that coaching is generally perceived as an effective tool for management development albeit these findings are drawn more from self-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7310-807C-441C-AC93-4A593979B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ffectiveness of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ety of studies as well as more formal meta-analysis indicate varying levels of effectiveness for management development programs and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 results show that management development programs do contribute to organizational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/3 of Canadian organizations have systematic coaching and mentoring programs and consider them effective l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research studies will continue to explore the question of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3E8B-8B06-4E4C-9DE7-A1C3AB893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s, functions, and critical skills of manager and how they are developed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nagement skills that management development programs are designed to teach was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el of management development (assessment, acquisition, practice, and application)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and most common delivery methods of management development programs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such as outdoor education, job-rotation and coach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357A-58D9-42E3-BD31-E8743B333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getting things done, efficiently and effectively, through and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4-2.jpg"/>
          <p:cNvPicPr/>
          <p:nvPr/>
        </p:nvPicPr>
        <p:blipFill>
          <a:blip r:embed="rId1"/>
          <a:stretch/>
        </p:blipFill>
        <p:spPr>
          <a:xfrm>
            <a:off x="3886200" y="2819520"/>
            <a:ext cx="474984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47DF-A46F-41D9-B208-8B0DACB1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133720" y="1676520"/>
            <a:ext cx="5257800" cy="4251240"/>
          </a:xfrm>
          <a:prstGeom prst="rect">
            <a:avLst/>
          </a:prstGeom>
          <a:solidFill>
            <a:srgbClr val="b2b2b2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743200" y="2286000"/>
            <a:ext cx="3949560" cy="3048120"/>
          </a:xfrm>
          <a:prstGeom prst="rect">
            <a:avLst/>
          </a:prstGeom>
          <a:solidFill>
            <a:srgbClr val="c0c0c0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76720" y="2819520"/>
            <a:ext cx="2819160" cy="20574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3920" y="3352680"/>
            <a:ext cx="190476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33720" y="1676520"/>
            <a:ext cx="16002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"/>
          <p:cNvSpPr/>
          <p:nvPr/>
        </p:nvSpPr>
        <p:spPr>
          <a:xfrm flipH="1">
            <a:off x="5638320" y="1676520"/>
            <a:ext cx="17528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3919680" y="274176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700960" y="322740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339000" y="323856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4161600" y="4456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177080" y="2376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820960" y="2889360"/>
            <a:ext cx="320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6288480" y="2754360"/>
            <a:ext cx="34524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741840" y="1636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853320" y="2325600"/>
            <a:ext cx="3711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2262240" y="2535120"/>
            <a:ext cx="333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4039920" y="5408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5638680" y="4419720"/>
            <a:ext cx="17528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1"/>
          <p:cNvSpPr/>
          <p:nvPr/>
        </p:nvSpPr>
        <p:spPr>
          <a:xfrm flipV="1">
            <a:off x="2133720" y="4419360"/>
            <a:ext cx="1600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144000" y="5599080"/>
            <a:ext cx="18039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igur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3FFC-719B-4416-B690-088BB1E1D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vs. Employee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work mainly throug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design techniques tend to b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ial personalities must be taken into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ment development is a longitudi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ique strategic significance of developing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DE78-E285-4F42-9436-DF48E94E2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What is Management Development?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process by which individuals learn to perform effectively in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Management Developmen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 capita training expenditures are greater for managers than any other category of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porate expenditures on management development are estimated at $45 billion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ager’s rol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al rol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533B-36D2-4991-AE9F-9672C9FD6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 and Leadership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qualities and behaviours required to shape the direction of the organization and that inspire others to pursue that direction in the face of obstacles an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4-3.jpg"/>
          <p:cNvPicPr/>
          <p:nvPr/>
        </p:nvPicPr>
        <p:blipFill>
          <a:blip r:embed="rId1"/>
          <a:stretch/>
        </p:blipFill>
        <p:spPr>
          <a:xfrm>
            <a:off x="5257800" y="1676520"/>
            <a:ext cx="2751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114C-49F5-440F-A7AC-C9BE75262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jor roles of manag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cis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14-4.jpg"/>
          <p:cNvPicPr/>
          <p:nvPr/>
        </p:nvPicPr>
        <p:blipFill>
          <a:blip r:embed="rId1"/>
          <a:stretch/>
        </p:blipFill>
        <p:spPr>
          <a:xfrm>
            <a:off x="4648320" y="2590920"/>
            <a:ext cx="3994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08:08Z</dcterms:modified>
  <cp:revision>355</cp:revision>
  <dc:subject/>
  <dc:title>Ch 14</dc:title>
</cp:coreProperties>
</file>