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F175-B785-4681-A7CA-CC52F3FE7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4B5E-1158-4658-B583-13A21E371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C14D-7894-48E9-A197-C97A52FBC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6D93-9B07-490F-96FA-1AFD64E54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81DA-6E9C-4F71-9EF2-FAED42439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00D7-FC2E-44AC-80A2-D1631AEA2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4B1E-74C2-4AB1-A5B5-695C9068C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51D0-19DA-4EF9-8C17-D1AECA014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F801-E1B2-4CF6-943C-6EDCE2820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64D5-320A-4DB5-AEF4-FBAC5FE39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C0F9-51B1-4A09-AA46-7F7E6F007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3E99-74B8-4EBD-B1B0-7BF1A5BE2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5A26-A402-44A9-95C5-6A88A010E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C2AD-5237-4835-9AE5-25CAE86AB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34785-A9CD-4F5A-98B4-2396BD1B4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D210D-14E1-4A58-A0B2-1BDFB8D10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66443-3372-4972-8942-49EFC3BC1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DCE68-8BF7-4F26-9F2F-D72BC65487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9A42C-0E8A-49C1-AA88-470AA556EB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90C08-831C-4044-BAD6-207E09595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22D84-C4BD-4E30-B95D-756335030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E3262-707C-44E6-B8B0-E41E5AD00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9FF5-D7B6-45B3-9F67-E5E9F6FA1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70537-2690-4039-A5AB-20D547E4A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960F1-B4B6-4FC6-833D-68713DB19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2283C-B431-4431-B3EE-657A50894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1130-B680-4938-8717-6AA5361AC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2A3A-3C88-43D7-847B-5A2A3D4C8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ourt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14-1.jpg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4F7C-BED5-4FDB-BC53-1A701EB72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terpersonal Rol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refers to the relationships that managers develop wit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can provide leadership to help to attain group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e liaisons within and outside th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ct as figureh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B57A-1B64-403D-BDB2-B254FD2F2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. Informational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must monitor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seminate information to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ct as a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7BB4-0D7B-4CF3-8F4F-5983A4567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. Decisional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must make decisions about people, goals, and the means to attai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this capacity they act as entrepreneur, resource allocator, negotiator and trouble-sho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14-6.jpg"/>
          <p:cNvPicPr/>
          <p:nvPr/>
        </p:nvPicPr>
        <p:blipFill>
          <a:blip r:embed="rId1"/>
          <a:stretch/>
        </p:blipFill>
        <p:spPr>
          <a:xfrm>
            <a:off x="5219640" y="1752480"/>
            <a:ext cx="39243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EAED-5D92-4127-B560-DCF77805C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Functions of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14-7.jpg"/>
          <p:cNvPicPr/>
          <p:nvPr/>
        </p:nvPicPr>
        <p:blipFill>
          <a:blip r:embed="rId1"/>
          <a:stretch/>
        </p:blipFill>
        <p:spPr>
          <a:xfrm>
            <a:off x="5029200" y="2362320"/>
            <a:ext cx="332892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D87B-908C-4E57-856E-C7E0F9BAF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by which the activities of the organization and its members are monitored to ensure they contribute positively to the attainment of organization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ing systems that ensure that the efforts of individuals working on major tasks are efficiently and effectively coordinated and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C79D-AF55-409F-88D1-4D00F3DA4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fining the direction towards which the efforts of individuals are to be direc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luencing the actions of others such that these actions are coordinated to produce the desired outco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ting as a role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spiring a shared vi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llenging the status quo and                                encouraging others to do s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ognizing contribu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F2A2-8A68-4740-B66D-B79CE4F77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Management Skill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set of actions that individuals perform and that lead to certain outcom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erbal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ing time and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leg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am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ing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086000" y="5637240"/>
            <a:ext cx="1727640" cy="3682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able 1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14-8.jpg"/>
          <p:cNvPicPr/>
          <p:nvPr/>
        </p:nvPicPr>
        <p:blipFill>
          <a:blip r:embed="rId1"/>
          <a:stretch/>
        </p:blipFill>
        <p:spPr>
          <a:xfrm>
            <a:off x="5513400" y="1600200"/>
            <a:ext cx="36306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5D7E-C1B6-4FD2-BE99-2B57C05C4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motional Intelligen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bility to manage your own and others’ emotions and your relationships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Five sets of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or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6995-D33F-4FB4-97AD-FB9903568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management development programs 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kill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ac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application on th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14-9.jpg"/>
          <p:cNvPicPr/>
          <p:nvPr/>
        </p:nvPicPr>
        <p:blipFill>
          <a:blip r:embed="rId1"/>
          <a:stretch/>
        </p:blipFill>
        <p:spPr>
          <a:xfrm>
            <a:off x="5943600" y="22096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C04A-034A-4C0F-AA8B-34AFFA9B8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strengths and weaknesses of managers relative to the specific skills to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s 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s to training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managers’ learning and behavioural sty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C029-4C11-475C-8372-36A2359B6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management and management development and explain how it is different from employe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in, roles, functions, and critical skills of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emotional intelligence and its relevance fo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odels of management skil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use of error-management training for managemen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ntent of management skills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4E48-BCA8-4FB5-A218-09DBEE729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Acquisition (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ead of being taught specific procedures or steps, managers learn how to recognize the need for the skill in a diverse number of circumsta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ually involves group discussion of opportunities, obstacles, and strategies pertaining to skill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cus on learning principles, not specific approach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712880" indent="-392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jective is to promote procedural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08F9-0CBD-439D-86BB-EF99B82F6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serves three fundamental purp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es learning and shifts learning from the declarative to the procedural learning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s self-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s trainees’ interest, attention and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2B8C-C75A-4389-851C-5E7A3E82A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Application on the Job (Transf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raining managers                              establish specific plans for the                   application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-ups, coaching and                      reinforcement are frequently                      required to ensure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14-10.jpg"/>
          <p:cNvPicPr/>
          <p:nvPr/>
        </p:nvPicPr>
        <p:blipFill>
          <a:blip r:embed="rId1"/>
          <a:stretch/>
        </p:blipFill>
        <p:spPr>
          <a:xfrm>
            <a:off x="6324480" y="228600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418F-FDFE-4FF0-A4BB-2D666A311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 Training for Management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T has been found to be more effective when trainee has to generalize learning to new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for jobs that require-problem solving skills, where reproduction of learned behaviour is not suffic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jobs require constant adaptation to an ever-changing enviro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s must be able to use new skills flexibly in a variety of contexts (adaptive expert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T more effective in producing adaptive expertise and therefore advisable to consider for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8B3E-8A9C-4DEB-935B-1375DF75F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Content of Management Development Program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skills can be organized in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problem solving and decision making, planning, and performance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using Excel, PowerPoint, knowing tax la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communication, managing conflict and st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C405-08B1-4EE1-A70F-9AA58E82F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training methods tend to rely on highly informational and highly experiential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al and focused on the principles and applications of the skill or techniques being ta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s, readings, informative videos, and group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enti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s that include skill practice exercises that actively engage and involve the 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plays, active exercises, and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s procedural knowledge &amp; boosts self-effi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1447-2FAF-4D53-B3FE-2242D64C0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al and experiential components are present in most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between the two is not always iden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school DVD is mostly 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door education is mostly experi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general approa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the-job managemen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EA44-6A06-4B7A-BC51-6F57DF745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ment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quisition of a broad range of managerial knowledge and general conceptual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conducted by colleges and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MBA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and case studies key learn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10DC-C487-475E-8A08-6B1B5D9CC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and activities designed to                              develop specific manager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lassroom based and Outdoor wilderness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s teamwork and leadership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managemen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designed to provide individuals with managerial learning experiences on-the-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Job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CBD7-0412-4BB3-A647-EC2841188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coaching characteristic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listeners, empathy, interest in helping                           people achieve their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le to “feel” the mood of learner,                                            know when to listen and when to challenge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 foc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learner use his/her previous knowledge and experience to develop his /her own perspective, understanding, and styles in dealing with the problems to be 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008A-F19B-4A87-8469-FC6E9D1AA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different types of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outdoor wilderness training programs and their effectiveness for managemen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job rotation and coaching and discuss the characteristics of great coaches, the five conditions that are necessary to ensure the development of managers, and the challenges of 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research on the effectiveness of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BE8B-6E0F-4697-B99B-2D7496A4C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es are maximally helpful when they structure their efforts to help managers devel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ing their own strengths and 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and caring about changing the ways in which they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resources/best practices for dealing with complex decisions and situations and by exploring alternative ways of dealing with th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E945-5915-4726-9498-A3BAE85DF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worl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opportunities to implement, on a day-to-day basis, the little changes that should be made and to develop the critical perspective needed to assess what works, what does not, and w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ing the manager to demonstrate the new skills and knowledge through commitment to specific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7692-F768-4D51-949E-7E66FB20B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433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hieve these objectives, coaches face a number of challen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ch must act to gain trust of “coache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confidentiality, discretion, hone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developing trust it becomes easier for coach to provide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pplying new skills is fraught with obstacles and hurdles that can discourage the use of new skills, a coach needs to be attentive to these situations and help managerial pers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elf-effica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e obstacles as “problems” rather than fail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emotion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55ED-EE73-45C0-8CDA-D5CB6DFA2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447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ches who are in a position to do so sometimes intervene elsewhere in the organization to remove 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aches in better position to do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s have shown that coaching is generally perceived as an effective tool for management development albeit these findings are drawn more from self-re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F6A0-F827-44F1-8030-D2ACD5038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ffectiveness of Management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riety of studies as well as more formal meta-analysis indicate varying levels of effectiveness for management development programs and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 results show that management development programs do contribute to organizational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1/3 of Canadian organizations have systematic coaching and mentoring programs and consider them effective l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research studies will continue to explore the question of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BC61-3AB2-42E4-A2ED-D57B0F642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s, functions, and critical skills of manager and how they are developed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verview of the management skills that management development programs are designed to teach was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del of management development (assessment, acquisition, practice, and application) was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ent and most common delivery methods of management development programs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such as outdoor education, job-rotation and coach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7DE9-017A-44A5-AC9E-F9C111689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at is Managemen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getting things done, efficiently and effectively, through and wit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4-2.jpg"/>
          <p:cNvPicPr/>
          <p:nvPr/>
        </p:nvPicPr>
        <p:blipFill>
          <a:blip r:embed="rId1"/>
          <a:stretch/>
        </p:blipFill>
        <p:spPr>
          <a:xfrm>
            <a:off x="3886200" y="2819520"/>
            <a:ext cx="474984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2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2320-F47F-4C75-8555-2D827F5E0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2133720" y="1676520"/>
            <a:ext cx="5257800" cy="4251240"/>
          </a:xfrm>
          <a:prstGeom prst="rect">
            <a:avLst/>
          </a:prstGeom>
          <a:solidFill>
            <a:srgbClr val="b2b2b2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743200" y="2286000"/>
            <a:ext cx="3949560" cy="3048120"/>
          </a:xfrm>
          <a:prstGeom prst="rect">
            <a:avLst/>
          </a:prstGeom>
          <a:solidFill>
            <a:srgbClr val="c0c0c0"/>
          </a:solidFill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276720" y="2819520"/>
            <a:ext cx="2819160" cy="20574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at is Managemen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733920" y="3352680"/>
            <a:ext cx="190476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133720" y="1676520"/>
            <a:ext cx="16002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1"/>
          <p:cNvSpPr/>
          <p:nvPr/>
        </p:nvSpPr>
        <p:spPr>
          <a:xfrm flipH="1">
            <a:off x="5638320" y="1676520"/>
            <a:ext cx="17528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3919680" y="274176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5700960" y="322740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3339000" y="323856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4161600" y="44560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4177080" y="23763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2820960" y="2889360"/>
            <a:ext cx="320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6288480" y="2754360"/>
            <a:ext cx="34524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3741840" y="16365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GRAM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6853320" y="2325600"/>
            <a:ext cx="3711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2262240" y="2535120"/>
            <a:ext cx="333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4039920" y="540864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 the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0"/>
          <p:cNvSpPr/>
          <p:nvPr/>
        </p:nvSpPr>
        <p:spPr>
          <a:xfrm>
            <a:off x="5638680" y="4419720"/>
            <a:ext cx="17528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1"/>
          <p:cNvSpPr/>
          <p:nvPr/>
        </p:nvSpPr>
        <p:spPr>
          <a:xfrm flipV="1">
            <a:off x="2133720" y="4419360"/>
            <a:ext cx="16002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2"/>
          <p:cNvSpPr/>
          <p:nvPr/>
        </p:nvSpPr>
        <p:spPr>
          <a:xfrm>
            <a:off x="144000" y="5599080"/>
            <a:ext cx="18039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igure 1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EAFF-FC64-427F-BD8C-0DD3F8B83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Management Development</a:t>
            </a:r>
            <a:br>
              <a:rPr sz="3600"/>
            </a:b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vs. Employee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if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work mainly throug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design techniques tend to be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ial personalities must be taken into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ment development is a longitudi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ique strategic significance of developing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A8DC-C3A1-45AC-B189-78A993D82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What is Management Development?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process by which individuals learn to perform effectively in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Management Developmen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 capita training expenditures are greater for managers than any other category of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rporate expenditures on management development are estimated at $45 billion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ager’s rol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votal role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FA17-BDAB-4A1B-9191-FA13D0D85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Management Development and Leadership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qualities and behaviours required to shape the direction of the organization and that inspire others to pursue that direction in the face of obstacles an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4-3.jpg"/>
          <p:cNvPicPr/>
          <p:nvPr/>
        </p:nvPicPr>
        <p:blipFill>
          <a:blip r:embed="rId1"/>
          <a:stretch/>
        </p:blipFill>
        <p:spPr>
          <a:xfrm>
            <a:off x="5257800" y="1676520"/>
            <a:ext cx="27511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670A-C5D7-43C1-BAFB-FA5712F51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ajor roles of manag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pers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cisi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14-4.jpg"/>
          <p:cNvPicPr/>
          <p:nvPr/>
        </p:nvPicPr>
        <p:blipFill>
          <a:blip r:embed="rId1"/>
          <a:stretch/>
        </p:blipFill>
        <p:spPr>
          <a:xfrm>
            <a:off x="4648320" y="2590920"/>
            <a:ext cx="39942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08:08Z</dcterms:modified>
  <cp:revision>355</cp:revision>
  <dc:subject/>
  <dc:title>Ch 14</dc:title>
</cp:coreProperties>
</file>