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47CE-753E-4866-9886-86EAD94E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B6B-4B70-4EC5-90CC-36C18B4C4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067F-87E0-4A89-9273-5A86A8A42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7EDD-5A53-4306-BCDE-68D05626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72D6-64BE-4866-8A7F-354AA292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615B-FB91-4BE5-98DC-1AE3A830C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ABAB-1AF9-422C-A2CE-3B3890679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CA07-9097-4B15-A193-04D5B4C5B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05A6E-3686-4089-B0AB-AD523B375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2E7E-59E8-498F-AD30-6BE072A4E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EF12-3B05-4050-9453-AD36D6DD9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2641-E23D-467C-93A0-93023B880E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1E2E-2C57-4462-A1B1-2ABC8A8E8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4D5E-9F05-470F-9C40-338E7BD5C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FDF2-6817-4D0D-B8A1-904029238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86938-A867-4A38-B489-637E94DE7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F14C0-160B-46EC-9363-43BB49870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5865-ED9F-4262-8607-5688069AF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A3BC-40E1-487F-B8DC-5F742A957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8D40-9FF0-42CB-BECA-1EBCA6A4A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1C5A-BA41-4F87-8E41-DB1EB9B3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75A3-1432-43F6-9B50-827745C30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fte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Trends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5-1.jpg"/>
          <p:cNvPicPr/>
          <p:nvPr/>
        </p:nvPicPr>
        <p:blipFill>
          <a:blip r:embed="rId1"/>
          <a:stretch/>
        </p:blipFill>
        <p:spPr>
          <a:xfrm>
            <a:off x="2895480" y="3657600"/>
            <a:ext cx="3594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83F2-E126-4F07-AC01-F03E9DB77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-in-time lear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to provide learning and training opportunities when they are needed and where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s pac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ies helpful in achiev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Training Today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D3BC-4A25-4806-84CD-E43DA3BD3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to shorten  the length of training programs increa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 training programs and find creative ways to make up for reduction i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urse work, job aids, on-the-job training, and using technology can accomplis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e-le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-style software with easy to use interface that guide trainer through the cours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e-learning more quickly, easily and at lower price than conventional  e-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86C9-1780-47DF-A9DC-8DB8A8AD0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 is software that manages and tracks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n organization to integrate and organize all their training data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used by web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and report administrative activiti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9FDC-688F-41A1-B9C9-171F129D1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sophisticated LMS include assessments, course catalogues, communication tools, and individual learn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LMS is increased efficiency, reporting, tracking, and delivery of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use of technology for training will create increasingly more important role for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CF3A-FB38-44A9-82C0-D488D5F95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pproach to learning that recognizes that learning takes place throughout a person’s life and involves all aspects of one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Council on Learning developed Composite Learning Index (C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Canada’s progress on  “Four Pill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liv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EB66-566E-426B-A36B-683E45B78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 recognizes lifelong learning is critical to success of individual, the community, an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benefits from better jobs and highe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benefits from higher productivity and a stronger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is an important contributor to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taking holistic and lifelong approach to continuous education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0DBB-AE6D-46C7-B458-1C45BB3D0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&amp;D Best Practices: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ain Reasons for Failur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lignment with busines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recognize non-training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objectives to provide direction and fo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olution is too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arding training as an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are not held accountable for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epare the job environment for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management reinforcement and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isolate the effects of tra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commitment and involvement from execu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ovide feedback and use information abou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16680" y="5865840"/>
            <a:ext cx="155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758F-A173-423D-ADDA-1BB710E95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Best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factors that are important for learning and trans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understand the objectives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content is meaning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are given cues that help them learn and re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opportunities to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receive feedback on thei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the opportunity to interact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is properly coordinated and arran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28000" y="590220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65D6-BD7E-4B25-BCB6-59E4FDD8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changing role of the trainer and outsourcing training and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issues in training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 including just-in-time learning, rapid e-learning, and learning management syste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as part of larger process of lifelong learning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of major reasons for failure of training and development and design features that facilitate learning and transf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93A2-DD91-4F94-AE32-0FCE05F7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changing role of training professio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outsourcing of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role of ethics in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just-in-time learning, rapid e-learning, and learning management systems (L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lifelong learning and describe the four pillars of lifelong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main reasons why training programs fail and describe training design factors that facilitate learning and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E166-22A5-4B22-A5C1-749B9316E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iner’s primary responsibilities have traditionally revolved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&amp;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-2.jpg"/>
          <p:cNvPicPr/>
          <p:nvPr/>
        </p:nvPicPr>
        <p:blipFill>
          <a:blip r:embed="rId1"/>
          <a:stretch/>
        </p:blipFill>
        <p:spPr>
          <a:xfrm>
            <a:off x="4518000" y="2743200"/>
            <a:ext cx="4626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2B67-20D0-45D3-B373-4937C2B6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the Trainer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aff employee to strategic 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: (see Fig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rate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onsultant providing solutions to performanc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ACCB-8978-4244-95AA-E0809043D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n external supplier to provide training and development program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of HR and training professionals outsource at least some portion of T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ada, 52% of total training investment is outsou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to outside tr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ly to tuition reimbursement to outsid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4581-8CD0-4781-9663-C4AD12AC3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to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variety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and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compliance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 in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does not understand organization’s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-house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C013-8E5D-4D60-BBC1-6D14347B7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likelihood of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rusting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requent client-vend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tractual agreements clear and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losely with training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e for the righ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C2AC-ED60-44B0-AA22-89FDF3AAB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systematic thinking about moral consequences of one’s actions and decisions on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s inside or outside the organization who might be affected by one’s actions an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, such as the Canadian Society for Training and Development, have codes of ethics that set standards of practice and professionalism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BB28-A456-4AFD-872C-9E943A4AF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al Guideline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ortra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y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0160" y="586728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15-4.jpg"/>
          <p:cNvPicPr/>
          <p:nvPr/>
        </p:nvPicPr>
        <p:blipFill>
          <a:blip r:embed="rId1"/>
          <a:stretch/>
        </p:blipFill>
        <p:spPr>
          <a:xfrm>
            <a:off x="5440320" y="2514600"/>
            <a:ext cx="37036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3:16Z</dcterms:modified>
  <cp:revision>268</cp:revision>
  <dc:subject/>
  <dc:title>Ch 15</dc:title>
</cp:coreProperties>
</file>