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694E27-3BF2-4498-84AD-1A390A740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B8A3EAC-E683-48A4-B353-16828E95F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7922819-C1BA-4F44-96BE-013E56199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1D7051-5068-4D3C-857C-88949E97A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4622C0F-F5B8-41DA-9D96-A94454CDF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491F79-A5A0-4575-8A81-89F4C8AFC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E94675-2A43-4BA0-8BA7-984B7C302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04970F-67D7-484B-A485-26691D8E6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B15624-7148-4345-884E-6EFF43243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120266B-6C26-4D64-9B11-F71C2158A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3AE859F-5243-48BB-A196-E016AFECC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544009-8E03-4445-880B-A857C2638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12A958D-E621-470B-BB78-196FD1D49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2C7B351-D9E5-44EB-9837-9F11558DE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29330C-7B83-41AD-9011-490CE0B61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3C0E-7949-4D7E-BD1D-A6ED4CD0A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CAAE-6991-4FC9-B9CB-F256B676A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30078-6238-438A-83CF-C20E2D661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B13C-59CA-4019-B124-5374F9AB19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103C-F9C8-4F2D-BA81-A191227D94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FDF2-B7F2-495A-8C38-3D50E96B9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EE69-F61E-4FAE-99E0-F8FC16E5A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82BD-7095-4532-8859-A9AB2F9BD2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2C23-B5CF-4363-8461-A4AA2A09F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F9CA-100F-4540-BD71-1C6F339C2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11E7-B4A5-46B6-80F6-9C959DF26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1ED6-CE7C-4ACE-A3BB-B06877DB3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DCF2-8DD7-4366-A071-BF03018DA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F178-F2D4-4512-96BD-1D7E8B106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Perform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ough Training and Development, 5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Presentation prepa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y Starrett, M. Ed, CH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hool of Human Resource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rk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8C82-85C4-4D76-BE3A-33F6088B2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Employe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knowledge &amp; skills, higher self-efficacy, feel more useful, have more positive attitudes towards their job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earnings, more marketable, greater job security, and enhanced promotion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BB8C-3940-4DE9-8FFC-CF17C3289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57360"/>
            <a:ext cx="5567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Societ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ed popul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s to create educated and skilled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of liv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ant on productivity and productivit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-10.jpg"/>
          <p:cNvPicPr/>
          <p:nvPr/>
        </p:nvPicPr>
        <p:blipFill>
          <a:blip r:embed="rId1"/>
          <a:stretch/>
        </p:blipFill>
        <p:spPr>
          <a:xfrm>
            <a:off x="5214960" y="17146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C69E-1AC2-4212-9D8F-832716C17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pSp>
        <p:nvGrpSpPr>
          <p:cNvPr id="104" name="Diagram 5"/>
          <p:cNvGrpSpPr/>
          <p:nvPr/>
        </p:nvGrpSpPr>
        <p:grpSpPr>
          <a:xfrm>
            <a:off x="2935440" y="1844640"/>
            <a:ext cx="3906720" cy="3368880"/>
            <a:chOff x="2935440" y="1844640"/>
            <a:chExt cx="3906720" cy="3368880"/>
          </a:xfrm>
        </p:grpSpPr>
        <p:sp>
          <p:nvSpPr>
            <p:cNvPr id="105" name="_s2052"/>
            <p:cNvSpPr/>
            <p:nvPr/>
          </p:nvSpPr>
          <p:spPr>
            <a:xfrm>
              <a:off x="2935440" y="2789280"/>
              <a:ext cx="2424240" cy="242424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3"/>
            <p:cNvSpPr/>
            <p:nvPr/>
          </p:nvSpPr>
          <p:spPr>
            <a:xfrm>
              <a:off x="6196320" y="29210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54"/>
            <p:cNvSpPr/>
            <p:nvPr/>
          </p:nvSpPr>
          <p:spPr>
            <a:xfrm>
              <a:off x="3338640" y="3192480"/>
              <a:ext cx="1616040" cy="161604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2055"/>
            <p:cNvSpPr/>
            <p:nvPr/>
          </p:nvSpPr>
          <p:spPr>
            <a:xfrm>
              <a:off x="6196320" y="23828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zation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6"/>
            <p:cNvSpPr/>
            <p:nvPr/>
          </p:nvSpPr>
          <p:spPr>
            <a:xfrm>
              <a:off x="3743640" y="3597120"/>
              <a:ext cx="807840" cy="808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2057"/>
            <p:cNvSpPr/>
            <p:nvPr/>
          </p:nvSpPr>
          <p:spPr>
            <a:xfrm>
              <a:off x="6196320" y="18446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73E1-2755-4258-A814-309A3DFDE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in Canada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hours of training: 25/year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expenditure $852/employee (2006) down slightly from $914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annual training expenditure: $4.9 million across all industries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2C91-AC87-49C1-AFE6-E65B0D06A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vestment or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xpense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3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ranks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 of 60 countries in ranking of employee training as a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cost or expense results in limited/required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investment is part of organization’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five companies invests more than 3% of payroll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iabank = $47m, BMO = $1800/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BB68-0699-45E6-96D5-0FDA62778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Quebec Training Law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 in 1995  - “1% or training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yroll training tax 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$1m invest minimum 1% or pay equivalent to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report on impact of la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effect on way training is structured, organized and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rates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llaboration in promoting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 on medium size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C44F-C63E-499B-BD4E-39B0A3C2A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26" name="Picture 4" descr="F1-1"/>
          <p:cNvPicPr/>
          <p:nvPr/>
        </p:nvPicPr>
        <p:blipFill>
          <a:blip r:embed="rId1"/>
          <a:stretch/>
        </p:blipFill>
        <p:spPr>
          <a:xfrm>
            <a:off x="228600" y="144792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F178-87D1-4387-96E1-711CF3ADD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bour mark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cl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1-16.jpg"/>
          <p:cNvPicPr/>
          <p:nvPr/>
        </p:nvPicPr>
        <p:blipFill>
          <a:blip r:embed="rId1"/>
          <a:stretch/>
        </p:blipFill>
        <p:spPr>
          <a:xfrm>
            <a:off x="5357880" y="2071800"/>
            <a:ext cx="32860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BFDA-4F10-4B08-B32A-14D1A15EF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Organization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1-17.jpg"/>
          <p:cNvPicPr/>
          <p:nvPr/>
        </p:nvPicPr>
        <p:blipFill>
          <a:blip r:embed="rId1"/>
          <a:stretch/>
        </p:blipFill>
        <p:spPr>
          <a:xfrm>
            <a:off x="4357800" y="2286000"/>
            <a:ext cx="29653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A6D7-6A75-497C-83A2-D7F7D36D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Human Resources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unctional areas of HR work together to create an H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n by organizational strategy and SH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at constitutes a High Performance Work System (HP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o a Strategic Model of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29EA-D622-4E38-AEA6-028F3156D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O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Training and Development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-1.jpg"/>
          <p:cNvPicPr/>
          <p:nvPr/>
        </p:nvPicPr>
        <p:blipFill>
          <a:blip r:embed="rId1"/>
          <a:stretch/>
        </p:blipFill>
        <p:spPr>
          <a:xfrm>
            <a:off x="3643200" y="3500280"/>
            <a:ext cx="2041560" cy="26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48BB-F77B-478A-AA30-E21E99FA1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strategy will influence the HRM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in turn, the HRM strategy will influence the strategy for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ads to the decisions on the type of training and development activities and programs that will be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epicted in Fig. 1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6ACE-D704-461B-8AAC-04227B6E9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76720" y="191628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4572000" y="355284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367920" y="569916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1.2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3276720" y="295272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M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413080" y="4057560"/>
            <a:ext cx="489564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nd Training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24000" y="5113440"/>
            <a:ext cx="547236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nd Development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4572000" y="2492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4572000" y="463248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0F45-9953-403C-9088-63F6EF035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59" name="Picture 6" descr="F1-2jpg"/>
          <p:cNvPicPr/>
          <p:nvPr/>
        </p:nvPicPr>
        <p:blipFill>
          <a:blip r:embed="rId1"/>
          <a:stretch/>
        </p:blipFill>
        <p:spPr>
          <a:xfrm>
            <a:off x="380880" y="1981080"/>
            <a:ext cx="8001000" cy="3733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60080" y="54529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3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19EF-C79C-4C39-964D-F924BDC1E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7361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al and scientific model of T&amp;D process consisting of 3 major step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needs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esign and deliver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performance gap or itch (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D model is the basis for rest of the cou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45D6-C743-4A6E-B205-E07F38E1F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training and development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&amp;D plays important role in effectiveness and competitiveness of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vestment in human capital, with dividends for the individual, the organization, and society at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raining in Canada is discussed with added emphasis on the Quebec Training Law and its effectiveness since its i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A318-CB2F-4B7B-8FFB-0A0A0846D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raining and development is increased when linked to SHRM; aligned with other HR practices (and a HPWS); and tied to an organization’s busines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s instructional systems design (ISD)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ncepts to be addressed in subsequent chapters, such as needs analysis, training design and delivery, and the evaluation of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750C-DB89-4CEE-B8AE-9D53875E8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99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performance management, training, development, and human resource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rganization, employee, and societal benefits of T&amp;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current state of T&amp;D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environmental and organizational context of T&amp;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strategic human resources management and strategic T&amp;D, and high performance work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nstructional systems design model of T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D30A-65E5-4F41-AF95-AC4353507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and Development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 on a daily basis require us or someone else to demonstrate effective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these situations varies from minor to extremely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erformance often comes from some form of education, learning, training, o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link between effective performance and individual and organizational 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2A0C-EF93-4F29-A33D-944624743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of establishing performance expectations with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ing interventions and programs to improve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success of interventions and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1-4.jpg"/>
          <p:cNvPicPr/>
          <p:nvPr/>
        </p:nvPicPr>
        <p:blipFill>
          <a:blip r:embed="rId1"/>
          <a:stretch/>
        </p:blipFill>
        <p:spPr>
          <a:xfrm>
            <a:off x="3286080" y="4500720"/>
            <a:ext cx="251784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B487-DEF4-427C-B09B-C4EB6C832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4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Diagram 5"/>
          <p:cNvGrpSpPr/>
          <p:nvPr/>
        </p:nvGrpSpPr>
        <p:grpSpPr>
          <a:xfrm>
            <a:off x="2670120" y="2565360"/>
            <a:ext cx="3577320" cy="3600000"/>
            <a:chOff x="2670120" y="2565360"/>
            <a:chExt cx="3577320" cy="3600000"/>
          </a:xfrm>
        </p:grpSpPr>
        <p:sp>
          <p:nvSpPr>
            <p:cNvPr id="73" name="_s1028"/>
            <p:cNvSpPr/>
            <p:nvPr/>
          </p:nvSpPr>
          <p:spPr>
            <a:xfrm>
              <a:off x="3450960" y="2565360"/>
              <a:ext cx="2014200" cy="2560320"/>
            </a:xfrm>
            <a:custGeom>
              <a:avLst/>
              <a:gdLst>
                <a:gd name="textAreaLeft" fmla="*/ 0 w 2014200"/>
                <a:gd name="textAreaRight" fmla="*/ 2014560 w 2014200"/>
                <a:gd name="textAreaTop" fmla="*/ 0 h 2560320"/>
                <a:gd name="textAreaBottom" fmla="*/ 2560680 h 25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29"/>
            <p:cNvSpPr/>
            <p:nvPr/>
          </p:nvSpPr>
          <p:spPr>
            <a:xfrm rot="7200000">
              <a:off x="3454560" y="34452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030"/>
            <p:cNvSpPr/>
            <p:nvPr/>
          </p:nvSpPr>
          <p:spPr>
            <a:xfrm rot="14400000">
              <a:off x="2901600" y="34470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1"/>
            <p:cNvSpPr/>
            <p:nvPr/>
          </p:nvSpPr>
          <p:spPr>
            <a:xfrm>
              <a:off x="5008680" y="3032280"/>
              <a:ext cx="80892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ablis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pect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053240" y="5137560"/>
              <a:ext cx="80856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ven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033"/>
            <p:cNvSpPr/>
            <p:nvPr/>
          </p:nvSpPr>
          <p:spPr>
            <a:xfrm>
              <a:off x="3097080" y="3034080"/>
              <a:ext cx="80856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nitor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0035-620B-4EBB-806E-CAE3175C8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set of interventions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to improve performance in one’s current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required to perform future job responsibilities and in the long-term achievement of individual career goals and organization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0B32-BF83-4DA6-BB8C-5D0DA6D2E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Resources Develop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and planned activities that are designed by an organization to provide employees with an opportunity to learn necessary skills to meet current and future job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CA15-D371-49AE-8936-ADF40E340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rganizational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recruitment and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1-8.jpg"/>
          <p:cNvPicPr/>
          <p:nvPr/>
        </p:nvPicPr>
        <p:blipFill>
          <a:blip r:embed="rId1"/>
          <a:stretch/>
        </p:blipFill>
        <p:spPr>
          <a:xfrm>
            <a:off x="5786280" y="1428840"/>
            <a:ext cx="2862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> Saks/Haccoun 5ed</dc:description>
  <dc:language>en-US</dc:language>
  <cp:lastModifiedBy>Karina</cp:lastModifiedBy>
  <dcterms:modified xsi:type="dcterms:W3CDTF">2009-10-30T18:15:30Z</dcterms:modified>
  <cp:revision>125</cp:revision>
  <dc:subject/>
  <dc:title>Ch1  PPT Slides</dc:title>
</cp:coreProperties>
</file>