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1004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1004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4A249E0-FBD0-4A33-A5DE-AD4069F4A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928E95F-EB46-4D99-8D64-C11CFE102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0D7EAA9-153D-4815-9B61-13C87DE29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FD8340B-5869-4740-85C6-D08DEE7A3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407E3B-7CC1-49DF-9B15-F2A043920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ABD3072-B00D-437B-972D-B5498E090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9810219-37A8-41E9-9DF1-D68F22D3F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4235EF0-8BC8-4019-8C9D-F7C41C7CC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B6227F0-3AA1-4BA9-B554-5594ED71C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D891E39-133D-445C-AD5F-88228CE45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73E477-BC1B-449E-BFC5-14AE545DF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42913A5-11FB-4776-B906-A4A30E1B4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BB0F9D7-7906-49D5-944E-7F6347078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492D950-0A03-41F4-A92F-3F27209A5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47BDF36-AC9F-47C7-A354-7A9D139D9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81BB-1F19-4716-86CB-D9769CB17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6588-6005-4E9C-9F47-0E3A40E0D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0231-93F0-4B16-9E27-42C1505F1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E6B4-C669-4474-8948-7DCB41A9AB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7480-F657-4AF9-84A5-1A5305C078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3C1C-F046-441D-BEA3-FECA92110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5682-99B0-4ADE-AB79-A68777EC5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BCC1-37ED-4D21-857F-E58F1F0AA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6D0E-9BC3-4102-BE86-94DE42F7B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B495-61DB-4213-9B07-11CA3053D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25DE-1CDD-4B0D-BE1F-EA0E0A8A1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8280-B9AB-4869-9F60-8CC13C40A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921F-82AC-4C1D-8AB2-916E43D8F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960C-2616-4FC1-8AA7-0EE77E570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Perform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ough Training and Development, 5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Presentation prepa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acey Starrett, M. Ed, CH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chool of Human Resource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rk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F458-310D-47EA-9305-AFD8A1AF3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Employe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in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knowledge &amp; skills, higher self-efficacy, feel more useful, have more positive attitudes towards their job an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in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earnings, more marketable, greater job security, and enhanced promotion 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6E3C-20B6-4F65-840E-1A1D449FC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57360"/>
            <a:ext cx="5567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Societal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ted popul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s to create educated and skilled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of liv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ant on productivity and productivity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-10.jpg"/>
          <p:cNvPicPr/>
          <p:nvPr/>
        </p:nvPicPr>
        <p:blipFill>
          <a:blip r:embed="rId1"/>
          <a:stretch/>
        </p:blipFill>
        <p:spPr>
          <a:xfrm>
            <a:off x="5214960" y="17146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5FF6-A8BE-4736-8002-E41425BA1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pSp>
        <p:nvGrpSpPr>
          <p:cNvPr id="104" name="Diagram 5"/>
          <p:cNvGrpSpPr/>
          <p:nvPr/>
        </p:nvGrpSpPr>
        <p:grpSpPr>
          <a:xfrm>
            <a:off x="2935440" y="1844640"/>
            <a:ext cx="3906720" cy="3368880"/>
            <a:chOff x="2935440" y="1844640"/>
            <a:chExt cx="3906720" cy="3368880"/>
          </a:xfrm>
        </p:grpSpPr>
        <p:sp>
          <p:nvSpPr>
            <p:cNvPr id="105" name="_s2052"/>
            <p:cNvSpPr/>
            <p:nvPr/>
          </p:nvSpPr>
          <p:spPr>
            <a:xfrm>
              <a:off x="2935440" y="2789280"/>
              <a:ext cx="2424240" cy="2424240"/>
            </a:xfrm>
            <a:prstGeom prst="donut">
              <a:avLst>
                <a:gd name="adj" fmla="val 1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3"/>
            <p:cNvSpPr/>
            <p:nvPr/>
          </p:nvSpPr>
          <p:spPr>
            <a:xfrm>
              <a:off x="6196320" y="29210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etal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2054"/>
            <p:cNvSpPr/>
            <p:nvPr/>
          </p:nvSpPr>
          <p:spPr>
            <a:xfrm>
              <a:off x="3338640" y="3192480"/>
              <a:ext cx="1616040" cy="161604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2055"/>
            <p:cNvSpPr/>
            <p:nvPr/>
          </p:nvSpPr>
          <p:spPr>
            <a:xfrm>
              <a:off x="6196320" y="23828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ganization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6"/>
            <p:cNvSpPr/>
            <p:nvPr/>
          </p:nvSpPr>
          <p:spPr>
            <a:xfrm>
              <a:off x="3743640" y="3597120"/>
              <a:ext cx="807840" cy="808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2057"/>
            <p:cNvSpPr/>
            <p:nvPr/>
          </p:nvSpPr>
          <p:spPr>
            <a:xfrm>
              <a:off x="6196320" y="18446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loyee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DD0B-A52B-4083-B60B-7F5DDB173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in Canada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hours of training: 25/year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expenditure $852/employee (2006) down slightly from $914 in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annual training expenditure: $4.9 million across all industries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1FFC-A5CA-4D38-A8A6-AC4FAD889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vestment or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xpense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31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ranks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 of 60 countries in ranking of employee training as a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cost or expense results in limited/required 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investment is part of organization’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n five companies invests more than 3% of payroll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iabank = $47m, BMO = $1800/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E558-1588-4083-BA0A-0D2BB8E29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Quebec Training Law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d in 1995  - “1% or training l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ayroll training tax 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$1m invest minimum 1% or pay equivalent to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report on impact of la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effect on way training is structured, organized and 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rates incr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llaboration in promoting learning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ffect on medium sized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150F-7B19-4AE5-BF20-842454B2A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26" name="Picture 4" descr="F1-1"/>
          <p:cNvPicPr/>
          <p:nvPr/>
        </p:nvPicPr>
        <p:blipFill>
          <a:blip r:embed="rId1"/>
          <a:stretch/>
        </p:blipFill>
        <p:spPr>
          <a:xfrm>
            <a:off x="228600" y="144792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3956-3EE6-4EEA-8BBE-58F688921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 compet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bour mark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 cl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1-16.jpg"/>
          <p:cNvPicPr/>
          <p:nvPr/>
        </p:nvPicPr>
        <p:blipFill>
          <a:blip r:embed="rId1"/>
          <a:stretch/>
        </p:blipFill>
        <p:spPr>
          <a:xfrm>
            <a:off x="5357880" y="2071800"/>
            <a:ext cx="32860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A743-3A89-41A6-AD2C-55C90666D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Organization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1-17.jpg"/>
          <p:cNvPicPr/>
          <p:nvPr/>
        </p:nvPicPr>
        <p:blipFill>
          <a:blip r:embed="rId1"/>
          <a:stretch/>
        </p:blipFill>
        <p:spPr>
          <a:xfrm>
            <a:off x="4357800" y="2286000"/>
            <a:ext cx="29653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872F-F7E1-4F07-9336-51E76A91B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Human Resources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unctional areas of HR work together to create an H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n by organizational strategy and SH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at constitutes a High Performance Work System (HP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to a Strategic Model of Train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86E7-D9B6-48E1-B90D-82C528AE2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On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Training and Development Pro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1-1.jpg"/>
          <p:cNvPicPr/>
          <p:nvPr/>
        </p:nvPicPr>
        <p:blipFill>
          <a:blip r:embed="rId1"/>
          <a:stretch/>
        </p:blipFill>
        <p:spPr>
          <a:xfrm>
            <a:off x="3643200" y="3500280"/>
            <a:ext cx="2041560" cy="26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3451-5D53-4C77-9455-9A9C70999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Strategic Model of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Training &amp;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strategy will influence the HRM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in turn, the HRM strategy will influence the strategy for learning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ads to the decisions on the type of training and development activities and programs that will be necess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depicted in Fig. 1.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EE66-0EC1-4488-8592-7B944484C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Strategic Model of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Training &amp;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76720" y="1916280"/>
            <a:ext cx="293040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4572000" y="355284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367920" y="569916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Figure 1.2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3276720" y="2952720"/>
            <a:ext cx="293040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M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413080" y="4057560"/>
            <a:ext cx="489564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nd Training Strate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124000" y="5113440"/>
            <a:ext cx="547236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and Development Progr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1"/>
          <p:cNvSpPr/>
          <p:nvPr/>
        </p:nvSpPr>
        <p:spPr>
          <a:xfrm>
            <a:off x="4572000" y="2492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32"/>
          <p:cNvSpPr/>
          <p:nvPr/>
        </p:nvSpPr>
        <p:spPr>
          <a:xfrm>
            <a:off x="4572000" y="463248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070C-87DD-4814-A6A2-664CA6E2B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ional Systems Design Mode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59" name="Picture 6" descr="F1-2jpg"/>
          <p:cNvPicPr/>
          <p:nvPr/>
        </p:nvPicPr>
        <p:blipFill>
          <a:blip r:embed="rId1"/>
          <a:stretch/>
        </p:blipFill>
        <p:spPr>
          <a:xfrm>
            <a:off x="380880" y="1981080"/>
            <a:ext cx="8001000" cy="3733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460080" y="54529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3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D96B-4518-4B58-B8BF-DDAB3EE31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7361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nal and scientific model of T&amp;D process consisting of 3 major step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needs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esign and deliver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  <a:tab algn="l" pos="795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with performance gap or itch (prob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  <a:tab algn="l" pos="795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D model is the basis for rest of the cou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B393-0F69-4F94-A5DE-EC21E6D81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the training and development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&amp;D plays important role in effectiveness and competitiveness of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nvestment in human capital, with dividends for the individual, the organization, and society at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raining in Canada is discussed with added emphasis on the Quebec Training Law and its effectiveness since its in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5C8A-64CA-46EB-9170-FAEC1F3BB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raining and development is increased when linked to SHRM; aligned with other HR practices (and a HPWS); and tied to an organization’s busines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s instructional systems design (ISD)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oncepts to be addressed in subsequent chapters, such as needs analysis, training design and delivery, and the evaluation of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0349-2A66-4BE5-A894-60EFA13C7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699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eaning of performance management, training, development, and human resource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rganization, employee, and societal benefits of T&amp;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current state of T&amp;D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environmental and organizational context of T&amp;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eaning of strategic human resources management and strategic T&amp;D, and high performance work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nstructional systems design model of T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A7E2-F8FA-4667-A387-71389B3F8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and Development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 on a daily basis require us or someone else to demonstrate effective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of these situations varies from minor to extremely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performance often comes from some form of education, learning, training, o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link between effective performance and individual and organizational effective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9F11-DF1A-449F-B78D-418DEC2CD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of establishing performance expectations with employ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ing interventions and programs to improve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ing success of interventions and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1-4.jpg"/>
          <p:cNvPicPr/>
          <p:nvPr/>
        </p:nvPicPr>
        <p:blipFill>
          <a:blip r:embed="rId1"/>
          <a:stretch/>
        </p:blipFill>
        <p:spPr>
          <a:xfrm>
            <a:off x="3286080" y="4500720"/>
            <a:ext cx="251784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1F48-AC66-4753-930F-3BE45C4CA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4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Diagram 5"/>
          <p:cNvGrpSpPr/>
          <p:nvPr/>
        </p:nvGrpSpPr>
        <p:grpSpPr>
          <a:xfrm>
            <a:off x="2670120" y="2565360"/>
            <a:ext cx="3577320" cy="3600000"/>
            <a:chOff x="2670120" y="2565360"/>
            <a:chExt cx="3577320" cy="3600000"/>
          </a:xfrm>
        </p:grpSpPr>
        <p:sp>
          <p:nvSpPr>
            <p:cNvPr id="73" name="_s1028"/>
            <p:cNvSpPr/>
            <p:nvPr/>
          </p:nvSpPr>
          <p:spPr>
            <a:xfrm>
              <a:off x="3450960" y="2565360"/>
              <a:ext cx="2014200" cy="2560320"/>
            </a:xfrm>
            <a:custGeom>
              <a:avLst/>
              <a:gdLst>
                <a:gd name="textAreaLeft" fmla="*/ 0 w 2014200"/>
                <a:gd name="textAreaRight" fmla="*/ 2014560 w 2014200"/>
                <a:gd name="textAreaTop" fmla="*/ 0 h 2560320"/>
                <a:gd name="textAreaBottom" fmla="*/ 2560680 h 256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29"/>
            <p:cNvSpPr/>
            <p:nvPr/>
          </p:nvSpPr>
          <p:spPr>
            <a:xfrm rot="7200000">
              <a:off x="3454560" y="3445200"/>
              <a:ext cx="2560680" cy="201420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030"/>
            <p:cNvSpPr/>
            <p:nvPr/>
          </p:nvSpPr>
          <p:spPr>
            <a:xfrm rot="14400000">
              <a:off x="2901600" y="3447000"/>
              <a:ext cx="2560680" cy="201420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1"/>
            <p:cNvSpPr/>
            <p:nvPr/>
          </p:nvSpPr>
          <p:spPr>
            <a:xfrm>
              <a:off x="5008680" y="3032280"/>
              <a:ext cx="80892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stablis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xpecta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1032"/>
            <p:cNvSpPr/>
            <p:nvPr/>
          </p:nvSpPr>
          <p:spPr>
            <a:xfrm>
              <a:off x="4053240" y="5137560"/>
              <a:ext cx="80856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terven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033"/>
            <p:cNvSpPr/>
            <p:nvPr/>
          </p:nvSpPr>
          <p:spPr>
            <a:xfrm>
              <a:off x="3097080" y="3034080"/>
              <a:ext cx="808560" cy="10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onitor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2231-011B-4834-8393-C9E9803B5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set of interventions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cquisition of KSAs to improve performance in one’s current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cquisition of KSAs required to perform future job responsibilities and in the long-term achievement of individual career goals and organizational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F7BC-7E31-42D4-8F4F-39026D7AA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64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Resources Developme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atic and planned activities that are designed by an organization to provide employees with an opportunity to learn necessary skills to meet current and future job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583C-F361-4400-8EB8-25BC829D9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5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benef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organizational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recruitment and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1-8.jpg"/>
          <p:cNvPicPr/>
          <p:nvPr/>
        </p:nvPicPr>
        <p:blipFill>
          <a:blip r:embed="rId1"/>
          <a:stretch/>
        </p:blipFill>
        <p:spPr>
          <a:xfrm>
            <a:off x="5786280" y="1428840"/>
            <a:ext cx="2862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> Saks/Haccoun 5ed</dc:description>
  <dc:language>en-US</dc:language>
  <cp:lastModifiedBy>Karina</cp:lastModifiedBy>
  <dcterms:modified xsi:type="dcterms:W3CDTF">2009-10-30T18:15:30Z</dcterms:modified>
  <cp:revision>125</cp:revision>
  <dc:subject/>
  <dc:title>Ch1  PPT Slides</dc:title>
</cp:coreProperties>
</file>