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7438A3-CD05-4B97-B5B8-BACE29E68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8EFC08-FC47-4CBD-974C-9A43AD5A9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E4C461-58FC-4B60-9D9C-D545AF89B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A8B83E-8C4F-4604-BCF3-C53E99AB0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E6B0FEB-BD62-4172-B73A-2D28D2370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A6076AF-3F70-4546-AD73-6165B064F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B73F07-859F-4BAB-A508-739725C5B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1A9BA9-2CF7-4612-AC64-9B216D381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54A048-9CF0-4B70-9F92-E0690C92D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F97EAC4-73A9-47D2-A9FD-0AC6248BB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DC8795-2874-4C76-A1A5-CAB1DE9C7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26DF551-B035-43BB-AB1A-01BC8FCB0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3572DC-F427-4FDE-9013-62F50D3D6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F0A6378-BD4B-4513-825A-5F6E2A375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9260D9-29CF-48E8-A151-282076B19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6901EF-0DFF-488F-AD13-2F1F87E53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62166C-38CF-40A6-BB6C-FF51DAE95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D39C54-22F5-4563-BD55-DAD10DB61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C9EF214-8EEA-4927-862E-3FEDD3253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1E9053-9495-4BA2-96AB-CDB6A9E56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5C7FFC-983E-4E0C-A451-E5EB78345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61A57A-ABFE-43CF-83ED-954FCD9E0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E76F10-A7F7-4E90-BC99-7046CFA55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3A5B79D-9D55-47A1-BB77-8BABC835E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7FC9585-3E5D-4435-90C3-9593D71BC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334E5D-CC78-46D7-AA22-707A98D48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2FEB-29CB-443F-951B-957B803FB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CE10-1C8C-4236-BE60-D6B2A4BB9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BF3B1-61C2-497D-B9C2-B9CC94C00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105A-4573-4336-B417-0492727AF8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0EF7-7B81-423D-A847-0BCD9255D1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E7FF-4A1C-493B-BFFE-1D3292308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8B02-801B-4DC5-946B-CAF1970AA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2C10-3574-4BB0-B46E-089B12C51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ED01-108F-459E-A684-5B6A779585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EFC8-CB47-423C-AFEC-61016477E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0AA09-2FE1-4BB9-9CC1-790C92BD4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B0CC-E540-4042-9B7D-9159D1154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4010-6DBE-4761-8FA6-57C349BC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EABC-54EA-4A5A-9295-5F03FCF4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o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-1.jpg"/>
          <p:cNvPicPr/>
          <p:nvPr/>
        </p:nvPicPr>
        <p:blipFill>
          <a:blip r:embed="rId1"/>
          <a:stretch/>
        </p:blipFill>
        <p:spPr>
          <a:xfrm>
            <a:off x="2357280" y="2857680"/>
            <a:ext cx="4267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8723-38E7-4CC3-BCFA-EC741A0AF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16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 of what is known; a body of truths, information, and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nd in the minds of employee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red and stored in system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2-10.jpg"/>
          <p:cNvPicPr/>
          <p:nvPr/>
        </p:nvPicPr>
        <p:blipFill>
          <a:blip r:embed="rId1"/>
          <a:stretch/>
        </p:blipFill>
        <p:spPr>
          <a:xfrm>
            <a:off x="3714840" y="37861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A076-7483-433E-951B-E3FFF0199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9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just information! I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that has been ed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ut in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alyzed in a way that makes it meaningful, and therefore valuable 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9E8B-CAA2-4158-A701-4E3BA589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can be group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gs that you can buy or trade, such as patents or copyrights and other forms of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into procedures                           or coded into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ansferred fairly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20% of corporate                           knowledg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-12.jpg"/>
          <p:cNvPicPr/>
          <p:nvPr/>
        </p:nvPicPr>
        <p:blipFill>
          <a:blip r:embed="rId1"/>
          <a:stretch/>
        </p:blipFill>
        <p:spPr>
          <a:xfrm>
            <a:off x="6286680" y="3357720"/>
            <a:ext cx="2571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9BD0-55DB-4A65-B23E-FA3C9BB50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able wisdom learned from experience and insight that has been defined as intuition, know how, little tricks, and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% of corporat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impossible to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known example: decision-making behaviour of dealers in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D6C1-D296-4503-B221-15F14E89F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n organization’s knowledge, experience, relationships, process discoveries, innovations, market presence, and community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2-14.jpg"/>
          <p:cNvPicPr/>
          <p:nvPr/>
        </p:nvPicPr>
        <p:blipFill>
          <a:blip r:embed="rId1"/>
          <a:stretch/>
        </p:blipFill>
        <p:spPr>
          <a:xfrm>
            <a:off x="2714760" y="3714840"/>
            <a:ext cx="35240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8AD8-097F-4DB8-985F-5E022D40E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lik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ource of innovation and wealth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as to be formalized, captured, and leveraged to produce a more highly valued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like other asset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grows wit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recognized by many organizations as a valuabl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8394-BDCA-4737-A474-568126B66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Knowledge, skills, and abilities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ew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-16.jpg"/>
          <p:cNvPicPr/>
          <p:nvPr/>
        </p:nvPicPr>
        <p:blipFill>
          <a:blip r:embed="rId1"/>
          <a:stretch/>
        </p:blipFill>
        <p:spPr>
          <a:xfrm>
            <a:off x="2714760" y="3143160"/>
            <a:ext cx="3443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2F40-2048-4B7F-8938-2897BF07A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rmal systems and informal relationships that allow employees to communicate, solve problems,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rganization’s relationships with suppliers, customers, and competitors that influence how they d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66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Capit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 of an organization’s relationships with its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0A23-6838-406B-9DB0-93F6984E0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– Tying it all Togeth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 more investments are made in human capital, the employees are more capable &amp; committed to increasing renewal &amp; structural capital, leading to more productive relationship capital, resulting in better financial performance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-18.jpg"/>
          <p:cNvPicPr/>
          <p:nvPr/>
        </p:nvPicPr>
        <p:blipFill>
          <a:blip r:embed="rId1"/>
          <a:stretch/>
        </p:blipFill>
        <p:spPr>
          <a:xfrm>
            <a:off x="3143160" y="4000680"/>
            <a:ext cx="3429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C22B-AA6A-4559-A895-BD561FA81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volves the creation, collection, storage, distribution, &amp; application of compiled ‘know what’ and ‘know how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/Infrastructure refers to systems and structures that integrate people, processes,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E37D-BC18-42BF-BA25-EAC3163C7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organizational learning and describe a learning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five disciplines and the principles of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our dimensions critical for creating and sustaining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and give examples of explicit and taci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eaning and types of intellectu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9D8E-B016-48AB-9B42-F6D901A58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important knowledg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vailable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-20.jpg"/>
          <p:cNvPicPr/>
          <p:nvPr/>
        </p:nvPicPr>
        <p:blipFill>
          <a:blip r:embed="rId1"/>
          <a:stretch/>
        </p:blipFill>
        <p:spPr>
          <a:xfrm>
            <a:off x="4218120" y="2286000"/>
            <a:ext cx="4925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EA73-AD8E-4BA2-8EEE-21B8D5FD2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Knowledg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Environment sc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individuals, teams, departm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sources of information from other organizations, customers, industry watc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F342-3E7B-496B-BA89-B3D387850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Formal learning (training and develop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art of the knowledge-acquisi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3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nformal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7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ial &amp; err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, immediate and task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B3B7-251B-4DF7-9396-4C7B6D21B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2349360"/>
          <a:ext cx="8380440" cy="3845160"/>
        </p:xfrm>
        <a:graphic>
          <a:graphicData uri="http://schemas.openxmlformats.org/drawingml/2006/table">
            <a:tbl>
              <a:tblPr/>
              <a:tblGrid>
                <a:gridCol w="1504800"/>
                <a:gridCol w="3778560"/>
                <a:gridCol w="3097080"/>
              </a:tblGrid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organ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lear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between learning and use of knowledge ac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used immediately on-the-jo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73"/>
          <p:cNvSpPr/>
          <p:nvPr/>
        </p:nvSpPr>
        <p:spPr>
          <a:xfrm>
            <a:off x="395280" y="1557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aring Formal and Informal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2834-A57A-48E1-8A4F-F5AAA9D67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ommunities of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people with common interests and concerns who meet regularly to share their experience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each other and identify new approaches for working and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social and people learn from each other while working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49FE-8B0C-4350-9F8A-847CBC7BF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rding to Wenger and Lave, Communities of Practice have three characteris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(shared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(interaction, discussion, sha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(practitioners with resources to sh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formal, self-organizing, and form naturally but they can be created, fostered, and nurtur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2E49-4E1F-4ED3-9305-57FACB44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Interpre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ntal models are deeply engrained assumptions, generalizations, or images that influence how we understand the world and how we tak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effective way to develop shared mental models is to establish teams to stimulate work-related learning, solving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3689-041D-4263-A691-191787CFB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nowledge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ing ideas requires a different set of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ystems for shar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nd Communication Technology (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odification of knowledge; that is, its transformation into information that can be easily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roposals, spreadsheets, presentations, specifications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92FA-22BD-42D2-BD32-6D3A15995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29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tranet: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ical component for manag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 questions can be answered in hours instead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be like an instant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2-28.jpg"/>
          <p:cNvPicPr/>
          <p:nvPr/>
        </p:nvPicPr>
        <p:blipFill>
          <a:blip r:embed="rId1"/>
          <a:stretch/>
        </p:blipFill>
        <p:spPr>
          <a:xfrm>
            <a:off x="5429160" y="4214880"/>
            <a:ext cx="30625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4DEC-6410-4350-A4ED-376B4078A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Reten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repositories are inventories of knowledge that organizations compile and store, which can be easily retriev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positories are more informal lists of lessons learned, white papers,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have links to the originator of th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l are based on computer technology: oral histories transcribed, video taped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67FD-FBCA-4AD0-A7B2-C95217FE6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management and how knowledge is acquired, interpreted, disseminated, and retain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informal learning and describe how organizations can facilita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mmunities of practice and describe what organizations can do to cre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ultilevel systems model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organizational learning  and training and development ar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4A84-9883-4395-8744-7973DE58F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2209680" y="335268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4"/>
          <p:cNvSpPr/>
          <p:nvPr/>
        </p:nvSpPr>
        <p:spPr>
          <a:xfrm>
            <a:off x="2209680" y="5029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209680" y="1600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br>
              <a:rPr sz="4000"/>
            </a:b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3429000" y="26668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4800600" y="2743200"/>
            <a:ext cx="485640" cy="671400"/>
          </a:xfrm>
          <a:prstGeom prst="down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3476520" y="4419720"/>
            <a:ext cx="486000" cy="685800"/>
          </a:xfrm>
          <a:prstGeom prst="up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800600" y="4495680"/>
            <a:ext cx="485640" cy="595440"/>
          </a:xfrm>
          <a:prstGeom prst="downArrow">
            <a:avLst>
              <a:gd name="adj1" fmla="val 50000"/>
              <a:gd name="adj2" fmla="val 30652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155160" y="476712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2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3B39-DEE6-48AA-8804-0E275F795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nvironment for learning and the acquisition and exchange of knowledge and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pportunity for groups to interact, communicate, and share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 must have formal and informal opportunities for learning. Learning and the transfer of knowledge and information must be rewar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8DC8-6178-4C1B-B25B-2DA3B3527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 and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 Between Organizational Learning and Training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&amp; Development is an important element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rganizations exceed other organizations in terms of both training practices and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organizational learning is individu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D9F7-096D-4435-A47B-6DAE151FE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and 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90920" y="184644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590920" y="487692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556000" y="3363840"/>
            <a:ext cx="381636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11"/>
          <p:cNvCxnSpPr>
            <a:stCxn id="198" idx="3"/>
            <a:endCxn id="199" idx="3"/>
          </p:cNvCxnSpPr>
          <p:nvPr/>
        </p:nvCxnSpPr>
        <p:spPr>
          <a:xfrm flipH="1" flipV="1">
            <a:off x="6379560" y="3935160"/>
            <a:ext cx="29160" cy="1513440"/>
          </a:xfrm>
          <a:prstGeom prst="bentConnector3">
            <a:avLst>
              <a:gd name="adj1" fmla="val -77125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1" name="AutoShape 12"/>
          <p:cNvCxnSpPr>
            <a:stCxn id="198" idx="3"/>
            <a:endCxn id="197" idx="3"/>
          </p:cNvCxnSpPr>
          <p:nvPr/>
        </p:nvCxnSpPr>
        <p:spPr>
          <a:xfrm flipV="1">
            <a:off x="6408720" y="2417400"/>
            <a:ext cx="2160" cy="3031200"/>
          </a:xfrm>
          <a:prstGeom prst="bentConnector3">
            <a:avLst>
              <a:gd name="adj1" fmla="val 1390000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2" name="Line 14"/>
          <p:cNvSpPr/>
          <p:nvPr/>
        </p:nvSpPr>
        <p:spPr>
          <a:xfrm>
            <a:off x="4356000" y="2997360"/>
            <a:ext cx="0" cy="3603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4356000" y="4508640"/>
            <a:ext cx="0" cy="3603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6192-9351-4A83-9A6A-82739D00D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eaning and importance of learning in organizations and the management of knowledge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ive disciplines and principles of a learning organization were described as well as four dimensions necessary for creating and sustaining a learning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erent types of knowledge in organizations and intellectual capital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owledge management practices were describ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level systems model was described and connection of organizational learning to training and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BE9F-EB02-4B12-9785-4FC91BB16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of creating, sharing, diffusing, and applying knowledg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imply a focus on current needs or deficiencies, but a look to continuous 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-4.jpg"/>
          <p:cNvPicPr/>
          <p:nvPr/>
        </p:nvPicPr>
        <p:blipFill>
          <a:blip r:embed="rId1"/>
          <a:stretch/>
        </p:blipFill>
        <p:spPr>
          <a:xfrm>
            <a:off x="5715000" y="157176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754A-AFD5-4CF3-8208-5B36A1F63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0768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 organization that acquires, organizes, and shares information &amp; knowledge, and uses new information and knowledge to change its behaviour in order to achieve its objectives and improve its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transform itself by acquiring and disseminating new knowledge and skills throughout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3022-CE71-4274-AC18-285A1E11C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enhanced capacity to learn, adapt, and change its cul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ability to make sense of, and respond to, surround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results in continual improvemen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successfu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2-6.jpg"/>
          <p:cNvPicPr/>
          <p:nvPr/>
        </p:nvPicPr>
        <p:blipFill>
          <a:blip r:embed="rId1"/>
          <a:stretch/>
        </p:blipFill>
        <p:spPr>
          <a:xfrm>
            <a:off x="5786280" y="3571920"/>
            <a:ext cx="1717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6D72-D0C5-4AAB-8EF5-453450A3C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Discip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Shar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E5F6-9142-4633-B702-DD2F55383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inciple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body considered a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ople learn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part of a chan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formal and inform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a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2-8.jpg"/>
          <p:cNvPicPr/>
          <p:nvPr/>
        </p:nvPicPr>
        <p:blipFill>
          <a:blip r:embed="rId1"/>
          <a:stretch/>
        </p:blipFill>
        <p:spPr>
          <a:xfrm>
            <a:off x="5143680" y="3000240"/>
            <a:ext cx="36511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9327-C26F-45B5-9598-1D62E393B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ey Dimension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Systems/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ledge Management/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ccording to Conference Board of Canada - Table 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6:27Z</dcterms:modified>
  <cp:revision>194</cp:revision>
  <dc:subject>Saks and Haccoun 5 ed</dc:subject>
  <dc:title>Ch 2</dc:title>
</cp:coreProperties>
</file>