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650B-D3E0-43FC-925C-F72DAF5A8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FD6E-E80C-43F1-BB2B-962C1D883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F0CF-18F8-4D5A-BBC9-D603571EA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A46D-499B-4D7D-857A-582F0305D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5965-3619-4535-87E2-39AFDEE84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5794-1BEA-4A8B-BA7E-92073D5DB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11DA-0A07-4BE3-B31C-E4A998E01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A9C8-37FC-4F85-8653-4F620DEA1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45F0-E514-4526-AB9A-536108362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7475-F90C-4C17-A271-72FDDF5BC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E7AD-4AB4-499D-BA44-CD65EBC3C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3B2F-172C-455B-AD39-2D7A21EBB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C7A2-5901-4B3A-A914-A28944B42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69D1-E3B9-4C2E-859C-88889D320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CDA1-EF5B-4534-89A6-F2C5CADCAE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8BCD-AAAF-4941-B858-495DB4B7D8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CF72-4666-47D5-B2C7-3184757A3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41B5-F8A5-4383-8375-29F6BE087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F46A-4296-4A7F-B0CB-574F14B3A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9D6CB-DD7C-4507-9742-553A9635B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60FE-97F1-462A-AB54-0127EEED4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3FDA-6D20-422B-AF4F-63D3F604D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577E-79C2-4292-9AD2-6891703BC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356C-EBF9-4C4D-B9B7-D1A48110E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2412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5B10-6CE0-4C1B-AFFF-F8C2FD058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igh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chnology-B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8-1.jpg"/>
          <p:cNvPicPr/>
          <p:nvPr/>
        </p:nvPicPr>
        <p:blipFill>
          <a:blip r:embed="rId1"/>
          <a:stretch/>
        </p:blipFill>
        <p:spPr>
          <a:xfrm>
            <a:off x="2971800" y="37339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3E87-85A3-49D5-B45D-F92F06C9E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ss in which individuals or groups take the initiative and responsibility for learning and manage their own learning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ajor advantage of computer-based training is that it can be initiated and controlled by the trai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8-10.jpg"/>
          <p:cNvPicPr/>
          <p:nvPr/>
        </p:nvPicPr>
        <p:blipFill>
          <a:blip r:embed="rId1"/>
          <a:stretch/>
        </p:blipFill>
        <p:spPr>
          <a:xfrm>
            <a:off x="2971800" y="388620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EA21-F4BA-4F91-ABB7-A26D4D3A4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t one’s own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at is relevant to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independent with less dependence on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ccording to one’s own learning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earn wrong things or learn in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 time accessing and finding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time to gain SD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7339-80AB-48C7-BFBF-53FAECB64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synchronous &amp; Synchronou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based training can be asynchronous or synchro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ynchronous 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-programmed and available to the trainee at any time and from an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online course or multimedi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ynchron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ve and requires trainees to be at their computer at a specific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g., “chat” session or live “webin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7C77-A7AD-4719-AD49-CABF3A529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lectronic Performance Support System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PS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s an asynchronous system that provides information, advice, and learning experience on the job to improve perform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is only accessed when i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ly needed information is given; reduces information ov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high-turnover jobs or tasks that are difficult, infrequent and must be performed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bile technology applications increase use of E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69F9-59D7-4353-9839-93C2C3F84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Video and Web  Conferenc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training using two-way television, satellite or web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multaneously training at multiple lo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 dissemination of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site facilitator can address challenges with personal attention for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8-14.jpg"/>
          <p:cNvPicPr/>
          <p:nvPr/>
        </p:nvPicPr>
        <p:blipFill>
          <a:blip r:embed="rId1"/>
          <a:stretch/>
        </p:blipFill>
        <p:spPr>
          <a:xfrm>
            <a:off x="5334120" y="251460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CD43-8ABF-4BA8-A074-D30CD37AC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Video and Web Conferenc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echnology has created new opportunities for training over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inars are seminars or workshops taking place over the web with option for interactiv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casts are live or recorded audio or video broadcasts over the internet generally one-wa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webinars and webcasts can be synchronous or 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0295-FB9B-4EC8-81CF-262E4A5C8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s just the medium for delivering training and still rely on good design to ensur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many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-the-job instructional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built into computer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sign factors also important and are highlight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C9CB-08C5-439B-A294-427839AE0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he appeal, encourage practice, and facilitate discovery of patterns and relationships in the train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sim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rainees with hands-on training for a particular task as well as opportunities to practice and master knowledge and skills in an interac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Pl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rogram engaging and provide opportunity to experiment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5B06-B04C-444C-A26E-125F5D931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nvolve dialogue and characters liven up abstract concepts and increase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tailoring instructional elements to meet trainee preferences 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the use of conversational language, rather than formal language, helps trainees feel more engaged in a conversation with the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AF7A-C239-4C67-8EE8-7BF8D152E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Inter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structor and other online participants through chat rooms, discussion boards decreases feelings of isolation and increases 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in increasing learning. Can range from simple prompts to more complex quizzes, reviews or interaction with virtual or actual coach/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principles are identified in Trainer’s Notebook 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DC8F-5BBD-4E6D-AF6E-F60741967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echnology-based training and traditional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ifferent methods of technology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instructor-led and self-direc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give examples of asynchronous and synchronou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B2B1-EB3C-40FB-9B08-1EC2BA813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for train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ll the time (just-in-time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earner control over content, sequence and pa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acing allows for progress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flexibility and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comfort with ow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at work or away fro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ravel time; greater geographical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66D6-5DF6-4AC5-A6B2-D7714354F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for organ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rainees receive the sam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rge numbers can be trained in a shor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ditional constraints around classrooms ar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 across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ck trainee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33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ful for lega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efficiencies and 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F07D-A2A1-42A1-83F3-350F53B15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Technology-Based Training: Disadvantage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traine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ess interpersonal conta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Doesn’t support all learning sty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otential computer illiter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organiz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Resistance to tech-based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st of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8-22.jpg"/>
          <p:cNvPicPr/>
          <p:nvPr/>
        </p:nvPicPr>
        <p:blipFill>
          <a:blip r:embed="rId1"/>
          <a:stretch/>
        </p:blipFill>
        <p:spPr>
          <a:xfrm>
            <a:off x="6746760" y="175248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C038-3A66-4084-A136-1A23CAEE6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How Effective is Tech-Based Training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e number of variables in determining effectiveness and inconclusive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chnology-based training not considered superior to tradition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declarative and procedur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s effective for learning complex material, soft skills, psychomotor skills, or team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motivation plays a significant role in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8E22-8ABB-40BB-9781-8210BBCD2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model of learning emerging known a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constructivis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hich emphasizes the learner and learning through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ergence of new learning technology that facilitates social constructivism in particular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 2.0 is a set of internet tools that enable sharing, creation of knowledge and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communities of practice and informal learning as discussed in Ch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3B7A-9950-4193-A4B1-E7D854799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pular Web 2.0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log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journal style websites that contain commentary and information on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iki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webpage or collection of web pages in which users share, contribute, and modify information on a topi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4A17-6D37-49B5-826C-213C8E411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dcast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hort audio or video recording that can be downloaded and played on a mobile device such as iPod or 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bile learning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ees access learning where and when they want to using an mp3, iPod, or smart phone in an “on-demand”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42E7-F440-4B90-A918-E88F18CD3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technology for learning continues to advance; yet demise of traditional methods not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o use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to blend it with tradition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raditional methods ar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swer lie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nt of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ig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B270-4DF6-435C-A5B9-3396C67B0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based training methods were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rve as a complement to off-the-job and on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s between Instructor Led and Self Directed training, and asynchronous and synchronous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3D66-34A6-4BD1-B0B4-17715973B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involved in the design of technology based training were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and the relative effectiveness of the various method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2.0 learning tools and mobile learning and their facilitation of Social Constructivism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1631-9686-4C83-B4F8-0BC8A7F71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discuss computer-based training, e-learning, electronic performance support systems, and video and Web 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sign computer-based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vantages and disadvantage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effectivenes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uture of technology-based training and describe Web 2.0 tools and mobil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01FB-483E-42E1-B315-F60E6DC15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-based training is training that involves using technology to deliver courses (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t types of technology-based training have evolved as technology itself evol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8-4.jpg"/>
          <p:cNvPicPr/>
          <p:nvPr/>
        </p:nvPicPr>
        <p:blipFill>
          <a:blip r:embed="rId1"/>
          <a:stretch/>
        </p:blipFill>
        <p:spPr>
          <a:xfrm>
            <a:off x="5603760" y="1523880"/>
            <a:ext cx="35402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74B0-F379-4947-996C-A9AA9575E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ypes of technology-based trai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self-study with CD-Rom,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erformance sup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/Audio/Tele-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or broadcast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17080" y="5749920"/>
            <a:ext cx="1976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8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7BEF-B470-4829-BDA9-DEE41639C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echnology-Based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training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training that does not involve using technology to deliver learning (regardless of the instructor or learners use of technology in the class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B099-DEF1-4335-8241-6FF395F2C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revalence of Technology-Based Training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echnology for training has increased In Canada over the past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zations have made major advances in using technology-based training as their primary sour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n Canada and the U.S. the use of learning technology represents 16% of all formal train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raining technology is becoming more popular albeit at a relatively slow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5410-86B0-4DED-88B9-29C9F0750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uter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puter-based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that is delivered via the computer for the purpose of teaching job-relevant knowledg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lear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computer network technology such as the intranet or Internet to deliver information or instruction to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 is a specific type of computer based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E344-BAC4-4A69-8884-93FAE4000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or-L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methods that involve an instructor or facilitator who, in the case of technology-based training, leads, facilitates, or trains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egree of involvement of the instructor in ILT can vary from full control to advisory or re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8-9.jpg"/>
          <p:cNvPicPr/>
          <p:nvPr/>
        </p:nvPicPr>
        <p:blipFill>
          <a:blip r:embed="rId1"/>
          <a:stretch/>
        </p:blipFill>
        <p:spPr>
          <a:xfrm>
            <a:off x="2895480" y="3962520"/>
            <a:ext cx="341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Tilley, Paul (C'ville)</cp:lastModifiedBy>
  <dcterms:modified xsi:type="dcterms:W3CDTF">2013-11-13T13:03:33Z</dcterms:modified>
  <cp:revision>326</cp:revision>
  <dc:subject/>
  <dc:title>Chapter 8</dc:title>
</cp:coreProperties>
</file>