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58C0-DA74-414A-BEE5-EA8875C7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6F69-5024-4ADD-BD7D-59ADD69E4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8360-77A9-4084-88DB-B91EE2E3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962F-3C2F-46F5-B3D3-D1DE4F489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4F08-C1A0-4271-BD80-A1E93F6BA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BE41-9993-4FB6-8D43-4CF4E2E3C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4DA-1209-42AF-BCEC-FB892B289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E55F-B210-4EC0-A5CC-D515B1151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0A35-C33B-421F-8E73-2035FF9E4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E7C5-B122-4CB4-AD56-E57B15A37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688D-F155-434C-B7D8-1BE84345A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10383-538F-4669-A1F9-52AD22740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6592-9070-48C2-BAAF-5A675E0AD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DB61-A57D-41AC-A8E6-9D8B383DB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07AF-CF11-44ED-9847-9749AC5A18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A970-E367-4B15-A761-39CF2B5FB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35A3D-BE1E-4C86-B1D6-8BC937562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772B-01C3-4594-A60B-CDB68F52E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13CA-27F7-4763-8BB4-6C04BC4DD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5786-FA53-4B4E-A058-8F0AC6790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1C17-C3C9-41F4-A705-D025BAF77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DA03-E0EA-4636-AADA-88A70DDF6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1FBF-AAB0-4EFD-A4B2-07149142A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2DB5-7C03-43EE-9D08-4BA0FB759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7572-8510-4DB5-9CC4-E11F99AE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7598-089E-4F75-B713-3D04F93F6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C3BF-1CD9-402F-AD41-7206F8752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2A8D-096D-4A89-A081-CD15BC0E6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B4DD-EF4E-4A5F-984E-B1C84B15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00EA-C886-42DD-8345-5708696E0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8B59-C9DC-41C1-A673-15CB7EC90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D16A-3275-4859-8E26-240C6EE70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08A2-0AE0-419C-ABB5-3B0C0A827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3C84-D41B-42FC-BB63-8CC37EDD4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C548-D1C6-4479-B422-6EB5E10B6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3E01-B971-46C1-BC91-DDBEB1FC2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7CC8-5A9A-43B3-8810-1B48C1354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8983-A0FD-4CBA-AB1B-9B21ED351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3006-1C62-41D6-9AEA-516BFDE4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1827-8218-455E-87FD-ABA4F629E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6E0C-BFB2-4380-9E06-B39FC24EE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5E27-E530-43BE-BC6A-A6C3502E7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95D8-4D7B-46A2-827C-462E61F37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6DD6-C61E-4340-A913-CA5501981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99A7-5D93-448D-85A0-94BA6767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1566-B964-4AF8-938D-72913A08E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C4A0-2442-48D2-8399-9F19D6E9D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FEB4-DC12-41C5-A4F6-B0B6A9D7F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F4F8-808A-49E0-9DFB-D6A1A8FDB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E88A-2F13-4FC2-B593-5AAEBD4B7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F31-0D6C-41A1-B717-EADC6BE94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18DE-310B-4ECC-9683-48815EA56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2607-6C7C-430A-944D-5287C575A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Tilley, Paul (C'ville)</cp:lastModifiedBy>
  <dcterms:modified xsi:type="dcterms:W3CDTF">2013-11-13T13:03:33Z</dcterms:modified>
  <cp:revision>326</cp:revision>
  <dc:subject/>
  <dc:title>Chapter 8</dc:title>
</cp:coreProperties>
</file>