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08B6-DF55-4C9F-8543-4878F6796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6F39-1B35-4329-867C-E9152E57D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14E3-F04A-4B3C-88D7-B57F5F92C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C39C-6758-47A9-9BAD-C8DC28C0C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6BBE-07D3-4BB8-9506-DE3747764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7D58-BB6C-443A-98A9-3394A6958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EE67-95F0-43E0-B5C3-16C7A196B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A71E-F521-4FC8-A5F1-93FB88A11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303A-D217-4483-89F6-1087049F1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5E76-F14A-4519-AAFF-C7131F499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D4B2-4152-462A-8524-A1E2852A2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FB42-E345-44B6-879D-BC941A9B0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8DD3A-B6F6-4F53-82D5-07EE5672A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2072-91FE-4AAD-BD41-436AF4497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A12B7-5C3A-472C-BDEC-641A31D047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5A5B-FAFA-4F5E-8F67-E1F89EB4D8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3119-D880-4D45-8D71-69DCA3FCD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855D9-0129-4B7C-AE1F-6FEE0EAD3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5EF9-58F5-4D4E-9124-27F37C0CC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3520D-0D09-4620-B29B-C014C76BB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9BEA-D1F8-4744-B9EF-97DB9CDEF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B151-49B6-47B9-8E74-D0C284794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00A4-C162-433D-8898-FDA647B61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50E1-9EBF-44C7-8101-85A84C34C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324120"/>
            <a:ext cx="4952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0567-50B0-49F9-9716-CAAB72478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Eigh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chnology-Ba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8-1.jpg"/>
          <p:cNvPicPr/>
          <p:nvPr/>
        </p:nvPicPr>
        <p:blipFill>
          <a:blip r:embed="rId1"/>
          <a:stretch/>
        </p:blipFill>
        <p:spPr>
          <a:xfrm>
            <a:off x="2971800" y="3733920"/>
            <a:ext cx="3476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F5C9-C487-40B9-954F-111578045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ocess in which individuals or groups take the initiative and responsibility for learning and manage their own learning exper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major advantage of computer-based training is that it can be initiated and controlled by the trai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8-10.jpg"/>
          <p:cNvPicPr/>
          <p:nvPr/>
        </p:nvPicPr>
        <p:blipFill>
          <a:blip r:embed="rId1"/>
          <a:stretch/>
        </p:blipFill>
        <p:spPr>
          <a:xfrm>
            <a:off x="2971800" y="3886200"/>
            <a:ext cx="334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B163-772A-46E2-BFF3-897CD1F46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lex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t one’s own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what is relevant to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independent with less dependence on form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ccording to one’s own learning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earn wrong things or learn in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 time accessing and finding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time to gain SD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F7C1-11B7-4D3E-A235-47E9EBA5F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synchronous &amp; Synchronou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based training can be asynchronous or synchron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ynchronous 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e-programmed and available to the trainee at any time and from an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online course or multimedi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ynchron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ve and requires trainees to be at their computer at a specific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g., “chat” session or live “webin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815C-A1FB-4C7A-B0B2-EF8360A49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lectronic Performance Support System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PS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s an asynchronous system that provides information, advice, and learning experience on the job to improve performa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is only accessed when it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ly needed information is given; reduces information over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high-turnover jobs or tasks that are difficult, infrequent and must be performed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bile technology applications increase use of E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7321-333F-4B07-BFBC-B819C140B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Video and Web  Conferenc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nchronous training using two-way television, satellite or web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multaneously training at multiple lo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apid dissemination of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 site facilitator can address challenges with personal attention for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8-14.jpg"/>
          <p:cNvPicPr/>
          <p:nvPr/>
        </p:nvPicPr>
        <p:blipFill>
          <a:blip r:embed="rId1"/>
          <a:stretch/>
        </p:blipFill>
        <p:spPr>
          <a:xfrm>
            <a:off x="5334120" y="2514600"/>
            <a:ext cx="38098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972B-6516-4C4B-B27C-F282BA293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Video and Web Conferenc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technology has created new opportunities for training over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inars are seminars or workshops taking place over the web with option for interactiv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casts are live or recorded audio or video broadcasts over the internet generally one-way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webinars and webcasts can be synchronous or a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ECC2-D001-444A-8354-383BF22B9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is just the medium for delivering training and still rely on good design to ensur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s of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well as many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-the-job instructional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built into computer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esign factors also important and are highlighted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0762-BB11-47F6-91A6-38A43BAA5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 the appeal, encourage practice, and facilitate discovery of patterns and relationships in the training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simu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trainees with hands-on training for a particular task as well as opportunities to practice and master knowledge and skills in an interactiv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 Play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program engaging and provide opportunity to experiment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519A-4914-423C-86BC-A8D0DC425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nvolve dialogue and characters liven up abstract concepts and increase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tailoring instructional elements to meet trainee preferences an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the use of conversational language, rather than formal language, helps trainees feel more engaged in a conversation with the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E662-80A1-402D-BE54-765FCF512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Inter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nstructor and other online participants through chat rooms, discussion boards decreases feelings of isolation and increases moti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mportant in increasing learning. Can range from simple prompts to more complex quizzes, reviews or interaction with virtual or actual coach/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principles are identified in Trainer’s Notebook 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1C1F-9339-4169-AD5D-A2A0501A9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echnology-based training and traditional trai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different methods of technology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 instructor-led and self-direct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give examples of asynchronous and synchronou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CB8A-9AE6-4D83-BC43-396060D49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for train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ll the time (just-in-time 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learner control over content, sequence and pa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pacing allows for progress at own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flexibility and 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comfort with ow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learn at work or away from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travel time; greater geographical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2ACC-ACD5-4D70-8C5C-7426C0E66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tages for organ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trainees receive the sam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rge numbers can be trained in a shor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ditional constraints around classrooms are eli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 across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ck trainees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33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ful for lega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efficiencies and cost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94B9-EC7B-4662-9715-EB3E56FCA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Technology-Based Training: Disadvantages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traine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Less interpersonal conta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Doesn’t support all learning sty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Potential computer illitera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organiz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Resistance to tech-based trai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Cost of develop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8-22.jpg"/>
          <p:cNvPicPr/>
          <p:nvPr/>
        </p:nvPicPr>
        <p:blipFill>
          <a:blip r:embed="rId1"/>
          <a:stretch/>
        </p:blipFill>
        <p:spPr>
          <a:xfrm>
            <a:off x="6746760" y="1752480"/>
            <a:ext cx="2397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DED0-26BD-4FCA-8FD7-28D9DEEAA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How Effective is Tech-Based Training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de number of variables in determining effectiveness and inconclusive at 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chnology-based training not considered superior to traditional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declarative and procedur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as effective for learning complex material, soft skills, psychomotor skills, or team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motivation plays a significant role in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BD77-A81A-4DB3-9F25-0093FA203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model of learning emerging known as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ocial constructivis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which emphasizes the learner and learning through 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ergence of new learning technology that facilitates social constructivism in particular Web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b 2.0 is a set of internet tools that enable sharing, creation of knowledge and collab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s for communities of practice and informal learning as discussed in Ch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6E21-F5D5-41BB-8DD6-4CC251B2D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pular Web 2.0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log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 journal style websites that contain commentary and information on a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iki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webpage or collection of web pages in which users share, contribute, and modify information on a topic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D143-E54A-4DF9-961C-942200339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dcast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hort audio or video recording that can be downloaded and played on a mobile device such as iPod or cell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obile learning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inees access learning where and when they want to using an mp3, iPod, or smart phone in an “on-demand”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BA6F-65BF-43EB-AED0-E49CF971A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technology for learning continues to advance; yet demise of traditional methods not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ey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o use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to blend it with traditional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raditional methods ar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swer lies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objec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nt of trai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sig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67F2-71EB-4DF4-B72F-E875817C4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based training methods were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erve as a complement to off-the-job and on-the-job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s between Instructor Led and Self Directed training, and asynchronous and synchronous train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33DD-AE86-4DAF-B483-F0402F5D3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involved in the design of technology based training were 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and disadvantages and the relative effectiveness of the various methods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2.0 learning tools and mobile learning and their facilitation of Social Constructivism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9176-1CFE-4560-9FD5-E0BC191F4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discuss computer-based training, e-learning, electronic performance support systems, and video and Web 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o design computer-based training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advantages and disadvantage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effectivenes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uture of technology-based training and describe Web 2.0 tools and mobil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7116-F49D-4CA8-8C44-7176FAB80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echnology-based training is training that involves using technology to deliver courses (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ferent types of technology-based training have evolved as technology itself evol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8-4.jpg"/>
          <p:cNvPicPr/>
          <p:nvPr/>
        </p:nvPicPr>
        <p:blipFill>
          <a:blip r:embed="rId1"/>
          <a:stretch/>
        </p:blipFill>
        <p:spPr>
          <a:xfrm>
            <a:off x="5603760" y="1523880"/>
            <a:ext cx="35402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D5ED-F88F-4D96-97DF-BC4212B7A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ypes of technology-based train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ized self-study with CD-Rom, 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performance suppor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edia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/Audio/Tele-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ellite or broadcast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817080" y="5749920"/>
            <a:ext cx="1976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8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54B9-A456-417B-A909-2168CA1C4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echnology-Based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n 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training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training that does not involve using technology to deliver learning (regardless of the instructor or learners use of technology in the class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1930-005B-4BBB-96F4-EC941BBE8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Prevalence of Technology-Based Training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technology for training has increased In Canada over the past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rganizations have made major advances in using technology-based training as their primary sour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n Canada and the U.S. the use of learning technology represents 16% of all formal train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raining technology is becoming more popular albeit at a relatively slow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426A-6105-492F-8C76-1B184F8DD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mputer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puter-based trai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raining that is delivered via the computer for the purpose of teaching job-relevant knowledge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lear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computer network technology such as the intranet or Internet to deliver information or instruction to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learning is a specific type of computer based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8420-AF57-4A2F-8055-290570431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or-L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methods that involve an instructor or facilitator who, in the case of technology-based training, leads, facilitates, or trains on-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degree of involvement of the instructor in ILT can vary from full control to advisory or resou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8-9.jpg"/>
          <p:cNvPicPr/>
          <p:nvPr/>
        </p:nvPicPr>
        <p:blipFill>
          <a:blip r:embed="rId1"/>
          <a:stretch/>
        </p:blipFill>
        <p:spPr>
          <a:xfrm>
            <a:off x="2895480" y="3962520"/>
            <a:ext cx="3413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Tilley, Paul (C'ville)</cp:lastModifiedBy>
  <dcterms:modified xsi:type="dcterms:W3CDTF">2013-11-13T13:03:33Z</dcterms:modified>
  <cp:revision>326</cp:revision>
  <dc:subject/>
  <dc:title>Chapter 8</dc:title>
</cp:coreProperties>
</file>