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1B0C-B203-40F4-97D7-7E9E86192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572F-732D-4E30-B2EA-704A19CCD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F5D4-A65D-407B-9B3B-6C81234C8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17C1-C749-44D1-A1CC-F566840BC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1C00-E9F8-40E3-B15A-DED7622E4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157B-F1CA-48E4-8872-D4958292E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48CB-6F63-4BD3-96AA-6640FA89F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7F3C-7249-4E9A-B855-800F90CC7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7784-249C-4324-AFA8-0E3173025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D3AD-4645-4306-8B29-54E6CF7AF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30E3-75F0-4760-B359-886EAF1C3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A246-22BD-4752-9D72-B2EEC29A2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975C-8293-4ACC-BD11-9673403D54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CFAA-9B38-4891-89A1-98A6B1341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6923-24D4-4B9F-87EB-7FAAC61C54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D4F2-D22D-4E5F-99EF-CADD422813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0E08-E386-45DC-878B-A5746DDC3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4754-56F3-4C3C-B7F6-694A180516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56FD-BB88-46E5-BFC8-B8C75A1E0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5FD99-5454-4BB9-AFA8-AE276F21A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C383-E342-4722-A542-257F0AACC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48CC-B983-4D5E-829D-FDAA55D0A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D462-86F2-424D-B8E1-78A02CCCC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2FD9-0A90-46A1-8BAB-ADF243688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324120"/>
            <a:ext cx="4952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2CA4-8619-470F-879F-E518D84EF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Eigh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chnology-Ba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8-1.jpg"/>
          <p:cNvPicPr/>
          <p:nvPr/>
        </p:nvPicPr>
        <p:blipFill>
          <a:blip r:embed="rId1"/>
          <a:stretch/>
        </p:blipFill>
        <p:spPr>
          <a:xfrm>
            <a:off x="2971800" y="3733920"/>
            <a:ext cx="34765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1401-C451-444F-AFD4-E12F16A96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ocess in which individuals or groups take the initiative and responsibility for learning and manage their own learning exper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major advantage of computer-based training is that it can be initiated and controlled by the trai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8-10.jpg"/>
          <p:cNvPicPr/>
          <p:nvPr/>
        </p:nvPicPr>
        <p:blipFill>
          <a:blip r:embed="rId1"/>
          <a:stretch/>
        </p:blipFill>
        <p:spPr>
          <a:xfrm>
            <a:off x="2971800" y="3886200"/>
            <a:ext cx="334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9116-38DB-4171-A99C-074D648ED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lex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t one’s own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what is relevant to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independent with less dependence on form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ccording to one’s own learning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earn wrong things or learn in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 time accessing and finding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akes time to gain SD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24A7-00BA-4E24-879D-BC315ADB2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synchronous &amp; Synchronou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based training can be asynchronous or synchron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ynchronous 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e-programmed and available to the trainee at any time and from any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online course or multimedi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ynchron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ve and requires trainees to be at their computer at a specific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g., “chat” session or live “webin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9E01-F3E0-44D5-9FC1-02AA02072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lectronic Performance Support System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PS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s an asynchronous system that provides information, advice, and learning experience on the job to improve performa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is only accessed when it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ly needed information is given; reduces information over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high-turnover jobs or tasks that are difficult, infrequent and must be performed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bile technology applications increase use of E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23E8-FFEE-408C-B466-D3890D4F2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Video and Web  Conferenc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nchronous training using two-way television, satellite or web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multaneously training at multiple lo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apid dissemination of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 site facilitator can address challenges with personal attention for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8-14.jpg"/>
          <p:cNvPicPr/>
          <p:nvPr/>
        </p:nvPicPr>
        <p:blipFill>
          <a:blip r:embed="rId1"/>
          <a:stretch/>
        </p:blipFill>
        <p:spPr>
          <a:xfrm>
            <a:off x="5334120" y="2514600"/>
            <a:ext cx="38098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06A0-01C4-4671-B59C-6A5A1C331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Video and Web Conferenc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technology has created new opportunities for training over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inars are seminars or workshops taking place over the web with option for interactiv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casts are live or recorded audio or video broadcasts over the internet generally one-way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webinars and webcasts can be synchronous or asynchr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D2DA-84E2-4BFA-9E5D-C45095834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is just the medium for delivering training and still rely on good design to ensur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s of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well as many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-the-job instructional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built into computer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esign factors also important and are highlighted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48A8-32A5-4434-A287-998A64DA0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 the appeal, encourage practice, and facilitate discovery of patterns and relationships in the training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simu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trainees with hands-on training for a particular task as well as opportunities to practice and master knowledge and skills in an interactiv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 Play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program engaging and provide opportunity to experiment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5B80-737A-4644-AAB2-F09F8BAE2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nvolve dialogue and characters liven up abstract concepts and increase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es tailoring instructional elements to meet trainee preferences an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the use of conversational language, rather than formal language, helps trainees feel more engaged in a conversation with the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A68C-6338-4BB4-B02C-98DC47EEA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Inter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nstructor and other online participants through chat rooms, discussion boards decreases feelings of isolation and increases moti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mportant in increasing learning. Can range from simple prompts to more complex quizzes, reviews or interaction with virtual or actual coach/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principles are identified in Trainer’s Notebook 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DB7E-242A-4485-B7FC-C43B8E094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echnology-based training and traditional train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different methods of technology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 instructor-led and self-direct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give examples of asynchronous and synchronou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9080-F8E9-4232-8B16-DBC1AB3C5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for train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ll the time (just-in-time 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learner control over content, sequence and pa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pacing allows for progress at own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flexibility and 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comfort with ow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learn at work or away from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travel time; greater geographical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9D5D-A9A7-458C-9332-39F960B0F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tages for organ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trainees receive the sam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rge numbers can be trained in a shor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ditional constraints around classrooms are eli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 across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ck trainees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33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ful for lega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efficiencies and cost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52C5-A9A3-4FF8-845A-6842640FC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Technology-Based Training: Disadvantages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traine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Less interpersonal conta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Doesn’t support all learning sty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Potential computer illitera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organiz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Resistance to tech-based trai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Cost of develop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8-22.jpg"/>
          <p:cNvPicPr/>
          <p:nvPr/>
        </p:nvPicPr>
        <p:blipFill>
          <a:blip r:embed="rId1"/>
          <a:stretch/>
        </p:blipFill>
        <p:spPr>
          <a:xfrm>
            <a:off x="6746760" y="1752480"/>
            <a:ext cx="2397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E76F-1AE5-4A2B-AB47-234089D09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How Effective is Tech-Based Training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de number of variables in determining effectiveness and inconclusive at 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chnology-based training not considered superior to traditional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declarative and procedur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as effective for learning complex material, soft skills, psychomotor skills, or team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motivation plays a significant role in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71B4-F4FC-46E5-9E98-C4F397666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model of learning emerging known as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ocial constructivis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which emphasizes the learner and learning through 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ergence of new learning technology that facilitates social constructivism in particular Web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b 2.0 is a set of internet tools that enable sharing, creation of knowledge and collab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s for communities of practice and informal learning as discussed in Ch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0058-CCCF-467E-9A3E-1ACE455BD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pular Web 2.0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log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 journal style websites that contain commentary and information on a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iki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webpage or collection of web pages in which users share, contribute, and modify information on a topic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0D83-0BB3-43CC-8784-CFE936677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dcast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hort audio or video recording that can be downloaded and played on a mobile device such as iPod or cell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obile learning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inees access learning where and when they want to using an mp3, iPod, or smart phone in an “on-demand”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6FD5-B7D8-47D4-9B6A-8C3B57EA5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technology for learning continues to advance; yet demise of traditional methods not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ey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o use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to blend it with traditional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raditional methods ar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swer lies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objec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nt of trai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sig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774E-A259-4344-BB2D-E0BB7451D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based training methods were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erve as a complement to off-the-job and on-the-job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s between Instructor Led and Self Directed training, and asynchronous and synchronous train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4692-2A77-452D-8B89-CCD4DB833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involved in the design of technology based training were discu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and disadvantages and the relative effectiveness of the various methods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2.0 learning tools and mobile learning and their facilitation of Social Constructivism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2CF5-47EC-4F48-B5C5-FC3E199A5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discuss computer-based training, e-learning, electronic performance support systems, and video and Web 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o design computer-based training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advantages and disadvantage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effectivenes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uture of technology-based training and describe Web 2.0 tools and mobil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EAAF-17C5-4D46-98C6-2028EF930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echnology-based training is training that involves using technology to deliver courses (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ferent types of technology-based training have evolved as technology itself evol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8-4.jpg"/>
          <p:cNvPicPr/>
          <p:nvPr/>
        </p:nvPicPr>
        <p:blipFill>
          <a:blip r:embed="rId1"/>
          <a:stretch/>
        </p:blipFill>
        <p:spPr>
          <a:xfrm>
            <a:off x="5603760" y="1523880"/>
            <a:ext cx="35402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A5A0-3A18-451B-BADD-C176D0D9C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ypes of technology-based train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ized self-study with CD-Rom, D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performance suppor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media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/Audio/Tele-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ellite or broadcast 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817080" y="5749920"/>
            <a:ext cx="1976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8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C008-F317-4F55-A4B1-E90FB0230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echnology-Based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n 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training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training that does not involve using technology to deliver learning (regardless of the instructor or learners use of technology in the class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A9D5-1087-4F43-BE66-47753C07D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Prevalence of Technology-Based Training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technology for training has increased In Canada over the past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rganizations have made major advances in using technology-based training as their primary sour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in Canada and the U.S. the use of learning technology represents 16% of all formal train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raining technology is becoming more popular albeit at a relatively slow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68FB-10AE-4194-A858-7ABE0AEB4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mputer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puter-based trai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raining that is delivered via the computer for the purpose of teaching job-relevant knowledge an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lear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computer network technology such as the intranet or Internet to deliver information or instruction to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learning is a specific type of computer based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5785-48F5-4EEB-B713-826346D4D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or-L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methods that involve an instructor or facilitator who, in the case of technology-based training, leads, facilitates, or trains on-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degree of involvement of the instructor in ILT can vary from full control to advisory or resou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8-9.jpg"/>
          <p:cNvPicPr/>
          <p:nvPr/>
        </p:nvPicPr>
        <p:blipFill>
          <a:blip r:embed="rId1"/>
          <a:stretch/>
        </p:blipFill>
        <p:spPr>
          <a:xfrm>
            <a:off x="2895480" y="3962520"/>
            <a:ext cx="3413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7T23:27:20Z</dcterms:modified>
  <cp:revision>326</cp:revision>
  <dc:subject/>
  <dc:title>Chapter 8</dc:title>
</cp:coreProperties>
</file>