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ECA-2ABC-411B-8F69-A6C2DC766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BEA2-A881-4564-9CC3-B4D894B8B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7C1B-4B8A-481E-A244-BD763CBF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F955-AE4F-44F7-8B24-D7FEAE0D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53C9-672C-474D-8FDE-C4D11134C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A8A1-0E17-4405-A152-A63CA6257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130A-29A4-4A8A-B9BB-2BD16F080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E92-3986-42CA-A73F-9D2E823FA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646E-2BAC-4458-894D-039524D17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A868-ABEF-4C08-B79E-B1016D0CA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EBC9-1DCC-4193-8653-89B2C7E2D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4E4E-F42F-48A4-B599-2D84251D3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8C04-2304-40C8-AA98-9C0E2165C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6BCF-D322-47C0-B26B-A11CCB4F3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E4D2-A7A9-40CF-BE7D-1861E7E33D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FB30-AD66-4009-90B6-DBD55E778F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D370-45A8-426F-977E-0ED92EC30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440C-0318-45E1-918D-0714FD3D9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5E99-4053-4C4D-B68C-A4D606B39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A958-EF17-4E8C-9EAF-DD9C542FF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0646-66A9-4986-BBCB-E699D7606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CC3C-C3D5-466B-83D5-740F0B0EB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8B8F-09C7-48A5-B6C2-5CC4368D4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4138-8384-4C41-9AE5-EB2E690FA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2652-96F5-4FC7-9878-EBF26775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5492-A27A-4BAC-8341-E3AA9437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8A08-1E99-4F49-B377-C028B7AB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AAF4-F97A-4A89-A6C4-2AEA9689B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E445-F78E-479F-A158-39A1EDB59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9D01-A3AD-424A-BDFB-D5078E4E0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088D-C38F-4790-9EBD-9D5F2541D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4B79-7C2B-439C-A73A-3FCF764EC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42BE-BBC3-40BF-AD13-9A26DCF1D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DC53-A141-4B95-914C-1AAEA457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465-0A76-4A33-9536-E1EB612F0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E371-4BEE-4F9D-B5E6-FE1BDB6C1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67BA-CFAC-4089-9114-7E75DB664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3B2-D8CC-4C38-B3AC-AC759359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3982-2DA0-491C-95DE-7178DCF03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8D57-8D02-4135-AC03-F5C74893B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541F-19DF-47AA-8888-5FB9DD2AC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0761-B5EC-41CD-85EC-D39828818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4CBD-4276-4C5B-8B29-E21D9DAEE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924-D867-4D3E-BAB9-874EAA999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9E67-5CE9-4346-A374-DAB92B452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65D-0CCB-45AA-9019-8451B1543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CEF4-CE24-45C2-97C8-3969C48F5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94CA-FADE-465F-9224-E8D0435D1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23ED-068D-45EC-8E4A-DE1C17AF2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4AC-EE50-4F06-BA2C-9E21A293A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0662-31BE-4EDD-B52E-7A974E2E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4D82-4134-4D6F-BAF9-2D09EA2C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7EEB-2EC3-45BB-8B37-742AADA9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27:20Z</dcterms:modified>
  <cp:revision>326</cp:revision>
  <dc:subject/>
  <dc:title>Chapter 8</dc:title>
</cp:coreProperties>
</file>