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460F8-54E4-41B6-B737-4AB59EAF4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E45CE-E144-42F5-81CD-A516172FE7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A7BAC-20A9-4DA9-A1AF-8912DEDFD1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890D9-F8A4-4118-9B44-A6D1E0AE5D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DD76B-7078-4D0D-9C3D-5B54DC6AF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C7FF5-9932-406B-9AD3-3D733D2D6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34E4D-85AB-4646-BBE7-A6E4821C7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718F6-3491-4BF1-BD97-18F344F9A1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21313-7AE1-4B57-9072-E752AACCAC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2DCD7-E867-4660-AF3E-7E3C62ABFA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3B87D-0FED-4BAB-A26F-D02BF929E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05F97-6351-4F7E-93C3-FAAEBBAB99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BEBDC-1894-4C07-AD1C-92C13AB1CC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7BF3F-6BE0-4866-AB46-C2324E1924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288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5752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24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288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5752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DCCB2-5534-48E2-81F3-87FB146628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512E2-320A-414A-9D3B-32C6C3671D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7B50A-28F8-4D96-A937-70D359CA10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986FC-E5BA-4960-896E-2AEFF83A16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9B1FF-827B-4243-8074-7ACDECBF58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24080" y="-36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AD296-64F4-4D90-B3AB-956899BA00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A3781-5A32-40B8-B172-B8F14584CB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EEFBE-DEC0-4E0D-943F-B35EC410A1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55797-EEAE-42C5-92ED-EA61B3328A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ECB72-0796-4F20-8627-A90AAF1AE3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6000" y="6324120"/>
            <a:ext cx="49528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1DBB0-4F5C-429E-8477-587570FAB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hapter Eigh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chnology-Base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ining Metho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8-1.jpg"/>
          <p:cNvPicPr/>
          <p:nvPr/>
        </p:nvPicPr>
        <p:blipFill>
          <a:blip r:embed="rId1"/>
          <a:stretch/>
        </p:blipFill>
        <p:spPr>
          <a:xfrm>
            <a:off x="2971800" y="3733920"/>
            <a:ext cx="34765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CC13E-EB53-4D6E-8650-D7C9D8083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ooter Placeholder 5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elf-Directed Lear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Process in which individuals or groups take the initiative and responsibility for learning and manage their own learning experi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 major advantage of computer-based training is that it can be initiated and controlled by the train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8-10.jpg"/>
          <p:cNvPicPr/>
          <p:nvPr/>
        </p:nvPicPr>
        <p:blipFill>
          <a:blip r:embed="rId1"/>
          <a:stretch/>
        </p:blipFill>
        <p:spPr>
          <a:xfrm>
            <a:off x="2971800" y="3886200"/>
            <a:ext cx="3348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4587E-5D72-42E8-8836-DD456CB48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ooter Placeholder 5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elf-Directed Lear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8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flexi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at one’s own 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what is relevant to their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ome independent with less dependence on formal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according to one’s own learning st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62080" y="1599840"/>
            <a:ext cx="438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imi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learn wrong things or learn incomple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te time accessing and finding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takes time to gain SDL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0F5F1-0B18-4BD9-A89C-9E9FDF05E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Asynchronous &amp; Synchronous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uter based training can be asynchronous or synchrono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raining 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synchronous i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pre-programmed and available to the trainee at any time and from any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1120" indent="-44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online course or multimedia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raining 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ynchronou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ve and requires trainees to be at their computer at a specific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1120" indent="-447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.g., “chat” session or live “webin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FCBB8-C133-4FAB-9333-7B9F220E67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Electronic Performance Support System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EPS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is an asynchronous system that provides information, advice, and learning experience on the job to improve performance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formation is only accessed when it i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nly needed information is given; reduces information over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ffective for high-turnover jobs or tasks that are difficult, infrequent and must be performed perf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obile technology applications increase use of EP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C83A5-D356-4D21-85E7-E4AA1DEDE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ooter Placeholder 5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Video and Web  Conferenc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5410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ynchronous training using two-way television, satellite or web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394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imultaneously training at multiple loc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394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apid dissemination of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394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n site facilitator can address challenges with personal attention for train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8-14.jpg"/>
          <p:cNvPicPr/>
          <p:nvPr/>
        </p:nvPicPr>
        <p:blipFill>
          <a:blip r:embed="rId1"/>
          <a:stretch/>
        </p:blipFill>
        <p:spPr>
          <a:xfrm>
            <a:off x="5334120" y="2514600"/>
            <a:ext cx="380988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AAE36-DCFA-4854-868E-9DAA96D74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Video and Web Conferencing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technology has created new opportunities for training over the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inars are seminars or workshops taking place over the web with option for interactive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casts are live or recorded audio or video broadcasts over the internet generally one-way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webinars and webcasts can be synchronous or asynchron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DC900-AB3B-488E-86FC-C952C2093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he Design of Computer-Based Training  Programs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 is just the medium for delivering training and still rely on good design to ensure effe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e pract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ditions of pract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s well as many of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f-the-job instructional metho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built into computer-bas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design factors also important and are highlighted h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8E3E6-B7BF-412C-B510-24B4EF055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he Design of Computer-Based Training  Programs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m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crease the appeal, encourage practice, and facilitate discovery of patterns and relationships in the training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uter simul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vide trainees with hands-on training for a particular task as well as opportunities to practice and master knowledge and skills in an interactive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le Play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the program engaging and provide opportunity to experiment and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73FBE-9FE1-42D8-9795-E28E8CE01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he Design of Computer-Based Training  Programs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ri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involve dialogue and characters liven up abstract concepts and increase eng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stom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volves tailoring instructional elements to meet trainee preferences and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onal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rough the use of conversational language, rather than formal language, helps trainees feel more engaged in a conversation with the progr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00FFD-72E5-41DC-978C-6B79883F4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he Design of Computer-Based Training  Programs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uman Inter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instructor and other online participants through chat rooms, discussion boards decreases feelings of isolation and increases motiv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edback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important in increasing learning. Can range from simple prompts to more complex quizzes, reviews or interaction with virtual or actual coach/facilit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principles are identified in Trainer’s Notebook 8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A9C53-07B0-4508-92E9-B27B1987E4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technology-based training and traditional training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different methods of technology-bas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and contrast instructor-led and self-directed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and give examples of asynchronous and synchronous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6710C-5FB9-404D-8FA0-23C35234A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echnology-Based Training: Advantag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for traine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all the time (just-in-time train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learner control over content, sequence and pace of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-pacing allows for progress at own 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flexibility and conven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comfort with own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es learn at work or away from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d travel time; greater geographical flex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C4397-079A-4AB6-BB8D-4A74089EC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echnology-Based Training: Advantag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7391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0560" indent="-520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Advantages for organiz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390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ll trainees receive the same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390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arge numbers can be trained in a short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390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ditional constraints around classrooms are elimin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390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 across the glo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390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ck trainees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233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useful for legal 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390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crease efficiencies and cost sav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40588-F4AC-4CC5-A5EE-868790763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ffcc"/>
                </a:solidFill>
                <a:latin typeface="Arial"/>
              </a:rPr>
              <a:t>Technology-Based Training: Disadvantages</a:t>
            </a:r>
            <a:endParaRPr b="1" lang="en-US" sz="38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6477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7780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Arial"/>
              </a:rPr>
              <a:t>Disadvantages to traine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3952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Less interpersonal contac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3952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Doesn’t support all learning sty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3952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Potential computer illiterac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0"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Arial"/>
              </a:rPr>
              <a:t>Disadvantages to organizatio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3952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Resistance to tech-based train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39528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Cost of develop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8-22.jpg"/>
          <p:cNvPicPr/>
          <p:nvPr/>
        </p:nvPicPr>
        <p:blipFill>
          <a:blip r:embed="rId1"/>
          <a:stretch/>
        </p:blipFill>
        <p:spPr>
          <a:xfrm>
            <a:off x="6746760" y="1752480"/>
            <a:ext cx="239724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D4884-A3B1-4AB0-90F5-55DFCA17E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How Effective is Tech-Based Training?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ide number of variables in determining effectiveness and inconclusive at thi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echnology-based training not considered superior to traditional metho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ffective for declarative and procedural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as effective for learning complex material, soft skills, psychomotor skills, or team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ee motivation plays a significant role in effe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23CDD-EAEA-4BC0-8A90-DA7D7076D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Future of Technology-Based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model of learning emerging known as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Social constructivism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which emphasizes the learner and learning through socia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-398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mergence of new learning technology that facilitates social constructivism in particular Web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-398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eb 2.0 is a set of internet tools that enable sharing, creation of knowledge and collabor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-398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llows for communities of practice and informal learning as discussed in Ch.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11CA1-E46D-4164-A666-2F264BD63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Future of Technology-Based Training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Popular Web 2.0 Too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Blog: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a journal style websites that contain commentary and information on a su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Wiki: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 webpage or collection of web pages in which users share, contribute, and modify information on a topic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ikiped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8C820-EE61-4286-80D7-A82643CED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Future of Technology-Based Training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Podcast: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 short audio or video recording that can be downloaded and played on a mobile device such as iPod or cell ph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Mobile learning: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rainees access learning where and when they want to using an mp3, iPod, or smart phone in an “on-demand”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8D500-13ED-496B-AD49-AB77261D38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Future of Technology-Based Training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use of technology for learning continues to advance; yet demise of traditional methods not lik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Key issu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en to use technolo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ow to blend it with traditional metho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en traditional methods are be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nswer lies 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ing objec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tent of train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esign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ee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B8423-3FCD-405A-8462-E1848A706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 based training methods were descri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serve as a complement to off-the-job and on-the-job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inctions between Instructor Led and Self Directed training, and asynchronous and synchronous training were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ECF42-0B04-45E1-A628-792F8A56F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involved in the design of technology based training were discuss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s and disadvantages and the relative effectiveness of the various methods were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2.0 learning tools and mobile learning and their facilitation of Social Constructivism was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3A733-DE44-4A24-A1A7-575A2FE81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and discuss computer-based training, e-learning, electronic performance support systems, and video and Web confere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how to design computer-based training progra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advantages and disadvantages of computer-based training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effectiveness of computer-based training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future of technology-based training and describe Web 2.0 tools and mobil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E30C5-C351-48AC-AB7A-A698F11B9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ooter Placeholder 5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echnology-Based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6095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echnology-based training is training that involves using technology to deliver courses (learn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fferent types of technology-based training have evolved as technology itself evolv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8-4.jpg"/>
          <p:cNvPicPr/>
          <p:nvPr/>
        </p:nvPicPr>
        <p:blipFill>
          <a:blip r:embed="rId1"/>
          <a:stretch/>
        </p:blipFill>
        <p:spPr>
          <a:xfrm>
            <a:off x="5603760" y="1523880"/>
            <a:ext cx="354024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84E26-97A1-479A-8D34-87F505264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echnology-Based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types of technology-based traini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05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-bas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ized self-study with CD-Rom, D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 performance suppor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 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media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deo/Audio/Tele-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tellite or broadcast tele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3817080" y="5749920"/>
            <a:ext cx="197604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table 8.1 in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DF65A-7D87-4646-BEC9-05EF6AD9D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echnology-Based</a:t>
            </a:r>
            <a:br>
              <a:rPr sz="3600"/>
            </a:b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raining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in contrast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ditional training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is training that does not involve using technology to deliver learning (regardless of the instructor or learners use of technology in the classroo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465AE-B9B8-419F-B026-1776AB398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cc"/>
                </a:solidFill>
                <a:latin typeface="Arial"/>
              </a:rPr>
              <a:t>Prevalence of Technology-Based Training</a:t>
            </a:r>
            <a:endParaRPr b="1" lang="en-US" sz="32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technology for training has increased In Canada over the past dec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organizations have made major advances in using technology-based training as their primary source of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in Canada and the U.S. the use of learning technology represents 16% of all formal training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, training technology is becoming more popular albeit at a relatively slow 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C35CD-220F-491A-98CA-CF2349DB2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mputer-Based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Computer-based training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Training that is delivered via the computer for the purpose of teaching job-relevant knowledge and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-learning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use of computer network technology such as the intranet or Internet to deliver information or instruction to individu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-learning is a specific type of computer based trai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0CC00-50E8-42F6-A1A4-C35207FD7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Footer Placeholder 4"/>
          <p:cNvSpPr/>
          <p:nvPr/>
        </p:nvSpPr>
        <p:spPr>
          <a:xfrm>
            <a:off x="2286000" y="6324480"/>
            <a:ext cx="49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Instructor-Led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raining methods that involve an instructor or facilitator who, in the case of technology-based training, leads, facilitates, or trains on-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degree of involvement of the instructor in ILT can vary from full control to advisory or resour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8-9.jpg"/>
          <p:cNvPicPr/>
          <p:nvPr/>
        </p:nvPicPr>
        <p:blipFill>
          <a:blip r:embed="rId1"/>
          <a:stretch/>
        </p:blipFill>
        <p:spPr>
          <a:xfrm>
            <a:off x="2895480" y="3962520"/>
            <a:ext cx="3413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0:55:57Z</dcterms:created>
  <dc:creator>Tracey A. Starrett</dc:creator>
  <dc:description/>
  <dc:language>en-US</dc:language>
  <cp:lastModifiedBy>Karina</cp:lastModifiedBy>
  <dcterms:modified xsi:type="dcterms:W3CDTF">2009-10-27T23:27:20Z</dcterms:modified>
  <cp:revision>326</cp:revision>
  <dc:subject/>
  <dc:title>Chapter 8</dc:title>
</cp:coreProperties>
</file>