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9BC1-BB30-4C89-8B27-32C27F34A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C98C-24E4-4208-9A2C-9D6F95BD9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E48D-E1E0-4DE8-9D18-340569D81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ED0B-CA3A-4553-91D5-047B0E1A2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19A8-A386-4676-B028-58CC2ED40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138B-036E-4970-86B7-0FF2C6801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4CF8-F2CA-4BC4-AD31-FF3B69BF9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A139-ECF9-4374-9B0E-8A38F6BFD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6F89-C291-4CB0-A08B-DB63116F2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017F-EF56-4A51-A306-16CEDCF8F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8A7C-A7C2-4B44-B271-5D9F8DEC1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89C-3E92-4430-8236-5AF644D07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A377-2C0E-4172-99FD-F3487D01E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9ADA-9AB6-4545-A69A-BFE95B6E0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77CD8-8434-4B8F-8E65-D56464D00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ECFE-1DF4-412D-BBFA-67DB620FA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D4E5-87A4-41EB-840D-B6E106871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849B-C038-42E7-9069-26D7C3BB0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5F5A-956F-4F15-A860-0682BE25F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C145-5BDF-42C4-BCA3-6216A1A75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CAA7-A2E2-4E6B-8812-03876E0EC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34F5-4139-471C-9E72-69B09C19D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B695E-66CD-468D-A4D9-153FAF670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40FC-EB41-4E9C-8F47-93CF90402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8E75-CA73-414E-84AF-5C83C646D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2EF6-466E-4C73-8FF7-AE7C671A8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Ni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-1.jpg"/>
          <p:cNvPicPr/>
          <p:nvPr/>
        </p:nvPicPr>
        <p:blipFill>
          <a:blip r:embed="rId1"/>
          <a:stretch/>
        </p:blipFill>
        <p:spPr>
          <a:xfrm>
            <a:off x="2666880" y="2743200"/>
            <a:ext cx="4451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F446-9CAE-4828-9EC5-19F59A922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trainees based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asses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s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Trainability test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181480" y="441972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*Test that measures an individual’s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learn and perform trai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9-10.jpg"/>
          <p:cNvPicPr/>
          <p:nvPr/>
        </p:nvPicPr>
        <p:blipFill>
          <a:blip r:embed="rId1"/>
          <a:stretch/>
        </p:blipFill>
        <p:spPr>
          <a:xfrm>
            <a:off x="1219320" y="426708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BE33-F3A9-44C1-ABD1-5D4D876F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ability test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mini-course or learning a sample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test that measure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of training success and job performance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psych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BBB8-409D-4930-803A-BAEFB9475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 outlined four decisions for selecting 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can benefit from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programs are required by law or by government ed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training be voluntary or compuls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participants be segregated by level,   or should levels be comb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59CA-9D68-4B3D-98D6-26B9B5EB9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is information can be incorporat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ndicates who needs training,  the type of training that is needed, and how training will be delive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-13.jpg"/>
          <p:cNvPicPr/>
          <p:nvPr/>
        </p:nvPicPr>
        <p:blipFill>
          <a:blip r:embed="rId1"/>
          <a:stretch/>
        </p:blipFill>
        <p:spPr>
          <a:xfrm>
            <a:off x="2895480" y="3809880"/>
            <a:ext cx="29876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DB4B-EF15-4083-9365-428AC26E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aterials &amp; Equi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terial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note pads, pens, flipchart,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quipmen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n-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computer, DVD player, overhe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ntent, methods and exercises in a training program determine the material and equip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9D65-853E-42D2-BA1F-26AE4E66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training sit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any training facility or training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nted premises (conference or meeting 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door site for 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site sh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ive to learning (comfortable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e of distractions (noise, interru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 up appropriately (seating arrangement to enhance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7839-FD97-4BA4-A147-46EDCBD08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7057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5760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2485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56720" y="563724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607560" y="563724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te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05880" y="563724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62120" y="3886200"/>
            <a:ext cx="1371600" cy="761760"/>
            <a:chOff x="762120" y="3886200"/>
            <a:chExt cx="1371600" cy="761760"/>
          </a:xfrm>
        </p:grpSpPr>
        <p:sp>
          <p:nvSpPr>
            <p:cNvPr id="125" name="Oval 11"/>
            <p:cNvSpPr/>
            <p:nvPr/>
          </p:nvSpPr>
          <p:spPr>
            <a:xfrm>
              <a:off x="7621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10670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37196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16765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621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0670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137196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16765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19814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19814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19814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621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70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1371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6765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7"/>
          <p:cNvSpPr/>
          <p:nvPr/>
        </p:nvSpPr>
        <p:spPr>
          <a:xfrm>
            <a:off x="68580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35812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54864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5181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2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4"/>
          <p:cNvSpPr/>
          <p:nvPr/>
        </p:nvSpPr>
        <p:spPr>
          <a:xfrm>
            <a:off x="137160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110232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62326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3"/>
          <p:cNvSpPr/>
          <p:nvPr/>
        </p:nvSpPr>
        <p:spPr>
          <a:xfrm>
            <a:off x="3809880" y="45720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4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5"/>
          <p:cNvSpPr/>
          <p:nvPr/>
        </p:nvSpPr>
        <p:spPr>
          <a:xfrm>
            <a:off x="51814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80988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7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22676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83"/>
          <p:cNvGrpSpPr/>
          <p:nvPr/>
        </p:nvGrpSpPr>
        <p:grpSpPr>
          <a:xfrm>
            <a:off x="7924680" y="3200400"/>
            <a:ext cx="914400" cy="914400"/>
            <a:chOff x="7924680" y="3200400"/>
            <a:chExt cx="914400" cy="914400"/>
          </a:xfrm>
        </p:grpSpPr>
        <p:sp>
          <p:nvSpPr>
            <p:cNvPr id="164" name="Oval 48"/>
            <p:cNvSpPr/>
            <p:nvPr/>
          </p:nvSpPr>
          <p:spPr>
            <a:xfrm>
              <a:off x="792468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868680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792468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7"/>
            <p:cNvSpPr/>
            <p:nvPr/>
          </p:nvSpPr>
          <p:spPr>
            <a:xfrm>
              <a:off x="868680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800100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4"/>
          <p:cNvGrpSpPr/>
          <p:nvPr/>
        </p:nvGrpSpPr>
        <p:grpSpPr>
          <a:xfrm>
            <a:off x="6477120" y="3200400"/>
            <a:ext cx="914400" cy="914400"/>
            <a:chOff x="6477120" y="3200400"/>
            <a:chExt cx="914400" cy="914400"/>
          </a:xfrm>
        </p:grpSpPr>
        <p:sp>
          <p:nvSpPr>
            <p:cNvPr id="170" name="Oval 85"/>
            <p:cNvSpPr/>
            <p:nvPr/>
          </p:nvSpPr>
          <p:spPr>
            <a:xfrm>
              <a:off x="647712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86"/>
            <p:cNvSpPr/>
            <p:nvPr/>
          </p:nvSpPr>
          <p:spPr>
            <a:xfrm>
              <a:off x="723924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87"/>
            <p:cNvSpPr/>
            <p:nvPr/>
          </p:nvSpPr>
          <p:spPr>
            <a:xfrm>
              <a:off x="647712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88"/>
            <p:cNvSpPr/>
            <p:nvPr/>
          </p:nvSpPr>
          <p:spPr>
            <a:xfrm>
              <a:off x="723924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89"/>
            <p:cNvSpPr/>
            <p:nvPr/>
          </p:nvSpPr>
          <p:spPr>
            <a:xfrm>
              <a:off x="655344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0"/>
          <p:cNvGrpSpPr/>
          <p:nvPr/>
        </p:nvGrpSpPr>
        <p:grpSpPr>
          <a:xfrm>
            <a:off x="7238880" y="4343400"/>
            <a:ext cx="914400" cy="914400"/>
            <a:chOff x="7238880" y="4343400"/>
            <a:chExt cx="914400" cy="914400"/>
          </a:xfrm>
        </p:grpSpPr>
        <p:sp>
          <p:nvSpPr>
            <p:cNvPr id="176" name="Oval 91"/>
            <p:cNvSpPr/>
            <p:nvPr/>
          </p:nvSpPr>
          <p:spPr>
            <a:xfrm>
              <a:off x="723888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92"/>
            <p:cNvSpPr/>
            <p:nvPr/>
          </p:nvSpPr>
          <p:spPr>
            <a:xfrm>
              <a:off x="800100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3"/>
            <p:cNvSpPr/>
            <p:nvPr/>
          </p:nvSpPr>
          <p:spPr>
            <a:xfrm>
              <a:off x="723888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800100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95"/>
            <p:cNvSpPr/>
            <p:nvPr/>
          </p:nvSpPr>
          <p:spPr>
            <a:xfrm>
              <a:off x="7315200" y="4419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96"/>
          <p:cNvSpPr/>
          <p:nvPr/>
        </p:nvSpPr>
        <p:spPr>
          <a:xfrm>
            <a:off x="6477120" y="2057400"/>
            <a:ext cx="8380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8534520" y="1905120"/>
            <a:ext cx="3045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8"/>
          <p:cNvSpPr/>
          <p:nvPr/>
        </p:nvSpPr>
        <p:spPr>
          <a:xfrm>
            <a:off x="78487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9"/>
          <p:cNvSpPr/>
          <p:nvPr/>
        </p:nvSpPr>
        <p:spPr>
          <a:xfrm>
            <a:off x="7579440" y="24051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8A7E-AD61-49C1-8469-12C63C77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cheduling the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Program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heduling must take into consid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st time for employees to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ing site              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gle or multipl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9-17.jpg"/>
          <p:cNvPicPr/>
          <p:nvPr/>
        </p:nvPicPr>
        <p:blipFill>
          <a:blip r:embed="rId1"/>
          <a:stretch/>
        </p:blipFill>
        <p:spPr>
          <a:xfrm>
            <a:off x="5919840" y="3276720"/>
            <a:ext cx="32241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CF35-FE90-4813-913F-134CA740D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Administr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training program also depends o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administra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rdination of all the people and materials involved in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9-18.jpg"/>
          <p:cNvPicPr/>
          <p:nvPr/>
        </p:nvPicPr>
        <p:blipFill>
          <a:blip r:embed="rId1"/>
          <a:stretch/>
        </p:blipFill>
        <p:spPr>
          <a:xfrm>
            <a:off x="5105520" y="2438280"/>
            <a:ext cx="3681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D1F8-97D4-4DE4-A893-D86FCBACF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ning climate conducive to learning makes participants feel relaxed, comfortable and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rriv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ing traine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, information or pre-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conditions of practice before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ting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ing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6156-FEEC-4D08-999B-8FE9E459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lesson plan and the information to include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racteristics of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cide who should attend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makes an effective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lements of a positive learning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Gag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ine events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oblems and solutions of training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DEA3-00CE-4EA2-8194-0597ED9E5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facility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discussed in choosing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oom/site is appropriate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er’s style an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brief 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able, empathetic, engag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1090-C05E-4004-890F-82AD9FB27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Gagn</a:t>
            </a:r>
            <a:r>
              <a:rPr b="1" lang="en-CA" sz="4000" spc="-1" strike="noStrike">
                <a:solidFill>
                  <a:srgbClr val="ccffcc"/>
                </a:solidFill>
                <a:latin typeface="Arial"/>
                <a:ea typeface="Times New Roman"/>
              </a:rPr>
              <a:t>é’s Events of Instruc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recall of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material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uidan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perform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retention 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ich we can add one m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01240" y="1565280"/>
            <a:ext cx="8873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ag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roposed nine events of instru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3B34-F1BE-484C-AA49-8C083E8D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ffcc"/>
                </a:solidFill>
                <a:latin typeface="Arial"/>
              </a:rPr>
              <a:t>Training Delivery Problems: Problem Participants</a:t>
            </a:r>
            <a:endParaRPr b="1" lang="en-US" sz="3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sit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nopo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z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i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stil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r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63040" y="5673600"/>
            <a:ext cx="1976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9.4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4976-EFF8-4CF0-8DCC-2A98E97B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ice and experienced trainers can experience training delivery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themes of deliver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 Pertaining to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 How trainer relates to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 Present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y of novice trainers identified 12 most common. Study of experienced trainers identifi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17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2C36-6468-400B-86AF-E4F9A0523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 common training delivery problems expressed by novice train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 Fear (Lack of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 Perception of lack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  Lack of 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  Handling diffic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.  Encouraging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  Timing (Too much or too littl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E0E7-42B3-4D6E-AF88-B4A4646F2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elve common training deliver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7.  Adjusting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.  Respon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.  Feedback (Acquiring and Respo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0.  Using media, materials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1.  Opening and closing                                      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811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ence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542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943600"/>
          <a:ext cx="5486400" cy="3967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Trainer’s Notebook 9.3 for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26C2-9FA3-4498-9188-72532CD31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volved in delivering a training program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Lesson Plan and elements of it we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trainers and determining who should attend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al issues of site selection, training administration, and scheduling training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how to create training climate, identified Events of Instruction, and common training problems and their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234E-0C79-47FA-9D07-D85069CA1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6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plan is a b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ueprint that outlines the training program in terms of sequence of activities and events that will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: a cohesive unit of instruction with a specific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-3.jpg"/>
          <p:cNvPicPr/>
          <p:nvPr/>
        </p:nvPicPr>
        <p:blipFill>
          <a:blip r:embed="rId1"/>
          <a:stretch/>
        </p:blipFill>
        <p:spPr>
          <a:xfrm>
            <a:off x="4724280" y="2438280"/>
            <a:ext cx="42483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C1AA-0E1C-425D-BF0E-D265B3B5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 cover page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s and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llocation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lassroom requirements and s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supplies and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8DF3-6EF2-43EF-8ABF-AB0CFE6A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ing of the various activities in the lesson is an important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roach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o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to 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to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to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o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450B-2502-4EE9-AD6C-14D059254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simple and familiar eases learners into new content and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uilds trainee self-effi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inees to see how their current level of knowledge and experience is relevant for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it reduces learner anxiety and makes for a more comfortable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plan should focus on what trainees will be doing during th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9CAA-7812-4A9E-A6F1-705D100E1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s are critical in design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approval  and smooth operatio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ables expenditures to be budgeted and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sures training is directed toward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s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s the tone for professional approach t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9BBD-D1E7-46E4-AD6C-C449D7300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lecting a trainer is an important factor in the success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(HR, training staff, Manager, or 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rnal (Consultant, Volunt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Qualities of a good trai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nowledgeable or Subject matter expert (S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livery (i.e., verbal/communication, interpersonal, organiz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ake material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thusiastic, expressive &amp; eng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F2A3-BF0B-4D1F-AC45-E0C75CAE1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a Tra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staff who are SME’s may need development to be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-the-train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rogram teaches SME’s how to design and deliver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and valuable investment in the SME as it will enhance experience as a trainer, increase effectiveness and ultimately improv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8T18:17:21Z</dcterms:modified>
  <cp:revision>310</cp:revision>
  <dc:subject/>
  <dc:title>Chapter 9</dc:title>
</cp:coreProperties>
</file>