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D29F-1C2B-4129-B10B-BA18B2F72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92F6-A194-4F3B-897D-7860BBDA5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55D0-DC8E-45CE-9EA9-1454AAB66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0B12-3A32-4393-8F33-1716E5F6A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24A2-6F90-4489-86D9-BF4227AD0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1D61-0936-4C0F-AB83-A6B5BC98E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1C9A-BD22-4A0D-8E14-1FAAED2D5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1EE9-3059-4E64-ADEC-4E5927951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CFE2-0276-4A1B-AA38-D1E75E2DD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DE53-8C85-4625-9111-BC4AAB202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E6A3-D1F9-44D7-8D0D-F0DB5DA14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3ECB-72A3-4F79-A78B-63B7167FC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F5C7A-1A71-42EC-BC79-7D5D214487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10724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3A9CC-2C01-4328-8E28-4E41D3D5FF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49575-1EC4-41F1-8ECD-CE82C69D9D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5998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5998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1072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1072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1072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2061B-A5D2-4495-885D-2E2BA419C4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F2BB0-7B8D-4BA1-92EF-C31124E8C3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60EF5-C4F0-47E5-A630-F1CCAA2B9B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832DF-D319-453B-962F-8CBC362AA1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61358-6C7A-4C7D-BE42-4EFE1546CF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850FD-7172-46F2-9180-794F87BE2C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A4B3A-3B85-4B9F-9CAD-49275EA454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10C20-A359-4F8D-A7CA-EEA6B03BD0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7F6F7-EEFE-48F3-84D6-4BA688F986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947B-78DE-4D07-8BEE-95B3D58B6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C22A-7445-4207-8CEE-ACAB281C5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Nin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Delive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9-1.jpg"/>
          <p:cNvPicPr/>
          <p:nvPr/>
        </p:nvPicPr>
        <p:blipFill>
          <a:blip r:embed="rId1"/>
          <a:stretch/>
        </p:blipFill>
        <p:spPr>
          <a:xfrm>
            <a:off x="2666880" y="2743200"/>
            <a:ext cx="44514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9F81-3AAC-4EB6-9F6F-7B4EAE543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Traine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800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ect trainees based 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p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05160" y="167616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s assess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ers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99"/>
                </a:solidFill>
                <a:latin typeface="Arial"/>
              </a:rPr>
              <a:t>Trainability test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181480" y="4419720"/>
            <a:ext cx="367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**Test that measures an individual’s 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o learn and perform training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8" descr="9-10.jpg"/>
          <p:cNvPicPr/>
          <p:nvPr/>
        </p:nvPicPr>
        <p:blipFill>
          <a:blip r:embed="rId1"/>
          <a:stretch/>
        </p:blipFill>
        <p:spPr>
          <a:xfrm>
            <a:off x="1219320" y="4267080"/>
            <a:ext cx="297000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730A-CEAD-4321-BD1A-004B40AAB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e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inability tests invol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512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a mini-course or learning a sample of the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512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a test that measures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ive of training success and job performance in many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mostly for psychomotor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63A4-87F1-4DF2-9319-363150B22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Traine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Kirkpatrick outlined four decisions for selecting participa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5173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o can benefit from trai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5173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at programs are required by law or by government edi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5173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hould training be voluntary or compuls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5173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hould participants be segregated by level,   or should levels be combi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C26A-1CEC-42BA-AA45-17748A4E3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e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this information can be incorporated into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ining pl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indicates who needs training,  the type of training that is needed, and how training will be delivere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9-13.jpg"/>
          <p:cNvPicPr/>
          <p:nvPr/>
        </p:nvPicPr>
        <p:blipFill>
          <a:blip r:embed="rId1"/>
          <a:stretch/>
        </p:blipFill>
        <p:spPr>
          <a:xfrm>
            <a:off x="2895480" y="3809880"/>
            <a:ext cx="298764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4B4D-8B90-44D7-BDD7-26DC4538A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Materials &amp; Equi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Materials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Expendable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.e., note pads, pens, flipchart, hand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Equipment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Non-expendable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.e., computer, DVD player, overhea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content, methods and exercises in a training program determine the material and equip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928C-65DC-40DE-8FB0-59CD72CE4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ing Sit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e training site can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mpany training facility or training ro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nted premises (conference or meeting ro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utdoor site for experienti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e site should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ducive to learning (comfortable set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ree of distractions (noise, interru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t up appropriately (seating arrangement to enhance lear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2ABD-C268-4DF9-925E-736B2D301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705720" y="5638680"/>
            <a:ext cx="1981080" cy="609840"/>
          </a:xfrm>
          <a:prstGeom prst="rect">
            <a:avLst/>
          </a:prstGeom>
          <a:solidFill>
            <a:srgbClr val="c0c0c0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3657600" y="5638680"/>
            <a:ext cx="1981080" cy="609840"/>
          </a:xfrm>
          <a:prstGeom prst="rect">
            <a:avLst/>
          </a:prstGeom>
          <a:solidFill>
            <a:srgbClr val="c0c0c0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533520" y="5638680"/>
            <a:ext cx="1981080" cy="609840"/>
          </a:xfrm>
          <a:prstGeom prst="rect">
            <a:avLst/>
          </a:prstGeom>
          <a:solidFill>
            <a:srgbClr val="c0c0c0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ing Sit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9" name="Line 3"/>
          <p:cNvSpPr/>
          <p:nvPr/>
        </p:nvSpPr>
        <p:spPr>
          <a:xfrm>
            <a:off x="3048120" y="16765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6248520" y="16765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756720" y="5637240"/>
            <a:ext cx="156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Particip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l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607560" y="5637240"/>
            <a:ext cx="205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rate Particip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l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6905880" y="5637240"/>
            <a:ext cx="161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Particip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l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26"/>
          <p:cNvGrpSpPr/>
          <p:nvPr/>
        </p:nvGrpSpPr>
        <p:grpSpPr>
          <a:xfrm>
            <a:off x="762120" y="3886200"/>
            <a:ext cx="1371600" cy="761760"/>
            <a:chOff x="762120" y="3886200"/>
            <a:chExt cx="1371600" cy="761760"/>
          </a:xfrm>
        </p:grpSpPr>
        <p:sp>
          <p:nvSpPr>
            <p:cNvPr id="125" name="Oval 11"/>
            <p:cNvSpPr/>
            <p:nvPr/>
          </p:nvSpPr>
          <p:spPr>
            <a:xfrm>
              <a:off x="762120" y="388620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Oval 12"/>
            <p:cNvSpPr/>
            <p:nvPr/>
          </p:nvSpPr>
          <p:spPr>
            <a:xfrm>
              <a:off x="1067040" y="38862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Oval 13"/>
            <p:cNvSpPr/>
            <p:nvPr/>
          </p:nvSpPr>
          <p:spPr>
            <a:xfrm>
              <a:off x="1371960" y="38862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4"/>
            <p:cNvSpPr/>
            <p:nvPr/>
          </p:nvSpPr>
          <p:spPr>
            <a:xfrm>
              <a:off x="1676520" y="388620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Oval 15"/>
            <p:cNvSpPr/>
            <p:nvPr/>
          </p:nvSpPr>
          <p:spPr>
            <a:xfrm>
              <a:off x="762120" y="4190760"/>
              <a:ext cx="15264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Oval 16"/>
            <p:cNvSpPr/>
            <p:nvPr/>
          </p:nvSpPr>
          <p:spPr>
            <a:xfrm>
              <a:off x="1067040" y="41907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17"/>
            <p:cNvSpPr/>
            <p:nvPr/>
          </p:nvSpPr>
          <p:spPr>
            <a:xfrm>
              <a:off x="1371960" y="41907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Oval 18"/>
            <p:cNvSpPr/>
            <p:nvPr/>
          </p:nvSpPr>
          <p:spPr>
            <a:xfrm>
              <a:off x="1676520" y="4190760"/>
              <a:ext cx="15264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19"/>
            <p:cNvSpPr/>
            <p:nvPr/>
          </p:nvSpPr>
          <p:spPr>
            <a:xfrm>
              <a:off x="1981440" y="41907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20"/>
            <p:cNvSpPr/>
            <p:nvPr/>
          </p:nvSpPr>
          <p:spPr>
            <a:xfrm>
              <a:off x="1981440" y="449568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Oval 21"/>
            <p:cNvSpPr/>
            <p:nvPr/>
          </p:nvSpPr>
          <p:spPr>
            <a:xfrm>
              <a:off x="1981440" y="38862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Oval 22"/>
            <p:cNvSpPr/>
            <p:nvPr/>
          </p:nvSpPr>
          <p:spPr>
            <a:xfrm>
              <a:off x="762120" y="449568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23"/>
            <p:cNvSpPr/>
            <p:nvPr/>
          </p:nvSpPr>
          <p:spPr>
            <a:xfrm>
              <a:off x="1067040" y="449568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24"/>
            <p:cNvSpPr/>
            <p:nvPr/>
          </p:nvSpPr>
          <p:spPr>
            <a:xfrm>
              <a:off x="1371960" y="449568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Oval 25"/>
            <p:cNvSpPr/>
            <p:nvPr/>
          </p:nvSpPr>
          <p:spPr>
            <a:xfrm>
              <a:off x="1676520" y="4495680"/>
              <a:ext cx="15264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Rectangle 27"/>
          <p:cNvSpPr/>
          <p:nvPr/>
        </p:nvSpPr>
        <p:spPr>
          <a:xfrm>
            <a:off x="685800" y="2514600"/>
            <a:ext cx="160020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29"/>
          <p:cNvSpPr/>
          <p:nvPr/>
        </p:nvSpPr>
        <p:spPr>
          <a:xfrm>
            <a:off x="3581280" y="41911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30"/>
          <p:cNvSpPr/>
          <p:nvPr/>
        </p:nvSpPr>
        <p:spPr>
          <a:xfrm>
            <a:off x="3581280" y="3581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32"/>
          <p:cNvSpPr/>
          <p:nvPr/>
        </p:nvSpPr>
        <p:spPr>
          <a:xfrm>
            <a:off x="5486400" y="35812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33"/>
          <p:cNvSpPr/>
          <p:nvPr/>
        </p:nvSpPr>
        <p:spPr>
          <a:xfrm>
            <a:off x="3581280" y="44956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34"/>
          <p:cNvSpPr/>
          <p:nvPr/>
        </p:nvSpPr>
        <p:spPr>
          <a:xfrm>
            <a:off x="3581280" y="38862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36"/>
          <p:cNvSpPr/>
          <p:nvPr/>
        </p:nvSpPr>
        <p:spPr>
          <a:xfrm>
            <a:off x="5486400" y="38862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37"/>
          <p:cNvSpPr/>
          <p:nvPr/>
        </p:nvSpPr>
        <p:spPr>
          <a:xfrm>
            <a:off x="5486400" y="449568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38"/>
          <p:cNvSpPr/>
          <p:nvPr/>
        </p:nvSpPr>
        <p:spPr>
          <a:xfrm>
            <a:off x="5181480" y="4876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39"/>
          <p:cNvSpPr/>
          <p:nvPr/>
        </p:nvSpPr>
        <p:spPr>
          <a:xfrm>
            <a:off x="5486400" y="41911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40"/>
          <p:cNvSpPr/>
          <p:nvPr/>
        </p:nvSpPr>
        <p:spPr>
          <a:xfrm>
            <a:off x="3962520" y="4876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41"/>
          <p:cNvSpPr/>
          <p:nvPr/>
        </p:nvSpPr>
        <p:spPr>
          <a:xfrm>
            <a:off x="4267080" y="48769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42"/>
          <p:cNvSpPr/>
          <p:nvPr/>
        </p:nvSpPr>
        <p:spPr>
          <a:xfrm>
            <a:off x="4572000" y="4876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43"/>
          <p:cNvSpPr/>
          <p:nvPr/>
        </p:nvSpPr>
        <p:spPr>
          <a:xfrm>
            <a:off x="4876920" y="487692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64"/>
          <p:cNvSpPr/>
          <p:nvPr/>
        </p:nvSpPr>
        <p:spPr>
          <a:xfrm>
            <a:off x="1371600" y="1828800"/>
            <a:ext cx="22860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5"/>
          <p:cNvSpPr/>
          <p:nvPr/>
        </p:nvSpPr>
        <p:spPr>
          <a:xfrm>
            <a:off x="1102320" y="202392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72"/>
          <p:cNvSpPr/>
          <p:nvPr/>
        </p:nvSpPr>
        <p:spPr>
          <a:xfrm>
            <a:off x="6232680" y="26528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73"/>
          <p:cNvSpPr/>
          <p:nvPr/>
        </p:nvSpPr>
        <p:spPr>
          <a:xfrm>
            <a:off x="3809880" y="4572000"/>
            <a:ext cx="160020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4"/>
          <p:cNvSpPr/>
          <p:nvPr/>
        </p:nvSpPr>
        <p:spPr>
          <a:xfrm>
            <a:off x="3809880" y="3505320"/>
            <a:ext cx="228600" cy="10666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5"/>
          <p:cNvSpPr/>
          <p:nvPr/>
        </p:nvSpPr>
        <p:spPr>
          <a:xfrm>
            <a:off x="5181480" y="3505320"/>
            <a:ext cx="228600" cy="10666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6"/>
          <p:cNvSpPr/>
          <p:nvPr/>
        </p:nvSpPr>
        <p:spPr>
          <a:xfrm>
            <a:off x="3809880" y="2514600"/>
            <a:ext cx="160020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77"/>
          <p:cNvSpPr/>
          <p:nvPr/>
        </p:nvSpPr>
        <p:spPr>
          <a:xfrm>
            <a:off x="4495680" y="1828800"/>
            <a:ext cx="22860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78"/>
          <p:cNvSpPr/>
          <p:nvPr/>
        </p:nvSpPr>
        <p:spPr>
          <a:xfrm>
            <a:off x="4226760" y="202392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83"/>
          <p:cNvGrpSpPr/>
          <p:nvPr/>
        </p:nvGrpSpPr>
        <p:grpSpPr>
          <a:xfrm>
            <a:off x="7924680" y="3200400"/>
            <a:ext cx="914400" cy="914400"/>
            <a:chOff x="7924680" y="3200400"/>
            <a:chExt cx="914400" cy="914400"/>
          </a:xfrm>
        </p:grpSpPr>
        <p:sp>
          <p:nvSpPr>
            <p:cNvPr id="164" name="Oval 48"/>
            <p:cNvSpPr/>
            <p:nvPr/>
          </p:nvSpPr>
          <p:spPr>
            <a:xfrm>
              <a:off x="7924680" y="3200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Oval 51"/>
            <p:cNvSpPr/>
            <p:nvPr/>
          </p:nvSpPr>
          <p:spPr>
            <a:xfrm>
              <a:off x="8686800" y="3200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Oval 52"/>
            <p:cNvSpPr/>
            <p:nvPr/>
          </p:nvSpPr>
          <p:spPr>
            <a:xfrm>
              <a:off x="7924680" y="39621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57"/>
            <p:cNvSpPr/>
            <p:nvPr/>
          </p:nvSpPr>
          <p:spPr>
            <a:xfrm>
              <a:off x="8686800" y="39621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Oval 81"/>
            <p:cNvSpPr/>
            <p:nvPr/>
          </p:nvSpPr>
          <p:spPr>
            <a:xfrm>
              <a:off x="8001000" y="3276360"/>
              <a:ext cx="761760" cy="762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84"/>
          <p:cNvGrpSpPr/>
          <p:nvPr/>
        </p:nvGrpSpPr>
        <p:grpSpPr>
          <a:xfrm>
            <a:off x="6477120" y="3200400"/>
            <a:ext cx="914400" cy="914400"/>
            <a:chOff x="6477120" y="3200400"/>
            <a:chExt cx="914400" cy="914400"/>
          </a:xfrm>
        </p:grpSpPr>
        <p:sp>
          <p:nvSpPr>
            <p:cNvPr id="170" name="Oval 85"/>
            <p:cNvSpPr/>
            <p:nvPr/>
          </p:nvSpPr>
          <p:spPr>
            <a:xfrm>
              <a:off x="6477120" y="3200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Oval 86"/>
            <p:cNvSpPr/>
            <p:nvPr/>
          </p:nvSpPr>
          <p:spPr>
            <a:xfrm>
              <a:off x="7239240" y="3200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87"/>
            <p:cNvSpPr/>
            <p:nvPr/>
          </p:nvSpPr>
          <p:spPr>
            <a:xfrm>
              <a:off x="6477120" y="39621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Oval 88"/>
            <p:cNvSpPr/>
            <p:nvPr/>
          </p:nvSpPr>
          <p:spPr>
            <a:xfrm>
              <a:off x="7239240" y="39621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Oval 89"/>
            <p:cNvSpPr/>
            <p:nvPr/>
          </p:nvSpPr>
          <p:spPr>
            <a:xfrm>
              <a:off x="6553440" y="3276360"/>
              <a:ext cx="761760" cy="762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Group 90"/>
          <p:cNvGrpSpPr/>
          <p:nvPr/>
        </p:nvGrpSpPr>
        <p:grpSpPr>
          <a:xfrm>
            <a:off x="7238880" y="4343400"/>
            <a:ext cx="914400" cy="914400"/>
            <a:chOff x="7238880" y="4343400"/>
            <a:chExt cx="914400" cy="914400"/>
          </a:xfrm>
        </p:grpSpPr>
        <p:sp>
          <p:nvSpPr>
            <p:cNvPr id="176" name="Oval 91"/>
            <p:cNvSpPr/>
            <p:nvPr/>
          </p:nvSpPr>
          <p:spPr>
            <a:xfrm>
              <a:off x="7238880" y="4343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Oval 92"/>
            <p:cNvSpPr/>
            <p:nvPr/>
          </p:nvSpPr>
          <p:spPr>
            <a:xfrm>
              <a:off x="8001000" y="43434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Oval 93"/>
            <p:cNvSpPr/>
            <p:nvPr/>
          </p:nvSpPr>
          <p:spPr>
            <a:xfrm>
              <a:off x="7238880" y="51051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Oval 94"/>
            <p:cNvSpPr/>
            <p:nvPr/>
          </p:nvSpPr>
          <p:spPr>
            <a:xfrm>
              <a:off x="8001000" y="5105160"/>
              <a:ext cx="152280" cy="152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Oval 95"/>
            <p:cNvSpPr/>
            <p:nvPr/>
          </p:nvSpPr>
          <p:spPr>
            <a:xfrm>
              <a:off x="7315200" y="4419360"/>
              <a:ext cx="761760" cy="762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Rectangle 96"/>
          <p:cNvSpPr/>
          <p:nvPr/>
        </p:nvSpPr>
        <p:spPr>
          <a:xfrm>
            <a:off x="6477120" y="2057400"/>
            <a:ext cx="83808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7"/>
          <p:cNvSpPr/>
          <p:nvPr/>
        </p:nvSpPr>
        <p:spPr>
          <a:xfrm>
            <a:off x="8534520" y="1905120"/>
            <a:ext cx="30456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98"/>
          <p:cNvSpPr/>
          <p:nvPr/>
        </p:nvSpPr>
        <p:spPr>
          <a:xfrm>
            <a:off x="7848720" y="2209680"/>
            <a:ext cx="22860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99"/>
          <p:cNvSpPr/>
          <p:nvPr/>
        </p:nvSpPr>
        <p:spPr>
          <a:xfrm>
            <a:off x="7579440" y="240516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47C8-8E09-46FF-AF47-88FDAF452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Scheduling the</a:t>
            </a:r>
            <a:br>
              <a:rPr sz="4000"/>
            </a:b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Program                          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6781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cheduling must take into conside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est time for employees to att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vailability of tr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vailability of training site               and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ingle or multiple s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81620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ssed vs. distribu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9-17.jpg"/>
          <p:cNvPicPr/>
          <p:nvPr/>
        </p:nvPicPr>
        <p:blipFill>
          <a:blip r:embed="rId1"/>
          <a:stretch/>
        </p:blipFill>
        <p:spPr>
          <a:xfrm>
            <a:off x="5919840" y="3276720"/>
            <a:ext cx="3224160" cy="21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C681-3C5D-46FC-9D64-FCBE57C34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Administr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5257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 of the training program also depends on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ing administration,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ich 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ordination of all the people and materials involved in the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" descr="9-18.jpg"/>
          <p:cNvPicPr/>
          <p:nvPr/>
        </p:nvPicPr>
        <p:blipFill>
          <a:blip r:embed="rId1"/>
          <a:stretch/>
        </p:blipFill>
        <p:spPr>
          <a:xfrm>
            <a:off x="5105520" y="2438280"/>
            <a:ext cx="368136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BA1E-A31E-46C0-806C-2786499E1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reating a Climate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for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raining climate conducive to learning makes participants feel relaxed, comfortable and sa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-arriva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ing trainee before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tings, information or pre-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es conditions of practice before trai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eting of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coming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relaxed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7CB7-2747-4B65-A2BD-6F645A4C7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a lesson plan and the information to include in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characteristics of an effective tr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how to decide who should attend a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what makes an effective training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elements of a positive learning cl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Gag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 nine events of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problems and solutions of training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87D0-74A2-4C57-BEF0-677FC35A3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Creating a Climate</a:t>
            </a:r>
            <a:br>
              <a:rPr sz="3600"/>
            </a:b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for Lear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facility/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discussed in choosing training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room/site is appropriate and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iner’s style and 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brief personal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 with train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able, empathetic, engaging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4E79-AAB3-4960-999C-CE41D8212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Gagn</a:t>
            </a:r>
            <a:r>
              <a:rPr b="1" lang="en-CA" sz="4000" spc="-1" strike="noStrike">
                <a:solidFill>
                  <a:srgbClr val="ccffcc"/>
                </a:solidFill>
                <a:latin typeface="Arial"/>
                <a:ea typeface="Times New Roman"/>
              </a:rPr>
              <a:t>é’s Events of Instruc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4267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ate recall of prior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the material to be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guidance for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7960" y="2286000"/>
            <a:ext cx="4267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cit performance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formation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 retention and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which we can add one m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th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201240" y="1565280"/>
            <a:ext cx="88736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Gagn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proposed nine events of instructi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177E-DB29-4117-8D2D-8A839EBEF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ccffcc"/>
                </a:solidFill>
                <a:latin typeface="Arial"/>
              </a:rPr>
              <a:t>Training Delivery Problems: Problem Participants</a:t>
            </a:r>
            <a:endParaRPr b="1" lang="en-US" sz="3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240" y="2285640"/>
            <a:ext cx="4267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esitant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nopol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oice of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g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on-list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dea z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l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4267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igid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ostile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gry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gative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how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angent t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263040" y="5673600"/>
            <a:ext cx="19760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able 9.4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228600" y="15238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 particip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8726-1036-4861-94A8-F5B2C26E8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Delivery Proble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vice and experienced trainers can experience training delivery proble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basic themes of delivery probl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. Pertaining to tr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. How trainer relates to train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3. Presenta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tudy of novice trainers identified 12 most common. Study of experienced trainers identified sol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9177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CD38-3A7F-49D4-943A-81A384C35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Delivery Proble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elve common training delivery problems expressed by novice train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.  Fear (Lack of confid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.  Perception of lack of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3.  Lack of  personal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4.  Handling difficult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5.  Encouraging partic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6.  Timing (Too much or too little materi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87CB-B259-4964-91C5-0D128F0B5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Delivery Proble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elve common training delivery probl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t’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7.  Adjusting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8.  Responding to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9.  Feedback (Acquiring and Respon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0.  Using media, materials,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1.  Opening and closing                                      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6811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pendence on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6542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438280" y="5943600"/>
          <a:ext cx="5486400" cy="396720"/>
        </p:xfrm>
        <a:graphic>
          <a:graphicData uri="http://schemas.openxmlformats.org/drawingml/2006/table">
            <a:tbl>
              <a:tblPr/>
              <a:tblGrid>
                <a:gridCol w="5486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Trainer’s Notebook 9.3 for Solu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9E48-054C-4DB5-9055-6BC2A54F1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involved in delivering a training program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ce of Lesson Plan and elements of it were pres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effective trainers and determining who should attend training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stical issues of site selection, training administration, and scheduling training re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how to create training climate, identified Events of Instruction, and common training problems and their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05B1-0E32-4FEE-93C0-93F1F53B7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Lesson Plan                                        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268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esson plan is a b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ueprint that outlines the training program in terms of sequence of activities and events that will take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sson: a cohesive unit of instruction with a specific learning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9-3.jpg"/>
          <p:cNvPicPr/>
          <p:nvPr/>
        </p:nvPicPr>
        <p:blipFill>
          <a:blip r:embed="rId1"/>
          <a:stretch/>
        </p:blipFill>
        <p:spPr>
          <a:xfrm>
            <a:off x="4724280" y="2438280"/>
            <a:ext cx="424836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884E-E3ED-4942-B86A-FC0BA1987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Lesson Pla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Lesson plan cover page should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636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636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s and i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636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me allocation and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636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lassroom requirements and se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636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ing materials an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4880" indent="-4636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 supplies and hand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0615-8033-42FA-B557-4BDF2AAC6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Lesson Pla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quencing of the various activities in the lesson is an important consi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approache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to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rete to abstr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 to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to 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iar to un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to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1CF3-52D6-4CD8-AE62-24C0B3AC6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Lesson Pla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ning with simple and familiar eases learners into new content and experi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builds trainee self-effica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trainees to see how their current level of knowledge and experience is relevant for the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imately it reduces learner anxiety and makes for a more comfortable learning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on plan should focus on what trainees will be doing during the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1E70-8ED4-4406-B067-175EE2F4B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Lesson Plan                                        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Lesson plans are critical in design ph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ows for approval  and smooth operation of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nables expenditures to be budgeted and monit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nsures training is directed toward real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nhances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ts the tone for professional approach to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4901-EF64-4115-9A02-4A624E303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he Trainer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Selecting a trainer is an important factor in the success of the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nal (HR, training staff, Manager, or S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xternal (Consultant, Volunte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Qualities of a good train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Knowledgeable or Subject matter expert (S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livery (i.e., verbal/communication, interpersonal, organizing ski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bility to make material inter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nthusiastic, expressive &amp; eng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84644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3B40-DCA9-4B73-819F-448BDC2AE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er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Developing a Train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nal staff who are SME’s may need development to be an effective tr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-the-trainer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program teaches SME’s how to design and deliver training progr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mportant and valuable investment in the SME as it will enhance experience as a trainer, increase effectiveness and ultimately improve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28T18:17:21Z</dcterms:modified>
  <cp:revision>310</cp:revision>
  <dc:subject/>
  <dc:title>Chapter 9</dc:title>
</cp:coreProperties>
</file>