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6C65-2905-4406-A54C-38557B28A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BBFD-56ED-4DEB-85AC-58F253A46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46CD-FA27-441A-9868-254B28A81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55BD-A552-4A85-83FB-4B440900F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A60D-D0B6-4363-AB1C-57C4CE4EC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9F8A-40EA-4055-BDD9-898580341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75A5-F045-4D8E-8FE1-AE74F14E6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C394-8DD9-40DC-9D95-20630AEF4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0A47-A7CF-4DF3-A172-577CDC5A5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29F5-116A-46BB-A361-3F08328FE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8F7C-50E8-40D5-BD87-14665E556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95D0-7FA0-41C6-B8AD-BF9F37594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E0E65-AB65-4C08-8008-DAC393504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072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765E-C1B1-4476-86DA-C3143DC38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4848E-3B4F-4D1A-82D3-59EDF737A2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52F41-CF44-4E82-9A32-52D80B5D7C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0AEA9-54EC-438F-80D8-BA2B628233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7EA74-A36C-438C-AC09-1287B91F0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D0908-7C61-4DAF-B6EA-5C74D7F28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287D7-3ECF-4294-9B98-D599BFA6B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52871-002A-4228-865E-D655B4C6E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1828-3340-48E3-916E-8583D1975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16C16-A23E-41D4-ACD0-9B5495AA2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0799F-E5A3-42E7-ACEE-0AD6E5DF8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7F79-BA26-4676-BF35-45D0BC4A5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5611-91D4-4097-BCD5-8CD373260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Nin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Delive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9-1.jpg"/>
          <p:cNvPicPr/>
          <p:nvPr/>
        </p:nvPicPr>
        <p:blipFill>
          <a:blip r:embed="rId1"/>
          <a:stretch/>
        </p:blipFill>
        <p:spPr>
          <a:xfrm>
            <a:off x="2666880" y="2743200"/>
            <a:ext cx="44514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83D2-BC9D-4B48-88EF-87C99DEE4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Traine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ect trainees based 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05160" y="167616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 assess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s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Arial"/>
              </a:rPr>
              <a:t>Trainability test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181480" y="4419720"/>
            <a:ext cx="36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**Test that measures an individual’s 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 learn and perform training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8" descr="9-10.jpg"/>
          <p:cNvPicPr/>
          <p:nvPr/>
        </p:nvPicPr>
        <p:blipFill>
          <a:blip r:embed="rId1"/>
          <a:stretch/>
        </p:blipFill>
        <p:spPr>
          <a:xfrm>
            <a:off x="1219320" y="4267080"/>
            <a:ext cx="297000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B23B-BD0D-44CE-BDC7-B88F433B5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ability tests invol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512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a mini-course or learning a sample of th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512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a test that measures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ve of training success and job performance in many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mostly for psychomotor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176F-677D-4E6D-ADC2-82B5A2D41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Traine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Kirkpatrick outlined four decisions for selecting participa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517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o can benefit from trai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517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programs are required by law or by government edi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517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hould training be voluntary or compuls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517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hould participants be segregated by level,   or should levels be combi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3B2D-3A5A-4D9E-8E10-64D735398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is information can be incorporated into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ing p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indicates who needs training,  the type of training that is needed, and how training will be delivere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9-13.jpg"/>
          <p:cNvPicPr/>
          <p:nvPr/>
        </p:nvPicPr>
        <p:blipFill>
          <a:blip r:embed="rId1"/>
          <a:stretch/>
        </p:blipFill>
        <p:spPr>
          <a:xfrm>
            <a:off x="2895480" y="3809880"/>
            <a:ext cx="298764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B0E8-8410-4877-82EC-6E8ACC519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Materials &amp; Equi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Material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Expendable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.e., note pads, pens, flipchart, hand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quipment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Non-expendable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.e., computer, DVD player, overhea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content, methods and exercises in a training program determine the material and equip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CC9E-2194-4CB1-8182-9FD78F005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ing Sit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training site can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mpany training facility or training ro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nted premises (conference or meeting ro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utdoor site for experienti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site should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ducive to learning (comfortable set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ree of distractions (noise, interru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t up appropriately (seating arrangement to enhance 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79DA-4D39-4085-8F60-FDE474528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705720" y="5638680"/>
            <a:ext cx="1981080" cy="609840"/>
          </a:xfrm>
          <a:prstGeom prst="rect">
            <a:avLst/>
          </a:prstGeom>
          <a:solidFill>
            <a:srgbClr val="c0c0c0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3657600" y="5638680"/>
            <a:ext cx="1981080" cy="609840"/>
          </a:xfrm>
          <a:prstGeom prst="rect">
            <a:avLst/>
          </a:prstGeom>
          <a:solidFill>
            <a:srgbClr val="c0c0c0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533520" y="5638680"/>
            <a:ext cx="1981080" cy="609840"/>
          </a:xfrm>
          <a:prstGeom prst="rect">
            <a:avLst/>
          </a:prstGeom>
          <a:solidFill>
            <a:srgbClr val="c0c0c0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ing Sit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3048120" y="16765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6248520" y="16765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756720" y="5637240"/>
            <a:ext cx="156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607560" y="5637240"/>
            <a:ext cx="205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rate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6905880" y="5637240"/>
            <a:ext cx="161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26"/>
          <p:cNvGrpSpPr/>
          <p:nvPr/>
        </p:nvGrpSpPr>
        <p:grpSpPr>
          <a:xfrm>
            <a:off x="762120" y="3886200"/>
            <a:ext cx="1371600" cy="761760"/>
            <a:chOff x="762120" y="3886200"/>
            <a:chExt cx="1371600" cy="761760"/>
          </a:xfrm>
        </p:grpSpPr>
        <p:sp>
          <p:nvSpPr>
            <p:cNvPr id="125" name="Oval 11"/>
            <p:cNvSpPr/>
            <p:nvPr/>
          </p:nvSpPr>
          <p:spPr>
            <a:xfrm>
              <a:off x="762120" y="388620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Oval 12"/>
            <p:cNvSpPr/>
            <p:nvPr/>
          </p:nvSpPr>
          <p:spPr>
            <a:xfrm>
              <a:off x="1067040" y="38862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>
              <a:off x="1371960" y="38862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4"/>
            <p:cNvSpPr/>
            <p:nvPr/>
          </p:nvSpPr>
          <p:spPr>
            <a:xfrm>
              <a:off x="1676520" y="388620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15"/>
            <p:cNvSpPr/>
            <p:nvPr/>
          </p:nvSpPr>
          <p:spPr>
            <a:xfrm>
              <a:off x="762120" y="4190760"/>
              <a:ext cx="15264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16"/>
            <p:cNvSpPr/>
            <p:nvPr/>
          </p:nvSpPr>
          <p:spPr>
            <a:xfrm>
              <a:off x="1067040" y="41907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17"/>
            <p:cNvSpPr/>
            <p:nvPr/>
          </p:nvSpPr>
          <p:spPr>
            <a:xfrm>
              <a:off x="1371960" y="41907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18"/>
            <p:cNvSpPr/>
            <p:nvPr/>
          </p:nvSpPr>
          <p:spPr>
            <a:xfrm>
              <a:off x="1676520" y="4190760"/>
              <a:ext cx="15264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9"/>
            <p:cNvSpPr/>
            <p:nvPr/>
          </p:nvSpPr>
          <p:spPr>
            <a:xfrm>
              <a:off x="1981440" y="41907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20"/>
            <p:cNvSpPr/>
            <p:nvPr/>
          </p:nvSpPr>
          <p:spPr>
            <a:xfrm>
              <a:off x="1981440" y="44956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21"/>
            <p:cNvSpPr/>
            <p:nvPr/>
          </p:nvSpPr>
          <p:spPr>
            <a:xfrm>
              <a:off x="1981440" y="38862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22"/>
            <p:cNvSpPr/>
            <p:nvPr/>
          </p:nvSpPr>
          <p:spPr>
            <a:xfrm>
              <a:off x="762120" y="44956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23"/>
            <p:cNvSpPr/>
            <p:nvPr/>
          </p:nvSpPr>
          <p:spPr>
            <a:xfrm>
              <a:off x="1067040" y="44956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24"/>
            <p:cNvSpPr/>
            <p:nvPr/>
          </p:nvSpPr>
          <p:spPr>
            <a:xfrm>
              <a:off x="1371960" y="44956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25"/>
            <p:cNvSpPr/>
            <p:nvPr/>
          </p:nvSpPr>
          <p:spPr>
            <a:xfrm>
              <a:off x="1676520" y="44956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Rectangle 27"/>
          <p:cNvSpPr/>
          <p:nvPr/>
        </p:nvSpPr>
        <p:spPr>
          <a:xfrm>
            <a:off x="685800" y="2514600"/>
            <a:ext cx="16002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29"/>
          <p:cNvSpPr/>
          <p:nvPr/>
        </p:nvSpPr>
        <p:spPr>
          <a:xfrm>
            <a:off x="3581280" y="4191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30"/>
          <p:cNvSpPr/>
          <p:nvPr/>
        </p:nvSpPr>
        <p:spPr>
          <a:xfrm>
            <a:off x="3581280" y="3581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32"/>
          <p:cNvSpPr/>
          <p:nvPr/>
        </p:nvSpPr>
        <p:spPr>
          <a:xfrm>
            <a:off x="5486400" y="3581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33"/>
          <p:cNvSpPr/>
          <p:nvPr/>
        </p:nvSpPr>
        <p:spPr>
          <a:xfrm>
            <a:off x="3581280" y="4495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34"/>
          <p:cNvSpPr/>
          <p:nvPr/>
        </p:nvSpPr>
        <p:spPr>
          <a:xfrm>
            <a:off x="3581280" y="3886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36"/>
          <p:cNvSpPr/>
          <p:nvPr/>
        </p:nvSpPr>
        <p:spPr>
          <a:xfrm>
            <a:off x="5486400" y="3886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37"/>
          <p:cNvSpPr/>
          <p:nvPr/>
        </p:nvSpPr>
        <p:spPr>
          <a:xfrm>
            <a:off x="5486400" y="4495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38"/>
          <p:cNvSpPr/>
          <p:nvPr/>
        </p:nvSpPr>
        <p:spPr>
          <a:xfrm>
            <a:off x="5181480" y="4876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39"/>
          <p:cNvSpPr/>
          <p:nvPr/>
        </p:nvSpPr>
        <p:spPr>
          <a:xfrm>
            <a:off x="548640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40"/>
          <p:cNvSpPr/>
          <p:nvPr/>
        </p:nvSpPr>
        <p:spPr>
          <a:xfrm>
            <a:off x="3962520" y="4876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41"/>
          <p:cNvSpPr/>
          <p:nvPr/>
        </p:nvSpPr>
        <p:spPr>
          <a:xfrm>
            <a:off x="4267080" y="4876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42"/>
          <p:cNvSpPr/>
          <p:nvPr/>
        </p:nvSpPr>
        <p:spPr>
          <a:xfrm>
            <a:off x="4572000" y="4876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43"/>
          <p:cNvSpPr/>
          <p:nvPr/>
        </p:nvSpPr>
        <p:spPr>
          <a:xfrm>
            <a:off x="4876920" y="4876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64"/>
          <p:cNvSpPr/>
          <p:nvPr/>
        </p:nvSpPr>
        <p:spPr>
          <a:xfrm>
            <a:off x="1371600" y="182880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5"/>
          <p:cNvSpPr/>
          <p:nvPr/>
        </p:nvSpPr>
        <p:spPr>
          <a:xfrm>
            <a:off x="1102320" y="202392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2"/>
          <p:cNvSpPr/>
          <p:nvPr/>
        </p:nvSpPr>
        <p:spPr>
          <a:xfrm>
            <a:off x="6232680" y="2652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3"/>
          <p:cNvSpPr/>
          <p:nvPr/>
        </p:nvSpPr>
        <p:spPr>
          <a:xfrm>
            <a:off x="3809880" y="4572000"/>
            <a:ext cx="16002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4"/>
          <p:cNvSpPr/>
          <p:nvPr/>
        </p:nvSpPr>
        <p:spPr>
          <a:xfrm>
            <a:off x="3809880" y="3505320"/>
            <a:ext cx="228600" cy="1066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5"/>
          <p:cNvSpPr/>
          <p:nvPr/>
        </p:nvSpPr>
        <p:spPr>
          <a:xfrm>
            <a:off x="5181480" y="3505320"/>
            <a:ext cx="228600" cy="1066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6"/>
          <p:cNvSpPr/>
          <p:nvPr/>
        </p:nvSpPr>
        <p:spPr>
          <a:xfrm>
            <a:off x="3809880" y="2514600"/>
            <a:ext cx="16002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77"/>
          <p:cNvSpPr/>
          <p:nvPr/>
        </p:nvSpPr>
        <p:spPr>
          <a:xfrm>
            <a:off x="4495680" y="182880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78"/>
          <p:cNvSpPr/>
          <p:nvPr/>
        </p:nvSpPr>
        <p:spPr>
          <a:xfrm>
            <a:off x="4226760" y="202392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83"/>
          <p:cNvGrpSpPr/>
          <p:nvPr/>
        </p:nvGrpSpPr>
        <p:grpSpPr>
          <a:xfrm>
            <a:off x="7924680" y="3200400"/>
            <a:ext cx="914400" cy="914400"/>
            <a:chOff x="7924680" y="3200400"/>
            <a:chExt cx="914400" cy="914400"/>
          </a:xfrm>
        </p:grpSpPr>
        <p:sp>
          <p:nvSpPr>
            <p:cNvPr id="164" name="Oval 48"/>
            <p:cNvSpPr/>
            <p:nvPr/>
          </p:nvSpPr>
          <p:spPr>
            <a:xfrm>
              <a:off x="7924680" y="3200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51"/>
            <p:cNvSpPr/>
            <p:nvPr/>
          </p:nvSpPr>
          <p:spPr>
            <a:xfrm>
              <a:off x="8686800" y="3200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52"/>
            <p:cNvSpPr/>
            <p:nvPr/>
          </p:nvSpPr>
          <p:spPr>
            <a:xfrm>
              <a:off x="7924680" y="3962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57"/>
            <p:cNvSpPr/>
            <p:nvPr/>
          </p:nvSpPr>
          <p:spPr>
            <a:xfrm>
              <a:off x="8686800" y="3962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Oval 81"/>
            <p:cNvSpPr/>
            <p:nvPr/>
          </p:nvSpPr>
          <p:spPr>
            <a:xfrm>
              <a:off x="8001000" y="3276360"/>
              <a:ext cx="761760" cy="762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84"/>
          <p:cNvGrpSpPr/>
          <p:nvPr/>
        </p:nvGrpSpPr>
        <p:grpSpPr>
          <a:xfrm>
            <a:off x="6477120" y="3200400"/>
            <a:ext cx="914400" cy="914400"/>
            <a:chOff x="6477120" y="3200400"/>
            <a:chExt cx="914400" cy="914400"/>
          </a:xfrm>
        </p:grpSpPr>
        <p:sp>
          <p:nvSpPr>
            <p:cNvPr id="170" name="Oval 85"/>
            <p:cNvSpPr/>
            <p:nvPr/>
          </p:nvSpPr>
          <p:spPr>
            <a:xfrm>
              <a:off x="6477120" y="3200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86"/>
            <p:cNvSpPr/>
            <p:nvPr/>
          </p:nvSpPr>
          <p:spPr>
            <a:xfrm>
              <a:off x="7239240" y="3200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87"/>
            <p:cNvSpPr/>
            <p:nvPr/>
          </p:nvSpPr>
          <p:spPr>
            <a:xfrm>
              <a:off x="6477120" y="3962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Oval 88"/>
            <p:cNvSpPr/>
            <p:nvPr/>
          </p:nvSpPr>
          <p:spPr>
            <a:xfrm>
              <a:off x="7239240" y="3962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Oval 89"/>
            <p:cNvSpPr/>
            <p:nvPr/>
          </p:nvSpPr>
          <p:spPr>
            <a:xfrm>
              <a:off x="6553440" y="3276360"/>
              <a:ext cx="761760" cy="762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90"/>
          <p:cNvGrpSpPr/>
          <p:nvPr/>
        </p:nvGrpSpPr>
        <p:grpSpPr>
          <a:xfrm>
            <a:off x="7238880" y="4343400"/>
            <a:ext cx="914400" cy="914400"/>
            <a:chOff x="7238880" y="4343400"/>
            <a:chExt cx="914400" cy="914400"/>
          </a:xfrm>
        </p:grpSpPr>
        <p:sp>
          <p:nvSpPr>
            <p:cNvPr id="176" name="Oval 91"/>
            <p:cNvSpPr/>
            <p:nvPr/>
          </p:nvSpPr>
          <p:spPr>
            <a:xfrm>
              <a:off x="7238880" y="4343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92"/>
            <p:cNvSpPr/>
            <p:nvPr/>
          </p:nvSpPr>
          <p:spPr>
            <a:xfrm>
              <a:off x="8001000" y="4343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93"/>
            <p:cNvSpPr/>
            <p:nvPr/>
          </p:nvSpPr>
          <p:spPr>
            <a:xfrm>
              <a:off x="7238880" y="5105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Oval 94"/>
            <p:cNvSpPr/>
            <p:nvPr/>
          </p:nvSpPr>
          <p:spPr>
            <a:xfrm>
              <a:off x="8001000" y="5105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Oval 95"/>
            <p:cNvSpPr/>
            <p:nvPr/>
          </p:nvSpPr>
          <p:spPr>
            <a:xfrm>
              <a:off x="7315200" y="4419360"/>
              <a:ext cx="761760" cy="762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Rectangle 96"/>
          <p:cNvSpPr/>
          <p:nvPr/>
        </p:nvSpPr>
        <p:spPr>
          <a:xfrm>
            <a:off x="6477120" y="2057400"/>
            <a:ext cx="8380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7"/>
          <p:cNvSpPr/>
          <p:nvPr/>
        </p:nvSpPr>
        <p:spPr>
          <a:xfrm>
            <a:off x="8534520" y="1905120"/>
            <a:ext cx="30456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98"/>
          <p:cNvSpPr/>
          <p:nvPr/>
        </p:nvSpPr>
        <p:spPr>
          <a:xfrm>
            <a:off x="7848720" y="220968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99"/>
          <p:cNvSpPr/>
          <p:nvPr/>
        </p:nvSpPr>
        <p:spPr>
          <a:xfrm>
            <a:off x="7579440" y="240516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E0BA-F03C-4732-B006-403AC717F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cheduling the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Program                          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6781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cheduling must take into conside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st time for employees to att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vailability of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vailability of training site               and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ngle or multiple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81620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ssed vs. distribu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9-17.jpg"/>
          <p:cNvPicPr/>
          <p:nvPr/>
        </p:nvPicPr>
        <p:blipFill>
          <a:blip r:embed="rId1"/>
          <a:stretch/>
        </p:blipFill>
        <p:spPr>
          <a:xfrm>
            <a:off x="5919840" y="3276720"/>
            <a:ext cx="322416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5798-66A1-4FCD-A159-7FED8A029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Administr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5257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 of the training program also depends on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administration,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ich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ordination of all the people and materials involved in the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9-18.jpg"/>
          <p:cNvPicPr/>
          <p:nvPr/>
        </p:nvPicPr>
        <p:blipFill>
          <a:blip r:embed="rId1"/>
          <a:stretch/>
        </p:blipFill>
        <p:spPr>
          <a:xfrm>
            <a:off x="5105520" y="2438280"/>
            <a:ext cx="368136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0D17-E0A6-4500-AC0C-D013C9494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reating a Climate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for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aining climate conducive to learning makes participants feel relaxed, comfortable and sa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-arriv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ing trainee befor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tings, information or pre-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s conditions of practice before tra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eting of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coming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relaxed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C334-1447-4190-A712-BAC35F1D1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 lesson plan and the information to include i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characteristics of an effective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how to decide who should attend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what makes an effective training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elements of a positive learning 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Gag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nine events of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problems and solutions of training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54FE-C314-4B5F-9BFE-223FED515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Creating a Climate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or Lear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facility/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discussed in choosing training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room/site is appropriate and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ner’s style and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brief personal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 with train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able, empathetic, engaging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3FBD-7CD0-418B-BE00-3C6E24095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Gagn</a:t>
            </a:r>
            <a:r>
              <a:rPr b="1" lang="en-CA" sz="4000" spc="-1" strike="noStrike">
                <a:solidFill>
                  <a:srgbClr val="ccffcc"/>
                </a:solidFill>
                <a:latin typeface="Arial"/>
                <a:ea typeface="Times New Roman"/>
              </a:rPr>
              <a:t>é’s Events of Instruc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 recall of prior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the material to be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guidance fo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22860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cit performanc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formation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 retention and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which we can add one m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01240" y="1565280"/>
            <a:ext cx="88736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Gagn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proposed nine events of instructi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6E2A-6354-4E16-A970-DAA205125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ccffcc"/>
                </a:solidFill>
                <a:latin typeface="Arial"/>
              </a:rPr>
              <a:t>Training Delivery Problems: Problem Participants</a:t>
            </a:r>
            <a:endParaRPr b="1" lang="en-US" sz="3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4267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sitant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nopol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oice of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g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n-list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z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l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4267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id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ostil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gry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gativ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ow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ngent t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263040" y="5673600"/>
            <a:ext cx="19760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9.4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228600" y="15238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5FEE-DCF0-4006-B4E6-4CD7E36C9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Delivery Proble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ice and experienced trainers can experience training delivery probl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basic themes of delivery 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. Pertaining to tr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. How trainer relates to train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. Presenta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tudy of novice trainers identified 12 most common. Study of experienced trainers identified 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9177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38FA-0888-4820-BC3D-F4F503ECB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Delivery Proble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elve common training delivery problems expressed by novice train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.  Fear (Lack of confid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.  Perception of lack of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.  Lack of  personal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4.  Handling difficult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5.  Encouraging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6.  Timing (Too much or too little mater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5C0B-EE2A-4E93-BB46-430922FA2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Delivery Proble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elve common training delivery probl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’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7.  Adjusting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8.  Responding to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9.  Feedback (Acquiring and Respon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0.  Using media, materials,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1.  Opening and closing                                      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811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pendence on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6542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438280" y="5943600"/>
          <a:ext cx="5486400" cy="39672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Trainer’s Notebook 9.3 for Solu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8328-8D8E-4698-BBEA-4FC699DF5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involved in delivering a training program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ce of Lesson Plan and elements of it were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effective trainers and determining who should attend training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stical issues of site selection, training administration, and scheduling training re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how to create training climate, identified Events of Instruction, and common training problems and their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37E5-88EA-4609-9F45-D41667E8E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                                        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26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sson plan is a b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ueprint that outlines the training program in terms of sequence of activities and events that will tak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sson: a cohesive unit of instruction with a specific learning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9-3.jpg"/>
          <p:cNvPicPr/>
          <p:nvPr/>
        </p:nvPicPr>
        <p:blipFill>
          <a:blip r:embed="rId1"/>
          <a:stretch/>
        </p:blipFill>
        <p:spPr>
          <a:xfrm>
            <a:off x="4724280" y="2438280"/>
            <a:ext cx="424836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43E0-318E-4322-916A-F3D224DF5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Lesson plan cover page should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s and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me allocation and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lassroom requirements and s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materials an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supplies and hand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6FF7-2913-4FA1-B242-F217A06C8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quencing of the various activities in the lesson is an important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approache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to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rete to abstr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 to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to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iar to un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to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EAA5-849C-4403-B159-DAAA284C5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with simple and familiar eases learners into new content and experi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uilds trainee self-effic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trainees to see how their current level of knowledge and experience is relevant for th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imately it reduces learner anxiety and makes for a more comfortable learning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on plan should focus on what trainees will be doing during the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57DF-52CB-42F8-924B-8CF8CE124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                                        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Lesson plans are critical in design ph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ows for approval  and smooth operation of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nables expenditures to be budgeted and moni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nsures training is directed toward re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nhances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ts the tone for professional approach to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F852-645B-41C2-9BC6-CC3118745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Trainer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electing a trainer is an important factor in the success of the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nal (HR, training staff, Manager, or S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ternal (Consultant, Volunte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Qualities of a good train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Knowledgeable or Subject matter expert (S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livery (i.e., verbal/communication, interpersonal, organizing ski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bility to make material inter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thusiastic, expressive &amp; eng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4644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2999-31FF-4308-9716-0C49ED12E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r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eveloping a Trai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nal staff who are SME’s may need development to be an effective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-the-trainer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program teaches SME’s how to design and deliver training pro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portant and valuable investment in the SME as it will enhance experience as a trainer, increase effectiveness and ultimately improv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28T18:17:21Z</dcterms:modified>
  <cp:revision>310</cp:revision>
  <dc:subject/>
  <dc:title>Chapter 9</dc:title>
</cp:coreProperties>
</file>