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DEF5-25C7-4E34-9969-28A5BE964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7D0C-721E-4C68-84D6-4D0392318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1581-1D75-4DAA-949F-48836900D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EE88-1BC3-44BE-9B05-9CEB4E490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E0BA-1062-4324-AE49-F5039B041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405E-A5CD-4666-A180-068F26BD3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8EA7-DDD1-4357-8801-112A3E1C2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BA33-23D7-432B-8277-D4B7B8E5C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BCB1-CAA2-4EE8-A478-760408EC7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A60A-F8F9-4977-A192-BBCAF4026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98C0-85D0-4364-8390-4B9110F207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BC7B-03C7-4FAE-A8E8-E1D6354EAD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66E73-1B3D-4CE1-BD07-3E1A71A90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74E6-15DB-4BBB-A954-59511461C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75F8D-50E2-408E-9A8C-0625CE5EE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F34C-C62F-4C9C-B653-971DBF5D7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D04C-4382-41E6-9661-F926A4DB0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E9C1-C08E-4F68-9294-F9C3D3740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E59E-7685-408C-88C0-1788ED2C7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A778-A3E3-4E30-A24C-D160B74AF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324120"/>
            <a:ext cx="4953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DAF0-3A45-409B-A2EE-A97EEBB90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Elev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4800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705720" y="2209680"/>
            <a:ext cx="1447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9" descr="11-2.jpg"/>
          <p:cNvPicPr/>
          <p:nvPr/>
        </p:nvPicPr>
        <p:blipFill>
          <a:blip r:embed="rId1"/>
          <a:stretch/>
        </p:blipFill>
        <p:spPr>
          <a:xfrm>
            <a:off x="5638680" y="1523880"/>
            <a:ext cx="28450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F1EB-EDFF-470F-8EE7-FF73315C8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Evaluations may be distinguished from each other with respec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data gathered and analy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fundamental purpose of th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11-4.jpg"/>
          <p:cNvPicPr/>
          <p:nvPr/>
        </p:nvPicPr>
        <p:blipFill>
          <a:blip r:embed="rId1"/>
          <a:stretch/>
        </p:blipFill>
        <p:spPr>
          <a:xfrm>
            <a:off x="3352680" y="4343400"/>
            <a:ext cx="25606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E019-63F6-4322-80E4-59E1ADEAC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data gathered and analy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perceptions, learning and behaviour at the conclusion of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sessing psychological forces that operate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about the work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-49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climate and learning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A6A1-7B5C-4268-A090-909F94C5B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The purpose of the eval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rmative: provide data about various aspects of a train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mmative: provide data about worthiness or effectiveness of a training program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criptive: provide information that describes the trainee once they have completed a train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usal: provide information to determine if training caused the post-training behavi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7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29DF-C3BE-48A1-8B0A-E3D1D38EC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irkpatrick’s Hierarchic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ldest, best known, and most frequently used mod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Four Levels of Training E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1: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2: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3: Behavi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4: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1-5.jpg"/>
          <p:cNvPicPr/>
          <p:nvPr/>
        </p:nvPicPr>
        <p:blipFill>
          <a:blip r:embed="rId1"/>
          <a:stretch/>
        </p:blipFill>
        <p:spPr>
          <a:xfrm>
            <a:off x="5410080" y="3809880"/>
            <a:ext cx="3581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1628-DC9D-48AF-AFD3-EC36D39F3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rkpatrick’s Model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vides a systematic framework for assessing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four levels are presented in a hierarchy with each level providing more important information than the preceding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assumes all levels are positively related to each other; have causal effect on the nex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ributions of Kirkpatrick model not to be underestimated; clear, simple, demystified evaluation and provide impetus fo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C335-6B1E-4438-84B5-2DFEE6850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re is general agreement that the four levels are important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tcomes to be assessed  there are some critiques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ubt about the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sufficiently diagno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irkpatrick requires all training evaluations to rely on the same variables and outcome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9E11-BB7A-469A-BC1E-69972B0BE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training evaluation model that involves the measurement of four types of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ganization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08296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C3A7-1778-4AA8-AEDD-8CFBD6F30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A model improves on Kirkpatrick’s model in three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s a greater number of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are causally related to training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variables with greater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COMA model is relatively new so too early to determine its value; also its focus is on factors that impact transfer only;  and it does not specify how evaluations should be cond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A230-3ECB-402C-AE68-77CF01654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-Based Evalu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training evaluation model that specifies the target, focus, and methods of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11-6.jpg"/>
          <p:cNvPicPr/>
          <p:nvPr/>
        </p:nvPicPr>
        <p:blipFill>
          <a:blip r:embed="rId1"/>
          <a:stretch/>
        </p:blipFill>
        <p:spPr>
          <a:xfrm>
            <a:off x="2514600" y="34290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DF52-8869-4C3D-83A6-284F66D27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-Based Evalu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oes further than either of the two preceding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the target of th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its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uggest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eneral to any evaluation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lexibility: guided by target of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9A27-0FAD-4A07-B63F-41C0C40AE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raining evaluation and the main reasons for conducting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barriers to evaluation and the factors that affect whether or not an evaluation is condu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t types of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models of training evaluation and the relationship among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8D9B-67F4-4CE4-99E2-84EFFB2D2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ith COMA, the DBE model is recent and will need to be tested more 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models require specialized knowledge to complete the evaluation; this can limit their use in organizations without this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ton and colleagues’ Learning Transfer System Inventory (seen in Ch 10) provides a more generic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raining Today 11.2 for more on its use for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C4BE-F00A-4D82-B347-213391B02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requires data be collected on important aspects of 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variables have been identified in the three models of eval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re complete list of variables is presented in Table 11.1 and Table 11.2 shows sample questions and formats for measuring each type of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D8CC-4528-4169-8D98-AE7601793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ived/anticipate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950800" y="5105520"/>
            <a:ext cx="2155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11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11-7.jpg"/>
          <p:cNvPicPr/>
          <p:nvPr/>
        </p:nvPicPr>
        <p:blipFill>
          <a:blip r:embed="rId1"/>
          <a:stretch/>
        </p:blipFill>
        <p:spPr>
          <a:xfrm>
            <a:off x="5013360" y="1447920"/>
            <a:ext cx="413064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5834-6683-4200-A738-9FC94D8CF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ffective reac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s that assess trainees’ likes and dislikes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Utility reac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s that assess the perceived usefulness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11-8.jpg"/>
          <p:cNvPicPr/>
          <p:nvPr/>
        </p:nvPicPr>
        <p:blipFill>
          <a:blip r:embed="rId1"/>
          <a:stretch/>
        </p:blipFill>
        <p:spPr>
          <a:xfrm>
            <a:off x="5943600" y="3276720"/>
            <a:ext cx="31068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97FE-B4A4-48F9-875C-B37C968C4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outcomes can be measur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498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eclarative lear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fers to the acquisition of facts and information, and is by far the most frequently assessed learning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498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ocedural lear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fers to the organization of facts and information into a smooth behavioural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7C63-6A46-490F-A392-85D439733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haviours can be measured using three approa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652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duction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11-9.jpg"/>
          <p:cNvPicPr/>
          <p:nvPr/>
        </p:nvPicPr>
        <p:blipFill>
          <a:blip r:embed="rId1"/>
          <a:stretch/>
        </p:blipFill>
        <p:spPr>
          <a:xfrm>
            <a:off x="5365800" y="2971800"/>
            <a:ext cx="3778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E1AA-B0B5-4368-938A-C2690EAF0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wo types of motivation in the training cont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5205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5205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to apply the skill on-the-job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s to the beliefs that trainees have about their ability to perform the behaviours that were taught in a training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76DC-F05E-4035-9DCC-B924FE1A5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ived and/or Anticipate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wo important measures of support a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45720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511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Perceived support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e degree to              which the trainee reports receiving              support in attempts to transfer the            learned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0">
              <a:spcBef>
                <a:spcPts val="649"/>
              </a:spcBef>
              <a:buNone/>
              <a:tabLst>
                <a:tab algn="l" pos="0"/>
                <a:tab algn="l" pos="511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Anticipated support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e degree to            which the trainee expects to supported             in attempts to transfer the learned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11-10.jpg"/>
          <p:cNvPicPr/>
          <p:nvPr/>
        </p:nvPicPr>
        <p:blipFill>
          <a:blip r:embed="rId1"/>
          <a:stretch/>
        </p:blipFill>
        <p:spPr>
          <a:xfrm>
            <a:off x="6997680" y="2057400"/>
            <a:ext cx="19987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FDAB-B1D8-4ACB-AF4F-676917108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4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3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wo scales designed to measure perce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-476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nsfer climate: can be assessed via a questionnaire that identifies eight sets of “cu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-476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inuous learning culture: can be assessed via questionnaire presented in Trainer’s Notebook 4.1 in chapter 4 of your 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736440" indent="0">
              <a:spcBef>
                <a:spcPts val="70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257C-BAB0-4719-A0B3-70FB3124A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6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238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ransfer climate cures inclu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o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oci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ask and structur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o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11-11.jpg"/>
          <p:cNvPicPr/>
          <p:nvPr/>
        </p:nvPicPr>
        <p:blipFill>
          <a:blip r:embed="rId1"/>
          <a:stretch/>
        </p:blipFill>
        <p:spPr>
          <a:xfrm>
            <a:off x="6248520" y="2057400"/>
            <a:ext cx="2222280" cy="14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11-12.jpg"/>
          <p:cNvPicPr/>
          <p:nvPr/>
        </p:nvPicPr>
        <p:blipFill>
          <a:blip r:embed="rId2"/>
          <a:stretch/>
        </p:blipFill>
        <p:spPr>
          <a:xfrm>
            <a:off x="6400800" y="3581280"/>
            <a:ext cx="2135160" cy="1436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11-13.jpg"/>
          <p:cNvPicPr/>
          <p:nvPr/>
        </p:nvPicPr>
        <p:blipFill>
          <a:blip r:embed="rId3"/>
          <a:stretch/>
        </p:blipFill>
        <p:spPr>
          <a:xfrm>
            <a:off x="6858000" y="5029200"/>
            <a:ext cx="17906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3EE8-4D94-4013-99BD-7518BEE2A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main variables to measure in a training evaluation and how they are measu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different types of designs for training evaluation, as well as their requirements, limits, and when they should be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8C42-F07A-4148-8FD9-78554742D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-736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ults information consists o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Hard data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sults that can be measured objectively (i.e., number of items so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 Dat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ults that are assessed through perceptions and judgments (i.e., attitu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turn on Expecta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ment of a training program’s ability to meet managerial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9DC4-5A62-4180-8762-B94BD43EC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ner with which the data collection is organized and how the data will be analy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data collection designs compare the trained person t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11-14.jpg"/>
          <p:cNvPicPr/>
          <p:nvPr/>
        </p:nvPicPr>
        <p:blipFill>
          <a:blip r:embed="rId1"/>
          <a:stretch/>
        </p:blipFill>
        <p:spPr>
          <a:xfrm>
            <a:off x="4892760" y="1905120"/>
            <a:ext cx="42512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F0B7-9F0C-4517-8320-CA0795144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on-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Comparison is made to a standard and not to another group of (untrained)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rained group is compared to another group that does not receive the training and when the assignment of people to the training group and the non-training group is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Quasi-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rained group is compared to another group that does not receive the training, but when the assignment of people to the training group and the non-training group is not ran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BD05-C205-486C-A9DC-103207BEB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 Types of Evaluation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A: The single group post-only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B: The single group pre-post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C: The time series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Design D: The single group design with control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ign E: The pre-post design with control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ign F: The time-series design with comparison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sign G: The internal referencing strategy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of the above are non-experimenta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*Casual Models: experimental or quasi-expe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***Hybrid design that permits some conclusions drawn from causa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E115-14F3-4E8C-B72F-F75286D89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97" name="Picture 5" descr="p344.jpg"/>
          <p:cNvPicPr/>
          <p:nvPr/>
        </p:nvPicPr>
        <p:blipFill>
          <a:blip r:embed="rId1"/>
          <a:stretch/>
        </p:blipFill>
        <p:spPr>
          <a:xfrm>
            <a:off x="1600200" y="1752480"/>
            <a:ext cx="5562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47A7-258B-43EA-AB1A-22DF7CA39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3915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638680" y="34290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 flipV="1">
            <a:off x="6095880" y="29718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221400" y="5192640"/>
            <a:ext cx="39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Single Group Post-only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4941000" y="5175360"/>
            <a:ext cx="390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Single Group Pre-Pos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18EF-6DD4-4E4C-85D4-8314BEE08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289548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3915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489960" y="5192640"/>
            <a:ext cx="272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Time Series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328000" y="5175360"/>
            <a:ext cx="285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: Single Group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trol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15"/>
          <p:cNvSpPr/>
          <p:nvPr/>
        </p:nvSpPr>
        <p:spPr>
          <a:xfrm>
            <a:off x="228600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16"/>
          <p:cNvSpPr/>
          <p:nvPr/>
        </p:nvSpPr>
        <p:spPr>
          <a:xfrm>
            <a:off x="68580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17"/>
          <p:cNvSpPr/>
          <p:nvPr/>
        </p:nvSpPr>
        <p:spPr>
          <a:xfrm>
            <a:off x="129528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18"/>
          <p:cNvCxnSpPr>
            <a:stCxn id="227" idx="6"/>
            <a:endCxn id="228" idx="2"/>
          </p:cNvCxnSpPr>
          <p:nvPr/>
        </p:nvCxnSpPr>
        <p:spPr>
          <a:xfrm>
            <a:off x="1142640" y="41526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AutoShape 19"/>
          <p:cNvCxnSpPr>
            <a:stCxn id="226" idx="6"/>
            <a:endCxn id="219" idx="2"/>
          </p:cNvCxnSpPr>
          <p:nvPr/>
        </p:nvCxnSpPr>
        <p:spPr>
          <a:xfrm>
            <a:off x="2742840" y="2857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1" name="Line 20"/>
          <p:cNvSpPr/>
          <p:nvPr/>
        </p:nvSpPr>
        <p:spPr>
          <a:xfrm flipV="1">
            <a:off x="1752480" y="3047760"/>
            <a:ext cx="6098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7391520" y="32767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22"/>
          <p:cNvSpPr/>
          <p:nvPr/>
        </p:nvSpPr>
        <p:spPr>
          <a:xfrm>
            <a:off x="3166920" y="16002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3576960" y="15987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4846680" y="15987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Un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6"/>
          <p:cNvSpPr/>
          <p:nvPr/>
        </p:nvSpPr>
        <p:spPr>
          <a:xfrm>
            <a:off x="3048120" y="1523880"/>
            <a:ext cx="2819160" cy="533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4419720" y="16002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1F3E-695D-4E0F-B46F-921650AB6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41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66360" y="5192640"/>
            <a:ext cx="237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: Pre-pos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trol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5334120" y="5175360"/>
            <a:ext cx="28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: Time Series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mparison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769608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20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25909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22"/>
          <p:cNvSpPr/>
          <p:nvPr/>
        </p:nvSpPr>
        <p:spPr>
          <a:xfrm>
            <a:off x="762120" y="36576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7621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6"/>
          <p:cNvSpPr/>
          <p:nvPr/>
        </p:nvSpPr>
        <p:spPr>
          <a:xfrm flipV="1">
            <a:off x="121932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29528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31"/>
          <p:cNvSpPr/>
          <p:nvPr/>
        </p:nvSpPr>
        <p:spPr>
          <a:xfrm>
            <a:off x="769608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32"/>
          <p:cNvSpPr/>
          <p:nvPr/>
        </p:nvSpPr>
        <p:spPr>
          <a:xfrm>
            <a:off x="708660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33"/>
          <p:cNvSpPr/>
          <p:nvPr/>
        </p:nvSpPr>
        <p:spPr>
          <a:xfrm>
            <a:off x="548640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34"/>
          <p:cNvSpPr/>
          <p:nvPr/>
        </p:nvSpPr>
        <p:spPr>
          <a:xfrm>
            <a:off x="609588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AutoShape 35"/>
          <p:cNvCxnSpPr>
            <a:stCxn id="258" idx="6"/>
            <a:endCxn id="259" idx="2"/>
          </p:cNvCxnSpPr>
          <p:nvPr/>
        </p:nvCxnSpPr>
        <p:spPr>
          <a:xfrm>
            <a:off x="5943240" y="41526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" name="AutoShape 36"/>
          <p:cNvCxnSpPr>
            <a:stCxn id="257" idx="6"/>
            <a:endCxn id="256" idx="2"/>
          </p:cNvCxnSpPr>
          <p:nvPr/>
        </p:nvCxnSpPr>
        <p:spPr>
          <a:xfrm>
            <a:off x="7543440" y="2857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2" name="Line 37"/>
          <p:cNvSpPr/>
          <p:nvPr/>
        </p:nvSpPr>
        <p:spPr>
          <a:xfrm flipV="1">
            <a:off x="6553080" y="3047760"/>
            <a:ext cx="6098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8"/>
          <p:cNvSpPr/>
          <p:nvPr/>
        </p:nvSpPr>
        <p:spPr>
          <a:xfrm>
            <a:off x="708660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9"/>
          <p:cNvSpPr/>
          <p:nvPr/>
        </p:nvSpPr>
        <p:spPr>
          <a:xfrm>
            <a:off x="601992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0"/>
          <p:cNvSpPr/>
          <p:nvPr/>
        </p:nvSpPr>
        <p:spPr>
          <a:xfrm>
            <a:off x="541008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AutoShape 41"/>
          <p:cNvCxnSpPr>
            <a:stCxn id="265" idx="3"/>
            <a:endCxn id="264" idx="1"/>
          </p:cNvCxnSpPr>
          <p:nvPr/>
        </p:nvCxnSpPr>
        <p:spPr>
          <a:xfrm>
            <a:off x="5867280" y="430488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AutoShape 42"/>
          <p:cNvCxnSpPr>
            <a:stCxn id="263" idx="3"/>
            <a:endCxn id="249" idx="1"/>
          </p:cNvCxnSpPr>
          <p:nvPr/>
        </p:nvCxnSpPr>
        <p:spPr>
          <a:xfrm>
            <a:off x="7543440" y="43048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Line 43"/>
          <p:cNvSpPr/>
          <p:nvPr/>
        </p:nvSpPr>
        <p:spPr>
          <a:xfrm>
            <a:off x="655308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54"/>
          <p:cNvSpPr/>
          <p:nvPr/>
        </p:nvSpPr>
        <p:spPr>
          <a:xfrm>
            <a:off x="3166920" y="16002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55"/>
          <p:cNvSpPr/>
          <p:nvPr/>
        </p:nvSpPr>
        <p:spPr>
          <a:xfrm>
            <a:off x="4419720" y="16002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6"/>
          <p:cNvSpPr/>
          <p:nvPr/>
        </p:nvSpPr>
        <p:spPr>
          <a:xfrm>
            <a:off x="3576960" y="15987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4846680" y="15987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Un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8"/>
          <p:cNvSpPr/>
          <p:nvPr/>
        </p:nvSpPr>
        <p:spPr>
          <a:xfrm>
            <a:off x="3048120" y="1523880"/>
            <a:ext cx="2819160" cy="533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7BB2-54CC-4B8D-96EC-B8972FD8F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289080" y="5192640"/>
            <a:ext cx="38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: Internal Referencing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12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25909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14"/>
          <p:cNvSpPr/>
          <p:nvPr/>
        </p:nvSpPr>
        <p:spPr>
          <a:xfrm>
            <a:off x="762120" y="36576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7621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6"/>
          <p:cNvSpPr/>
          <p:nvPr/>
        </p:nvSpPr>
        <p:spPr>
          <a:xfrm flipV="1">
            <a:off x="121932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129528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1"/>
          <p:cNvSpPr/>
          <p:nvPr/>
        </p:nvSpPr>
        <p:spPr>
          <a:xfrm>
            <a:off x="4648320" y="32004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3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4"/>
          <p:cNvSpPr/>
          <p:nvPr/>
        </p:nvSpPr>
        <p:spPr>
          <a:xfrm>
            <a:off x="5107680" y="3184560"/>
            <a:ext cx="26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raining on Relevant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5"/>
          <p:cNvSpPr/>
          <p:nvPr/>
        </p:nvSpPr>
        <p:spPr>
          <a:xfrm>
            <a:off x="5117400" y="364176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Training on Irrelevant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36"/>
          <p:cNvSpPr/>
          <p:nvPr/>
        </p:nvSpPr>
        <p:spPr>
          <a:xfrm>
            <a:off x="4572000" y="3048120"/>
            <a:ext cx="3200400" cy="11430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8C7E-4C52-4F08-9801-300F47008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s about which data collection design to use need to be considered in the training design s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if a trainer wants to have pre- and post data collection it will need to be factored into the design and administration of the program at the design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1FF0-C4FB-4295-AC71-76FCBDF44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64" name="Picture 4" descr="F1-2jpg"/>
          <p:cNvPicPr/>
          <p:nvPr/>
        </p:nvPicPr>
        <p:blipFill>
          <a:blip r:embed="rId1"/>
          <a:stretch/>
        </p:blipFill>
        <p:spPr>
          <a:xfrm>
            <a:off x="1143000" y="2362320"/>
            <a:ext cx="693432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F335-CF98-4E8B-9993-5370E9D6A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purposes for evaluating training programs was as well as the barriers was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odels of training (Kirkpatrick, COMA, and DBE) were presented, critiqued and contr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d that Kirkpatrick model is most frequently used, yet has som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s required for an evaluation as well as methods and techniques required to measu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types of data collections designs were presen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influencing choice of data collection designs were discu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026B-E4C9-4B7D-9BF2-04A3D1209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is the third step of the ISD model and consists of two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aluation criteria (what is being meas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design (how it will be meas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ncepts are covered in the next two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has a specific and important role to play in the effective evaluation of training and the completion of the ISD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7A00-95B1-4571-84CB-9DE33371B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What is Training Evaluation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 to assess the value - the worthiness - of training programs to employees and to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11-3.jpg"/>
          <p:cNvPicPr/>
          <p:nvPr/>
        </p:nvPicPr>
        <p:blipFill>
          <a:blip r:embed="rId1"/>
          <a:stretch/>
        </p:blipFill>
        <p:spPr>
          <a:xfrm>
            <a:off x="4719600" y="2209680"/>
            <a:ext cx="442440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58C3-2676-4806-8AA6-84CCC370B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single procedure; a continuum of techniques, methods, and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s from simple to elaborate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elaborate the procedure, the more complete the results, yet usually the more costly (time, re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elect the procedure based on what makes sense and what can add value within resource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D360-BF3D-4AFB-BB30-7064D7E8C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y Conduct Training Evaluations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managers in identifying what, and who, should be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ost-benefits of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if training program has achieved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e strengths and weaknesses of a program and pinpoint needed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y and reinforce the valu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73C7-64F3-45E8-B65C-15624FE55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Barriers to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arriers fall into two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669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g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quires specialized knowledge and can be intimi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ata collection can be costly and time con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669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tential to reveal ineffectivenes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7:28:06Z</dcterms:modified>
  <cp:revision>374</cp:revision>
  <dc:subject/>
  <dc:title>Ch 11</dc:title>
</cp:coreProperties>
</file>