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3D0CA-5163-4EF7-938F-4D1D15E759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E7789-663F-4B5F-A301-A2BE19F7CB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63429-B2F0-4FE3-BACA-DF672F3A14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C41B8-02B2-43C7-A5BD-83344130DE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7FAEF-250A-4DA3-9DDB-5D706B8F93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536E9-F2FC-414A-8875-C2EAB3508E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D01CE-E933-474F-B43D-D77DE03D5D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1DB1CC-D6B0-47C7-99EC-DF6424010B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240" y="4107240"/>
            <a:ext cx="8915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4490C-3C67-4351-98DC-1E486DDBFA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96640" y="15998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240" y="41072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96640" y="41072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BE7212-8714-4AA4-B9EE-0924007EDF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287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42880" y="1599840"/>
            <a:ext cx="287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57520" y="1599840"/>
            <a:ext cx="287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240" y="4107240"/>
            <a:ext cx="287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42880" y="4107240"/>
            <a:ext cx="287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57520" y="4107240"/>
            <a:ext cx="287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26C7E0-5745-4E7E-8393-69AA82249AF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5A3D85-0D6C-4B4B-A877-2A509B8D593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B3F204-F588-40AF-82F4-10F1EA66B5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350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96640" y="1599840"/>
            <a:ext cx="4350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ED2667-FBB9-46DF-9B88-B4AF2EFE01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18E2D4-383E-42DE-B80D-66B04FA3A9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124080" y="-360"/>
            <a:ext cx="6019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781560-7977-4CEE-B0B5-E9E1F89333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96640" y="1599840"/>
            <a:ext cx="4350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240" y="41072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F58E43-61F9-4B33-998C-1A7BBFD7F3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350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6640" y="15998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96640" y="41072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1FA7CC-600A-4CE9-8227-6D92C24A5D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6640" y="15998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240" y="4107240"/>
            <a:ext cx="8915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A39975-5FD9-4699-8221-EE4C1639DA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BE63F-DC9F-4DEF-8DEF-09628B818E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09320" y="6324120"/>
            <a:ext cx="49532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Slide Number Placeholder 4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4D70C-7E9B-4437-B2C7-3BA0A348F7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ooter Placeholder 5"/>
          <p:cNvSpPr/>
          <p:nvPr/>
        </p:nvSpPr>
        <p:spPr>
          <a:xfrm>
            <a:off x="2209680" y="6324480"/>
            <a:ext cx="4953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Chapter Eleven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2742840"/>
            <a:ext cx="48006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raining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28260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3"/>
          <p:cNvSpPr/>
          <p:nvPr/>
        </p:nvSpPr>
        <p:spPr>
          <a:xfrm>
            <a:off x="6705720" y="2209680"/>
            <a:ext cx="14475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9" descr="11-2.jpg"/>
          <p:cNvPicPr/>
          <p:nvPr/>
        </p:nvPicPr>
        <p:blipFill>
          <a:blip r:embed="rId1"/>
          <a:stretch/>
        </p:blipFill>
        <p:spPr>
          <a:xfrm>
            <a:off x="5638680" y="1523880"/>
            <a:ext cx="2845080" cy="426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Slide Number Placehold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10BDD-2A0B-4848-82BD-164C10A4EC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Footer Placeholder 4"/>
          <p:cNvSpPr/>
          <p:nvPr/>
        </p:nvSpPr>
        <p:spPr>
          <a:xfrm>
            <a:off x="2209680" y="6324480"/>
            <a:ext cx="4953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Types of Training Evaluation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Evaluations may be distinguished from each other with respect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5108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 data gathered and analy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5108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 fundamental purpose of the eval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6" descr="11-4.jpg"/>
          <p:cNvPicPr/>
          <p:nvPr/>
        </p:nvPicPr>
        <p:blipFill>
          <a:blip r:embed="rId1"/>
          <a:stretch/>
        </p:blipFill>
        <p:spPr>
          <a:xfrm>
            <a:off x="3352680" y="4343400"/>
            <a:ext cx="2560680" cy="19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Slide Number Placehold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2DBF8-BAEE-4BDA-9878-B0C28F7D0A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Footer Placeholder 4"/>
          <p:cNvSpPr/>
          <p:nvPr/>
        </p:nvSpPr>
        <p:spPr>
          <a:xfrm>
            <a:off x="2209680" y="6324480"/>
            <a:ext cx="4953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Types of Training Evaluation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The data gathered and analyz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146240" indent="-49860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rainee perceptions, learning and behaviour at the conclusion of train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46240" indent="-49860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Assessing psychological forces that operate during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46240" indent="-49860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nformation about the work enviro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752480" indent="-492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fer climate and learning cul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lide Number Placehold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E2CF4-FE56-4EE2-81F7-22E164A66A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Footer Placeholder 4"/>
          <p:cNvSpPr/>
          <p:nvPr/>
        </p:nvSpPr>
        <p:spPr>
          <a:xfrm>
            <a:off x="2209680" y="6324480"/>
            <a:ext cx="4953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Types of Training Evaluation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763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4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The purpose of the evalu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4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222200" indent="-533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Formative: provide data about various aspects of a training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222200" indent="-533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Summative: provide data about worthiness or effectiveness of a training program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222200" indent="-533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Descriptive: provide information that describes the trainee once they have completed a training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222200" indent="-533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Causal: provide information to determine if training caused the post-training behavio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2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87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D5BBD-B313-4E2D-97A3-B9897A71DE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Footer Placeholder 4"/>
          <p:cNvSpPr/>
          <p:nvPr/>
        </p:nvSpPr>
        <p:spPr>
          <a:xfrm>
            <a:off x="2209680" y="6324480"/>
            <a:ext cx="4953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Models of Training Evaluation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-71136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Kirkpatrick’s Hierarchical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Oldest, best known, and most frequently used model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62576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The Four Levels of Training Evalu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625760" indent="-7113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Level 1: Re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625760" indent="-7113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Level 2: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625760" indent="-7113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Level 3: Behaviou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625760" indent="-7113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Level 4: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62576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6" descr="11-5.jpg"/>
          <p:cNvPicPr/>
          <p:nvPr/>
        </p:nvPicPr>
        <p:blipFill>
          <a:blip r:embed="rId1"/>
          <a:stretch/>
        </p:blipFill>
        <p:spPr>
          <a:xfrm>
            <a:off x="5410080" y="3809880"/>
            <a:ext cx="3581640" cy="23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lide Number Placeholder 4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14FAA-F2E0-4AA9-8A13-B8B9CBB643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Footer Placeholder 5"/>
          <p:cNvSpPr/>
          <p:nvPr/>
        </p:nvSpPr>
        <p:spPr>
          <a:xfrm>
            <a:off x="2209680" y="6324480"/>
            <a:ext cx="4953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Models of Training Evaluation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irkpatrick’s Model </a:t>
            </a: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provides a systematic framework for assessing trai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 four levels are presented in a hierarchy with each level providing more important information than the preceding 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t assumes all levels are positively related to each other; have causal effect on the next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Contributions of Kirkpatrick model not to be underestimated; clear, simple, demystified evaluation and provide impetus for re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Slide Number Placehold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52DC2-BD1D-4800-B607-D2B614E4D0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Footer Placeholder 4"/>
          <p:cNvSpPr/>
          <p:nvPr/>
        </p:nvSpPr>
        <p:spPr>
          <a:xfrm>
            <a:off x="2209680" y="6324480"/>
            <a:ext cx="4953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cc"/>
                </a:solidFill>
                <a:latin typeface="Arial"/>
              </a:rPr>
              <a:t>Models of Training Evaluation</a:t>
            </a:r>
            <a:endParaRPr b="1" lang="en-US" sz="36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here is general agreement that the four levels are important</a:t>
            </a: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outcomes to be assessed  there are some critiques</a:t>
            </a: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Doubt about the valid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Insufficiently diagnost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Kirkpatrick requires all training evaluations to rely on the same variables and outcome meas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53D13-B9F2-4FC3-889C-944C432058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Footer Placeholder 4"/>
          <p:cNvSpPr/>
          <p:nvPr/>
        </p:nvSpPr>
        <p:spPr>
          <a:xfrm>
            <a:off x="2209680" y="6324480"/>
            <a:ext cx="4953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Models of Training Evaluation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-711360">
              <a:spcBef>
                <a:spcPts val="799"/>
              </a:spcBef>
              <a:buClr>
                <a:srgbClr val="000000"/>
              </a:buClr>
              <a:buFont typeface="Arial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A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A training evaluation model that involves the measurement of four types of vari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2" marL="1625760" indent="-71136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ogni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625760" indent="-71136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ganizational Enviro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625760" indent="-71136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otiv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625760" indent="-71136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titu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2082960" indent="0"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Slide Number Placehold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2AF64-C080-4408-BBA2-5862711BE4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Footer Placeholder 4"/>
          <p:cNvSpPr/>
          <p:nvPr/>
        </p:nvSpPr>
        <p:spPr>
          <a:xfrm>
            <a:off x="2209680" y="6324480"/>
            <a:ext cx="4953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Models of Training Evaluation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COMA model improves on Kirkpatrick’s model in three way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1113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grates a greater number of mea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113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s are causally related to training suc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113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s variables with greater preci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113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113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ever, COMA model is relatively new so too early to determine its value; also its focus is on factors that impact transfer only;  and it does not specify how evaluations should be conduc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183BB-7590-4096-AB7F-97B689E1D8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Footer Placeholder 4"/>
          <p:cNvSpPr/>
          <p:nvPr/>
        </p:nvSpPr>
        <p:spPr>
          <a:xfrm>
            <a:off x="2209680" y="6324480"/>
            <a:ext cx="4953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Models of Training Evaluation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cision-Based Evaluation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A training evaluation model that specifies the target, focus, and methods of eval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6" descr="11-6.jpg"/>
          <p:cNvPicPr/>
          <p:nvPr/>
        </p:nvPicPr>
        <p:blipFill>
          <a:blip r:embed="rId1"/>
          <a:stretch/>
        </p:blipFill>
        <p:spPr>
          <a:xfrm>
            <a:off x="2514600" y="3429000"/>
            <a:ext cx="41148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60E91-0721-4C91-99D5-78BB2A751F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Footer Placeholder 4"/>
          <p:cNvSpPr/>
          <p:nvPr/>
        </p:nvSpPr>
        <p:spPr>
          <a:xfrm>
            <a:off x="2209680" y="6324480"/>
            <a:ext cx="4953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Models of Training Evaluation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cision-Based Evaluation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52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95280" indent="-3952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Goes further than either of the two preceding model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211400" indent="-57816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dentifies the target of the eval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211400" indent="-57816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dentifies its foc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211400" indent="-57816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uggest metho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211400" indent="-57816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General to any evaluation go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211400" indent="-57816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Flexibility: guided by target of eval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Slide Number Placehold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8A9DE-7742-4A1A-B512-549614DE22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2209680" y="6324480"/>
            <a:ext cx="4953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Learning Outcome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03200" indent="-40320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fine training evaluation and the main reasons for conducting evalua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03200" indent="-40320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iscuss the barriers to evaluation and the factors that affect whether or not an evaluation is conduct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03200" indent="-40320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scribe the different types of evalua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03200" indent="-40320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scribe the models of training evaluation and the relationship among the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032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032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032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Slide Number Placehold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8AADD-FC73-4CB8-8500-4BBAA9212F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Footer Placeholder 4"/>
          <p:cNvSpPr/>
          <p:nvPr/>
        </p:nvSpPr>
        <p:spPr>
          <a:xfrm>
            <a:off x="2209680" y="6324480"/>
            <a:ext cx="4953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Models of Training Evaluation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 with COMA, the DBE model is recent and will need to be tested more fu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three models require specialized knowledge to complete the evaluation; this can limit their use in organizations without this knowled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lton and colleagues’ Learning Transfer System Inventory (seen in Ch 10) provides a more generic appro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e Training Today 11.2 for more on its use for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lide Number Placehold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38F9F-BC65-4BB5-B789-5D14C3E5CA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Footer Placeholder 4"/>
          <p:cNvSpPr/>
          <p:nvPr/>
        </p:nvSpPr>
        <p:spPr>
          <a:xfrm>
            <a:off x="2209680" y="6324480"/>
            <a:ext cx="4953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cc"/>
                </a:solidFill>
                <a:latin typeface="Arial"/>
              </a:rPr>
              <a:t>Training Evaluation Variables</a:t>
            </a:r>
            <a:endParaRPr b="1" lang="en-US" sz="36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ining evaluation requires data be collected on important aspects of 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of these variables have been identified in the three models of evalu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more complete list of variables is presented in Table 11.1 and Table 11.2 shows sample questions and formats for measuring each type of vari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lide Number Placehold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19AFD-D519-4B5A-98AB-80EBB2A107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Footer Placeholder 4"/>
          <p:cNvSpPr/>
          <p:nvPr/>
        </p:nvSpPr>
        <p:spPr>
          <a:xfrm>
            <a:off x="2209680" y="6324480"/>
            <a:ext cx="4953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cc"/>
                </a:solidFill>
                <a:latin typeface="Arial"/>
              </a:rPr>
              <a:t>Training Evaluation Variables</a:t>
            </a:r>
            <a:endParaRPr b="1" lang="en-US" sz="36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havio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f-effica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ceived/anticipated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zational percep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zational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7"/>
          <p:cNvSpPr/>
          <p:nvPr/>
        </p:nvSpPr>
        <p:spPr>
          <a:xfrm>
            <a:off x="5950800" y="5105520"/>
            <a:ext cx="2155680" cy="3373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e Table 11.1 in t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Picture 7" descr="11-7.jpg"/>
          <p:cNvPicPr/>
          <p:nvPr/>
        </p:nvPicPr>
        <p:blipFill>
          <a:blip r:embed="rId1"/>
          <a:stretch/>
        </p:blipFill>
        <p:spPr>
          <a:xfrm>
            <a:off x="5013360" y="1447920"/>
            <a:ext cx="4130640" cy="276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4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FF86A-FBE1-40B6-B52D-2817B28C01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Footer Placeholder 5"/>
          <p:cNvSpPr/>
          <p:nvPr/>
        </p:nvSpPr>
        <p:spPr>
          <a:xfrm>
            <a:off x="2209680" y="6324480"/>
            <a:ext cx="4953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Training Evaluation Variable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6248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1880" indent="-4618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Re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18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09224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Affective reactions: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measures that assess trainees’ likes and dislikes of a training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9224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Utility reactions: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measures that assess the perceived usefulness of a training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6" descr="11-8.jpg"/>
          <p:cNvPicPr/>
          <p:nvPr/>
        </p:nvPicPr>
        <p:blipFill>
          <a:blip r:embed="rId1"/>
          <a:stretch/>
        </p:blipFill>
        <p:spPr>
          <a:xfrm>
            <a:off x="5943600" y="3276720"/>
            <a:ext cx="3106800" cy="276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Slide Number Placehold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E91E6-274D-4B30-AA8F-B8C97D3AE2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Footer Placeholder 4"/>
          <p:cNvSpPr/>
          <p:nvPr/>
        </p:nvSpPr>
        <p:spPr>
          <a:xfrm>
            <a:off x="2209680" y="6324480"/>
            <a:ext cx="4953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Training Evaluation Variable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2560" indent="-682560">
              <a:spcBef>
                <a:spcPts val="799"/>
              </a:spcBef>
              <a:buClr>
                <a:srgbClr val="000000"/>
              </a:buClr>
              <a:buFont typeface="Arial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a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82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82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Learning outcomes can be measured b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256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1295280" indent="-4982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Declarative learning: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refers to the acquisition of facts and information, and is by far the most frequently assessed learning meas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295280" indent="-4982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Procedural learning: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refers to the organization of facts and information into a smooth behavioural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4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77691-D101-48F2-B97D-1BBA7BFEB1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Footer Placeholder 5"/>
          <p:cNvSpPr/>
          <p:nvPr/>
        </p:nvSpPr>
        <p:spPr>
          <a:xfrm>
            <a:off x="2209680" y="6324480"/>
            <a:ext cx="4953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Training Evaluation Variable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58672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2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ehavio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825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82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Behaviours can be measured using three approach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2365200" indent="0">
              <a:spcBef>
                <a:spcPts val="2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1539720" indent="-6206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elf-rep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539720" indent="-6206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Observ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539720" indent="-62064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Production indic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6" descr="11-9.jpg"/>
          <p:cNvPicPr/>
          <p:nvPr/>
        </p:nvPicPr>
        <p:blipFill>
          <a:blip r:embed="rId1"/>
          <a:stretch/>
        </p:blipFill>
        <p:spPr>
          <a:xfrm>
            <a:off x="5365800" y="2971800"/>
            <a:ext cx="37782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Slide Number Placehold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07C58-C011-4EED-BF04-86A69BFA7D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Footer Placeholder 4"/>
          <p:cNvSpPr/>
          <p:nvPr/>
        </p:nvSpPr>
        <p:spPr>
          <a:xfrm>
            <a:off x="2209680" y="6324480"/>
            <a:ext cx="4953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Training Evaluation Variable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2560" indent="-682560">
              <a:spcBef>
                <a:spcPts val="799"/>
              </a:spcBef>
              <a:buClr>
                <a:srgbClr val="000000"/>
              </a:buClr>
              <a:buFont typeface="Arial"/>
              <a:buAutoNum type="alphaU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8256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82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wo types of motivation in the training contex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317600" indent="-52056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otivation to lea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317600" indent="-52056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otivation to apply the skill on-the-job 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(transf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31760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82560" indent="-682560">
              <a:spcBef>
                <a:spcPts val="799"/>
              </a:spcBef>
              <a:buClr>
                <a:srgbClr val="000000"/>
              </a:buClr>
              <a:buFont typeface="Arial"/>
              <a:buAutoNum type="alphaU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lf-effica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8256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82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efers to the beliefs that trainees have about their ability to perform the behaviours that were taught in a training progra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3176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Slide Number Placeholder 4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F16BF-E511-4143-82CA-7C13978D99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Footer Placeholder 5"/>
          <p:cNvSpPr/>
          <p:nvPr/>
        </p:nvSpPr>
        <p:spPr>
          <a:xfrm>
            <a:off x="2209680" y="6324480"/>
            <a:ext cx="4953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cc"/>
                </a:solidFill>
                <a:latin typeface="Arial"/>
              </a:rPr>
              <a:t>Training Evaluation Variables</a:t>
            </a:r>
            <a:endParaRPr b="1" lang="en-US" sz="44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AutoNum type="alphaUcPeriod" startAt="6"/>
              <a:tabLst>
                <a:tab algn="l" pos="511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erceived and/or Anticipated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349"/>
              </a:spcBef>
              <a:buNone/>
              <a:tabLst>
                <a:tab algn="l" pos="511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49"/>
              </a:spcBef>
              <a:buNone/>
              <a:tabLst>
                <a:tab algn="l" pos="0"/>
                <a:tab algn="l" pos="511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Two important measures of support are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68400" indent="-457200"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511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600" spc="-1" strike="noStrike">
                <a:solidFill>
                  <a:srgbClr val="000000"/>
                </a:solidFill>
                <a:latin typeface="Arial"/>
              </a:rPr>
              <a:t>Perceived support:</a:t>
            </a: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 The degree to              which the trainee reports receiving              support in attempts to transfer the            learned skil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68400" indent="0">
              <a:spcBef>
                <a:spcPts val="649"/>
              </a:spcBef>
              <a:buNone/>
              <a:tabLst>
                <a:tab algn="l" pos="0"/>
                <a:tab algn="l" pos="511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n-CA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CA" sz="2600" spc="-1" strike="noStrike">
                <a:solidFill>
                  <a:srgbClr val="000000"/>
                </a:solidFill>
                <a:latin typeface="Arial"/>
              </a:rPr>
              <a:t>Anticipated support:</a:t>
            </a: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 The degree to            which the trainee expects to supported             in attempts to transfer the learned skil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6" descr="11-10.jpg"/>
          <p:cNvPicPr/>
          <p:nvPr/>
        </p:nvPicPr>
        <p:blipFill>
          <a:blip r:embed="rId1"/>
          <a:stretch/>
        </p:blipFill>
        <p:spPr>
          <a:xfrm>
            <a:off x="6997680" y="2057400"/>
            <a:ext cx="1998720" cy="32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Slide Number Placehold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2EF3D-79B9-44B6-A6DB-AD74C75199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Footer Placeholder 4"/>
          <p:cNvSpPr/>
          <p:nvPr/>
        </p:nvSpPr>
        <p:spPr>
          <a:xfrm>
            <a:off x="2209680" y="6324480"/>
            <a:ext cx="4953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cc"/>
                </a:solidFill>
                <a:latin typeface="Arial"/>
              </a:rPr>
              <a:t>Training Evaluation Variables</a:t>
            </a:r>
            <a:endParaRPr b="1" lang="en-US" sz="44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634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.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rganizational Percep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34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34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wo scales designed to measure percep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217880" indent="-4766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ransfer climate: can be assessed via a questionnaire that identifies eight sets of “cue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217880" indent="0">
              <a:spcBef>
                <a:spcPts val="176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1217880" indent="-4766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Continuous learning culture: can be assessed via questionnaire presented in Trainer’s Notebook 4.1 in chapter 4 of your tex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3736440" indent="0">
              <a:spcBef>
                <a:spcPts val="700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Slide Number Placeholder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86D4C-5CDA-41F7-89C2-1F48E7787D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Footer Placeholder 6"/>
          <p:cNvSpPr/>
          <p:nvPr/>
        </p:nvSpPr>
        <p:spPr>
          <a:xfrm>
            <a:off x="2209680" y="6324480"/>
            <a:ext cx="4953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cc"/>
                </a:solidFill>
                <a:latin typeface="Arial"/>
              </a:rPr>
              <a:t>Training Evaluation Variables</a:t>
            </a:r>
            <a:endParaRPr b="1" lang="en-US" sz="44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72388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7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.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rganizational Percep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cont'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2712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6271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Transfer climate cures include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2858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Goal cu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2858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Social cu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2858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Task and structural cu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2858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Positive feedbac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2858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Negative feedbac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2858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Punish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2858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No feedbac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2858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Self-contro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8" descr="11-11.jpg"/>
          <p:cNvPicPr/>
          <p:nvPr/>
        </p:nvPicPr>
        <p:blipFill>
          <a:blip r:embed="rId1"/>
          <a:stretch/>
        </p:blipFill>
        <p:spPr>
          <a:xfrm>
            <a:off x="6248520" y="2057400"/>
            <a:ext cx="2222280" cy="14763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0" descr="11-12.jpg"/>
          <p:cNvPicPr/>
          <p:nvPr/>
        </p:nvPicPr>
        <p:blipFill>
          <a:blip r:embed="rId2"/>
          <a:stretch/>
        </p:blipFill>
        <p:spPr>
          <a:xfrm>
            <a:off x="6400800" y="3581280"/>
            <a:ext cx="2135160" cy="14367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1" descr="11-13.jpg"/>
          <p:cNvPicPr/>
          <p:nvPr/>
        </p:nvPicPr>
        <p:blipFill>
          <a:blip r:embed="rId3"/>
          <a:stretch/>
        </p:blipFill>
        <p:spPr>
          <a:xfrm>
            <a:off x="6858000" y="5029200"/>
            <a:ext cx="1790640" cy="119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Slide Number Placehold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962F7-192A-4DCF-B68E-ABCBD962BA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Footer Placeholder 4"/>
          <p:cNvSpPr/>
          <p:nvPr/>
        </p:nvSpPr>
        <p:spPr>
          <a:xfrm>
            <a:off x="2209680" y="6324480"/>
            <a:ext cx="4953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Learning Outcome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scribe the main variables to measure in a training evaluation and how they are measur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iscuss the different types of designs for training evaluation, as well as their requirements, limits, and when they should be us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lide Number Placehold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1B853-9CE0-4BD9-890F-9C61804ED6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Footer Placeholder 4"/>
          <p:cNvSpPr/>
          <p:nvPr/>
        </p:nvSpPr>
        <p:spPr>
          <a:xfrm>
            <a:off x="2209680" y="6324480"/>
            <a:ext cx="4953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Training Evaluation Variable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36560" indent="-7365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U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rganizational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365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36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esults information consists of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3656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1317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Hard data: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Results that can be measured objectively (i.e., number of items sol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317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ft Data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esults that are assessed through perceptions and judgments (i.e., attitud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317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Return on Expectations: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Measurement of a training program’s ability to meet managerial expec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317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Slide Number Placeholder 4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B751C-E326-403F-BBE0-D18CEA8F34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Footer Placeholder 5"/>
          <p:cNvSpPr/>
          <p:nvPr/>
        </p:nvSpPr>
        <p:spPr>
          <a:xfrm>
            <a:off x="2209680" y="6324480"/>
            <a:ext cx="4953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Data Collection Designs in Training Evaluation 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3815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manner with which the data collection is organized and how the data will be analy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45576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All data collection designs compare the trained person to somet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6" descr="11-14.jpg"/>
          <p:cNvPicPr/>
          <p:nvPr/>
        </p:nvPicPr>
        <p:blipFill>
          <a:blip r:embed="rId1"/>
          <a:stretch/>
        </p:blipFill>
        <p:spPr>
          <a:xfrm>
            <a:off x="4892760" y="1905120"/>
            <a:ext cx="4251240" cy="33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Slide Number Placehold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1FC41-FEEE-43CA-B6AE-9AA3848529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Footer Placeholder 4"/>
          <p:cNvSpPr/>
          <p:nvPr/>
        </p:nvSpPr>
        <p:spPr>
          <a:xfrm>
            <a:off x="2209680" y="6324480"/>
            <a:ext cx="4953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Data Collection Designs in Training Evaluation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104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Non-experimental designs: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Comparison is made to a standard and not to another group of (untrained) peo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Experimental designs: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Trained group is compared to another group that does not receive the training and when the assignment of people to the training group and the non-training group is 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Quasi-experimental designs: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Trained group is compared to another group that does not receive the training, but when the assignment of people to the training group and the non-training group is not rando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Slide Number Placehold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800F3-D234-48B5-AB19-548C4C11EC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09680" y="6324480"/>
            <a:ext cx="4953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Data Collection Designs in Training Evaluation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28240" y="152352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573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fferent Types of Evaluation Desig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573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573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Design A: The single group post-only design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573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Design B: The single group pre-post design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573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Design C: The time series design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573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333399"/>
                </a:solidFill>
                <a:latin typeface="Arial"/>
              </a:rPr>
              <a:t>Design D: The single group design with control group*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573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Design E: The pre-post design with control group*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573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Design F: The time-series design with comparison group*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573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Design G: The internal referencing strategy**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573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573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l of the above are non-experimental desig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573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**Casual Models: experimental or quasi-experimen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573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***Hybrid design that permits some conclusions drawn from causal desig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573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573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73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Slide Number Placehold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CB856-7FD4-4370-80F2-71FDA4A704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Footer Placeholder 4"/>
          <p:cNvSpPr/>
          <p:nvPr/>
        </p:nvSpPr>
        <p:spPr>
          <a:xfrm>
            <a:off x="2209680" y="6324480"/>
            <a:ext cx="4953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cc"/>
                </a:solidFill>
                <a:latin typeface="Arial"/>
              </a:rPr>
              <a:t>Data Collection Designs in Training Evaluation</a:t>
            </a:r>
            <a:endParaRPr b="1" lang="en-US" sz="3600" spc="-1" strike="noStrike">
              <a:solidFill>
                <a:srgbClr val="ccffcc"/>
              </a:solidFill>
              <a:latin typeface="Arial"/>
            </a:endParaRPr>
          </a:p>
        </p:txBody>
      </p:sp>
      <p:pic>
        <p:nvPicPr>
          <p:cNvPr id="197" name="Picture 5" descr="p344.jpg"/>
          <p:cNvPicPr/>
          <p:nvPr/>
        </p:nvPicPr>
        <p:blipFill>
          <a:blip r:embed="rId1"/>
          <a:stretch/>
        </p:blipFill>
        <p:spPr>
          <a:xfrm>
            <a:off x="1600200" y="1752480"/>
            <a:ext cx="556272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Slide Number Placeholder 2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83930-F095-45F0-9541-BB1AE50AD1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Footer Placeholder 3"/>
          <p:cNvSpPr/>
          <p:nvPr/>
        </p:nvSpPr>
        <p:spPr>
          <a:xfrm>
            <a:off x="2209680" y="6324480"/>
            <a:ext cx="4953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Data Collection Designs in Training Evaluation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201" name="Line 3"/>
          <p:cNvSpPr/>
          <p:nvPr/>
        </p:nvSpPr>
        <p:spPr>
          <a:xfrm>
            <a:off x="533520" y="2438280"/>
            <a:ext cx="0" cy="213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Line 4"/>
          <p:cNvSpPr/>
          <p:nvPr/>
        </p:nvSpPr>
        <p:spPr>
          <a:xfrm>
            <a:off x="533520" y="45720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5"/>
          <p:cNvSpPr/>
          <p:nvPr/>
        </p:nvSpPr>
        <p:spPr>
          <a:xfrm>
            <a:off x="635040" y="457056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Oval 6"/>
          <p:cNvSpPr/>
          <p:nvPr/>
        </p:nvSpPr>
        <p:spPr>
          <a:xfrm>
            <a:off x="2590920" y="2666880"/>
            <a:ext cx="457200" cy="38124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Line 7"/>
          <p:cNvSpPr/>
          <p:nvPr/>
        </p:nvSpPr>
        <p:spPr>
          <a:xfrm>
            <a:off x="5334120" y="2438280"/>
            <a:ext cx="0" cy="213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Line 8"/>
          <p:cNvSpPr/>
          <p:nvPr/>
        </p:nvSpPr>
        <p:spPr>
          <a:xfrm>
            <a:off x="5334120" y="45720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Text Box 9"/>
          <p:cNvSpPr/>
          <p:nvPr/>
        </p:nvSpPr>
        <p:spPr>
          <a:xfrm>
            <a:off x="5435640" y="457056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Oval 10"/>
          <p:cNvSpPr/>
          <p:nvPr/>
        </p:nvSpPr>
        <p:spPr>
          <a:xfrm>
            <a:off x="7391520" y="2666880"/>
            <a:ext cx="457200" cy="38124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Oval 11"/>
          <p:cNvSpPr/>
          <p:nvPr/>
        </p:nvSpPr>
        <p:spPr>
          <a:xfrm>
            <a:off x="5638680" y="3429000"/>
            <a:ext cx="457200" cy="38088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Line 12"/>
          <p:cNvSpPr/>
          <p:nvPr/>
        </p:nvSpPr>
        <p:spPr>
          <a:xfrm flipV="1">
            <a:off x="6095880" y="2971800"/>
            <a:ext cx="12956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 Box 13"/>
          <p:cNvSpPr/>
          <p:nvPr/>
        </p:nvSpPr>
        <p:spPr>
          <a:xfrm>
            <a:off x="221400" y="5192640"/>
            <a:ext cx="397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: Single Group Post-only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Non-experimenta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 Box 14"/>
          <p:cNvSpPr/>
          <p:nvPr/>
        </p:nvSpPr>
        <p:spPr>
          <a:xfrm>
            <a:off x="4941000" y="5175360"/>
            <a:ext cx="3900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: Single Group Pre-Post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Non-experimenta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Slide Number Placeholder 2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F871F-E441-4D10-B6BF-5975C13E12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Footer Placeholder 3"/>
          <p:cNvSpPr/>
          <p:nvPr/>
        </p:nvSpPr>
        <p:spPr>
          <a:xfrm>
            <a:off x="2209680" y="6324480"/>
            <a:ext cx="4953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Data Collection Designs in Training Evaluation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216" name="Line 3"/>
          <p:cNvSpPr/>
          <p:nvPr/>
        </p:nvSpPr>
        <p:spPr>
          <a:xfrm>
            <a:off x="533520" y="2438280"/>
            <a:ext cx="0" cy="213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Line 4"/>
          <p:cNvSpPr/>
          <p:nvPr/>
        </p:nvSpPr>
        <p:spPr>
          <a:xfrm>
            <a:off x="533520" y="45720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5"/>
          <p:cNvSpPr/>
          <p:nvPr/>
        </p:nvSpPr>
        <p:spPr>
          <a:xfrm>
            <a:off x="635040" y="457056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Oval 6"/>
          <p:cNvSpPr/>
          <p:nvPr/>
        </p:nvSpPr>
        <p:spPr>
          <a:xfrm>
            <a:off x="2895480" y="2666880"/>
            <a:ext cx="457200" cy="38124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Line 7"/>
          <p:cNvSpPr/>
          <p:nvPr/>
        </p:nvSpPr>
        <p:spPr>
          <a:xfrm>
            <a:off x="5334120" y="2438280"/>
            <a:ext cx="0" cy="213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Line 8"/>
          <p:cNvSpPr/>
          <p:nvPr/>
        </p:nvSpPr>
        <p:spPr>
          <a:xfrm>
            <a:off x="5334120" y="45720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9"/>
          <p:cNvSpPr/>
          <p:nvPr/>
        </p:nvSpPr>
        <p:spPr>
          <a:xfrm>
            <a:off x="5435640" y="457056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Oval 10"/>
          <p:cNvSpPr/>
          <p:nvPr/>
        </p:nvSpPr>
        <p:spPr>
          <a:xfrm>
            <a:off x="7391520" y="2666880"/>
            <a:ext cx="457200" cy="38124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Text Box 13"/>
          <p:cNvSpPr/>
          <p:nvPr/>
        </p:nvSpPr>
        <p:spPr>
          <a:xfrm>
            <a:off x="489960" y="5192640"/>
            <a:ext cx="2727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: Time Series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Non-experimenta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14"/>
          <p:cNvSpPr/>
          <p:nvPr/>
        </p:nvSpPr>
        <p:spPr>
          <a:xfrm>
            <a:off x="5328000" y="5175360"/>
            <a:ext cx="2855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: Single Group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 Control Gro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Oval 15"/>
          <p:cNvSpPr/>
          <p:nvPr/>
        </p:nvSpPr>
        <p:spPr>
          <a:xfrm>
            <a:off x="2286000" y="2666880"/>
            <a:ext cx="457200" cy="38124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Oval 16"/>
          <p:cNvSpPr/>
          <p:nvPr/>
        </p:nvSpPr>
        <p:spPr>
          <a:xfrm>
            <a:off x="685800" y="3962520"/>
            <a:ext cx="457200" cy="38088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Oval 17"/>
          <p:cNvSpPr/>
          <p:nvPr/>
        </p:nvSpPr>
        <p:spPr>
          <a:xfrm>
            <a:off x="1295280" y="3962520"/>
            <a:ext cx="457200" cy="38088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9" name="AutoShape 18"/>
          <p:cNvCxnSpPr>
            <a:stCxn id="227" idx="6"/>
            <a:endCxn id="228" idx="2"/>
          </p:cNvCxnSpPr>
          <p:nvPr/>
        </p:nvCxnSpPr>
        <p:spPr>
          <a:xfrm>
            <a:off x="1142640" y="4152600"/>
            <a:ext cx="153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30" name="AutoShape 19"/>
          <p:cNvCxnSpPr>
            <a:stCxn id="226" idx="6"/>
            <a:endCxn id="219" idx="2"/>
          </p:cNvCxnSpPr>
          <p:nvPr/>
        </p:nvCxnSpPr>
        <p:spPr>
          <a:xfrm>
            <a:off x="2742840" y="2857320"/>
            <a:ext cx="153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31" name="Line 20"/>
          <p:cNvSpPr/>
          <p:nvPr/>
        </p:nvSpPr>
        <p:spPr>
          <a:xfrm flipV="1">
            <a:off x="1752480" y="3047760"/>
            <a:ext cx="609840" cy="99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Rectangle 21"/>
          <p:cNvSpPr/>
          <p:nvPr/>
        </p:nvSpPr>
        <p:spPr>
          <a:xfrm>
            <a:off x="7391520" y="3276720"/>
            <a:ext cx="457200" cy="38088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Oval 22"/>
          <p:cNvSpPr/>
          <p:nvPr/>
        </p:nvSpPr>
        <p:spPr>
          <a:xfrm>
            <a:off x="3166920" y="1600200"/>
            <a:ext cx="457200" cy="38088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Text Box 24"/>
          <p:cNvSpPr/>
          <p:nvPr/>
        </p:nvSpPr>
        <p:spPr>
          <a:xfrm>
            <a:off x="3576960" y="1598760"/>
            <a:ext cx="86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Arial"/>
              </a:rPr>
              <a:t>Train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 Box 25"/>
          <p:cNvSpPr/>
          <p:nvPr/>
        </p:nvSpPr>
        <p:spPr>
          <a:xfrm>
            <a:off x="4846680" y="1598760"/>
            <a:ext cx="106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00"/>
                </a:solidFill>
                <a:latin typeface="Arial"/>
              </a:rPr>
              <a:t>Untrain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Rectangle 26"/>
          <p:cNvSpPr/>
          <p:nvPr/>
        </p:nvSpPr>
        <p:spPr>
          <a:xfrm>
            <a:off x="3048120" y="1523880"/>
            <a:ext cx="2819160" cy="533520"/>
          </a:xfrm>
          <a:prstGeom prst="rect">
            <a:avLst/>
          </a:prstGeom>
          <a:noFill/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Rectangle 27"/>
          <p:cNvSpPr/>
          <p:nvPr/>
        </p:nvSpPr>
        <p:spPr>
          <a:xfrm>
            <a:off x="4419720" y="1600200"/>
            <a:ext cx="457200" cy="38088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Slide Number Placeholder 2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1C337-486C-4CBE-80F6-A0EBA9F434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Footer Placeholder 3"/>
          <p:cNvSpPr/>
          <p:nvPr/>
        </p:nvSpPr>
        <p:spPr>
          <a:xfrm>
            <a:off x="2209680" y="6324480"/>
            <a:ext cx="4953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Data Collection Designs in Training Evaluation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241" name="Line 3"/>
          <p:cNvSpPr/>
          <p:nvPr/>
        </p:nvSpPr>
        <p:spPr>
          <a:xfrm>
            <a:off x="533520" y="2438280"/>
            <a:ext cx="0" cy="213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Line 4"/>
          <p:cNvSpPr/>
          <p:nvPr/>
        </p:nvSpPr>
        <p:spPr>
          <a:xfrm>
            <a:off x="533520" y="45720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5"/>
          <p:cNvSpPr/>
          <p:nvPr/>
        </p:nvSpPr>
        <p:spPr>
          <a:xfrm>
            <a:off x="635040" y="457056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Line 7"/>
          <p:cNvSpPr/>
          <p:nvPr/>
        </p:nvSpPr>
        <p:spPr>
          <a:xfrm>
            <a:off x="5334120" y="2438280"/>
            <a:ext cx="0" cy="213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Line 8"/>
          <p:cNvSpPr/>
          <p:nvPr/>
        </p:nvSpPr>
        <p:spPr>
          <a:xfrm>
            <a:off x="5334120" y="45720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Text Box 9"/>
          <p:cNvSpPr/>
          <p:nvPr/>
        </p:nvSpPr>
        <p:spPr>
          <a:xfrm>
            <a:off x="5435640" y="457056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Text Box 11"/>
          <p:cNvSpPr/>
          <p:nvPr/>
        </p:nvSpPr>
        <p:spPr>
          <a:xfrm>
            <a:off x="666360" y="5192640"/>
            <a:ext cx="2373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: Pre-post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 Control Gro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12"/>
          <p:cNvSpPr/>
          <p:nvPr/>
        </p:nvSpPr>
        <p:spPr>
          <a:xfrm>
            <a:off x="5334120" y="5175360"/>
            <a:ext cx="285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: Time Series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 Comparison Gro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Rectangle 19"/>
          <p:cNvSpPr/>
          <p:nvPr/>
        </p:nvSpPr>
        <p:spPr>
          <a:xfrm>
            <a:off x="7696080" y="4114800"/>
            <a:ext cx="457200" cy="38088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Oval 20"/>
          <p:cNvSpPr/>
          <p:nvPr/>
        </p:nvSpPr>
        <p:spPr>
          <a:xfrm>
            <a:off x="2590920" y="2666880"/>
            <a:ext cx="457200" cy="38124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Rectangle 21"/>
          <p:cNvSpPr/>
          <p:nvPr/>
        </p:nvSpPr>
        <p:spPr>
          <a:xfrm>
            <a:off x="2590920" y="3962520"/>
            <a:ext cx="457200" cy="38088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Oval 22"/>
          <p:cNvSpPr/>
          <p:nvPr/>
        </p:nvSpPr>
        <p:spPr>
          <a:xfrm>
            <a:off x="762120" y="3657600"/>
            <a:ext cx="457200" cy="38088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Rectangle 23"/>
          <p:cNvSpPr/>
          <p:nvPr/>
        </p:nvSpPr>
        <p:spPr>
          <a:xfrm>
            <a:off x="762120" y="3962520"/>
            <a:ext cx="457200" cy="38088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Line 26"/>
          <p:cNvSpPr/>
          <p:nvPr/>
        </p:nvSpPr>
        <p:spPr>
          <a:xfrm flipV="1">
            <a:off x="1219320" y="2971440"/>
            <a:ext cx="137160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Line 30"/>
          <p:cNvSpPr/>
          <p:nvPr/>
        </p:nvSpPr>
        <p:spPr>
          <a:xfrm>
            <a:off x="1295280" y="41148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Oval 31"/>
          <p:cNvSpPr/>
          <p:nvPr/>
        </p:nvSpPr>
        <p:spPr>
          <a:xfrm>
            <a:off x="7696080" y="2666880"/>
            <a:ext cx="457200" cy="38124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Oval 32"/>
          <p:cNvSpPr/>
          <p:nvPr/>
        </p:nvSpPr>
        <p:spPr>
          <a:xfrm>
            <a:off x="7086600" y="2666880"/>
            <a:ext cx="457200" cy="38124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Oval 33"/>
          <p:cNvSpPr/>
          <p:nvPr/>
        </p:nvSpPr>
        <p:spPr>
          <a:xfrm>
            <a:off x="5486400" y="3962520"/>
            <a:ext cx="457200" cy="38088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Oval 34"/>
          <p:cNvSpPr/>
          <p:nvPr/>
        </p:nvSpPr>
        <p:spPr>
          <a:xfrm>
            <a:off x="6095880" y="3962520"/>
            <a:ext cx="457200" cy="38088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0" name="AutoShape 35"/>
          <p:cNvCxnSpPr>
            <a:stCxn id="258" idx="6"/>
            <a:endCxn id="259" idx="2"/>
          </p:cNvCxnSpPr>
          <p:nvPr/>
        </p:nvCxnSpPr>
        <p:spPr>
          <a:xfrm>
            <a:off x="5943240" y="4152600"/>
            <a:ext cx="153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61" name="AutoShape 36"/>
          <p:cNvCxnSpPr>
            <a:stCxn id="257" idx="6"/>
            <a:endCxn id="256" idx="2"/>
          </p:cNvCxnSpPr>
          <p:nvPr/>
        </p:nvCxnSpPr>
        <p:spPr>
          <a:xfrm>
            <a:off x="7543440" y="2857320"/>
            <a:ext cx="153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62" name="Line 37"/>
          <p:cNvSpPr/>
          <p:nvPr/>
        </p:nvSpPr>
        <p:spPr>
          <a:xfrm flipV="1">
            <a:off x="6553080" y="3047760"/>
            <a:ext cx="609840" cy="99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Rectangle 38"/>
          <p:cNvSpPr/>
          <p:nvPr/>
        </p:nvSpPr>
        <p:spPr>
          <a:xfrm>
            <a:off x="7086600" y="4114800"/>
            <a:ext cx="457200" cy="38088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Rectangle 39"/>
          <p:cNvSpPr/>
          <p:nvPr/>
        </p:nvSpPr>
        <p:spPr>
          <a:xfrm>
            <a:off x="6019920" y="4114800"/>
            <a:ext cx="457200" cy="38088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Rectangle 40"/>
          <p:cNvSpPr/>
          <p:nvPr/>
        </p:nvSpPr>
        <p:spPr>
          <a:xfrm>
            <a:off x="5410080" y="4114800"/>
            <a:ext cx="457200" cy="38088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6" name="AutoShape 41"/>
          <p:cNvCxnSpPr>
            <a:stCxn id="265" idx="3"/>
            <a:endCxn id="264" idx="1"/>
          </p:cNvCxnSpPr>
          <p:nvPr/>
        </p:nvCxnSpPr>
        <p:spPr>
          <a:xfrm>
            <a:off x="5867280" y="4304880"/>
            <a:ext cx="153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67" name="AutoShape 42"/>
          <p:cNvCxnSpPr>
            <a:stCxn id="263" idx="3"/>
            <a:endCxn id="249" idx="1"/>
          </p:cNvCxnSpPr>
          <p:nvPr/>
        </p:nvCxnSpPr>
        <p:spPr>
          <a:xfrm>
            <a:off x="7543440" y="4304880"/>
            <a:ext cx="153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68" name="Line 43"/>
          <p:cNvSpPr/>
          <p:nvPr/>
        </p:nvSpPr>
        <p:spPr>
          <a:xfrm>
            <a:off x="6553080" y="43434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Oval 54"/>
          <p:cNvSpPr/>
          <p:nvPr/>
        </p:nvSpPr>
        <p:spPr>
          <a:xfrm>
            <a:off x="3166920" y="1600200"/>
            <a:ext cx="457200" cy="38088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Rectangle 55"/>
          <p:cNvSpPr/>
          <p:nvPr/>
        </p:nvSpPr>
        <p:spPr>
          <a:xfrm>
            <a:off x="4419720" y="1600200"/>
            <a:ext cx="457200" cy="38088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Text Box 56"/>
          <p:cNvSpPr/>
          <p:nvPr/>
        </p:nvSpPr>
        <p:spPr>
          <a:xfrm>
            <a:off x="3576960" y="1598760"/>
            <a:ext cx="86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Arial"/>
              </a:rPr>
              <a:t>Train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Text Box 57"/>
          <p:cNvSpPr/>
          <p:nvPr/>
        </p:nvSpPr>
        <p:spPr>
          <a:xfrm>
            <a:off x="4846680" y="1598760"/>
            <a:ext cx="106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00"/>
                </a:solidFill>
                <a:latin typeface="Arial"/>
              </a:rPr>
              <a:t>Untrain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Rectangle 58"/>
          <p:cNvSpPr/>
          <p:nvPr/>
        </p:nvSpPr>
        <p:spPr>
          <a:xfrm>
            <a:off x="3048120" y="1523880"/>
            <a:ext cx="2819160" cy="533520"/>
          </a:xfrm>
          <a:prstGeom prst="rect">
            <a:avLst/>
          </a:prstGeom>
          <a:noFill/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Slide Number Placeholder 2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C915B-178F-4DFA-A6BC-894F1AE10D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Footer Placeholder 3"/>
          <p:cNvSpPr/>
          <p:nvPr/>
        </p:nvSpPr>
        <p:spPr>
          <a:xfrm>
            <a:off x="2209680" y="6324480"/>
            <a:ext cx="4953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Data Collection Designs in Training Evaluation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277" name="Line 3"/>
          <p:cNvSpPr/>
          <p:nvPr/>
        </p:nvSpPr>
        <p:spPr>
          <a:xfrm>
            <a:off x="533520" y="2438280"/>
            <a:ext cx="0" cy="213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Line 4"/>
          <p:cNvSpPr/>
          <p:nvPr/>
        </p:nvSpPr>
        <p:spPr>
          <a:xfrm>
            <a:off x="533520" y="45720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Text Box 5"/>
          <p:cNvSpPr/>
          <p:nvPr/>
        </p:nvSpPr>
        <p:spPr>
          <a:xfrm>
            <a:off x="635040" y="457056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Text Box 9"/>
          <p:cNvSpPr/>
          <p:nvPr/>
        </p:nvSpPr>
        <p:spPr>
          <a:xfrm>
            <a:off x="289080" y="5192640"/>
            <a:ext cx="383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: Internal Referencing Strateg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Oval 12"/>
          <p:cNvSpPr/>
          <p:nvPr/>
        </p:nvSpPr>
        <p:spPr>
          <a:xfrm>
            <a:off x="2590920" y="2666880"/>
            <a:ext cx="457200" cy="38124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Rectangle 13"/>
          <p:cNvSpPr/>
          <p:nvPr/>
        </p:nvSpPr>
        <p:spPr>
          <a:xfrm>
            <a:off x="2590920" y="3962520"/>
            <a:ext cx="457200" cy="38088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Oval 14"/>
          <p:cNvSpPr/>
          <p:nvPr/>
        </p:nvSpPr>
        <p:spPr>
          <a:xfrm>
            <a:off x="762120" y="3657600"/>
            <a:ext cx="457200" cy="38088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Rectangle 15"/>
          <p:cNvSpPr/>
          <p:nvPr/>
        </p:nvSpPr>
        <p:spPr>
          <a:xfrm>
            <a:off x="762120" y="3962520"/>
            <a:ext cx="457200" cy="38088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Line 16"/>
          <p:cNvSpPr/>
          <p:nvPr/>
        </p:nvSpPr>
        <p:spPr>
          <a:xfrm flipV="1">
            <a:off x="1219320" y="2971440"/>
            <a:ext cx="137160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Line 17"/>
          <p:cNvSpPr/>
          <p:nvPr/>
        </p:nvSpPr>
        <p:spPr>
          <a:xfrm>
            <a:off x="1295280" y="41148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Oval 31"/>
          <p:cNvSpPr/>
          <p:nvPr/>
        </p:nvSpPr>
        <p:spPr>
          <a:xfrm>
            <a:off x="4648320" y="3200400"/>
            <a:ext cx="457200" cy="38088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Rectangle 33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Text Box 34"/>
          <p:cNvSpPr/>
          <p:nvPr/>
        </p:nvSpPr>
        <p:spPr>
          <a:xfrm>
            <a:off x="5107680" y="3184560"/>
            <a:ext cx="2606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Training on Relevant Ite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Text Box 35"/>
          <p:cNvSpPr/>
          <p:nvPr/>
        </p:nvSpPr>
        <p:spPr>
          <a:xfrm>
            <a:off x="5117400" y="3641760"/>
            <a:ext cx="265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00"/>
                </a:solidFill>
                <a:latin typeface="Arial"/>
              </a:rPr>
              <a:t>Training on Irrelevant Ite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Rectangle 36"/>
          <p:cNvSpPr/>
          <p:nvPr/>
        </p:nvSpPr>
        <p:spPr>
          <a:xfrm>
            <a:off x="4572000" y="3048120"/>
            <a:ext cx="3200400" cy="1143000"/>
          </a:xfrm>
          <a:prstGeom prst="rect">
            <a:avLst/>
          </a:prstGeom>
          <a:noFill/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Slide Number Placehold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D84DF-DC81-4921-9F5F-9EB30BBEC7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Footer Placeholder 4"/>
          <p:cNvSpPr/>
          <p:nvPr/>
        </p:nvSpPr>
        <p:spPr>
          <a:xfrm>
            <a:off x="2209680" y="6324480"/>
            <a:ext cx="4953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cc"/>
                </a:solidFill>
                <a:latin typeface="Arial"/>
              </a:rPr>
              <a:t>Data Collection Designs in Training Evaluation</a:t>
            </a:r>
            <a:endParaRPr b="1" lang="en-US" sz="36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isions about which data collection design to use need to be considered in the training design st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xample if a trainer wants to have pre- and post data collection it will need to be factored into the design and administration of the program at the design st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Slide Number Placehold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52E95-D6F2-473E-9E85-2782AAD0AA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Footer Placeholder 4"/>
          <p:cNvSpPr/>
          <p:nvPr/>
        </p:nvSpPr>
        <p:spPr>
          <a:xfrm>
            <a:off x="2209680" y="6324480"/>
            <a:ext cx="4953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cc"/>
                </a:solidFill>
                <a:latin typeface="Arial"/>
              </a:rPr>
              <a:t>Instructional Systems Design Model</a:t>
            </a:r>
            <a:endParaRPr b="1" lang="en-US" sz="3600" spc="-1" strike="noStrike">
              <a:solidFill>
                <a:srgbClr val="ccffcc"/>
              </a:solidFill>
              <a:latin typeface="Arial"/>
            </a:endParaRPr>
          </a:p>
        </p:txBody>
      </p:sp>
      <p:pic>
        <p:nvPicPr>
          <p:cNvPr id="64" name="Picture 4" descr="F1-2jpg"/>
          <p:cNvPicPr/>
          <p:nvPr/>
        </p:nvPicPr>
        <p:blipFill>
          <a:blip r:embed="rId1"/>
          <a:stretch/>
        </p:blipFill>
        <p:spPr>
          <a:xfrm>
            <a:off x="1143000" y="2362320"/>
            <a:ext cx="6934320" cy="35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Slide Number Placehold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A8D98-87F4-48A2-A17B-C387A7ECF7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Footer Placeholder 4"/>
          <p:cNvSpPr/>
          <p:nvPr/>
        </p:nvSpPr>
        <p:spPr>
          <a:xfrm>
            <a:off x="2209680" y="6324480"/>
            <a:ext cx="4953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Summary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ain purposes for evaluating training programs was as well as the barriers was discus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ree models of training (Kirkpatrick, COMA, and DBE) were presented, critiqued and contras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gnized that Kirkpatrick model is most frequently used, yet has some limi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variables required for an evaluation as well as methods and techniques required to measure th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ain types of data collections designs were present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tors influencing choice of data collection designs were discuss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Slide Number Placehold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18E1D-E76D-4E32-8FEA-9803E31D46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Footer Placeholder 4"/>
          <p:cNvSpPr/>
          <p:nvPr/>
        </p:nvSpPr>
        <p:spPr>
          <a:xfrm>
            <a:off x="2209680" y="6324480"/>
            <a:ext cx="4953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cc"/>
                </a:solidFill>
                <a:latin typeface="Arial"/>
              </a:rPr>
              <a:t>Instructional Systems Design Model</a:t>
            </a:r>
            <a:endParaRPr b="1" lang="en-US" sz="36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ining evaluation is the third step of the ISD model and consists of two par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aluation criteria (what is being measur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aluation design (how it will be measur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se concepts are covered in the next two chap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has a specific and important role to play in the effective evaluation of training and the completion of the ISD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Slide Number Placeholder 4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F7BE3-F8D2-496A-95F6-3159347B90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Footer Placeholder 5"/>
          <p:cNvSpPr/>
          <p:nvPr/>
        </p:nvSpPr>
        <p:spPr>
          <a:xfrm>
            <a:off x="2209680" y="6324480"/>
            <a:ext cx="4953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ccffcc"/>
                </a:solidFill>
                <a:latin typeface="Arial"/>
              </a:rPr>
              <a:t>What is Training Evaluation?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3815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rocess to assess the value - the worthiness - of training programs to employees and to organiza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6" descr="11-3.jpg"/>
          <p:cNvPicPr/>
          <p:nvPr/>
        </p:nvPicPr>
        <p:blipFill>
          <a:blip r:embed="rId1"/>
          <a:stretch/>
        </p:blipFill>
        <p:spPr>
          <a:xfrm>
            <a:off x="4719600" y="2209680"/>
            <a:ext cx="4424400" cy="29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Slide Number Placehold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C947F-E91B-4CF6-A282-88E1148D5C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Footer Placeholder 4"/>
          <p:cNvSpPr/>
          <p:nvPr/>
        </p:nvSpPr>
        <p:spPr>
          <a:xfrm>
            <a:off x="2209680" y="6324480"/>
            <a:ext cx="4953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Training Evaluation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a single procedure; a continuum of techniques, methods, and measur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ges from simple to elaborate procedur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ore elaborate the procedure, the more complete the results, yet usually the more costly (time, resourc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to select the procedure based on what makes sense and what can add value within resources avail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Slide Number Placehold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2991A-47B0-41D4-96DB-36454B57FC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Footer Placeholder 4"/>
          <p:cNvSpPr/>
          <p:nvPr/>
        </p:nvSpPr>
        <p:spPr>
          <a:xfrm>
            <a:off x="2209680" y="6324480"/>
            <a:ext cx="4953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Why Conduct Training Evaluations?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03200" indent="-403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ist managers in identifying what, and who, should be train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3200" indent="-403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e cost-benefits of a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3200" indent="-403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e if training program has achieved expected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3200" indent="-403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agnose strengths and weaknesses of a program and pinpoint needed improv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3200" indent="-403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ustify and reinforce the value of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Slide Number Placehold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4338A-9CDF-4311-AC24-AD701DEC22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Footer Placeholder 4"/>
          <p:cNvSpPr/>
          <p:nvPr/>
        </p:nvSpPr>
        <p:spPr>
          <a:xfrm>
            <a:off x="2209680" y="6324480"/>
            <a:ext cx="4953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Barriers to Training Evaluation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Barriers fall into two categori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49076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4669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Pragma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490760" indent="-347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equires specialized knowledge and can be intimida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490760" indent="-347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data collection can be costly and time consu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490760" indent="0">
              <a:spcBef>
                <a:spcPts val="176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4669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Politic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490760" indent="-347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potential to reveal ineffectiveness of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0:55:57Z</dcterms:created>
  <dc:creator>Tracey A. Starrett</dc:creator>
  <dc:description/>
  <dc:language>en-US</dc:language>
  <cp:lastModifiedBy>Karina</cp:lastModifiedBy>
  <dcterms:modified xsi:type="dcterms:W3CDTF">2009-10-30T17:28:06Z</dcterms:modified>
  <cp:revision>374</cp:revision>
  <dc:subject/>
  <dc:title>Ch 11</dc:title>
</cp:coreProperties>
</file>