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F4EA-450D-4D8E-B15D-42734135F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B910-15FA-41F3-9735-D9B9B0B42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1165-4E97-40CB-B463-2AF2B94B3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79DA-7EF2-42C6-8572-CC840E3F4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4CD8-1787-47EA-B9D6-A2840B391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EFE-61BC-4104-9993-BBB05093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E02A-09E9-47D6-8949-E86452748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9158-FC25-4041-A713-D8428D10C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4D0C-8D7F-410F-9A04-DAC391BBA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C22A-810A-45DA-986B-1E95C8768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DF15-64CB-43FE-9582-5A7D5C07F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EFFF-0C13-4D22-8F7B-BA7D5B9AE2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FA8C-DDB4-476B-B2DC-B9C70BA96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70EFE-D6E8-4A72-9D0C-6DA6201A9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0AA5-E87B-4658-AE56-306AF5968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52E3-6EF5-48A2-9E44-BDEDA6C9A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5418-E244-462A-B800-2002D1303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C1DB-4111-4BB5-9AF8-ACBB2BDAD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5000-132D-456B-8463-0FB8F80C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DAA-0422-43D8-8438-C63E0EB9A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324120"/>
            <a:ext cx="4953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B3D-3ACB-4621-8D59-9E162B1C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Elev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4800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705720" y="2209680"/>
            <a:ext cx="1447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11-2.jpg"/>
          <p:cNvPicPr/>
          <p:nvPr/>
        </p:nvPicPr>
        <p:blipFill>
          <a:blip r:embed="rId1"/>
          <a:stretch/>
        </p:blipFill>
        <p:spPr>
          <a:xfrm>
            <a:off x="5638680" y="1523880"/>
            <a:ext cx="28450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5D4D-A6F0-4255-8B63-D6B3AB58A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Evaluations may be distinguished from each other with respec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undamental purpose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11-4.jpg"/>
          <p:cNvPicPr/>
          <p:nvPr/>
        </p:nvPicPr>
        <p:blipFill>
          <a:blip r:embed="rId1"/>
          <a:stretch/>
        </p:blipFill>
        <p:spPr>
          <a:xfrm>
            <a:off x="3352680" y="434340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4C7D-7F2B-4AB6-A020-073AF8C4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he data gathered and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ee perceptions, learning and behaviour at the conclusion of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sessing psychological forces that operat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4986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about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-49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climate and learning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5465-5742-4558-9C71-F897C10E0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purpose of the eval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ormative: provide data about various aspects of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ummative: provide data about worthiness or effectiveness of a training progra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criptive: provide information that describes the trainee once they have completed a train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53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usal: provide information to determine if training caused the post-training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005B-4512-405D-9C4F-4885D289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irkpatrick’s Hierarchic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ldest, best known, and most frequently used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Four Levels of Training E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1: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2: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3: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4: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11-5.jpg"/>
          <p:cNvPicPr/>
          <p:nvPr/>
        </p:nvPicPr>
        <p:blipFill>
          <a:blip r:embed="rId1"/>
          <a:stretch/>
        </p:blipFill>
        <p:spPr>
          <a:xfrm>
            <a:off x="5410080" y="3809880"/>
            <a:ext cx="3581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5349-06A9-4EDC-90F3-CD7EB020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rkpatrick’s Model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s a systematic framework for assess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four levels are presented in a hierarchy with each level providing more important information than the preceding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assumes all levels are positively related to each other; have causal effect on the n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ributions of Kirkpatrick model not to be underestimated; clear, simple, demystified evaluation and provide impetus fo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8682-1D7B-4E8B-90B8-786D43178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re is general agreement that the four levels are important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 to be assessed  there are some critiques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ubt about the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sufficiently diagno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irkpatrick requires all training evaluations to rely on the same variables and outcom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709-0A63-464F-BB7E-D2B97786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involves the measurement of four types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ganization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08296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AF53-7302-4B24-B0EE-35857CA14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A model improves on Kirkpatrick’s model in three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s a greater number of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are causally related to training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variables with greater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11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COMA model is relatively new so too early to determine its value; also its focus is on factors that impact transfer only;  and it does not specify how evaluations should be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5725-F510-41EF-8A42-EAD738EBE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training evaluation model that specifies the target, focus, and methods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11-6.jpg"/>
          <p:cNvPicPr/>
          <p:nvPr/>
        </p:nvPicPr>
        <p:blipFill>
          <a:blip r:embed="rId1"/>
          <a:stretch/>
        </p:blipFill>
        <p:spPr>
          <a:xfrm>
            <a:off x="2514600" y="342900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F958-ED94-48FE-B49D-B19EDE793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-Based Evalua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oes further than either of the two preceding 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target of th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it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ggest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eneral to any evaluati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lexibility: guided by target of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7B1-51AF-487B-ACE7-D8FE0F11C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raining evaluation and the main reasons for conducting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barriers to evaluation and the factors that affect whether or not an evaluation is condu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types of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odels of training evaluation and the relationship among th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7EAE-5A06-4B13-81A4-ED13A515B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ith COMA, the DBE model is recent and will need to be tested more 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models require specialized knowledge to complete the evaluation; this can limit their use in organizations without this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ton and colleagues’ Learning Transfer System Inventory (seen in Ch 10) provides a more generic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ing Today 11.2 for more on its use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F21-24B2-4C1A-A605-76EA999C3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requires data be collected on important aspects of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variables have been identified in the three models of eval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re complete list of variables is presented in Table 11.1 and Table 11.2 shows sample questions and formats for measuring each type of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CF1-232C-4A38-A796-10924D620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ived/anticipate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950800" y="5105520"/>
            <a:ext cx="21556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1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11-7.jpg"/>
          <p:cNvPicPr/>
          <p:nvPr/>
        </p:nvPicPr>
        <p:blipFill>
          <a:blip r:embed="rId1"/>
          <a:stretch/>
        </p:blipFill>
        <p:spPr>
          <a:xfrm>
            <a:off x="5013360" y="1447920"/>
            <a:ext cx="413064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9E2-774B-43E0-8282-FB56D677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1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ffective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rainees’ likes and dislike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Utility reac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s that assess the perceived usefulness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11-8.jpg"/>
          <p:cNvPicPr/>
          <p:nvPr/>
        </p:nvPicPr>
        <p:blipFill>
          <a:blip r:embed="rId1"/>
          <a:stretch/>
        </p:blipFill>
        <p:spPr>
          <a:xfrm>
            <a:off x="5943600" y="3276720"/>
            <a:ext cx="3106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A7FB-BE99-4F86-A4B5-18D65C91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outcomes can be measur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Declarative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acquisition of facts and information, and is by far the most frequently assessed learning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498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ocedural lear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fers to the organization of facts and information into a smooth behavioural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5CF6-F0D7-416F-81D7-4FDCBC068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haviours can be measured using three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6520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9720" indent="-6206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duction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11-9.jpg"/>
          <p:cNvPicPr/>
          <p:nvPr/>
        </p:nvPicPr>
        <p:blipFill>
          <a:blip r:embed="rId1"/>
          <a:stretch/>
        </p:blipFill>
        <p:spPr>
          <a:xfrm>
            <a:off x="5365800" y="29718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B83E-B333-4FE8-9FE2-4ED521E3B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types of motivation in the training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5205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to apply the skill on-the-job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trans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82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s to the beliefs that trainees have about their ability to perform the behaviours that were taught in a training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0616-3142-496D-B417-C5322E706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6"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ived and/or Anticipate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wo important measures of support 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45720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Perceiv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  which the trainee reports receiving              support in attempts to transfer the           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spcBef>
                <a:spcPts val="649"/>
              </a:spcBef>
              <a:buNone/>
              <a:tabLst>
                <a:tab algn="l" pos="0"/>
                <a:tab algn="l" pos="511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600" spc="-1" strike="noStrike">
                <a:solidFill>
                  <a:srgbClr val="000000"/>
                </a:solidFill>
                <a:latin typeface="Arial"/>
              </a:rPr>
              <a:t>Anticipated support: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The degree to            which the trainee expects to supported             in attempts to transfer the learne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1-10.jpg"/>
          <p:cNvPicPr/>
          <p:nvPr/>
        </p:nvPicPr>
        <p:blipFill>
          <a:blip r:embed="rId1"/>
          <a:stretch/>
        </p:blipFill>
        <p:spPr>
          <a:xfrm>
            <a:off x="6997680" y="2057400"/>
            <a:ext cx="1998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4960-F220-4460-B811-787AEC3BF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3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scales designed to measure per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 climate: can be assessed via a questionnaire that identifies eight sets of “c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217880" indent="-476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learning culture: can be assessed via questionnaire presented in Trainer’s Notebook 4.1 in chapter 4 of your 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73644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12A-A518-4FBE-984A-8439B266B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6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4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Perce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ransfer climate cures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ci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ask and structural c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unish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No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11-11.jpg"/>
          <p:cNvPicPr/>
          <p:nvPr/>
        </p:nvPicPr>
        <p:blipFill>
          <a:blip r:embed="rId1"/>
          <a:stretch/>
        </p:blipFill>
        <p:spPr>
          <a:xfrm>
            <a:off x="6248520" y="2057400"/>
            <a:ext cx="2222280" cy="14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11-12.jpg"/>
          <p:cNvPicPr/>
          <p:nvPr/>
        </p:nvPicPr>
        <p:blipFill>
          <a:blip r:embed="rId2"/>
          <a:stretch/>
        </p:blipFill>
        <p:spPr>
          <a:xfrm>
            <a:off x="6400800" y="3581280"/>
            <a:ext cx="2135160" cy="1436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11-13.jpg"/>
          <p:cNvPicPr/>
          <p:nvPr/>
        </p:nvPicPr>
        <p:blipFill>
          <a:blip r:embed="rId3"/>
          <a:stretch/>
        </p:blipFill>
        <p:spPr>
          <a:xfrm>
            <a:off x="6858000" y="5029200"/>
            <a:ext cx="17906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1415-F61C-4997-BF05-C0498AB60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main variables to measure in a training evaluation and how they are measu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different types of designs for training evaluation, as well as their requirements, limits, and when they should be u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6607-A517-4AF4-BA04-84900707A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 Variab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information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6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Hard data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Results that can be measured objectively (i.e., number of items s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ults that are assessed through perceptions and judgments (i.e., attitu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Return on Expectation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Measurement of a training program’s ability to meet manageri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15F2-011C-4FE1-85D5-12817E352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nner with which the data collection is organized and how the data will be analy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data collection designs compare the trained person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11-14.jpg"/>
          <p:cNvPicPr/>
          <p:nvPr/>
        </p:nvPicPr>
        <p:blipFill>
          <a:blip r:embed="rId1"/>
          <a:stretch/>
        </p:blipFill>
        <p:spPr>
          <a:xfrm>
            <a:off x="4892760" y="1905120"/>
            <a:ext cx="42512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2FFD-DD97-48E9-A6BE-9D5B5BCCA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Non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omparison is made to a standard and not to another group of (untrained)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 and when the assignment of people to the training group and the non-training group i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Quasi-experimental designs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Trained group is compared to another group that does not receive the training, but when the assignment of people to the training group and the non-training group is not ran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777F-2ACA-4AA2-82A6-50112E5B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t Types of Evaluation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A: The single group post-only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B: The single group pre-post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sign C: The time series desig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99"/>
                </a:solidFill>
                <a:latin typeface="Arial"/>
              </a:rPr>
              <a:t>Design D: The single group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E: The pre-post design with control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ign F: The time-series design with comparison gro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G: The internal referencing strategy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of the above are non-experiment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**Casual Models: experimental or quasi-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***Hybrid design that permits some conclusions drawn from causal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E85-A84B-4471-83FF-B2D49E622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97" name="Picture 5" descr="p344.jpg"/>
          <p:cNvPicPr/>
          <p:nvPr/>
        </p:nvPicPr>
        <p:blipFill>
          <a:blip r:embed="rId1"/>
          <a:stretch/>
        </p:blipFill>
        <p:spPr>
          <a:xfrm>
            <a:off x="1600200" y="1752480"/>
            <a:ext cx="5562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6F7-7E19-4E44-901C-01A5B9EC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638680" y="34290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2"/>
          <p:cNvSpPr/>
          <p:nvPr/>
        </p:nvSpPr>
        <p:spPr>
          <a:xfrm flipV="1">
            <a:off x="6095880" y="29718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1400" y="5192640"/>
            <a:ext cx="39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Single Group Post-only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4941000" y="5175360"/>
            <a:ext cx="39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Single Group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9998-9EEF-4A28-8584-E4AF04A48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28954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3915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89960" y="5192640"/>
            <a:ext cx="27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-experimen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5328000" y="517536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: Single Group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5"/>
          <p:cNvSpPr/>
          <p:nvPr/>
        </p:nvSpPr>
        <p:spPr>
          <a:xfrm>
            <a:off x="22860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16"/>
          <p:cNvSpPr/>
          <p:nvPr/>
        </p:nvSpPr>
        <p:spPr>
          <a:xfrm>
            <a:off x="6858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17"/>
          <p:cNvSpPr/>
          <p:nvPr/>
        </p:nvSpPr>
        <p:spPr>
          <a:xfrm>
            <a:off x="12952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AutoShape 18"/>
          <p:cNvCxnSpPr>
            <a:stCxn id="227" idx="6"/>
            <a:endCxn id="228" idx="2"/>
          </p:cNvCxnSpPr>
          <p:nvPr/>
        </p:nvCxnSpPr>
        <p:spPr>
          <a:xfrm>
            <a:off x="11426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AutoShape 19"/>
          <p:cNvCxnSpPr>
            <a:stCxn id="226" idx="6"/>
            <a:endCxn id="219" idx="2"/>
          </p:cNvCxnSpPr>
          <p:nvPr/>
        </p:nvCxnSpPr>
        <p:spPr>
          <a:xfrm>
            <a:off x="27428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Line 20"/>
          <p:cNvSpPr/>
          <p:nvPr/>
        </p:nvSpPr>
        <p:spPr>
          <a:xfrm flipV="1">
            <a:off x="17524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7391520" y="32767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2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7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ED5-A4B5-4583-85C4-DCDF8872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41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3341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3341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4356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66360" y="5192640"/>
            <a:ext cx="237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: Pre-pos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ro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5334120" y="5175360"/>
            <a:ext cx="28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: Time Serie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aris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696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20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Oval 22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769608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708660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548640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34"/>
          <p:cNvSpPr/>
          <p:nvPr/>
        </p:nvSpPr>
        <p:spPr>
          <a:xfrm>
            <a:off x="6095880" y="396252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AutoShape 35"/>
          <p:cNvCxnSpPr>
            <a:stCxn id="258" idx="6"/>
            <a:endCxn id="259" idx="2"/>
          </p:cNvCxnSpPr>
          <p:nvPr/>
        </p:nvCxnSpPr>
        <p:spPr>
          <a:xfrm>
            <a:off x="5943240" y="415260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AutoShape 36"/>
          <p:cNvCxnSpPr>
            <a:stCxn id="257" idx="6"/>
            <a:endCxn id="256" idx="2"/>
          </p:cNvCxnSpPr>
          <p:nvPr/>
        </p:nvCxnSpPr>
        <p:spPr>
          <a:xfrm>
            <a:off x="7543440" y="28573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Line 37"/>
          <p:cNvSpPr/>
          <p:nvPr/>
        </p:nvSpPr>
        <p:spPr>
          <a:xfrm flipV="1">
            <a:off x="6553080" y="3047760"/>
            <a:ext cx="6098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708660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601992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AutoShape 41"/>
          <p:cNvCxnSpPr>
            <a:stCxn id="265" idx="3"/>
            <a:endCxn id="264" idx="1"/>
          </p:cNvCxnSpPr>
          <p:nvPr/>
        </p:nvCxnSpPr>
        <p:spPr>
          <a:xfrm>
            <a:off x="5867280" y="430488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AutoShape 42"/>
          <p:cNvCxnSpPr>
            <a:stCxn id="263" idx="3"/>
            <a:endCxn id="249" idx="1"/>
          </p:cNvCxnSpPr>
          <p:nvPr/>
        </p:nvCxnSpPr>
        <p:spPr>
          <a:xfrm>
            <a:off x="7543440" y="43048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Line 43"/>
          <p:cNvSpPr/>
          <p:nvPr/>
        </p:nvSpPr>
        <p:spPr>
          <a:xfrm>
            <a:off x="655308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3166920" y="16002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5"/>
          <p:cNvSpPr/>
          <p:nvPr/>
        </p:nvSpPr>
        <p:spPr>
          <a:xfrm>
            <a:off x="4419720" y="16002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56"/>
          <p:cNvSpPr/>
          <p:nvPr/>
        </p:nvSpPr>
        <p:spPr>
          <a:xfrm>
            <a:off x="3576960" y="15987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4846680" y="15987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Un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8"/>
          <p:cNvSpPr/>
          <p:nvPr/>
        </p:nvSpPr>
        <p:spPr>
          <a:xfrm>
            <a:off x="3048120" y="1523880"/>
            <a:ext cx="2819160" cy="53352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9CB-F71B-4E12-83C0-752BCA24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77" name="Line 3"/>
          <p:cNvSpPr/>
          <p:nvPr/>
        </p:nvSpPr>
        <p:spPr>
          <a:xfrm>
            <a:off x="533520" y="2438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533520" y="45720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635040" y="45705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289080" y="5192640"/>
            <a:ext cx="383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: Internal Referenc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2"/>
          <p:cNvSpPr/>
          <p:nvPr/>
        </p:nvSpPr>
        <p:spPr>
          <a:xfrm>
            <a:off x="2590920" y="2666880"/>
            <a:ext cx="457200" cy="3812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25909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4"/>
          <p:cNvSpPr/>
          <p:nvPr/>
        </p:nvSpPr>
        <p:spPr>
          <a:xfrm>
            <a:off x="762120" y="36576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2120" y="396252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6"/>
          <p:cNvSpPr/>
          <p:nvPr/>
        </p:nvSpPr>
        <p:spPr>
          <a:xfrm flipV="1">
            <a:off x="1219320" y="297144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295280" y="4114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1"/>
          <p:cNvSpPr/>
          <p:nvPr/>
        </p:nvSpPr>
        <p:spPr>
          <a:xfrm>
            <a:off x="4648320" y="3200400"/>
            <a:ext cx="457200" cy="3808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3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34"/>
          <p:cNvSpPr/>
          <p:nvPr/>
        </p:nvSpPr>
        <p:spPr>
          <a:xfrm>
            <a:off x="5107680" y="3184560"/>
            <a:ext cx="260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ining on 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5"/>
          <p:cNvSpPr/>
          <p:nvPr/>
        </p:nvSpPr>
        <p:spPr>
          <a:xfrm>
            <a:off x="5117400" y="36417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raining on Irrelevan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6"/>
          <p:cNvSpPr/>
          <p:nvPr/>
        </p:nvSpPr>
        <p:spPr>
          <a:xfrm>
            <a:off x="4572000" y="3048120"/>
            <a:ext cx="3200400" cy="11430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3CE-B707-4201-ABA0-6209CBACE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Data Collection Designs in Training Evaluation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s about which data collection design to use need to be considered in the training design st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if a trainer wants to have pre- and post data collection it will need to be factored into the design and administration of the program at the design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75E-8276-4ABD-9D00-86935005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4" name="Picture 4" descr="F1-2jpg"/>
          <p:cNvPicPr/>
          <p:nvPr/>
        </p:nvPicPr>
        <p:blipFill>
          <a:blip r:embed="rId1"/>
          <a:stretch/>
        </p:blipFill>
        <p:spPr>
          <a:xfrm>
            <a:off x="1143000" y="2362320"/>
            <a:ext cx="69343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F59C-4BE2-44C6-8A3D-370AC3C39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purposes for evaluating training programs was as well as the barriers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els of training (Kirkpatrick, COMA, and DBE) were presented, critiqued and contr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that Kirkpatrick model is most frequently used, yet has som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required for an evaluation as well as methods and techniques required to measu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types of data collections designs were pres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influencing choice of data collection designs were discus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B51E-A022-4123-8F98-63D1CF9A9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is the third step of the ISD model and consists of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luation criteria (what is being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design (how it will be measu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ncepts are covered in the next two ch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has a specific and important role to play in the effective evaluation of training and the completion of the ISD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CBD-C713-4A7D-A35F-36ED4F56D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What is Training Evaluation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 to assess the value - the worthiness - of training programs to employees and to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1-3.jpg"/>
          <p:cNvPicPr/>
          <p:nvPr/>
        </p:nvPicPr>
        <p:blipFill>
          <a:blip r:embed="rId1"/>
          <a:stretch/>
        </p:blipFill>
        <p:spPr>
          <a:xfrm>
            <a:off x="4719600" y="2209680"/>
            <a:ext cx="44244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707C-3877-4F34-98AB-AEB5D1E33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single procedure; a continuum of techniques, methods, and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s from simple to elaborate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elaborate the procedure, the more complete the results, yet usually the more costly (time,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select the procedure based on what makes sense and what can add value within resource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5D7-273E-4E82-8BB5-3892DDDB9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y Conduct Training Evaluations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managers in identifying what, and who, should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ost-benefits of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training program has achieved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e strengths and weaknesses of a program and pinpoint needed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and reinforce the value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9F9-01DF-4874-81F5-816B83928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209680" y="6324480"/>
            <a:ext cx="495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arriers to Training Evalu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arriers fall into two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pecialized knowledge and can be intimi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ta collection can be costly and time 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4669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90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reveal ineffectivenes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28:06Z</dcterms:modified>
  <cp:revision>374</cp:revision>
  <dc:subject/>
  <dc:title>Ch 11</dc:title>
</cp:coreProperties>
</file>