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BA52-3F4E-479F-984B-3B4E9DAE0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D9B8-3A0E-4AE2-90C7-F8AF40FF1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2247-EE70-4528-B2C1-72595B00E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7C6C-CC4E-4E56-8075-07D1D9033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65AA-AA89-4C2B-BF27-06463A0D6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C704-D539-4317-BCCF-0183D38D6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69A5-047C-4A03-8D8A-7C7D4FBA8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A959-187C-4176-8726-FCC757A1D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DEAF-D388-44D9-8BE8-3364D786A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66967-E493-4D0F-A8C1-DB6E321E29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107240"/>
            <a:ext cx="8763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F083D-3865-4F03-945A-4B5B47C1FF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8880" y="15998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8880" y="41072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AF3AB-E9E0-44BB-AA38-FB52B684E1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282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1400" y="1599840"/>
            <a:ext cx="282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54200" y="1599840"/>
            <a:ext cx="282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107240"/>
            <a:ext cx="282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1400" y="4107240"/>
            <a:ext cx="282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54200" y="4107240"/>
            <a:ext cx="282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24E53-191B-470C-AED1-BF727F0CD4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E4877-CB87-441C-8A86-59E29D8534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234AF-1D22-4353-B49C-9A34D27F0A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7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8880" y="1599840"/>
            <a:ext cx="427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60976-D5BF-4CD0-8C8D-A1A9C3B4AF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C3C56-822B-4CE3-A579-55A2D52DA3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622D8-2DAC-4064-AA97-FEEA992730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8880" y="1599840"/>
            <a:ext cx="427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5227A-4030-4EF7-9E33-439D238CA0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7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8880" y="15998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8880" y="41072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FE0B7-3FC3-4AB8-B215-7BD6ABB178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8880" y="15998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8763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473C2-4B9D-4DA9-AA12-08FE20683C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DE7F-7EA4-49E7-A28A-34627E0E3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564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AA4E-8FAC-4621-B9C8-B34638235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5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Twelv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Costs and Benefit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f Train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12-1.jpg"/>
          <p:cNvPicPr/>
          <p:nvPr/>
        </p:nvPicPr>
        <p:blipFill>
          <a:blip r:embed="rId1"/>
          <a:stretch/>
        </p:blipFill>
        <p:spPr>
          <a:xfrm>
            <a:off x="2666880" y="3429000"/>
            <a:ext cx="394200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4AC8-DC19-4D5A-AE7B-D8967E847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ooter Placeholder 5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Return on </a:t>
            </a:r>
            <a:br>
              <a:rPr sz="4000"/>
            </a:b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Investment (ROI)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 comparison of the cost of a training program relative to its benef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his involves dividing the net benefit by the cost of the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turn on Investment = </a:t>
            </a: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Benefits-Cost of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st of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F57C-E113-4138-842B-FE2BA66E6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Footer Placeholder 6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Utility Analysi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307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method to forecast the financial benefits that result from human resource programs such as training and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12-4.jpg"/>
          <p:cNvPicPr/>
          <p:nvPr/>
        </p:nvPicPr>
        <p:blipFill>
          <a:blip r:embed="rId1"/>
          <a:stretch/>
        </p:blipFill>
        <p:spPr>
          <a:xfrm>
            <a:off x="4495680" y="2133720"/>
            <a:ext cx="4448160" cy="33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B018-0127-4032-889C-A63B24906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Utility Analysi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ortant factors to consider in calculating the utility of  training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87880" indent="0">
              <a:spcBef>
                <a:spcPts val="349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ffectiveness (effect siz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andard deviation of job performance in dollars of untrained employ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umber of employees tr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uration training benefits will l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149B-C2FC-4376-BA0F-E35878150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Utility Analysi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Utility of a training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8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l-GR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U = (T)(N)(d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)(SDy) – (N)(C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31"/>
          <p:cNvSpPr/>
          <p:nvPr/>
        </p:nvSpPr>
        <p:spPr>
          <a:xfrm>
            <a:off x="210960" y="3429000"/>
            <a:ext cx="9022320" cy="23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499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utility, or dollar value of the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number of years the training has a continued effect on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number of people tra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effect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standard deviation of job performance in dollars of the untrained grou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cost of training each employ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A724-6C73-4D26-BE32-64C0B2FD8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ooter Placeholder 5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Break-even Analysi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inding the value at which benefits equal costs and utility is equal to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7"/>
          <p:cNvSpPr txBox="1"/>
          <p:nvPr/>
        </p:nvSpPr>
        <p:spPr>
          <a:xfrm>
            <a:off x="2133720" y="3855960"/>
            <a:ext cx="3189240" cy="102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Utility =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8" name="Picture 7" descr="12-5.jpg"/>
          <p:cNvPicPr/>
          <p:nvPr/>
        </p:nvPicPr>
        <p:blipFill>
          <a:blip r:embed="rId1"/>
          <a:stretch/>
        </p:blipFill>
        <p:spPr>
          <a:xfrm>
            <a:off x="5486400" y="2971800"/>
            <a:ext cx="2664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6CE6-437D-4406-87D3-8AB20118F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Credibility of Estimat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ing not an exact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ptions and judgements have to be m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to ensure there is credibility in process of determining cost-effective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and clients must perceive benefits estimates as credible, believable, and accep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rs need to be wary of promising more than they can realistically deliver; manage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FD75-06AC-414D-BE35-DEBCBAB9A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Credibility of Estimat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reasing credibility of benefit estim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927600" indent="0">
              <a:spcBef>
                <a:spcPts val="349"/>
              </a:spcBef>
              <a:buNone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50800" indent="-711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ake a conservative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50800" indent="-711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se credible and reliable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50800" indent="-711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xplain approaches and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50800" indent="-711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ults must appear real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50800" indent="-711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se har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6090120" y="5148360"/>
            <a:ext cx="27183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Trainers Notebook 12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7F61-4B4F-495F-BA46-0E7CC28F1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Instructional Systems Design Model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ree stages of the ISD model have now been descri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ritical elements are identifying, developing, delivering, and evaluating training within th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lure to manage any of the critical elements will have negative impacts on the training and the achievement of the training related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2CA4-0D4A-470A-AD0F-65D73F13A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s and approaches for calculating costs and benefits of training programs were descri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fferences between cost-effectiveness, cost- benefit analysis  were discussed as were examples of the calculation of costs, benefits, net benefit, BCR and R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ce of this information for budgeting and comparing costs, and training evaluation were highligh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lternative approach - Utility analysis -  was descri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mportance of credibility when estimating the financial benefits of training was discu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136B-3287-48E2-81C6-1A69EA957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why trainers should calculate the costs and benefits of training and development pro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the different approaches for costing training pro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the difference between cost-effectiveness and cost-benefit evalu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how to calculate the benefits of training pro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F1FF-0751-4A94-969B-BA57F565E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how to conduct a net benefit analysis, benefit-cost ratio, and return on invest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utility analysis and describe how to calculate the utility of training pro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uss the importance of credibility when estimating the benefits of training pro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C1EA-F99D-42CE-93EB-F9051B4C2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5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sting Training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10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he process of identifying all the expenditures used in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 critical element in the ISD model both in the design and evaluation s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12-2.jpg"/>
          <p:cNvPicPr/>
          <p:nvPr/>
        </p:nvPicPr>
        <p:blipFill>
          <a:blip r:embed="rId1"/>
          <a:stretch/>
        </p:blipFill>
        <p:spPr>
          <a:xfrm>
            <a:off x="5138640" y="2362320"/>
            <a:ext cx="400536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1B69-C62B-4071-91B6-F7F041356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sting Approach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ing Approa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rding to s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 analysis, program development, delivery and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rding to nature or kind of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ve cost categories: direct costs, indirect costs, development costs, overhead costs, and trainee compen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E709-28F8-432A-9BAC-BD6973BCC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mparing the Costs of Training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able 12.4 demonstrates some important aspects of costing and comparing training program alterna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50660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sting sheets can be modified to meet an organization’s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50660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vel of detail varies according to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50660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re is choice regarding what to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50660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dentifies the cheapest 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642B-1B34-4E9C-9DF3-C7DC1B3A3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Benefits of 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Cost-effectiveness evaluatio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A comparison of the monetary cost of training to the benefit of training in monetary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Cost-benefit evaluatio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A comparison of the cost of training in monetary terms to the benefits of training in non-monetary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AFC4-1BEC-454A-A9D4-7DCBD328F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Benefits of 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Net benefit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the estimated value of the performance improvement minus the cost of improving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Benefit Cost Ratio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the benefit divided by the cost of the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3A4E-CAF7-491E-B9AB-74ABC0D69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Benefits of 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12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y have cost effectiveness and want to determine cost benefit.  Will have to convert  measures to monetary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2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75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ep 1:  Focus on a single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75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ep 2:  Determine a value for each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75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ep 3:  Calculate the change i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75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ep 4:  Obtain an annual am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75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ep 5:  Determine the annual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75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7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ee Trainer’s Notebook 12.1 for more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30T17:36:25Z</dcterms:modified>
  <cp:revision>376</cp:revision>
  <dc:subject/>
  <dc:title>Ch 12</dc:title>
</cp:coreProperties>
</file>