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6619-8300-44FF-BF13-C6BD055FE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069E-8DA9-472C-AD39-B3B5A143E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157F-9795-4E47-BF5D-530515D16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4D48-DC17-4A89-A9B9-DA51AA5BC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7AF2-FE70-4CBE-BE12-DDC4D1E4C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120D-DC50-4468-95A0-5B6A41834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25CD-3FBF-4065-BA2C-F59AB459B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A98E-21D0-4659-AECE-28BD0182E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9EC6-20BC-42C4-8730-53782A3E3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CBA6-BD04-481B-BE58-15FA1A11D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222A-735F-4BBC-A40C-995B69E1C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CB0A-D4C7-4360-B1AC-80C27DEF4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6793F-15EC-4D2F-82F8-22538BE68B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AC07-2B3C-4F4B-8348-86299D0B76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1B26-F468-493F-BFFB-DB8D316FDD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5B73-AC7F-4F79-8DA2-C234B628B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F9FF-68C4-465D-9DD9-81AAC74D7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71D2-4148-4A74-B8B3-4C14A4C1D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593E-F0D1-410B-9225-A5B6FDD11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312C-0F96-4582-8E5F-7E118C8CD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809E-EE66-4408-9FA3-B5A20927E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9387-F52B-41F2-BDA8-996BAEC71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837-1821-47FE-BD1B-60833EA1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el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sts and Benef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Tra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-1.jpg"/>
          <p:cNvPicPr/>
          <p:nvPr/>
        </p:nvPicPr>
        <p:blipFill>
          <a:blip r:embed="rId1"/>
          <a:stretch/>
        </p:blipFill>
        <p:spPr>
          <a:xfrm>
            <a:off x="2666880" y="3429000"/>
            <a:ext cx="3942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2475-7C1C-4F5C-9E4C-B0CC80F92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Return on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vestment (ROI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omparison of the cost of a training program relative to its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involves dividing the net benefit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urn on Investment =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Benefits-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AAB9-6A75-45BA-8302-F5CBECF29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30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ethod to forecast the financial benefits that result from human resource programs such as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481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E9BA-BC81-4642-9289-4B14F63F6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factors to consider in calculating the utility of 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0">
              <a:spcBef>
                <a:spcPts val="3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ness (effec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ndard deviation of job performance in dollars of untrained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 employees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ration training benefits will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B31C-DBD7-4EE7-AECB-AE775E768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tility of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U = (T)(N)(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)(SDy) – (N)(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210960" y="3429000"/>
            <a:ext cx="90223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tility, or dollar value of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years the training has a continued effe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people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ffec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deviation of job performance in dollars of the untrained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training each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479E-4C98-41DA-908B-F23127E19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reak-even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ding the value at which benefits equal costs and utility is equal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133720" y="3855960"/>
            <a:ext cx="318924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Utility =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7" descr="12-5.jpg"/>
          <p:cNvPicPr/>
          <p:nvPr/>
        </p:nvPicPr>
        <p:blipFill>
          <a:blip r:embed="rId1"/>
          <a:stretch/>
        </p:blipFill>
        <p:spPr>
          <a:xfrm>
            <a:off x="5486400" y="29718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5CB2-3C8C-49E0-8377-8FAA035E6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not an exact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and judgements have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ensure there is credibility in process of determining cost-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clients must perceive benefits estimates as credible, believable, and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need to be wary of promising more than they can realistically deliver; manag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7B54-7AA6-40D2-9D22-9DFD4789D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redibility of benefit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927600" indent="0">
              <a:spcBef>
                <a:spcPts val="349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credible and reli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ain approaches and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must appear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0120" y="5148360"/>
            <a:ext cx="27183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s Notebook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450-36E1-4BD7-A1E5-220EC6FAD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stages of the ISD model have now been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elements are identifying, developing, delivering, and evaluating training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manage any of the critical elements will have negative impacts on the training and the achievement of the training relate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C06B-ED36-428D-9ACC-BA35DA25F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nd approaches for calculating costs and benefits of training programs wer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between cost-effectiveness, cost- benefit analysis  were discussed as were examples of the calculation of costs, benefits, net benefit, BCR and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this information for budgeting and comparing costs, and training evaluation wer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approach - Utility analysis -  wa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redibility when estimating the financial benefits of training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0210-B593-4483-BEFB-8D4938ADE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rainers should calculate the costs and benefits of training and development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approaches for costing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ce between cost-effectiveness and cost-benefit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alculate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232F-851B-4408-B176-33DD13178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onduct a net benefit analysis, benefit-cost ratio, and return on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utility analysis and describe how to calculate the utility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importance of credibility when estimating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3D02-7D0E-4195-9504-26F7C8AA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cess of identifying all the expenditures used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ritical element in the ISD model both in the design and evalu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2-2.jpg"/>
          <p:cNvPicPr/>
          <p:nvPr/>
        </p:nvPicPr>
        <p:blipFill>
          <a:blip r:embed="rId1"/>
          <a:stretch/>
        </p:blipFill>
        <p:spPr>
          <a:xfrm>
            <a:off x="5138640" y="2362320"/>
            <a:ext cx="4005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C5D3-3429-4431-85E1-FD837AD8B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Approach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, program development, delivery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nature or kind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cost categories: direct costs, indirect costs, development costs, overhead costs, and trainee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357B-FD98-4AF4-BDF7-1754D88F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aring the Costs of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ble 12.4 demonstrates some important aspects of costing and comparing training program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ing sheets can be modified to meet an organization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of detail varies according t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choice regarding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cheapes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8795-8C49-4930-B69C-935302A71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effectiveness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monetary cost of training to the benefit of training in 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benefit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cost of training in monetary terms to the benefits of training in non-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3C32-E739-4811-9B3A-B63526A72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t benefi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estimated value of the performance improvement minus the cost of improv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efit Cost Rati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benefit divided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AE8A-66BF-402B-8B14-9A0621E1B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have cost effectiveness and want to determine cost benefit.  Will have to convert  measures to monetar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1:  Focus on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2:  Determine a value for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3:  Calculate the change i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4:  Obtain an annual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5:  Determine the annu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 Trainer’s Notebook 12.1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36:25Z</dcterms:modified>
  <cp:revision>376</cp:revision>
  <dc:subject/>
  <dc:title>Ch 12</dc:title>
</cp:coreProperties>
</file>